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E22-ED68-4234-B2C4-CA2C0890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D68-67CD-4D01-A11A-37B128C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113-EC0C-4168-9950-21CADADF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30E-C0D1-4094-B628-4B72BF9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A4B-21DE-4BD1-9B8C-0A2380B0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B8D7-7052-4AC4-B6F5-7689653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274-7200-4BD3-9BD8-9F7AF473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E7CD-54F0-4740-82A9-70D7FBF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F330-903B-4436-97F1-5F953F7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21EF-DC2C-4CCF-9D75-A14280A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248B-4C67-4EE5-B5B3-3CD80B9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AB9-9D49-451A-B861-8FB26DC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C423-4C5D-4ECF-9E61-BF4274E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34E4-2A4E-401A-A5BF-F6EDBEB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67D-666A-4E59-A9B2-B7BEA42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1A1-1360-41A1-BCB6-4C929B03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55D-A404-44AF-A1DC-74BAD001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982-808E-41CE-A17E-8D2D229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9D7-B4F5-48FD-BD60-A4F7F405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7C8-C0F9-4CFC-9D84-639330D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A01-6504-4549-84B9-74F904B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256-D88F-4916-AF5F-FCDB88E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FC7-6344-4E40-B8FD-05DBA2B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D8A-60C0-4E6C-AB3E-91FF677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E70-4054-483F-9540-25D7648DD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8D02-C930-40E6-949F-B0BB7F18D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gosto%202012/Video-Aylen/motricidad%20general%20y%20articulatoria%20respir.mpg.MO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Agosto%202012/frases%20marcando%20articulaci&#243;n.MOV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nramirez@infomed.sld.cu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3.png"/><Relationship Id="rId36" Type="http://schemas.openxmlformats.org/officeDocument/2006/relationships/image" Target="../media/image1.png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rtria. Presentación de un ca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r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c. Nilda Ramírez Villavicenc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c. Anicia  Borges Rodrígu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br>
              <a:rPr sz="1600"/>
            </a:b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uebas logopédicas  estandarizada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0920" y="907920"/>
            <a:ext cx="754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st de Inteligibilidad del Habla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vel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. Habla inteligible para allegados pero con dificultades (necesidad de petición de repetición). Habla difícilmente inteligible para  extrañ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gistro fonológ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alabras erróneas: 1,7 %. Fonemas erróneos: 41,6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mite: (g), (p),(l), (R1, 2 y 5), (l) compleja, (n), (ch), (k), (b), (s), (m), (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istorsiona:( R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ustituye:( ll x j), (R4 x 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diciona: 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en inicial de la Respiración en el tto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oplo: 4 s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nspiración con conteo numérico: 3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mpo de retención del aire: 5 seg.   7 seg    4 s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mpo de emisión (a)—  6,3 se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mpo de emisión de los sonidos, después de inspirar: s---- 2 s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---- 2,5 s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h--- 1,3 se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iagnóstic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isartria Generalizada (trastorno en la articulación general y articulator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tomatología. Peculiarida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62320" y="2416320"/>
            <a:ext cx="4800600" cy="0"/>
          </a:xfrm>
          <a:prstGeom prst="line">
            <a:avLst/>
          </a:prstGeom>
          <a:ln w="25560">
            <a:solidFill>
              <a:srgbClr val="eeece1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620800" y="1628640"/>
            <a:ext cx="4542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en de Órganos  Fonoarticulato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ala oclusión, malformación dentaria, espasticidad   de labios, lengua y velo del palad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1981080" y="1752480"/>
            <a:ext cx="685800" cy="679320"/>
            <a:chOff x="1981080" y="1752480"/>
            <a:chExt cx="685800" cy="679320"/>
          </a:xfrm>
        </p:grpSpPr>
        <p:grpSp>
          <p:nvGrpSpPr>
            <p:cNvPr id="292" name="Group 6"/>
            <p:cNvGrpSpPr/>
            <p:nvPr/>
          </p:nvGrpSpPr>
          <p:grpSpPr>
            <a:xfrm>
              <a:off x="1981080" y="1752480"/>
              <a:ext cx="685800" cy="679320"/>
              <a:chOff x="1981080" y="1752480"/>
              <a:chExt cx="685800" cy="679320"/>
            </a:xfrm>
          </p:grpSpPr>
          <p:grpSp>
            <p:nvGrpSpPr>
              <p:cNvPr id="293" name="Group 7"/>
              <p:cNvGrpSpPr/>
              <p:nvPr/>
            </p:nvGrpSpPr>
            <p:grpSpPr>
              <a:xfrm>
                <a:off x="1981080" y="1752480"/>
                <a:ext cx="685800" cy="679320"/>
                <a:chOff x="1981080" y="1752480"/>
                <a:chExt cx="685800" cy="679320"/>
              </a:xfrm>
            </p:grpSpPr>
            <p:sp>
              <p:nvSpPr>
                <p:cNvPr id="294" name="Oval 8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4f81bd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0"/>
                <p:cNvSpPr/>
                <p:nvPr/>
              </p:nvSpPr>
              <p:spPr>
                <a:xfrm>
                  <a:off x="2026440" y="17967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4666"/>
                    </a:gs>
                    <a:gs pos="50000">
                      <a:srgbClr val="4f81bd"/>
                    </a:gs>
                    <a:gs pos="100000">
                      <a:srgbClr val="2b46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1"/>
                <p:cNvSpPr/>
                <p:nvPr/>
              </p:nvSpPr>
              <p:spPr>
                <a:xfrm>
                  <a:off x="2026440" y="17978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5278"/>
                    </a:gs>
                    <a:gs pos="100000">
                      <a:srgbClr val="4f81b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2"/>
              <p:cNvGrpSpPr/>
              <p:nvPr/>
            </p:nvGrpSpPr>
            <p:grpSpPr>
              <a:xfrm>
                <a:off x="2063880" y="1825200"/>
                <a:ext cx="537120" cy="540360"/>
                <a:chOff x="2063880" y="1825200"/>
                <a:chExt cx="537120" cy="540360"/>
              </a:xfrm>
            </p:grpSpPr>
            <p:sp>
              <p:nvSpPr>
                <p:cNvPr id="299" name="Oval 13"/>
                <p:cNvSpPr/>
                <p:nvPr/>
              </p:nvSpPr>
              <p:spPr>
                <a:xfrm>
                  <a:off x="2063880" y="18349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14"/>
                <p:cNvGrpSpPr/>
                <p:nvPr/>
              </p:nvGrpSpPr>
              <p:grpSpPr>
                <a:xfrm>
                  <a:off x="2063880" y="1825200"/>
                  <a:ext cx="519840" cy="515160"/>
                  <a:chOff x="2063880" y="1825200"/>
                  <a:chExt cx="519840" cy="515160"/>
                </a:xfrm>
              </p:grpSpPr>
              <p:sp>
                <p:nvSpPr>
                  <p:cNvPr id="301" name="Oval 15"/>
                  <p:cNvSpPr/>
                  <p:nvPr/>
                </p:nvSpPr>
                <p:spPr>
                  <a:xfrm>
                    <a:off x="2063880" y="18252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16"/>
                  <p:cNvSpPr/>
                  <p:nvPr/>
                </p:nvSpPr>
                <p:spPr>
                  <a:xfrm>
                    <a:off x="2070360" y="18280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17"/>
                  <p:cNvSpPr/>
                  <p:nvPr/>
                </p:nvSpPr>
                <p:spPr>
                  <a:xfrm>
                    <a:off x="2075760" y="18327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18"/>
                  <p:cNvSpPr/>
                  <p:nvPr/>
                </p:nvSpPr>
                <p:spPr>
                  <a:xfrm>
                    <a:off x="2103840" y="18460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5" name="Text Box 19"/>
            <p:cNvSpPr/>
            <p:nvPr/>
          </p:nvSpPr>
          <p:spPr>
            <a:xfrm>
              <a:off x="2135520" y="186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0"/>
          <p:cNvSpPr/>
          <p:nvPr/>
        </p:nvSpPr>
        <p:spPr>
          <a:xfrm>
            <a:off x="2362320" y="3298680"/>
            <a:ext cx="4800600" cy="0"/>
          </a:xfrm>
          <a:prstGeom prst="line">
            <a:avLst/>
          </a:prstGeom>
          <a:ln w="25560">
            <a:solidFill>
              <a:srgbClr val="eeece1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2666880" y="2666880"/>
            <a:ext cx="812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axis articulatorias: Afectados los movimientos linguales, son lent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ficultad en la lateralización de los labios. Paresia ve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fectación ligera de la masticación y la deg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2362320" y="4267080"/>
            <a:ext cx="4800600" cy="0"/>
          </a:xfrm>
          <a:prstGeom prst="line">
            <a:avLst/>
          </a:prstGeom>
          <a:ln w="25560">
            <a:solidFill>
              <a:srgbClr val="eeece1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2678040" y="3676680"/>
            <a:ext cx="591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expresivo: Ininteligible, con trastornos articulato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nguaje Comprensivo: Comprende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eeece1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2678040" y="4572000"/>
            <a:ext cx="325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oz: Intensidad  disminu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Hipoto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imbre: Na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6"/>
          <p:cNvGrpSpPr/>
          <p:nvPr/>
        </p:nvGrpSpPr>
        <p:grpSpPr>
          <a:xfrm>
            <a:off x="1992240" y="2666880"/>
            <a:ext cx="685800" cy="685800"/>
            <a:chOff x="1992240" y="2666880"/>
            <a:chExt cx="685800" cy="685800"/>
          </a:xfrm>
        </p:grpSpPr>
        <p:grpSp>
          <p:nvGrpSpPr>
            <p:cNvPr id="313" name="Group 27"/>
            <p:cNvGrpSpPr/>
            <p:nvPr/>
          </p:nvGrpSpPr>
          <p:grpSpPr>
            <a:xfrm>
              <a:off x="1992240" y="2666880"/>
              <a:ext cx="685800" cy="685800"/>
              <a:chOff x="1992240" y="2666880"/>
              <a:chExt cx="685800" cy="685800"/>
            </a:xfrm>
          </p:grpSpPr>
          <p:grpSp>
            <p:nvGrpSpPr>
              <p:cNvPr id="314" name="Group 28"/>
              <p:cNvGrpSpPr/>
              <p:nvPr/>
            </p:nvGrpSpPr>
            <p:grpSpPr>
              <a:xfrm>
                <a:off x="1992240" y="2666880"/>
                <a:ext cx="685800" cy="685800"/>
                <a:chOff x="1992240" y="2666880"/>
                <a:chExt cx="685800" cy="685800"/>
              </a:xfrm>
            </p:grpSpPr>
            <p:sp>
              <p:nvSpPr>
                <p:cNvPr id="315" name="Oval 29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0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"/>
                <p:cNvSpPr/>
                <p:nvPr/>
              </p:nvSpPr>
              <p:spPr>
                <a:xfrm>
                  <a:off x="2037600" y="27115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8a"/>
                    </a:gs>
                    <a:gs pos="50000">
                      <a:srgbClr val="0000ff"/>
                    </a:gs>
                    <a:gs pos="100000">
                      <a:srgbClr val="0000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"/>
                <p:cNvSpPr/>
                <p:nvPr/>
              </p:nvSpPr>
              <p:spPr>
                <a:xfrm>
                  <a:off x="2037600" y="27126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2"/>
                    </a:gs>
                    <a:gs pos="100000">
                      <a:srgbClr val="0000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33"/>
              <p:cNvGrpSpPr/>
              <p:nvPr/>
            </p:nvGrpSpPr>
            <p:grpSpPr>
              <a:xfrm>
                <a:off x="2070720" y="2746080"/>
                <a:ext cx="537120" cy="545400"/>
                <a:chOff x="2070720" y="2746080"/>
                <a:chExt cx="537120" cy="545400"/>
              </a:xfrm>
            </p:grpSpPr>
            <p:sp>
              <p:nvSpPr>
                <p:cNvPr id="320" name="Oval 34"/>
                <p:cNvSpPr/>
                <p:nvPr/>
              </p:nvSpPr>
              <p:spPr>
                <a:xfrm>
                  <a:off x="2070720" y="27561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35"/>
                <p:cNvGrpSpPr/>
                <p:nvPr/>
              </p:nvGrpSpPr>
              <p:grpSpPr>
                <a:xfrm>
                  <a:off x="2070720" y="2746080"/>
                  <a:ext cx="519840" cy="519840"/>
                  <a:chOff x="2070720" y="2746080"/>
                  <a:chExt cx="519840" cy="519840"/>
                </a:xfrm>
              </p:grpSpPr>
              <p:sp>
                <p:nvSpPr>
                  <p:cNvPr id="322" name="Oval 36"/>
                  <p:cNvSpPr/>
                  <p:nvPr/>
                </p:nvSpPr>
                <p:spPr>
                  <a:xfrm>
                    <a:off x="2070720" y="27460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Oval 37"/>
                  <p:cNvSpPr/>
                  <p:nvPr/>
                </p:nvSpPr>
                <p:spPr>
                  <a:xfrm>
                    <a:off x="2077200" y="27489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Oval 38"/>
                  <p:cNvSpPr/>
                  <p:nvPr/>
                </p:nvSpPr>
                <p:spPr>
                  <a:xfrm>
                    <a:off x="2082600" y="27536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Oval 39"/>
                  <p:cNvSpPr/>
                  <p:nvPr/>
                </p:nvSpPr>
                <p:spPr>
                  <a:xfrm>
                    <a:off x="2110680" y="27669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6" name="Text Box 40"/>
            <p:cNvSpPr/>
            <p:nvPr/>
          </p:nvSpPr>
          <p:spPr>
            <a:xfrm>
              <a:off x="2157480" y="278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41"/>
          <p:cNvGrpSpPr/>
          <p:nvPr/>
        </p:nvGrpSpPr>
        <p:grpSpPr>
          <a:xfrm>
            <a:off x="1981080" y="3603600"/>
            <a:ext cx="685800" cy="679320"/>
            <a:chOff x="1981080" y="3603600"/>
            <a:chExt cx="685800" cy="679320"/>
          </a:xfrm>
        </p:grpSpPr>
        <p:grpSp>
          <p:nvGrpSpPr>
            <p:cNvPr id="328" name="Group 42"/>
            <p:cNvGrpSpPr/>
            <p:nvPr/>
          </p:nvGrpSpPr>
          <p:grpSpPr>
            <a:xfrm>
              <a:off x="1981080" y="3603600"/>
              <a:ext cx="685800" cy="679320"/>
              <a:chOff x="1981080" y="3603600"/>
              <a:chExt cx="685800" cy="679320"/>
            </a:xfrm>
          </p:grpSpPr>
          <p:grpSp>
            <p:nvGrpSpPr>
              <p:cNvPr id="329" name="Group 43"/>
              <p:cNvGrpSpPr/>
              <p:nvPr/>
            </p:nvGrpSpPr>
            <p:grpSpPr>
              <a:xfrm>
                <a:off x="1981080" y="3603600"/>
                <a:ext cx="685800" cy="679320"/>
                <a:chOff x="1981080" y="3603600"/>
                <a:chExt cx="685800" cy="679320"/>
              </a:xfrm>
            </p:grpSpPr>
            <p:sp>
              <p:nvSpPr>
                <p:cNvPr id="330" name="Oval 44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4f81bd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5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6"/>
                <p:cNvSpPr/>
                <p:nvPr/>
              </p:nvSpPr>
              <p:spPr>
                <a:xfrm>
                  <a:off x="2026440" y="36478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4666"/>
                    </a:gs>
                    <a:gs pos="50000">
                      <a:srgbClr val="4f81bd"/>
                    </a:gs>
                    <a:gs pos="100000">
                      <a:srgbClr val="2b46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7"/>
                <p:cNvSpPr/>
                <p:nvPr/>
              </p:nvSpPr>
              <p:spPr>
                <a:xfrm>
                  <a:off x="2026440" y="36489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5278"/>
                    </a:gs>
                    <a:gs pos="100000">
                      <a:srgbClr val="4f81b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48"/>
              <p:cNvGrpSpPr/>
              <p:nvPr/>
            </p:nvGrpSpPr>
            <p:grpSpPr>
              <a:xfrm>
                <a:off x="2063880" y="3676320"/>
                <a:ext cx="537120" cy="540360"/>
                <a:chOff x="2063880" y="3676320"/>
                <a:chExt cx="537120" cy="540360"/>
              </a:xfrm>
            </p:grpSpPr>
            <p:sp>
              <p:nvSpPr>
                <p:cNvPr id="335" name="Oval 49"/>
                <p:cNvSpPr/>
                <p:nvPr/>
              </p:nvSpPr>
              <p:spPr>
                <a:xfrm>
                  <a:off x="2063880" y="36860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Group 50"/>
                <p:cNvGrpSpPr/>
                <p:nvPr/>
              </p:nvGrpSpPr>
              <p:grpSpPr>
                <a:xfrm>
                  <a:off x="2063880" y="3676320"/>
                  <a:ext cx="519840" cy="515160"/>
                  <a:chOff x="2063880" y="3676320"/>
                  <a:chExt cx="519840" cy="515160"/>
                </a:xfrm>
              </p:grpSpPr>
              <p:sp>
                <p:nvSpPr>
                  <p:cNvPr id="337" name="Oval 51"/>
                  <p:cNvSpPr/>
                  <p:nvPr/>
                </p:nvSpPr>
                <p:spPr>
                  <a:xfrm>
                    <a:off x="2063880" y="36763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52"/>
                  <p:cNvSpPr/>
                  <p:nvPr/>
                </p:nvSpPr>
                <p:spPr>
                  <a:xfrm>
                    <a:off x="2070360" y="367920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Oval 53"/>
                  <p:cNvSpPr/>
                  <p:nvPr/>
                </p:nvSpPr>
                <p:spPr>
                  <a:xfrm>
                    <a:off x="2075760" y="36838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54"/>
                  <p:cNvSpPr/>
                  <p:nvPr/>
                </p:nvSpPr>
                <p:spPr>
                  <a:xfrm>
                    <a:off x="2103840" y="36972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1" name="Text Box 55"/>
            <p:cNvSpPr/>
            <p:nvPr/>
          </p:nvSpPr>
          <p:spPr>
            <a:xfrm>
              <a:off x="2135520" y="371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56"/>
          <p:cNvGrpSpPr/>
          <p:nvPr/>
        </p:nvGrpSpPr>
        <p:grpSpPr>
          <a:xfrm>
            <a:off x="1990800" y="4572000"/>
            <a:ext cx="685800" cy="685800"/>
            <a:chOff x="1990800" y="4572000"/>
            <a:chExt cx="685800" cy="685800"/>
          </a:xfrm>
        </p:grpSpPr>
        <p:grpSp>
          <p:nvGrpSpPr>
            <p:cNvPr id="343" name="Group 57"/>
            <p:cNvGrpSpPr/>
            <p:nvPr/>
          </p:nvGrpSpPr>
          <p:grpSpPr>
            <a:xfrm>
              <a:off x="1990800" y="4572000"/>
              <a:ext cx="685800" cy="685800"/>
              <a:chOff x="1990800" y="4572000"/>
              <a:chExt cx="685800" cy="685800"/>
            </a:xfrm>
          </p:grpSpPr>
          <p:grpSp>
            <p:nvGrpSpPr>
              <p:cNvPr id="344" name="Group 58"/>
              <p:cNvGrpSpPr/>
              <p:nvPr/>
            </p:nvGrpSpPr>
            <p:grpSpPr>
              <a:xfrm>
                <a:off x="1990800" y="4572000"/>
                <a:ext cx="685800" cy="685800"/>
                <a:chOff x="1990800" y="4572000"/>
                <a:chExt cx="685800" cy="685800"/>
              </a:xfrm>
            </p:grpSpPr>
            <p:sp>
              <p:nvSpPr>
                <p:cNvPr id="345" name="Oval 59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0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1"/>
                <p:cNvSpPr/>
                <p:nvPr/>
              </p:nvSpPr>
              <p:spPr>
                <a:xfrm>
                  <a:off x="2036160" y="461664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8a"/>
                    </a:gs>
                    <a:gs pos="50000">
                      <a:srgbClr val="0000ff"/>
                    </a:gs>
                    <a:gs pos="100000">
                      <a:srgbClr val="0000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62"/>
                <p:cNvSpPr/>
                <p:nvPr/>
              </p:nvSpPr>
              <p:spPr>
                <a:xfrm>
                  <a:off x="2036160" y="461772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2"/>
                    </a:gs>
                    <a:gs pos="100000">
                      <a:srgbClr val="0000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63"/>
              <p:cNvGrpSpPr/>
              <p:nvPr/>
            </p:nvGrpSpPr>
            <p:grpSpPr>
              <a:xfrm>
                <a:off x="2069280" y="4651200"/>
                <a:ext cx="537120" cy="545400"/>
                <a:chOff x="2069280" y="4651200"/>
                <a:chExt cx="537120" cy="545400"/>
              </a:xfrm>
            </p:grpSpPr>
            <p:sp>
              <p:nvSpPr>
                <p:cNvPr id="350" name="Oval 64"/>
                <p:cNvSpPr/>
                <p:nvPr/>
              </p:nvSpPr>
              <p:spPr>
                <a:xfrm>
                  <a:off x="2069280" y="466128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65"/>
                <p:cNvGrpSpPr/>
                <p:nvPr/>
              </p:nvGrpSpPr>
              <p:grpSpPr>
                <a:xfrm>
                  <a:off x="2069280" y="4651200"/>
                  <a:ext cx="519840" cy="519840"/>
                  <a:chOff x="2069280" y="4651200"/>
                  <a:chExt cx="519840" cy="519840"/>
                </a:xfrm>
              </p:grpSpPr>
              <p:sp>
                <p:nvSpPr>
                  <p:cNvPr id="352" name="Oval 66"/>
                  <p:cNvSpPr/>
                  <p:nvPr/>
                </p:nvSpPr>
                <p:spPr>
                  <a:xfrm>
                    <a:off x="2069280" y="465120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Oval 67"/>
                  <p:cNvSpPr/>
                  <p:nvPr/>
                </p:nvSpPr>
                <p:spPr>
                  <a:xfrm>
                    <a:off x="2075760" y="465408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68"/>
                  <p:cNvSpPr/>
                  <p:nvPr/>
                </p:nvSpPr>
                <p:spPr>
                  <a:xfrm>
                    <a:off x="2081160" y="465876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69"/>
                  <p:cNvSpPr/>
                  <p:nvPr/>
                </p:nvSpPr>
                <p:spPr>
                  <a:xfrm>
                    <a:off x="2109240" y="467208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6" name="Text Box 70"/>
            <p:cNvSpPr/>
            <p:nvPr/>
          </p:nvSpPr>
          <p:spPr>
            <a:xfrm>
              <a:off x="2134080" y="467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tamiento. Ejercicios Funcion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5580000" y="1989000"/>
            <a:ext cx="2116080" cy="2952720"/>
          </a:xfrm>
          <a:custGeom>
            <a:avLst/>
            <a:gdLst>
              <a:gd name="textAreaLeft" fmla="*/ 102960 w 2116080"/>
              <a:gd name="textAreaRight" fmla="*/ 2013120 w 2116080"/>
              <a:gd name="textAreaTop" fmla="*/ 102960 h 2952720"/>
              <a:gd name="textAreaBottom" fmla="*/ 2849760 h 2952720"/>
            </a:gdLst>
            <a:ahLst/>
            <a:rect l="textAreaLeft" t="textAreaTop" r="textAreaRight" b="textAreaBottom"/>
            <a:pathLst>
              <a:path w="21600" h="30139">
                <a:moveTo>
                  <a:pt x="3600" y="0"/>
                </a:moveTo>
                <a:arcTo wR="3600" hR="3600" stAng="16200000" swAng="-5400000"/>
                <a:lnTo>
                  <a:pt x="0" y="26539"/>
                </a:lnTo>
                <a:arcTo wR="3600" hR="3600" stAng="10800000" swAng="-5400000"/>
                <a:lnTo>
                  <a:pt x="18000" y="30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1066680" y="1989000"/>
            <a:ext cx="1920960" cy="2952720"/>
          </a:xfrm>
          <a:custGeom>
            <a:avLst/>
            <a:gdLst>
              <a:gd name="textAreaLeft" fmla="*/ 93600 w 1920960"/>
              <a:gd name="textAreaRight" fmla="*/ 1827360 w 1920960"/>
              <a:gd name="textAreaTop" fmla="*/ 93600 h 2952720"/>
              <a:gd name="textAreaBottom" fmla="*/ 2859120 h 2952720"/>
            </a:gdLst>
            <a:ahLst/>
            <a:rect l="textAreaLeft" t="textAreaTop" r="textAreaRight" b="textAreaBottom"/>
            <a:pathLst>
              <a:path w="21600" h="33199">
                <a:moveTo>
                  <a:pt x="3600" y="0"/>
                </a:moveTo>
                <a:arcTo wR="3600" hR="3600" stAng="16200000" swAng="-5400000"/>
                <a:lnTo>
                  <a:pt x="0" y="29599"/>
                </a:lnTo>
                <a:arcTo wR="3600" hR="3600" stAng="10800000" swAng="-5400000"/>
                <a:lnTo>
                  <a:pt x="18000" y="331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162080" y="2276640"/>
            <a:ext cx="1909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tricidad general y articul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nunciación  P.Fonemá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sticación y Deg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314640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8"/>
          <p:cNvSpPr/>
          <p:nvPr/>
        </p:nvSpPr>
        <p:spPr>
          <a:xfrm>
            <a:off x="3156120" y="2676600"/>
            <a:ext cx="1064880" cy="127944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aeae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 flipH="1">
            <a:off x="479196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0"/>
          <p:cNvSpPr/>
          <p:nvPr/>
        </p:nvSpPr>
        <p:spPr>
          <a:xfrm flipH="1">
            <a:off x="4366440" y="2676600"/>
            <a:ext cx="1027080" cy="12096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c7d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4563000" y="1343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672160" y="2421000"/>
            <a:ext cx="2023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onancia na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luidez  y ento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272880"/>
            <a:ext cx="2997000" cy="178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ricidad general y articulato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vimientos linguales en las 4 dire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o proyección bilabial funcional son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f0"/>
                </a:solidFill>
                <a:latin typeface="Arial"/>
                <a:ea typeface="Times New Roman"/>
              </a:rPr>
              <a:t>Espiración prolongada sin y con vocaliz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alismo P y 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alismo 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auración, Automatizació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, m, p, 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f0"/>
                </a:solidFill>
                <a:latin typeface="Arial"/>
                <a:ea typeface="Times New Roman"/>
              </a:rPr>
              <a:t>Lambdacismo complejo:  Sonido l (b, f, t, k, g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b0f0"/>
                </a:solidFill>
                <a:latin typeface="Arial"/>
                <a:ea typeface="Times New Roman"/>
              </a:rPr>
              <a:t>Repetición de frases y oraciones marcando la articu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fraseológ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9720" y="3071520"/>
            <a:ext cx="2071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gosto 2012\Video-Aylen\motricidad general y articulatoria respir.mpg.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0 Imagen" descr=""/>
          <p:cNvPicPr/>
          <p:nvPr/>
        </p:nvPicPr>
        <p:blipFill>
          <a:blip r:embed="rId2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ma del aire nasal y expulsión lenta o rápida por la boca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el soplo largo y manten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Toma el aire con buen control espiratorio abdominal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jar abdomen en inspiración y contraer durante la espi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Realizar espiración con sonido neutro, controlando el tiempo de fonación que sea cada vez más lar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 Espiratoria de la disfo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ción en tres tiempos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piración profunda contando mentalmente hasta el 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ención del aire contando hasta el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pirar contando mentalmente hasta el 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iormente lograr inspirar y retener en 4 y espirar en más de 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272520"/>
            <a:ext cx="2997000" cy="186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643200" y="713880"/>
            <a:ext cx="5114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alismo P (sonido fuer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o de números, palabras, frases y oraciones con apoyo abdomi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rcicios  de intensidad vocal, se combinan vocales.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. a-----u------o                      e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------o------a       a                         a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cendente-descend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FV  ( pé  explosiv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rcicios de sobre articulación: Decir  palabras y oraciones exagerando la articu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8400" y="2786040"/>
            <a:ext cx="1500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gosto 2012\frases marcando articulación.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 rot="2826000">
            <a:off x="7428600" y="2619720"/>
            <a:ext cx="834840" cy="316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 rot="21408000">
            <a:off x="6367320" y="2596680"/>
            <a:ext cx="936720" cy="354240"/>
          </a:xfrm>
          <a:prstGeom prst="rect">
            <a:avLst/>
          </a:prstGeom>
          <a:ln w="0">
            <a:noFill/>
          </a:ln>
        </p:spPr>
      </p:pic>
      <p:pic>
        <p:nvPicPr>
          <p:cNvPr id="385" name="0 Imagen" descr=""/>
          <p:cNvPicPr/>
          <p:nvPr/>
        </p:nvPicPr>
        <p:blipFill>
          <a:blip r:embed="rId4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9725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nancia nasal aument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42960" y="2214360"/>
            <a:ext cx="751032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alismos, P, K, 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oalimentación aud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rcicios s-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asalización a partir de la J y la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ar la intensidad. </a:t>
            </a:r>
            <a:r>
              <a:rPr b="0" lang="es-E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 conteo c/ apoyo abdo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luide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s espiratorias: Pronunciar o leer palabras de forma fluida con pausas espirator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b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s de rit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apia de canto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s entonacionales (marcar entonación en palabras, frases y         oracion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r lectura de rimas, trabalenguas, poemas. Se insiste en la pronunciación   de los sonidos que se han automatizado y en la fluidez de las fras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sistematiza la Terapia para la deglución,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ndo los labios, la lengua y la faringe, reforzando con los ejercicios de contractura velar y faríngea (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  <a:ea typeface="Times New Roman"/>
              </a:rPr>
              <a:t>funcionalismos K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mímica facial.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"/>
          <p:cNvGrpSpPr/>
          <p:nvPr/>
        </p:nvGrpSpPr>
        <p:grpSpPr>
          <a:xfrm>
            <a:off x="500040" y="1571760"/>
            <a:ext cx="2499840" cy="1142640"/>
            <a:chOff x="500040" y="1571760"/>
            <a:chExt cx="2499840" cy="1142640"/>
          </a:xfrm>
        </p:grpSpPr>
        <p:sp>
          <p:nvSpPr>
            <p:cNvPr id="397" name="Freeform 4"/>
            <p:cNvSpPr/>
            <p:nvPr/>
          </p:nvSpPr>
          <p:spPr>
            <a:xfrm>
              <a:off x="647640" y="2229840"/>
              <a:ext cx="2205000" cy="4845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500040" y="1571760"/>
              <a:ext cx="2499840" cy="10022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50000">
                  <a:srgbClr val="9ab6d9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"/>
          <p:cNvGrpSpPr/>
          <p:nvPr/>
        </p:nvGrpSpPr>
        <p:grpSpPr>
          <a:xfrm>
            <a:off x="571680" y="4429080"/>
            <a:ext cx="2714040" cy="1356480"/>
            <a:chOff x="571680" y="4429080"/>
            <a:chExt cx="2714040" cy="1356480"/>
          </a:xfrm>
        </p:grpSpPr>
        <p:sp>
          <p:nvSpPr>
            <p:cNvPr id="400" name="Freeform 7"/>
            <p:cNvSpPr/>
            <p:nvPr/>
          </p:nvSpPr>
          <p:spPr>
            <a:xfrm>
              <a:off x="731880" y="5210280"/>
              <a:ext cx="2394000" cy="5752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>
              <a:off x="571680" y="4429080"/>
              <a:ext cx="2714040" cy="11898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6c6cff"/>
                </a:gs>
                <a:gs pos="100000">
                  <a:srgbClr val="00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21"/>
          <p:cNvSpPr/>
          <p:nvPr/>
        </p:nvSpPr>
        <p:spPr>
          <a:xfrm>
            <a:off x="3357720" y="1285920"/>
            <a:ext cx="5572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Buena ejecución de los ejercicios de mímica facial y Funcionalismos L, K, P, 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instauran, automatizan y diferencian los fon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(l, m, p, b, s, f, 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aliza con rapidez y precisión la movilidad lingual (arriba, abajo) que le posibilita comenzar los ejercicios articulatorios ará ará ará  se combinan con diferentes vo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royección bilabial funcional son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pite frases y oraciones marcando la articulació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>
            <a:off x="3714840" y="4373640"/>
            <a:ext cx="38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3439440" y="403848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3439440" y="518148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 flipV="1">
            <a:off x="2000160" y="3903480"/>
            <a:ext cx="6929640" cy="4572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9 Rectángulo"/>
          <p:cNvSpPr/>
          <p:nvPr/>
        </p:nvSpPr>
        <p:spPr>
          <a:xfrm>
            <a:off x="571680" y="1714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ricidad General  y Articulator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2 Rectángulo"/>
          <p:cNvSpPr/>
          <p:nvPr/>
        </p:nvSpPr>
        <p:spPr>
          <a:xfrm flipV="1" rot="10800000">
            <a:off x="642600" y="466920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luidez y ento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63 Rectángulo"/>
          <p:cNvSpPr/>
          <p:nvPr/>
        </p:nvSpPr>
        <p:spPr>
          <a:xfrm>
            <a:off x="3357720" y="4071960"/>
            <a:ext cx="542916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pite oraciones interrogativas y afirmativas marcando ento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nuncia  palabras de dos y tres sílabas sencil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e en voz alta oraciones y rimas, realiza pausas necesarias con el aire inspi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 técnica espiratoria: Pronuncia o lee palabras de forma fluida con pausas espirat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obtiene mayor inteligibilidad de las palab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9"/>
          <p:cNvGrpSpPr/>
          <p:nvPr/>
        </p:nvGrpSpPr>
        <p:grpSpPr>
          <a:xfrm>
            <a:off x="642960" y="1500120"/>
            <a:ext cx="2428560" cy="1213920"/>
            <a:chOff x="642960" y="1500120"/>
            <a:chExt cx="2428560" cy="1213920"/>
          </a:xfrm>
        </p:grpSpPr>
        <p:sp>
          <p:nvSpPr>
            <p:cNvPr id="414" name="Freeform 10"/>
            <p:cNvSpPr/>
            <p:nvPr/>
          </p:nvSpPr>
          <p:spPr>
            <a:xfrm>
              <a:off x="786240" y="2199240"/>
              <a:ext cx="2142360" cy="514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42960" y="1500120"/>
              <a:ext cx="2428560" cy="106488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7e96b4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500040" y="4000680"/>
            <a:ext cx="2642760" cy="1356480"/>
            <a:chOff x="500040" y="4000680"/>
            <a:chExt cx="2642760" cy="1356480"/>
          </a:xfrm>
        </p:grpSpPr>
        <p:sp>
          <p:nvSpPr>
            <p:cNvPr id="417" name="Freeform 13"/>
            <p:cNvSpPr/>
            <p:nvPr/>
          </p:nvSpPr>
          <p:spPr>
            <a:xfrm>
              <a:off x="655920" y="4781880"/>
              <a:ext cx="2331000" cy="5752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4"/>
            <p:cNvSpPr/>
            <p:nvPr/>
          </p:nvSpPr>
          <p:spPr>
            <a:xfrm>
              <a:off x="500040" y="4000680"/>
              <a:ext cx="2642760" cy="118980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50000">
                  <a:srgbClr val="b66cb6"/>
                </a:gs>
                <a:gs pos="100000">
                  <a:srgbClr val="800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9" name="AutoShape 17"/>
          <p:cNvCxnSpPr>
            <a:stCxn id="414" idx="28"/>
            <a:endCxn id="418" idx="0"/>
          </p:cNvCxnSpPr>
          <p:nvPr/>
        </p:nvCxnSpPr>
        <p:spPr>
          <a:xfrm flipH="1">
            <a:off x="1820160" y="2203560"/>
            <a:ext cx="12076920" cy="1797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20" name="Line 19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1"/>
          <p:cNvSpPr/>
          <p:nvPr/>
        </p:nvSpPr>
        <p:spPr>
          <a:xfrm>
            <a:off x="3286080" y="1285920"/>
            <a:ext cx="5357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ma el aire con buen control espiratorio abdominal.  Domina la respiración costo-diafrag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laja abdomen en inspiración y contrae durante la espir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 espiración con sonido neutro, controlando el tiempo de fonación que es cada vez más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ce la mayor cantidad de números y/o palabras con una espirac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pira, retiene en 4 y espira en más de 8 números con conteo ment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3439440" y="289548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3"/>
          <p:cNvSpPr/>
          <p:nvPr/>
        </p:nvSpPr>
        <p:spPr>
          <a:xfrm>
            <a:off x="3286080" y="4143240"/>
            <a:ext cx="5143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 conteo de números, palabras, frases y oraciones con apoyo abdom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jecuta  correctamente la SFV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umentando la intensidad vocal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jora la intensidad en la emisión de palabras, utilizando la terapia de canto, prolonga las vocales y sigue la melodía ento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8 Rectángulo"/>
          <p:cNvSpPr/>
          <p:nvPr/>
        </p:nvSpPr>
        <p:spPr>
          <a:xfrm>
            <a:off x="928800" y="1428840"/>
            <a:ext cx="1785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pi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9 Rectángulo"/>
          <p:cNvSpPr/>
          <p:nvPr/>
        </p:nvSpPr>
        <p:spPr>
          <a:xfrm>
            <a:off x="928800" y="42861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art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3149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ómo se produce este trastorno verbo - v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89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95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00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9"/>
          <p:cNvSpPr/>
          <p:nvPr/>
        </p:nvSpPr>
        <p:spPr>
          <a:xfrm>
            <a:off x="4546800" y="2514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6426360" y="2286000"/>
            <a:ext cx="1961640" cy="1439640"/>
            <a:chOff x="6426360" y="2286000"/>
            <a:chExt cx="1961640" cy="1439640"/>
          </a:xfrm>
        </p:grpSpPr>
        <p:sp>
          <p:nvSpPr>
            <p:cNvPr id="106" name="Oval 21"/>
            <p:cNvSpPr/>
            <p:nvPr/>
          </p:nvSpPr>
          <p:spPr>
            <a:xfrm>
              <a:off x="6426360" y="2286000"/>
              <a:ext cx="1961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6426360" y="2286000"/>
              <a:ext cx="1961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6555600" y="2379600"/>
              <a:ext cx="170280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6555600" y="2382840"/>
              <a:ext cx="170280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6640200" y="2442960"/>
              <a:ext cx="153396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6"/>
            <p:cNvGrpSpPr/>
            <p:nvPr/>
          </p:nvGrpSpPr>
          <p:grpSpPr>
            <a:xfrm>
              <a:off x="6663960" y="2460600"/>
              <a:ext cx="1485720" cy="1092240"/>
              <a:chOff x="6663960" y="2460600"/>
              <a:chExt cx="1485720" cy="1092240"/>
            </a:xfrm>
          </p:grpSpPr>
          <p:sp>
            <p:nvSpPr>
              <p:cNvPr id="112" name="Oval 27"/>
              <p:cNvSpPr/>
              <p:nvPr/>
            </p:nvSpPr>
            <p:spPr>
              <a:xfrm>
                <a:off x="6663960" y="2460600"/>
                <a:ext cx="148572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28"/>
              <p:cNvSpPr/>
              <p:nvPr/>
            </p:nvSpPr>
            <p:spPr>
              <a:xfrm>
                <a:off x="6682680" y="2466720"/>
                <a:ext cx="145008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9"/>
              <p:cNvSpPr/>
              <p:nvPr/>
            </p:nvSpPr>
            <p:spPr>
              <a:xfrm>
                <a:off x="6698160" y="2477160"/>
                <a:ext cx="137880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0"/>
              <p:cNvSpPr/>
              <p:nvPr/>
            </p:nvSpPr>
            <p:spPr>
              <a:xfrm>
                <a:off x="6778800" y="2504880"/>
                <a:ext cx="12258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31"/>
          <p:cNvSpPr/>
          <p:nvPr/>
        </p:nvSpPr>
        <p:spPr>
          <a:xfrm>
            <a:off x="6811920" y="2519280"/>
            <a:ext cx="1090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NewRoman"/>
              </a:rPr>
              <a:t>Rit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NewRoman"/>
              </a:rPr>
              <a:t>Fluide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NewRoman"/>
              </a:rPr>
              <a:t>Ento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5257800" y="4495680"/>
            <a:ext cx="2472840" cy="1576080"/>
            <a:chOff x="5257800" y="4495680"/>
            <a:chExt cx="2472840" cy="1576080"/>
          </a:xfrm>
        </p:grpSpPr>
        <p:sp>
          <p:nvSpPr>
            <p:cNvPr id="118" name="Oval 33"/>
            <p:cNvSpPr/>
            <p:nvPr/>
          </p:nvSpPr>
          <p:spPr>
            <a:xfrm>
              <a:off x="5257800" y="4495680"/>
              <a:ext cx="247284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5257800" y="4495680"/>
              <a:ext cx="247284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5418000" y="4594320"/>
              <a:ext cx="215244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5388120" y="4572000"/>
              <a:ext cx="214920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5535000" y="4662360"/>
              <a:ext cx="193464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5518440" y="4648320"/>
              <a:ext cx="187272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5589000" y="4687920"/>
              <a:ext cx="182880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0"/>
            <p:cNvSpPr/>
            <p:nvPr/>
          </p:nvSpPr>
          <p:spPr>
            <a:xfrm>
              <a:off x="5610600" y="4699080"/>
              <a:ext cx="173880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1"/>
            <p:cNvSpPr/>
            <p:nvPr/>
          </p:nvSpPr>
          <p:spPr>
            <a:xfrm>
              <a:off x="5711040" y="4729320"/>
              <a:ext cx="154656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5545440" y="4699080"/>
              <a:ext cx="19242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Trastor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sens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perce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psíqu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intelectu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3"/>
          <p:cNvGrpSpPr/>
          <p:nvPr/>
        </p:nvGrpSpPr>
        <p:grpSpPr>
          <a:xfrm>
            <a:off x="1155600" y="2286000"/>
            <a:ext cx="1831680" cy="1523520"/>
            <a:chOff x="1155600" y="2286000"/>
            <a:chExt cx="1831680" cy="1523520"/>
          </a:xfrm>
        </p:grpSpPr>
        <p:sp>
          <p:nvSpPr>
            <p:cNvPr id="129" name="Oval 44"/>
            <p:cNvSpPr/>
            <p:nvPr/>
          </p:nvSpPr>
          <p:spPr>
            <a:xfrm>
              <a:off x="1155600" y="2286000"/>
              <a:ext cx="183168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5"/>
            <p:cNvSpPr/>
            <p:nvPr/>
          </p:nvSpPr>
          <p:spPr>
            <a:xfrm>
              <a:off x="1155600" y="2286000"/>
              <a:ext cx="183168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6"/>
            <p:cNvSpPr/>
            <p:nvPr/>
          </p:nvSpPr>
          <p:spPr>
            <a:xfrm>
              <a:off x="1274400" y="2385000"/>
              <a:ext cx="159372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7"/>
            <p:cNvSpPr/>
            <p:nvPr/>
          </p:nvSpPr>
          <p:spPr>
            <a:xfrm>
              <a:off x="1276920" y="2385000"/>
              <a:ext cx="15912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8"/>
            <p:cNvSpPr/>
            <p:nvPr/>
          </p:nvSpPr>
          <p:spPr>
            <a:xfrm>
              <a:off x="1361520" y="2451960"/>
              <a:ext cx="143208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9"/>
            <p:cNvSpPr/>
            <p:nvPr/>
          </p:nvSpPr>
          <p:spPr>
            <a:xfrm>
              <a:off x="1384920" y="2471400"/>
              <a:ext cx="138780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0"/>
            <p:cNvSpPr/>
            <p:nvPr/>
          </p:nvSpPr>
          <p:spPr>
            <a:xfrm>
              <a:off x="1402200" y="2478240"/>
              <a:ext cx="135360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1"/>
            <p:cNvSpPr/>
            <p:nvPr/>
          </p:nvSpPr>
          <p:spPr>
            <a:xfrm>
              <a:off x="1416960" y="2489040"/>
              <a:ext cx="128772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2"/>
            <p:cNvSpPr/>
            <p:nvPr/>
          </p:nvSpPr>
          <p:spPr>
            <a:xfrm>
              <a:off x="1491480" y="2519280"/>
              <a:ext cx="11455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53"/>
          <p:cNvSpPr/>
          <p:nvPr/>
        </p:nvSpPr>
        <p:spPr>
          <a:xfrm>
            <a:off x="1306440" y="2519280"/>
            <a:ext cx="1487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oz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onunci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piración ,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4"/>
          <p:cNvGrpSpPr/>
          <p:nvPr/>
        </p:nvGrpSpPr>
        <p:grpSpPr>
          <a:xfrm>
            <a:off x="2268360" y="4495680"/>
            <a:ext cx="1963080" cy="1545120"/>
            <a:chOff x="2268360" y="4495680"/>
            <a:chExt cx="1963080" cy="1545120"/>
          </a:xfrm>
        </p:grpSpPr>
        <p:grpSp>
          <p:nvGrpSpPr>
            <p:cNvPr id="140" name="Group 55"/>
            <p:cNvGrpSpPr/>
            <p:nvPr/>
          </p:nvGrpSpPr>
          <p:grpSpPr>
            <a:xfrm>
              <a:off x="2268360" y="4495680"/>
              <a:ext cx="1963080" cy="1440000"/>
              <a:chOff x="2268360" y="4495680"/>
              <a:chExt cx="1963080" cy="1440000"/>
            </a:xfrm>
          </p:grpSpPr>
          <p:sp>
            <p:nvSpPr>
              <p:cNvPr id="141" name="Oval 56"/>
              <p:cNvSpPr/>
              <p:nvPr/>
            </p:nvSpPr>
            <p:spPr>
              <a:xfrm>
                <a:off x="2268360" y="4495680"/>
                <a:ext cx="196308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7"/>
              <p:cNvSpPr/>
              <p:nvPr/>
            </p:nvSpPr>
            <p:spPr>
              <a:xfrm>
                <a:off x="2268360" y="4495680"/>
                <a:ext cx="196308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58"/>
              <p:cNvSpPr/>
              <p:nvPr/>
            </p:nvSpPr>
            <p:spPr>
              <a:xfrm>
                <a:off x="2391840" y="4591080"/>
                <a:ext cx="170316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59"/>
              <p:cNvSpPr/>
              <p:nvPr/>
            </p:nvSpPr>
            <p:spPr>
              <a:xfrm>
                <a:off x="2391840" y="4600440"/>
                <a:ext cx="170316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60"/>
              <p:cNvSpPr/>
              <p:nvPr/>
            </p:nvSpPr>
            <p:spPr>
              <a:xfrm>
                <a:off x="2476440" y="4662360"/>
                <a:ext cx="153432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61"/>
              <p:cNvGrpSpPr/>
              <p:nvPr/>
            </p:nvGrpSpPr>
            <p:grpSpPr>
              <a:xfrm>
                <a:off x="2514960" y="4676760"/>
                <a:ext cx="1487160" cy="1092240"/>
                <a:chOff x="2514960" y="4676760"/>
                <a:chExt cx="1487160" cy="1092240"/>
              </a:xfrm>
            </p:grpSpPr>
            <p:sp>
              <p:nvSpPr>
                <p:cNvPr id="147" name="Oval 62"/>
                <p:cNvSpPr/>
                <p:nvPr/>
              </p:nvSpPr>
              <p:spPr>
                <a:xfrm>
                  <a:off x="2514960" y="4676760"/>
                  <a:ext cx="148716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63"/>
                <p:cNvSpPr/>
                <p:nvPr/>
              </p:nvSpPr>
              <p:spPr>
                <a:xfrm>
                  <a:off x="2533680" y="4682880"/>
                  <a:ext cx="1451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4"/>
                <p:cNvSpPr/>
                <p:nvPr/>
              </p:nvSpPr>
              <p:spPr>
                <a:xfrm>
                  <a:off x="2549160" y="4693320"/>
                  <a:ext cx="138024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5"/>
                <p:cNvSpPr/>
                <p:nvPr/>
              </p:nvSpPr>
              <p:spPr>
                <a:xfrm>
                  <a:off x="2630160" y="4721040"/>
                  <a:ext cx="12268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Text Box 66"/>
            <p:cNvSpPr/>
            <p:nvPr/>
          </p:nvSpPr>
          <p:spPr>
            <a:xfrm>
              <a:off x="2426400" y="4729320"/>
              <a:ext cx="159768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NewRoman"/>
                </a:rPr>
                <a:t>M</a:t>
              </a: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st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Deglu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1 Rectángulo"/>
          <p:cNvSpPr/>
          <p:nvPr/>
        </p:nvSpPr>
        <p:spPr>
          <a:xfrm>
            <a:off x="3929040" y="2571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h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artria cerebelosa. Tratamiento logopédico: Itzar, Galarza. Rev. Logop,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n, audiol. 2000 Vol VIII. Nro 2 (84-87) 199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ría del Carmen Busto Barcas "Reeducación del habla y del lenguaje en el paralítico cerebral".Colección Educación Especial. Editora Ciencia de la educación preescolar y especial general. Pardiñas, 95. Madrid - 6. 1984. Segunda edició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urología para especialistas del habla y del lenguaje. Russell J. Wanda G. edit panam. B. aires.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o Disartrias. Álvarez Lami L. Junio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habilitación. Edit Doyma. Vol. 37, Nro 1; 40-54. enero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llars C. et. Al.: Terapia del habla y del lenguaje para la disartria por daño cerebral no progresivo. La Biblioteca Cochrane Plus, 2006, Número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211640" y="1773360"/>
            <a:ext cx="432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atos de Aut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ic. Nilda Ramírez Villavicenci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c.  Anicia Borges Rodríguez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Licenciada en Defectología. Especialización en Logopedia. Profes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Instructor. Especialista en Neurorehabilitación. Departamento de Logoped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entro Internacional de Salud La Prade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**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icenciada en Defectología. Especialización en Logopedia. Profes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Asistente. Departamento de Logopedia Centro Internacional de Salu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 Prade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entro Internacional de Salud La Prade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lle 230 e/ 15A y 17. Rpto. Siboney. Playa. La Habana. Cub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elf: + 53 (7) 273 7467-80 ext. 56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ax: +53 (7) 273 62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rresponden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- mail: </a:t>
            </a: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nramirez@infomed.sld.c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fectación orgánica a nivel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calizada en estructuras subcorticales, vías piramidales, núcleos de los nervios craneales bulbares y en el cerebelo a vías cerebelar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</a:rPr>
              <a:t>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esión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</a:rPr>
              <a:t>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parece en el individu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s de aferent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ficultades en la inervación de los órganos que participan a nivel periférico en la producción del lengua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Flecha abajo"/>
          <p:cNvSpPr/>
          <p:nvPr/>
        </p:nvSpPr>
        <p:spPr>
          <a:xfrm>
            <a:off x="3780000" y="2349360"/>
            <a:ext cx="360360" cy="6480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Flecha abajo"/>
          <p:cNvSpPr/>
          <p:nvPr/>
        </p:nvSpPr>
        <p:spPr>
          <a:xfrm>
            <a:off x="3780000" y="3500280"/>
            <a:ext cx="484200" cy="86544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Coordinado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Nervioso Perifé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68280" y="1844640"/>
            <a:ext cx="3267000" cy="4321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286160" y="1714680"/>
            <a:ext cx="432144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rvios craneales y sus raí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rvios periféricos o espi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ta anterior de médula (eferente o mo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sta posterior de méd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(aferente o sensi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UNCIÓN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miten la movilidad de los músculos que intervienen en la respiración, fonación y artic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0 Imagen" descr=""/>
          <p:cNvPicPr/>
          <p:nvPr/>
        </p:nvPicPr>
        <p:blipFill>
          <a:blip r:embed="rId2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4 Marcador de pie de página"/>
          <p:cNvSpPr/>
          <p:nvPr/>
        </p:nvSpPr>
        <p:spPr>
          <a:xfrm>
            <a:off x="108000" y="3471840"/>
            <a:ext cx="1644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 flipH="1">
            <a:off x="-1616040" y="2421000"/>
            <a:ext cx="3990960" cy="3422520"/>
          </a:xfrm>
          <a:prstGeom prst="pie">
            <a:avLst/>
          </a:prstGeom>
          <a:gradFill rotWithShape="0">
            <a:gsLst>
              <a:gs pos="0">
                <a:srgbClr val="0000ff">
                  <a:alpha val="36078"/>
                </a:srgbClr>
              </a:gs>
              <a:gs pos="100000">
                <a:srgbClr val="a9a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2374920" y="34718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74" name="Oval 12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8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81" name="Oval 19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88" name="Oval 26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2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95" name="Oval 33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4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5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6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7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8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9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202" name="Oval 40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1 Rectángulo"/>
          <p:cNvSpPr/>
          <p:nvPr/>
        </p:nvSpPr>
        <p:spPr>
          <a:xfrm>
            <a:off x="1828800" y="182088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dentes vasculares cereb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Rectángulo"/>
          <p:cNvSpPr/>
          <p:nvPr/>
        </p:nvSpPr>
        <p:spPr>
          <a:xfrm>
            <a:off x="2514600" y="25909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álisis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3 Rectángulo"/>
          <p:cNvSpPr/>
          <p:nvPr/>
        </p:nvSpPr>
        <p:spPr>
          <a:xfrm>
            <a:off x="2916360" y="35686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ecciones, intox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 Rectángulo"/>
          <p:cNvSpPr/>
          <p:nvPr/>
        </p:nvSpPr>
        <p:spPr>
          <a:xfrm>
            <a:off x="2514600" y="3244680"/>
            <a:ext cx="400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ermedad de Parkinson, 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Rectángulo"/>
          <p:cNvSpPr/>
          <p:nvPr/>
        </p:nvSpPr>
        <p:spPr>
          <a:xfrm>
            <a:off x="1828800" y="3244680"/>
            <a:ext cx="599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ofias musculares, Esclerosis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549000"/>
            <a:ext cx="754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asif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 el sitio de la lesió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por trastornos de la moto neurona superi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por trastornos de la moto neurona inferi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por trastornos cerebelos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por trastornos extrapiramid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por trastornos de múltiples sistemas mot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 las características sintomatológic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espás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fláci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atáx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disciné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mix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 la toma articulatori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artria generalizada (trastornos en la articulación general y aislad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ado disártrico (toma articulatoria cambiante, variable por patología 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ase cambiante en el tiempo o que evoluciona por crisi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b"/>
                </a:solidFill>
                <a:latin typeface="Arial"/>
                <a:ea typeface="Arial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stos disártricos (trastornos en la articulación general y no en 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islad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ción de ca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ciente femenina de 12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P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enatales  :N/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rinatales: N/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stnatales: Meningoencefalitis viral a los 3 años, hospitalizada  en estado de coma durante 11 día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cuelas :  Déficit motor, atencional, cognitivo y afasia infantil adquiri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esia facial central de hemicara izquierda (VI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reflejo nauseoso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esia de úvula (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agnóstico Actual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artria generalizada (trastornos en la articulación general y aislad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os Diagnósticos: Epilepsia sintomática control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nóstico: Favor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ención de equipo multidiscipli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2514600" y="1828800"/>
            <a:ext cx="3809880" cy="1130400"/>
            <a:chOff x="2514600" y="1828800"/>
            <a:chExt cx="3809880" cy="1130400"/>
          </a:xfrm>
        </p:grpSpPr>
        <p:grpSp>
          <p:nvGrpSpPr>
            <p:cNvPr id="225" name="Group 4"/>
            <p:cNvGrpSpPr/>
            <p:nvPr/>
          </p:nvGrpSpPr>
          <p:grpSpPr>
            <a:xfrm>
              <a:off x="2514600" y="1828800"/>
              <a:ext cx="533160" cy="502920"/>
              <a:chOff x="2514600" y="1828800"/>
              <a:chExt cx="533160" cy="502920"/>
            </a:xfrm>
          </p:grpSpPr>
          <p:sp>
            <p:nvSpPr>
              <p:cNvPr id="226" name="Freeform 5"/>
              <p:cNvSpPr/>
              <p:nvPr/>
            </p:nvSpPr>
            <p:spPr>
              <a:xfrm>
                <a:off x="2678400" y="1828800"/>
                <a:ext cx="209520" cy="2505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"/>
              <p:cNvSpPr/>
              <p:nvPr/>
            </p:nvSpPr>
            <p:spPr>
              <a:xfrm>
                <a:off x="2514600" y="1934640"/>
                <a:ext cx="276120" cy="1566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2514600" y="2064960"/>
                <a:ext cx="276120" cy="1602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2674800" y="2079360"/>
                <a:ext cx="209520" cy="2523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2771640" y="2064960"/>
                <a:ext cx="276120" cy="1566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2771640" y="1931760"/>
                <a:ext cx="276120" cy="1602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2691000" y="2014200"/>
                <a:ext cx="184320" cy="1310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2"/>
            <p:cNvSpPr/>
            <p:nvPr/>
          </p:nvSpPr>
          <p:spPr>
            <a:xfrm>
              <a:off x="3687120" y="1828800"/>
              <a:ext cx="18662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uropediat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diat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3048120" y="22060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4"/>
          <p:cNvGrpSpPr/>
          <p:nvPr/>
        </p:nvGrpSpPr>
        <p:grpSpPr>
          <a:xfrm>
            <a:off x="2514600" y="2514600"/>
            <a:ext cx="3809880" cy="609480"/>
            <a:chOff x="2514600" y="2514600"/>
            <a:chExt cx="3809880" cy="609480"/>
          </a:xfrm>
        </p:grpSpPr>
        <p:grpSp>
          <p:nvGrpSpPr>
            <p:cNvPr id="236" name="Group 15"/>
            <p:cNvGrpSpPr/>
            <p:nvPr/>
          </p:nvGrpSpPr>
          <p:grpSpPr>
            <a:xfrm>
              <a:off x="2514600" y="2514600"/>
              <a:ext cx="533160" cy="609480"/>
              <a:chOff x="2514600" y="2514600"/>
              <a:chExt cx="533160" cy="609480"/>
            </a:xfrm>
          </p:grpSpPr>
          <p:sp>
            <p:nvSpPr>
              <p:cNvPr id="237" name="Freeform 16"/>
              <p:cNvSpPr/>
              <p:nvPr/>
            </p:nvSpPr>
            <p:spPr>
              <a:xfrm>
                <a:off x="2678400" y="2514600"/>
                <a:ext cx="209520" cy="30348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"/>
              <p:cNvSpPr/>
              <p:nvPr/>
            </p:nvSpPr>
            <p:spPr>
              <a:xfrm>
                <a:off x="2514600" y="2643120"/>
                <a:ext cx="276120" cy="19008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8"/>
              <p:cNvSpPr/>
              <p:nvPr/>
            </p:nvSpPr>
            <p:spPr>
              <a:xfrm>
                <a:off x="2514600" y="2801880"/>
                <a:ext cx="276120" cy="1936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"/>
              <p:cNvSpPr/>
              <p:nvPr/>
            </p:nvSpPr>
            <p:spPr>
              <a:xfrm>
                <a:off x="2674800" y="2818080"/>
                <a:ext cx="209520" cy="3060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0"/>
              <p:cNvSpPr/>
              <p:nvPr/>
            </p:nvSpPr>
            <p:spPr>
              <a:xfrm>
                <a:off x="2771640" y="2801880"/>
                <a:ext cx="276120" cy="1900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>
                <a:off x="2771640" y="2639520"/>
                <a:ext cx="276120" cy="1936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2"/>
              <p:cNvSpPr/>
              <p:nvPr/>
            </p:nvSpPr>
            <p:spPr>
              <a:xfrm>
                <a:off x="2691000" y="2739600"/>
                <a:ext cx="184320" cy="15840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23"/>
            <p:cNvSpPr/>
            <p:nvPr/>
          </p:nvSpPr>
          <p:spPr>
            <a:xfrm>
              <a:off x="4554000" y="251460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>
              <a:off x="3048120" y="297180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514600" y="3276720"/>
            <a:ext cx="3809880" cy="609480"/>
            <a:chOff x="2514600" y="3276720"/>
            <a:chExt cx="3809880" cy="609480"/>
          </a:xfrm>
        </p:grpSpPr>
        <p:grpSp>
          <p:nvGrpSpPr>
            <p:cNvPr id="247" name="Group 26"/>
            <p:cNvGrpSpPr/>
            <p:nvPr/>
          </p:nvGrpSpPr>
          <p:grpSpPr>
            <a:xfrm>
              <a:off x="2514600" y="3276720"/>
              <a:ext cx="533160" cy="609480"/>
              <a:chOff x="2514600" y="3276720"/>
              <a:chExt cx="533160" cy="609480"/>
            </a:xfrm>
          </p:grpSpPr>
          <p:sp>
            <p:nvSpPr>
              <p:cNvPr id="248" name="Freeform 27"/>
              <p:cNvSpPr/>
              <p:nvPr/>
            </p:nvSpPr>
            <p:spPr>
              <a:xfrm>
                <a:off x="2678400" y="3276720"/>
                <a:ext cx="209520" cy="30348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8"/>
              <p:cNvSpPr/>
              <p:nvPr/>
            </p:nvSpPr>
            <p:spPr>
              <a:xfrm>
                <a:off x="2514600" y="3405240"/>
                <a:ext cx="276120" cy="1900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9"/>
              <p:cNvSpPr/>
              <p:nvPr/>
            </p:nvSpPr>
            <p:spPr>
              <a:xfrm>
                <a:off x="2514600" y="3564000"/>
                <a:ext cx="276120" cy="1936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0"/>
              <p:cNvSpPr/>
              <p:nvPr/>
            </p:nvSpPr>
            <p:spPr>
              <a:xfrm>
                <a:off x="2674800" y="3580200"/>
                <a:ext cx="209520" cy="30600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1"/>
              <p:cNvSpPr/>
              <p:nvPr/>
            </p:nvSpPr>
            <p:spPr>
              <a:xfrm>
                <a:off x="2771640" y="3564000"/>
                <a:ext cx="276120" cy="19008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2"/>
              <p:cNvSpPr/>
              <p:nvPr/>
            </p:nvSpPr>
            <p:spPr>
              <a:xfrm>
                <a:off x="2771640" y="3401640"/>
                <a:ext cx="276120" cy="19368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3"/>
              <p:cNvSpPr/>
              <p:nvPr/>
            </p:nvSpPr>
            <p:spPr>
              <a:xfrm>
                <a:off x="2691000" y="3501720"/>
                <a:ext cx="184320" cy="15840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34"/>
            <p:cNvSpPr/>
            <p:nvPr/>
          </p:nvSpPr>
          <p:spPr>
            <a:xfrm>
              <a:off x="4028400" y="3276720"/>
              <a:ext cx="144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ic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5"/>
            <p:cNvSpPr/>
            <p:nvPr/>
          </p:nvSpPr>
          <p:spPr>
            <a:xfrm>
              <a:off x="3048120" y="3733920"/>
              <a:ext cx="3276360" cy="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6"/>
          <p:cNvGrpSpPr/>
          <p:nvPr/>
        </p:nvGrpSpPr>
        <p:grpSpPr>
          <a:xfrm>
            <a:off x="2514600" y="4038480"/>
            <a:ext cx="3809880" cy="825480"/>
            <a:chOff x="2514600" y="4038480"/>
            <a:chExt cx="3809880" cy="825480"/>
          </a:xfrm>
        </p:grpSpPr>
        <p:grpSp>
          <p:nvGrpSpPr>
            <p:cNvPr id="258" name="Group 37"/>
            <p:cNvGrpSpPr/>
            <p:nvPr/>
          </p:nvGrpSpPr>
          <p:grpSpPr>
            <a:xfrm>
              <a:off x="2514600" y="4038480"/>
              <a:ext cx="533160" cy="609480"/>
              <a:chOff x="2514600" y="4038480"/>
              <a:chExt cx="533160" cy="609480"/>
            </a:xfrm>
          </p:grpSpPr>
          <p:sp>
            <p:nvSpPr>
              <p:cNvPr id="259" name="Freeform 38"/>
              <p:cNvSpPr/>
              <p:nvPr/>
            </p:nvSpPr>
            <p:spPr>
              <a:xfrm>
                <a:off x="2678400" y="4038480"/>
                <a:ext cx="209520" cy="30348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9"/>
              <p:cNvSpPr/>
              <p:nvPr/>
            </p:nvSpPr>
            <p:spPr>
              <a:xfrm>
                <a:off x="2514600" y="4167000"/>
                <a:ext cx="276120" cy="19008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0"/>
              <p:cNvSpPr/>
              <p:nvPr/>
            </p:nvSpPr>
            <p:spPr>
              <a:xfrm>
                <a:off x="2514600" y="4325760"/>
                <a:ext cx="276120" cy="193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1"/>
              <p:cNvSpPr/>
              <p:nvPr/>
            </p:nvSpPr>
            <p:spPr>
              <a:xfrm>
                <a:off x="2674800" y="4341960"/>
                <a:ext cx="209520" cy="3060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"/>
              <p:cNvSpPr/>
              <p:nvPr/>
            </p:nvSpPr>
            <p:spPr>
              <a:xfrm>
                <a:off x="2771640" y="4325760"/>
                <a:ext cx="276120" cy="1900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3"/>
              <p:cNvSpPr/>
              <p:nvPr/>
            </p:nvSpPr>
            <p:spPr>
              <a:xfrm>
                <a:off x="2771640" y="4163400"/>
                <a:ext cx="276120" cy="19368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4"/>
              <p:cNvSpPr/>
              <p:nvPr/>
            </p:nvSpPr>
            <p:spPr>
              <a:xfrm>
                <a:off x="2691000" y="4263480"/>
                <a:ext cx="184320" cy="15840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45"/>
            <p:cNvSpPr/>
            <p:nvPr/>
          </p:nvSpPr>
          <p:spPr>
            <a:xfrm>
              <a:off x="4046760" y="4038480"/>
              <a:ext cx="13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gop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6"/>
            <p:cNvSpPr/>
            <p:nvPr/>
          </p:nvSpPr>
          <p:spPr>
            <a:xfrm>
              <a:off x="3048120" y="44956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7"/>
          <p:cNvGrpSpPr/>
          <p:nvPr/>
        </p:nvGrpSpPr>
        <p:grpSpPr>
          <a:xfrm>
            <a:off x="2514600" y="4572000"/>
            <a:ext cx="4771800" cy="761400"/>
            <a:chOff x="2514600" y="4572000"/>
            <a:chExt cx="4771800" cy="761400"/>
          </a:xfrm>
        </p:grpSpPr>
        <p:grpSp>
          <p:nvGrpSpPr>
            <p:cNvPr id="269" name="Group 48"/>
            <p:cNvGrpSpPr/>
            <p:nvPr/>
          </p:nvGrpSpPr>
          <p:grpSpPr>
            <a:xfrm>
              <a:off x="2514600" y="4572000"/>
              <a:ext cx="668160" cy="761400"/>
              <a:chOff x="2514600" y="4572000"/>
              <a:chExt cx="668160" cy="761400"/>
            </a:xfrm>
          </p:grpSpPr>
          <p:sp>
            <p:nvSpPr>
              <p:cNvPr id="270" name="Freeform 49"/>
              <p:cNvSpPr/>
              <p:nvPr/>
            </p:nvSpPr>
            <p:spPr>
              <a:xfrm>
                <a:off x="2719800" y="4572000"/>
                <a:ext cx="263160" cy="37908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0"/>
              <p:cNvSpPr/>
              <p:nvPr/>
            </p:nvSpPr>
            <p:spPr>
              <a:xfrm>
                <a:off x="2514600" y="4731840"/>
                <a:ext cx="345960" cy="23832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1"/>
              <p:cNvSpPr/>
              <p:nvPr/>
            </p:nvSpPr>
            <p:spPr>
              <a:xfrm>
                <a:off x="2514600" y="4930920"/>
                <a:ext cx="345960" cy="24264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2"/>
              <p:cNvSpPr/>
              <p:nvPr/>
            </p:nvSpPr>
            <p:spPr>
              <a:xfrm>
                <a:off x="2714400" y="4951080"/>
                <a:ext cx="263160" cy="38232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3"/>
              <p:cNvSpPr/>
              <p:nvPr/>
            </p:nvSpPr>
            <p:spPr>
              <a:xfrm>
                <a:off x="2836800" y="4930920"/>
                <a:ext cx="345960" cy="23904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54"/>
              <p:cNvSpPr/>
              <p:nvPr/>
            </p:nvSpPr>
            <p:spPr>
              <a:xfrm>
                <a:off x="2836800" y="4728960"/>
                <a:ext cx="345960" cy="24120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5"/>
              <p:cNvSpPr/>
              <p:nvPr/>
            </p:nvSpPr>
            <p:spPr>
              <a:xfrm>
                <a:off x="2735640" y="4853160"/>
                <a:ext cx="231480" cy="19800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56"/>
            <p:cNvSpPr/>
            <p:nvPr/>
          </p:nvSpPr>
          <p:spPr>
            <a:xfrm>
              <a:off x="3468960" y="4572000"/>
              <a:ext cx="333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apia Física y ozonoterap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7"/>
            <p:cNvSpPr/>
            <p:nvPr/>
          </p:nvSpPr>
          <p:spPr>
            <a:xfrm>
              <a:off x="3182760" y="5143320"/>
              <a:ext cx="410364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0 Imagen" descr=""/>
          <p:cNvPicPr/>
          <p:nvPr/>
        </p:nvPicPr>
        <p:blipFill>
          <a:blip r:embed="rId36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br>
              <a:rPr sz="1600"/>
            </a:br>
            <a:br>
              <a:rPr sz="16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uebas realizadas  por  especialidad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0920" y="907920"/>
            <a:ext cx="754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tenciales evocados auditivo de tallo cerebral: Los hallazgos electrofisiológicos evidencian integridad en la conducción de ambas vías auditiva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uebas funcionales respiratorias: La disminución de la capacidad vital respiratoria sugiere que es posible la presencia de un trastorno ventilatorio restrictivo de intensidad seve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udio video  de la deglución : masticación ineficiente  por pobre lateralización lingual y disfagia orofaríngea con riesgo aspira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ofagograma bajo control: No disfagia orofaríngea. No reflujo. Estómago y duodeno nor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ringoscopía indirecta : Fallida por espasticidad de la len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Videolaringoscopí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ficit de aducción anterior y posteri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878120" cy="57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7:08:14Z</dcterms:created>
  <dc:creator>rainer</dc:creator>
  <dc:description/>
  <dc:language>en-US</dc:language>
  <cp:lastModifiedBy>WarezMaster®</cp:lastModifiedBy>
  <dcterms:modified xsi:type="dcterms:W3CDTF">2014-02-03T13:10:21Z</dcterms:modified>
  <cp:revision>242</cp:revision>
  <dc:subject/>
  <dc:title>PowerPoint Template</dc:title>
</cp:coreProperties>
</file>