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91577-A033-4920-9DF0-825032F57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A3B8E-AA2C-4F2F-9996-58406C95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8D73E-D86B-4370-AA91-46564B81A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3940E-3EC8-4BD8-951F-66CF9414B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9D9DF-9148-4965-AAEF-58FFB2C3F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BE77F-915E-47C9-BAC4-D3A4BA53B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CB1EC-B836-4E2A-90DD-B4CF61881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90922-FD2C-4D92-8898-272C4AEA4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8BC96-9AE2-4BF6-B655-2C7A011B4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8B854-E369-487A-8DC1-194DEBB60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57D03-8F80-4F8B-A39B-5345D3822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700A-8E59-4477-8C9B-CF2D1276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EBA5-CE8C-4A5A-AF14-1C1F63226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5BA9-4324-4FBF-B502-3D736576B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9EE0-243E-4B7C-AB1B-AE87839CF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1BB29-F09B-46CA-943C-5CA78022D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602FA-28BF-42DD-9BF3-903963466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8D70-FA03-4737-8977-049540360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1FC7-DC55-4FBF-84E5-1E0E66A1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2ADA-D765-46BF-A8E2-07DD81454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C0AA5-7B85-4AC5-A81E-F51EF26D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DCE2-2E97-4E2E-92B9-1F55F3911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5D54-94D9-40D3-B46B-6489CDC6A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FA49-4F0E-4C37-A24A-0F89EBB0B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EBDE-5D29-4866-A6FB-E5A5FFAB9E05}"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
          <p:cNvGrpSpPr/>
          <p:nvPr/>
        </p:nvGrpSpPr>
        <p:grpSpPr>
          <a:xfrm>
            <a:off x="2133720" y="472680"/>
            <a:ext cx="4878360" cy="3491280"/>
            <a:chOff x="2133720" y="472680"/>
            <a:chExt cx="4878360" cy="3491280"/>
          </a:xfrm>
        </p:grpSpPr>
        <p:sp>
          <p:nvSpPr>
            <p:cNvPr id="53"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55" name=""/>
            <p:cNvGrpSpPr/>
            <p:nvPr/>
          </p:nvGrpSpPr>
          <p:grpSpPr>
            <a:xfrm>
              <a:off x="2494080" y="472680"/>
              <a:ext cx="4178160" cy="3491280"/>
              <a:chOff x="2494080" y="472680"/>
              <a:chExt cx="4178160" cy="3491280"/>
            </a:xfrm>
          </p:grpSpPr>
          <p:sp>
            <p:nvSpPr>
              <p:cNvPr id="56"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0"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1"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10A6-C5E2-4CAF-AB57-FA7AF0E004E2}"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8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737 bases en el Mundo = Imperio Made in USA</a:t>
            </a:r>
            <a:r>
              <a:rPr b="0" lang="en-US" sz="3200" spc="-1" strike="noStrike">
                <a:solidFill>
                  <a:srgbClr val="ffff00"/>
                </a:solidFill>
                <a:latin typeface="Times New Roman"/>
              </a:rPr>
              <a:t> </a:t>
            </a:r>
            <a:br>
              <a:rPr sz="3200"/>
            </a:br>
            <a:endParaRPr b="0" lang="en-US" sz="3200" spc="-1" strike="noStrike">
              <a:solidFill>
                <a:srgbClr val="ffffcc"/>
              </a:solidFill>
              <a:latin typeface="Times New Roman"/>
            </a:endParaRPr>
          </a:p>
        </p:txBody>
      </p:sp>
      <p:pic>
        <p:nvPicPr>
          <p:cNvPr id="102" name="" descr=""/>
          <p:cNvPicPr/>
          <p:nvPr/>
        </p:nvPicPr>
        <p:blipFill>
          <a:blip r:embed="rId2"/>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0"/>
            <a:ext cx="6770520" cy="62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Fuentes</a:t>
            </a:r>
            <a:endParaRPr b="0" lang="en-US" sz="1800" spc="-1" strike="noStrike">
              <a:solidFill>
                <a:srgbClr val="ffffcc"/>
              </a:solidFill>
              <a:latin typeface="Times New Roman"/>
            </a:endParaRPr>
          </a:p>
        </p:txBody>
      </p:sp>
      <p:sp>
        <p:nvSpPr>
          <p:cNvPr id="122" name="PlaceHolder 2"/>
          <p:cNvSpPr>
            <a:spLocks noGrp="1"/>
          </p:cNvSpPr>
          <p:nvPr>
            <p:ph/>
          </p:nvPr>
        </p:nvSpPr>
        <p:spPr>
          <a:xfrm>
            <a:off x="1187280" y="475920"/>
            <a:ext cx="7561440" cy="5543640"/>
          </a:xfrm>
          <a:prstGeom prst="rect">
            <a:avLst/>
          </a:prstGeom>
          <a:noFill/>
          <a:ln w="0">
            <a:noFill/>
          </a:ln>
        </p:spPr>
        <p:txBody>
          <a:bodyPr lIns="92160" rIns="92160" tIns="46080" bIns="46080" anchor="t">
            <a:normAutofit/>
          </a:bodyPr>
          <a:p>
            <a:pPr marL="343080" indent="-343080">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rPr>
              <a:t>emagister. com. /rene-maleta-espinosa/usr-3184</a:t>
            </a:r>
            <a:endParaRPr b="0" lang="en-US" sz="1800" spc="-1" strike="noStrike">
              <a:solidFill>
                <a:srgbClr val="eaeaea"/>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476280"/>
            <a:ext cx="914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4" name="PlaceHolder 1"/>
          <p:cNvSpPr>
            <a:spLocks noGrp="1"/>
          </p:cNvSpPr>
          <p:nvPr>
            <p:ph type="title"/>
          </p:nvPr>
        </p:nvSpPr>
        <p:spPr>
          <a:xfrm>
            <a:off x="0" y="-360"/>
            <a:ext cx="896472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cepto del pentágono</a:t>
            </a:r>
            <a:endParaRPr b="0" lang="en-US" sz="3200" spc="-1" strike="noStrike">
              <a:solidFill>
                <a:srgbClr val="ffffcc"/>
              </a:solidFill>
              <a:latin typeface="Times New Roman"/>
            </a:endParaRPr>
          </a:p>
        </p:txBody>
      </p:sp>
      <p:sp>
        <p:nvSpPr>
          <p:cNvPr id="105" name=""/>
          <p:cNvSpPr/>
          <p:nvPr/>
        </p:nvSpPr>
        <p:spPr>
          <a:xfrm>
            <a:off x="0" y="620640"/>
            <a:ext cx="9144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urante la próxima década se desplegaran más tropas en unidades flexibles desde USA para combatir rápidamente nuevas amenazas. W Bush</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ecesitamos desplegar nuestra fuerza lo más rápidamente posible en cualquier parte del Mundo. Voceros del Pentágono</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8820000" cy="89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cepto de Obama</a:t>
            </a:r>
            <a:endParaRPr b="0" lang="en-US" sz="3200" spc="-1" strike="noStrike">
              <a:solidFill>
                <a:srgbClr val="ffffcc"/>
              </a:solidFill>
              <a:latin typeface="Times New Roman"/>
            </a:endParaRPr>
          </a:p>
        </p:txBody>
      </p:sp>
      <p:sp>
        <p:nvSpPr>
          <p:cNvPr id="107" name=""/>
          <p:cNvSpPr/>
          <p:nvPr/>
        </p:nvSpPr>
        <p:spPr>
          <a:xfrm>
            <a:off x="0" y="1341360"/>
            <a:ext cx="896472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as guerras que libra Estados Unidos son “Guerras justas y necesarias” Barack Obama en la entrega del Nóbel de la Paz en Oslo.</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276720" y="0"/>
            <a:ext cx="1995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stados Unidos actualmente cuenta</a:t>
            </a:r>
            <a:endParaRPr b="0" lang="en-US" sz="1800" spc="-1" strike="noStrike">
              <a:solidFill>
                <a:srgbClr val="eaeaea"/>
              </a:solidFill>
              <a:latin typeface="Arial"/>
            </a:endParaRPr>
          </a:p>
        </p:txBody>
      </p:sp>
      <p:sp>
        <p:nvSpPr>
          <p:cNvPr id="109" name=""/>
          <p:cNvSpPr/>
          <p:nvPr/>
        </p:nvSpPr>
        <p:spPr>
          <a:xfrm>
            <a:off x="-2700360" y="189000"/>
            <a:ext cx="1311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stados Unidos actualmente</a:t>
            </a:r>
            <a:endParaRPr b="0" lang="en-US" sz="1800" spc="-1" strike="noStrike">
              <a:solidFill>
                <a:srgbClr val="eaeaea"/>
              </a:solidFill>
              <a:latin typeface="Arial"/>
            </a:endParaRPr>
          </a:p>
        </p:txBody>
      </p:sp>
      <p:sp>
        <p:nvSpPr>
          <p:cNvPr id="110" name=""/>
          <p:cNvSpPr/>
          <p:nvPr/>
        </p:nvSpPr>
        <p:spPr>
          <a:xfrm>
            <a:off x="11016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ectivos en el mundo</a:t>
            </a:r>
            <a:endParaRPr b="0" lang="en-US" sz="4400" spc="-1" strike="noStrike">
              <a:solidFill>
                <a:srgbClr val="ffffcc"/>
              </a:solidFill>
              <a:latin typeface="Times New Roman"/>
            </a:endParaRPr>
          </a:p>
        </p:txBody>
      </p:sp>
      <p:sp>
        <p:nvSpPr>
          <p:cNvPr id="11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rPr>
              <a:t>Estados Unidos actualmente cuenta con 2,500,000 personas en el ejercito.</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alrededor del mundo en los 5 continentes contabilizando 737 bas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 </a:t>
            </a:r>
            <a:r>
              <a:rPr b="1" lang="es-ES_tradnl" sz="2400" spc="-1" strike="noStrike">
                <a:solidFill>
                  <a:srgbClr val="ffff00"/>
                </a:solidFill>
                <a:latin typeface="Times New Roman"/>
              </a:rPr>
              <a:t>Pero esas nuevas bases son una insignificantes con la extensión del Pentágono, solo en USA poseen 11.7 millones de hectáreas, y 255 mil empleados militares en 725 bases de 38 países, pero esta cifra se elevo a cerca de 850 según estimaciones oficiales del Senado de ese país, algo así de 571,900 instalaciones, 466,599 en US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0"/>
            <a:ext cx="896472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ases USA alrededor del mundo</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das sus propiedades dan 120,191 kilómetros cuadrados en total, casi el tamaño de Corea del Norte, Liberia, Bulgaria, Guatemala, Corea del Sur, etc.</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14" name="" descr=""/>
          <p:cNvPicPr/>
          <p:nvPr/>
        </p:nvPicPr>
        <p:blipFill>
          <a:blip r:embed="rId2"/>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ases en Medio Oriente</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ero esas nuevas bases son una insignificantes con la extensión del Pentágono, solo en USA poseen 11.7 millones de hectáreas, y 255 mil empleados militares en 725 bases de 38 países, pero esta cifra se elevo a cerca de 850 según estimaciones oficiales del Senado de ese país, algo así de 571,900 instalaciones, 466,599 en USA.</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16" name="" descr=""/>
          <p:cNvPicPr/>
          <p:nvPr/>
        </p:nvPicPr>
        <p:blipFill>
          <a:blip r:embed="rId2"/>
          <a:stretch/>
        </p:blipFill>
        <p:spPr>
          <a:xfrm>
            <a:off x="179280" y="2637000"/>
            <a:ext cx="871380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0"/>
            <a:ext cx="9144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ases en Europa al 2012  mas un sinnúmero de instalaciones secretas</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s estadísticas de 2006 muestran que el Ejército controla la mayor parte de las propiedades del Departamento de Defensa (52%), Fuerza Aérea (33%), Cuerpo de Infantería de Marina (8%) y la Armada (7%) ocupan los últimos lugares. El Ejército también lleva la delantera en la cantidad total de</a:t>
            </a:r>
            <a:r>
              <a:rPr b="0" lang="en-US" sz="1800" spc="-1" strike="noStrike">
                <a:solidFill>
                  <a:srgbClr val="eaeaea"/>
                </a:solidFill>
                <a:latin typeface="Times New Roman"/>
              </a:rPr>
              <a:t> </a:t>
            </a:r>
            <a:r>
              <a:rPr b="1" lang="en-US" sz="2400" spc="-1" strike="noStrike">
                <a:solidFill>
                  <a:srgbClr val="ffff00"/>
                </a:solidFill>
                <a:latin typeface="Times New Roman"/>
              </a:rPr>
              <a:t>terrenos (1 742) e instalaciones militares (1 659).</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18" name="" descr=""/>
          <p:cNvPicPr/>
          <p:nvPr/>
        </p:nvPicPr>
        <p:blipFill>
          <a:blip r:embed="rId2"/>
          <a:stretch/>
        </p:blipFill>
        <p:spPr>
          <a:xfrm>
            <a:off x="0" y="278136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0"/>
            <a:ext cx="9144000" cy="554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demás</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rPr>
              <a:t>El Departamento de Defensa tiene un total de “280 embarcaciones, 14 mil aeronaves, 900 misiles estratégicos y 330 mil vehículos tácticos y de combate terrestre”.</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rPr>
              <a:t>El Pentágono dice tener activos con valor de 1000 millones de dólares y pasivos cercanos a 1600 millones DD, pero con lo oculto de sus presupuesto estos numero pueden ser pequeños con la realidad.</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imes New Roman"/>
              </a:rPr>
              <a:t>Datos del Pentágono que sus bases en el exterior valen $127,000 MDD y sumando sus bases en USA la cifra alcanza $658.1 MDD, los números y cifras del Pentágono son engañosas ya que las instalaciones secretas y muy conocidas por ejércitos del mundo no entran tal es el caso de bases de Echoleon en Inglaterra, Australia, etc.</a:t>
            </a:r>
            <a:r>
              <a:rPr b="1" lang="es-ES_tradnl" sz="1800" spc="-1" strike="noStrike">
                <a:solidFill>
                  <a:srgbClr val="ffff00"/>
                </a:solidFill>
                <a:latin typeface="Times New Roman"/>
              </a:rPr>
              <a:t> </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imes New Roman"/>
              </a:rPr>
              <a:t>A pesar del cierre de muchas bases dentro de USA después de la Guerra Fría esto es una estrategia más efectiva de unión en ciertas áreas y su despliegue más efectivo, se creyó que muchas bases más en el exterior cerrarían por el colapso de la Unión Soviética pero esto no paso tal es el caso de las bases en Alemania e Italia, o las de Corea del Sur y Japón.</a:t>
            </a:r>
            <a:r>
              <a:rPr b="0" lang="es-MX" sz="1800" spc="-1" strike="noStrike">
                <a:solidFill>
                  <a:srgbClr val="ffff00"/>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imes New Roman"/>
              </a:rPr>
              <a:t>Lo mejor para el imperio con sus bases en países anfitriones (Alemania, Italia, Japón, Corea del Sur) es que puede obtener lo que quieran tal es el caso de los soldados que hagan crímenes en esos países no puedes ser juzgados más que por el ejercito USA, cuando no tienen este tipo de concesiones la estructura imperial tambalea y es frági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400" y="228240"/>
            <a:ext cx="6330960" cy="528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clusiones</a:t>
            </a:r>
            <a:br>
              <a:rPr sz="2800"/>
            </a:br>
            <a:r>
              <a:rPr b="1" lang="en-US" sz="2800" spc="-1" strike="noStrike">
                <a:solidFill>
                  <a:srgbClr val="ffff00"/>
                </a:solidFill>
                <a:latin typeface="Times New Roman"/>
              </a:rPr>
              <a:t>La poderosa maquina de guerra del Imperio enfrenta ahora otro tipo de guerra en Irak donde la población ya no esta de acuerdo a sus políticas y puede terminar expulsando al invasor como en Vietnam donde se peleaba con un pueblo pobremente armado contra el ejercito más poderoso del mundo tecnológicamente y militarmente.</a:t>
            </a:r>
            <a:br>
              <a:rPr sz="2800"/>
            </a:br>
            <a:br>
              <a:rPr sz="2800"/>
            </a:b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09:03:51Z</dcterms:created>
  <dc:creator>Administrador</dc:creator>
  <dc:description/>
  <dc:language>en-US</dc:language>
  <cp:lastModifiedBy>Administrador</cp:lastModifiedBy>
  <dcterms:modified xsi:type="dcterms:W3CDTF">2012-04-20T12:37:44Z</dcterms:modified>
  <cp:revision>8</cp:revision>
  <dc:subject/>
  <dc:title>737 bases en el Mundo = Imperio Made in USA  </dc:title>
</cp:coreProperties>
</file>