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B2A-BB35-4198-9F3F-6762BBA2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006-7494-4E85-90DC-3CFEA6D0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E61-30C6-4885-A7DD-FDD9DEDA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261-331C-4CCF-BE78-7D4FEB9A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072-5B62-4A1F-B85C-7B2D0DC0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AD8-6E09-4797-B479-2468489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54E-87F6-450A-A6EA-FB9276B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8E4-04B0-48B1-B427-43C55446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CE7-4BCE-4691-A660-06AB4EC0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A8E-FE18-4A2C-AE01-6405AB9F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502-3227-4377-B637-0CBF9B1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B4A-8EED-4174-B5E4-E79B3A99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5C06-F9E0-4139-A485-A9571371DD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dingbatway.com/acne/acne-treatment.jpg&amp;imgrefurl=http://saude-publica.blogspot.com/2005_04_01_archive.html&amp;h=137&amp;w=160&amp;sz=4&amp;hl=es&amp;start=8&amp;um=1&amp;tbnid=CzPxpEbMybZ07M:&amp;tbnh=84&amp;tbnw=98&amp;prev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iqb.es/dermatologia/atlas/acne/acne24.jpg&amp;imgrefurl=http://www.iqb.es/dermatologia/atlas/acne/acne23.htm&amp;h=480&amp;w=513&amp;sz=43&amp;hl=es&amp;start=2&amp;um=1&amp;tbnid=bi8O6ni3NCctVM:&amp;tbnh=123&amp;tbnw=131&amp;prev=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IZ ZELA MARI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907920"/>
            <a:ext cx="777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ÓXIDO DE BENZOI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Contraindic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persensibilidad  al medicamento, evítese  el contacto con los ojos y lab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 hay heridas bajo la piel, puede dejar cicatrices perman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ede decolorar el pelo y las telas de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00720" y="2701800"/>
            <a:ext cx="25923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Precau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744200"/>
            <a:ext cx="8353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ede producir  un efecto irritante sobre todo al comienzo del tratamiento, lo cual no es indicativo no de intolerancia ni de alergia  mientras la irritación se agravan o resultan molestos  para el pa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 aconseja  espaciar  las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tilizar  concentraciones más débiles e incluso detener el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C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Definición)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87480"/>
            <a:ext cx="497844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 acné es la inflamación de las glándulas pilosebáceas de la piel que cursa con la obstrucción de sus poros y la aparición de diferentes lesiones en la pi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Grano"/>
          <p:cNvPicPr/>
          <p:nvPr/>
        </p:nvPicPr>
        <p:blipFill>
          <a:blip r:embed="rId1"/>
          <a:stretch/>
        </p:blipFill>
        <p:spPr>
          <a:xfrm>
            <a:off x="5899320" y="1989000"/>
            <a:ext cx="2849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216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C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Caus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385640"/>
            <a:ext cx="5905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 desconoce por qué algunas personas padecen acné y otras no, pero se sabe que es parcialmente hered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 conocen varios factores enlazados al acn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ividad hormonal, como los ciclos menstruales en la pubert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rés, impulsado por las descargas de las glándulas suprarre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ándulas sebáceas hiperactivas, secundariamente a las hormonas citadas arri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umulación de células muertas de la pi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terias en los poros, a las cuales el cuerpo se vuelve alérg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 uso de anaboliza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irritación cutánea o cualquier forma de rascarse activará la inflam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alquier medicación que contenga halógenos, litio, barbitúricos o andróge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exposición a altos niveles de compuestos de clo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2417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04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C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Síntom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56920"/>
            <a:ext cx="5759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ión o sarpullido en la piel de la cara, pecho, cuello, espalda, u otra á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edones (o espinill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ústu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is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ápu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ód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rojecimiento (eritema) de la piel, alrededor de las le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lamación alrededor de las erup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ustación de las erupciones de la pi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catrices en la pi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88108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43640" y="546876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T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C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Tratamien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568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tratamiento se diseña con el fin de prevenir la formación de nuevas lesiones y ayudar a sanar las lesiones vi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medicamentos locales / tópicos que secan la grasa y/o promueven el peeling de la piel, suelen contener PERÓXIDO BENZOICO, SULFURO, RESORCINOL, ÁCIDO SALICÍLICO O ETETRONINA, O ÁCIDO RETINOICO (Retin-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s lesiones se infectan se pueden prescribir antibióticos tales como la tetraciclina o la eritromicina. También se usan antibióticos tópicos (aplicados justo en el área afectada de la piel) tales como la CLINDAMICINA o la ERITROMICINA para controlar la infe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736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ERÓXIDO DE BENZOILO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5554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ZAC AC GEL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NOXYL BAR AL 5% Y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rra Limpi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TRÓGENA ACNÉ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565360"/>
            <a:ext cx="29527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Dosific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8272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var el área afectada con agua tibia y frotar suavemente  durante uno o dos minu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juagar  y remover toda la esp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ar con una toalla limp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tilizar  una o dos veces, según lo recomendado por el méd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2295360"/>
            <a:ext cx="2664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fectos Secundar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cción alérgic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urticaria, picazón, sarpullido, opresión en el pecho, dificultad para respirar, inflamación de los labios, lengua o gargant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rio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nfórmele de inmediato a su profesional médico): Irritación o sarpullidos severos que se notan después de empezar a usar el medicamento, ar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tr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iel seca, piel que se pela, pinchazos, enrojecimiento, picazón, irritación, piel que arde o quema, enrojecimiento, quemadura de s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376720" cy="1741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443640" y="4437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PU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Interacción Medicamento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ando este medicamento se toma en conjunto con otros, puede cambiar la manera en que funciona éste o cualquiera de los otros medica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mbién podría producirse una interacción entre este medicamento y medicamentos de venta libre, vitaminas, remedios naturales y ciertos al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1:53:23Z</dcterms:created>
  <dc:creator>Personal</dc:creator>
  <dc:description/>
  <dc:language>en-US</dc:language>
  <cp:lastModifiedBy>usuario</cp:lastModifiedBy>
  <dcterms:modified xsi:type="dcterms:W3CDTF">2007-12-17T11:57:51Z</dcterms:modified>
  <cp:revision>7</cp:revision>
  <dc:subject/>
  <dc:title>Diapositiva 1</dc:title>
</cp:coreProperties>
</file>