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8.jpeg" ContentType="image/jpeg"/>
  <Override PartName="/ppt/media/image5.jpeg" ContentType="image/jpeg"/>
  <Override PartName="/ppt/media/image4.png" ContentType="image/png"/>
  <Override PartName="/ppt/media/image12.wmf" ContentType="image/x-wmf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dt" idx="4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ftr" idx="4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 type="sldNum" idx="4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5690-C4AE-4D1A-B3EA-23F0DBFF90D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9F70-9DD3-4361-8ED3-54826FC6AD32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B06A-CA84-4DFD-BE59-4952AC2A74D6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B263-20B0-42EC-9449-265722199583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4DE3-8BCE-4FEC-9DCB-245B5CF50A66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292A-EFEB-4F2E-8F4F-65F881B77D3D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64B1-FB27-4BA2-8A94-21F2B1C04747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1D82-35F1-4D52-8777-8C05AFA5D541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7B33-0B98-44C8-8481-A3EEFE59C8DD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33F6-CF01-4688-AEB9-3F70610666BA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7B0D-663A-4260-A873-E7366BFB91D4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4757-B9E0-42F8-8BED-608205527063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B4DE-FD7E-49D4-8749-9E5BAC92C385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1D06-533B-47F2-9ECE-317C035ED084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0E04-D2EF-48DD-80E7-8F8534642BA5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A167-0352-4C66-AD7A-8DE925637E05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CFAE-6921-42DF-8316-CC2A476E1A5D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4194-70C9-4B1D-A22A-710A21F7E4C7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0A3F-50C3-4A06-BADF-83E0C0F11A9C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6372-0501-4E99-A889-A190E4A03637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627F-3095-4835-8268-8B2D02296D86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D332-C583-4929-82DF-28A876F182C2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55F3-0846-42A9-B068-27050EC9E124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EA82-F2D2-46FB-A887-0E641889F66D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032C-F3FB-4463-82C5-B92514E37280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C63D-0542-4A42-8AAE-1AC8FD7D4337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CDF4-25EB-4F4A-B269-F4117183B0CF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6AF0-1D40-46BA-8EF6-65C9831E9C1B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7937-C198-45CA-AF08-622649238603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E0F0-E90C-402E-B156-ED22797F5362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F8AA-6F10-470D-BE7A-42E55856AB52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F768-1661-4EA6-946D-A1FCCC92E70D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CC1F-B11B-4B3F-84F7-272F70AC1439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31AB-C236-4C26-AABB-BBA3843E46A0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5406-C8EC-448C-AD33-E2B5C92746F7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13F0-8EB1-45E6-B530-5F06637D2B94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871A-2E8F-4803-A94A-B98C2A9370B1}" type="slidenum">
              <a:rPr b="0" lang="es-ES" sz="12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8AF8-67B9-4562-90F3-CD07C5B5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4D08-4663-4229-A717-6B5EE8D6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730ED-AF7C-4650-8050-83152CAE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C73CA-BE1C-49BE-BEB3-EFFD8693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71C99-CBC7-4375-98F3-6EDFC11C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8B041-6462-43A2-BB50-D1B4A5D9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5BB2C-E2CA-485C-B636-19A79EC5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ED341-119F-4E81-96E4-E9E6CB37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9B5C4-BBE0-42A3-BC78-C301583D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9F87D-8148-4DFA-8B9F-F88B7458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6B53D-7102-468B-ADFB-C206DF1E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E0169-45AD-42AA-BC0F-DA5FA72D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9E7D-136F-4115-94AA-A8980632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B0952-401F-4B1D-B490-201B94D1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0B6B8-33C8-4817-ACDA-E0BAACCE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3ADAA-4C9B-44B7-A098-44DDD021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A3E4F-670D-4E04-B0F8-22DB342B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56FA7-3628-498B-9F6D-4AFF67D8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00F2E-964C-415F-A4AE-FBAB9909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0308E-FF8B-448A-9EBC-2A4D575E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B68D7-69E3-43BA-877E-ACFD9A38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7FE71-8226-4ACD-BB86-DC058213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8B655-76F2-4748-8B8A-22D072C0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A2ED-98EF-4FCB-BC8D-4B6A48C4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C8256-71BF-4DAB-928D-87BCBE86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4793F-9F41-4796-B5D9-98F9010C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5EF95-1568-4642-856C-EDA6B552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4C463-B320-4731-BFD6-0BE4C8EC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A027D-4E9E-48D2-9E11-3118FB64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708DC-7BD3-4770-944F-5FF5ACA8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356F1-683D-44B0-B426-15AFBE1E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B516A-ADA3-4D87-AB06-327C2583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E8187-D904-4E75-9D28-1DCEEBB6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210E6-1122-4929-AA24-C6F04635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8515-DFF6-451E-A7FB-7CC88140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5BE98-583D-4463-A544-26989E76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1B657-A093-42CF-BCAC-B54DB068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9F945-6815-4967-9E95-550B6F59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36C05-797C-4AB0-A683-174876D6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6C85D-FCFF-47F7-A9AD-7BF5CB69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A35FF-81C5-4975-A568-9B5D037A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7263C-CC59-4582-B3AD-7F29C0BA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46280-AD85-4AD5-B58C-57A3B877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45343-5C1F-4E2B-A309-69E38520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8D9C5-D9BF-40EA-B1D6-DC9513E4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3367-47F4-49D4-A292-457AA3B6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31E66-A9DE-4704-990A-E15ED9C2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CA999-FA41-40EB-9349-5C900341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6DD6B-2311-43C0-87AC-58429D92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5A133-FF6E-4676-A45A-0B739AE6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1EDB9-96DC-49D7-B525-DC220DC4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DD3CC9-8BA5-4477-98FF-3392E701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EB9670-FF17-4CEB-A346-F46F97F6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EBCFA6-52B7-440C-B69F-B2090A58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B9900D-0051-4D9A-AFC8-2FD21100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12E8D1-E3C1-449E-8D01-5938AB28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D9FE-EDD4-4BAA-9FCD-B5E66F6F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58F759-5171-459E-A022-672C0DCE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9BF35B-8BA4-4AA4-9D16-CBDBB3FE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4112A5-AA5C-4A6D-A3B8-64EC27D8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C4E600-1C98-47DD-950A-421BDB73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C62AB1-E207-488A-BF2B-2959BFFE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37E4AB-EEB0-4699-99B2-B4F89819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5C0137-241D-4732-96CB-A9F4266E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F69D0F-B417-444D-9604-95785620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1E56AE-CEB7-4511-B6D6-9D6017ED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252FC5-1381-4A62-BAFC-5DBDD746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DBE3-1AB6-44B9-B2BC-90ACE83F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46152E-098C-4975-A7B3-D0A6424B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1CE7D5-BB0C-4FE2-AD4B-09A62DE3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2C7F86-61CD-46E6-817B-87A9A9A0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AF029B-A8A6-4318-B619-A4261292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6C5175-89EE-4F4B-B4C4-CBA7D75D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52C258-9B34-4239-88B6-BF909684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F783AF-8BDF-41DC-B2C9-6E46E451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967135-27F4-4EE8-A0BB-D4DE0577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7935A5-E23B-4657-A412-6FA64DD1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126379-2A0E-4ABD-BE8B-21011AFC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2028-2B28-4F50-BB31-C359DD50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874B36-5314-41E5-A644-01CA95B5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61AD1E-9FFA-4A63-814C-7A0459F4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849EBE-9C85-4D58-89DA-685853A0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D4787A-7FC8-49F6-80DC-C945A623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78F30F-CF83-4D93-BE25-456D931A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410F85-D27F-4308-8E70-BC153BE8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D21219-8C65-4ACA-B0E3-8F873B9C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7D39FA-D271-48EC-A5E0-32A43EBB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1ECE40-D97C-4C97-B4A5-5E4EC1D4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B1E3BB-B273-4C29-90EA-23B61D58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7CAD-8D84-4827-AAC6-007ABB84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A7FD6E-DFB3-499D-86B0-9385448E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BD79-2BBE-4DEF-A249-6AFC3C70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49F9-ABAC-4E3C-B201-777C1E4E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C788-917D-47B5-BBED-87CA0CE4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A8AA-BEC9-4EB1-98FA-B312C15F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580C-5BFE-4050-885E-06AD9347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FA45-972C-4495-B759-C7720137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2BB7-F31E-4F4C-AD6E-41BA63EA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8F302-C2EE-47D5-B13C-2CE73B39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0B2B3-9956-4399-A1E4-F7D12646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A90CD-F435-497A-970C-7BADFAA0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BD9B2-8607-4E1E-88FB-EB4EEE42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13539-6A11-4A13-9165-FF937391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DB1-DD7B-4626-BAD0-E4364C08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88153-81B8-4B63-AC40-27AB90C6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47DF8-B3A9-4003-A8E1-3D29DF05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BA2D1-EF26-47F3-B551-00FB3E7F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6FA41-DA0D-4B73-AE42-9F4D7F7F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205C0-A974-4C7D-A81A-A86F3F48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2A40C-54E4-45EF-83FB-5B001851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DAA69-DF34-4871-9576-A5B79035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D6515-541D-42B8-BABC-F8A04978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31407-0117-4391-9976-7A69177F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DB132-1D29-4F5F-8568-FEF5EFFE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BF0F-C051-49F4-A6FE-CBBE934B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B674B-9A6D-4710-B24E-46EEF33E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116EE-8FB8-44A8-8D1C-AB760B05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CF9CB-A164-479C-99E5-F0619044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CBD8C-1350-4D38-8169-31C3391B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8DEFE-6AD6-416E-8FA8-594E6958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FCA13-06FE-44FA-8847-6C9932AA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3ECA9-2B2F-4626-9456-50A351C6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267EB-7DC1-4D89-A181-217EC30C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BFEF4-15CC-4C7C-98F1-A2A73FFF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853FD-6F97-4151-BF92-2A312F5C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01EF-F907-4B31-B12C-82B94AA0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A0838-2DC2-4C01-BB4D-1DE5D767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82C9C-FFE5-40BF-9272-DB88164E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16049-99F4-4C53-A1C2-E8ABBE22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7EE7B-148E-4635-B3E3-8C140A4B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210D7-54AD-4639-B596-E87FD39D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B705F-837A-46A0-B932-7FBAF9C3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AD7C4-2C81-440D-A165-48D43F26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5071F-3FD9-4CEE-8648-01C66ABF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22FFC-6A1D-41FC-9AF2-6C65A9D8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3429D-C51C-41A4-83B9-AC8B11D5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C9EE-9E1A-46DC-8935-6F0CAC82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C2DD0-9A66-4C3A-9488-95108BD9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25FDC-A1C5-4CFF-90BB-06542967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59A40-D43B-49E3-9C90-CFB827CF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BB24D-E044-4D4E-B634-A6ACE083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EACC0-3AA8-48E8-9BFD-917925C2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9AA95-7EA2-4BE5-A595-9B72DB30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4C792-E4BD-4140-A1AC-B9E02887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F31EE-AC52-4A30-9850-9482235F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19D81-F5D5-4E2E-AAAE-0596BC66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66C54-54EB-48F0-A7A1-43639728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B560-301F-4F89-B270-D7C6119B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E280D-EDBF-496A-8F2B-06744A77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39EA1-9657-4E91-AFF1-3178C2C1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2D2F4-F9D6-4105-9D73-18E48ED3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22D43-DE4C-4422-A6CA-050E695B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3AE66-D69C-46B2-A721-F7883BE8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EC9B3-E0B3-4EAA-B4E0-7576F59D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C648B-51E2-468B-9E06-6F5ADC90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8390C-D850-4CEF-9FC0-ED4370EA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03019-C1DB-46AB-829B-AE6BE150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E5E70-FF40-45A6-B5B7-161A3D37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237A-4B48-426B-9004-0548D90E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6192C-3421-434A-ADCE-7759D9BD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3A599-DEFE-4FBC-AF96-996C871E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C3A95-0C14-4387-9664-CC0BA94A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25173-9BDE-4669-977A-ACADBDAF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E6F55-0D7E-4414-A271-962BA491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60DC9-10D7-404B-A0A4-CAACF3EB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0CD98-AE4C-4B84-B6D2-FE91CB02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FA516-386C-4C3C-A980-F3CFF993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0592C-BC62-45C3-95F5-5884C9C9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06A53-00BC-4107-B38C-B6498967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FE8D-4C4D-49EC-8785-C151BE1A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25BB1-7634-4487-8F1D-9FF81472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FAD35-FA1B-4CB5-B8C1-52E9EE80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1EAA3-5D5B-44EA-9E8E-DE9E483C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5B668-8B41-416C-A2E2-A178EBF2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DA895-D2DC-480E-BAF8-FA16DBED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34055-4DE9-4FAF-9081-50D7FE40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C7DB1-7487-484A-9371-6C0D88DF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68E36-C0D2-436C-A1E5-027DAEA7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E885E-DC7B-4E42-97AB-61AC4E0F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2454C-ECF4-4204-8341-6BD01839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F7E3-A449-4849-B638-BAF601BF1AA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2AC1-D4F1-46EE-AF68-1AA33FA8FDE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4732-F4F5-454B-9651-65132406A48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08CB-7046-46B3-A2D9-D18C9E6C1F4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7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6911-C427-4F36-AF1B-AC9CC0EA9A7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81E0-4EB5-4988-9912-E224B527D90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43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4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5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BFF5-6741-4936-ABFC-DBB4B7015D4F}" type="slidenum">
              <a:rPr b="0" lang="es-E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4AA4-A6D5-495F-8189-D1FAF87CB2B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7992-8F0B-4260-97D9-3880CFC948B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872E-77DC-4473-8CDA-CAA5D1DD555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05AE-761E-4E4D-8D91-D0EEE3EC4DB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D665-B918-4787-929F-A8E30190046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27AD-5423-4BFF-A1EE-6B58FEF6695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982D-123A-434D-BA8D-C30C7B25AA4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7303-37D9-4C67-8AEA-660CEC227C4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755280" y="1604520"/>
            <a:ext cx="7620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  <a:ea typeface="Arial"/>
              </a:rPr>
              <a:t>Sistemas de Regulación y Control</a:t>
            </a:r>
            <a:endParaRPr b="0" lang="en-US" sz="4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1026"/>
          <p:cNvSpPr/>
          <p:nvPr/>
        </p:nvSpPr>
        <p:spPr>
          <a:xfrm>
            <a:off x="468360" y="2924280"/>
            <a:ext cx="403236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Garamond"/>
              </a:rPr>
              <a:t>Señales: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Garamond"/>
              </a:rPr>
              <a:t> </a:t>
            </a:r>
            <a:r>
              <a:rPr b="1" lang="es-ES" sz="2400" spc="-1" strike="noStrike">
                <a:solidFill>
                  <a:srgbClr val="4d4d4d"/>
                </a:solidFill>
                <a:latin typeface="Garamond"/>
              </a:rPr>
              <a:t>y</a:t>
            </a:r>
            <a:r>
              <a:rPr b="0" lang="es-ES" sz="2400" spc="-1" strike="noStrike">
                <a:solidFill>
                  <a:srgbClr val="4d4d4d"/>
                </a:solidFill>
                <a:latin typeface="Garamond"/>
              </a:rPr>
              <a:t>: señal de salida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Garamond"/>
              </a:rPr>
              <a:t> </a:t>
            </a:r>
            <a:r>
              <a:rPr b="1" lang="es-ES" sz="2400" spc="-1" strike="noStrike">
                <a:solidFill>
                  <a:srgbClr val="4d4d4d"/>
                </a:solidFill>
                <a:latin typeface="Garamond"/>
              </a:rPr>
              <a:t>r</a:t>
            </a:r>
            <a:r>
              <a:rPr b="0" lang="es-ES" sz="2400" spc="-1" strike="noStrike">
                <a:solidFill>
                  <a:srgbClr val="4d4d4d"/>
                </a:solidFill>
                <a:latin typeface="Garamond"/>
              </a:rPr>
              <a:t>: señal de referenci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Garamond"/>
              </a:rPr>
              <a:t> </a:t>
            </a:r>
            <a:r>
              <a:rPr b="1" lang="es-ES" sz="2400" spc="-1" strike="noStrike">
                <a:solidFill>
                  <a:srgbClr val="4d4d4d"/>
                </a:solidFill>
                <a:latin typeface="Garamond"/>
              </a:rPr>
              <a:t>e</a:t>
            </a:r>
            <a:r>
              <a:rPr b="0" lang="es-ES" sz="2400" spc="-1" strike="noStrike">
                <a:solidFill>
                  <a:srgbClr val="4d4d4d"/>
                </a:solidFill>
                <a:latin typeface="Garamond"/>
              </a:rPr>
              <a:t>: señal de error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Garamond"/>
              </a:rPr>
              <a:t> </a:t>
            </a:r>
            <a:r>
              <a:rPr b="1" lang="es-ES" sz="2400" spc="-1" strike="noStrike">
                <a:solidFill>
                  <a:srgbClr val="4d4d4d"/>
                </a:solidFill>
                <a:latin typeface="Garamond"/>
              </a:rPr>
              <a:t>v</a:t>
            </a:r>
            <a:r>
              <a:rPr b="0" lang="es-ES" sz="2400" spc="-1" strike="noStrike">
                <a:solidFill>
                  <a:srgbClr val="4d4d4d"/>
                </a:solidFill>
                <a:latin typeface="Garamond"/>
              </a:rPr>
              <a:t>: señal de realimentación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4604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4d4d4d"/>
                </a:solidFill>
                <a:latin typeface="Tahoma"/>
              </a:rPr>
              <a:t>D</a:t>
            </a: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iagramas de Bloques</a:t>
            </a:r>
            <a:r>
              <a:rPr b="0" lang="es-ES" sz="4200" spc="-1" strike="noStrike">
                <a:solidFill>
                  <a:srgbClr val="4d4d4d"/>
                </a:solidFill>
                <a:latin typeface="Tahoma"/>
              </a:rPr>
              <a:t>: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Object 1028"/>
              <p:cNvSpPr txBox="1"/>
              <p:nvPr/>
            </p:nvSpPr>
            <p:spPr>
              <a:xfrm>
                <a:off x="2046240" y="4691160"/>
                <a:ext cx="11448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55" name="Picture 1029" descr="c3bloqbas"/>
          <p:cNvPicPr/>
          <p:nvPr/>
        </p:nvPicPr>
        <p:blipFill>
          <a:blip r:embed="rId1"/>
          <a:stretch/>
        </p:blipFill>
        <p:spPr>
          <a:xfrm>
            <a:off x="1979640" y="981000"/>
            <a:ext cx="5564160" cy="1995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6" name="Object 1030"/>
              <p:cNvSpPr txBox="1"/>
              <p:nvPr/>
            </p:nvSpPr>
            <p:spPr>
              <a:xfrm>
                <a:off x="5292720" y="4897440"/>
                <a:ext cx="18050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7" name="Text Box 1031"/>
          <p:cNvSpPr/>
          <p:nvPr/>
        </p:nvSpPr>
        <p:spPr>
          <a:xfrm>
            <a:off x="3995640" y="2924280"/>
            <a:ext cx="46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Garamond"/>
              </a:rPr>
              <a:t>Funciones de Transferencia: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Garamond"/>
              </a:rPr>
              <a:t> </a:t>
            </a:r>
            <a:r>
              <a:rPr b="1" lang="es-ES" sz="2400" spc="-1" strike="noStrike">
                <a:solidFill>
                  <a:srgbClr val="4d4d4d"/>
                </a:solidFill>
                <a:latin typeface="Garamond"/>
              </a:rPr>
              <a:t>G</a:t>
            </a:r>
            <a:r>
              <a:rPr b="0" lang="es-ES" sz="2400" spc="-1" strike="noStrike">
                <a:solidFill>
                  <a:srgbClr val="4d4d4d"/>
                </a:solidFill>
                <a:latin typeface="Garamond"/>
              </a:rPr>
              <a:t>: ganancia directa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Garamond"/>
              </a:rPr>
              <a:t> </a:t>
            </a:r>
            <a:r>
              <a:rPr b="1" lang="es-ES" sz="2400" spc="-1" strike="noStrike">
                <a:solidFill>
                  <a:srgbClr val="4d4d4d"/>
                </a:solidFill>
                <a:latin typeface="Garamond"/>
              </a:rPr>
              <a:t>H</a:t>
            </a:r>
            <a:r>
              <a:rPr b="0" lang="es-ES" sz="2400" spc="-1" strike="noStrike">
                <a:solidFill>
                  <a:srgbClr val="4d4d4d"/>
                </a:solidFill>
                <a:latin typeface="Garamond"/>
              </a:rPr>
              <a:t>: ganancia de realimentación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Garamond"/>
              </a:rPr>
              <a:t> </a:t>
            </a:r>
            <a:r>
              <a:rPr b="1" lang="es-ES" sz="2400" spc="-1" strike="noStrike">
                <a:solidFill>
                  <a:srgbClr val="4d4d4d"/>
                </a:solidFill>
                <a:latin typeface="Garamond"/>
              </a:rPr>
              <a:t>GH</a:t>
            </a:r>
            <a:r>
              <a:rPr b="0" lang="es-ES" sz="2400" spc="-1" strike="noStrike">
                <a:solidFill>
                  <a:srgbClr val="4d4d4d"/>
                </a:solidFill>
                <a:latin typeface="Garamond"/>
              </a:rPr>
              <a:t>: ganancia de laz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Garamond"/>
              </a:rPr>
              <a:t> </a:t>
            </a:r>
            <a:r>
              <a:rPr b="1" lang="es-ES" sz="2400" spc="-1" strike="noStrike">
                <a:solidFill>
                  <a:srgbClr val="4d4d4d"/>
                </a:solidFill>
                <a:latin typeface="Garamond"/>
              </a:rPr>
              <a:t>F</a:t>
            </a:r>
            <a:r>
              <a:rPr b="0" lang="es-ES" sz="2400" spc="-1" strike="noStrike">
                <a:solidFill>
                  <a:srgbClr val="4d4d4d"/>
                </a:solidFill>
                <a:latin typeface="Garamond"/>
              </a:rPr>
              <a:t>: ganancia de lazo cerrad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4d4d4d"/>
                </a:solidFill>
                <a:latin typeface="Verdana"/>
                <a:ea typeface="Times New Roman"/>
              </a:rPr>
              <a:t>Tipos de control,</a:t>
            </a:r>
            <a:r>
              <a:rPr b="0" lang="es-ES" sz="42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es-ES" sz="4200" spc="-1" strike="noStrike">
                <a:solidFill>
                  <a:srgbClr val="4d4d4d"/>
                </a:solidFill>
                <a:latin typeface="Verdana"/>
                <a:ea typeface="Times New Roman"/>
              </a:rPr>
              <a:t>atendiendo al circuito implementado</a:t>
            </a:r>
            <a:r>
              <a:rPr b="0" lang="es-ES" sz="42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Control manual: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 El operador aplica las correcciones que cree necesarias</a:t>
            </a:r>
            <a:r>
              <a:rPr b="0" lang="es-ES" sz="2600" spc="-1" strike="noStrike">
                <a:solidFill>
                  <a:srgbClr val="4d4d4d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Control automático: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 La acción de control se ejerce sin intervención del operador y su solución es cableada, es decir, rígida, no se puede modificar</a:t>
            </a:r>
            <a:r>
              <a:rPr b="0" lang="es-ES" sz="2600" spc="-1" strike="noStrike">
                <a:solidFill>
                  <a:srgbClr val="4d4d4d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Control programado: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 Realiza todas las labores del control automático, pero su solución es programada. Se puede modificar su proceso de operación o ley de control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4d4d4d"/>
                </a:solidFill>
                <a:latin typeface="Verdana"/>
                <a:ea typeface="Times New Roman"/>
              </a:rPr>
              <a:t>Tipos de control,</a:t>
            </a:r>
            <a:r>
              <a:rPr b="0" lang="es-ES" sz="42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es-ES" sz="4200" spc="-1" strike="noStrike">
                <a:solidFill>
                  <a:srgbClr val="4d4d4d"/>
                </a:solidFill>
                <a:latin typeface="Verdana"/>
                <a:ea typeface="Times New Roman"/>
              </a:rPr>
              <a:t>atendiendo al circuito implementado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661" name="Picture 3" descr="D:\Docencia\Diplomado de Ing\Figuras\control2.jpg"/>
          <p:cNvPicPr/>
          <p:nvPr/>
        </p:nvPicPr>
        <p:blipFill>
          <a:blip r:embed="rId1"/>
          <a:stretch/>
        </p:blipFill>
        <p:spPr>
          <a:xfrm>
            <a:off x="533520" y="1523880"/>
            <a:ext cx="4267080" cy="237816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D:\Docencia\Diplomado de Ing\Figuras\control1a.jpg"/>
          <p:cNvPicPr/>
          <p:nvPr/>
        </p:nvPicPr>
        <p:blipFill>
          <a:blip r:embed="rId2"/>
          <a:stretch/>
        </p:blipFill>
        <p:spPr>
          <a:xfrm>
            <a:off x="4952880" y="1523880"/>
            <a:ext cx="3886200" cy="23814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5" descr="D:\Docencia\Diplomado de Ing\Figuras\control1b.jpg"/>
          <p:cNvPicPr/>
          <p:nvPr/>
        </p:nvPicPr>
        <p:blipFill>
          <a:blip r:embed="rId3"/>
          <a:stretch/>
        </p:blipFill>
        <p:spPr>
          <a:xfrm>
            <a:off x="2362320" y="4038480"/>
            <a:ext cx="54100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Arial"/>
              </a:rPr>
              <a:t>Estructura de un</a:t>
            </a:r>
            <a:r>
              <a:rPr b="0" lang="es-MX" sz="4200" spc="-1" strike="noStrike">
                <a:solidFill>
                  <a:srgbClr val="4d4d4d"/>
                </a:solidFill>
                <a:latin typeface="Arial"/>
              </a:rPr>
              <a:t> sistema de control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Arial"/>
              </a:rPr>
              <a:t>Tenemos dos tipos de estructura diferente de lazo de control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Arial"/>
              </a:rPr>
              <a:t>S</a:t>
            </a:r>
            <a:r>
              <a:rPr b="0" lang="es-MX" sz="3000" spc="-1" strike="noStrike">
                <a:solidFill>
                  <a:srgbClr val="4d4d4d"/>
                </a:solidFill>
                <a:latin typeface="Arial"/>
              </a:rPr>
              <a:t>istemas de control en LAZO ABIERTO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Aquel en el que ni la salida ni otras variables del sistema tienen efecto sobre el control.</a:t>
            </a: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NO TIENE REALIMENTACIÓN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Arial"/>
              </a:rPr>
              <a:t>S</a:t>
            </a:r>
            <a:r>
              <a:rPr b="0" lang="es-MX" sz="3000" spc="-1" strike="noStrike">
                <a:solidFill>
                  <a:srgbClr val="4d4d4d"/>
                </a:solidFill>
                <a:latin typeface="Arial"/>
              </a:rPr>
              <a:t>istemas de control en LAZO CERRADO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En un sistema de control de lazo cerrado, la salida del sistema y otras variables, afectan el control del sistema.                            </a:t>
            </a: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TIENE REALIMENTACIÓN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Arial"/>
              </a:rPr>
              <a:t>S</a:t>
            </a:r>
            <a:r>
              <a:rPr b="0" lang="es-MX" sz="3600" spc="-1" strike="noStrike">
                <a:solidFill>
                  <a:srgbClr val="4d4d4d"/>
                </a:solidFill>
                <a:latin typeface="Arial"/>
              </a:rPr>
              <a:t>istemas de control de LAZO ABIERTO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Cualquier perturbación desestabiliza el sistema, y el control no tiene capacidad para responder a esta nueva situación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Ejemplo: el aire acondicionado de un coche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El sistema o la planta no se mide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El control no tiene información de cómo esta la salida (Planta)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668" name="Picture 1031" descr="\\Pc0\pascual\CURSOSFREMM\CursoSistRegyControl\LazoAbierto.bmp"/>
          <p:cNvPicPr/>
          <p:nvPr/>
        </p:nvPicPr>
        <p:blipFill>
          <a:blip r:embed="rId1"/>
          <a:stretch/>
        </p:blipFill>
        <p:spPr>
          <a:xfrm>
            <a:off x="0" y="4876920"/>
            <a:ext cx="914400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Arial"/>
              </a:rPr>
              <a:t>S</a:t>
            </a:r>
            <a:r>
              <a:rPr b="0" lang="es-MX" sz="3600" spc="-1" strike="noStrike">
                <a:solidFill>
                  <a:srgbClr val="4d4d4d"/>
                </a:solidFill>
                <a:latin typeface="Arial"/>
              </a:rPr>
              <a:t>istemas de control de LAZO CERRADO</a:t>
            </a:r>
            <a:br>
              <a:rPr sz="3600"/>
            </a:b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Una variación en la salida o en otra variable, se mide, y el controlador, modifica la señal de control, para que se estabilice, el sistema, ante la nueva situación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Ejemplo: el climatizador de un coche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El sistema o la planta se mide en todo moment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d4d4d"/>
                </a:solidFill>
                <a:latin typeface="Arial"/>
              </a:rPr>
              <a:t>El control tiene información de cómo esta la salida (Planta)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671" name="Picture 1033" descr="C:\Documents and Settings\1\Mis documentos\CURSOSFREMM\CursoSistRegyControl\LazoCerado.bmp"/>
          <p:cNvPicPr/>
          <p:nvPr/>
        </p:nvPicPr>
        <p:blipFill>
          <a:blip r:embed="rId1"/>
          <a:stretch/>
        </p:blipFill>
        <p:spPr>
          <a:xfrm>
            <a:off x="0" y="4299120"/>
            <a:ext cx="914400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rol de temperatura.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673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284640" cy="26305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"/>
          <p:cNvPicPr/>
          <p:nvPr/>
        </p:nvPicPr>
        <p:blipFill>
          <a:blip r:embed="rId2"/>
          <a:stretch/>
        </p:blipFill>
        <p:spPr>
          <a:xfrm>
            <a:off x="2971800" y="3830760"/>
            <a:ext cx="6019920" cy="279864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6"/>
          <p:cNvSpPr/>
          <p:nvPr/>
        </p:nvSpPr>
        <p:spPr>
          <a:xfrm>
            <a:off x="4114800" y="2286000"/>
            <a:ext cx="4800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Tahoma"/>
              </a:rPr>
              <a:t>Lazo abierto - No se mide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76" name="Text Box 7"/>
          <p:cNvSpPr/>
          <p:nvPr/>
        </p:nvSpPr>
        <p:spPr>
          <a:xfrm>
            <a:off x="609480" y="4419720"/>
            <a:ext cx="22100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Tahoma"/>
              </a:rPr>
              <a:t>Lazo cerrado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>
              <a:spcBef>
                <a:spcPts val="1874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Tahoma"/>
              </a:rPr>
              <a:t>Si se mide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d4d4d"/>
                </a:solidFill>
                <a:latin typeface="Tahoma"/>
              </a:rPr>
              <a:t>Elementos que componen un sistema de control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78" name="Rectangle 3"/>
          <p:cNvSpPr/>
          <p:nvPr/>
        </p:nvSpPr>
        <p:spPr>
          <a:xfrm>
            <a:off x="5721480" y="2368440"/>
            <a:ext cx="2273040" cy="1359000"/>
          </a:xfrm>
          <a:prstGeom prst="rect">
            <a:avLst/>
          </a:prstGeom>
          <a:solidFill>
            <a:srgbClr val="990099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79" name="AutoShape 4"/>
          <p:cNvSpPr/>
          <p:nvPr/>
        </p:nvSpPr>
        <p:spPr>
          <a:xfrm>
            <a:off x="8007480" y="2901960"/>
            <a:ext cx="1054080" cy="368280"/>
          </a:xfrm>
          <a:prstGeom prst="rightArrow">
            <a:avLst>
              <a:gd name="adj1" fmla="val 50000"/>
              <a:gd name="adj2" fmla="val 143122"/>
            </a:avLst>
          </a:prstGeom>
          <a:solidFill>
            <a:srgbClr val="990099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0" name="AutoShape 5"/>
          <p:cNvSpPr/>
          <p:nvPr/>
        </p:nvSpPr>
        <p:spPr>
          <a:xfrm>
            <a:off x="5111640" y="2901960"/>
            <a:ext cx="596880" cy="368280"/>
          </a:xfrm>
          <a:prstGeom prst="rightArrow">
            <a:avLst>
              <a:gd name="adj1" fmla="val 50000"/>
              <a:gd name="adj2" fmla="val 81044"/>
            </a:avLst>
          </a:prstGeom>
          <a:solidFill>
            <a:srgbClr val="990099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1" name="Rectangle 6"/>
          <p:cNvSpPr/>
          <p:nvPr/>
        </p:nvSpPr>
        <p:spPr>
          <a:xfrm>
            <a:off x="6233400" y="288144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7297920" y="1357200"/>
            <a:ext cx="1572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a  controlar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1225440" y="2749680"/>
            <a:ext cx="1594080" cy="749160"/>
          </a:xfrm>
          <a:prstGeom prst="rect">
            <a:avLst/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4" name="AutoShape 9"/>
          <p:cNvSpPr/>
          <p:nvPr/>
        </p:nvSpPr>
        <p:spPr>
          <a:xfrm>
            <a:off x="235080" y="2901960"/>
            <a:ext cx="825480" cy="444600"/>
          </a:xfrm>
          <a:prstGeom prst="rightArrow">
            <a:avLst>
              <a:gd name="adj1" fmla="val 50000"/>
              <a:gd name="adj2" fmla="val 92843"/>
            </a:avLst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5" name="AutoShape 10"/>
          <p:cNvSpPr/>
          <p:nvPr/>
        </p:nvSpPr>
        <p:spPr>
          <a:xfrm flipH="1" rot="16200000">
            <a:off x="7930080" y="3587760"/>
            <a:ext cx="978120" cy="368280"/>
          </a:xfrm>
          <a:prstGeom prst="rightArrow">
            <a:avLst>
              <a:gd name="adj1" fmla="val 50000"/>
              <a:gd name="adj2" fmla="val 132808"/>
            </a:avLst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6" name="Rectangle 11"/>
          <p:cNvSpPr/>
          <p:nvPr/>
        </p:nvSpPr>
        <p:spPr>
          <a:xfrm>
            <a:off x="1911240" y="4654440"/>
            <a:ext cx="5245200" cy="139680"/>
          </a:xfrm>
          <a:prstGeom prst="rect">
            <a:avLst/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7" name="AutoShape 12"/>
          <p:cNvSpPr/>
          <p:nvPr/>
        </p:nvSpPr>
        <p:spPr>
          <a:xfrm rot="16200000">
            <a:off x="1415880" y="3930480"/>
            <a:ext cx="1130400" cy="444600"/>
          </a:xfrm>
          <a:prstGeom prst="rightArrow">
            <a:avLst>
              <a:gd name="adj1" fmla="val 50000"/>
              <a:gd name="adj2" fmla="val 127137"/>
            </a:avLst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8" name="Rectangle 13"/>
          <p:cNvSpPr/>
          <p:nvPr/>
        </p:nvSpPr>
        <p:spPr>
          <a:xfrm>
            <a:off x="1217160" y="2895480"/>
            <a:ext cx="1656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olador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9" name="Rectangle 14"/>
          <p:cNvSpPr/>
          <p:nvPr/>
        </p:nvSpPr>
        <p:spPr>
          <a:xfrm>
            <a:off x="61560" y="3567240"/>
            <a:ext cx="1350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Valores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Deseado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0" name="Rectangle 15"/>
          <p:cNvSpPr/>
          <p:nvPr/>
        </p:nvSpPr>
        <p:spPr>
          <a:xfrm>
            <a:off x="3511440" y="2749680"/>
            <a:ext cx="1511280" cy="749160"/>
          </a:xfrm>
          <a:prstGeom prst="rect">
            <a:avLst/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1" name="Rectangle 16"/>
          <p:cNvSpPr/>
          <p:nvPr/>
        </p:nvSpPr>
        <p:spPr>
          <a:xfrm>
            <a:off x="7321680" y="4349880"/>
            <a:ext cx="1663560" cy="749160"/>
          </a:xfrm>
          <a:prstGeom prst="rect">
            <a:avLst/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2" name="AutoShape 17"/>
          <p:cNvSpPr/>
          <p:nvPr/>
        </p:nvSpPr>
        <p:spPr>
          <a:xfrm>
            <a:off x="2832120" y="2978280"/>
            <a:ext cx="596880" cy="368280"/>
          </a:xfrm>
          <a:prstGeom prst="rightArrow">
            <a:avLst>
              <a:gd name="adj1" fmla="val 50000"/>
              <a:gd name="adj2" fmla="val 81044"/>
            </a:avLst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3" name="Rectangle 18"/>
          <p:cNvSpPr/>
          <p:nvPr/>
        </p:nvSpPr>
        <p:spPr>
          <a:xfrm>
            <a:off x="3566160" y="2881440"/>
            <a:ext cx="1316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uador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4" name="Rectangle 19"/>
          <p:cNvSpPr/>
          <p:nvPr/>
        </p:nvSpPr>
        <p:spPr>
          <a:xfrm>
            <a:off x="7374960" y="4481640"/>
            <a:ext cx="1572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nsmisor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4784040" y="5014800"/>
            <a:ext cx="2241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Valores medido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6" name="Rectangle 21"/>
          <p:cNvSpPr/>
          <p:nvPr/>
        </p:nvSpPr>
        <p:spPr>
          <a:xfrm>
            <a:off x="3335400" y="1662120"/>
            <a:ext cx="1530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Variables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para actuar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1026"/>
          <p:cNvSpPr/>
          <p:nvPr/>
        </p:nvSpPr>
        <p:spPr>
          <a:xfrm>
            <a:off x="6781680" y="2666880"/>
            <a:ext cx="1406520" cy="838440"/>
          </a:xfrm>
          <a:prstGeom prst="rect">
            <a:avLst/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8" name="AutoShape 1027"/>
          <p:cNvSpPr/>
          <p:nvPr/>
        </p:nvSpPr>
        <p:spPr>
          <a:xfrm>
            <a:off x="8153280" y="2901960"/>
            <a:ext cx="838440" cy="368280"/>
          </a:xfrm>
          <a:prstGeom prst="rightArrow">
            <a:avLst>
              <a:gd name="adj1" fmla="val 50000"/>
              <a:gd name="adj2" fmla="val 113842"/>
            </a:avLst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9" name="AutoShape 1028"/>
          <p:cNvSpPr/>
          <p:nvPr/>
        </p:nvSpPr>
        <p:spPr>
          <a:xfrm>
            <a:off x="6324480" y="2895480"/>
            <a:ext cx="457200" cy="358920"/>
          </a:xfrm>
          <a:prstGeom prst="rightArrow">
            <a:avLst>
              <a:gd name="adj1" fmla="val 50000"/>
              <a:gd name="adj2" fmla="val 63697"/>
            </a:avLst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0" name="Rectangle 1029"/>
          <p:cNvSpPr/>
          <p:nvPr/>
        </p:nvSpPr>
        <p:spPr>
          <a:xfrm>
            <a:off x="6934320" y="2819520"/>
            <a:ext cx="1295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1" name="AutoShape 1030"/>
          <p:cNvSpPr/>
          <p:nvPr/>
        </p:nvSpPr>
        <p:spPr>
          <a:xfrm flipH="1" rot="16200000">
            <a:off x="7806240" y="3774960"/>
            <a:ext cx="1365120" cy="368280"/>
          </a:xfrm>
          <a:prstGeom prst="rightArrow">
            <a:avLst>
              <a:gd name="adj1" fmla="val 50000"/>
              <a:gd name="adj2" fmla="val 185354"/>
            </a:avLst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2" name="Rectangle 1031"/>
          <p:cNvSpPr/>
          <p:nvPr/>
        </p:nvSpPr>
        <p:spPr>
          <a:xfrm>
            <a:off x="1447920" y="4572000"/>
            <a:ext cx="7086600" cy="152280"/>
          </a:xfrm>
          <a:prstGeom prst="rect">
            <a:avLst/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3" name="AutoShape 1032"/>
          <p:cNvSpPr/>
          <p:nvPr/>
        </p:nvSpPr>
        <p:spPr>
          <a:xfrm rot="16200000">
            <a:off x="831960" y="3892680"/>
            <a:ext cx="1218960" cy="444240"/>
          </a:xfrm>
          <a:prstGeom prst="rightArrow">
            <a:avLst>
              <a:gd name="adj1" fmla="val 50000"/>
              <a:gd name="adj2" fmla="val 137209"/>
            </a:avLst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4" name="Rectangle 1037"/>
          <p:cNvSpPr/>
          <p:nvPr/>
        </p:nvSpPr>
        <p:spPr>
          <a:xfrm>
            <a:off x="2362320" y="4267080"/>
            <a:ext cx="5181480" cy="749520"/>
          </a:xfrm>
          <a:prstGeom prst="rect">
            <a:avLst/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5" name="Rectangle 1038"/>
          <p:cNvSpPr/>
          <p:nvPr/>
        </p:nvSpPr>
        <p:spPr>
          <a:xfrm>
            <a:off x="2362320" y="4422600"/>
            <a:ext cx="1600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nsmisor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6" name="Rectangle 1039"/>
          <p:cNvSpPr/>
          <p:nvPr/>
        </p:nvSpPr>
        <p:spPr>
          <a:xfrm>
            <a:off x="6103800" y="5003640"/>
            <a:ext cx="3040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Medida 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olad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oled Variable 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s Variabl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V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ida (del proceso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7" name="Rectangle 1040"/>
          <p:cNvSpPr/>
          <p:nvPr/>
        </p:nvSpPr>
        <p:spPr>
          <a:xfrm>
            <a:off x="455400" y="1905120"/>
            <a:ext cx="1656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olador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8" name="Rectangle 1041"/>
          <p:cNvSpPr/>
          <p:nvPr/>
        </p:nvSpPr>
        <p:spPr>
          <a:xfrm>
            <a:off x="-2880" y="4038480"/>
            <a:ext cx="15044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t Point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ferenci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ign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9" name="Rectangle 1042"/>
          <p:cNvSpPr/>
          <p:nvPr/>
        </p:nvSpPr>
        <p:spPr>
          <a:xfrm>
            <a:off x="5029200" y="380880"/>
            <a:ext cx="18273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manipulad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ipulated Variabl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V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0" name="Rectangle 1043"/>
          <p:cNvSpPr/>
          <p:nvPr/>
        </p:nvSpPr>
        <p:spPr>
          <a:xfrm>
            <a:off x="6782760" y="1905120"/>
            <a:ext cx="62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V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1" name="Rectangle 1044"/>
          <p:cNvSpPr/>
          <p:nvPr/>
        </p:nvSpPr>
        <p:spPr>
          <a:xfrm>
            <a:off x="6245280" y="2365200"/>
            <a:ext cx="765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V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2" name="Rectangle 1045"/>
          <p:cNvSpPr/>
          <p:nvPr/>
        </p:nvSpPr>
        <p:spPr>
          <a:xfrm>
            <a:off x="1827360" y="3429000"/>
            <a:ext cx="130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Error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3" name="Rectangle 1046"/>
          <p:cNvSpPr/>
          <p:nvPr/>
        </p:nvSpPr>
        <p:spPr>
          <a:xfrm>
            <a:off x="8153640" y="2362320"/>
            <a:ext cx="663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V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4" name="Rectangle 1047"/>
          <p:cNvSpPr/>
          <p:nvPr/>
        </p:nvSpPr>
        <p:spPr>
          <a:xfrm>
            <a:off x="7772760" y="3657600"/>
            <a:ext cx="586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V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5" name="AutoShape 1048"/>
          <p:cNvSpPr/>
          <p:nvPr/>
        </p:nvSpPr>
        <p:spPr>
          <a:xfrm flipH="1" rot="16200000">
            <a:off x="7280640" y="2020680"/>
            <a:ext cx="682560" cy="451080"/>
          </a:xfrm>
          <a:prstGeom prst="rightArrow">
            <a:avLst>
              <a:gd name="adj1" fmla="val 75000"/>
              <a:gd name="adj2" fmla="val 75665"/>
            </a:avLst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6" name="Rectangle 1049"/>
          <p:cNvSpPr/>
          <p:nvPr/>
        </p:nvSpPr>
        <p:spPr>
          <a:xfrm>
            <a:off x="7086600" y="685800"/>
            <a:ext cx="20574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turbacione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viation Variables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V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7" name="Rectangle 1050"/>
          <p:cNvSpPr/>
          <p:nvPr/>
        </p:nvSpPr>
        <p:spPr>
          <a:xfrm>
            <a:off x="0" y="6251400"/>
            <a:ext cx="601992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ementos que componen un sistema de control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8" name="Rectangle 1055"/>
          <p:cNvSpPr/>
          <p:nvPr/>
        </p:nvSpPr>
        <p:spPr>
          <a:xfrm>
            <a:off x="5105520" y="2743200"/>
            <a:ext cx="1218960" cy="749160"/>
          </a:xfrm>
          <a:prstGeom prst="rect">
            <a:avLst/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9" name="Rectangle 1056"/>
          <p:cNvSpPr/>
          <p:nvPr/>
        </p:nvSpPr>
        <p:spPr>
          <a:xfrm>
            <a:off x="6019920" y="4191120"/>
            <a:ext cx="1697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nsor 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. primari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0" name="Rectangle 1057"/>
          <p:cNvSpPr/>
          <p:nvPr/>
        </p:nvSpPr>
        <p:spPr>
          <a:xfrm>
            <a:off x="3200400" y="5638680"/>
            <a:ext cx="2529000" cy="454680"/>
          </a:xfrm>
          <a:prstGeom prst="rect">
            <a:avLst/>
          </a:prstGeom>
          <a:noFill/>
          <a:ln w="12600">
            <a:solidFill>
              <a:srgbClr val="4d4d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stema de medid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1" name="AutoShape 1060"/>
          <p:cNvSpPr/>
          <p:nvPr/>
        </p:nvSpPr>
        <p:spPr>
          <a:xfrm>
            <a:off x="4648320" y="2971800"/>
            <a:ext cx="492120" cy="358920"/>
          </a:xfrm>
          <a:prstGeom prst="rightArrow">
            <a:avLst>
              <a:gd name="adj1" fmla="val 50000"/>
              <a:gd name="adj2" fmla="val 68562"/>
            </a:avLst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2" name="AutoShape 1062"/>
          <p:cNvSpPr/>
          <p:nvPr/>
        </p:nvSpPr>
        <p:spPr>
          <a:xfrm>
            <a:off x="1143000" y="2895480"/>
            <a:ext cx="609480" cy="609840"/>
          </a:xfrm>
          <a:prstGeom prst="flowChartSummingJunction">
            <a:avLst/>
          </a:prstGeom>
          <a:solidFill>
            <a:srgbClr val="ffcc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3" name="Rectangle 1064"/>
          <p:cNvSpPr/>
          <p:nvPr/>
        </p:nvSpPr>
        <p:spPr>
          <a:xfrm>
            <a:off x="5181480" y="2895480"/>
            <a:ext cx="121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tuador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4" name="AutoShape 1065"/>
          <p:cNvSpPr/>
          <p:nvPr/>
        </p:nvSpPr>
        <p:spPr>
          <a:xfrm>
            <a:off x="304920" y="2917800"/>
            <a:ext cx="838080" cy="434880"/>
          </a:xfrm>
          <a:prstGeom prst="rightArrow">
            <a:avLst>
              <a:gd name="adj1" fmla="val 50000"/>
              <a:gd name="adj2" fmla="val 96366"/>
            </a:avLst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5" name="Line 1066"/>
          <p:cNvSpPr/>
          <p:nvPr/>
        </p:nvSpPr>
        <p:spPr>
          <a:xfrm>
            <a:off x="6019920" y="4267080"/>
            <a:ext cx="0" cy="76212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6" name="AutoShape 1067"/>
          <p:cNvSpPr/>
          <p:nvPr/>
        </p:nvSpPr>
        <p:spPr>
          <a:xfrm>
            <a:off x="1752480" y="2971800"/>
            <a:ext cx="533520" cy="358920"/>
          </a:xfrm>
          <a:prstGeom prst="rightArrow">
            <a:avLst>
              <a:gd name="adj1" fmla="val 50000"/>
              <a:gd name="adj2" fmla="val 74329"/>
            </a:avLst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7" name="Rectangle 1068"/>
          <p:cNvSpPr/>
          <p:nvPr/>
        </p:nvSpPr>
        <p:spPr>
          <a:xfrm>
            <a:off x="2286000" y="2819520"/>
            <a:ext cx="1143000" cy="596880"/>
          </a:xfrm>
          <a:prstGeom prst="rect">
            <a:avLst/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8" name="Rectangle 1069"/>
          <p:cNvSpPr/>
          <p:nvPr/>
        </p:nvSpPr>
        <p:spPr>
          <a:xfrm>
            <a:off x="2209680" y="2895480"/>
            <a:ext cx="1295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ulador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9" name="Rectangle 1070"/>
          <p:cNvSpPr/>
          <p:nvPr/>
        </p:nvSpPr>
        <p:spPr>
          <a:xfrm>
            <a:off x="685800" y="2438280"/>
            <a:ext cx="1523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mparador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0" name="AutoShape 1072"/>
          <p:cNvSpPr/>
          <p:nvPr/>
        </p:nvSpPr>
        <p:spPr>
          <a:xfrm>
            <a:off x="3470400" y="2971800"/>
            <a:ext cx="492120" cy="358920"/>
          </a:xfrm>
          <a:prstGeom prst="rightArrow">
            <a:avLst>
              <a:gd name="adj1" fmla="val 50000"/>
              <a:gd name="adj2" fmla="val 68562"/>
            </a:avLst>
          </a:prstGeom>
          <a:solidFill>
            <a:srgbClr val="ffcc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1" name="AutoShape 1077"/>
          <p:cNvSpPr/>
          <p:nvPr/>
        </p:nvSpPr>
        <p:spPr>
          <a:xfrm rot="5400000">
            <a:off x="3924000" y="2781360"/>
            <a:ext cx="762120" cy="6858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2" name="Rectangle 1078"/>
          <p:cNvSpPr/>
          <p:nvPr/>
        </p:nvSpPr>
        <p:spPr>
          <a:xfrm>
            <a:off x="3657600" y="3581280"/>
            <a:ext cx="1676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mplificador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3" name="Line 1079"/>
          <p:cNvSpPr/>
          <p:nvPr/>
        </p:nvSpPr>
        <p:spPr>
          <a:xfrm flipV="1">
            <a:off x="4952880" y="5105160"/>
            <a:ext cx="30492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4" name="Rectangle 1081"/>
          <p:cNvSpPr/>
          <p:nvPr/>
        </p:nvSpPr>
        <p:spPr>
          <a:xfrm>
            <a:off x="609480" y="2438280"/>
            <a:ext cx="2895840" cy="1524240"/>
          </a:xfrm>
          <a:prstGeom prst="rect">
            <a:avLst/>
          </a:prstGeom>
          <a:noFill/>
          <a:ln w="3168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5" name="Rectangle 1086"/>
          <p:cNvSpPr/>
          <p:nvPr/>
        </p:nvSpPr>
        <p:spPr>
          <a:xfrm>
            <a:off x="1676520" y="4114800"/>
            <a:ext cx="586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V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6" name="Rectangle 1087"/>
          <p:cNvSpPr/>
          <p:nvPr/>
        </p:nvSpPr>
        <p:spPr>
          <a:xfrm>
            <a:off x="0" y="2514600"/>
            <a:ext cx="53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7" name="Rectangle 1088"/>
          <p:cNvSpPr/>
          <p:nvPr/>
        </p:nvSpPr>
        <p:spPr>
          <a:xfrm>
            <a:off x="1293480" y="228600"/>
            <a:ext cx="2045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ñal o Acción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Control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8" name="Line 1090"/>
          <p:cNvSpPr/>
          <p:nvPr/>
        </p:nvSpPr>
        <p:spPr>
          <a:xfrm>
            <a:off x="2895480" y="685800"/>
            <a:ext cx="838440" cy="220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9" name="Rectangle 1091"/>
          <p:cNvSpPr/>
          <p:nvPr/>
        </p:nvSpPr>
        <p:spPr>
          <a:xfrm>
            <a:off x="3653280" y="1981080"/>
            <a:ext cx="246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ñal Amplificad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0" name="Line 1092"/>
          <p:cNvSpPr/>
          <p:nvPr/>
        </p:nvSpPr>
        <p:spPr>
          <a:xfrm>
            <a:off x="4800600" y="2438280"/>
            <a:ext cx="0" cy="457200"/>
          </a:xfrm>
          <a:prstGeom prst="line">
            <a:avLst/>
          </a:prstGeom>
          <a:ln w="255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1" name="Line 1093"/>
          <p:cNvSpPr/>
          <p:nvPr/>
        </p:nvSpPr>
        <p:spPr>
          <a:xfrm>
            <a:off x="4038480" y="4267080"/>
            <a:ext cx="0" cy="76212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2" name="Rectangle 1094"/>
          <p:cNvSpPr/>
          <p:nvPr/>
        </p:nvSpPr>
        <p:spPr>
          <a:xfrm>
            <a:off x="4114800" y="4419720"/>
            <a:ext cx="182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nsductor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4d4d4d"/>
                </a:solidFill>
                <a:latin typeface="Arial"/>
              </a:rPr>
              <a:t>Variable de proceso,</a:t>
            </a:r>
            <a:br>
              <a:rPr sz="4200"/>
            </a:br>
            <a:r>
              <a:rPr b="1" lang="es-ES" sz="4200" spc="-1" strike="noStrike">
                <a:solidFill>
                  <a:srgbClr val="4d4d4d"/>
                </a:solidFill>
                <a:latin typeface="Arial"/>
              </a:rPr>
              <a:t>PV.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Times New Roman"/>
              </a:rPr>
              <a:t>La variable medida que se desea estabilizar (controlar) recibe el nombre de variable de proceso ("process value") y se abrevia </a:t>
            </a:r>
            <a:r>
              <a:rPr b="1" lang="es-ES" sz="3000" spc="-1" strike="noStrike">
                <a:solidFill>
                  <a:srgbClr val="4d4d4d"/>
                </a:solidFill>
                <a:latin typeface="Times New Roman"/>
              </a:rPr>
              <a:t>PV</a:t>
            </a:r>
            <a:r>
              <a:rPr b="0" lang="es-ES" sz="3000" spc="-1" strike="noStrike">
                <a:solidFill>
                  <a:srgbClr val="4d4d4d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Times New Roman"/>
              </a:rPr>
              <a:t>Un buen ejemplo de variable de proceso es la temperatura, la cual mide el instrumento controlador mediante un termopar o una Pt100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4d4d4d"/>
                </a:solidFill>
                <a:latin typeface="Tahoma"/>
              </a:rPr>
              <a:t>¿Qué es control?</a:t>
            </a: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Verdana"/>
                <a:ea typeface="Times New Roman"/>
              </a:rPr>
              <a:t>Controlar un proceso consiste en mantener constantes ciertas variables, prefijadas de antemano. Las variables controladas pueden ser, por ejemplo: Presión, Temperatura, Nivel, Caudal, Humedad, etc.</a:t>
            </a:r>
            <a:r>
              <a:rPr b="0" lang="es-ES" sz="30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Un sistema de control es el conjunto de elementos, que hace posible que otro sistema, proceso o planta permanezca fiel a un programa establecido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4d4d4d"/>
                </a:solidFill>
                <a:latin typeface="Times New Roman"/>
              </a:rPr>
              <a:t>Set Point SP o Consigna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Times New Roman"/>
              </a:rPr>
              <a:t>El valor prefijado (Set Point, SP) es el valor deseado de la variable de proceso,es decir, la consigna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Times New Roman"/>
              </a:rPr>
              <a:t>Es el valor al cual el control se debe encargar de mantener la PV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Times New Roman"/>
              </a:rPr>
              <a:t>Por ejemplo en un horno la temperatura actual es 155 °C y el controlador esta programado para llevar la temperatura a 200°C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Times New Roman"/>
              </a:rPr>
              <a:t>Luego PV=155 y SP=200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4d4d4d"/>
                </a:solidFill>
                <a:latin typeface="Times New Roman"/>
              </a:rPr>
              <a:t>Error     </a:t>
            </a:r>
            <a:r>
              <a:rPr b="0" lang="es-ES" sz="4200" spc="-1" strike="noStrike">
                <a:solidFill>
                  <a:srgbClr val="4d4d4d"/>
                </a:solidFill>
                <a:latin typeface="Times New Roman"/>
              </a:rPr>
              <a:t> E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Times New Roman"/>
              </a:rPr>
              <a:t>Se define error como la diferencia entre la variable de proceso PV y el set point SP,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Times New Roman"/>
              </a:rPr>
              <a:t>E = SP - PV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Times New Roman"/>
              </a:rPr>
              <a:t>En el ejemplo anterior 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Times New Roman"/>
              </a:rPr>
              <a:t>    </a:t>
            </a:r>
            <a:r>
              <a:rPr b="0" lang="es-ES" sz="3000" spc="-1" strike="noStrike">
                <a:solidFill>
                  <a:srgbClr val="4d4d4d"/>
                </a:solidFill>
                <a:latin typeface="Times New Roman"/>
              </a:rPr>
              <a:t>E = (SP - PV) = (200°C - 155°C) = 45 °C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Times New Roman"/>
              </a:rPr>
              <a:t>Recuerde que el error será positivo cuando la temperatura sea menor que el set point,        PV &lt; SP 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4d4d4d"/>
                </a:solidFill>
                <a:latin typeface="Palatino"/>
              </a:rPr>
              <a:t>Estructura general de un sistema de medida.</a:t>
            </a:r>
            <a:endParaRPr b="0" lang="en-US" sz="44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750" name="Picture 8" descr="C:\Documents and Settings\1\Mis documentos\CURSOSFREMM\Imágenes\Sistema de medida.bmp"/>
          <p:cNvPicPr/>
          <p:nvPr/>
        </p:nvPicPr>
        <p:blipFill>
          <a:blip r:embed="rId1"/>
          <a:stretch/>
        </p:blipFill>
        <p:spPr>
          <a:xfrm>
            <a:off x="0" y="2287440"/>
            <a:ext cx="91440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4d4d4d"/>
                </a:solidFill>
                <a:latin typeface="Tahoma"/>
              </a:rPr>
              <a:t>Elementos de un sistema de medida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d4d4d"/>
                </a:solidFill>
                <a:latin typeface="Tahoma"/>
              </a:rPr>
              <a:t>Sensor o elemento primario: </a:t>
            </a: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Mide o sensa el valor de una variable de proceso, y toma una salida proporcional a la medida. Esta salida, puede o no, ser eléctrica. El sensor debe tomar la menor energía posible del sistema, para no introducir error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d4d4d"/>
                </a:solidFill>
                <a:latin typeface="Tahoma"/>
              </a:rPr>
              <a:t>Transductor: </a:t>
            </a:r>
            <a:r>
              <a:rPr b="0" lang="es-MX" sz="2400" spc="-1" strike="noStrike">
                <a:solidFill>
                  <a:srgbClr val="4d4d4d"/>
                </a:solidFill>
                <a:latin typeface="Tahoma"/>
              </a:rPr>
              <a:t>Elemento que transforma la magnitud medida por el elemento primario en una señal eléctrica.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4d4d4d"/>
                </a:solidFill>
                <a:latin typeface="Tahoma"/>
              </a:rPr>
              <a:t>Transmisor o Acondicionador de señal :</a:t>
            </a:r>
            <a:r>
              <a:rPr b="0" lang="es-MX" sz="25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d4d4d"/>
                </a:solidFill>
                <a:latin typeface="Tahoma"/>
              </a:rPr>
              <a:t>Elemento que convierte, acondiciona y normaliza la señal para su procesamiento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ahoma"/>
              </a:rPr>
              <a:t>En la industria, las señales de salida normalizadas son: 4 a 20mA, 0 a 5v, 0 a 10v, si son salidas eléctricas y 3 a 15 psi en señal neumática.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Tipos de sensores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3808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ahoma"/>
              </a:rPr>
              <a:t>Por el principio físico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Tahoma"/>
              </a:rPr>
              <a:t>Resistivo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Tahoma"/>
              </a:rPr>
              <a:t>Capacitivo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Tahoma"/>
              </a:rPr>
              <a:t>Inductivo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Tahoma"/>
              </a:rPr>
              <a:t>Piezoresistivo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Tahoma"/>
              </a:rPr>
              <a:t>Fotovoltáico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Tahoma"/>
              </a:rPr>
              <a:t>Electromagnético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Tahoma"/>
              </a:rPr>
              <a:t>Termomagnético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Tahoma"/>
              </a:rPr>
              <a:t>Piezoeléctrico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343040" y="838080"/>
            <a:ext cx="4267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ahoma"/>
              </a:rPr>
              <a:t>Por la salida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Tahoma"/>
              </a:rPr>
              <a:t>Eléctric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876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activ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876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pasiv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Tahoma"/>
              </a:rPr>
              <a:t>Mecánic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ahoma"/>
              </a:rPr>
              <a:t>Por la magnitud a medir, es la clasificación más utilizada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Tahoma"/>
              </a:rPr>
              <a:t>Temperatur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Tahoma"/>
              </a:rPr>
              <a:t>Presión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Tahoma"/>
              </a:rPr>
              <a:t>Caudal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Tahoma"/>
              </a:rPr>
              <a:t>Posición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Tahoma"/>
              </a:rPr>
              <a:t>Velocidad, etc...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4d4d4d"/>
                </a:solidFill>
                <a:latin typeface="Book Antiqua"/>
              </a:rPr>
              <a:t>Actuadores (Elemento final de control)</a:t>
            </a:r>
            <a:endParaRPr b="0" lang="en-US" sz="5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33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NewRomanPS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66"/>
                </a:solidFill>
                <a:latin typeface="TimesNewRomanPS-BoldMT"/>
              </a:rPr>
              <a:t>Eléctrico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NewRomanPS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990099"/>
                </a:solidFill>
                <a:latin typeface="TimesNewRomanPS-BoldMT"/>
              </a:rPr>
              <a:t>Relé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NewRomanPS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990099"/>
                </a:solidFill>
                <a:latin typeface="TimesNewRomanPS-BoldMT"/>
              </a:rPr>
              <a:t>Solenoide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NewRomanPS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990099"/>
                </a:solidFill>
                <a:latin typeface="TimesNewRomanPS-BoldMT"/>
              </a:rPr>
              <a:t>Motores CC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NewRomanPS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990099"/>
                </a:solidFill>
                <a:latin typeface="TimesNewRomanPS-BoldMT"/>
              </a:rPr>
              <a:t>Motores AC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NewRomanPS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990099"/>
                </a:solidFill>
                <a:latin typeface="TimesNewRomanPS-BoldMT"/>
              </a:rPr>
              <a:t>Motores paso a pas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1640" y="2285640"/>
            <a:ext cx="43815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NewRomanPS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66"/>
                </a:solidFill>
                <a:latin typeface="TimesNewRomanPS-BoldMT"/>
              </a:rPr>
              <a:t>Hidráulicos o neumático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NewRomanPS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990099"/>
                </a:solidFill>
                <a:latin typeface="TimesNewRomanPS-BoldMT"/>
              </a:rPr>
              <a:t>Válvulas neumática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NewRomanPS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990099"/>
                </a:solidFill>
                <a:latin typeface="TimesNewRomanPS-BoldMT"/>
              </a:rPr>
              <a:t>Válvulas de solenoide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NewRomanPS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990099"/>
                </a:solidFill>
                <a:latin typeface="TimesNewRomanPS-BoldMT"/>
              </a:rPr>
              <a:t>Cilindros y válvulas pilot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NewRomanPS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990099"/>
                </a:solidFill>
                <a:latin typeface="TimesNewRomanPS-BoldMT"/>
              </a:rPr>
              <a:t>Motore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4d4d4d"/>
                </a:solidFill>
                <a:latin typeface="Tahoma"/>
              </a:rPr>
              <a:t>ACTIVIDAD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Tahoma"/>
              </a:rPr>
              <a:t>Analizar los siguientes sistemas, explicando que tipo de lazo es y porque. Explicar cómo se podría perfeccionar el sistema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Tahoma"/>
              </a:rPr>
              <a:t>Tostadora por tiempo.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Tahoma"/>
              </a:rPr>
              <a:t>Control de semáforos por tiempo.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Tahoma"/>
              </a:rPr>
              <a:t>Bomba de calor de una vivienda.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Tahoma"/>
              </a:rPr>
              <a:t>Identificar en cada sistema anterior, las señales y elementos típicos de un sistema de control. Dibujar el diagrama de bloques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Tahoma"/>
              </a:rPr>
              <a:t>Crear dos sistemas nuevos de control, uno en lazo abierto y otro en lazo cerrado, modificando el de lazo abierto. Identificando señales y elementos básico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Sistemas actuales de control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3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ahoma"/>
              </a:rPr>
              <a:t>Control clásic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ahoma"/>
              </a:rPr>
              <a:t>Control en cascad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ahoma"/>
              </a:rPr>
              <a:t>Control con aprendizaje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ahoma"/>
              </a:rPr>
              <a:t>Control por lógica difus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ahoma"/>
              </a:rPr>
              <a:t>Control digital directo (ddc)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ahoma"/>
              </a:rPr>
              <a:t>Control supervisor (spc y scada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ahoma"/>
              </a:rPr>
              <a:t>Control distribuido (scd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ahoma"/>
              </a:rPr>
              <a:t>Control jerarquizad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rol clásico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Tahoma"/>
              </a:rPr>
              <a:t>Control de dos posiciones (todo-nada)       (on-off)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Tahoma"/>
              </a:rPr>
              <a:t>Proporcional de tiempo variable (PWM)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Tahoma"/>
              </a:rPr>
              <a:t>Proporcional (P)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Tahoma"/>
              </a:rPr>
              <a:t>Proporcional + Integral (PI)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Tahoma"/>
              </a:rPr>
              <a:t>Proporcional + Derivativo (PD)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Tahoma"/>
              </a:rPr>
              <a:t>Proporcional + Integral + Derivativo (PID)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d4d4d"/>
                </a:solidFill>
                <a:latin typeface="Arial"/>
              </a:rPr>
              <a:t>El control On/Off o de dos posiciones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Times New Roman"/>
              </a:rPr>
              <a:t>Tomemos por ejemplo, el caso de un horno eléctrico.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Times New Roman"/>
              </a:rPr>
              <a:t>La temperatura aumenta al activar las resistencias calentadoras mediante un contactor, gobernado a su vez por un relé dentro del controlador.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Times New Roman"/>
              </a:rPr>
              <a:t>El modo de </a:t>
            </a:r>
            <a:r>
              <a:rPr b="1" lang="es-ES" sz="2200" spc="-1" strike="noStrike">
                <a:solidFill>
                  <a:srgbClr val="4d4d4d"/>
                </a:solidFill>
                <a:latin typeface="Times New Roman"/>
              </a:rPr>
              <a:t>control ON/OFF </a:t>
            </a:r>
            <a:r>
              <a:rPr b="0" lang="es-ES" sz="2200" spc="-1" strike="noStrike">
                <a:solidFill>
                  <a:srgbClr val="4d4d4d"/>
                </a:solidFill>
                <a:latin typeface="Times New Roman"/>
              </a:rPr>
              <a:t>es el más elemental y consiste en activar el mando de calentamiento cuando la temperatura está por debajo de la temperatura deseada SP y luego desactivarlo cuando la temperatura esté por arriba.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Times New Roman"/>
              </a:rPr>
              <a:t>Debido a la inercia térmica del horno la temperatura estará continuamente fluctuando alrededor del SP.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d4d4d"/>
                </a:solidFill>
                <a:latin typeface="Times New Roman"/>
              </a:rPr>
              <a:t>Las fluctuaciones aumentarán cuanto mayor sea la inercia térmica </a:t>
            </a:r>
            <a:r>
              <a:rPr b="0" lang="es-ES" sz="2200" spc="-1" strike="noStrike">
                <a:solidFill>
                  <a:srgbClr val="4d4d4d"/>
                </a:solidFill>
                <a:latin typeface="Times New Roman"/>
              </a:rPr>
              <a:t>del horno (retardo).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Times New Roman"/>
              </a:rPr>
              <a:t>Este control no es el más adecuado cuando se desea una temperatura constante y uniforme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Ejemplo de sistema de control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Temperatura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 de nuestro cuerpo; si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 la 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temperatura sube por encima de 37ºC, se suda, refrescando el cuerp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Si la Tª 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tiende a bajar de 37ºC, el cuerpo, involuntariamente, comienza a temblar, contracción muscular que calienta nuestro cuerpo, haciendo que se normalice nuestra temperatura. Por tanto, en este caso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Sistema de medida o sensores -&gt; Células nerviosas de la pi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Señal de consigna -&gt; 37ºC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Acción de control de la temperatura -&gt; Sudar o temblar</a:t>
            </a:r>
            <a:r>
              <a:rPr b="0" lang="es-ES" sz="26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4d4d4d"/>
                </a:solidFill>
                <a:latin typeface="Arial"/>
              </a:rPr>
              <a:t>El control On/Off o de dos posiciones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768" name="Picture 3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543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rol de dos posiciones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770" name="Picture 3" descr="D:\Docencia\Diplomado de Ing\Figuras\control3.jpg"/>
          <p:cNvPicPr/>
          <p:nvPr/>
        </p:nvPicPr>
        <p:blipFill>
          <a:blip r:embed="rId1"/>
          <a:stretch/>
        </p:blipFill>
        <p:spPr>
          <a:xfrm>
            <a:off x="1143000" y="939960"/>
            <a:ext cx="7238880" cy="59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rol discreto o de dos posiciones</a:t>
            </a:r>
            <a:br>
              <a:rPr sz="4200"/>
            </a:b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o control ON / OFF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2" name="Rectangle 3"/>
          <p:cNvSpPr/>
          <p:nvPr/>
        </p:nvSpPr>
        <p:spPr>
          <a:xfrm>
            <a:off x="2292480" y="3816360"/>
            <a:ext cx="1663560" cy="1054080"/>
          </a:xfrm>
          <a:prstGeom prst="rect">
            <a:avLst/>
          </a:prstGeom>
          <a:solidFill>
            <a:srgbClr val="99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3" name="Line 4"/>
          <p:cNvSpPr/>
          <p:nvPr/>
        </p:nvSpPr>
        <p:spPr>
          <a:xfrm flipV="1">
            <a:off x="2286000" y="311796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4" name="Line 5"/>
          <p:cNvSpPr/>
          <p:nvPr/>
        </p:nvSpPr>
        <p:spPr>
          <a:xfrm flipV="1">
            <a:off x="3962520" y="311796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5" name="Line 6"/>
          <p:cNvSpPr/>
          <p:nvPr/>
        </p:nvSpPr>
        <p:spPr>
          <a:xfrm>
            <a:off x="3587760" y="3505320"/>
            <a:ext cx="825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6" name="Oval 7"/>
          <p:cNvSpPr/>
          <p:nvPr/>
        </p:nvSpPr>
        <p:spPr>
          <a:xfrm>
            <a:off x="3282840" y="3435480"/>
            <a:ext cx="292320" cy="13968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7" name="Line 8"/>
          <p:cNvSpPr/>
          <p:nvPr/>
        </p:nvSpPr>
        <p:spPr>
          <a:xfrm>
            <a:off x="3587760" y="4114800"/>
            <a:ext cx="825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8" name="Oval 9"/>
          <p:cNvSpPr/>
          <p:nvPr/>
        </p:nvSpPr>
        <p:spPr>
          <a:xfrm>
            <a:off x="3282840" y="4044960"/>
            <a:ext cx="292320" cy="13968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9" name="Rectangle 10"/>
          <p:cNvSpPr/>
          <p:nvPr/>
        </p:nvSpPr>
        <p:spPr>
          <a:xfrm>
            <a:off x="4425840" y="3359160"/>
            <a:ext cx="292320" cy="901800"/>
          </a:xfrm>
          <a:prstGeom prst="rect">
            <a:avLst/>
          </a:prstGeom>
          <a:solidFill>
            <a:srgbClr val="7679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0" name="Line 11"/>
          <p:cNvSpPr/>
          <p:nvPr/>
        </p:nvSpPr>
        <p:spPr>
          <a:xfrm>
            <a:off x="3968640" y="4876920"/>
            <a:ext cx="1739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grpSp>
        <p:nvGrpSpPr>
          <p:cNvPr id="781" name="Group 12"/>
          <p:cNvGrpSpPr/>
          <p:nvPr/>
        </p:nvGrpSpPr>
        <p:grpSpPr>
          <a:xfrm>
            <a:off x="5715000" y="4197240"/>
            <a:ext cx="457200" cy="838440"/>
            <a:chOff x="5715000" y="4197240"/>
            <a:chExt cx="457200" cy="838440"/>
          </a:xfrm>
        </p:grpSpPr>
        <p:sp>
          <p:nvSpPr>
            <p:cNvPr id="782" name="Line 13"/>
            <p:cNvSpPr/>
            <p:nvPr/>
          </p:nvSpPr>
          <p:spPr>
            <a:xfrm>
              <a:off x="5715000" y="4708440"/>
              <a:ext cx="0" cy="2905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783" name="Line 14"/>
            <p:cNvSpPr/>
            <p:nvPr/>
          </p:nvSpPr>
          <p:spPr>
            <a:xfrm flipV="1">
              <a:off x="5721480" y="4695840"/>
              <a:ext cx="444240" cy="3398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784" name="Line 15"/>
            <p:cNvSpPr/>
            <p:nvPr/>
          </p:nvSpPr>
          <p:spPr>
            <a:xfrm>
              <a:off x="5721480" y="4708440"/>
              <a:ext cx="444240" cy="2905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785" name="Line 16"/>
            <p:cNvSpPr/>
            <p:nvPr/>
          </p:nvSpPr>
          <p:spPr>
            <a:xfrm>
              <a:off x="6172200" y="4708440"/>
              <a:ext cx="0" cy="2905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786" name="Line 17"/>
            <p:cNvSpPr/>
            <p:nvPr/>
          </p:nvSpPr>
          <p:spPr>
            <a:xfrm>
              <a:off x="5943600" y="4570560"/>
              <a:ext cx="0" cy="2887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787" name="Rectangle 18"/>
            <p:cNvSpPr/>
            <p:nvPr/>
          </p:nvSpPr>
          <p:spPr>
            <a:xfrm>
              <a:off x="5797440" y="4197240"/>
              <a:ext cx="266760" cy="360360"/>
            </a:xfrm>
            <a:prstGeom prst="rect">
              <a:avLst/>
            </a:prstGeom>
            <a:solidFill>
              <a:srgbClr val="4d4d4d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51"/>
                </a:spcBef>
                <a:buClr>
                  <a:srgbClr val="4d4d4d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  <p:sp>
          <p:nvSpPr>
            <p:cNvPr id="788" name="AutoShape 19"/>
            <p:cNvSpPr/>
            <p:nvPr/>
          </p:nvSpPr>
          <p:spPr>
            <a:xfrm>
              <a:off x="5797440" y="4197240"/>
              <a:ext cx="266760" cy="360360"/>
            </a:xfrm>
            <a:prstGeom prst="rtTriangle">
              <a:avLst/>
            </a:prstGeom>
            <a:solidFill>
              <a:srgbClr val="000000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51"/>
                </a:spcBef>
                <a:buClr>
                  <a:srgbClr val="4d4d4d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4d4d4d"/>
                </a:solidFill>
                <a:latin typeface="Tahoma"/>
              </a:endParaRPr>
            </a:p>
          </p:txBody>
        </p:sp>
      </p:grpSp>
      <p:sp>
        <p:nvSpPr>
          <p:cNvPr id="789" name="Line 20"/>
          <p:cNvSpPr/>
          <p:nvPr/>
        </p:nvSpPr>
        <p:spPr>
          <a:xfrm>
            <a:off x="4730760" y="3581280"/>
            <a:ext cx="825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0" name="Oval 21"/>
          <p:cNvSpPr/>
          <p:nvPr/>
        </p:nvSpPr>
        <p:spPr>
          <a:xfrm>
            <a:off x="5645160" y="3282840"/>
            <a:ext cx="596880" cy="596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1" name="Line 22"/>
          <p:cNvSpPr/>
          <p:nvPr/>
        </p:nvSpPr>
        <p:spPr>
          <a:xfrm>
            <a:off x="5943600" y="3892680"/>
            <a:ext cx="0" cy="2919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2" name="Line 23"/>
          <p:cNvSpPr/>
          <p:nvPr/>
        </p:nvSpPr>
        <p:spPr>
          <a:xfrm>
            <a:off x="6254640" y="3581280"/>
            <a:ext cx="749520" cy="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3" name="Line 24"/>
          <p:cNvSpPr/>
          <p:nvPr/>
        </p:nvSpPr>
        <p:spPr>
          <a:xfrm>
            <a:off x="6178680" y="4876920"/>
            <a:ext cx="9777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4" name="Rectangle 25"/>
          <p:cNvSpPr/>
          <p:nvPr/>
        </p:nvSpPr>
        <p:spPr>
          <a:xfrm>
            <a:off x="3333960" y="2043000"/>
            <a:ext cx="2750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Detector de máximo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y mínimo nivel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5" name="Rectangle 26"/>
          <p:cNvSpPr/>
          <p:nvPr/>
        </p:nvSpPr>
        <p:spPr>
          <a:xfrm>
            <a:off x="5163120" y="5243400"/>
            <a:ext cx="1963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Electroválvul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ON/OFF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6" name="Rectangle 27"/>
          <p:cNvSpPr/>
          <p:nvPr/>
        </p:nvSpPr>
        <p:spPr>
          <a:xfrm>
            <a:off x="6233040" y="2805120"/>
            <a:ext cx="74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Relé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7" name="Rectangle 28"/>
          <p:cNvSpPr/>
          <p:nvPr/>
        </p:nvSpPr>
        <p:spPr>
          <a:xfrm>
            <a:off x="743400" y="5237280"/>
            <a:ext cx="2767680" cy="118620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Las variables sol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admiten un conjunto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de estados finito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rol Proporcional de tiempo variable (PWM)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Times New Roman"/>
              </a:rPr>
              <a:t>Para poder controlar la temperatura con menos fluctuaciones, se debe entregar al horno una potencia gradual, para mantenerlo a la temperatura deseada 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Times New Roman"/>
              </a:rPr>
              <a:t>En el ejemplo anterior del control On/Off, el relé del mando de calentamiento estará activado 100%, entregando el máximo de potencia al horno o bien desactivado sin entregar potencia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Times New Roman"/>
              </a:rPr>
              <a:t>El controlador proporcional entrega una potencia que varía en forma gradual entre 0 y 100% según se requiera y en forma proporcional al error (SP-PV)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4d4d4d"/>
                </a:solidFill>
                <a:latin typeface="Times New Roman"/>
              </a:rPr>
              <a:t>PWM pulse width modulation</a:t>
            </a:r>
            <a:br>
              <a:rPr sz="3600"/>
            </a:br>
            <a:r>
              <a:rPr b="1" lang="es-ES" sz="3600" spc="-1" strike="noStrike">
                <a:solidFill>
                  <a:srgbClr val="4d4d4d"/>
                </a:solidFill>
                <a:latin typeface="Times New Roman"/>
              </a:rPr>
              <a:t>Modulación por ancho de pulso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Times New Roman"/>
              </a:rPr>
              <a:t>Es posible modular de 0% a 100% la potencia que recibe un horno eléctrico mediante el mismo contactor que se usaría para un control on/off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Times New Roman"/>
              </a:rPr>
              <a:t>La idea es modular el tiempo de activación del contactor durante un tiempo fijo tc, llamado </a:t>
            </a:r>
            <a:r>
              <a:rPr b="1" lang="es-ES" sz="2600" spc="-1" strike="noStrike">
                <a:solidFill>
                  <a:srgbClr val="4d4d4d"/>
                </a:solidFill>
                <a:latin typeface="Times New Roman"/>
              </a:rPr>
              <a:t>tiempo de ciclo</a:t>
            </a:r>
            <a:r>
              <a:rPr b="0" lang="es-ES" sz="2600" spc="-1" strike="noStrike">
                <a:solidFill>
                  <a:srgbClr val="4d4d4d"/>
                </a:solidFill>
                <a:latin typeface="Times New Roman"/>
              </a:rPr>
              <a:t>, de modo que el horno reciba finalmente un promedio de la potencia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Times New Roman"/>
              </a:rPr>
              <a:t>Supongamos que nuestro horno funciona con un calefactor de 1000W, si se requiere una potencia de 500W, equivalente a 50% de la total, entonces se activa 2 segundos el relé y se desactiva otros 2, para luego empezar otro cicl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Times New Roman"/>
              </a:rPr>
              <a:t>El efecto neto será que el horno recibe 50% de la potencia pero la temperatura no fluctúa al ritmo del tiempo de ciclo pues este es menor al tiempo de respuesta del horn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761760" y="2282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Times New Roman"/>
              </a:rPr>
              <a:t>Siguiendo con el ejemplo, si hace falta 250W, es decir 25% de la potencia basta con tener 1 segundo activado el relé y 3 segundos desactivad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686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rol Proporcional o Continuo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5" name="Rectangle 3"/>
          <p:cNvSpPr/>
          <p:nvPr/>
        </p:nvSpPr>
        <p:spPr>
          <a:xfrm>
            <a:off x="522000" y="1752480"/>
            <a:ext cx="7719120" cy="1186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variable controlada, toma valores en un rango continuo, s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de y se actúa continuamente sobre un rango de valore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l actuador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6" name="Rectangle 4"/>
          <p:cNvSpPr/>
          <p:nvPr/>
        </p:nvSpPr>
        <p:spPr>
          <a:xfrm>
            <a:off x="6855840" y="5791320"/>
            <a:ext cx="1639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Variable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Manipulad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7" name="Rectangle 5"/>
          <p:cNvSpPr/>
          <p:nvPr/>
        </p:nvSpPr>
        <p:spPr>
          <a:xfrm>
            <a:off x="4722120" y="3276720"/>
            <a:ext cx="15379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Variable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Controlad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8" name="Rectangle 6"/>
          <p:cNvSpPr/>
          <p:nvPr/>
        </p:nvSpPr>
        <p:spPr>
          <a:xfrm>
            <a:off x="7236000" y="3733920"/>
            <a:ext cx="1504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Referenci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9" name="Oval 7"/>
          <p:cNvSpPr/>
          <p:nvPr/>
        </p:nvSpPr>
        <p:spPr>
          <a:xfrm>
            <a:off x="5492880" y="4273560"/>
            <a:ext cx="444240" cy="444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0" name="Rectangle 8"/>
          <p:cNvSpPr/>
          <p:nvPr/>
        </p:nvSpPr>
        <p:spPr>
          <a:xfrm>
            <a:off x="5471640" y="42670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T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1" name="Oval 9"/>
          <p:cNvSpPr/>
          <p:nvPr/>
        </p:nvSpPr>
        <p:spPr>
          <a:xfrm>
            <a:off x="6649920" y="4287960"/>
            <a:ext cx="520920" cy="444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2" name="Rectangle 10"/>
          <p:cNvSpPr/>
          <p:nvPr/>
        </p:nvSpPr>
        <p:spPr>
          <a:xfrm>
            <a:off x="6669000" y="42670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C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3" name="Line 11"/>
          <p:cNvSpPr/>
          <p:nvPr/>
        </p:nvSpPr>
        <p:spPr>
          <a:xfrm>
            <a:off x="5956200" y="4495680"/>
            <a:ext cx="749520" cy="0"/>
          </a:xfrm>
          <a:prstGeom prst="line">
            <a:avLst/>
          </a:prstGeom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4" name="Line 12"/>
          <p:cNvSpPr/>
          <p:nvPr/>
        </p:nvSpPr>
        <p:spPr>
          <a:xfrm>
            <a:off x="7238880" y="4495680"/>
            <a:ext cx="507960" cy="0"/>
          </a:xfrm>
          <a:prstGeom prst="line">
            <a:avLst/>
          </a:prstGeom>
          <a:ln w="2556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5" name="Line 13"/>
          <p:cNvSpPr/>
          <p:nvPr/>
        </p:nvSpPr>
        <p:spPr>
          <a:xfrm>
            <a:off x="5257800" y="5486400"/>
            <a:ext cx="482760" cy="0"/>
          </a:xfrm>
          <a:prstGeom prst="line">
            <a:avLst/>
          </a:prstGeom>
          <a:ln w="507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6" name="Line 14"/>
          <p:cNvSpPr/>
          <p:nvPr/>
        </p:nvSpPr>
        <p:spPr>
          <a:xfrm>
            <a:off x="3352680" y="4280040"/>
            <a:ext cx="0" cy="149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7" name="Rectangle 15"/>
          <p:cNvSpPr/>
          <p:nvPr/>
        </p:nvSpPr>
        <p:spPr>
          <a:xfrm>
            <a:off x="3352680" y="4572000"/>
            <a:ext cx="1905120" cy="1219320"/>
          </a:xfrm>
          <a:prstGeom prst="rect">
            <a:avLst/>
          </a:prstGeom>
          <a:solidFill>
            <a:srgbClr val="990099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8" name="Line 16"/>
          <p:cNvSpPr/>
          <p:nvPr/>
        </p:nvSpPr>
        <p:spPr>
          <a:xfrm flipV="1">
            <a:off x="5257800" y="43434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9" name="Line 17"/>
          <p:cNvSpPr/>
          <p:nvPr/>
        </p:nvSpPr>
        <p:spPr>
          <a:xfrm>
            <a:off x="3352680" y="579132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0" name="Rectangle 18"/>
          <p:cNvSpPr/>
          <p:nvPr/>
        </p:nvSpPr>
        <p:spPr>
          <a:xfrm>
            <a:off x="5181480" y="5638680"/>
            <a:ext cx="1524240" cy="76320"/>
          </a:xfrm>
          <a:prstGeom prst="rect">
            <a:avLst/>
          </a:prstGeom>
          <a:solidFill>
            <a:srgbClr val="990099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1" name="Line 19"/>
          <p:cNvSpPr/>
          <p:nvPr/>
        </p:nvSpPr>
        <p:spPr>
          <a:xfrm>
            <a:off x="6705720" y="5562720"/>
            <a:ext cx="0" cy="228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2" name="Line 20"/>
          <p:cNvSpPr/>
          <p:nvPr/>
        </p:nvSpPr>
        <p:spPr>
          <a:xfrm flipV="1">
            <a:off x="6705720" y="5562360"/>
            <a:ext cx="380880" cy="228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3" name="Line 21"/>
          <p:cNvSpPr/>
          <p:nvPr/>
        </p:nvSpPr>
        <p:spPr>
          <a:xfrm>
            <a:off x="6705720" y="5562720"/>
            <a:ext cx="380880" cy="228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4" name="Line 22"/>
          <p:cNvSpPr/>
          <p:nvPr/>
        </p:nvSpPr>
        <p:spPr>
          <a:xfrm>
            <a:off x="7086600" y="5562720"/>
            <a:ext cx="0" cy="228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5" name="Rectangle 23"/>
          <p:cNvSpPr/>
          <p:nvPr/>
        </p:nvSpPr>
        <p:spPr>
          <a:xfrm>
            <a:off x="7086600" y="5638680"/>
            <a:ext cx="1523880" cy="76320"/>
          </a:xfrm>
          <a:prstGeom prst="rect">
            <a:avLst/>
          </a:prstGeom>
          <a:solidFill>
            <a:srgbClr val="990099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6" name="Line 24"/>
          <p:cNvSpPr/>
          <p:nvPr/>
        </p:nvSpPr>
        <p:spPr>
          <a:xfrm flipV="1">
            <a:off x="6892920" y="5409720"/>
            <a:ext cx="0" cy="3049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7" name="Rectangle 25"/>
          <p:cNvSpPr/>
          <p:nvPr/>
        </p:nvSpPr>
        <p:spPr>
          <a:xfrm>
            <a:off x="2514600" y="3429000"/>
            <a:ext cx="1523880" cy="76320"/>
          </a:xfrm>
          <a:prstGeom prst="rect">
            <a:avLst/>
          </a:prstGeom>
          <a:solidFill>
            <a:srgbClr val="990099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8" name="Rectangle 26"/>
          <p:cNvSpPr/>
          <p:nvPr/>
        </p:nvSpPr>
        <p:spPr>
          <a:xfrm>
            <a:off x="3962520" y="3429000"/>
            <a:ext cx="75960" cy="533520"/>
          </a:xfrm>
          <a:prstGeom prst="rect">
            <a:avLst/>
          </a:prstGeom>
          <a:solidFill>
            <a:srgbClr val="990099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9" name="Oval 27"/>
          <p:cNvSpPr/>
          <p:nvPr/>
        </p:nvSpPr>
        <p:spPr>
          <a:xfrm>
            <a:off x="3962520" y="4038480"/>
            <a:ext cx="75960" cy="15264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30" name="Oval 28"/>
          <p:cNvSpPr/>
          <p:nvPr/>
        </p:nvSpPr>
        <p:spPr>
          <a:xfrm>
            <a:off x="3962520" y="4267080"/>
            <a:ext cx="75960" cy="152640"/>
          </a:xfrm>
          <a:prstGeom prst="ellipse">
            <a:avLst/>
          </a:prstGeom>
          <a:solidFill>
            <a:srgbClr val="990099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31" name="Oval 29"/>
          <p:cNvSpPr/>
          <p:nvPr/>
        </p:nvSpPr>
        <p:spPr>
          <a:xfrm>
            <a:off x="6629400" y="5257800"/>
            <a:ext cx="533520" cy="15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32" name="Line 30"/>
          <p:cNvSpPr/>
          <p:nvPr/>
        </p:nvSpPr>
        <p:spPr>
          <a:xfrm>
            <a:off x="6910560" y="4782960"/>
            <a:ext cx="0" cy="4572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33" name="Line 31"/>
          <p:cNvSpPr/>
          <p:nvPr/>
        </p:nvSpPr>
        <p:spPr>
          <a:xfrm>
            <a:off x="5715000" y="4724280"/>
            <a:ext cx="0" cy="762120"/>
          </a:xfrm>
          <a:prstGeom prst="line">
            <a:avLst/>
          </a:prstGeom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34" name="Rectangle 32"/>
          <p:cNvSpPr/>
          <p:nvPr/>
        </p:nvSpPr>
        <p:spPr>
          <a:xfrm>
            <a:off x="1064160" y="3733920"/>
            <a:ext cx="1742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Perturbación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rol proporcional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Times New Roman"/>
              </a:rPr>
              <a:t>El controlador proporcional entrega una potencia que varía en forma proporcional al error (SP-PV)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Times New Roman"/>
              </a:rPr>
              <a:t>Para poner en marcha un controlador proporcional se deben fijar los siguientes parámetros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Times New Roman"/>
              </a:rPr>
              <a:t>La temperatura deseada SP , por ej. SP = 200 °C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Times New Roman"/>
              </a:rPr>
              <a:t>La banda proporcional Pb, por ej. Pb = 10 %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Times New Roman"/>
              </a:rPr>
              <a:t>La banda proporcional Pb se programa en el controlador como un porcentaje del SP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29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d4d4d"/>
                </a:solidFill>
                <a:latin typeface="Times New Roman"/>
              </a:rPr>
              <a:t>banda = Pb x SP/100%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18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Internamente el controlador realizará el cálculo del porcentaje de salida "Out" mediante la siguiente fórmula: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27920" indent="-280080">
              <a:lnSpc>
                <a:spcPct val="70000"/>
              </a:lnSpc>
              <a:spcBef>
                <a:spcPts val="1199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Out = [ 100% * E / banda ]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27920" indent="-280080">
              <a:lnSpc>
                <a:spcPct val="70000"/>
              </a:lnSpc>
              <a:spcBef>
                <a:spcPts val="1199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banda = Pb*SP/100%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27920" indent="-280080">
              <a:lnSpc>
                <a:spcPct val="70000"/>
              </a:lnSpc>
              <a:spcBef>
                <a:spcPts val="1199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E = (SP - PV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Para los valores del ejemplo SP=200°C y Pb=10%, la potencia determinada por el control variará a lo largo 20°C abajo del SP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lnSpc>
                <a:spcPct val="70000"/>
              </a:lnSpc>
              <a:spcBef>
                <a:spcPts val="18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banda = Pb*SP/100% = 10% * 200 °C / 100% = 20°C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Es decir que la banda a lo largo de la cual variará gradualmente la potencia será: 180°C...200°C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Por ejemplo si la temperatura del horno es igual o menor de 180°C, la salida de control (potencia) será 100%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lnSpc>
                <a:spcPct val="70000"/>
              </a:lnSpc>
              <a:spcBef>
                <a:spcPts val="18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Cuando la temperatura esté en la mitad de la banda, es decir en 190°C la salida será 50% :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lnSpc>
                <a:spcPct val="70000"/>
              </a:lnSpc>
              <a:spcBef>
                <a:spcPts val="18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Out% = [100% * E / banda] = 100%*(200-190)/20 = 50%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lnSpc>
                <a:spcPct val="70000"/>
              </a:lnSpc>
              <a:spcBef>
                <a:spcPts val="18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Al llegar la temperatura a 200 °C la salida será 0% :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5880" indent="-335880">
              <a:lnSpc>
                <a:spcPct val="70000"/>
              </a:lnSpc>
              <a:spcBef>
                <a:spcPts val="18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Out% = [100%*(200-200)/20] = 0%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Arial"/>
              </a:rPr>
              <a:t>Control Proporcional Derivativo   PD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ahoma"/>
              </a:rPr>
              <a:t>Esta acción suele llamarse de velocidad, pero nunca puede tenerse sola, pues sólo actua en periodo transitori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imes New Roman"/>
              </a:rPr>
              <a:t>Un control PD es uno proporcional al que se le agrega la capacidad de considerar también la velocidad de la temperatura en el tiemp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imes New Roman"/>
              </a:rPr>
              <a:t>De esta forma se puede "adelantar" la acción de control del mando de salida para obtener así una temperatura más estable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imes New Roman"/>
              </a:rPr>
              <a:t>Si la temperatura esta por debajo del SP, pero subiendo muy rápidamente y se va a pasar de largo el SP, entonces el control se adelanta y disminuye la potencia de los calefactore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imes New Roman"/>
              </a:rPr>
              <a:t>Al revés si la temperatura es mayor que el SP, la salida debería ser 0% pero si el control estima que la temperatura baja muy rápido y se va pasar para abajo del SP, entonces le coloca algo de potencia a la salida para ir frenando el descenso brusc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4d4d4d"/>
                </a:solidFill>
                <a:latin typeface="Verdana"/>
                <a:ea typeface="Times New Roman"/>
              </a:rPr>
              <a:t>Concepto de señal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En los sistemas de control, una magnitud física variable se representa generalmente mediante una señal eléctrica que varía de manera tal que describe dicha magnitud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Por ejemplo, una señal eléctrica será la variación de la salida de tensión de un termopar que mide temperatura y la variación de temperatura la transforma en variación de tensión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Los dispositivos, circuitos y sistemas electrónicos manipulan señales eléctricas.</a:t>
            </a:r>
            <a:r>
              <a:rPr b="0" lang="es-ES" sz="26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3047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rol PD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imes New Roman"/>
              </a:rPr>
              <a:t>La acción derivativa es llamada a veces </a:t>
            </a:r>
            <a:r>
              <a:rPr b="1" lang="es-ES_tradnl" sz="2600" spc="-1" strike="noStrike">
                <a:solidFill>
                  <a:srgbClr val="4d4d4d"/>
                </a:solidFill>
                <a:latin typeface="Times New Roman"/>
              </a:rPr>
              <a:t>"rate action" </a:t>
            </a:r>
            <a:r>
              <a:rPr b="0" lang="es-ES_tradnl" sz="2600" spc="-1" strike="noStrike">
                <a:solidFill>
                  <a:srgbClr val="4d4d4d"/>
                </a:solidFill>
                <a:latin typeface="Times New Roman"/>
              </a:rPr>
              <a:t>por algunos fabricantes de controles porque considera la </a:t>
            </a:r>
            <a:r>
              <a:rPr b="1" lang="es-ES_tradnl" sz="2600" spc="-1" strike="noStrike">
                <a:solidFill>
                  <a:srgbClr val="4d4d4d"/>
                </a:solidFill>
                <a:latin typeface="Times New Roman"/>
              </a:rPr>
              <a:t>"razón de cambio"</a:t>
            </a:r>
            <a:r>
              <a:rPr b="0" lang="es-ES_tradnl" sz="2600" spc="-1" strike="noStrike">
                <a:solidFill>
                  <a:srgbClr val="4d4d4d"/>
                </a:solidFill>
                <a:latin typeface="Times New Roman"/>
              </a:rPr>
              <a:t> de la temperatura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imes New Roman"/>
              </a:rPr>
              <a:t>En el ejemplo del horno agregamos un nuevo parámetro llamado constante derivativa D, medido en segundo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imes New Roman"/>
              </a:rPr>
              <a:t>Internamente el controlador realizará ahora el cálculo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imes New Roman"/>
              </a:rPr>
              <a:t>Out = [ 100% * ( E - D * Vel) / ( banda ) ]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imes New Roman"/>
              </a:rPr>
              <a:t>banda = Pb*SP/100%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imes New Roman"/>
              </a:rPr>
              <a:t>Donde "Vel" es la velocidad de la temperatura medida por el controlador, en °C/seg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Times New Roman"/>
              </a:rPr>
              <a:t>Para este ejemplo fijamos D = 5 seg. y como antes SP=200 °C y Pb=10%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d4d4d"/>
                </a:solidFill>
                <a:latin typeface="Tahoma"/>
              </a:rPr>
              <a:t>Ejemplo de Control PD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8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Supongamos que en un momento dado, la temperatura del horno es de 185°C y está subiendo a una velocidad Vel= 2 °C/Seg.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lnSpc>
                <a:spcPct val="70000"/>
              </a:lnSpc>
              <a:spcBef>
                <a:spcPts val="18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En un control proporcional la salida debería ser de 75%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35480" indent="-282960">
              <a:lnSpc>
                <a:spcPct val="60000"/>
              </a:lnSpc>
              <a:spcBef>
                <a:spcPts val="11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Times New Roman"/>
              </a:rPr>
              <a:t>Out = [ 100% *E / banda ] = 100%*15°C/20°C = 75%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8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Pero en este caso el control PD toma en cuenta la velocidad de ascenso de la temperatura y la multiplica por la constante derivativa D y obtiene :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35480" indent="-282960">
              <a:lnSpc>
                <a:spcPct val="70000"/>
              </a:lnSpc>
              <a:spcBef>
                <a:spcPts val="11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Times New Roman"/>
              </a:rPr>
              <a:t>Out = [ 100% * ( E - D * Vel) / ( banda ) ]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1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Times New Roman"/>
              </a:rPr>
              <a:t>= [ 100% * (15°C - 5 Seg * 2 °C/Seg.) / banda ]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35480" indent="-282960">
              <a:lnSpc>
                <a:spcPct val="70000"/>
              </a:lnSpc>
              <a:spcBef>
                <a:spcPts val="1100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Times New Roman"/>
              </a:rPr>
              <a:t>= [ 100% * (5°C) / 20°C ] = 25%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8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entonces a pesar que la temperatura actual es 185 °C, la salida es 25% en vez de 75%, al considerar la velocidad de ascenso de la temperatur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8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Times New Roman"/>
              </a:rPr>
              <a:t>De la misma forma, si la temperatura está sobre 200 °C pero descendiendo rápidamente, (velocidad negativa) por ejemplo:               -1°C/seg, entonces el control activará antes y con mayor potencia la salida intentando que no baje de 200 °C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048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rol PI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imes New Roman"/>
              </a:rPr>
              <a:t>Este control es el proporcional más la acción integral, que lo corrige tomando en cuenta la magnitud del error y el tiempo que este ha permanecido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imes New Roman"/>
              </a:rPr>
              <a:t>Para ello se le programa al control una constante </a:t>
            </a:r>
            <a:r>
              <a:rPr b="1" lang="es-ES_tradnl" sz="2000" spc="-1" strike="noStrike">
                <a:solidFill>
                  <a:srgbClr val="4d4d4d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4d4d4d"/>
                </a:solidFill>
                <a:latin typeface="Times New Roman"/>
              </a:rPr>
              <a:t>, que es "la cantidad de veces que aumenta la acción proporcional por segundo“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imes New Roman"/>
              </a:rPr>
              <a:t>Por muy pequeño que sea el valor programado de I, siempre corregirá el error estacionario, pero tardará más tiempo en hacerlo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imes New Roman"/>
              </a:rPr>
              <a:t>Al revés si se programa un valor excesivo de I , entonces la acción integral tendrá mucha fuerza en la salida y el sistema alcanzará rápidamente el SP, pero lo más probable es que siga de largo por efectos de la inercia térmica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imes New Roman"/>
              </a:rPr>
              <a:t>Entonces la acción integral (con error negativo) será en sentido contrario, irá disminuyendo rápidamente de acuerdo al error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imes New Roman"/>
              </a:rPr>
              <a:t>Como consecuencia habrá una excesiva disminución de la potencia de salida y la temperatura probablemente baje del SP, entrando así el sistema en un ciclo oscilatorio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imes New Roman"/>
              </a:rPr>
              <a:t>En la práctica normalmente </a:t>
            </a:r>
            <a:r>
              <a:rPr b="1" lang="es-ES_tradnl" sz="2000" spc="-1" strike="noStrike">
                <a:solidFill>
                  <a:srgbClr val="4d4d4d"/>
                </a:solidFill>
                <a:latin typeface="Times New Roman"/>
              </a:rPr>
              <a:t>I deberá ser grande solo en sistemas que reaccionan rápidamente</a:t>
            </a:r>
            <a:r>
              <a:rPr b="0" lang="es-ES_tradnl" sz="2000" spc="-1" strike="noStrike">
                <a:solidFill>
                  <a:srgbClr val="4d4d4d"/>
                </a:solidFill>
                <a:latin typeface="Times New Roman"/>
              </a:rPr>
              <a:t>, (por ejemplo controles de velocidad de motores ) y pequeño para sistemas lentos con mucha inercia. (Por ejemplo hornos)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imes New Roman"/>
              </a:rPr>
              <a:t>En general los valores de la constante I son relativamente pequeños, para la mayoría de los sistemas el valor adecuado de I varia entre 0 y 0,08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3048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4d4d4d"/>
                </a:solidFill>
                <a:latin typeface="Tahoma"/>
              </a:rPr>
              <a:t>Control PID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Times New Roman"/>
              </a:rPr>
              <a:t>Un control PID es un controlador proporcional con acción derivativa y acción integral simultáneamente superpuestas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Times New Roman"/>
              </a:rPr>
              <a:t>el lector ya debe estarse preguntando cómo elegir los valores de los parámetros Pb, D, I,  que debe introducir en su controlador PID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Times New Roman"/>
              </a:rPr>
              <a:t>Existe un solo conjunto de valores Pb, D, I que darán el rendimiento óptimo para un sistema y encontrarlos requiere: conocimientos teóricos, habilidad, experiencia y suerte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4d4d4d"/>
                </a:solidFill>
                <a:latin typeface="Verdana"/>
                <a:ea typeface="Times New Roman"/>
              </a:rPr>
              <a:t>Tipos de señales eléctricas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648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Señal analógica 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(nº infinito de valores) y que tiene una variación continua en el tiemp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Señal digital 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(nº finito de valores) y que tiene una variación discreta de valores en el tiemp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Señal digital binaria 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  <a:ea typeface="Times New Roman"/>
              </a:rPr>
              <a:t>(dos valores concretos, 1 y 0) la señal eléctrica sólo puede adoptar dos niveles de tensión.</a:t>
            </a:r>
            <a:r>
              <a:rPr b="0" lang="es-ES" sz="26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7" name="Rectangle 6"/>
          <p:cNvSpPr/>
          <p:nvPr/>
        </p:nvSpPr>
        <p:spPr>
          <a:xfrm>
            <a:off x="334332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638" name="Picture 7" descr=""/>
          <p:cNvPicPr/>
          <p:nvPr/>
        </p:nvPicPr>
        <p:blipFill>
          <a:blip r:embed="rId1"/>
          <a:stretch/>
        </p:blipFill>
        <p:spPr>
          <a:xfrm>
            <a:off x="5105520" y="1847880"/>
            <a:ext cx="40384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4d4d4d"/>
                </a:solidFill>
                <a:latin typeface="Tahoma"/>
              </a:rPr>
              <a:t>Ventajas de utilizar señales eléctricas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Verdana"/>
                <a:ea typeface="Times New Roman"/>
              </a:rPr>
              <a:t>Resulta muy sencillo procesarlas mediante circuitos electrónicos, que son tanto económicos como fiables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Verdana"/>
                <a:ea typeface="Times New Roman"/>
              </a:rPr>
              <a:t>Pueden transmitirse sin dificultad a largas distancias. 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Verdana"/>
                <a:ea typeface="Times New Roman"/>
              </a:rPr>
              <a:t>Pueden almacenarse para ser posteriormente reproducidas. </a:t>
            </a:r>
            <a:r>
              <a:rPr b="0" lang="es-ES" sz="30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200" spc="-1" strike="noStrike">
                <a:solidFill>
                  <a:srgbClr val="4d4d4d"/>
                </a:solidFill>
                <a:latin typeface="Verdana"/>
                <a:ea typeface="Arial"/>
              </a:rPr>
              <a:t>Concepto de Sistema: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48769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d4d4d"/>
                </a:solidFill>
                <a:latin typeface="Verdana"/>
                <a:ea typeface="Times New Roman"/>
              </a:rPr>
              <a:t>¿Qué es un sistema?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d4d4d"/>
                </a:solidFill>
                <a:latin typeface="Verdana"/>
                <a:ea typeface="Times New Roman"/>
              </a:rPr>
              <a:t>Combinación de componentes que actúan interconectados, para cumplir un determinado objetivo.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d4d4d"/>
                </a:solidFill>
                <a:latin typeface="Verdana"/>
                <a:ea typeface="Times New Roman"/>
              </a:rPr>
              <a:t>¿Cómo se representa un sistema?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d4d4d"/>
                </a:solidFill>
                <a:latin typeface="Verdana"/>
                <a:ea typeface="Times New Roman"/>
              </a:rPr>
              <a:t>Como un rectángulo o caja negra y variables que actúan sobre el sistema. Las flechas que entran (u, excitaciones o entradas). Las flechas que salen (y, variables producidas por el sistema o salidas).</a:t>
            </a:r>
            <a:r>
              <a:rPr b="0" lang="es-ES" sz="22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643" name="Picture 6" descr="\\Pc1\d\Pascual\CFSRC\CursoControl\Sacado del libro de Cellier CAP Introduction, Scope, and Definitions_archivos\Image54.gif"/>
          <p:cNvPicPr/>
          <p:nvPr/>
        </p:nvPicPr>
        <p:blipFill>
          <a:blip r:embed="rId1"/>
          <a:stretch/>
        </p:blipFill>
        <p:spPr>
          <a:xfrm>
            <a:off x="4800600" y="3059280"/>
            <a:ext cx="4343400" cy="22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4d4d4d"/>
                </a:solidFill>
                <a:latin typeface="Verdana"/>
                <a:ea typeface="Times New Roman"/>
              </a:rPr>
              <a:t>Modelado de Sistemas</a:t>
            </a:r>
            <a:r>
              <a:rPr b="0" lang="es-ES" sz="42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14040" y="68580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4d4d4d"/>
                </a:solidFill>
                <a:latin typeface="Arial"/>
                <a:ea typeface="Arial"/>
              </a:rPr>
              <a:t>¿Qué es un modelo?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Es algo que nos ayuda a entender el funcionamiento de un sistema. Puede 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r una placa electrónica (hardware) o un conjunto de relaciones matemáticas, en las cuales codificamos el funcionamiento del sistema (es lo que llamamos </a:t>
            </a:r>
            <a:r>
              <a:rPr b="1" lang="es-ES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modelo matemático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) y que eventualmente puede desarrollarse en un programa de ordenador.</a:t>
            </a:r>
            <a:r>
              <a:rPr b="0" lang="es-ES" sz="20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4d4d4d"/>
                </a:solidFill>
                <a:latin typeface="Arial"/>
                <a:ea typeface="Arial"/>
              </a:rPr>
              <a:t>Modelado Entrada - Salida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Uno de los enfoques de modelado más útiles para propósitos de control es el </a:t>
            </a:r>
            <a:r>
              <a:rPr b="1" i="1" lang="es-ES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Modelado Externo 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o entrada / salida. Este tipo de modelo describe la relación estímulo - respuesta del proceso y conduce a la llamada </a:t>
            </a:r>
            <a:r>
              <a:rPr b="1" lang="es-ES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unción Transferencia 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del proceso.</a:t>
            </a:r>
            <a:r>
              <a:rPr b="0" lang="es-ES" sz="26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4d4d4d"/>
                </a:solidFill>
                <a:latin typeface="Verdana"/>
                <a:ea typeface="MS Mincho"/>
              </a:rPr>
              <a:t>Función de Transferencia</a:t>
            </a:r>
            <a:r>
              <a:rPr b="0" lang="es-ES" sz="42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108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d4d4d"/>
                </a:solidFill>
                <a:latin typeface="Verdana"/>
                <a:ea typeface="MS Mincho"/>
              </a:rPr>
              <a:t>Función de transferencia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  <a:ea typeface="MS Mincho"/>
              </a:rPr>
              <a:t> de un sistema se indica por G(s), y es el cociente entre la transformada de Laplace de la señal de salida y la transformada de Laplace de la señal de entrada</a:t>
            </a:r>
            <a:r>
              <a:rPr b="0" lang="es-ES" sz="22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48" name="Rectangle 6"/>
          <p:cNvSpPr/>
          <p:nvPr/>
        </p:nvSpPr>
        <p:spPr>
          <a:xfrm>
            <a:off x="215748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649" name="Picture 7" descr=""/>
          <p:cNvPicPr/>
          <p:nvPr/>
        </p:nvPicPr>
        <p:blipFill>
          <a:blip r:embed="rId1"/>
          <a:stretch/>
        </p:blipFill>
        <p:spPr>
          <a:xfrm>
            <a:off x="609480" y="4168800"/>
            <a:ext cx="8077320" cy="261288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9"/>
          <p:cNvSpPr/>
          <p:nvPr/>
        </p:nvSpPr>
        <p:spPr>
          <a:xfrm>
            <a:off x="178596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651" name="Picture 8" descr=""/>
          <p:cNvPicPr/>
          <p:nvPr/>
        </p:nvPicPr>
        <p:blipFill>
          <a:blip r:embed="rId2"/>
          <a:stretch/>
        </p:blipFill>
        <p:spPr>
          <a:xfrm>
            <a:off x="457200" y="2787480"/>
            <a:ext cx="8686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4T18:25:46Z</dcterms:created>
  <dc:creator>Pablo Turmero</dc:creator>
  <dc:description/>
  <dc:language>en-US</dc:language>
  <cp:lastModifiedBy>Pablo Turmero</cp:lastModifiedBy>
  <dcterms:modified xsi:type="dcterms:W3CDTF">2016-07-10T23:18:50Z</dcterms:modified>
  <cp:revision>159</cp:revision>
  <dc:subject/>
  <dc:title>SISTEMAS DE CONTROL</dc:title>
</cp:coreProperties>
</file>