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12.wmf" ContentType="image/x-wmf"/>
  <Override PartName="/ppt/media/image4.png" ContentType="image/png"/>
  <Override PartName="/ppt/media/image9.png" ContentType="image/png"/>
  <Override PartName="/ppt/media/image13.wmf" ContentType="image/x-wmf"/>
  <Override PartName="/ppt/media/image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809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dt" idx="26"/>
          </p:nvPr>
        </p:nvSpPr>
        <p:spPr>
          <a:xfrm>
            <a:off x="4024440" y="0"/>
            <a:ext cx="3078000" cy="4809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Img"/>
          </p:nvPr>
        </p:nvSpPr>
        <p:spPr>
          <a:xfrm>
            <a:off x="991800" y="800280"/>
            <a:ext cx="5118120" cy="383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body"/>
          </p:nvPr>
        </p:nvSpPr>
        <p:spPr>
          <a:xfrm>
            <a:off x="947520" y="4879440"/>
            <a:ext cx="5206680" cy="45579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ftr" idx="27"/>
          </p:nvPr>
        </p:nvSpPr>
        <p:spPr>
          <a:xfrm>
            <a:off x="0" y="9756720"/>
            <a:ext cx="3078000" cy="4809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 type="sldNum" idx="28"/>
          </p:nvPr>
        </p:nvSpPr>
        <p:spPr>
          <a:xfrm>
            <a:off x="4024440" y="9756720"/>
            <a:ext cx="3078000" cy="4809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E0176A4-AB43-4E86-A1A8-CA6C20D3539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7"/>
          <p:cNvSpPr/>
          <p:nvPr/>
        </p:nvSpPr>
        <p:spPr>
          <a:xfrm>
            <a:off x="4024440" y="9756720"/>
            <a:ext cx="30780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A502799-BD39-493B-99DD-916855890EE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992160" y="800280"/>
            <a:ext cx="5118120" cy="383832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947520" y="4879440"/>
            <a:ext cx="5206680" cy="455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4024440" y="9756720"/>
            <a:ext cx="30780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80C95EE-E3D2-4C31-8E51-9DD1FCAD588E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992160" y="800280"/>
            <a:ext cx="5118120" cy="383832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947520" y="4879440"/>
            <a:ext cx="5206680" cy="455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4024440" y="9756720"/>
            <a:ext cx="30780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476E4B3-6E14-40AD-A817-85BBBB6900BB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992160" y="800280"/>
            <a:ext cx="5118120" cy="383832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947520" y="4879440"/>
            <a:ext cx="5206680" cy="455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4024440" y="9756720"/>
            <a:ext cx="30780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2F89359-0EE7-42C0-90C5-071F0FB7680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992160" y="800280"/>
            <a:ext cx="5118120" cy="383832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947520" y="4879440"/>
            <a:ext cx="5206680" cy="455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52280"/>
            <a:ext cx="9144000" cy="4572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0"/>
            <a:ext cx="762120" cy="6858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762120" y="609480"/>
            <a:ext cx="8381880" cy="4572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Text Box 9"/>
          <p:cNvSpPr/>
          <p:nvPr/>
        </p:nvSpPr>
        <p:spPr>
          <a:xfrm>
            <a:off x="2133720" y="272880"/>
            <a:ext cx="67816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Redes y servicios Frame Relay y AT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" name="Picture 12" descr="logodiec"/>
          <p:cNvPicPr/>
          <p:nvPr/>
        </p:nvPicPr>
        <p:blipFill>
          <a:blip r:embed="rId2"/>
          <a:stretch/>
        </p:blipFill>
        <p:spPr>
          <a:xfrm>
            <a:off x="7467480" y="6324480"/>
            <a:ext cx="609840" cy="460440"/>
          </a:xfrm>
          <a:prstGeom prst="rect">
            <a:avLst/>
          </a:prstGeom>
          <a:ln w="0">
            <a:noFill/>
          </a:ln>
        </p:spPr>
      </p:pic>
      <p:sp>
        <p:nvSpPr>
          <p:cNvPr id="7" name="Text Box 11"/>
          <p:cNvSpPr/>
          <p:nvPr/>
        </p:nvSpPr>
        <p:spPr>
          <a:xfrm>
            <a:off x="7924680" y="634824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epartamento d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ngenier</a:t>
            </a: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a Electrónica y Comunicacione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dt" idx="1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dt" idx="2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ftr" idx="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dt" idx="2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5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46" name="Rectangle 4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" name="Rectangle 5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" name="Rectangle 6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Text Box 13"/>
          <p:cNvSpPr/>
          <p:nvPr/>
        </p:nvSpPr>
        <p:spPr>
          <a:xfrm>
            <a:off x="3581280" y="49975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partamento de Ingeniería Electrónica y Comunicacion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3"/>
          </p:nvPr>
        </p:nvSpPr>
        <p:spPr>
          <a:xfrm>
            <a:off x="6300360" y="6324480"/>
            <a:ext cx="2538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Noviembre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dt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dt" idx="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dt" idx="1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dt" idx="1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image" Target="../media/image14.wmf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5080" y="1699920"/>
            <a:ext cx="80089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400" spc="-1" strike="noStrike">
                <a:solidFill>
                  <a:srgbClr val="000000"/>
                </a:solidFill>
                <a:latin typeface="Arial"/>
                <a:ea typeface="Arial"/>
              </a:rPr>
              <a:t>Multiprotocolo de conmutación por etiquetas 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2"/>
          <p:cNvSpPr/>
          <p:nvPr/>
        </p:nvSpPr>
        <p:spPr>
          <a:xfrm>
            <a:off x="99072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826920" y="609480"/>
            <a:ext cx="8317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EC: Forwarding Equivalence Clas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Rectangle 4"/>
          <p:cNvSpPr/>
          <p:nvPr/>
        </p:nvSpPr>
        <p:spPr>
          <a:xfrm>
            <a:off x="98892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junto de paquetes que entran en la red MPLS por la misma interfaz, que reciben la misma etiqueta y por tanto circulan por un mismo trayect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paquetes son clasificados en FEC una vez cuando ingresan en el dominio MP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a FEC puede agrupar varios flujos, pero un mismo flujo no puede pertenecer a más de una FEC al mismo tiemp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aquetes de una misma FEC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ciben la misma etiquet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n mapeados en el mismo LSP, es decir, son transmitidos sobre el mismo camino (o conjunto de caminos en el caso de multi-path routing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2"/>
          <p:cNvSpPr/>
          <p:nvPr/>
        </p:nvSpPr>
        <p:spPr>
          <a:xfrm>
            <a:off x="99072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Rectangle 3"/>
          <p:cNvSpPr/>
          <p:nvPr/>
        </p:nvSpPr>
        <p:spPr>
          <a:xfrm>
            <a:off x="826920" y="609480"/>
            <a:ext cx="8317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SR: Label Switching Rou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Rectangle 5"/>
          <p:cNvSpPr/>
          <p:nvPr/>
        </p:nvSpPr>
        <p:spPr>
          <a:xfrm>
            <a:off x="988920" y="3429000"/>
            <a:ext cx="7772400" cy="28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outer que puede encaminar paquetes en función del valor de la etiqueta MP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outers Frontera (ingress y egress) LSRs ponen y quitan (Push &amp; Pop) etiqueta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SRs interiores conmutan etiqueta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44" name="Object 53"/>
          <p:cNvGraphicFramePr/>
          <p:nvPr/>
        </p:nvGraphicFramePr>
        <p:xfrm>
          <a:off x="1619280" y="1139760"/>
          <a:ext cx="6434280" cy="214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5" name="Object 5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139760"/>
                    <a:ext cx="6434280" cy="21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2"/>
          <p:cNvSpPr/>
          <p:nvPr/>
        </p:nvSpPr>
        <p:spPr>
          <a:xfrm>
            <a:off x="99072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Rectangle 3"/>
          <p:cNvSpPr/>
          <p:nvPr/>
        </p:nvSpPr>
        <p:spPr>
          <a:xfrm>
            <a:off x="826920" y="609480"/>
            <a:ext cx="8317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SR: Label Switching Rou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Rectangle 4"/>
          <p:cNvSpPr/>
          <p:nvPr/>
        </p:nvSpPr>
        <p:spPr>
          <a:xfrm>
            <a:off x="988920" y="3429000"/>
            <a:ext cx="7772400" cy="32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outers Fronter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(ingress y egress) LSR o LER ponen y quitan etiquet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SR Frontera de ingreso “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gress LS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 la entrada del flujo a la red MPLS (al principio del LSP)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xamina los paquetes IP y los introduce en el dominio MPL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 encargan de clasificar los paquetes en FEC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 la etiqueta MPLS. Asigna la etiqueta inicial en el paquet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49" name="Object 5"/>
          <p:cNvGraphicFramePr/>
          <p:nvPr/>
        </p:nvGraphicFramePr>
        <p:xfrm>
          <a:off x="1619280" y="1139760"/>
          <a:ext cx="6434280" cy="214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139760"/>
                    <a:ext cx="6434280" cy="21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2"/>
          <p:cNvSpPr/>
          <p:nvPr/>
        </p:nvSpPr>
        <p:spPr>
          <a:xfrm>
            <a:off x="99072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Rectangle 3"/>
          <p:cNvSpPr/>
          <p:nvPr/>
        </p:nvSpPr>
        <p:spPr>
          <a:xfrm>
            <a:off x="826920" y="609480"/>
            <a:ext cx="8317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SR: Label Switching Rou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Rectangle 4"/>
          <p:cNvSpPr/>
          <p:nvPr/>
        </p:nvSpPr>
        <p:spPr>
          <a:xfrm>
            <a:off x="988920" y="3429000"/>
            <a:ext cx="7772400" cy="32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outers Fronter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(ingress y egress) LSR o LER ponen y quitan etiquet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SR Frontera de egreso “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gress LS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 la salida del flujo de la red MPLS (al final del LSP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limina o quita la cabecera  MPL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xamina el paquete para su tramitación (encaminamiento IP normal, label swap, etc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54" name="Object 5"/>
          <p:cNvGraphicFramePr/>
          <p:nvPr/>
        </p:nvGraphicFramePr>
        <p:xfrm>
          <a:off x="1619280" y="1139760"/>
          <a:ext cx="6434280" cy="214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139760"/>
                    <a:ext cx="6434280" cy="21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2"/>
          <p:cNvSpPr/>
          <p:nvPr/>
        </p:nvSpPr>
        <p:spPr>
          <a:xfrm>
            <a:off x="99072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Rectangle 3"/>
          <p:cNvSpPr/>
          <p:nvPr/>
        </p:nvSpPr>
        <p:spPr>
          <a:xfrm>
            <a:off x="826920" y="609480"/>
            <a:ext cx="8317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SP: Label Switching Pa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Rectangle 4"/>
          <p:cNvSpPr/>
          <p:nvPr/>
        </p:nvSpPr>
        <p:spPr>
          <a:xfrm>
            <a:off x="98892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¿Qué es?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Camino que siguen por la red MPLS los paquetes que pertenecen a la misma FEC. Es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quivalente a un circuito virtu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n ATM o Frame Rela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 trata de un túnel unidireccional a través de un dominio MPL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ara una ruta bidireccional hacen falta dos LS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uede ser desviado del camino más corto definido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bido a problemas de recursos en ese camin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bido a un encaminamiento explícito hecho por un diseñad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IB (Label Information Bas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ambién LST (label switching table) o ILM (incoming Label Map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abla de etiquetas que manejan los LS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Relaciona la pareja (interfaz de entrada - etiqueta de entrada) con (interfaz de salida - etiqueta de salida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2"/>
          <p:cNvSpPr/>
          <p:nvPr/>
        </p:nvSpPr>
        <p:spPr>
          <a:xfrm>
            <a:off x="99072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Rectangle 3"/>
          <p:cNvSpPr/>
          <p:nvPr/>
        </p:nvSpPr>
        <p:spPr>
          <a:xfrm>
            <a:off x="826920" y="609480"/>
            <a:ext cx="8317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tocolos de distribución de etiquet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Rectangle 4"/>
          <p:cNvSpPr/>
          <p:nvPr/>
        </p:nvSpPr>
        <p:spPr>
          <a:xfrm>
            <a:off x="98892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proceso que permite la construcción de las LIBs, necesario para la creación de los LSP se denomina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istribución de etiquet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PLS permite la utilización de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arios mecanism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 señalización para este procedimient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DP (Label Distribution Protocol)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protocolo especificado para la distribución de etiquetas basado en la información de enrutamiento de IP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R-LDP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t-Based Routed Label Distributed Protocol)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protocolo derivación del anterior que permite enrutamiento explícito con Q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SVP-TE (RSVP Traffic Engineering)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 protocolo derivado de RSVP estándar que permite enrutamiento explícito con Q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2"/>
          <p:cNvSpPr/>
          <p:nvPr/>
        </p:nvSpPr>
        <p:spPr>
          <a:xfrm>
            <a:off x="99072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Rectangle 3"/>
          <p:cNvSpPr/>
          <p:nvPr/>
        </p:nvSpPr>
        <p:spPr>
          <a:xfrm>
            <a:off x="826920" y="609480"/>
            <a:ext cx="8317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DP: Label Distribution Protoc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Rectangle 4"/>
          <p:cNvSpPr/>
          <p:nvPr/>
        </p:nvSpPr>
        <p:spPr>
          <a:xfrm>
            <a:off x="98892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imer protocolo de distribución de etiquetas estandarizado por MPLS Working Group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principales características de LDP s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signación de etiqueta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op-by-Hop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siones TCP entre LER/LSR (relación peer-to-peer para intercambiar información de etiquetado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o permite señalizar QoS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tremo a extrem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ensajes de LDP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iscovery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”: Mensajes de descubrimiento: permite a los LSR indicar su presencia mediante mensajes UDP de “Hello”. Cuando el descubrimiento es realizado, la señalización se realiza por TCP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jacency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”: Mensajes de establecimiento, mantenimiento y terminación de ses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vertisement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”: Mensajes de advertencia para la creación, cambio y eliminación de vínculos de  etiqueta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ensajes de Notifica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2"/>
          <p:cNvSpPr/>
          <p:nvPr/>
        </p:nvSpPr>
        <p:spPr>
          <a:xfrm>
            <a:off x="99072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Rectangle 3"/>
          <p:cNvSpPr/>
          <p:nvPr/>
        </p:nvSpPr>
        <p:spPr>
          <a:xfrm>
            <a:off x="826920" y="609480"/>
            <a:ext cx="8317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DP: Label Distribution Protoc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7" name="Picture 5" descr=""/>
          <p:cNvPicPr/>
          <p:nvPr/>
        </p:nvPicPr>
        <p:blipFill>
          <a:blip r:embed="rId1"/>
          <a:stretch/>
        </p:blipFill>
        <p:spPr>
          <a:xfrm>
            <a:off x="1525680" y="1125360"/>
            <a:ext cx="693396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2"/>
          <p:cNvSpPr/>
          <p:nvPr/>
        </p:nvSpPr>
        <p:spPr>
          <a:xfrm>
            <a:off x="99072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Rectangle 3"/>
          <p:cNvSpPr/>
          <p:nvPr/>
        </p:nvSpPr>
        <p:spPr>
          <a:xfrm>
            <a:off x="826920" y="609480"/>
            <a:ext cx="8317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DP: Label Distribution Protoc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0" name="Picture 5" descr=""/>
          <p:cNvPicPr/>
          <p:nvPr/>
        </p:nvPicPr>
        <p:blipFill>
          <a:blip r:embed="rId1"/>
          <a:stretch/>
        </p:blipFill>
        <p:spPr>
          <a:xfrm>
            <a:off x="3030480" y="3638520"/>
            <a:ext cx="754200" cy="48888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6" descr=""/>
          <p:cNvPicPr/>
          <p:nvPr/>
        </p:nvPicPr>
        <p:blipFill>
          <a:blip r:embed="rId2"/>
          <a:stretch/>
        </p:blipFill>
        <p:spPr>
          <a:xfrm>
            <a:off x="5113440" y="3613320"/>
            <a:ext cx="753840" cy="488880"/>
          </a:xfrm>
          <a:prstGeom prst="rect">
            <a:avLst/>
          </a:prstGeom>
          <a:ln w="0">
            <a:noFill/>
          </a:ln>
        </p:spPr>
      </p:pic>
      <p:sp>
        <p:nvSpPr>
          <p:cNvPr id="572" name="Text Box 7"/>
          <p:cNvSpPr/>
          <p:nvPr/>
        </p:nvSpPr>
        <p:spPr>
          <a:xfrm>
            <a:off x="1339920" y="14130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La distribución de etiquetas asegura que los routers adyacentes conocen la combinación de etiqueta y su FEC asocia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Text Box 8"/>
          <p:cNvSpPr/>
          <p:nvPr/>
        </p:nvSpPr>
        <p:spPr>
          <a:xfrm>
            <a:off x="1838160" y="2460600"/>
            <a:ext cx="1467000" cy="70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Routing Table: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Addr-prefix    Next Hop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47.0.0.0/8      LSR2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3535200" y="332748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LSR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5707080" y="3365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LSR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3905280" y="387504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7" name="Picture 12" descr=""/>
          <p:cNvPicPr/>
          <p:nvPr/>
        </p:nvPicPr>
        <p:blipFill>
          <a:blip r:embed="rId3"/>
          <a:stretch/>
        </p:blipFill>
        <p:spPr>
          <a:xfrm>
            <a:off x="7221600" y="3600360"/>
            <a:ext cx="753840" cy="488880"/>
          </a:xfrm>
          <a:prstGeom prst="rect">
            <a:avLst/>
          </a:prstGeom>
          <a:ln w="0">
            <a:noFill/>
          </a:ln>
        </p:spPr>
      </p:pic>
      <p:sp>
        <p:nvSpPr>
          <p:cNvPr id="578" name="Text Box 13"/>
          <p:cNvSpPr/>
          <p:nvPr/>
        </p:nvSpPr>
        <p:spPr>
          <a:xfrm>
            <a:off x="7815240" y="335268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LSR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Line 14"/>
          <p:cNvSpPr/>
          <p:nvPr/>
        </p:nvSpPr>
        <p:spPr>
          <a:xfrm>
            <a:off x="6013440" y="386244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Rectangle 15"/>
          <p:cNvSpPr/>
          <p:nvPr/>
        </p:nvSpPr>
        <p:spPr>
          <a:xfrm>
            <a:off x="1098720" y="3824280"/>
            <a:ext cx="1752480" cy="19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1146600" y="3781440"/>
            <a:ext cx="83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IP Packe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2099160" y="3807000"/>
            <a:ext cx="7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47.80.55.3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736720" y="3252960"/>
            <a:ext cx="355680" cy="36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19"/>
          <p:cNvSpPr/>
          <p:nvPr/>
        </p:nvSpPr>
        <p:spPr>
          <a:xfrm>
            <a:off x="4733640" y="2371680"/>
            <a:ext cx="1467000" cy="70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Routing Table: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Addr-prefix    Next Hop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47.0.0.0/8      LSR3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Line 20"/>
          <p:cNvSpPr/>
          <p:nvPr/>
        </p:nvSpPr>
        <p:spPr>
          <a:xfrm flipH="1">
            <a:off x="5530680" y="3125880"/>
            <a:ext cx="17784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Line 21"/>
          <p:cNvSpPr/>
          <p:nvPr/>
        </p:nvSpPr>
        <p:spPr>
          <a:xfrm>
            <a:off x="2101680" y="383688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AutoShape 22"/>
          <p:cNvSpPr/>
          <p:nvPr/>
        </p:nvSpPr>
        <p:spPr>
          <a:xfrm flipH="1">
            <a:off x="3967920" y="4332240"/>
            <a:ext cx="1359000" cy="507960"/>
          </a:xfrm>
          <a:custGeom>
            <a:avLst/>
            <a:gdLst>
              <a:gd name="textAreaLeft" fmla="*/ -360 w 1359000"/>
              <a:gd name="textAreaRight" fmla="*/ 1359000 w 135900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78" y="0"/>
                </a:lnTo>
                <a:lnTo>
                  <a:pt x="21600" y="10800"/>
                </a:lnTo>
                <a:lnTo>
                  <a:pt x="1887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For 47.0.0.0/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use label ‘17’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 Box 23"/>
          <p:cNvSpPr/>
          <p:nvPr/>
        </p:nvSpPr>
        <p:spPr>
          <a:xfrm>
            <a:off x="5584320" y="4378320"/>
            <a:ext cx="1794600" cy="70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Label Information Base: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Label-In     FEC     Label-Ou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17          47.0.0.0/8       XX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Line 24"/>
          <p:cNvSpPr/>
          <p:nvPr/>
        </p:nvSpPr>
        <p:spPr>
          <a:xfrm flipH="1" flipV="1">
            <a:off x="5581440" y="4141440"/>
            <a:ext cx="8892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1799640" y="4264200"/>
            <a:ext cx="1794600" cy="70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Label Information Base: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Label-In     FEC     Label-Ou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XX          47.0.0.0/8      17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 Box 26"/>
          <p:cNvSpPr/>
          <p:nvPr/>
        </p:nvSpPr>
        <p:spPr>
          <a:xfrm>
            <a:off x="6289560" y="5241960"/>
            <a:ext cx="274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Paso 1:  LSR crea el vínculo entre el FEC y su etiquet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 Box 27"/>
          <p:cNvSpPr/>
          <p:nvPr/>
        </p:nvSpPr>
        <p:spPr>
          <a:xfrm>
            <a:off x="3549600" y="5165640"/>
            <a:ext cx="228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Paso 2:  El LSR comunica el vínculo a su router adyacen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 Box 28"/>
          <p:cNvSpPr/>
          <p:nvPr/>
        </p:nvSpPr>
        <p:spPr>
          <a:xfrm>
            <a:off x="958680" y="5178600"/>
            <a:ext cx="2362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Paso 3:  LSR inserta el valor en la tabla de transmisió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Rectangle 29"/>
          <p:cNvSpPr/>
          <p:nvPr/>
        </p:nvSpPr>
        <p:spPr>
          <a:xfrm>
            <a:off x="5607000" y="4878360"/>
            <a:ext cx="266760" cy="16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Rectangle 30"/>
          <p:cNvSpPr/>
          <p:nvPr/>
        </p:nvSpPr>
        <p:spPr>
          <a:xfrm>
            <a:off x="4883040" y="4586400"/>
            <a:ext cx="266760" cy="16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Rectangle 31"/>
          <p:cNvSpPr/>
          <p:nvPr/>
        </p:nvSpPr>
        <p:spPr>
          <a:xfrm>
            <a:off x="3117960" y="4764240"/>
            <a:ext cx="266760" cy="16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Line 32"/>
          <p:cNvSpPr/>
          <p:nvPr/>
        </p:nvSpPr>
        <p:spPr>
          <a:xfrm flipH="1" flipV="1">
            <a:off x="5149800" y="4789080"/>
            <a:ext cx="39384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Line 33"/>
          <p:cNvSpPr/>
          <p:nvPr/>
        </p:nvSpPr>
        <p:spPr>
          <a:xfrm flipH="1">
            <a:off x="3409560" y="4776840"/>
            <a:ext cx="1498680" cy="11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2"/>
          <p:cNvSpPr/>
          <p:nvPr/>
        </p:nvSpPr>
        <p:spPr>
          <a:xfrm>
            <a:off x="99072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DP soporta dos métodos de distribución de etiqueta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Rectangle 3"/>
          <p:cNvSpPr/>
          <p:nvPr/>
        </p:nvSpPr>
        <p:spPr>
          <a:xfrm>
            <a:off x="826920" y="609480"/>
            <a:ext cx="8317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DP: Label Distribution Protoc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1" name="Picture 33" descr=""/>
          <p:cNvPicPr/>
          <p:nvPr/>
        </p:nvPicPr>
        <p:blipFill>
          <a:blip r:embed="rId1"/>
          <a:stretch/>
        </p:blipFill>
        <p:spPr>
          <a:xfrm>
            <a:off x="3156120" y="2825640"/>
            <a:ext cx="753840" cy="48924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34" descr=""/>
          <p:cNvPicPr/>
          <p:nvPr/>
        </p:nvPicPr>
        <p:blipFill>
          <a:blip r:embed="rId2"/>
          <a:stretch/>
        </p:blipFill>
        <p:spPr>
          <a:xfrm>
            <a:off x="5253120" y="2813040"/>
            <a:ext cx="753840" cy="488880"/>
          </a:xfrm>
          <a:prstGeom prst="rect">
            <a:avLst/>
          </a:prstGeom>
          <a:ln w="0">
            <a:noFill/>
          </a:ln>
        </p:spPr>
      </p:pic>
      <p:sp>
        <p:nvSpPr>
          <p:cNvPr id="603" name="Text Box 35"/>
          <p:cNvSpPr/>
          <p:nvPr/>
        </p:nvSpPr>
        <p:spPr>
          <a:xfrm>
            <a:off x="3674880" y="251928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LSR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Text Box 36"/>
          <p:cNvSpPr/>
          <p:nvPr/>
        </p:nvSpPr>
        <p:spPr>
          <a:xfrm>
            <a:off x="5618160" y="250668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LSR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Line 37"/>
          <p:cNvSpPr/>
          <p:nvPr/>
        </p:nvSpPr>
        <p:spPr>
          <a:xfrm flipH="1">
            <a:off x="3879360" y="3384720"/>
            <a:ext cx="1397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Text Box 38"/>
          <p:cNvSpPr/>
          <p:nvPr/>
        </p:nvSpPr>
        <p:spPr>
          <a:xfrm>
            <a:off x="2617560" y="2022480"/>
            <a:ext cx="43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Downstream Unsolicited Label Distribu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Line 39"/>
          <p:cNvSpPr/>
          <p:nvPr/>
        </p:nvSpPr>
        <p:spPr>
          <a:xfrm>
            <a:off x="3905280" y="3067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Line 40"/>
          <p:cNvSpPr/>
          <p:nvPr/>
        </p:nvSpPr>
        <p:spPr>
          <a:xfrm flipH="1" flipV="1">
            <a:off x="2977920" y="2787480"/>
            <a:ext cx="190440" cy="190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Line 41"/>
          <p:cNvSpPr/>
          <p:nvPr/>
        </p:nvSpPr>
        <p:spPr>
          <a:xfrm flipH="1">
            <a:off x="2990520" y="3079800"/>
            <a:ext cx="190440" cy="190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Line 42"/>
          <p:cNvSpPr/>
          <p:nvPr/>
        </p:nvSpPr>
        <p:spPr>
          <a:xfrm flipH="1" flipV="1">
            <a:off x="5987880" y="3066840"/>
            <a:ext cx="190800" cy="190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Line 43"/>
          <p:cNvSpPr/>
          <p:nvPr/>
        </p:nvSpPr>
        <p:spPr>
          <a:xfrm flipH="1">
            <a:off x="5962320" y="2787480"/>
            <a:ext cx="190440" cy="190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Text Box 44"/>
          <p:cNvSpPr/>
          <p:nvPr/>
        </p:nvSpPr>
        <p:spPr>
          <a:xfrm>
            <a:off x="3841560" y="3392640"/>
            <a:ext cx="154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Label-FEC Bind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3" name="Picture 45" descr=""/>
          <p:cNvPicPr/>
          <p:nvPr/>
        </p:nvPicPr>
        <p:blipFill>
          <a:blip r:embed="rId3"/>
          <a:stretch/>
        </p:blipFill>
        <p:spPr>
          <a:xfrm>
            <a:off x="3092400" y="4656240"/>
            <a:ext cx="754200" cy="4888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46" descr=""/>
          <p:cNvPicPr/>
          <p:nvPr/>
        </p:nvPicPr>
        <p:blipFill>
          <a:blip r:embed="rId4"/>
          <a:stretch/>
        </p:blipFill>
        <p:spPr>
          <a:xfrm>
            <a:off x="5175360" y="4630680"/>
            <a:ext cx="753840" cy="488880"/>
          </a:xfrm>
          <a:prstGeom prst="rect">
            <a:avLst/>
          </a:prstGeom>
          <a:ln w="0">
            <a:noFill/>
          </a:ln>
        </p:spPr>
      </p:pic>
      <p:sp>
        <p:nvSpPr>
          <p:cNvPr id="615" name="Text Box 47"/>
          <p:cNvSpPr/>
          <p:nvPr/>
        </p:nvSpPr>
        <p:spPr>
          <a:xfrm>
            <a:off x="3597120" y="43448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LSR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Text Box 48"/>
          <p:cNvSpPr/>
          <p:nvPr/>
        </p:nvSpPr>
        <p:spPr>
          <a:xfrm>
            <a:off x="5540400" y="43322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LSR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Line 49"/>
          <p:cNvSpPr/>
          <p:nvPr/>
        </p:nvSpPr>
        <p:spPr>
          <a:xfrm flipH="1">
            <a:off x="3801600" y="5667480"/>
            <a:ext cx="1397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Text Box 50"/>
          <p:cNvSpPr/>
          <p:nvPr/>
        </p:nvSpPr>
        <p:spPr>
          <a:xfrm>
            <a:off x="2539440" y="3848040"/>
            <a:ext cx="435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Downstream-on-Demand Label Distribu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Line 51"/>
          <p:cNvSpPr/>
          <p:nvPr/>
        </p:nvSpPr>
        <p:spPr>
          <a:xfrm>
            <a:off x="3827520" y="489276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Line 52"/>
          <p:cNvSpPr/>
          <p:nvPr/>
        </p:nvSpPr>
        <p:spPr>
          <a:xfrm flipH="1" flipV="1">
            <a:off x="2900160" y="4613040"/>
            <a:ext cx="190440" cy="190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Line 53"/>
          <p:cNvSpPr/>
          <p:nvPr/>
        </p:nvSpPr>
        <p:spPr>
          <a:xfrm flipH="1">
            <a:off x="2912760" y="4905360"/>
            <a:ext cx="190440" cy="190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2" name="Line 54"/>
          <p:cNvSpPr/>
          <p:nvPr/>
        </p:nvSpPr>
        <p:spPr>
          <a:xfrm flipH="1" flipV="1">
            <a:off x="5910120" y="4892400"/>
            <a:ext cx="190800" cy="190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Line 55"/>
          <p:cNvSpPr/>
          <p:nvPr/>
        </p:nvSpPr>
        <p:spPr>
          <a:xfrm flipH="1">
            <a:off x="5884560" y="4613400"/>
            <a:ext cx="190440" cy="190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Text Box 56"/>
          <p:cNvSpPr/>
          <p:nvPr/>
        </p:nvSpPr>
        <p:spPr>
          <a:xfrm>
            <a:off x="3763800" y="5675400"/>
            <a:ext cx="154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Label-FEC Bind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5" name="Line 57"/>
          <p:cNvSpPr/>
          <p:nvPr/>
        </p:nvSpPr>
        <p:spPr>
          <a:xfrm flipH="1">
            <a:off x="3814920" y="5197320"/>
            <a:ext cx="1396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Text Box 58"/>
          <p:cNvSpPr/>
          <p:nvPr/>
        </p:nvSpPr>
        <p:spPr>
          <a:xfrm>
            <a:off x="3776040" y="5205240"/>
            <a:ext cx="163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Request for Bind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2"/>
          <p:cNvSpPr/>
          <p:nvPr/>
        </p:nvSpPr>
        <p:spPr>
          <a:xfrm>
            <a:off x="99072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ecanismo de transporte de datos que opera entre el nivel de enlace y el de red (nivel 2.5) utilizado por los operadores en el backbone de la r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bjetivos similares a FR y ATM. Mejor alineado con las necesidades tecnológicas actuales y futur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ecnología de conmutación creada para proporcionar circuitos virtuales en las redes IP (mismo principio que FR y ATM: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dentificador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dentificador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se añaden al entrar en la red MPLS, sobre el paquete IP y se eliminan al salir de la mism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dentificador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on el mismo destino y tratamiento se agrupan en un mismo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dentificado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los nodos mantienen mucha menos información de estado que en ATM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Rectangle 3"/>
          <p:cNvSpPr/>
          <p:nvPr/>
        </p:nvSpPr>
        <p:spPr>
          <a:xfrm>
            <a:off x="826920" y="609480"/>
            <a:ext cx="8317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PLS (Multiprotocol Label Switch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2"/>
          <p:cNvSpPr/>
          <p:nvPr/>
        </p:nvSpPr>
        <p:spPr>
          <a:xfrm>
            <a:off x="971640" y="1295280"/>
            <a:ext cx="797400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jemplo: modo bajo deman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Rectangle 3"/>
          <p:cNvSpPr/>
          <p:nvPr/>
        </p:nvSpPr>
        <p:spPr>
          <a:xfrm>
            <a:off x="826920" y="609480"/>
            <a:ext cx="8317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DP: Label Distribution Protoc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9" name="Picture 30"/>
          <p:cNvSpPr/>
          <p:nvPr/>
        </p:nvSpPr>
        <p:spPr>
          <a:xfrm>
            <a:off x="1657440" y="4927680"/>
            <a:ext cx="61920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Freeform 31"/>
          <p:cNvSpPr/>
          <p:nvPr/>
        </p:nvSpPr>
        <p:spPr>
          <a:xfrm>
            <a:off x="2146320" y="2822400"/>
            <a:ext cx="5003640" cy="1714680"/>
          </a:xfrm>
          <a:custGeom>
            <a:avLst/>
            <a:gdLst/>
            <a:ahLst/>
            <a:rect l="l" t="t" r="r" b="b"/>
            <a:pathLst>
              <a:path w="3152" h="1080">
                <a:moveTo>
                  <a:pt x="0" y="632"/>
                </a:moveTo>
                <a:lnTo>
                  <a:pt x="1016" y="16"/>
                </a:lnTo>
                <a:lnTo>
                  <a:pt x="2320" y="24"/>
                </a:lnTo>
                <a:lnTo>
                  <a:pt x="3152" y="672"/>
                </a:lnTo>
                <a:lnTo>
                  <a:pt x="2160" y="1040"/>
                </a:lnTo>
                <a:lnTo>
                  <a:pt x="992" y="1040"/>
                </a:lnTo>
                <a:lnTo>
                  <a:pt x="976" y="0"/>
                </a:lnTo>
                <a:lnTo>
                  <a:pt x="2216" y="1080"/>
                </a:lnTo>
                <a:lnTo>
                  <a:pt x="2216" y="64"/>
                </a:lnTo>
                <a:lnTo>
                  <a:pt x="1008" y="1024"/>
                </a:lnTo>
                <a:lnTo>
                  <a:pt x="0" y="632"/>
                </a:lnTo>
                <a:close/>
              </a:path>
            </a:pathLst>
          </a:custGeom>
          <a:noFill/>
          <a:ln w="2844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icture 32"/>
          <p:cNvSpPr/>
          <p:nvPr/>
        </p:nvSpPr>
        <p:spPr>
          <a:xfrm>
            <a:off x="5391000" y="4013280"/>
            <a:ext cx="61920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icture 33"/>
          <p:cNvSpPr/>
          <p:nvPr/>
        </p:nvSpPr>
        <p:spPr>
          <a:xfrm>
            <a:off x="3409920" y="4089240"/>
            <a:ext cx="61920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Picture 34"/>
          <p:cNvSpPr/>
          <p:nvPr/>
        </p:nvSpPr>
        <p:spPr>
          <a:xfrm>
            <a:off x="3486240" y="2565360"/>
            <a:ext cx="61920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4" name="Picture 35"/>
          <p:cNvSpPr/>
          <p:nvPr/>
        </p:nvSpPr>
        <p:spPr>
          <a:xfrm>
            <a:off x="5315040" y="2565360"/>
            <a:ext cx="61920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icture 36"/>
          <p:cNvSpPr/>
          <p:nvPr/>
        </p:nvSpPr>
        <p:spPr>
          <a:xfrm>
            <a:off x="1657440" y="3403440"/>
            <a:ext cx="61920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icture 37"/>
          <p:cNvSpPr/>
          <p:nvPr/>
        </p:nvSpPr>
        <p:spPr>
          <a:xfrm>
            <a:off x="6762600" y="3479760"/>
            <a:ext cx="61920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Line 38"/>
          <p:cNvSpPr/>
          <p:nvPr/>
        </p:nvSpPr>
        <p:spPr>
          <a:xfrm>
            <a:off x="3943440" y="3174840"/>
            <a:ext cx="1523880" cy="1371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Picture 39"/>
          <p:cNvSpPr/>
          <p:nvPr/>
        </p:nvSpPr>
        <p:spPr>
          <a:xfrm>
            <a:off x="1657440" y="1879560"/>
            <a:ext cx="61920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Line 40"/>
          <p:cNvSpPr/>
          <p:nvPr/>
        </p:nvSpPr>
        <p:spPr>
          <a:xfrm flipV="1">
            <a:off x="2190600" y="5003640"/>
            <a:ext cx="1371600" cy="53352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Line 41"/>
          <p:cNvSpPr/>
          <p:nvPr/>
        </p:nvSpPr>
        <p:spPr>
          <a:xfrm>
            <a:off x="2190600" y="2717640"/>
            <a:ext cx="1371600" cy="6858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Line 42"/>
          <p:cNvSpPr/>
          <p:nvPr/>
        </p:nvSpPr>
        <p:spPr>
          <a:xfrm>
            <a:off x="7296120" y="3936960"/>
            <a:ext cx="1295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-41040" bIns="-4104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42" name="Group 43"/>
          <p:cNvGrpSpPr/>
          <p:nvPr/>
        </p:nvGrpSpPr>
        <p:grpSpPr>
          <a:xfrm>
            <a:off x="5924520" y="1955880"/>
            <a:ext cx="1627560" cy="2133000"/>
            <a:chOff x="5924520" y="1955880"/>
            <a:chExt cx="1627560" cy="2133000"/>
          </a:xfrm>
        </p:grpSpPr>
        <p:sp>
          <p:nvSpPr>
            <p:cNvPr id="643" name="Line 44"/>
            <p:cNvSpPr/>
            <p:nvPr/>
          </p:nvSpPr>
          <p:spPr>
            <a:xfrm flipV="1">
              <a:off x="5924520" y="3022200"/>
              <a:ext cx="304920" cy="1066680"/>
            </a:xfrm>
            <a:prstGeom prst="line">
              <a:avLst/>
            </a:prstGeom>
            <a:ln w="9360">
              <a:solidFill>
                <a:srgbClr val="dad8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44" name="Group 45"/>
            <p:cNvGrpSpPr/>
            <p:nvPr/>
          </p:nvGrpSpPr>
          <p:grpSpPr>
            <a:xfrm>
              <a:off x="5924520" y="1955880"/>
              <a:ext cx="1627560" cy="2133000"/>
              <a:chOff x="5924520" y="1955880"/>
              <a:chExt cx="1627560" cy="2133000"/>
            </a:xfrm>
          </p:grpSpPr>
          <p:grpSp>
            <p:nvGrpSpPr>
              <p:cNvPr id="645" name="Group 46"/>
              <p:cNvGrpSpPr/>
              <p:nvPr/>
            </p:nvGrpSpPr>
            <p:grpSpPr>
              <a:xfrm>
                <a:off x="6228000" y="1955880"/>
                <a:ext cx="1324080" cy="1066680"/>
                <a:chOff x="6228000" y="1955880"/>
                <a:chExt cx="1324080" cy="1066680"/>
              </a:xfrm>
            </p:grpSpPr>
            <p:grpSp>
              <p:nvGrpSpPr>
                <p:cNvPr id="646" name="Group 47"/>
                <p:cNvGrpSpPr/>
                <p:nvPr/>
              </p:nvGrpSpPr>
              <p:grpSpPr>
                <a:xfrm>
                  <a:off x="6228000" y="2031840"/>
                  <a:ext cx="561960" cy="905400"/>
                  <a:chOff x="6228000" y="2031840"/>
                  <a:chExt cx="561960" cy="905400"/>
                </a:xfrm>
              </p:grpSpPr>
              <p:sp>
                <p:nvSpPr>
                  <p:cNvPr id="647" name="Text Box 48"/>
                  <p:cNvSpPr/>
                  <p:nvPr/>
                </p:nvSpPr>
                <p:spPr>
                  <a:xfrm>
                    <a:off x="6228000" y="2640960"/>
                    <a:ext cx="561960" cy="296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82440" rIns="82440" tIns="41400" bIns="414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dad8de"/>
                        </a:solidFill>
                        <a:latin typeface="Arial"/>
                        <a:ea typeface="굴림"/>
                      </a:rPr>
                      <a:t>#963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648" name="Group 49"/>
                  <p:cNvGrpSpPr/>
                  <p:nvPr/>
                </p:nvGrpSpPr>
                <p:grpSpPr>
                  <a:xfrm>
                    <a:off x="6228360" y="2031840"/>
                    <a:ext cx="462960" cy="600840"/>
                    <a:chOff x="6228360" y="2031840"/>
                    <a:chExt cx="462960" cy="600840"/>
                  </a:xfrm>
                </p:grpSpPr>
                <p:sp>
                  <p:nvSpPr>
                    <p:cNvPr id="649" name="Text Box 50"/>
                    <p:cNvSpPr/>
                    <p:nvPr/>
                  </p:nvSpPr>
                  <p:spPr>
                    <a:xfrm>
                      <a:off x="6228360" y="2031840"/>
                      <a:ext cx="462960" cy="296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82440" rIns="82440" tIns="41400" bIns="414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dad8de"/>
                          </a:solidFill>
                          <a:latin typeface="Arial"/>
                          <a:ea typeface="굴림"/>
                        </a:rPr>
                        <a:t>#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650" name="Text Box 51"/>
                    <p:cNvSpPr/>
                    <p:nvPr/>
                  </p:nvSpPr>
                  <p:spPr>
                    <a:xfrm>
                      <a:off x="6228360" y="2336400"/>
                      <a:ext cx="462960" cy="296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82440" rIns="82440" tIns="41400" bIns="414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dad8de"/>
                          </a:solidFill>
                          <a:latin typeface="Arial"/>
                          <a:ea typeface="굴림"/>
                        </a:rPr>
                        <a:t>#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</p:grpSp>
            <p:grpSp>
              <p:nvGrpSpPr>
                <p:cNvPr id="651" name="Group 52"/>
                <p:cNvGrpSpPr/>
                <p:nvPr/>
              </p:nvGrpSpPr>
              <p:grpSpPr>
                <a:xfrm>
                  <a:off x="6990120" y="2031840"/>
                  <a:ext cx="561960" cy="905400"/>
                  <a:chOff x="6990120" y="2031840"/>
                  <a:chExt cx="561960" cy="905400"/>
                </a:xfrm>
              </p:grpSpPr>
              <p:sp>
                <p:nvSpPr>
                  <p:cNvPr id="652" name="Text Box 53"/>
                  <p:cNvSpPr/>
                  <p:nvPr/>
                </p:nvSpPr>
                <p:spPr>
                  <a:xfrm>
                    <a:off x="6990120" y="2031840"/>
                    <a:ext cx="561960" cy="296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82440" rIns="82440" tIns="41400" bIns="414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dad8de"/>
                        </a:solidFill>
                        <a:latin typeface="Arial"/>
                        <a:ea typeface="굴림"/>
                      </a:rPr>
                      <a:t>#311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3" name="Text Box 54"/>
                  <p:cNvSpPr/>
                  <p:nvPr/>
                </p:nvSpPr>
                <p:spPr>
                  <a:xfrm>
                    <a:off x="6990120" y="2336400"/>
                    <a:ext cx="561960" cy="296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82440" rIns="82440" tIns="41400" bIns="414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dad8de"/>
                        </a:solidFill>
                        <a:latin typeface="Arial"/>
                        <a:ea typeface="굴림"/>
                      </a:rPr>
                      <a:t>#311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4" name="Text Box 55"/>
                  <p:cNvSpPr/>
                  <p:nvPr/>
                </p:nvSpPr>
                <p:spPr>
                  <a:xfrm>
                    <a:off x="6990120" y="2640960"/>
                    <a:ext cx="561960" cy="296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82440" rIns="82440" tIns="41400" bIns="414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dad8de"/>
                        </a:solidFill>
                        <a:latin typeface="Arial"/>
                        <a:ea typeface="굴림"/>
                      </a:rPr>
                      <a:t>#311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5" name="Line 56"/>
                <p:cNvSpPr/>
                <p:nvPr/>
              </p:nvSpPr>
              <p:spPr>
                <a:xfrm>
                  <a:off x="6762960" y="2184120"/>
                  <a:ext cx="304920" cy="0"/>
                </a:xfrm>
                <a:prstGeom prst="line">
                  <a:avLst/>
                </a:prstGeom>
                <a:ln w="38160">
                  <a:solidFill>
                    <a:srgbClr val="dad8de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440" rIns="82440" tIns="-41040" bIns="-4104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56" name="Line 57"/>
                <p:cNvSpPr/>
                <p:nvPr/>
              </p:nvSpPr>
              <p:spPr>
                <a:xfrm>
                  <a:off x="6762960" y="2489040"/>
                  <a:ext cx="304920" cy="0"/>
                </a:xfrm>
                <a:prstGeom prst="line">
                  <a:avLst/>
                </a:prstGeom>
                <a:ln w="38160">
                  <a:solidFill>
                    <a:srgbClr val="dad8de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440" rIns="82440" tIns="-41040" bIns="-4104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57" name="Line 58"/>
                <p:cNvSpPr/>
                <p:nvPr/>
              </p:nvSpPr>
              <p:spPr>
                <a:xfrm>
                  <a:off x="6762960" y="2793960"/>
                  <a:ext cx="304920" cy="0"/>
                </a:xfrm>
                <a:prstGeom prst="line">
                  <a:avLst/>
                </a:prstGeom>
                <a:ln w="38160">
                  <a:solidFill>
                    <a:srgbClr val="dad8de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440" rIns="82440" tIns="-41040" bIns="-4104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58" name="Rectangle 59"/>
                <p:cNvSpPr/>
                <p:nvPr/>
              </p:nvSpPr>
              <p:spPr>
                <a:xfrm>
                  <a:off x="6229440" y="1955880"/>
                  <a:ext cx="1295640" cy="1066680"/>
                </a:xfrm>
                <a:prstGeom prst="rect">
                  <a:avLst/>
                </a:prstGeom>
                <a:noFill/>
                <a:ln w="9360">
                  <a:solidFill>
                    <a:srgbClr val="dad8d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440" rIns="82440" tIns="41400" bIns="41400" anchor="ctr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2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9" name="Line 60"/>
              <p:cNvSpPr/>
              <p:nvPr/>
            </p:nvSpPr>
            <p:spPr>
              <a:xfrm flipV="1">
                <a:off x="5924520" y="2031480"/>
                <a:ext cx="304920" cy="2057400"/>
              </a:xfrm>
              <a:prstGeom prst="line">
                <a:avLst/>
              </a:prstGeom>
              <a:ln w="9360">
                <a:solidFill>
                  <a:srgbClr val="dad8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040" bIns="4104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0" name="Line 61"/>
              <p:cNvSpPr/>
              <p:nvPr/>
            </p:nvSpPr>
            <p:spPr>
              <a:xfrm flipV="1">
                <a:off x="5924520" y="3022200"/>
                <a:ext cx="1600200" cy="1066680"/>
              </a:xfrm>
              <a:prstGeom prst="line">
                <a:avLst/>
              </a:prstGeom>
              <a:ln w="9360">
                <a:solidFill>
                  <a:srgbClr val="dad8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040" bIns="4104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Line 62"/>
              <p:cNvSpPr/>
              <p:nvPr/>
            </p:nvSpPr>
            <p:spPr>
              <a:xfrm flipV="1">
                <a:off x="5924520" y="3022200"/>
                <a:ext cx="914400" cy="1066680"/>
              </a:xfrm>
              <a:prstGeom prst="line">
                <a:avLst/>
              </a:prstGeom>
              <a:ln w="9360">
                <a:solidFill>
                  <a:srgbClr val="dad8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040" bIns="4104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662" name="Group 63"/>
          <p:cNvGrpSpPr/>
          <p:nvPr/>
        </p:nvGrpSpPr>
        <p:grpSpPr>
          <a:xfrm>
            <a:off x="7219800" y="4013280"/>
            <a:ext cx="1523520" cy="676800"/>
            <a:chOff x="7219800" y="4013280"/>
            <a:chExt cx="1523520" cy="676800"/>
          </a:xfrm>
        </p:grpSpPr>
        <p:grpSp>
          <p:nvGrpSpPr>
            <p:cNvPr id="663" name="Group 64"/>
            <p:cNvGrpSpPr/>
            <p:nvPr/>
          </p:nvGrpSpPr>
          <p:grpSpPr>
            <a:xfrm>
              <a:off x="7219800" y="4241520"/>
              <a:ext cx="1523520" cy="448560"/>
              <a:chOff x="7219800" y="4241520"/>
              <a:chExt cx="1523520" cy="448560"/>
            </a:xfrm>
          </p:grpSpPr>
          <p:sp>
            <p:nvSpPr>
              <p:cNvPr id="664" name="Line 65"/>
              <p:cNvSpPr/>
              <p:nvPr/>
            </p:nvSpPr>
            <p:spPr>
              <a:xfrm>
                <a:off x="7219800" y="4241520"/>
                <a:ext cx="1523520" cy="0"/>
              </a:xfrm>
              <a:prstGeom prst="line">
                <a:avLst/>
              </a:prstGeom>
              <a:ln w="76320">
                <a:solidFill>
                  <a:srgbClr val="dad8de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-41040" bIns="-4104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5" name="Text Box 66"/>
              <p:cNvSpPr/>
              <p:nvPr/>
            </p:nvSpPr>
            <p:spPr>
              <a:xfrm>
                <a:off x="7615800" y="4393800"/>
                <a:ext cx="56196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dad8de"/>
                    </a:solidFill>
                    <a:latin typeface="Arial"/>
                    <a:ea typeface="굴림"/>
                  </a:rPr>
                  <a:t>#462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6" name="Text Box 67"/>
            <p:cNvSpPr/>
            <p:nvPr/>
          </p:nvSpPr>
          <p:spPr>
            <a:xfrm>
              <a:off x="7625880" y="4013280"/>
              <a:ext cx="349920" cy="38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2b2b2"/>
                  </a:solidFill>
                  <a:latin typeface="Arial"/>
                  <a:ea typeface="굴림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67" name="Group 68"/>
          <p:cNvGrpSpPr/>
          <p:nvPr/>
        </p:nvGrpSpPr>
        <p:grpSpPr>
          <a:xfrm>
            <a:off x="5772240" y="4165560"/>
            <a:ext cx="1066680" cy="829800"/>
            <a:chOff x="5772240" y="4165560"/>
            <a:chExt cx="1066680" cy="829800"/>
          </a:xfrm>
        </p:grpSpPr>
        <p:grpSp>
          <p:nvGrpSpPr>
            <p:cNvPr id="668" name="Group 69"/>
            <p:cNvGrpSpPr/>
            <p:nvPr/>
          </p:nvGrpSpPr>
          <p:grpSpPr>
            <a:xfrm>
              <a:off x="5772240" y="4165560"/>
              <a:ext cx="1066680" cy="829800"/>
              <a:chOff x="5772240" y="4165560"/>
              <a:chExt cx="1066680" cy="829800"/>
            </a:xfrm>
          </p:grpSpPr>
          <p:sp>
            <p:nvSpPr>
              <p:cNvPr id="669" name="Line 70"/>
              <p:cNvSpPr/>
              <p:nvPr/>
            </p:nvSpPr>
            <p:spPr>
              <a:xfrm flipV="1">
                <a:off x="5772240" y="4165560"/>
                <a:ext cx="1066680" cy="457200"/>
              </a:xfrm>
              <a:prstGeom prst="line">
                <a:avLst/>
              </a:prstGeom>
              <a:ln w="76320">
                <a:solidFill>
                  <a:srgbClr val="dad8de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040" bIns="4104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71"/>
              <p:cNvSpPr/>
              <p:nvPr/>
            </p:nvSpPr>
            <p:spPr>
              <a:xfrm>
                <a:off x="6075720" y="4699080"/>
                <a:ext cx="56196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dad8de"/>
                    </a:solidFill>
                    <a:latin typeface="Arial"/>
                    <a:ea typeface="굴림"/>
                  </a:rPr>
                  <a:t>#311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Text Box 72"/>
            <p:cNvSpPr/>
            <p:nvPr/>
          </p:nvSpPr>
          <p:spPr>
            <a:xfrm>
              <a:off x="6228720" y="4317840"/>
              <a:ext cx="349920" cy="38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2b2b2"/>
                  </a:solidFill>
                  <a:latin typeface="Arial"/>
                  <a:ea typeface="굴림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72" name="Group 73"/>
          <p:cNvGrpSpPr/>
          <p:nvPr/>
        </p:nvGrpSpPr>
        <p:grpSpPr>
          <a:xfrm>
            <a:off x="5008680" y="3479760"/>
            <a:ext cx="808200" cy="1143000"/>
            <a:chOff x="5008680" y="3479760"/>
            <a:chExt cx="808200" cy="1143000"/>
          </a:xfrm>
        </p:grpSpPr>
        <p:grpSp>
          <p:nvGrpSpPr>
            <p:cNvPr id="673" name="Group 74"/>
            <p:cNvGrpSpPr/>
            <p:nvPr/>
          </p:nvGrpSpPr>
          <p:grpSpPr>
            <a:xfrm>
              <a:off x="5008680" y="3479760"/>
              <a:ext cx="610920" cy="1143000"/>
              <a:chOff x="5008680" y="3479760"/>
              <a:chExt cx="610920" cy="1143000"/>
            </a:xfrm>
          </p:grpSpPr>
          <p:sp>
            <p:nvSpPr>
              <p:cNvPr id="674" name="Line 75"/>
              <p:cNvSpPr/>
              <p:nvPr/>
            </p:nvSpPr>
            <p:spPr>
              <a:xfrm>
                <a:off x="5619600" y="3479760"/>
                <a:ext cx="0" cy="1143000"/>
              </a:xfrm>
              <a:prstGeom prst="line">
                <a:avLst/>
              </a:prstGeom>
              <a:ln w="76320">
                <a:solidFill>
                  <a:srgbClr val="dad8de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040" bIns="4104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76"/>
              <p:cNvSpPr/>
              <p:nvPr/>
            </p:nvSpPr>
            <p:spPr>
              <a:xfrm>
                <a:off x="5008680" y="3708360"/>
                <a:ext cx="56196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dad8de"/>
                    </a:solidFill>
                    <a:latin typeface="Arial"/>
                    <a:ea typeface="굴림"/>
                  </a:rPr>
                  <a:t>#963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Text Box 77"/>
            <p:cNvSpPr/>
            <p:nvPr/>
          </p:nvSpPr>
          <p:spPr>
            <a:xfrm>
              <a:off x="5466960" y="3784320"/>
              <a:ext cx="349920" cy="38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2b2b2"/>
                  </a:solidFill>
                  <a:latin typeface="Arial"/>
                  <a:ea typeface="굴림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77" name="Group 78"/>
          <p:cNvGrpSpPr/>
          <p:nvPr/>
        </p:nvGrpSpPr>
        <p:grpSpPr>
          <a:xfrm>
            <a:off x="4019400" y="3251160"/>
            <a:ext cx="1523880" cy="1295280"/>
            <a:chOff x="4019400" y="3251160"/>
            <a:chExt cx="1523880" cy="1295280"/>
          </a:xfrm>
        </p:grpSpPr>
        <p:grpSp>
          <p:nvGrpSpPr>
            <p:cNvPr id="678" name="Group 79"/>
            <p:cNvGrpSpPr/>
            <p:nvPr/>
          </p:nvGrpSpPr>
          <p:grpSpPr>
            <a:xfrm>
              <a:off x="4019400" y="3251160"/>
              <a:ext cx="1523880" cy="1295280"/>
              <a:chOff x="4019400" y="3251160"/>
              <a:chExt cx="1523880" cy="1295280"/>
            </a:xfrm>
          </p:grpSpPr>
          <p:sp>
            <p:nvSpPr>
              <p:cNvPr id="679" name="Line 80"/>
              <p:cNvSpPr/>
              <p:nvPr/>
            </p:nvSpPr>
            <p:spPr>
              <a:xfrm>
                <a:off x="4019400" y="3251160"/>
                <a:ext cx="1523880" cy="1295280"/>
              </a:xfrm>
              <a:prstGeom prst="line">
                <a:avLst/>
              </a:prstGeom>
              <a:ln w="76320">
                <a:solidFill>
                  <a:srgbClr val="dad8de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040" bIns="4104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0" name="Text Box 81"/>
              <p:cNvSpPr/>
              <p:nvPr/>
            </p:nvSpPr>
            <p:spPr>
              <a:xfrm>
                <a:off x="4372200" y="3936960"/>
                <a:ext cx="46296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dad8de"/>
                    </a:solidFill>
                    <a:latin typeface="Arial"/>
                    <a:ea typeface="굴림"/>
                  </a:rPr>
                  <a:t>#14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1" name="Text Box 82"/>
            <p:cNvSpPr/>
            <p:nvPr/>
          </p:nvSpPr>
          <p:spPr>
            <a:xfrm>
              <a:off x="4857480" y="3860640"/>
              <a:ext cx="349920" cy="38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2b2b2"/>
                  </a:solidFill>
                  <a:latin typeface="Arial"/>
                  <a:ea typeface="굴림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82" name="Group 83"/>
          <p:cNvGrpSpPr/>
          <p:nvPr/>
        </p:nvGrpSpPr>
        <p:grpSpPr>
          <a:xfrm>
            <a:off x="3867120" y="4699080"/>
            <a:ext cx="1600200" cy="600840"/>
            <a:chOff x="3867120" y="4699080"/>
            <a:chExt cx="1600200" cy="600840"/>
          </a:xfrm>
        </p:grpSpPr>
        <p:grpSp>
          <p:nvGrpSpPr>
            <p:cNvPr id="683" name="Group 84"/>
            <p:cNvGrpSpPr/>
            <p:nvPr/>
          </p:nvGrpSpPr>
          <p:grpSpPr>
            <a:xfrm>
              <a:off x="3867120" y="4927680"/>
              <a:ext cx="1600200" cy="372240"/>
              <a:chOff x="3867120" y="4927680"/>
              <a:chExt cx="1600200" cy="372240"/>
            </a:xfrm>
          </p:grpSpPr>
          <p:sp>
            <p:nvSpPr>
              <p:cNvPr id="684" name="Line 85"/>
              <p:cNvSpPr/>
              <p:nvPr/>
            </p:nvSpPr>
            <p:spPr>
              <a:xfrm>
                <a:off x="3867120" y="4927680"/>
                <a:ext cx="1600200" cy="0"/>
              </a:xfrm>
              <a:prstGeom prst="line">
                <a:avLst/>
              </a:prstGeom>
              <a:ln w="76320">
                <a:solidFill>
                  <a:srgbClr val="dad8de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-41040" bIns="-4104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5" name="Text Box 86"/>
              <p:cNvSpPr/>
              <p:nvPr/>
            </p:nvSpPr>
            <p:spPr>
              <a:xfrm>
                <a:off x="4296240" y="5003640"/>
                <a:ext cx="46296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dad8de"/>
                    </a:solidFill>
                    <a:latin typeface="Arial"/>
                    <a:ea typeface="굴림"/>
                  </a:rPr>
                  <a:t>#99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6" name="Text Box 87"/>
            <p:cNvSpPr/>
            <p:nvPr/>
          </p:nvSpPr>
          <p:spPr>
            <a:xfrm>
              <a:off x="4323960" y="4699080"/>
              <a:ext cx="349920" cy="38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2b2b2"/>
                  </a:solidFill>
                  <a:latin typeface="Arial"/>
                  <a:ea typeface="굴림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87" name="Group 88"/>
          <p:cNvGrpSpPr/>
          <p:nvPr/>
        </p:nvGrpSpPr>
        <p:grpSpPr>
          <a:xfrm>
            <a:off x="2190600" y="2336760"/>
            <a:ext cx="1600200" cy="914400"/>
            <a:chOff x="2190600" y="2336760"/>
            <a:chExt cx="1600200" cy="914400"/>
          </a:xfrm>
        </p:grpSpPr>
        <p:grpSp>
          <p:nvGrpSpPr>
            <p:cNvPr id="688" name="Group 89"/>
            <p:cNvGrpSpPr/>
            <p:nvPr/>
          </p:nvGrpSpPr>
          <p:grpSpPr>
            <a:xfrm>
              <a:off x="2190600" y="2336760"/>
              <a:ext cx="1600200" cy="914400"/>
              <a:chOff x="2190600" y="2336760"/>
              <a:chExt cx="1600200" cy="914400"/>
            </a:xfrm>
          </p:grpSpPr>
          <p:sp>
            <p:nvSpPr>
              <p:cNvPr id="689" name="Line 90"/>
              <p:cNvSpPr/>
              <p:nvPr/>
            </p:nvSpPr>
            <p:spPr>
              <a:xfrm>
                <a:off x="2190600" y="2413080"/>
                <a:ext cx="1600200" cy="838080"/>
              </a:xfrm>
              <a:prstGeom prst="line">
                <a:avLst/>
              </a:prstGeom>
              <a:ln w="76320">
                <a:solidFill>
                  <a:srgbClr val="dad8de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040" bIns="4104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0" name="Text Box 91"/>
              <p:cNvSpPr/>
              <p:nvPr/>
            </p:nvSpPr>
            <p:spPr>
              <a:xfrm>
                <a:off x="2493720" y="2336760"/>
                <a:ext cx="56196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dad8de"/>
                    </a:solidFill>
                    <a:latin typeface="Arial"/>
                    <a:ea typeface="굴림"/>
                  </a:rPr>
                  <a:t>#216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91" name="Text Box 92"/>
            <p:cNvSpPr/>
            <p:nvPr/>
          </p:nvSpPr>
          <p:spPr>
            <a:xfrm>
              <a:off x="2799720" y="2641320"/>
              <a:ext cx="349920" cy="38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2b2b2"/>
                  </a:solidFill>
                  <a:latin typeface="Arial"/>
                  <a:ea typeface="굴림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92" name="Group 93"/>
          <p:cNvGrpSpPr/>
          <p:nvPr/>
        </p:nvGrpSpPr>
        <p:grpSpPr>
          <a:xfrm>
            <a:off x="2265480" y="4089240"/>
            <a:ext cx="1296720" cy="533520"/>
            <a:chOff x="2265480" y="4089240"/>
            <a:chExt cx="1296720" cy="533520"/>
          </a:xfrm>
        </p:grpSpPr>
        <p:grpSp>
          <p:nvGrpSpPr>
            <p:cNvPr id="693" name="Group 94"/>
            <p:cNvGrpSpPr/>
            <p:nvPr/>
          </p:nvGrpSpPr>
          <p:grpSpPr>
            <a:xfrm>
              <a:off x="2265480" y="4089240"/>
              <a:ext cx="1296720" cy="533520"/>
              <a:chOff x="2265480" y="4089240"/>
              <a:chExt cx="1296720" cy="533520"/>
            </a:xfrm>
          </p:grpSpPr>
          <p:sp>
            <p:nvSpPr>
              <p:cNvPr id="694" name="Line 95"/>
              <p:cNvSpPr/>
              <p:nvPr/>
            </p:nvSpPr>
            <p:spPr>
              <a:xfrm>
                <a:off x="2266920" y="4089240"/>
                <a:ext cx="1295280" cy="533520"/>
              </a:xfrm>
              <a:prstGeom prst="line">
                <a:avLst/>
              </a:prstGeom>
              <a:ln w="76320">
                <a:solidFill>
                  <a:srgbClr val="dad8de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040" bIns="4104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5" name="Text Box 96"/>
              <p:cNvSpPr/>
              <p:nvPr/>
            </p:nvSpPr>
            <p:spPr>
              <a:xfrm>
                <a:off x="2265480" y="4317840"/>
                <a:ext cx="56196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dad8de"/>
                    </a:solidFill>
                    <a:latin typeface="Arial"/>
                    <a:ea typeface="굴림"/>
                  </a:rPr>
                  <a:t>#612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96" name="Text Box 97"/>
            <p:cNvSpPr/>
            <p:nvPr/>
          </p:nvSpPr>
          <p:spPr>
            <a:xfrm>
              <a:off x="2799720" y="4165560"/>
              <a:ext cx="349920" cy="38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2b2b2"/>
                  </a:solidFill>
                  <a:latin typeface="Arial"/>
                  <a:ea typeface="굴림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97" name="Group 98"/>
          <p:cNvGrpSpPr/>
          <p:nvPr/>
        </p:nvGrpSpPr>
        <p:grpSpPr>
          <a:xfrm>
            <a:off x="2266920" y="4775040"/>
            <a:ext cx="1295280" cy="533520"/>
            <a:chOff x="2266920" y="4775040"/>
            <a:chExt cx="1295280" cy="533520"/>
          </a:xfrm>
        </p:grpSpPr>
        <p:grpSp>
          <p:nvGrpSpPr>
            <p:cNvPr id="698" name="Group 99"/>
            <p:cNvGrpSpPr/>
            <p:nvPr/>
          </p:nvGrpSpPr>
          <p:grpSpPr>
            <a:xfrm>
              <a:off x="2266920" y="4851360"/>
              <a:ext cx="1295280" cy="457200"/>
              <a:chOff x="2266920" y="4851360"/>
              <a:chExt cx="1295280" cy="457200"/>
            </a:xfrm>
          </p:grpSpPr>
          <p:sp>
            <p:nvSpPr>
              <p:cNvPr id="699" name="Line 100"/>
              <p:cNvSpPr/>
              <p:nvPr/>
            </p:nvSpPr>
            <p:spPr>
              <a:xfrm flipV="1">
                <a:off x="2266920" y="4851360"/>
                <a:ext cx="1295280" cy="457200"/>
              </a:xfrm>
              <a:prstGeom prst="line">
                <a:avLst/>
              </a:prstGeom>
              <a:ln w="76320">
                <a:solidFill>
                  <a:srgbClr val="dad8de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040" bIns="4104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00" name="Text Box 101"/>
              <p:cNvSpPr/>
              <p:nvPr/>
            </p:nvSpPr>
            <p:spPr>
              <a:xfrm>
                <a:off x="2364120" y="4851360"/>
                <a:ext cx="36360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dad8de"/>
                    </a:solidFill>
                    <a:latin typeface="Arial"/>
                    <a:ea typeface="굴림"/>
                  </a:rPr>
                  <a:t>#5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01" name="Text Box 102"/>
            <p:cNvSpPr/>
            <p:nvPr/>
          </p:nvSpPr>
          <p:spPr>
            <a:xfrm>
              <a:off x="2799720" y="4775040"/>
              <a:ext cx="349920" cy="38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2b2b2"/>
                  </a:solidFill>
                  <a:latin typeface="Arial"/>
                  <a:ea typeface="굴림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02" name="Group 103"/>
          <p:cNvGrpSpPr/>
          <p:nvPr/>
        </p:nvGrpSpPr>
        <p:grpSpPr>
          <a:xfrm>
            <a:off x="2190600" y="2793960"/>
            <a:ext cx="1371600" cy="685800"/>
            <a:chOff x="2190600" y="2793960"/>
            <a:chExt cx="1371600" cy="685800"/>
          </a:xfrm>
        </p:grpSpPr>
        <p:sp>
          <p:nvSpPr>
            <p:cNvPr id="703" name="Line 104"/>
            <p:cNvSpPr/>
            <p:nvPr/>
          </p:nvSpPr>
          <p:spPr>
            <a:xfrm>
              <a:off x="2190600" y="2793960"/>
              <a:ext cx="137160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4" name="Text Box 105"/>
            <p:cNvSpPr/>
            <p:nvPr/>
          </p:nvSpPr>
          <p:spPr>
            <a:xfrm>
              <a:off x="2418840" y="3022560"/>
              <a:ext cx="47052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b2b2b2"/>
                  </a:solidFill>
                  <a:latin typeface="Arial"/>
                  <a:ea typeface="굴림"/>
                </a:rPr>
                <a:t>D?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05" name="Group 106"/>
          <p:cNvGrpSpPr/>
          <p:nvPr/>
        </p:nvGrpSpPr>
        <p:grpSpPr>
          <a:xfrm>
            <a:off x="3943440" y="3403440"/>
            <a:ext cx="1523520" cy="1295280"/>
            <a:chOff x="3943440" y="3403440"/>
            <a:chExt cx="1523520" cy="1295280"/>
          </a:xfrm>
        </p:grpSpPr>
        <p:sp>
          <p:nvSpPr>
            <p:cNvPr id="706" name="Line 107"/>
            <p:cNvSpPr/>
            <p:nvPr/>
          </p:nvSpPr>
          <p:spPr>
            <a:xfrm>
              <a:off x="3943440" y="3403440"/>
              <a:ext cx="1523520" cy="1295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7" name="Text Box 108"/>
            <p:cNvSpPr/>
            <p:nvPr/>
          </p:nvSpPr>
          <p:spPr>
            <a:xfrm>
              <a:off x="4196520" y="3835080"/>
              <a:ext cx="47052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b2b2b2"/>
                  </a:solidFill>
                  <a:latin typeface="Arial"/>
                  <a:ea typeface="굴림"/>
                </a:rPr>
                <a:t>D?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08" name="Group 109"/>
          <p:cNvGrpSpPr/>
          <p:nvPr/>
        </p:nvGrpSpPr>
        <p:grpSpPr>
          <a:xfrm>
            <a:off x="5848200" y="3936960"/>
            <a:ext cx="1066680" cy="457200"/>
            <a:chOff x="5848200" y="3936960"/>
            <a:chExt cx="1066680" cy="457200"/>
          </a:xfrm>
        </p:grpSpPr>
        <p:sp>
          <p:nvSpPr>
            <p:cNvPr id="709" name="Line 110"/>
            <p:cNvSpPr/>
            <p:nvPr/>
          </p:nvSpPr>
          <p:spPr>
            <a:xfrm flipV="1">
              <a:off x="5848200" y="3936960"/>
              <a:ext cx="106668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0" name="Text Box 111"/>
            <p:cNvSpPr/>
            <p:nvPr/>
          </p:nvSpPr>
          <p:spPr>
            <a:xfrm>
              <a:off x="6152760" y="3936960"/>
              <a:ext cx="47052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b2b2b2"/>
                  </a:solidFill>
                  <a:latin typeface="Arial"/>
                  <a:ea typeface="굴림"/>
                </a:rPr>
                <a:t>D?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11" name="Group 112"/>
          <p:cNvGrpSpPr/>
          <p:nvPr/>
        </p:nvGrpSpPr>
        <p:grpSpPr>
          <a:xfrm>
            <a:off x="7296120" y="3632040"/>
            <a:ext cx="1523880" cy="357480"/>
            <a:chOff x="7296120" y="3632040"/>
            <a:chExt cx="1523880" cy="357480"/>
          </a:xfrm>
        </p:grpSpPr>
        <p:sp>
          <p:nvSpPr>
            <p:cNvPr id="712" name="Line 113"/>
            <p:cNvSpPr/>
            <p:nvPr/>
          </p:nvSpPr>
          <p:spPr>
            <a:xfrm>
              <a:off x="7296120" y="3936960"/>
              <a:ext cx="15238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-41040" bIns="-41040" anchor="ctr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3" name="Text Box 114"/>
            <p:cNvSpPr/>
            <p:nvPr/>
          </p:nvSpPr>
          <p:spPr>
            <a:xfrm>
              <a:off x="7676640" y="3632040"/>
              <a:ext cx="47052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b2b2b2"/>
                  </a:solidFill>
                  <a:latin typeface="Arial"/>
                  <a:ea typeface="굴림"/>
                </a:rPr>
                <a:t>D?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14" name="Group 115"/>
          <p:cNvGrpSpPr/>
          <p:nvPr/>
        </p:nvGrpSpPr>
        <p:grpSpPr>
          <a:xfrm>
            <a:off x="2190600" y="3632040"/>
            <a:ext cx="1371600" cy="685800"/>
            <a:chOff x="2190600" y="3632040"/>
            <a:chExt cx="1371600" cy="685800"/>
          </a:xfrm>
        </p:grpSpPr>
        <p:sp>
          <p:nvSpPr>
            <p:cNvPr id="715" name="Line 116"/>
            <p:cNvSpPr/>
            <p:nvPr/>
          </p:nvSpPr>
          <p:spPr>
            <a:xfrm>
              <a:off x="2190600" y="3632040"/>
              <a:ext cx="137160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6" name="Text Box 117"/>
            <p:cNvSpPr/>
            <p:nvPr/>
          </p:nvSpPr>
          <p:spPr>
            <a:xfrm>
              <a:off x="2418840" y="3860640"/>
              <a:ext cx="47052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b2b2b2"/>
                  </a:solidFill>
                  <a:latin typeface="Arial"/>
                  <a:ea typeface="굴림"/>
                </a:rPr>
                <a:t>D?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17" name="Group 118"/>
          <p:cNvGrpSpPr/>
          <p:nvPr/>
        </p:nvGrpSpPr>
        <p:grpSpPr>
          <a:xfrm>
            <a:off x="2343240" y="5156280"/>
            <a:ext cx="1066680" cy="457200"/>
            <a:chOff x="2343240" y="5156280"/>
            <a:chExt cx="1066680" cy="457200"/>
          </a:xfrm>
        </p:grpSpPr>
        <p:sp>
          <p:nvSpPr>
            <p:cNvPr id="718" name="Line 119"/>
            <p:cNvSpPr/>
            <p:nvPr/>
          </p:nvSpPr>
          <p:spPr>
            <a:xfrm flipV="1">
              <a:off x="2343240" y="5156280"/>
              <a:ext cx="106668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9" name="Text Box 120"/>
            <p:cNvSpPr/>
            <p:nvPr/>
          </p:nvSpPr>
          <p:spPr>
            <a:xfrm>
              <a:off x="2647440" y="5156280"/>
              <a:ext cx="47052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b2b2b2"/>
                  </a:solidFill>
                  <a:latin typeface="Arial"/>
                  <a:ea typeface="굴림"/>
                </a:rPr>
                <a:t>D?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20" name="Group 121"/>
          <p:cNvGrpSpPr/>
          <p:nvPr/>
        </p:nvGrpSpPr>
        <p:grpSpPr>
          <a:xfrm>
            <a:off x="4019400" y="4470480"/>
            <a:ext cx="1524240" cy="357480"/>
            <a:chOff x="4019400" y="4470480"/>
            <a:chExt cx="1524240" cy="357480"/>
          </a:xfrm>
        </p:grpSpPr>
        <p:sp>
          <p:nvSpPr>
            <p:cNvPr id="721" name="Line 122"/>
            <p:cNvSpPr/>
            <p:nvPr/>
          </p:nvSpPr>
          <p:spPr>
            <a:xfrm>
              <a:off x="4019400" y="4775400"/>
              <a:ext cx="15242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-41040" bIns="-41040" anchor="ctr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2" name="Text Box 123"/>
            <p:cNvSpPr/>
            <p:nvPr/>
          </p:nvSpPr>
          <p:spPr>
            <a:xfrm>
              <a:off x="4476600" y="4470480"/>
              <a:ext cx="47052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b2b2b2"/>
                  </a:solidFill>
                  <a:latin typeface="Arial"/>
                  <a:ea typeface="굴림"/>
                </a:rPr>
                <a:t>D?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23" name="Group 124"/>
          <p:cNvGrpSpPr/>
          <p:nvPr/>
        </p:nvGrpSpPr>
        <p:grpSpPr>
          <a:xfrm>
            <a:off x="5771880" y="3479760"/>
            <a:ext cx="470520" cy="1143000"/>
            <a:chOff x="5771880" y="3479760"/>
            <a:chExt cx="470520" cy="1143000"/>
          </a:xfrm>
        </p:grpSpPr>
        <p:sp>
          <p:nvSpPr>
            <p:cNvPr id="724" name="Line 125"/>
            <p:cNvSpPr/>
            <p:nvPr/>
          </p:nvSpPr>
          <p:spPr>
            <a:xfrm>
              <a:off x="5772240" y="3479760"/>
              <a:ext cx="0" cy="1143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5" name="Text Box 126"/>
            <p:cNvSpPr/>
            <p:nvPr/>
          </p:nvSpPr>
          <p:spPr>
            <a:xfrm>
              <a:off x="5771880" y="3632040"/>
              <a:ext cx="47052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굴림"/>
                </a:rPr>
                <a:t>D?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6" name="Object 5"/>
          <p:cNvGraphicFramePr/>
          <p:nvPr/>
        </p:nvGraphicFramePr>
        <p:xfrm>
          <a:off x="806400" y="1339920"/>
          <a:ext cx="8229600" cy="53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6400" y="1339920"/>
                    <a:ext cx="8229600" cy="53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8" name="Rectangle 2"/>
          <p:cNvSpPr/>
          <p:nvPr/>
        </p:nvSpPr>
        <p:spPr>
          <a:xfrm>
            <a:off x="99072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Rectangle 3"/>
          <p:cNvSpPr/>
          <p:nvPr/>
        </p:nvSpPr>
        <p:spPr>
          <a:xfrm>
            <a:off x="826920" y="609480"/>
            <a:ext cx="8317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-LDP: Constraint-Based Routed LD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0" name="Text Box 7"/>
          <p:cNvSpPr/>
          <p:nvPr/>
        </p:nvSpPr>
        <p:spPr>
          <a:xfrm>
            <a:off x="971640" y="1197000"/>
            <a:ext cx="424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serva de recursos: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arámetros de tráf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2"/>
          <p:cNvSpPr/>
          <p:nvPr/>
        </p:nvSpPr>
        <p:spPr>
          <a:xfrm>
            <a:off x="99072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Rectangle 3"/>
          <p:cNvSpPr/>
          <p:nvPr/>
        </p:nvSpPr>
        <p:spPr>
          <a:xfrm>
            <a:off x="826920" y="609480"/>
            <a:ext cx="8317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-LDP: Constraint-Based Routed LD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3" name="Rectangle 4"/>
          <p:cNvSpPr/>
          <p:nvPr/>
        </p:nvSpPr>
        <p:spPr>
          <a:xfrm>
            <a:off x="98892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caminamiento explícit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4" name="Text Box 5"/>
          <p:cNvSpPr/>
          <p:nvPr/>
        </p:nvSpPr>
        <p:spPr>
          <a:xfrm>
            <a:off x="3948120" y="352440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LSR B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Text Box 6"/>
          <p:cNvSpPr/>
          <p:nvPr/>
        </p:nvSpPr>
        <p:spPr>
          <a:xfrm>
            <a:off x="5840280" y="352440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LSR C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Text Box 7"/>
          <p:cNvSpPr/>
          <p:nvPr/>
        </p:nvSpPr>
        <p:spPr>
          <a:xfrm>
            <a:off x="7732800" y="352440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LER 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Text Box 8"/>
          <p:cNvSpPr/>
          <p:nvPr/>
        </p:nvSpPr>
        <p:spPr>
          <a:xfrm>
            <a:off x="2055960" y="352440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LER 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Text Box 9"/>
          <p:cNvSpPr/>
          <p:nvPr/>
        </p:nvSpPr>
        <p:spPr>
          <a:xfrm>
            <a:off x="4572000" y="4937040"/>
            <a:ext cx="13003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ad8de"/>
                </a:solidFill>
                <a:latin typeface="Times New Roman"/>
                <a:ea typeface="굴림"/>
              </a:rPr>
              <a:t>ER Label Switched Pat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9" name="Text Box 10"/>
          <p:cNvSpPr/>
          <p:nvPr/>
        </p:nvSpPr>
        <p:spPr>
          <a:xfrm>
            <a:off x="1828800" y="5013360"/>
            <a:ext cx="9255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ad8de"/>
                </a:solidFill>
                <a:latin typeface="Times New Roman"/>
                <a:ea typeface="굴림"/>
              </a:rPr>
              <a:t>Ingre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Text Box 11"/>
          <p:cNvSpPr/>
          <p:nvPr/>
        </p:nvSpPr>
        <p:spPr>
          <a:xfrm>
            <a:off x="7543800" y="5013360"/>
            <a:ext cx="9255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ad8de"/>
                </a:solidFill>
                <a:latin typeface="Times New Roman"/>
                <a:ea typeface="굴림"/>
              </a:rPr>
              <a:t>Egre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Line 12"/>
          <p:cNvSpPr/>
          <p:nvPr/>
        </p:nvSpPr>
        <p:spPr>
          <a:xfrm>
            <a:off x="2522520" y="4297320"/>
            <a:ext cx="5262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-41040" bIns="-4104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42" name="Group 13"/>
          <p:cNvGrpSpPr/>
          <p:nvPr/>
        </p:nvGrpSpPr>
        <p:grpSpPr>
          <a:xfrm>
            <a:off x="1981080" y="3794040"/>
            <a:ext cx="6256080" cy="1114560"/>
            <a:chOff x="1981080" y="3794040"/>
            <a:chExt cx="6256080" cy="1114560"/>
          </a:xfrm>
        </p:grpSpPr>
        <p:sp>
          <p:nvSpPr>
            <p:cNvPr id="743" name="Picture 14"/>
            <p:cNvSpPr/>
            <p:nvPr/>
          </p:nvSpPr>
          <p:spPr>
            <a:xfrm>
              <a:off x="3859560" y="3794040"/>
              <a:ext cx="617760" cy="11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4" name="Picture 15"/>
            <p:cNvSpPr/>
            <p:nvPr/>
          </p:nvSpPr>
          <p:spPr>
            <a:xfrm>
              <a:off x="5739480" y="3794040"/>
              <a:ext cx="617760" cy="11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5" name="Picture 16"/>
            <p:cNvSpPr/>
            <p:nvPr/>
          </p:nvSpPr>
          <p:spPr>
            <a:xfrm>
              <a:off x="7619400" y="3794040"/>
              <a:ext cx="617760" cy="11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6" name="Picture 17"/>
            <p:cNvSpPr/>
            <p:nvPr/>
          </p:nvSpPr>
          <p:spPr>
            <a:xfrm>
              <a:off x="1981080" y="3794040"/>
              <a:ext cx="617760" cy="11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47" name="Line 18"/>
          <p:cNvSpPr/>
          <p:nvPr/>
        </p:nvSpPr>
        <p:spPr>
          <a:xfrm>
            <a:off x="2523960" y="4597560"/>
            <a:ext cx="5142240" cy="0"/>
          </a:xfrm>
          <a:prstGeom prst="line">
            <a:avLst/>
          </a:prstGeom>
          <a:ln w="38160">
            <a:solidFill>
              <a:srgbClr val="dad8d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440" rIns="82440" tIns="-41040" bIns="-4104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48" name="Group 19"/>
          <p:cNvGrpSpPr/>
          <p:nvPr/>
        </p:nvGrpSpPr>
        <p:grpSpPr>
          <a:xfrm>
            <a:off x="6299280" y="2952720"/>
            <a:ext cx="1958400" cy="1243080"/>
            <a:chOff x="6299280" y="2952720"/>
            <a:chExt cx="1958400" cy="1243080"/>
          </a:xfrm>
        </p:grpSpPr>
        <p:sp>
          <p:nvSpPr>
            <p:cNvPr id="749" name="Line 20"/>
            <p:cNvSpPr/>
            <p:nvPr/>
          </p:nvSpPr>
          <p:spPr>
            <a:xfrm flipH="1">
              <a:off x="6299280" y="4192560"/>
              <a:ext cx="14126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50" name="Group 21"/>
            <p:cNvGrpSpPr/>
            <p:nvPr/>
          </p:nvGrpSpPr>
          <p:grpSpPr>
            <a:xfrm>
              <a:off x="6926400" y="4046760"/>
              <a:ext cx="475560" cy="106200"/>
              <a:chOff x="6926400" y="4046760"/>
              <a:chExt cx="475560" cy="106200"/>
            </a:xfrm>
          </p:grpSpPr>
          <p:sp>
            <p:nvSpPr>
              <p:cNvPr id="751" name="Rectangle 22"/>
              <p:cNvSpPr/>
              <p:nvPr/>
            </p:nvSpPr>
            <p:spPr>
              <a:xfrm flipH="1">
                <a:off x="6926040" y="4046760"/>
                <a:ext cx="464760" cy="106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52" name="Rectangle 23"/>
              <p:cNvSpPr/>
              <p:nvPr/>
            </p:nvSpPr>
            <p:spPr>
              <a:xfrm flipH="1">
                <a:off x="7026840" y="4046760"/>
                <a:ext cx="374760" cy="106200"/>
              </a:xfrm>
              <a:prstGeom prst="rect">
                <a:avLst/>
              </a:prstGeom>
              <a:solidFill>
                <a:srgbClr val="cccc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53" name="Rectangle 24"/>
            <p:cNvSpPr/>
            <p:nvPr/>
          </p:nvSpPr>
          <p:spPr>
            <a:xfrm>
              <a:off x="6719760" y="2952720"/>
              <a:ext cx="1537920" cy="813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4. El mapeo de etiquetas es originado a través de un mensaje.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4" name="Line 25"/>
            <p:cNvSpPr/>
            <p:nvPr/>
          </p:nvSpPr>
          <p:spPr>
            <a:xfrm flipH="1">
              <a:off x="7337160" y="3408480"/>
              <a:ext cx="156960" cy="59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55" name="Group 26"/>
          <p:cNvGrpSpPr/>
          <p:nvPr/>
        </p:nvGrpSpPr>
        <p:grpSpPr>
          <a:xfrm>
            <a:off x="6292800" y="2055960"/>
            <a:ext cx="2816280" cy="1931040"/>
            <a:chOff x="6292800" y="2055960"/>
            <a:chExt cx="2816280" cy="1931040"/>
          </a:xfrm>
        </p:grpSpPr>
        <p:sp>
          <p:nvSpPr>
            <p:cNvPr id="756" name="Rectangle 27"/>
            <p:cNvSpPr/>
            <p:nvPr/>
          </p:nvSpPr>
          <p:spPr>
            <a:xfrm>
              <a:off x="7667640" y="2055960"/>
              <a:ext cx="1441440" cy="448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3. Mensaje de petición terminado.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7" name="Line 28"/>
            <p:cNvSpPr/>
            <p:nvPr/>
          </p:nvSpPr>
          <p:spPr>
            <a:xfrm flipV="1">
              <a:off x="6292800" y="3980880"/>
              <a:ext cx="1412640" cy="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8" name="Line 29"/>
            <p:cNvSpPr/>
            <p:nvPr/>
          </p:nvSpPr>
          <p:spPr>
            <a:xfrm flipH="1">
              <a:off x="8322840" y="2519280"/>
              <a:ext cx="461880" cy="106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59" name="Group 30"/>
          <p:cNvGrpSpPr/>
          <p:nvPr/>
        </p:nvGrpSpPr>
        <p:grpSpPr>
          <a:xfrm>
            <a:off x="4278240" y="2055960"/>
            <a:ext cx="2222280" cy="1928160"/>
            <a:chOff x="4278240" y="2055960"/>
            <a:chExt cx="2222280" cy="1928160"/>
          </a:xfrm>
        </p:grpSpPr>
        <p:sp>
          <p:nvSpPr>
            <p:cNvPr id="760" name="Rectangle 31"/>
            <p:cNvSpPr/>
            <p:nvPr/>
          </p:nvSpPr>
          <p:spPr>
            <a:xfrm>
              <a:off x="4344840" y="2055960"/>
              <a:ext cx="2155680" cy="813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2 Mensaje de petición procesado y el próximo nodo determinado. Lista del camino modificada a &lt;C,D&gt;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1" name="Line 32"/>
            <p:cNvSpPr/>
            <p:nvPr/>
          </p:nvSpPr>
          <p:spPr>
            <a:xfrm>
              <a:off x="4392360" y="3981240"/>
              <a:ext cx="141444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2" name="Line 33"/>
            <p:cNvSpPr/>
            <p:nvPr/>
          </p:nvSpPr>
          <p:spPr>
            <a:xfrm flipH="1">
              <a:off x="4278240" y="2687400"/>
              <a:ext cx="255600" cy="89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63" name="Group 34"/>
          <p:cNvGrpSpPr/>
          <p:nvPr/>
        </p:nvGrpSpPr>
        <p:grpSpPr>
          <a:xfrm>
            <a:off x="2058840" y="2238480"/>
            <a:ext cx="2055960" cy="1748520"/>
            <a:chOff x="2058840" y="2238480"/>
            <a:chExt cx="2055960" cy="1748520"/>
          </a:xfrm>
        </p:grpSpPr>
        <p:sp>
          <p:nvSpPr>
            <p:cNvPr id="764" name="Rectangle 35"/>
            <p:cNvSpPr/>
            <p:nvPr/>
          </p:nvSpPr>
          <p:spPr>
            <a:xfrm>
              <a:off x="2058840" y="2238480"/>
              <a:ext cx="2055960" cy="63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1. Mensaje de petición de etiqueta. Contiene la ruta explícita &lt; B,C,D&gt;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765" name="Picture 36" descr=""/>
            <p:cNvPicPr/>
            <p:nvPr/>
          </p:nvPicPr>
          <p:blipFill>
            <a:blip r:embed="rId1"/>
            <a:stretch/>
          </p:blipFill>
          <p:spPr>
            <a:xfrm>
              <a:off x="3004920" y="3863880"/>
              <a:ext cx="471600" cy="11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Line 37"/>
            <p:cNvSpPr/>
            <p:nvPr/>
          </p:nvSpPr>
          <p:spPr>
            <a:xfrm flipV="1">
              <a:off x="2514600" y="3980880"/>
              <a:ext cx="1412640" cy="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7" name="Line 38"/>
            <p:cNvSpPr/>
            <p:nvPr/>
          </p:nvSpPr>
          <p:spPr>
            <a:xfrm flipH="1">
              <a:off x="3327120" y="2687400"/>
              <a:ext cx="301680" cy="110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68" name="Group 39"/>
          <p:cNvGrpSpPr/>
          <p:nvPr/>
        </p:nvGrpSpPr>
        <p:grpSpPr>
          <a:xfrm>
            <a:off x="4419720" y="2840040"/>
            <a:ext cx="2214000" cy="1355760"/>
            <a:chOff x="4419720" y="2840040"/>
            <a:chExt cx="2214000" cy="1355760"/>
          </a:xfrm>
        </p:grpSpPr>
        <p:sp>
          <p:nvSpPr>
            <p:cNvPr id="769" name="Line 40"/>
            <p:cNvSpPr/>
            <p:nvPr/>
          </p:nvSpPr>
          <p:spPr>
            <a:xfrm flipH="1" flipV="1">
              <a:off x="4419720" y="4187880"/>
              <a:ext cx="1412640" cy="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0" name="Rectangle 41"/>
            <p:cNvSpPr/>
            <p:nvPr/>
          </p:nvSpPr>
          <p:spPr>
            <a:xfrm>
              <a:off x="4599000" y="2840040"/>
              <a:ext cx="2034720" cy="813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5. LSR C recive la etiqueta para usar para mandarlos datos a LER D. Tala de etiquetas actualizada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1" name="Line 42"/>
            <p:cNvSpPr/>
            <p:nvPr/>
          </p:nvSpPr>
          <p:spPr>
            <a:xfrm>
              <a:off x="5545080" y="3490920"/>
              <a:ext cx="326520" cy="18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72" name="Group 43"/>
          <p:cNvGrpSpPr/>
          <p:nvPr/>
        </p:nvGrpSpPr>
        <p:grpSpPr>
          <a:xfrm>
            <a:off x="833400" y="2840040"/>
            <a:ext cx="3099960" cy="1355760"/>
            <a:chOff x="833400" y="2840040"/>
            <a:chExt cx="3099960" cy="1355760"/>
          </a:xfrm>
        </p:grpSpPr>
        <p:sp>
          <p:nvSpPr>
            <p:cNvPr id="773" name="Line 44"/>
            <p:cNvSpPr/>
            <p:nvPr/>
          </p:nvSpPr>
          <p:spPr>
            <a:xfrm flipH="1">
              <a:off x="2520360" y="4194360"/>
              <a:ext cx="1413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74" name="Group 45"/>
            <p:cNvGrpSpPr/>
            <p:nvPr/>
          </p:nvGrpSpPr>
          <p:grpSpPr>
            <a:xfrm>
              <a:off x="833400" y="2840040"/>
              <a:ext cx="1743120" cy="835200"/>
              <a:chOff x="833400" y="2840040"/>
              <a:chExt cx="1743120" cy="835200"/>
            </a:xfrm>
          </p:grpSpPr>
          <p:sp>
            <p:nvSpPr>
              <p:cNvPr id="775" name="Rectangle 46"/>
              <p:cNvSpPr/>
              <p:nvPr/>
            </p:nvSpPr>
            <p:spPr>
              <a:xfrm>
                <a:off x="833400" y="2840040"/>
                <a:ext cx="1743120" cy="813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  <a:ea typeface="굴림"/>
                  </a:rPr>
                  <a:t>6. Cuando el LER A recive la etiqueta mapead el ER es establecido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76" name="Line 47"/>
              <p:cNvSpPr/>
              <p:nvPr/>
            </p:nvSpPr>
            <p:spPr>
              <a:xfrm>
                <a:off x="1774800" y="3481560"/>
                <a:ext cx="338040" cy="19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040" bIns="4104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2"/>
          <p:cNvSpPr/>
          <p:nvPr/>
        </p:nvSpPr>
        <p:spPr>
          <a:xfrm>
            <a:off x="99072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8" name="Rectangle 3"/>
          <p:cNvSpPr/>
          <p:nvPr/>
        </p:nvSpPr>
        <p:spPr>
          <a:xfrm>
            <a:off x="826920" y="609480"/>
            <a:ext cx="8317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ilamiento de etiquetas en MP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9" name="Picture 48" descr=""/>
          <p:cNvPicPr/>
          <p:nvPr/>
        </p:nvPicPr>
        <p:blipFill>
          <a:blip r:embed="rId1"/>
          <a:stretch/>
        </p:blipFill>
        <p:spPr>
          <a:xfrm>
            <a:off x="5904000" y="4238640"/>
            <a:ext cx="2555640" cy="142236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49" descr=""/>
          <p:cNvPicPr/>
          <p:nvPr/>
        </p:nvPicPr>
        <p:blipFill>
          <a:blip r:embed="rId2"/>
          <a:stretch/>
        </p:blipFill>
        <p:spPr>
          <a:xfrm>
            <a:off x="3564000" y="2708280"/>
            <a:ext cx="2555640" cy="1422360"/>
          </a:xfrm>
          <a:prstGeom prst="rect">
            <a:avLst/>
          </a:prstGeom>
          <a:ln w="0">
            <a:noFill/>
          </a:ln>
        </p:spPr>
      </p:pic>
      <p:pic>
        <p:nvPicPr>
          <p:cNvPr id="781" name="Picture 50" descr=""/>
          <p:cNvPicPr/>
          <p:nvPr/>
        </p:nvPicPr>
        <p:blipFill>
          <a:blip r:embed="rId3"/>
          <a:stretch/>
        </p:blipFill>
        <p:spPr>
          <a:xfrm>
            <a:off x="611280" y="1501920"/>
            <a:ext cx="2555640" cy="1422360"/>
          </a:xfrm>
          <a:prstGeom prst="rect">
            <a:avLst/>
          </a:prstGeom>
          <a:ln w="0">
            <a:noFill/>
          </a:ln>
        </p:spPr>
      </p:pic>
      <p:sp>
        <p:nvSpPr>
          <p:cNvPr id="782" name="Text Box 51"/>
          <p:cNvSpPr/>
          <p:nvPr/>
        </p:nvSpPr>
        <p:spPr>
          <a:xfrm>
            <a:off x="1637640" y="1773360"/>
            <a:ext cx="106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굴림"/>
              </a:rPr>
              <a:t>Red MPL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굴림"/>
              </a:rPr>
              <a:t>ISP 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Text Box 52"/>
          <p:cNvSpPr/>
          <p:nvPr/>
        </p:nvSpPr>
        <p:spPr>
          <a:xfrm>
            <a:off x="4445640" y="2924280"/>
            <a:ext cx="106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굴림"/>
              </a:rPr>
              <a:t>Red MPL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굴림"/>
              </a:rPr>
              <a:t>ISP B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4" name="Text Box 53"/>
          <p:cNvSpPr/>
          <p:nvPr/>
        </p:nvSpPr>
        <p:spPr>
          <a:xfrm>
            <a:off x="7038000" y="4508640"/>
            <a:ext cx="106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굴림"/>
              </a:rPr>
              <a:t>Red MPL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굴림"/>
              </a:rPr>
              <a:t>ISP C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5" name="Text Box 54"/>
          <p:cNvSpPr/>
          <p:nvPr/>
        </p:nvSpPr>
        <p:spPr>
          <a:xfrm>
            <a:off x="1509480" y="2349360"/>
            <a:ext cx="538920" cy="249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굴림"/>
              </a:rPr>
              <a:t>4 (16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86" name="Picture 55" descr=""/>
          <p:cNvPicPr/>
          <p:nvPr/>
        </p:nvPicPr>
        <p:blipFill>
          <a:blip r:embed="rId4"/>
          <a:stretch/>
        </p:blipFill>
        <p:spPr>
          <a:xfrm>
            <a:off x="539640" y="1690560"/>
            <a:ext cx="774720" cy="5875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56" descr=""/>
          <p:cNvPicPr/>
          <p:nvPr/>
        </p:nvPicPr>
        <p:blipFill>
          <a:blip r:embed="rId5"/>
          <a:stretch/>
        </p:blipFill>
        <p:spPr>
          <a:xfrm>
            <a:off x="2484360" y="2409840"/>
            <a:ext cx="774720" cy="58752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57" descr=""/>
          <p:cNvPicPr/>
          <p:nvPr/>
        </p:nvPicPr>
        <p:blipFill>
          <a:blip r:embed="rId6"/>
          <a:stretch/>
        </p:blipFill>
        <p:spPr>
          <a:xfrm>
            <a:off x="3348000" y="2914560"/>
            <a:ext cx="774720" cy="5875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58" descr=""/>
          <p:cNvPicPr/>
          <p:nvPr/>
        </p:nvPicPr>
        <p:blipFill>
          <a:blip r:embed="rId7"/>
          <a:stretch/>
        </p:blipFill>
        <p:spPr>
          <a:xfrm>
            <a:off x="5292720" y="3633840"/>
            <a:ext cx="774720" cy="587160"/>
          </a:xfrm>
          <a:prstGeom prst="rect">
            <a:avLst/>
          </a:prstGeom>
          <a:ln w="0">
            <a:noFill/>
          </a:ln>
        </p:spPr>
      </p:pic>
      <p:pic>
        <p:nvPicPr>
          <p:cNvPr id="790" name="Picture 59" descr=""/>
          <p:cNvPicPr/>
          <p:nvPr/>
        </p:nvPicPr>
        <p:blipFill>
          <a:blip r:embed="rId8"/>
          <a:stretch/>
        </p:blipFill>
        <p:spPr>
          <a:xfrm>
            <a:off x="5956200" y="4354560"/>
            <a:ext cx="774720" cy="587160"/>
          </a:xfrm>
          <a:prstGeom prst="rect">
            <a:avLst/>
          </a:prstGeom>
          <a:ln w="0">
            <a:noFill/>
          </a:ln>
        </p:spPr>
      </p:pic>
      <p:pic>
        <p:nvPicPr>
          <p:cNvPr id="791" name="Picture 60" descr=""/>
          <p:cNvPicPr/>
          <p:nvPr/>
        </p:nvPicPr>
        <p:blipFill>
          <a:blip r:embed="rId9"/>
          <a:stretch/>
        </p:blipFill>
        <p:spPr>
          <a:xfrm>
            <a:off x="7974000" y="5218200"/>
            <a:ext cx="774720" cy="587160"/>
          </a:xfrm>
          <a:prstGeom prst="rect">
            <a:avLst/>
          </a:prstGeom>
          <a:ln w="0">
            <a:noFill/>
          </a:ln>
        </p:spPr>
      </p:pic>
      <p:sp>
        <p:nvSpPr>
          <p:cNvPr id="792" name="Line 61"/>
          <p:cNvSpPr/>
          <p:nvPr/>
        </p:nvSpPr>
        <p:spPr>
          <a:xfrm>
            <a:off x="898560" y="1916280"/>
            <a:ext cx="1944720" cy="720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Line 62"/>
          <p:cNvSpPr/>
          <p:nvPr/>
        </p:nvSpPr>
        <p:spPr>
          <a:xfrm>
            <a:off x="2843280" y="2637000"/>
            <a:ext cx="936720" cy="504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4" name="Line 63"/>
          <p:cNvSpPr/>
          <p:nvPr/>
        </p:nvSpPr>
        <p:spPr>
          <a:xfrm>
            <a:off x="3780000" y="3141720"/>
            <a:ext cx="1942920" cy="718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Line 64"/>
          <p:cNvSpPr/>
          <p:nvPr/>
        </p:nvSpPr>
        <p:spPr>
          <a:xfrm>
            <a:off x="5722920" y="3860640"/>
            <a:ext cx="576360" cy="648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Line 65"/>
          <p:cNvSpPr/>
          <p:nvPr/>
        </p:nvSpPr>
        <p:spPr>
          <a:xfrm>
            <a:off x="6299280" y="4508640"/>
            <a:ext cx="1944720" cy="936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7" name="Text Box 66"/>
          <p:cNvSpPr/>
          <p:nvPr/>
        </p:nvSpPr>
        <p:spPr>
          <a:xfrm>
            <a:off x="6738840" y="4981680"/>
            <a:ext cx="538920" cy="249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굴림"/>
              </a:rPr>
              <a:t>8 (12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8" name="Text Box 67"/>
          <p:cNvSpPr/>
          <p:nvPr/>
        </p:nvSpPr>
        <p:spPr>
          <a:xfrm>
            <a:off x="2949480" y="2924280"/>
            <a:ext cx="538920" cy="249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굴림"/>
              </a:rPr>
              <a:t>2 (15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Text Box 68"/>
          <p:cNvSpPr/>
          <p:nvPr/>
        </p:nvSpPr>
        <p:spPr>
          <a:xfrm>
            <a:off x="5586120" y="4189320"/>
            <a:ext cx="538920" cy="249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굴림"/>
              </a:rPr>
              <a:t>2 (13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Text Box 69"/>
          <p:cNvSpPr/>
          <p:nvPr/>
        </p:nvSpPr>
        <p:spPr>
          <a:xfrm>
            <a:off x="4246200" y="3902040"/>
            <a:ext cx="538920" cy="249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굴림"/>
              </a:rPr>
              <a:t>2 (15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Text Box 70"/>
          <p:cNvSpPr/>
          <p:nvPr/>
        </p:nvSpPr>
        <p:spPr>
          <a:xfrm>
            <a:off x="4246200" y="3573360"/>
            <a:ext cx="538920" cy="249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굴림"/>
              </a:rPr>
              <a:t>7 (14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2" name="Text Box 71"/>
          <p:cNvSpPr/>
          <p:nvPr/>
        </p:nvSpPr>
        <p:spPr>
          <a:xfrm>
            <a:off x="394200" y="3127320"/>
            <a:ext cx="148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굴림"/>
              </a:rPr>
              <a:t>LSR de Ingres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굴림"/>
              </a:rPr>
              <a:t>1</a:t>
            </a:r>
            <a:r>
              <a:rPr b="1" lang="es-ES" sz="14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er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굴림"/>
              </a:rPr>
              <a:t> ni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Line 72"/>
          <p:cNvSpPr/>
          <p:nvPr/>
        </p:nvSpPr>
        <p:spPr>
          <a:xfrm flipV="1">
            <a:off x="898560" y="220464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Text Box 73"/>
          <p:cNvSpPr/>
          <p:nvPr/>
        </p:nvSpPr>
        <p:spPr>
          <a:xfrm>
            <a:off x="1689840" y="342900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굴림"/>
              </a:rPr>
              <a:t>LSR Interi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굴림"/>
              </a:rPr>
              <a:t>1</a:t>
            </a:r>
            <a:r>
              <a:rPr b="1" lang="es-ES" sz="14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er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굴림"/>
              </a:rPr>
              <a:t> ni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5" name="Line 74"/>
          <p:cNvSpPr/>
          <p:nvPr/>
        </p:nvSpPr>
        <p:spPr>
          <a:xfrm flipV="1">
            <a:off x="2771640" y="29242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Text Box 75"/>
          <p:cNvSpPr/>
          <p:nvPr/>
        </p:nvSpPr>
        <p:spPr>
          <a:xfrm>
            <a:off x="6226920" y="328464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굴림"/>
              </a:rPr>
              <a:t>LSR Interi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굴림"/>
              </a:rPr>
              <a:t>1</a:t>
            </a:r>
            <a:r>
              <a:rPr b="1" lang="es-ES" sz="14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er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굴림"/>
              </a:rPr>
              <a:t> ni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Line 76"/>
          <p:cNvSpPr/>
          <p:nvPr/>
        </p:nvSpPr>
        <p:spPr>
          <a:xfrm>
            <a:off x="6372360" y="3716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Text Box 77"/>
          <p:cNvSpPr/>
          <p:nvPr/>
        </p:nvSpPr>
        <p:spPr>
          <a:xfrm>
            <a:off x="7517880" y="3559320"/>
            <a:ext cx="144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굴림"/>
              </a:rPr>
              <a:t>LSR de Egres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굴림"/>
              </a:rPr>
              <a:t>1</a:t>
            </a:r>
            <a:r>
              <a:rPr b="1" lang="es-ES" sz="14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er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굴림"/>
              </a:rPr>
              <a:t> ni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Line 78"/>
          <p:cNvSpPr/>
          <p:nvPr/>
        </p:nvSpPr>
        <p:spPr>
          <a:xfrm>
            <a:off x="8459640" y="4075200"/>
            <a:ext cx="0" cy="12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Text Box 79"/>
          <p:cNvSpPr/>
          <p:nvPr/>
        </p:nvSpPr>
        <p:spPr>
          <a:xfrm>
            <a:off x="4642920" y="2205000"/>
            <a:ext cx="144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굴림"/>
              </a:rPr>
              <a:t>LSR de Egres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굴림"/>
              </a:rPr>
              <a:t>2º ni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Line 80"/>
          <p:cNvSpPr/>
          <p:nvPr/>
        </p:nvSpPr>
        <p:spPr>
          <a:xfrm>
            <a:off x="5580000" y="2708280"/>
            <a:ext cx="6480" cy="94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Text Box 81"/>
          <p:cNvSpPr/>
          <p:nvPr/>
        </p:nvSpPr>
        <p:spPr>
          <a:xfrm>
            <a:off x="3327840" y="1844640"/>
            <a:ext cx="148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굴림"/>
              </a:rPr>
              <a:t>LSR de Ingres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굴림"/>
              </a:rPr>
              <a:t>2º ni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3" name="Line 82"/>
          <p:cNvSpPr/>
          <p:nvPr/>
        </p:nvSpPr>
        <p:spPr>
          <a:xfrm>
            <a:off x="3780000" y="2349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4" name="Text Box 83"/>
          <p:cNvSpPr/>
          <p:nvPr/>
        </p:nvSpPr>
        <p:spPr>
          <a:xfrm>
            <a:off x="2771640" y="2563920"/>
            <a:ext cx="174960" cy="21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굴림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Text Box 84"/>
          <p:cNvSpPr/>
          <p:nvPr/>
        </p:nvSpPr>
        <p:spPr>
          <a:xfrm>
            <a:off x="3585240" y="3067200"/>
            <a:ext cx="216000" cy="21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굴림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Text Box 85"/>
          <p:cNvSpPr/>
          <p:nvPr/>
        </p:nvSpPr>
        <p:spPr>
          <a:xfrm>
            <a:off x="5580000" y="3787920"/>
            <a:ext cx="174960" cy="21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굴림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Text Box 86"/>
          <p:cNvSpPr/>
          <p:nvPr/>
        </p:nvSpPr>
        <p:spPr>
          <a:xfrm>
            <a:off x="6197760" y="4506840"/>
            <a:ext cx="174960" cy="21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굴림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Text Box 87"/>
          <p:cNvSpPr/>
          <p:nvPr/>
        </p:nvSpPr>
        <p:spPr>
          <a:xfrm>
            <a:off x="8249040" y="5372280"/>
            <a:ext cx="165600" cy="21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굴림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Text Box 88"/>
          <p:cNvSpPr/>
          <p:nvPr/>
        </p:nvSpPr>
        <p:spPr>
          <a:xfrm>
            <a:off x="793800" y="1844640"/>
            <a:ext cx="182520" cy="21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굴림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0" name="Text Box 89"/>
          <p:cNvSpPr/>
          <p:nvPr/>
        </p:nvSpPr>
        <p:spPr>
          <a:xfrm>
            <a:off x="395280" y="4076640"/>
            <a:ext cx="331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굴림"/>
              </a:rPr>
              <a:t>Los routers U y Z han constituido un LSP con dos LSR interiores, V e Y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1" name="Text Box 90"/>
          <p:cNvSpPr/>
          <p:nvPr/>
        </p:nvSpPr>
        <p:spPr>
          <a:xfrm>
            <a:off x="395280" y="5300640"/>
            <a:ext cx="540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굴림"/>
              </a:rPr>
              <a:t>Los routers V e Y están enlazados por un LSP que ha creado el ISP B. V e Y  no ven las etiquetas rojas que manejan W y 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2" name="Text Box 91"/>
          <p:cNvSpPr/>
          <p:nvPr/>
        </p:nvSpPr>
        <p:spPr>
          <a:xfrm>
            <a:off x="412920" y="4653000"/>
            <a:ext cx="430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굴림"/>
              </a:rPr>
              <a:t>Para el ISP B parece como si V e Y fueran routers IP ordinarios (no MPLS ‘enabled’)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Text Box 92"/>
          <p:cNvSpPr/>
          <p:nvPr/>
        </p:nvSpPr>
        <p:spPr>
          <a:xfrm>
            <a:off x="6208560" y="1941480"/>
            <a:ext cx="538920" cy="249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굴림"/>
              </a:rPr>
              <a:t>2 (15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4" name="Text Box 93"/>
          <p:cNvSpPr/>
          <p:nvPr/>
        </p:nvSpPr>
        <p:spPr>
          <a:xfrm>
            <a:off x="6210000" y="2373480"/>
            <a:ext cx="538920" cy="249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굴림"/>
              </a:rPr>
              <a:t>7 (14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5" name="Text Box 94"/>
          <p:cNvSpPr/>
          <p:nvPr/>
        </p:nvSpPr>
        <p:spPr>
          <a:xfrm>
            <a:off x="6757560" y="2332080"/>
            <a:ext cx="235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굴림"/>
              </a:rPr>
              <a:t>Etiqueta (TTL)  de 2º ni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6" name="Text Box 95"/>
          <p:cNvSpPr/>
          <p:nvPr/>
        </p:nvSpPr>
        <p:spPr>
          <a:xfrm>
            <a:off x="6744600" y="1884240"/>
            <a:ext cx="233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굴림"/>
              </a:rPr>
              <a:t>Etiqueta (TTL) de 1</a:t>
            </a:r>
            <a:r>
              <a:rPr b="1" lang="es-ES" sz="14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er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굴림"/>
              </a:rPr>
              <a:t> ni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7" name="Text Box 96"/>
          <p:cNvSpPr/>
          <p:nvPr/>
        </p:nvSpPr>
        <p:spPr>
          <a:xfrm>
            <a:off x="395280" y="5932440"/>
            <a:ext cx="540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8" name="Text Box 97"/>
          <p:cNvSpPr/>
          <p:nvPr/>
        </p:nvSpPr>
        <p:spPr>
          <a:xfrm>
            <a:off x="395280" y="5932440"/>
            <a:ext cx="820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굴림"/>
              </a:rPr>
              <a:t>En cierto modo es como si entre V e Y se hubiera hecho un túnel que atravesara W y 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9" name="Text Box 98"/>
          <p:cNvSpPr/>
          <p:nvPr/>
        </p:nvSpPr>
        <p:spPr>
          <a:xfrm>
            <a:off x="393120" y="1052640"/>
            <a:ext cx="609120" cy="2494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굴림"/>
              </a:rPr>
              <a:t>IP (17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0" name="Line 99"/>
          <p:cNvSpPr/>
          <p:nvPr/>
        </p:nvSpPr>
        <p:spPr>
          <a:xfrm>
            <a:off x="826920" y="1413000"/>
            <a:ext cx="0" cy="215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1" name="Text Box 100"/>
          <p:cNvSpPr/>
          <p:nvPr/>
        </p:nvSpPr>
        <p:spPr>
          <a:xfrm>
            <a:off x="8213040" y="6093000"/>
            <a:ext cx="609120" cy="2494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굴림"/>
              </a:rPr>
              <a:t>IP (11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2" name="Line 101"/>
          <p:cNvSpPr/>
          <p:nvPr/>
        </p:nvSpPr>
        <p:spPr>
          <a:xfrm>
            <a:off x="8388360" y="5805360"/>
            <a:ext cx="0" cy="216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3" name="Text Box 102"/>
          <p:cNvSpPr/>
          <p:nvPr/>
        </p:nvSpPr>
        <p:spPr>
          <a:xfrm>
            <a:off x="6154200" y="1452600"/>
            <a:ext cx="609120" cy="2494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굴림"/>
              </a:rPr>
              <a:t>IP (17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4" name="Text Box 103"/>
          <p:cNvSpPr/>
          <p:nvPr/>
        </p:nvSpPr>
        <p:spPr>
          <a:xfrm>
            <a:off x="6728760" y="1413000"/>
            <a:ext cx="15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굴림"/>
              </a:rPr>
              <a:t>Paquete IP (TTL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2"/>
          <p:cNvSpPr/>
          <p:nvPr/>
        </p:nvSpPr>
        <p:spPr>
          <a:xfrm>
            <a:off x="99072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des de alto rendimient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as decisiones de encaminamiento que han de tomar los routers MPLS en base a la LIB son mucho más sencillas y rápidas que las que toma un router IP ordinario (la LIB es mucho más pequeña que una tabla de rutas normal)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a anidación de etiquetas permite agregar flujos con mucha facilidad, por lo que el mecanismo es escalabl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caminamiento con QoS en IP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es posible asignar a un cliente o a un tipo de tráfico una FEC a la que se asocie un LSP que discurra por enlaces con bajo nivel de carg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oveedor de servicios para VPN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más escalables y menos costosas que otras alternativas como IPSec, ATM o F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oporte multiprotocolo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a que el encaminamiento de los paquetes se realiza en base a la etiqueta MPLS estándar, no a  la cabecera de nivel de r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ermite integración de redes diversas: ATM, Frame relay, Ethernet, etc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geniería de Tráfico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e conoce con este nombre la planificación de rutas en una red en base a previsiones y estimaciones a largo plazo con el fin de optimizar los recursos y reducir congestió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6" name="Rectangle 3"/>
          <p:cNvSpPr/>
          <p:nvPr/>
        </p:nvSpPr>
        <p:spPr>
          <a:xfrm>
            <a:off x="826920" y="609480"/>
            <a:ext cx="8317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clusiones y aplicaci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2"/>
          <p:cNvSpPr/>
          <p:nvPr/>
        </p:nvSpPr>
        <p:spPr>
          <a:xfrm>
            <a:off x="99072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otivació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recimiento y evolución de  Intern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recimiento del número de usuario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cremento del ancho de band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iversas necesidades de Q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tserv demasiado complejo para su introducción en el núcleo de la red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ecanismo simple para la gestión de la re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imitaciones de diferentes tecnologías en el núcleo de la red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ovimiento a una red unifica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geniería de Tráf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 conoce con este nombre la planificación de rutas en una red en base a previsiones y estimaciones a largo plazo con el fin de optimizar los recursos y reducir congestió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Rectangle 3"/>
          <p:cNvSpPr/>
          <p:nvPr/>
        </p:nvSpPr>
        <p:spPr>
          <a:xfrm>
            <a:off x="826920" y="609480"/>
            <a:ext cx="8317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ceptos de MPLS (Multiprotocol Label Switch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2"/>
          <p:cNvSpPr/>
          <p:nvPr/>
        </p:nvSpPr>
        <p:spPr>
          <a:xfrm>
            <a:off x="99072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mparativa con AT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mbos proporcionan servicios orientados a conexión para transporte de dat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PLS permite trabajar con paquetes de tamaño variable. Con las tasas de transmisión de las redes ópticas actuales, ya no es necesario el tamaño pequeño de las celdas AT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PLS es unidireccional. Los datos en los dos sentidos pueden ir por distintos caminos. Los circuitos virtuales de ATM son bidireccional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PLS se ha diseñado desde el principio para ser compatible con IP. Elimina las incompatibilidades ATM-IP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Rectangle 4"/>
          <p:cNvSpPr/>
          <p:nvPr/>
        </p:nvSpPr>
        <p:spPr>
          <a:xfrm>
            <a:off x="826920" y="609480"/>
            <a:ext cx="8317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ceptos de MPLS (Multiprotocol Label Switch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99072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volució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presursores comenzaron a mediados de los 9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oshiba (Cell Switching Route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psilon  (IP Switching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isco (Tag Switching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BM (Aggregate Route-based IP Switching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ETF MPLS working group se formó en 199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PLS fue seleccionado como el nombre genérico para esta tecnologí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PLS es RFC desde 200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 día de hoy la mayoría de los proveedores en más o menor medida utilizan esta tecnología en sus backb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826920" y="609480"/>
            <a:ext cx="8317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ceptos de MPLS (Multiprotocol Label Switch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23" name="Object 4"/>
          <p:cNvGraphicFramePr/>
          <p:nvPr/>
        </p:nvGraphicFramePr>
        <p:xfrm>
          <a:off x="1619280" y="1692360"/>
          <a:ext cx="6859440" cy="209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692360"/>
                    <a:ext cx="6859440" cy="20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2"/>
          <p:cNvSpPr/>
          <p:nvPr/>
        </p:nvSpPr>
        <p:spPr>
          <a:xfrm>
            <a:off x="99072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tiqueta MP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orwarding Equivalence Class (FEC)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nombre que se le da al tráfico que se encamina bajo una etiqueta. Subconjunto de paquetes tratados del mismo modo por el conmutador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bel Switching Router (LSR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elemento que conmuta etiquet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bel Edge Router (LER)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elemento de entrada/salida a la red MPLS (pone y quita cabeceras)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outer de entrada: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gress Rou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outer de salida: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gress Rou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Ambos se suelen denominar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dge Label Switch Router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bel Switched Path (LSP)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nombre genérico de un camino MPLS (para cierto tráfico o FEC), es decir, del túnel MPLS establecido entre los extremos. Tener en cuenta que un LSP es unidireccion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tocolos de distribución de Etiquet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826920" y="609480"/>
            <a:ext cx="8317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rquitectura MP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2"/>
          <p:cNvSpPr/>
          <p:nvPr/>
        </p:nvSpPr>
        <p:spPr>
          <a:xfrm>
            <a:off x="990720" y="4017960"/>
            <a:ext cx="7829280" cy="23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 paquete IP entra en el domino MP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gress LSR (LSR1) asigna una etiqueta y transmite el paquete a el próximo salto de del camin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SR intermedio (LSR2, LSR3) hace una simple búsqueda de la etiqueta, cambia la etiqueta y transmite el paque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gress LSR (LSR4) elimina la etiqueta y transmite el paquete basado en un protocolo estándar de enrutamient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Rectangle 3"/>
          <p:cNvSpPr/>
          <p:nvPr/>
        </p:nvSpPr>
        <p:spPr>
          <a:xfrm>
            <a:off x="826920" y="609480"/>
            <a:ext cx="8317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mutación de etiquet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29" name="Object 4"/>
          <p:cNvGraphicFramePr/>
          <p:nvPr/>
        </p:nvGraphicFramePr>
        <p:xfrm>
          <a:off x="1763640" y="1197000"/>
          <a:ext cx="6399360" cy="287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197000"/>
                    <a:ext cx="6399360" cy="28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2"/>
          <p:cNvSpPr/>
          <p:nvPr/>
        </p:nvSpPr>
        <p:spPr>
          <a:xfrm>
            <a:off x="990720" y="4422600"/>
            <a:ext cx="7772400" cy="23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etiqueta de MPLS (32 bits) es introducida como una cabecera  “shim” entre la de nivel 2 y la cabecera de nivel 3 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ivel 2.5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apea el modelo de encaminamiento de nivel de red a un modelo conmutación de caminos en la red de transpor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826920" y="609480"/>
            <a:ext cx="8317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tiqueta MP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33" name="Object 4"/>
          <p:cNvGraphicFramePr/>
          <p:nvPr/>
        </p:nvGraphicFramePr>
        <p:xfrm>
          <a:off x="2143080" y="1125360"/>
          <a:ext cx="5524560" cy="304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3080" y="1125360"/>
                    <a:ext cx="5524560" cy="30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2"/>
          <p:cNvSpPr/>
          <p:nvPr/>
        </p:nvSpPr>
        <p:spPr>
          <a:xfrm>
            <a:off x="990720" y="3125880"/>
            <a:ext cx="777240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tiquet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asociada a MP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lases de servicio/Experiment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(CoS):Campo que sirve para clasificar el tráfico en clases separadas para entregar servicio diferenciado a cada una de las clases de la r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Indicador de etiqueta de pila, MPLS permite más de una etiqueta (label stacking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 indica que es la última etiqueta, 0  caso contrari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ime to Live (TTL)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ampo que indica cuanto tiempo dura un paquete, equivalente al TTL de IP (evita “loops”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Rectangle 3"/>
          <p:cNvSpPr/>
          <p:nvPr/>
        </p:nvSpPr>
        <p:spPr>
          <a:xfrm>
            <a:off x="826920" y="609480"/>
            <a:ext cx="8317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tiqueta MP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7" name="Picture 6" descr=""/>
          <p:cNvPicPr/>
          <p:nvPr/>
        </p:nvPicPr>
        <p:blipFill>
          <a:blip r:embed="rId1"/>
          <a:stretch/>
        </p:blipFill>
        <p:spPr>
          <a:xfrm>
            <a:off x="2249640" y="1341360"/>
            <a:ext cx="5491080" cy="16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2T15:20:12Z</dcterms:created>
  <dc:creator>Pablo Turmero</dc:creator>
  <dc:description/>
  <dc:language>en-US</dc:language>
  <cp:lastModifiedBy>Pablo Turmero</cp:lastModifiedBy>
  <dcterms:modified xsi:type="dcterms:W3CDTF">2016-05-23T23:14:08Z</dcterms:modified>
  <cp:revision>241</cp:revision>
  <dc:subject/>
  <dc:title/>
</cp:coreProperties>
</file>