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500-21B4-451F-8813-FD4FE9947A32}" type="slidenum">
              <a:rPr b="0" lang="es-ES_tradnl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270D-EFD7-47FA-8D49-77B370FF38E7}" type="slidenum">
              <a:rPr b="0" lang="es-ES_tradnl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D82-6E02-4BD9-82B0-C3FF9E32BD89}" type="slidenum">
              <a:rPr b="0" lang="es-ES_tradnl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2D6-3C56-44F1-91C8-B733316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A4C-9AAB-417A-9677-861263F9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C9E64-CF25-4272-81C9-A482314B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6D2F3-E11D-48F0-8E6F-0D591F75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19C33-1009-44E0-8D06-4762CA48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218BB-DDE5-494E-99D2-7CCCF85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E6048-87AE-461C-8654-35D78AA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945E-4826-4607-8A1D-254453E3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76865-EE46-4B40-988A-F5400360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BA8E3-BC16-4631-BBD7-F6C5770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D71D-5CB4-44B4-966E-664EB526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DABE6-EEB2-45C5-9478-FE4D7CD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3E1-A3A2-4382-8D61-8A69A977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0C3E-680F-4094-80DB-510498A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E4D4A-3E20-42C3-B50B-16CC7F0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C2D19-54B2-471E-B339-068ACCF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BB28-9DF7-4EF8-8A81-3A7A4CA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1F872-1B04-4556-949F-DC8B01E9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1D56-51D0-41A3-83DD-1263ED1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6BC8-9A85-446D-B1D5-9055BA3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8BCA0-35B4-43B4-9885-5591E97A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FCF17-1736-45A2-98F3-6575D78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988F2-D0F8-447B-952A-12778E46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64C-8F2E-4364-90CF-F0CE3CC8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C766F-4547-45E8-B173-9D56E4D1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65E57-0DBC-439E-80B9-0F19609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DBC6-AE9C-45BC-AB30-A4C8CE8B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6BA2-84C7-4D5F-A6A2-C11D1C75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C617-AA56-4C76-A926-EAABAEEE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24715-E65E-46DF-AF10-4FD7E88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2BBE-F7F0-46E4-81E7-AEF3CB7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A8F63-CFF1-428F-A309-5393284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2BDEA-2B4F-430F-83D1-3761ED8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F6E4-A1FE-440F-9B96-ACBDC6F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F60-7962-4855-95B6-08BA63FB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D2BC7-6AD9-4DB2-ABDD-1AEABE80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E7F1-0D1C-4747-8512-5B82A146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DF2F-D0E9-4E0F-84E1-D56C920D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B3B50-AD86-429D-B0CB-8F1DD643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07061-88B1-4C9E-BB4B-99E00BDE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3ED31-B028-4938-AE25-F1C3475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573AD-F798-4D32-B621-9E9A71D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E9EEA-523F-4C0F-8AF1-F1C57BFE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2AF0-C8AF-4DF5-A201-13F5069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0BE9A-A785-4272-8036-C8B53B5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931-5F00-4B76-93A1-5BA1D88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008C8-A432-4ACD-9336-EA58424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F632-14DD-4C0D-93B3-074833F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9F2B-7D90-4098-AED0-2613F5D5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6BA04-7FA4-4123-97AE-7E0E93E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75C33-B8FC-40DB-9E18-5A9ABA4D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9960-BF02-4C17-A12A-1457CA49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466-CB20-445A-BDB2-DA7F2CE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B7E6-1461-4A78-A0D8-82BD6D9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B58-9A38-4BE7-BB98-8986B8E8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30A-FBC6-4AAE-8914-46DFCC2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830-8C2E-4483-BE24-F18DB49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C854-66B7-4AC0-8C54-534518F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07A9-578D-4A65-A369-785CD1D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4F4-C1C9-49AC-8E94-DA6EA11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7899-1179-4DCC-8140-79522CE5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BF1-5430-4090-9DFF-37C46277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FB8A-75D0-4454-A2FD-D42E8494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8209-624E-4577-846F-FA549A1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EE3F-FF68-4BF5-818E-DCAD926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FFA2-23EA-41DB-8924-459E69EC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F880-44AA-4E21-9C92-46816B5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15E-796A-4669-B319-194138D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B83D-190A-4708-829F-11798577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CF6D-E4E0-4CD6-A4DC-88E33AE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E41C-3AD7-4A5C-90F9-0D08349F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8715-F369-41F8-8091-C387A8F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04F2-91A3-4596-9F35-390B6D5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9A46-11DB-4D4B-A885-E81E484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5B29-34ED-4327-BBD2-D00F5F7C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4F16-7091-497D-87AA-1CFAE2A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796E-5293-4BDE-8C04-09D37A5D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5133-B792-4215-A091-9C4550A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F90-C052-4E72-B219-80523E6E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CEC7-8F0F-4D9E-9C6D-CC5059E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1F53-9436-48E1-8FAA-1E53BFBA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DB66-2857-4746-A69C-64CB6606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32C8-E5D4-4EFE-AA51-4EA8D33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D96B-33C0-484F-8BA4-9EE431D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B145-F096-4E9F-A875-8FE6E42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347D-5ABF-431C-ADD3-889C491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CFFF-C894-4009-9657-9704FD0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BCD0-0742-460B-9BBF-E2AD42F7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BF0E0-3F39-4CE1-9A9E-F7C48BA3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CDF-1D40-4733-934A-603B3AA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F538-FC37-4347-9952-0B726D2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1808-268F-4165-8DD5-BF85ABD1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5D57-3323-456C-9BC4-B873A255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63D2-EA30-44F1-AE00-EDF18AF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F329-9292-4071-8AEE-87738F0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B309-6150-4B64-9CDE-3B45C95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3B8E-038A-4CF6-A224-8207874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81B4-A76E-44F6-9CAF-06C15D5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2D00-0C64-4001-9058-72038CD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C9E20-BD00-4AAB-81A8-1B68C2DD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DD8-BCAC-4FF5-B9B2-61A6CC3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29AC-FF31-496E-94E3-80937C6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A333-2236-49BE-8F3D-5DECD192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D74F4-AAD6-4B65-BA16-4AA6AE1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6EA2F-B6E4-499C-8A63-973F1877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1E6A-8884-460F-B201-D8946C6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72236-BD75-43AD-85B9-CD6D66B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A419-2A8D-43D9-8E65-DF10219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AD94-3F7D-412E-A32C-7842199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B820-54C9-439A-9B40-614BFB4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0AA5-5EA5-45C9-898E-C194482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6AF-8187-4EDA-AABF-464D3AB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9CC9-8E71-4EA9-B8D0-F3CB3110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5AFC6-83E3-4642-A6BC-40353541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6E19-5818-44D0-8137-ACD6B48D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1B5F-A1D2-4DE4-9760-ECCE8FDF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4D3F9-B414-4374-AFDA-FB67660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0FBD-D202-44FE-A9EF-1A85F2F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37A10-601B-467D-8444-C5D9DDC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C05B-C2C4-437F-9D82-93636DA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27AB-A641-4AB9-9A8E-9F93BDEB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7141-C8FD-4589-A7EF-ED2C111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A47-FB97-4DFD-BEFE-9BDD396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9CDB1-2CCE-4B4F-8614-87AB3A4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5629-589C-4BA8-8D4F-4C196C2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472E-7F84-4D32-80AA-8DC3C81A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FA15-78A1-478E-A4EF-27AF188E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5A41-73ED-4723-9978-FE46C6F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31278-AC03-41D4-9590-BE61B7D2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7F7A-37CF-48E2-9174-699BC20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C2C27-8E72-4D9E-A489-6EDFCB6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72F3-95CF-4092-8161-E2364489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A401-DD12-4701-9A6D-64BF635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5CE-3DDD-4CA4-8951-1977DBF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D6B64-C62A-48C2-8025-877FAE3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C6D7-C412-4ED3-B7A5-344D729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B9CD-162B-4998-BF94-7A7C646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E6E45-F4DD-4D55-B6EB-D4A6A52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A5CD2-9820-481B-BF77-DC63B77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5AAD7-6663-4AAB-962F-C4B12649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02BB6-3803-4112-9D95-7F47E787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06C42-2AE0-4EB2-848E-F9B9EB4D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FD47C-D0EC-4B95-83F8-38FA90FB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3799-51CA-445E-AE0F-F23C2CD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A123-2088-44C8-AFB6-F837F773E67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C108-8600-4E67-862E-B187F02A82D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1EF-3FB8-4927-A5BD-F582A05263B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B7E-DFF2-4CC8-9DAF-F5251290368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0097-755D-4023-800C-C38556CEB2B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F1A7-FEC3-48F9-90B4-089E8E06695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A27-2DE1-418F-9C29-16EB4957FC3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25C-1D64-402B-B3E1-9E52FC3FE50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905-A3AE-4B4A-B3F2-AD147C4C95D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E7A-6FA3-46F4-BCC3-EA0F8578F28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04D-BABE-4AD5-82C5-A4A5FA3597F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7F56-9164-4A9D-954F-C5826333127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76000" y="1828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Exposiciones accidentale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1295280" y="2286000"/>
            <a:ext cx="74678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Exposición ocular accidental.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Quitarse los guantes y todas las prendas contaminadas y desecharlas según las recomendaciones de los residuos citostáticos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Lavar los ojos con abundante agua durante 15‘. Aplicar una solución de NaCl (0.9%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i la persona usa lentillas deberá quitárselas inmediatamente y lavarse los ojos según los procedimientos anterior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Acudir a un médico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Comunicación y registro de la inciden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828440" y="1828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Derrame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7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828800" y="3000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reven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3203640" y="4220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828800" y="3000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reven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3205440" y="4220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505320" y="3962520"/>
            <a:ext cx="1066680" cy="1143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5" name="Line 12"/>
          <p:cNvSpPr/>
          <p:nvPr/>
        </p:nvSpPr>
        <p:spPr>
          <a:xfrm flipH="1">
            <a:off x="3580920" y="3886200"/>
            <a:ext cx="762120" cy="1143000"/>
          </a:xfrm>
          <a:prstGeom prst="line">
            <a:avLst/>
          </a:prstGeom>
          <a:ln w="34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828800" y="3000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reven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205440" y="4220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9" name="Line 5"/>
          <p:cNvSpPr/>
          <p:nvPr/>
        </p:nvSpPr>
        <p:spPr>
          <a:xfrm flipV="1">
            <a:off x="4572000" y="342900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5631840" y="327564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Selección de envases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>
            <a:off x="3505320" y="3962520"/>
            <a:ext cx="1066680" cy="1143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3580920" y="3886200"/>
            <a:ext cx="762120" cy="1143000"/>
          </a:xfrm>
          <a:prstGeom prst="line">
            <a:avLst/>
          </a:prstGeom>
          <a:ln w="34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828800" y="3000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reven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205440" y="4220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 flipV="1">
            <a:off x="4572000" y="342900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4572000" y="4343400"/>
            <a:ext cx="1143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5631840" y="327564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Selección de envases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905800" y="419004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Paños protectores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3505320" y="3962520"/>
            <a:ext cx="1066680" cy="1143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1" name="Line 12"/>
          <p:cNvSpPr/>
          <p:nvPr/>
        </p:nvSpPr>
        <p:spPr>
          <a:xfrm flipH="1">
            <a:off x="3580920" y="3886200"/>
            <a:ext cx="762120" cy="1143000"/>
          </a:xfrm>
          <a:prstGeom prst="line">
            <a:avLst/>
          </a:prstGeom>
          <a:ln w="34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828800" y="2970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evenció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3205440" y="4220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5" name="Line 5"/>
          <p:cNvSpPr/>
          <p:nvPr/>
        </p:nvSpPr>
        <p:spPr>
          <a:xfrm flipV="1">
            <a:off x="4572000" y="342900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4572000" y="4343400"/>
            <a:ext cx="1143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7" name="Line 7"/>
          <p:cNvSpPr/>
          <p:nvPr/>
        </p:nvSpPr>
        <p:spPr>
          <a:xfrm>
            <a:off x="4572000" y="4572000"/>
            <a:ext cx="99072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5631840" y="327564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Selección de envases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5905800" y="419004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Paños protectores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182280" y="49518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Transporte 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1" name="Line 11"/>
          <p:cNvSpPr/>
          <p:nvPr/>
        </p:nvSpPr>
        <p:spPr>
          <a:xfrm>
            <a:off x="3505320" y="3962520"/>
            <a:ext cx="1066680" cy="1143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Line 12"/>
          <p:cNvSpPr/>
          <p:nvPr/>
        </p:nvSpPr>
        <p:spPr>
          <a:xfrm flipH="1">
            <a:off x="3580920" y="3886200"/>
            <a:ext cx="762120" cy="1143000"/>
          </a:xfrm>
          <a:prstGeom prst="line">
            <a:avLst/>
          </a:prstGeom>
          <a:ln w="34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209680" y="2735280"/>
            <a:ext cx="4297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antener la calm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sonal adiestrad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ctuación sin demor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838080" y="2362320"/>
            <a:ext cx="75438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Dentro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Fuera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6600ff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838080" y="2471040"/>
            <a:ext cx="4800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in contacto cutáne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n contacto cutáne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</a:rPr>
              <a:t>     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or corte con aguja o crist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or aguja de inyec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xposición ocular accident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838080" y="2362320"/>
            <a:ext cx="75438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Dentro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Fuera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8" name="Line 4"/>
          <p:cNvSpPr/>
          <p:nvPr/>
        </p:nvSpPr>
        <p:spPr>
          <a:xfrm flipV="1">
            <a:off x="4343400" y="2530440"/>
            <a:ext cx="838080" cy="8380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4343400" y="3368520"/>
            <a:ext cx="76212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4343400" y="3368520"/>
            <a:ext cx="8380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181480" y="2378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Tahoma"/>
              </a:rPr>
              <a:t>Mantener flujo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5334120" y="26067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Tahoma"/>
              </a:rPr>
              <a:t>Colocar indumentaria adecuada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 flipV="1">
            <a:off x="4343400" y="2835000"/>
            <a:ext cx="990720" cy="5331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5105520" y="32162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Tahoma"/>
              </a:rPr>
              <a:t>Cubrir con gasas 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5257800" y="359712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33"/>
                </a:solidFill>
                <a:latin typeface="Tahoma"/>
              </a:rPr>
              <a:t>Limpiar con alcohol 70%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6" name="Line 12"/>
          <p:cNvSpPr/>
          <p:nvPr/>
        </p:nvSpPr>
        <p:spPr>
          <a:xfrm>
            <a:off x="4343400" y="3368520"/>
            <a:ext cx="914400" cy="7621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5334120" y="397836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Tahoma"/>
              </a:rPr>
              <a:t>Comunicar incidencia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8" name="Text Box 24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838080" y="2362320"/>
            <a:ext cx="75438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Dentro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Fuera de la CS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Pequeño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ff66"/>
                </a:solidFill>
                <a:latin typeface="Tahoma"/>
              </a:rPr>
              <a:t>Grandes derr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5257800" y="56386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33"/>
                </a:solidFill>
                <a:latin typeface="Tahoma"/>
              </a:rPr>
              <a:t>Utilizar neutralizante adecuado (Tabla II)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41" name="Group 4"/>
          <p:cNvGrpSpPr/>
          <p:nvPr/>
        </p:nvGrpSpPr>
        <p:grpSpPr>
          <a:xfrm>
            <a:off x="4343400" y="2378160"/>
            <a:ext cx="3352680" cy="3964680"/>
            <a:chOff x="4343400" y="2378160"/>
            <a:chExt cx="3352680" cy="3964680"/>
          </a:xfrm>
        </p:grpSpPr>
        <p:sp>
          <p:nvSpPr>
            <p:cNvPr id="642" name="Line 5"/>
            <p:cNvSpPr/>
            <p:nvPr/>
          </p:nvSpPr>
          <p:spPr>
            <a:xfrm flipV="1">
              <a:off x="4343400" y="2530440"/>
              <a:ext cx="838080" cy="83808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3" name="Line 6"/>
            <p:cNvSpPr/>
            <p:nvPr/>
          </p:nvSpPr>
          <p:spPr>
            <a:xfrm>
              <a:off x="4343400" y="3368520"/>
              <a:ext cx="7621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4" name="Line 7"/>
            <p:cNvSpPr/>
            <p:nvPr/>
          </p:nvSpPr>
          <p:spPr>
            <a:xfrm>
              <a:off x="4343400" y="3368520"/>
              <a:ext cx="838080" cy="30492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5" name="Text Box 8"/>
            <p:cNvSpPr/>
            <p:nvPr/>
          </p:nvSpPr>
          <p:spPr>
            <a:xfrm>
              <a:off x="5181480" y="23781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Mantener flujo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6" name="Text Box 9"/>
            <p:cNvSpPr/>
            <p:nvPr/>
          </p:nvSpPr>
          <p:spPr>
            <a:xfrm>
              <a:off x="5334120" y="260676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olocar indumentaria adecuada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7" name="Line 10"/>
            <p:cNvSpPr/>
            <p:nvPr/>
          </p:nvSpPr>
          <p:spPr>
            <a:xfrm flipV="1">
              <a:off x="4343400" y="2835000"/>
              <a:ext cx="990720" cy="533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8" name="Text Box 11"/>
            <p:cNvSpPr/>
            <p:nvPr/>
          </p:nvSpPr>
          <p:spPr>
            <a:xfrm>
              <a:off x="5105520" y="3216240"/>
              <a:ext cx="25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ubrir con gasas 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49" name="Text Box 12"/>
            <p:cNvSpPr/>
            <p:nvPr/>
          </p:nvSpPr>
          <p:spPr>
            <a:xfrm>
              <a:off x="5257800" y="359712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cc33"/>
                  </a:solidFill>
                  <a:latin typeface="Tahoma"/>
                </a:rPr>
                <a:t>Limpiar con alcohol 70%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0" name="Line 13"/>
            <p:cNvSpPr/>
            <p:nvPr/>
          </p:nvSpPr>
          <p:spPr>
            <a:xfrm>
              <a:off x="4343400" y="3368520"/>
              <a:ext cx="914400" cy="76212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5334120" y="397836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omunicar incidencia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2" name="Line 15"/>
            <p:cNvSpPr/>
            <p:nvPr/>
          </p:nvSpPr>
          <p:spPr>
            <a:xfrm>
              <a:off x="4343400" y="5425920"/>
              <a:ext cx="7621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3" name="Line 16"/>
            <p:cNvSpPr/>
            <p:nvPr/>
          </p:nvSpPr>
          <p:spPr>
            <a:xfrm>
              <a:off x="4343400" y="5425920"/>
              <a:ext cx="838080" cy="30492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4" name="Text Box 17"/>
            <p:cNvSpPr/>
            <p:nvPr/>
          </p:nvSpPr>
          <p:spPr>
            <a:xfrm>
              <a:off x="5334120" y="466416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olocar indumentaria adecuada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5" name="Line 18"/>
            <p:cNvSpPr/>
            <p:nvPr/>
          </p:nvSpPr>
          <p:spPr>
            <a:xfrm flipV="1">
              <a:off x="4343400" y="4892400"/>
              <a:ext cx="990720" cy="533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6" name="Text Box 19"/>
            <p:cNvSpPr/>
            <p:nvPr/>
          </p:nvSpPr>
          <p:spPr>
            <a:xfrm>
              <a:off x="5105520" y="5273640"/>
              <a:ext cx="25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ubrir con gasas 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7" name="Line 20"/>
            <p:cNvSpPr/>
            <p:nvPr/>
          </p:nvSpPr>
          <p:spPr>
            <a:xfrm>
              <a:off x="4343400" y="5425920"/>
              <a:ext cx="914400" cy="76212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58" name="Text Box 21"/>
            <p:cNvSpPr/>
            <p:nvPr/>
          </p:nvSpPr>
          <p:spPr>
            <a:xfrm>
              <a:off x="5334120" y="603576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66"/>
                  </a:solidFill>
                  <a:latin typeface="Tahoma"/>
                </a:rPr>
                <a:t>Comunicar incidencia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659" name="Text Box 22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7"/>
          <p:cNvGrpSpPr/>
          <p:nvPr/>
        </p:nvGrpSpPr>
        <p:grpSpPr>
          <a:xfrm>
            <a:off x="1676520" y="2514600"/>
            <a:ext cx="6248160" cy="3276720"/>
            <a:chOff x="1676520" y="2514600"/>
            <a:chExt cx="6248160" cy="3276720"/>
          </a:xfrm>
        </p:grpSpPr>
        <p:sp>
          <p:nvSpPr>
            <p:cNvPr id="661" name="Rectangle 6"/>
            <p:cNvSpPr/>
            <p:nvPr/>
          </p:nvSpPr>
          <p:spPr>
            <a:xfrm>
              <a:off x="1676520" y="4114800"/>
              <a:ext cx="3276360" cy="167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BCG, Cladrib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, Vindesina, Estramustina, Etopósido, 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entamid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, Cisplatino,Ciclofosfamida, Ganciclovir,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Metorexato, Vincrist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, Fluorouracilo, Vinorelbina, Mitom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, Vinblast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62" name="Rectangle 7"/>
            <p:cNvSpPr/>
            <p:nvPr/>
          </p:nvSpPr>
          <p:spPr>
            <a:xfrm>
              <a:off x="4952880" y="4114800"/>
              <a:ext cx="2971800" cy="167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Hipoclorito sódico 5%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1676520" y="2971800"/>
              <a:ext cx="32763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pirub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unorub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darub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sacr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xorub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4952880" y="2971800"/>
              <a:ext cx="297180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Hipoclorito sódico 10 %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665" name="Group 24"/>
            <p:cNvGrpSpPr/>
            <p:nvPr/>
          </p:nvGrpSpPr>
          <p:grpSpPr>
            <a:xfrm>
              <a:off x="1676520" y="2514600"/>
              <a:ext cx="6248160" cy="457200"/>
              <a:chOff x="1676520" y="2514600"/>
              <a:chExt cx="6248160" cy="457200"/>
            </a:xfrm>
          </p:grpSpPr>
          <p:sp>
            <p:nvSpPr>
              <p:cNvPr id="666" name="Rectangle 22"/>
              <p:cNvSpPr/>
              <p:nvPr/>
            </p:nvSpPr>
            <p:spPr>
              <a:xfrm>
                <a:off x="1676520" y="2514600"/>
                <a:ext cx="3276360" cy="4572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cc"/>
                    </a:solidFill>
                    <a:latin typeface="Arial"/>
                  </a:rPr>
                  <a:t>Citostático</a:t>
                </a: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67" name="Rectangle 23"/>
              <p:cNvSpPr/>
              <p:nvPr/>
            </p:nvSpPr>
            <p:spPr>
              <a:xfrm>
                <a:off x="4952880" y="2514600"/>
                <a:ext cx="2971800" cy="4572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cc"/>
                    </a:solidFill>
                    <a:latin typeface="Arial"/>
                  </a:rPr>
                  <a:t>Neutralizante</a:t>
                </a: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Text Box 28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7"/>
          <p:cNvGrpSpPr/>
          <p:nvPr/>
        </p:nvGrpSpPr>
        <p:grpSpPr>
          <a:xfrm>
            <a:off x="1981080" y="2514600"/>
            <a:ext cx="5181840" cy="2819520"/>
            <a:chOff x="1981080" y="2514600"/>
            <a:chExt cx="5181840" cy="2819520"/>
          </a:xfrm>
        </p:grpSpPr>
        <p:sp>
          <p:nvSpPr>
            <p:cNvPr id="670" name="Rectangle 3"/>
            <p:cNvSpPr/>
            <p:nvPr/>
          </p:nvSpPr>
          <p:spPr>
            <a:xfrm>
              <a:off x="1981080" y="2971800"/>
              <a:ext cx="2590920" cy="1066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enipósido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ctinom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elfalán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itoxantro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leomic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71" name="Rectangle 4"/>
            <p:cNvSpPr/>
            <p:nvPr/>
          </p:nvSpPr>
          <p:spPr>
            <a:xfrm>
              <a:off x="4572000" y="2819520"/>
              <a:ext cx="2590920" cy="121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dróxido sódico 1N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572000" y="4038480"/>
              <a:ext cx="25909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dróxido sódico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N en dimetilformamida (24h)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1981080" y="4038480"/>
              <a:ext cx="25909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fosfamid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>
              <a:off x="1981080" y="2514600"/>
              <a:ext cx="259092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Citostático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>
              <a:off x="4572000" y="2514600"/>
              <a:ext cx="259092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eutralizante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676" name="Group 21"/>
            <p:cNvGrpSpPr/>
            <p:nvPr/>
          </p:nvGrpSpPr>
          <p:grpSpPr>
            <a:xfrm>
              <a:off x="1981080" y="4495680"/>
              <a:ext cx="5181480" cy="380880"/>
              <a:chOff x="1981080" y="4495680"/>
              <a:chExt cx="5181480" cy="380880"/>
            </a:xfrm>
          </p:grpSpPr>
          <p:sp>
            <p:nvSpPr>
              <p:cNvPr id="677" name="Rectangle 22"/>
              <p:cNvSpPr/>
              <p:nvPr/>
            </p:nvSpPr>
            <p:spPr>
              <a:xfrm>
                <a:off x="1981080" y="4495680"/>
                <a:ext cx="2590560" cy="380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iotepa</a:t>
                </a: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78" name="Rectangle 23"/>
              <p:cNvSpPr/>
              <p:nvPr/>
            </p:nvSpPr>
            <p:spPr>
              <a:xfrm>
                <a:off x="4571640" y="4495680"/>
                <a:ext cx="2590920" cy="380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gua hirviendo</a:t>
                </a: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679" name="Rectangle 25"/>
            <p:cNvSpPr/>
            <p:nvPr/>
          </p:nvSpPr>
          <p:spPr>
            <a:xfrm>
              <a:off x="1981080" y="4876920"/>
              <a:ext cx="25909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carbaz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0" name="Rectangle 26"/>
            <p:cNvSpPr/>
            <p:nvPr/>
          </p:nvSpPr>
          <p:spPr>
            <a:xfrm>
              <a:off x="4572000" y="4876920"/>
              <a:ext cx="25909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Ácido sulfúrico  10% (24h)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681" name="Text Box 29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53"/>
          <p:cNvGrpSpPr/>
          <p:nvPr/>
        </p:nvGrpSpPr>
        <p:grpSpPr>
          <a:xfrm>
            <a:off x="2362320" y="2133720"/>
            <a:ext cx="5181480" cy="3123720"/>
            <a:chOff x="2362320" y="2133720"/>
            <a:chExt cx="5181480" cy="3123720"/>
          </a:xfrm>
        </p:grpSpPr>
        <p:sp>
          <p:nvSpPr>
            <p:cNvPr id="683" name="Rectangle 26"/>
            <p:cNvSpPr/>
            <p:nvPr/>
          </p:nvSpPr>
          <p:spPr>
            <a:xfrm>
              <a:off x="2362320" y="4724280"/>
              <a:ext cx="259056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itarab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sparraginas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4" name="Rectangle 27"/>
            <p:cNvSpPr/>
            <p:nvPr/>
          </p:nvSpPr>
          <p:spPr>
            <a:xfrm>
              <a:off x="4952880" y="4724280"/>
              <a:ext cx="25909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Ácido clorhídrico1N (24h)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5" name="Rectangle 5"/>
            <p:cNvSpPr/>
            <p:nvPr/>
          </p:nvSpPr>
          <p:spPr>
            <a:xfrm>
              <a:off x="2362320" y="2590560"/>
              <a:ext cx="259056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arboplatino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ludarab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6" name="Rectangle 6"/>
            <p:cNvSpPr/>
            <p:nvPr/>
          </p:nvSpPr>
          <p:spPr>
            <a:xfrm>
              <a:off x="4952880" y="2590560"/>
              <a:ext cx="259092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osulfato sódico 5%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7" name="Rectangle 29"/>
            <p:cNvSpPr/>
            <p:nvPr/>
          </p:nvSpPr>
          <p:spPr>
            <a:xfrm>
              <a:off x="2362320" y="3200400"/>
              <a:ext cx="2590560" cy="609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ecloretam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8" name="Rectangle 30"/>
            <p:cNvSpPr/>
            <p:nvPr/>
          </p:nvSpPr>
          <p:spPr>
            <a:xfrm>
              <a:off x="4952880" y="3200400"/>
              <a:ext cx="2590920" cy="609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osulfato sódico 5%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+ Bicarbonato sódico 5% (45’)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89" name="Rectangle 32"/>
            <p:cNvSpPr/>
            <p:nvPr/>
          </p:nvSpPr>
          <p:spPr>
            <a:xfrm>
              <a:off x="2362320" y="3809880"/>
              <a:ext cx="2590560" cy="45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armustina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0" name="Rectangle 33"/>
            <p:cNvSpPr/>
            <p:nvPr/>
          </p:nvSpPr>
          <p:spPr>
            <a:xfrm>
              <a:off x="4952880" y="3809880"/>
              <a:ext cx="2590920" cy="45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icarbonato sódico 5% (24-48h)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1" name="Rectangle 35"/>
            <p:cNvSpPr/>
            <p:nvPr/>
          </p:nvSpPr>
          <p:spPr>
            <a:xfrm>
              <a:off x="2362320" y="4267080"/>
              <a:ext cx="2590560" cy="45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idofovir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2" name="Rectangle 36"/>
            <p:cNvSpPr/>
            <p:nvPr/>
          </p:nvSpPr>
          <p:spPr>
            <a:xfrm>
              <a:off x="4952880" y="4267080"/>
              <a:ext cx="2590920" cy="45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ua + detergente</a:t>
              </a:r>
              <a:endParaRPr b="0" lang="en-US" sz="12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3" name="Rectangle 48"/>
            <p:cNvSpPr/>
            <p:nvPr/>
          </p:nvSpPr>
          <p:spPr>
            <a:xfrm>
              <a:off x="2362320" y="2133720"/>
              <a:ext cx="2590560" cy="456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Citostático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4" name="Rectangle 49"/>
            <p:cNvSpPr/>
            <p:nvPr/>
          </p:nvSpPr>
          <p:spPr>
            <a:xfrm>
              <a:off x="4952880" y="2133720"/>
              <a:ext cx="2590920" cy="456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eutralizante</a:t>
              </a:r>
              <a:endParaRPr b="0" lang="en-US" sz="1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695" name="Text Box 55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219320" y="2438280"/>
            <a:ext cx="586728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Equipos de derrames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-Composició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Procedimiento de tratamiento de derrame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Ropa protectora</a:t>
            </a:r>
            <a:r>
              <a:rPr b="0" lang="es-ES_tradnl" sz="1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(Bata impermeable, dos pares de guantes 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de 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látex sin polvo, gafas desechables con protección 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lateral,  mascarilla  homologada, calzas)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Paños absorbente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Recogedor desechable, cepillo y pinza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Bolsas de residuos de citostático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*Neutralizantes</a:t>
            </a:r>
            <a:r>
              <a:rPr b="0" lang="es-ES_tradnl" sz="1400" spc="-1" strike="noStrike">
                <a:solidFill>
                  <a:srgbClr val="ccff66"/>
                </a:solidFill>
                <a:latin typeface="Comic Sans MS"/>
              </a:rPr>
              <a:t> (Tabla II),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3"/>
          <p:cNvSpPr/>
          <p:nvPr/>
        </p:nvSpPr>
        <p:spPr>
          <a:xfrm>
            <a:off x="1219320" y="2438280"/>
            <a:ext cx="586728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Equipos de derrames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Localizació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ccff66"/>
                </a:solidFill>
                <a:latin typeface="Comic Sans MS"/>
              </a:rPr>
              <a:t>*Servicio de Farma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ccff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Derr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828440" y="1828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s-ES" sz="3600" spc="-1" strike="noStrike">
                <a:solidFill>
                  <a:srgbClr val="ffff66"/>
                </a:solidFill>
                <a:latin typeface="Comic Sans MS"/>
              </a:rPr>
              <a:t>Residuos citostático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siduos citostát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0" y="2438280"/>
            <a:ext cx="91440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siduos citostát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Los </a:t>
            </a:r>
            <a:r>
              <a:rPr b="1" lang="es-ES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estos de medicamentos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citostáticos generados en la preparación y 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dministración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El </a:t>
            </a:r>
            <a:r>
              <a:rPr b="1" lang="es-ES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aterial utilizado en la preparación y administración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agujas, jeringas, 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rascos, bolsas, sistemas de infusión...)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El </a:t>
            </a:r>
            <a:r>
              <a:rPr b="1" lang="es-ES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aterial de protección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de los manipuladores (ropa protectora desechable, 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uantes, mascarilla...)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El </a:t>
            </a:r>
            <a:r>
              <a:rPr b="1" lang="es-ES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aterial utilizado en la limpieza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de las zonas donde se lleva a cabo la 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ipulación (especialmente la preparación y administración)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El material procedente del </a:t>
            </a:r>
            <a:r>
              <a:rPr b="1" lang="es-ES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derrames accidentales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028"/>
          <p:cNvSpPr/>
          <p:nvPr/>
        </p:nvSpPr>
        <p:spPr>
          <a:xfrm>
            <a:off x="1600200" y="2828520"/>
            <a:ext cx="640080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in contacto cutáne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Quitarse los guantes y todas las prendas         contaminadas y desecharlas según las recomendaciones de los residuos citostático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Lavarse las manos con agua y jabón suave no antiséptico durante 10’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-Comunicación y registro de la inciden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Text Box 1031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-152280" y="265284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ses legal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y 10/ 1998  de 21 de Abril de Residuos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sejería de Sanidad y Servicios Sociales. Principado de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sturias. “La Gestión de residuos sanitarios” (1994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12"/>
          <p:cNvSpPr/>
          <p:nvPr/>
        </p:nvSpPr>
        <p:spPr>
          <a:xfrm>
            <a:off x="762120" y="5257800"/>
            <a:ext cx="1447560" cy="76212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epar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1447920" y="2438280"/>
            <a:ext cx="70866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Gestión de los flujos de residuos citotóx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0" name="AutoShape 13"/>
          <p:cNvSpPr/>
          <p:nvPr/>
        </p:nvSpPr>
        <p:spPr>
          <a:xfrm>
            <a:off x="2514600" y="3809880"/>
            <a:ext cx="1447920" cy="7621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lmacén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ntermedi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1" name="AutoShape 14"/>
          <p:cNvSpPr/>
          <p:nvPr/>
        </p:nvSpPr>
        <p:spPr>
          <a:xfrm>
            <a:off x="4952880" y="3809880"/>
            <a:ext cx="1447920" cy="7621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lmacén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fin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2" name="AutoShape 15"/>
          <p:cNvSpPr/>
          <p:nvPr/>
        </p:nvSpPr>
        <p:spPr>
          <a:xfrm>
            <a:off x="7238880" y="5029200"/>
            <a:ext cx="144792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limin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1447920" y="3886200"/>
            <a:ext cx="761760" cy="1219320"/>
          </a:xfrm>
          <a:custGeom>
            <a:avLst/>
            <a:gdLst>
              <a:gd name="textAreaLeft" fmla="*/ 438120 w 761760"/>
              <a:gd name="textAreaRight" fmla="*/ 642960 w 76176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4" name="AutoShape 21"/>
          <p:cNvSpPr/>
          <p:nvPr/>
        </p:nvSpPr>
        <p:spPr>
          <a:xfrm>
            <a:off x="6629400" y="4191120"/>
            <a:ext cx="1066680" cy="76176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5" name="AutoShape 22"/>
          <p:cNvSpPr/>
          <p:nvPr/>
        </p:nvSpPr>
        <p:spPr>
          <a:xfrm>
            <a:off x="4038480" y="40384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1447920" y="2438280"/>
            <a:ext cx="708660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Gestión de los flujos de residuos citotóx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*Separación en el orige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ccff66"/>
                </a:solidFill>
                <a:latin typeface="Comic Sans MS"/>
              </a:rPr>
              <a:t>-Contenedore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Rigidez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Estanqueidad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Opacidad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Impermeabilidad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Resistencia a la humedad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Fácilmente manipulables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Resistentes a la rotur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3"/>
          <p:cNvSpPr/>
          <p:nvPr/>
        </p:nvSpPr>
        <p:spPr>
          <a:xfrm>
            <a:off x="1447920" y="2438280"/>
            <a:ext cx="708660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Gestión de los flujos de residuos citotóx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*Almacén intermedi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12-24 h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Bien ventila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Materiales de fácil limpiez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3"/>
          <p:cNvSpPr/>
          <p:nvPr/>
        </p:nvSpPr>
        <p:spPr>
          <a:xfrm>
            <a:off x="1447920" y="2438280"/>
            <a:ext cx="708660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Gestión de los flujos de residuos citotóx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*Almacén fin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Ventila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Refrigera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&lt;72 h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Limpieza del sistema de transporte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3"/>
          <p:cNvSpPr/>
          <p:nvPr/>
        </p:nvSpPr>
        <p:spPr>
          <a:xfrm>
            <a:off x="1447920" y="2438280"/>
            <a:ext cx="647676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Gestión de los flujos de residuos citotóxic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*Elimin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</a:t>
            </a:r>
            <a:r>
              <a:rPr b="0" lang="es-ES_tradn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Neutralización químic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  </a:t>
            </a:r>
            <a:r>
              <a:rPr b="1" lang="es-ES_tradnl" sz="1600" spc="-1" strike="noStrike">
                <a:solidFill>
                  <a:srgbClr val="66ffff"/>
                </a:solidFill>
                <a:latin typeface="Comic Sans MS"/>
              </a:rPr>
              <a:t>- Incineración (1000-1200º C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981080" y="1066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ratamiento de residuos citostátic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027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Text Box 1029"/>
          <p:cNvSpPr/>
          <p:nvPr/>
        </p:nvSpPr>
        <p:spPr>
          <a:xfrm>
            <a:off x="1600200" y="2483640"/>
            <a:ext cx="6400800" cy="32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n contacto cutáne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Quitarse los guantes y todas las prendas         contaminadas y desecharlas según las recomendaciones de los residuos citostático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Lavar minuciosamente la zona expuesta al fármaco durante 10 ‘ según se describe en la Tabla I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Acudir al servicio de Medicina Preventiva o a Urgencias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-Comunicación y registro de la inciden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43"/>
          <p:cNvGrpSpPr/>
          <p:nvPr/>
        </p:nvGrpSpPr>
        <p:grpSpPr>
          <a:xfrm>
            <a:off x="1681200" y="3129120"/>
            <a:ext cx="5667480" cy="2504520"/>
            <a:chOff x="1681200" y="3129120"/>
            <a:chExt cx="5667480" cy="2504520"/>
          </a:xfrm>
        </p:grpSpPr>
        <p:grpSp>
          <p:nvGrpSpPr>
            <p:cNvPr id="524" name="Group 436"/>
            <p:cNvGrpSpPr/>
            <p:nvPr/>
          </p:nvGrpSpPr>
          <p:grpSpPr>
            <a:xfrm>
              <a:off x="1681200" y="3129120"/>
              <a:ext cx="2833560" cy="552600"/>
              <a:chOff x="1681200" y="3129120"/>
              <a:chExt cx="2833560" cy="552600"/>
            </a:xfrm>
          </p:grpSpPr>
          <p:sp>
            <p:nvSpPr>
              <p:cNvPr id="525" name="Rectangle 431"/>
              <p:cNvSpPr/>
              <p:nvPr/>
            </p:nvSpPr>
            <p:spPr>
              <a:xfrm>
                <a:off x="1725480" y="3129120"/>
                <a:ext cx="2745000" cy="552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ff"/>
                    </a:solidFill>
                    <a:latin typeface="Comic Sans MS"/>
                    <a:ea typeface="Times New Roman"/>
                  </a:rPr>
                  <a:t>           </a:t>
                </a:r>
                <a:endParaRPr b="0" lang="en-US" sz="18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ff"/>
                    </a:solidFill>
                    <a:latin typeface="Comic Sans MS"/>
                    <a:ea typeface="Times New Roman"/>
                  </a:rPr>
                  <a:t>      </a:t>
                </a:r>
                <a:r>
                  <a:rPr b="0" lang="es-ES" sz="900" spc="-1" strike="noStrike">
                    <a:solidFill>
                      <a:srgbClr val="0000ff"/>
                    </a:solidFill>
                    <a:latin typeface="Comic Sans MS"/>
                    <a:ea typeface="Times New Roman"/>
                  </a:rPr>
                  <a:t>Citostático</a:t>
                </a:r>
                <a:endParaRPr b="0" lang="en-US" sz="9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26" name="Rectangle 435"/>
              <p:cNvSpPr/>
              <p:nvPr/>
            </p:nvSpPr>
            <p:spPr>
              <a:xfrm>
                <a:off x="1681200" y="3129120"/>
                <a:ext cx="2833560" cy="5526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438"/>
            <p:cNvGrpSpPr/>
            <p:nvPr/>
          </p:nvGrpSpPr>
          <p:grpSpPr>
            <a:xfrm>
              <a:off x="4514760" y="3129120"/>
              <a:ext cx="2833920" cy="552600"/>
              <a:chOff x="4514760" y="3129120"/>
              <a:chExt cx="2833920" cy="552600"/>
            </a:xfrm>
          </p:grpSpPr>
          <p:sp>
            <p:nvSpPr>
              <p:cNvPr id="528" name="Rectangle 432"/>
              <p:cNvSpPr/>
              <p:nvPr/>
            </p:nvSpPr>
            <p:spPr>
              <a:xfrm>
                <a:off x="4559400" y="3129120"/>
                <a:ext cx="2744640" cy="552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ff"/>
                    </a:solidFill>
                    <a:latin typeface="Comic Sans MS"/>
                    <a:ea typeface="Times New Roman"/>
                  </a:rPr>
                  <a:t>Norma de actuación</a:t>
                </a:r>
                <a:endParaRPr b="0" lang="en-US" sz="18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29" name="Rectangle 437"/>
              <p:cNvSpPr/>
              <p:nvPr/>
            </p:nvSpPr>
            <p:spPr>
              <a:xfrm>
                <a:off x="4514760" y="3129120"/>
                <a:ext cx="2833920" cy="5526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440"/>
            <p:cNvGrpSpPr/>
            <p:nvPr/>
          </p:nvGrpSpPr>
          <p:grpSpPr>
            <a:xfrm>
              <a:off x="1681200" y="3681720"/>
              <a:ext cx="2833560" cy="1951920"/>
              <a:chOff x="1681200" y="3681720"/>
              <a:chExt cx="2833560" cy="1951920"/>
            </a:xfrm>
          </p:grpSpPr>
          <p:sp>
            <p:nvSpPr>
              <p:cNvPr id="531" name="Rectangle 433"/>
              <p:cNvSpPr/>
              <p:nvPr/>
            </p:nvSpPr>
            <p:spPr>
              <a:xfrm>
                <a:off x="1725480" y="3681720"/>
                <a:ext cx="2745000" cy="1951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sparraginasa, Carboplatino, Cidofovir</a:t>
                </a: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, Cisplatino, Cladribina, Dactinomicina, Mecloratamina, Metotrexato, Mitoxantrona, Tiotepa, Vinblastina, Vincristina, Vindesina</a:t>
                </a: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32" name="Rectangle 439"/>
              <p:cNvSpPr/>
              <p:nvPr/>
            </p:nvSpPr>
            <p:spPr>
              <a:xfrm>
                <a:off x="1681200" y="3681720"/>
                <a:ext cx="2833560" cy="19519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442"/>
            <p:cNvGrpSpPr/>
            <p:nvPr/>
          </p:nvGrpSpPr>
          <p:grpSpPr>
            <a:xfrm>
              <a:off x="4514760" y="3681720"/>
              <a:ext cx="2833920" cy="1951920"/>
              <a:chOff x="4514760" y="3681720"/>
              <a:chExt cx="2833920" cy="1951920"/>
            </a:xfrm>
          </p:grpSpPr>
          <p:sp>
            <p:nvSpPr>
              <p:cNvPr id="534" name="Rectangle 434"/>
              <p:cNvSpPr/>
              <p:nvPr/>
            </p:nvSpPr>
            <p:spPr>
              <a:xfrm>
                <a:off x="4559400" y="3681720"/>
                <a:ext cx="2744640" cy="1951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s-E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avar con agua</a:t>
                </a: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535" name="Rectangle 441"/>
              <p:cNvSpPr/>
              <p:nvPr/>
            </p:nvSpPr>
            <p:spPr>
              <a:xfrm>
                <a:off x="4514760" y="3681720"/>
                <a:ext cx="2833920" cy="19519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Rectangle 444"/>
          <p:cNvSpPr/>
          <p:nvPr/>
        </p:nvSpPr>
        <p:spPr>
          <a:xfrm>
            <a:off x="1676520" y="3124080"/>
            <a:ext cx="5676840" cy="251460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Rectangle 456"/>
          <p:cNvSpPr/>
          <p:nvPr/>
        </p:nvSpPr>
        <p:spPr>
          <a:xfrm>
            <a:off x="1676520" y="2895480"/>
            <a:ext cx="5715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</a:t>
            </a: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itostático               Norma de actu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8" name="Text Box 458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11"/>
          <p:cNvGrpSpPr/>
          <p:nvPr/>
        </p:nvGrpSpPr>
        <p:grpSpPr>
          <a:xfrm>
            <a:off x="1790640" y="2598840"/>
            <a:ext cx="5676840" cy="3115800"/>
            <a:chOff x="1790640" y="2598840"/>
            <a:chExt cx="5676840" cy="3115800"/>
          </a:xfrm>
        </p:grpSpPr>
        <p:grpSp>
          <p:nvGrpSpPr>
            <p:cNvPr id="540" name="Group 9"/>
            <p:cNvGrpSpPr/>
            <p:nvPr/>
          </p:nvGrpSpPr>
          <p:grpSpPr>
            <a:xfrm>
              <a:off x="1795320" y="2604600"/>
              <a:ext cx="5667480" cy="3103200"/>
              <a:chOff x="1795320" y="2604600"/>
              <a:chExt cx="5667480" cy="3103200"/>
            </a:xfrm>
          </p:grpSpPr>
          <p:grpSp>
            <p:nvGrpSpPr>
              <p:cNvPr id="541" name="Group 6"/>
              <p:cNvGrpSpPr/>
              <p:nvPr/>
            </p:nvGrpSpPr>
            <p:grpSpPr>
              <a:xfrm>
                <a:off x="1795320" y="2604600"/>
                <a:ext cx="2833560" cy="3103200"/>
                <a:chOff x="1795320" y="2604600"/>
                <a:chExt cx="2833560" cy="3103200"/>
              </a:xfrm>
            </p:grpSpPr>
            <p:sp>
              <p:nvSpPr>
                <p:cNvPr id="542" name="Rectangle 3"/>
                <p:cNvSpPr/>
                <p:nvPr/>
              </p:nvSpPr>
              <p:spPr>
                <a:xfrm>
                  <a:off x="1839600" y="2604600"/>
                  <a:ext cx="2745000" cy="31032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Amsacrina, Bleomicina, Ciclofosfamida, Citarabina,  Dacarbazina, Etopósido, Estramustina, Fludarabina, Fluorouracilo, Ganciclovir, Idarubicina, Ifosfamida Melfalán, Pentamidina, Tenipósido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5"/>
                <p:cNvSpPr/>
                <p:nvPr/>
              </p:nvSpPr>
              <p:spPr>
                <a:xfrm>
                  <a:off x="1795320" y="2604600"/>
                  <a:ext cx="2833560" cy="3103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8"/>
              <p:cNvGrpSpPr/>
              <p:nvPr/>
            </p:nvGrpSpPr>
            <p:grpSpPr>
              <a:xfrm>
                <a:off x="4628880" y="2604600"/>
                <a:ext cx="2833920" cy="3103200"/>
                <a:chOff x="4628880" y="2604600"/>
                <a:chExt cx="2833920" cy="3103200"/>
              </a:xfrm>
            </p:grpSpPr>
            <p:sp>
              <p:nvSpPr>
                <p:cNvPr id="545" name="Rectangle 4"/>
                <p:cNvSpPr/>
                <p:nvPr/>
              </p:nvSpPr>
              <p:spPr>
                <a:xfrm>
                  <a:off x="4673520" y="2604600"/>
                  <a:ext cx="2744640" cy="31032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avar con agua y jabón suave no antiséptico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7"/>
                <p:cNvSpPr/>
                <p:nvPr/>
              </p:nvSpPr>
              <p:spPr>
                <a:xfrm>
                  <a:off x="4628880" y="2604600"/>
                  <a:ext cx="2833920" cy="3103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7" name="Rectangle 10"/>
            <p:cNvSpPr/>
            <p:nvPr/>
          </p:nvSpPr>
          <p:spPr>
            <a:xfrm>
              <a:off x="1790640" y="2598840"/>
              <a:ext cx="5676840" cy="31158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48" name="Rectangle 12"/>
          <p:cNvSpPr/>
          <p:nvPr/>
        </p:nvSpPr>
        <p:spPr>
          <a:xfrm>
            <a:off x="1828800" y="2590920"/>
            <a:ext cx="56386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</a:t>
            </a: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itostático               Norma de actu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9"/>
          <p:cNvGrpSpPr/>
          <p:nvPr/>
        </p:nvGrpSpPr>
        <p:grpSpPr>
          <a:xfrm>
            <a:off x="1752480" y="2666880"/>
            <a:ext cx="5676840" cy="2938320"/>
            <a:chOff x="1752480" y="2666880"/>
            <a:chExt cx="5676840" cy="2938320"/>
          </a:xfrm>
        </p:grpSpPr>
        <p:grpSp>
          <p:nvGrpSpPr>
            <p:cNvPr id="551" name="Group 27"/>
            <p:cNvGrpSpPr/>
            <p:nvPr/>
          </p:nvGrpSpPr>
          <p:grpSpPr>
            <a:xfrm>
              <a:off x="1757160" y="2671560"/>
              <a:ext cx="5667480" cy="2928960"/>
              <a:chOff x="1757160" y="2671560"/>
              <a:chExt cx="5667480" cy="2928960"/>
            </a:xfrm>
          </p:grpSpPr>
          <p:grpSp>
            <p:nvGrpSpPr>
              <p:cNvPr id="552" name="Group 12"/>
              <p:cNvGrpSpPr/>
              <p:nvPr/>
            </p:nvGrpSpPr>
            <p:grpSpPr>
              <a:xfrm>
                <a:off x="1757160" y="2671560"/>
                <a:ext cx="2833560" cy="701640"/>
                <a:chOff x="1757160" y="2671560"/>
                <a:chExt cx="2833560" cy="701640"/>
              </a:xfrm>
            </p:grpSpPr>
            <p:sp>
              <p:nvSpPr>
                <p:cNvPr id="553" name="Rectangle 3"/>
                <p:cNvSpPr/>
                <p:nvPr/>
              </p:nvSpPr>
              <p:spPr>
                <a:xfrm>
                  <a:off x="1801440" y="2671560"/>
                  <a:ext cx="274500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itomicina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11"/>
                <p:cNvSpPr/>
                <p:nvPr/>
              </p:nvSpPr>
              <p:spPr>
                <a:xfrm>
                  <a:off x="1757160" y="2671560"/>
                  <a:ext cx="283356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14"/>
              <p:cNvGrpSpPr/>
              <p:nvPr/>
            </p:nvGrpSpPr>
            <p:grpSpPr>
              <a:xfrm>
                <a:off x="4590720" y="2671560"/>
                <a:ext cx="2833920" cy="701640"/>
                <a:chOff x="4590720" y="2671560"/>
                <a:chExt cx="2833920" cy="701640"/>
              </a:xfrm>
            </p:grpSpPr>
            <p:sp>
              <p:nvSpPr>
                <p:cNvPr id="556" name="Rectangle 4"/>
                <p:cNvSpPr/>
                <p:nvPr/>
              </p:nvSpPr>
              <p:spPr>
                <a:xfrm>
                  <a:off x="4635360" y="2671560"/>
                  <a:ext cx="274464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avar con bicarbonato sódico 1M y a continuación  con agua y jabón suave no antiséptico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Rectangle 13"/>
                <p:cNvSpPr/>
                <p:nvPr/>
              </p:nvSpPr>
              <p:spPr>
                <a:xfrm>
                  <a:off x="4590720" y="2671560"/>
                  <a:ext cx="283392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16"/>
              <p:cNvGrpSpPr/>
              <p:nvPr/>
            </p:nvGrpSpPr>
            <p:grpSpPr>
              <a:xfrm>
                <a:off x="1757160" y="3373200"/>
                <a:ext cx="2833560" cy="701640"/>
                <a:chOff x="1757160" y="3373200"/>
                <a:chExt cx="2833560" cy="701640"/>
              </a:xfrm>
            </p:grpSpPr>
            <p:sp>
              <p:nvSpPr>
                <p:cNvPr id="559" name="Rectangle 5"/>
                <p:cNvSpPr/>
                <p:nvPr/>
              </p:nvSpPr>
              <p:spPr>
                <a:xfrm>
                  <a:off x="1801440" y="3373200"/>
                  <a:ext cx="274500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BCG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Rectangle 15"/>
                <p:cNvSpPr/>
                <p:nvPr/>
              </p:nvSpPr>
              <p:spPr>
                <a:xfrm>
                  <a:off x="1757160" y="3373200"/>
                  <a:ext cx="283356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18"/>
              <p:cNvGrpSpPr/>
              <p:nvPr/>
            </p:nvGrpSpPr>
            <p:grpSpPr>
              <a:xfrm>
                <a:off x="4590720" y="3373200"/>
                <a:ext cx="2833920" cy="701640"/>
                <a:chOff x="4590720" y="3373200"/>
                <a:chExt cx="2833920" cy="701640"/>
              </a:xfrm>
            </p:grpSpPr>
            <p:sp>
              <p:nvSpPr>
                <p:cNvPr id="562" name="Rectangle 6"/>
                <p:cNvSpPr/>
                <p:nvPr/>
              </p:nvSpPr>
              <p:spPr>
                <a:xfrm>
                  <a:off x="4635360" y="3373200"/>
                  <a:ext cx="274464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avar con agua y jabón suave no antiséptico. Desinfectar la herida. 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Rectangle 17"/>
                <p:cNvSpPr/>
                <p:nvPr/>
              </p:nvSpPr>
              <p:spPr>
                <a:xfrm>
                  <a:off x="4590720" y="3373200"/>
                  <a:ext cx="283392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20"/>
              <p:cNvGrpSpPr/>
              <p:nvPr/>
            </p:nvGrpSpPr>
            <p:grpSpPr>
              <a:xfrm>
                <a:off x="1757160" y="4074840"/>
                <a:ext cx="2833560" cy="701640"/>
                <a:chOff x="1757160" y="4074840"/>
                <a:chExt cx="2833560" cy="701640"/>
              </a:xfrm>
            </p:grpSpPr>
            <p:sp>
              <p:nvSpPr>
                <p:cNvPr id="565" name="Rectangle 7"/>
                <p:cNvSpPr/>
                <p:nvPr/>
              </p:nvSpPr>
              <p:spPr>
                <a:xfrm>
                  <a:off x="1801440" y="4074840"/>
                  <a:ext cx="274500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rmustina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Rectangle 19"/>
                <p:cNvSpPr/>
                <p:nvPr/>
              </p:nvSpPr>
              <p:spPr>
                <a:xfrm>
                  <a:off x="1757160" y="4074840"/>
                  <a:ext cx="283356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Group 22"/>
              <p:cNvGrpSpPr/>
              <p:nvPr/>
            </p:nvGrpSpPr>
            <p:grpSpPr>
              <a:xfrm>
                <a:off x="4590720" y="4074840"/>
                <a:ext cx="2833920" cy="701640"/>
                <a:chOff x="4590720" y="4074840"/>
                <a:chExt cx="2833920" cy="701640"/>
              </a:xfrm>
            </p:grpSpPr>
            <p:sp>
              <p:nvSpPr>
                <p:cNvPr id="568" name="Rectangle 8"/>
                <p:cNvSpPr/>
                <p:nvPr/>
              </p:nvSpPr>
              <p:spPr>
                <a:xfrm>
                  <a:off x="4635360" y="4074840"/>
                  <a:ext cx="2744640" cy="701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avar con agua. Si aparece irritación local aplicar una solución de bicarbonato sódico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Rectangle 21"/>
                <p:cNvSpPr/>
                <p:nvPr/>
              </p:nvSpPr>
              <p:spPr>
                <a:xfrm>
                  <a:off x="4590720" y="4074840"/>
                  <a:ext cx="2833920" cy="701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Group 24"/>
              <p:cNvGrpSpPr/>
              <p:nvPr/>
            </p:nvGrpSpPr>
            <p:grpSpPr>
              <a:xfrm>
                <a:off x="1757160" y="4776480"/>
                <a:ext cx="2833560" cy="824040"/>
                <a:chOff x="1757160" y="4776480"/>
                <a:chExt cx="2833560" cy="824040"/>
              </a:xfrm>
            </p:grpSpPr>
            <p:sp>
              <p:nvSpPr>
                <p:cNvPr id="571" name="Rectangle 9"/>
                <p:cNvSpPr/>
                <p:nvPr/>
              </p:nvSpPr>
              <p:spPr>
                <a:xfrm>
                  <a:off x="1801440" y="4776480"/>
                  <a:ext cx="2745000" cy="824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aunorubicina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oxorubicina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pirubicina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Rectangle 23"/>
                <p:cNvSpPr/>
                <p:nvPr/>
              </p:nvSpPr>
              <p:spPr>
                <a:xfrm>
                  <a:off x="1757160" y="4776480"/>
                  <a:ext cx="2833560" cy="8240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26"/>
              <p:cNvGrpSpPr/>
              <p:nvPr/>
            </p:nvGrpSpPr>
            <p:grpSpPr>
              <a:xfrm>
                <a:off x="4590720" y="4776480"/>
                <a:ext cx="2833920" cy="824040"/>
                <a:chOff x="4590720" y="4776480"/>
                <a:chExt cx="2833920" cy="824040"/>
              </a:xfrm>
            </p:grpSpPr>
            <p:sp>
              <p:nvSpPr>
                <p:cNvPr id="574" name="Rectangle 10"/>
                <p:cNvSpPr/>
                <p:nvPr/>
              </p:nvSpPr>
              <p:spPr>
                <a:xfrm>
                  <a:off x="4635360" y="4776480"/>
                  <a:ext cx="2744640" cy="824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avar con agua y jabón o una solución de bicarbonato sódico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Rectangle 25"/>
                <p:cNvSpPr/>
                <p:nvPr/>
              </p:nvSpPr>
              <p:spPr>
                <a:xfrm>
                  <a:off x="4590720" y="4776480"/>
                  <a:ext cx="2833920" cy="8240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6" name="Rectangle 28"/>
            <p:cNvSpPr/>
            <p:nvPr/>
          </p:nvSpPr>
          <p:spPr>
            <a:xfrm>
              <a:off x="1752480" y="2666880"/>
              <a:ext cx="5676840" cy="29383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77" name="Rectangle 30"/>
          <p:cNvSpPr/>
          <p:nvPr/>
        </p:nvSpPr>
        <p:spPr>
          <a:xfrm>
            <a:off x="1752480" y="2209680"/>
            <a:ext cx="56390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</a:t>
            </a:r>
            <a:r>
              <a:rPr b="0" lang="es-E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itostático               Norma de actuaci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1295280" y="2133720"/>
            <a:ext cx="7467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Por corte con aguja o cristal.-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 Quitarse los guantes y todas las prendas contaminadas y desecharlas según las recomendaciones de los residuos citostático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Limpiar la zona con agua templada y jabó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 Acudir a Medicina Preventiva o a Urgencias para examinar la zona, según los protocolos establecidos para cada centr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 Comunicación y registro de la inciden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1295280" y="1905120"/>
            <a:ext cx="74678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Por aguja de inyección.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Quitarse los guantes y todas las prendas contaminadas y desecharlas según las recomendaciones de los residuos citostático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Inoculación del fármaco, no retirar la aguja e intentar aspirar el medicamento inyectado. Si la aguja ha sido movida, insertar una nueva en el sitio de inyección y aspirar el medicamento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Acudir la Servicio de Medicina Preventiva o a Urgencias para examen y proceder como en caso de extravasación, según los protocolos establecidos en cada centr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BCG.- Pruebas de PPD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- Comunicación y registro de la incidenci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182880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omic Sans MS"/>
              </a:rPr>
              <a:t>Exposición accident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5:31:29Z</dcterms:created>
  <dc:creator>Pablo Turmero</dc:creator>
  <dc:description/>
  <dc:language>en-US</dc:language>
  <cp:lastModifiedBy>Pablo Turmero</cp:lastModifiedBy>
  <dcterms:modified xsi:type="dcterms:W3CDTF">2016-05-04T21:12:51Z</dcterms:modified>
  <cp:revision>38</cp:revision>
  <dc:subject/>
  <dc:title/>
</cp:coreProperties>
</file>