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6.png" ContentType="image/png"/>
  <Override PartName="/ppt/embeddings/oleObject1.bin" ContentType="application/vnd.openxmlformats-officedocument.oleObject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A9C9-FEE9-4D0E-B51F-93AEF0EA1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2D05-31CA-4C9B-8729-550C71EFB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A85D-8FA9-4819-8450-4B07CB2AC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79360" y="303120"/>
            <a:ext cx="4492800" cy="3370320"/>
          </a:xfrm>
          <a:prstGeom prst="rect">
            <a:avLst/>
          </a:prstGeom>
          <a:ln w="0">
            <a:noFill/>
          </a:ln>
        </p:spPr>
      </p:sp>
      <p:sp>
        <p:nvSpPr>
          <p:cNvPr id="671" name="Text Box 3"/>
          <p:cNvSpPr/>
          <p:nvPr/>
        </p:nvSpPr>
        <p:spPr>
          <a:xfrm>
            <a:off x="503280" y="4222800"/>
            <a:ext cx="585000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7"/>
          <p:cNvSpPr/>
          <p:nvPr/>
        </p:nvSpPr>
        <p:spPr>
          <a:xfrm>
            <a:off x="0" y="83988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Arc 8"/>
          <p:cNvSpPr/>
          <p:nvPr/>
        </p:nvSpPr>
        <p:spPr>
          <a:xfrm>
            <a:off x="0" y="835200"/>
            <a:ext cx="28954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Line 9"/>
          <p:cNvSpPr/>
          <p:nvPr/>
        </p:nvSpPr>
        <p:spPr>
          <a:xfrm>
            <a:off x="762120" y="624060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533520" y="6240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eguridad en Sistemas de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5943600" y="6240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Francisco Rodríguez Henríqu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2"/>
          <p:cNvSpPr/>
          <p:nvPr/>
        </p:nvSpPr>
        <p:spPr>
          <a:xfrm>
            <a:off x="0" y="1216080"/>
            <a:ext cx="9147240" cy="0"/>
          </a:xfrm>
          <a:prstGeom prst="line">
            <a:avLst/>
          </a:prstGeom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13"/>
          <p:cNvGraphicFramePr/>
          <p:nvPr/>
        </p:nvGraphicFramePr>
        <p:xfrm>
          <a:off x="7848720" y="152280"/>
          <a:ext cx="723960" cy="75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152280"/>
                    <a:ext cx="72396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ertificados e Infraestructura de Llave Púb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ión hash+Llave=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2666880" y="2971800"/>
            <a:ext cx="335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4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4582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Autenticación básica con firmas digit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2666880" y="2971800"/>
            <a:ext cx="335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6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315200" cy="160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Infraestructura de Llave Pública (PKI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utenticación a través de una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rcera ent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2666880" y="2971800"/>
            <a:ext cx="335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33412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6705720" cy="1371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¿Para qué y por qué utilizar PK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523880" y="1447920"/>
            <a:ext cx="66294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problemas que surgen del uso de algoritmos asimétricos sin el respaldo de infraestructuras adicionales pueden dividirse en cuatro áreas [Schneier03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33"/>
                </a:solidFill>
                <a:latin typeface="Times New Roman"/>
              </a:rPr>
              <a:t>Autenticidad de lla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33"/>
                </a:solidFill>
                <a:latin typeface="Times New Roman"/>
              </a:rPr>
              <a:t>Revocación de lla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33"/>
                </a:solidFill>
                <a:latin typeface="Times New Roman"/>
              </a:rPr>
              <a:t>No rep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33"/>
                </a:solidFill>
                <a:latin typeface="Times New Roman"/>
              </a:rPr>
              <a:t>Aplicación de 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Problemas con algoritmos asimétric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609480" y="129528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Autenticidad de llav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El objetivo primario de la autenticación de la llave pública de una entidad es fundamentalmente evitar ataques como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truso de en med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surpación de ide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Autenticidad de Ll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6" descr="ataqueiden"/>
          <p:cNvPicPr/>
          <p:nvPr/>
        </p:nvPicPr>
        <p:blipFill>
          <a:blip r:embed="rId1"/>
          <a:stretch/>
        </p:blipFill>
        <p:spPr>
          <a:xfrm>
            <a:off x="4114800" y="4343400"/>
            <a:ext cx="4549680" cy="17254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hombreEnMedio"/>
          <p:cNvPicPr/>
          <p:nvPr/>
        </p:nvPicPr>
        <p:blipFill>
          <a:blip r:embed="rId2"/>
          <a:stretch/>
        </p:blipFill>
        <p:spPr>
          <a:xfrm>
            <a:off x="533520" y="3124080"/>
            <a:ext cx="33526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609480" y="1295280"/>
            <a:ext cx="800100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Revocación de llaves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C ha robado la llave privada de la computadora de A. Ergo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 es capaz de usarla para leer todos los mensajes que fueron cifrados con la llave pública de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 puede generar firmas digitales a nombre de 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única forma que tiene A para protegerse es generar un nuevo par de llaves y no continuar utilizando las anteriores. Problema de diseñ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Times New Roman"/>
              </a:rPr>
              <a:t>¿Cómo hacer saber a las personas que envían correo electrónico a A, que su par de llaves han sido revo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Revocación de Ll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609480" y="1295280"/>
            <a:ext cx="77724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buClr>
                <a:srgbClr val="33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No Repudio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Uno de los propósitos de una firma digital es asegurar el no-repudio. Si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mantiene su llave privada en secreto, significa que nadie más puede generar una firma digital de un documento más que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mismo. Sin embargo,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puede no honrar su firma digital afirmando simplemente que la llave con la cual se generó la firma no es la suy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oblema de diseñ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Times New Roman"/>
              </a:rPr>
              <a:t>¿Cómo probar que la llave privada con la que se generó la firma digital realmente pertenece a </a:t>
            </a:r>
            <a:r>
              <a:rPr b="0" i="1" lang="es-MX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0" lang="es-MX" sz="24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No Repu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609480" y="1371600"/>
            <a:ext cx="8001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</a:rPr>
              <a:t>Aplicación de Políticas.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uponga que una compañía desea asignar un par de llaves a cada empleado, de manera tal que cada uno de ellos pueda cifrar y firmar información, de acuerdo a la siguiente polí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da empleado debe de tener únicamente un par de ll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odas las llaves públicas deben de estar registradas de manera centr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s llaves utilizadas deben de usar un tamaño de longitud de llave adecu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da par de llave debe ser cambiado después de un determinado período de valide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un empleado deja de laborar en la compañía, su llave pública debe de ser revocada automátic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Problema de diseñ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Times New Roman"/>
              </a:rPr>
              <a:t>¿Cómo implementar tales políticas sin la ayuda de sistemas externos a la Criptografía de llave públ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Aplicación de Polí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2819520"/>
            <a:ext cx="7086600" cy="761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ceptos Bás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914400" y="1600200"/>
            <a:ext cx="739152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Infraestructura de Llave Pública (PKI)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 una combinación de software, tecnologías de cifrado, y servicios que permiten proteger la seguridad de las transacciones de información en un sistema distribu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KI integra [o al menos intenta ¡!]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ertificados digitales, criptografía de llave pública y autoridades de certificación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una arquitectura de seguridad unif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fraestructura de Llave Pública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P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ponentes P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782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762120" y="1295280"/>
            <a:ext cx="74674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cc0000"/>
                </a:solidFill>
                <a:latin typeface="Times New Roman"/>
              </a:rPr>
              <a:t>Entidad fina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Término genérico para denotar a los usuarios finales o cualquier entidad que pueda ser identificada (personas, servidores, compañías, etc.) mediante un certificado digital expedido por una Autoridad Certificad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cc0000"/>
                </a:solidFill>
                <a:latin typeface="Times New Roman"/>
              </a:rPr>
              <a:t>Autoridad Certificadora (AC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La AC es la entidad que expide los certificados digitales, así como la lista de revocaci´on (CRL). Adicionalmente puede soportar funciones administrativas, aunque generalmente éstas son delegadas a una o varias Autoridades de Regis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fraestructura de Llave Pública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PKI)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685800" y="1371600"/>
            <a:ext cx="762012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cc0000"/>
                </a:solidFill>
                <a:latin typeface="Times New Roman"/>
              </a:rPr>
              <a:t>Autoridad de Registro (AR)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Una AR es componente opcional que puede asumir funciones administrativas de la 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cc0000"/>
                </a:solidFill>
                <a:latin typeface="Times New Roman"/>
              </a:rPr>
              <a:t>Reposito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El repositorio es el término genérico utilizado para denotar cualquier método para almacenamiento de certificados y listas de revocación (CRLs) que permita el acceso por parte de las entidades finales a dichos docu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cc0000"/>
                </a:solidFill>
                <a:latin typeface="Times New Roman"/>
              </a:rPr>
              <a:t>Emisor CR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El emisor CRL es un componente opcional el cual puede ser utilizado por una AC para delegar las tareas de publicación de las listas de revo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fraestructura de Llave Pública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PKI)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315200" cy="160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ertificados y Autoridades certificador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762120" y="1371600"/>
            <a:ext cx="76197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0" i="1" lang="es-MX" sz="2400" spc="-1" strike="noStrike">
                <a:solidFill>
                  <a:srgbClr val="cc0000"/>
                </a:solidFill>
                <a:latin typeface="Times New Roman"/>
              </a:rPr>
              <a:t>Autoridad Certificador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, es el componente fundamental de la infraestructura de llave pública. Es una combinación de hardware, software, y personas que conforman una arquitectura de seguridad. La AC es conocida por sus dos atributos más importantes: su llave pública y su nombre o identific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AC expide certificados de llave pública para cada entidad, confirmando plenamente la identidad del suscriptor con sus respectivos documentos de ident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Autoridad Certific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762120" y="1371600"/>
            <a:ext cx="777240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a Autoridad Certificadora desempeña cuatro funciones básicas en PK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4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pedición de certificados digi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4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pedición de listas de revo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4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ublicación de sus certificados digitales y correspondiente lista de revo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4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lmacenamiento del estado de los certificados expirados que ha exped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Autoridad Certifica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914400" y="3581280"/>
            <a:ext cx="7245000" cy="1828440"/>
            <a:chOff x="914400" y="3581280"/>
            <a:chExt cx="7245000" cy="1828440"/>
          </a:xfrm>
        </p:grpSpPr>
        <p:sp>
          <p:nvSpPr>
            <p:cNvPr id="506" name="Oval 3"/>
            <p:cNvSpPr/>
            <p:nvPr/>
          </p:nvSpPr>
          <p:spPr>
            <a:xfrm>
              <a:off x="3152880" y="3766320"/>
              <a:ext cx="254520" cy="26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Oval 4"/>
            <p:cNvSpPr/>
            <p:nvPr/>
          </p:nvSpPr>
          <p:spPr>
            <a:xfrm>
              <a:off x="4745160" y="3781440"/>
              <a:ext cx="259920" cy="26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Oval 5"/>
            <p:cNvSpPr/>
            <p:nvPr/>
          </p:nvSpPr>
          <p:spPr>
            <a:xfrm>
              <a:off x="6086160" y="3756960"/>
              <a:ext cx="259920" cy="26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6"/>
            <p:cNvSpPr/>
            <p:nvPr/>
          </p:nvSpPr>
          <p:spPr>
            <a:xfrm>
              <a:off x="7473600" y="3766320"/>
              <a:ext cx="260280" cy="26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7"/>
            <p:cNvSpPr/>
            <p:nvPr/>
          </p:nvSpPr>
          <p:spPr>
            <a:xfrm>
              <a:off x="4978440" y="4077720"/>
              <a:ext cx="322920" cy="85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8"/>
            <p:cNvSpPr/>
            <p:nvPr/>
          </p:nvSpPr>
          <p:spPr>
            <a:xfrm>
              <a:off x="2631960" y="5041080"/>
              <a:ext cx="203040" cy="212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9"/>
            <p:cNvSpPr/>
            <p:nvPr/>
          </p:nvSpPr>
          <p:spPr>
            <a:xfrm>
              <a:off x="5158080" y="4976280"/>
              <a:ext cx="202680" cy="20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10"/>
            <p:cNvSpPr/>
            <p:nvPr/>
          </p:nvSpPr>
          <p:spPr>
            <a:xfrm>
              <a:off x="3641400" y="5016960"/>
              <a:ext cx="206280" cy="212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11"/>
            <p:cNvSpPr/>
            <p:nvPr/>
          </p:nvSpPr>
          <p:spPr>
            <a:xfrm>
              <a:off x="7222320" y="4976280"/>
              <a:ext cx="206280" cy="20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12"/>
            <p:cNvSpPr/>
            <p:nvPr/>
          </p:nvSpPr>
          <p:spPr>
            <a:xfrm flipH="1">
              <a:off x="2793240" y="4044600"/>
              <a:ext cx="427320" cy="97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13"/>
            <p:cNvSpPr/>
            <p:nvPr/>
          </p:nvSpPr>
          <p:spPr>
            <a:xfrm>
              <a:off x="3336120" y="4068360"/>
              <a:ext cx="34092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14"/>
            <p:cNvSpPr/>
            <p:nvPr/>
          </p:nvSpPr>
          <p:spPr>
            <a:xfrm>
              <a:off x="4409280" y="4976280"/>
              <a:ext cx="200880" cy="207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5"/>
            <p:cNvSpPr/>
            <p:nvPr/>
          </p:nvSpPr>
          <p:spPr>
            <a:xfrm>
              <a:off x="5834520" y="4952160"/>
              <a:ext cx="203040" cy="20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Oval 16"/>
            <p:cNvSpPr/>
            <p:nvPr/>
          </p:nvSpPr>
          <p:spPr>
            <a:xfrm>
              <a:off x="6508080" y="4952160"/>
              <a:ext cx="202680" cy="20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17"/>
            <p:cNvSpPr/>
            <p:nvPr/>
          </p:nvSpPr>
          <p:spPr>
            <a:xfrm>
              <a:off x="6265800" y="4022280"/>
              <a:ext cx="346320" cy="9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18"/>
            <p:cNvSpPr/>
            <p:nvPr/>
          </p:nvSpPr>
          <p:spPr>
            <a:xfrm flipH="1">
              <a:off x="4543920" y="4090680"/>
              <a:ext cx="322920" cy="87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19"/>
            <p:cNvSpPr/>
            <p:nvPr/>
          </p:nvSpPr>
          <p:spPr>
            <a:xfrm>
              <a:off x="7689240" y="4044600"/>
              <a:ext cx="367920" cy="87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Oval 20"/>
            <p:cNvSpPr/>
            <p:nvPr/>
          </p:nvSpPr>
          <p:spPr>
            <a:xfrm>
              <a:off x="7958520" y="4952160"/>
              <a:ext cx="200880" cy="20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21"/>
            <p:cNvSpPr/>
            <p:nvPr/>
          </p:nvSpPr>
          <p:spPr>
            <a:xfrm flipH="1">
              <a:off x="5965560" y="4068360"/>
              <a:ext cx="260280" cy="87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22"/>
            <p:cNvSpPr/>
            <p:nvPr/>
          </p:nvSpPr>
          <p:spPr>
            <a:xfrm flipH="1">
              <a:off x="7365960" y="4025880"/>
              <a:ext cx="182880" cy="9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23"/>
            <p:cNvSpPr/>
            <p:nvPr/>
          </p:nvSpPr>
          <p:spPr>
            <a:xfrm>
              <a:off x="1000440" y="3581280"/>
              <a:ext cx="954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Times New Roman"/>
                </a:rPr>
                <a:t>A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24"/>
            <p:cNvSpPr/>
            <p:nvPr/>
          </p:nvSpPr>
          <p:spPr>
            <a:xfrm>
              <a:off x="914400" y="4915080"/>
              <a:ext cx="163332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Times New Roman"/>
                </a:rPr>
                <a:t>Usuarios fi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Group 25"/>
          <p:cNvGrpSpPr/>
          <p:nvPr/>
        </p:nvGrpSpPr>
        <p:grpSpPr>
          <a:xfrm>
            <a:off x="1058760" y="2676600"/>
            <a:ext cx="6549840" cy="1255320"/>
            <a:chOff x="1058760" y="2676600"/>
            <a:chExt cx="6549840" cy="1255320"/>
          </a:xfrm>
        </p:grpSpPr>
        <p:sp>
          <p:nvSpPr>
            <p:cNvPr id="529" name="Oval 26"/>
            <p:cNvSpPr/>
            <p:nvPr/>
          </p:nvSpPr>
          <p:spPr>
            <a:xfrm>
              <a:off x="4033080" y="2768760"/>
              <a:ext cx="259920" cy="26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27"/>
            <p:cNvSpPr/>
            <p:nvPr/>
          </p:nvSpPr>
          <p:spPr>
            <a:xfrm>
              <a:off x="6768720" y="2876400"/>
              <a:ext cx="256680" cy="26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28"/>
            <p:cNvSpPr/>
            <p:nvPr/>
          </p:nvSpPr>
          <p:spPr>
            <a:xfrm flipH="1">
              <a:off x="3458160" y="3083760"/>
              <a:ext cx="676440" cy="83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29"/>
            <p:cNvSpPr/>
            <p:nvPr/>
          </p:nvSpPr>
          <p:spPr>
            <a:xfrm>
              <a:off x="7007400" y="3172680"/>
              <a:ext cx="60120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30"/>
            <p:cNvSpPr/>
            <p:nvPr/>
          </p:nvSpPr>
          <p:spPr>
            <a:xfrm>
              <a:off x="4135320" y="3083760"/>
              <a:ext cx="705240" cy="84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31"/>
            <p:cNvSpPr/>
            <p:nvPr/>
          </p:nvSpPr>
          <p:spPr>
            <a:xfrm flipH="1">
              <a:off x="6378480" y="3139200"/>
              <a:ext cx="497160" cy="74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32"/>
            <p:cNvSpPr/>
            <p:nvPr/>
          </p:nvSpPr>
          <p:spPr>
            <a:xfrm>
              <a:off x="1058760" y="2676600"/>
              <a:ext cx="25884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Times New Roman"/>
                </a:rPr>
                <a:t>ACs de nivel al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33"/>
          <p:cNvGrpSpPr/>
          <p:nvPr/>
        </p:nvGrpSpPr>
        <p:grpSpPr>
          <a:xfrm>
            <a:off x="1173240" y="2133720"/>
            <a:ext cx="5684040" cy="875880"/>
            <a:chOff x="1173240" y="2133720"/>
            <a:chExt cx="5684040" cy="875880"/>
          </a:xfrm>
        </p:grpSpPr>
        <p:sp>
          <p:nvSpPr>
            <p:cNvPr id="537" name="Oval 34"/>
            <p:cNvSpPr/>
            <p:nvPr/>
          </p:nvSpPr>
          <p:spPr>
            <a:xfrm>
              <a:off x="5442120" y="2133720"/>
              <a:ext cx="254520" cy="262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5"/>
            <p:cNvSpPr/>
            <p:nvPr/>
          </p:nvSpPr>
          <p:spPr>
            <a:xfrm flipH="1">
              <a:off x="4404960" y="2331720"/>
              <a:ext cx="115704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36"/>
            <p:cNvSpPr/>
            <p:nvPr/>
          </p:nvSpPr>
          <p:spPr>
            <a:xfrm>
              <a:off x="5705640" y="2355840"/>
              <a:ext cx="1151640" cy="65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37"/>
            <p:cNvSpPr/>
            <p:nvPr/>
          </p:nvSpPr>
          <p:spPr>
            <a:xfrm>
              <a:off x="1173240" y="2133720"/>
              <a:ext cx="180684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Times New Roman"/>
                </a:rPr>
                <a:t>AC raí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La arquitectura de PKI es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jerárqu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2" name="Object 2"/>
          <p:cNvGraphicFramePr/>
          <p:nvPr/>
        </p:nvGraphicFramePr>
        <p:xfrm>
          <a:off x="712800" y="2322360"/>
          <a:ext cx="1455840" cy="29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2322360"/>
                    <a:ext cx="1455840" cy="29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2627280" y="2023560"/>
            <a:ext cx="6073920" cy="3605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l verificador debe conocer la llave pública de la AC raí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da llave pública es resuelta una 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odas las ACs en la trayectoria deben ser de toda la confianza dle verific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99036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Trayectorias de Certific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Arquitecturas P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utenticación: Defin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Autenticación es un proceso que tiene como finalidad verificar la información referente a un determinado objeto, por 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just">
              <a:lnSpc>
                <a:spcPct val="120000"/>
              </a:lnSpc>
              <a:spcBef>
                <a:spcPts val="700"/>
              </a:spcBef>
              <a:buClr>
                <a:srgbClr val="0f40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f4071"/>
                </a:solidFill>
                <a:latin typeface="Arial"/>
              </a:rPr>
              <a:t>La identidad del remitente (ya sea un dispositivo electrónico y/o un usuari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just">
              <a:lnSpc>
                <a:spcPct val="120000"/>
              </a:lnSpc>
              <a:spcBef>
                <a:spcPts val="700"/>
              </a:spcBef>
              <a:buClr>
                <a:srgbClr val="0f40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f4071"/>
                </a:solidFill>
                <a:latin typeface="Arial"/>
              </a:rPr>
              <a:t>La integridad de la información envi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just">
              <a:lnSpc>
                <a:spcPct val="120000"/>
              </a:lnSpc>
              <a:spcBef>
                <a:spcPts val="700"/>
              </a:spcBef>
              <a:buClr>
                <a:srgbClr val="0f40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f4071"/>
                </a:solidFill>
                <a:latin typeface="Arial"/>
              </a:rPr>
              <a:t>El momento de envío de la inform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just">
              <a:lnSpc>
                <a:spcPct val="120000"/>
              </a:lnSpc>
              <a:spcBef>
                <a:spcPts val="700"/>
              </a:spcBef>
              <a:buClr>
                <a:srgbClr val="0f40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f4071"/>
                </a:solidFill>
                <a:latin typeface="Arial"/>
              </a:rPr>
              <a:t>La validez de la fir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1295280" y="2514600"/>
            <a:ext cx="6782040" cy="1731960"/>
            <a:chOff x="1295280" y="2514600"/>
            <a:chExt cx="6782040" cy="1731960"/>
          </a:xfrm>
        </p:grpSpPr>
        <p:sp>
          <p:nvSpPr>
            <p:cNvPr id="549" name="Oval 3"/>
            <p:cNvSpPr/>
            <p:nvPr/>
          </p:nvSpPr>
          <p:spPr>
            <a:xfrm>
              <a:off x="3338640" y="2522520"/>
              <a:ext cx="241200" cy="26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Oval 4"/>
            <p:cNvSpPr/>
            <p:nvPr/>
          </p:nvSpPr>
          <p:spPr>
            <a:xfrm>
              <a:off x="6114960" y="2514600"/>
              <a:ext cx="246240" cy="262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5"/>
            <p:cNvSpPr/>
            <p:nvPr/>
          </p:nvSpPr>
          <p:spPr>
            <a:xfrm>
              <a:off x="7427880" y="2522520"/>
              <a:ext cx="246240" cy="26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6"/>
            <p:cNvSpPr/>
            <p:nvPr/>
          </p:nvSpPr>
          <p:spPr>
            <a:xfrm>
              <a:off x="1828800" y="2536920"/>
              <a:ext cx="9050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Times New Roman"/>
                </a:rPr>
                <a:t>A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7"/>
            <p:cNvSpPr/>
            <p:nvPr/>
          </p:nvSpPr>
          <p:spPr>
            <a:xfrm flipH="1">
              <a:off x="5371920" y="2813040"/>
              <a:ext cx="841320" cy="868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8"/>
            <p:cNvSpPr/>
            <p:nvPr/>
          </p:nvSpPr>
          <p:spPr>
            <a:xfrm>
              <a:off x="2844720" y="3786120"/>
              <a:ext cx="192240" cy="21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9"/>
            <p:cNvSpPr/>
            <p:nvPr/>
          </p:nvSpPr>
          <p:spPr>
            <a:xfrm>
              <a:off x="5235480" y="3721320"/>
              <a:ext cx="192240" cy="20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10"/>
            <p:cNvSpPr/>
            <p:nvPr/>
          </p:nvSpPr>
          <p:spPr>
            <a:xfrm>
              <a:off x="3800520" y="3764160"/>
              <a:ext cx="19512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11"/>
            <p:cNvSpPr/>
            <p:nvPr/>
          </p:nvSpPr>
          <p:spPr>
            <a:xfrm>
              <a:off x="7189920" y="3721320"/>
              <a:ext cx="195120" cy="20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2"/>
            <p:cNvSpPr/>
            <p:nvPr/>
          </p:nvSpPr>
          <p:spPr>
            <a:xfrm flipH="1">
              <a:off x="2998800" y="2799000"/>
              <a:ext cx="403200" cy="96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3"/>
            <p:cNvSpPr/>
            <p:nvPr/>
          </p:nvSpPr>
          <p:spPr>
            <a:xfrm>
              <a:off x="3511440" y="2822760"/>
              <a:ext cx="322200" cy="981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14"/>
            <p:cNvSpPr/>
            <p:nvPr/>
          </p:nvSpPr>
          <p:spPr>
            <a:xfrm>
              <a:off x="4527720" y="3721320"/>
              <a:ext cx="190440" cy="207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Oval 15"/>
            <p:cNvSpPr/>
            <p:nvPr/>
          </p:nvSpPr>
          <p:spPr>
            <a:xfrm>
              <a:off x="5877000" y="3699000"/>
              <a:ext cx="191880" cy="20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Oval 16"/>
            <p:cNvSpPr/>
            <p:nvPr/>
          </p:nvSpPr>
          <p:spPr>
            <a:xfrm>
              <a:off x="6513480" y="3699000"/>
              <a:ext cx="192240" cy="20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7"/>
            <p:cNvSpPr/>
            <p:nvPr/>
          </p:nvSpPr>
          <p:spPr>
            <a:xfrm>
              <a:off x="6284880" y="2776680"/>
              <a:ext cx="326880" cy="919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>
              <a:off x="3524400" y="2786040"/>
              <a:ext cx="1130040" cy="92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>
              <a:off x="7632720" y="2799000"/>
              <a:ext cx="347760" cy="87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Oval 20"/>
            <p:cNvSpPr/>
            <p:nvPr/>
          </p:nvSpPr>
          <p:spPr>
            <a:xfrm>
              <a:off x="7886880" y="3699000"/>
              <a:ext cx="190440" cy="206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21"/>
            <p:cNvSpPr/>
            <p:nvPr/>
          </p:nvSpPr>
          <p:spPr>
            <a:xfrm flipH="1">
              <a:off x="6000480" y="2822760"/>
              <a:ext cx="245880" cy="87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22"/>
            <p:cNvSpPr/>
            <p:nvPr/>
          </p:nvSpPr>
          <p:spPr>
            <a:xfrm flipH="1">
              <a:off x="7326360" y="2844720"/>
              <a:ext cx="162000" cy="870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3"/>
            <p:cNvSpPr/>
            <p:nvPr/>
          </p:nvSpPr>
          <p:spPr>
            <a:xfrm>
              <a:off x="1295280" y="3756240"/>
              <a:ext cx="1546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Times New Roman"/>
                </a:rPr>
                <a:t>Usuarios Fi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24"/>
          <p:cNvGrpSpPr/>
          <p:nvPr/>
        </p:nvGrpSpPr>
        <p:grpSpPr>
          <a:xfrm>
            <a:off x="1447920" y="2286000"/>
            <a:ext cx="6064200" cy="2778120"/>
            <a:chOff x="1447920" y="2286000"/>
            <a:chExt cx="6064200" cy="2778120"/>
          </a:xfrm>
        </p:grpSpPr>
        <p:sp>
          <p:nvSpPr>
            <p:cNvPr id="571" name="Freeform 25"/>
            <p:cNvSpPr/>
            <p:nvPr/>
          </p:nvSpPr>
          <p:spPr>
            <a:xfrm>
              <a:off x="3659400" y="2286000"/>
              <a:ext cx="2498760" cy="322200"/>
            </a:xfrm>
            <a:custGeom>
              <a:avLst/>
              <a:gdLst/>
              <a:ahLst/>
              <a:rect l="l" t="t" r="r" b="b"/>
              <a:pathLst>
                <a:path w="1470" h="175">
                  <a:moveTo>
                    <a:pt x="0" y="175"/>
                  </a:moveTo>
                  <a:cubicBezTo>
                    <a:pt x="234" y="94"/>
                    <a:pt x="469" y="14"/>
                    <a:pt x="714" y="7"/>
                  </a:cubicBezTo>
                  <a:cubicBezTo>
                    <a:pt x="959" y="0"/>
                    <a:pt x="1214" y="66"/>
                    <a:pt x="1470" y="133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26"/>
            <p:cNvSpPr/>
            <p:nvPr/>
          </p:nvSpPr>
          <p:spPr>
            <a:xfrm>
              <a:off x="6464520" y="2368440"/>
              <a:ext cx="1047600" cy="216000"/>
            </a:xfrm>
            <a:custGeom>
              <a:avLst/>
              <a:gdLst/>
              <a:ahLst/>
              <a:rect l="l" t="t" r="r" b="b"/>
              <a:pathLst>
                <a:path w="616" h="117">
                  <a:moveTo>
                    <a:pt x="0" y="117"/>
                  </a:moveTo>
                  <a:cubicBezTo>
                    <a:pt x="123" y="63"/>
                    <a:pt x="247" y="10"/>
                    <a:pt x="350" y="5"/>
                  </a:cubicBezTo>
                  <a:cubicBezTo>
                    <a:pt x="453" y="0"/>
                    <a:pt x="574" y="75"/>
                    <a:pt x="616" y="89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27"/>
            <p:cNvSpPr/>
            <p:nvPr/>
          </p:nvSpPr>
          <p:spPr>
            <a:xfrm>
              <a:off x="3659400" y="2662200"/>
              <a:ext cx="2473200" cy="128520"/>
            </a:xfrm>
            <a:custGeom>
              <a:avLst/>
              <a:gdLst/>
              <a:ahLst/>
              <a:rect l="l" t="t" r="r" b="b"/>
              <a:pathLst>
                <a:path w="1456" h="70">
                  <a:moveTo>
                    <a:pt x="1456" y="0"/>
                  </a:moveTo>
                  <a:cubicBezTo>
                    <a:pt x="1234" y="35"/>
                    <a:pt x="1013" y="70"/>
                    <a:pt x="770" y="70"/>
                  </a:cubicBezTo>
                  <a:cubicBezTo>
                    <a:pt x="527" y="70"/>
                    <a:pt x="124" y="16"/>
                    <a:pt x="0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28"/>
            <p:cNvSpPr/>
            <p:nvPr/>
          </p:nvSpPr>
          <p:spPr>
            <a:xfrm>
              <a:off x="6417000" y="2684520"/>
              <a:ext cx="1069920" cy="106200"/>
            </a:xfrm>
            <a:custGeom>
              <a:avLst/>
              <a:gdLst/>
              <a:ahLst/>
              <a:rect l="l" t="t" r="r" b="b"/>
              <a:pathLst>
                <a:path w="630" h="58">
                  <a:moveTo>
                    <a:pt x="630" y="14"/>
                  </a:moveTo>
                  <a:cubicBezTo>
                    <a:pt x="542" y="36"/>
                    <a:pt x="455" y="58"/>
                    <a:pt x="350" y="56"/>
                  </a:cubicBezTo>
                  <a:cubicBezTo>
                    <a:pt x="245" y="54"/>
                    <a:pt x="56" y="9"/>
                    <a:pt x="0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>
              <a:off x="1447920" y="4848120"/>
              <a:ext cx="121140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30"/>
            <p:cNvSpPr/>
            <p:nvPr/>
          </p:nvSpPr>
          <p:spPr>
            <a:xfrm>
              <a:off x="2959200" y="4724280"/>
              <a:ext cx="18478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cc0000"/>
                  </a:solidFill>
                  <a:latin typeface="Times New Roman"/>
                </a:rPr>
                <a:t>Certificados puente</a:t>
              </a:r>
              <a:r>
                <a:rPr b="0" lang="es-MX" sz="10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ertificados Pu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09480" y="15238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ertificado Digita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 un documento que vincula una llave pública con una entidad final y que es firmado por una autoridad certificadora para demostrar su validez e integ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ertificado Digital: Defin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Group 4"/>
          <p:cNvGrpSpPr/>
          <p:nvPr/>
        </p:nvGrpSpPr>
        <p:grpSpPr>
          <a:xfrm>
            <a:off x="609480" y="3962520"/>
            <a:ext cx="7962840" cy="1576440"/>
            <a:chOff x="609480" y="3962520"/>
            <a:chExt cx="7962840" cy="1576440"/>
          </a:xfrm>
        </p:grpSpPr>
        <p:sp>
          <p:nvSpPr>
            <p:cNvPr id="581" name="Rectangle 5"/>
            <p:cNvSpPr/>
            <p:nvPr/>
          </p:nvSpPr>
          <p:spPr>
            <a:xfrm>
              <a:off x="609480" y="3969000"/>
              <a:ext cx="7962840" cy="6159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6"/>
            <p:cNvSpPr/>
            <p:nvPr/>
          </p:nvSpPr>
          <p:spPr>
            <a:xfrm>
              <a:off x="7181640" y="4107240"/>
              <a:ext cx="1254240" cy="36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7"/>
            <p:cNvSpPr/>
            <p:nvPr/>
          </p:nvSpPr>
          <p:spPr>
            <a:xfrm>
              <a:off x="703080" y="4089600"/>
              <a:ext cx="1253880" cy="36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lave Pú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8"/>
            <p:cNvSpPr/>
            <p:nvPr/>
          </p:nvSpPr>
          <p:spPr>
            <a:xfrm>
              <a:off x="2079360" y="4088160"/>
              <a:ext cx="4673520" cy="366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os usuario: atributos, privilegios, etc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9"/>
            <p:cNvSpPr/>
            <p:nvPr/>
          </p:nvSpPr>
          <p:spPr>
            <a:xfrm>
              <a:off x="6946560" y="3962520"/>
              <a:ext cx="0" cy="628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10"/>
            <p:cNvGrpSpPr/>
            <p:nvPr/>
          </p:nvGrpSpPr>
          <p:grpSpPr>
            <a:xfrm>
              <a:off x="620280" y="4672080"/>
              <a:ext cx="6310440" cy="174600"/>
              <a:chOff x="620280" y="4672080"/>
              <a:chExt cx="6310440" cy="174600"/>
            </a:xfrm>
          </p:grpSpPr>
          <p:sp>
            <p:nvSpPr>
              <p:cNvPr id="587" name="Freeform 11"/>
              <p:cNvSpPr/>
              <p:nvPr/>
            </p:nvSpPr>
            <p:spPr>
              <a:xfrm>
                <a:off x="620280" y="4675320"/>
                <a:ext cx="3159360" cy="171360"/>
              </a:xfrm>
              <a:custGeom>
                <a:avLst/>
                <a:gdLst/>
                <a:ahLst/>
                <a:rect l="l" t="t" r="r" b="b"/>
                <a:pathLst>
                  <a:path w="1990" h="108">
                    <a:moveTo>
                      <a:pt x="0" y="0"/>
                    </a:moveTo>
                    <a:lnTo>
                      <a:pt x="44" y="22"/>
                    </a:lnTo>
                    <a:lnTo>
                      <a:pt x="117" y="34"/>
                    </a:lnTo>
                    <a:lnTo>
                      <a:pt x="215" y="51"/>
                    </a:lnTo>
                    <a:lnTo>
                      <a:pt x="283" y="55"/>
                    </a:lnTo>
                    <a:lnTo>
                      <a:pt x="356" y="55"/>
                    </a:lnTo>
                    <a:lnTo>
                      <a:pt x="454" y="55"/>
                    </a:lnTo>
                    <a:lnTo>
                      <a:pt x="528" y="55"/>
                    </a:lnTo>
                    <a:lnTo>
                      <a:pt x="623" y="55"/>
                    </a:lnTo>
                    <a:lnTo>
                      <a:pt x="721" y="55"/>
                    </a:lnTo>
                    <a:lnTo>
                      <a:pt x="811" y="55"/>
                    </a:lnTo>
                    <a:lnTo>
                      <a:pt x="885" y="55"/>
                    </a:lnTo>
                    <a:lnTo>
                      <a:pt x="958" y="55"/>
                    </a:lnTo>
                    <a:lnTo>
                      <a:pt x="1050" y="55"/>
                    </a:lnTo>
                    <a:lnTo>
                      <a:pt x="1124" y="55"/>
                    </a:lnTo>
                    <a:lnTo>
                      <a:pt x="1197" y="55"/>
                    </a:lnTo>
                    <a:lnTo>
                      <a:pt x="1295" y="51"/>
                    </a:lnTo>
                    <a:lnTo>
                      <a:pt x="1368" y="51"/>
                    </a:lnTo>
                    <a:lnTo>
                      <a:pt x="1437" y="51"/>
                    </a:lnTo>
                    <a:lnTo>
                      <a:pt x="1532" y="51"/>
                    </a:lnTo>
                    <a:lnTo>
                      <a:pt x="1608" y="51"/>
                    </a:lnTo>
                    <a:lnTo>
                      <a:pt x="1681" y="51"/>
                    </a:lnTo>
                    <a:lnTo>
                      <a:pt x="1771" y="55"/>
                    </a:lnTo>
                    <a:lnTo>
                      <a:pt x="1845" y="55"/>
                    </a:lnTo>
                    <a:lnTo>
                      <a:pt x="1919" y="67"/>
                    </a:lnTo>
                    <a:lnTo>
                      <a:pt x="1943" y="85"/>
                    </a:lnTo>
                    <a:lnTo>
                      <a:pt x="1989" y="10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Freeform 12"/>
              <p:cNvSpPr/>
              <p:nvPr/>
            </p:nvSpPr>
            <p:spPr>
              <a:xfrm>
                <a:off x="3771720" y="4672080"/>
                <a:ext cx="3159000" cy="171720"/>
              </a:xfrm>
              <a:custGeom>
                <a:avLst/>
                <a:gdLst/>
                <a:ahLst/>
                <a:rect l="l" t="t" r="r" b="b"/>
                <a:pathLst>
                  <a:path w="1990" h="108">
                    <a:moveTo>
                      <a:pt x="1989" y="0"/>
                    </a:moveTo>
                    <a:lnTo>
                      <a:pt x="1943" y="22"/>
                    </a:lnTo>
                    <a:lnTo>
                      <a:pt x="1869" y="34"/>
                    </a:lnTo>
                    <a:lnTo>
                      <a:pt x="1777" y="51"/>
                    </a:lnTo>
                    <a:lnTo>
                      <a:pt x="1703" y="55"/>
                    </a:lnTo>
                    <a:lnTo>
                      <a:pt x="1630" y="55"/>
                    </a:lnTo>
                    <a:lnTo>
                      <a:pt x="1532" y="55"/>
                    </a:lnTo>
                    <a:lnTo>
                      <a:pt x="1459" y="55"/>
                    </a:lnTo>
                    <a:lnTo>
                      <a:pt x="1368" y="55"/>
                    </a:lnTo>
                    <a:lnTo>
                      <a:pt x="1265" y="55"/>
                    </a:lnTo>
                    <a:lnTo>
                      <a:pt x="1175" y="55"/>
                    </a:lnTo>
                    <a:lnTo>
                      <a:pt x="1102" y="55"/>
                    </a:lnTo>
                    <a:lnTo>
                      <a:pt x="1028" y="55"/>
                    </a:lnTo>
                    <a:lnTo>
                      <a:pt x="936" y="55"/>
                    </a:lnTo>
                    <a:lnTo>
                      <a:pt x="862" y="55"/>
                    </a:lnTo>
                    <a:lnTo>
                      <a:pt x="789" y="55"/>
                    </a:lnTo>
                    <a:lnTo>
                      <a:pt x="697" y="51"/>
                    </a:lnTo>
                    <a:lnTo>
                      <a:pt x="623" y="51"/>
                    </a:lnTo>
                    <a:lnTo>
                      <a:pt x="550" y="51"/>
                    </a:lnTo>
                    <a:lnTo>
                      <a:pt x="454" y="51"/>
                    </a:lnTo>
                    <a:lnTo>
                      <a:pt x="386" y="51"/>
                    </a:lnTo>
                    <a:lnTo>
                      <a:pt x="310" y="51"/>
                    </a:lnTo>
                    <a:lnTo>
                      <a:pt x="215" y="55"/>
                    </a:lnTo>
                    <a:lnTo>
                      <a:pt x="141" y="55"/>
                    </a:lnTo>
                    <a:lnTo>
                      <a:pt x="68" y="67"/>
                    </a:lnTo>
                    <a:lnTo>
                      <a:pt x="44" y="85"/>
                    </a:lnTo>
                    <a:lnTo>
                      <a:pt x="0" y="10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13"/>
            <p:cNvSpPr/>
            <p:nvPr/>
          </p:nvSpPr>
          <p:spPr>
            <a:xfrm>
              <a:off x="3765240" y="4915080"/>
              <a:ext cx="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14"/>
            <p:cNvSpPr/>
            <p:nvPr/>
          </p:nvSpPr>
          <p:spPr>
            <a:xfrm>
              <a:off x="3784320" y="5151600"/>
              <a:ext cx="397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15"/>
            <p:cNvSpPr/>
            <p:nvPr/>
          </p:nvSpPr>
          <p:spPr>
            <a:xfrm>
              <a:off x="7760880" y="4712040"/>
              <a:ext cx="0" cy="42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16"/>
            <p:cNvSpPr/>
            <p:nvPr/>
          </p:nvSpPr>
          <p:spPr>
            <a:xfrm>
              <a:off x="4170240" y="5172120"/>
              <a:ext cx="3152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rma del digesto de los da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988560" y="2014560"/>
            <a:ext cx="2948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1738440" y="1633680"/>
            <a:ext cx="2842920" cy="38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1905120" y="1944720"/>
            <a:ext cx="2508120" cy="622440"/>
          </a:xfrm>
          <a:prstGeom prst="rect">
            <a:avLst/>
          </a:prstGeom>
          <a:solidFill>
            <a:srgbClr val="ffcc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formación de identificación del su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1905120" y="2567160"/>
            <a:ext cx="2508120" cy="622080"/>
          </a:xfrm>
          <a:prstGeom prst="rect">
            <a:avLst/>
          </a:prstGeom>
          <a:solidFill>
            <a:srgbClr val="ffcc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lave pública del su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1905120" y="3189240"/>
            <a:ext cx="2508120" cy="620640"/>
          </a:xfrm>
          <a:prstGeom prst="rect">
            <a:avLst/>
          </a:prstGeom>
          <a:solidFill>
            <a:srgbClr val="ffcc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ombre de la Autoridad Certificad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1905120" y="3809880"/>
            <a:ext cx="2508120" cy="622440"/>
          </a:xfrm>
          <a:prstGeom prst="rect">
            <a:avLst/>
          </a:prstGeom>
          <a:solidFill>
            <a:srgbClr val="ffcc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Número de se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8"/>
          <p:cNvSpPr/>
          <p:nvPr/>
        </p:nvSpPr>
        <p:spPr>
          <a:xfrm>
            <a:off x="1905120" y="4587840"/>
            <a:ext cx="2508120" cy="622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irma digital de la Autoridad Certificad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9"/>
          <p:cNvSpPr/>
          <p:nvPr/>
        </p:nvSpPr>
        <p:spPr>
          <a:xfrm>
            <a:off x="5416560" y="3189240"/>
            <a:ext cx="167328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Gen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irma dig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Group 10"/>
          <p:cNvGrpSpPr/>
          <p:nvPr/>
        </p:nvGrpSpPr>
        <p:grpSpPr>
          <a:xfrm>
            <a:off x="2908440" y="2878200"/>
            <a:ext cx="334800" cy="155520"/>
            <a:chOff x="2908440" y="2878200"/>
            <a:chExt cx="334800" cy="155520"/>
          </a:xfrm>
        </p:grpSpPr>
        <p:sp>
          <p:nvSpPr>
            <p:cNvPr id="602" name="Line 11"/>
            <p:cNvSpPr/>
            <p:nvPr/>
          </p:nvSpPr>
          <p:spPr>
            <a:xfrm flipV="1">
              <a:off x="3243240" y="2955960"/>
              <a:ext cx="0" cy="777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Line 12"/>
            <p:cNvSpPr/>
            <p:nvPr/>
          </p:nvSpPr>
          <p:spPr>
            <a:xfrm flipH="1">
              <a:off x="2908440" y="2955960"/>
              <a:ext cx="334800" cy="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Oval 13"/>
            <p:cNvSpPr/>
            <p:nvPr/>
          </p:nvSpPr>
          <p:spPr>
            <a:xfrm>
              <a:off x="2908440" y="2878200"/>
              <a:ext cx="83520" cy="155520"/>
            </a:xfrm>
            <a:prstGeom prst="ellipse">
              <a:avLst/>
            </a:prstGeom>
            <a:solidFill>
              <a:srgbClr val="ffcc66"/>
            </a:solidFill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4"/>
            <p:cNvSpPr/>
            <p:nvPr/>
          </p:nvSpPr>
          <p:spPr>
            <a:xfrm>
              <a:off x="3159720" y="2955960"/>
              <a:ext cx="0" cy="777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Group 15"/>
          <p:cNvGrpSpPr/>
          <p:nvPr/>
        </p:nvGrpSpPr>
        <p:grpSpPr>
          <a:xfrm>
            <a:off x="6086520" y="2567160"/>
            <a:ext cx="333360" cy="155520"/>
            <a:chOff x="6086520" y="2567160"/>
            <a:chExt cx="333360" cy="155520"/>
          </a:xfrm>
        </p:grpSpPr>
        <p:sp>
          <p:nvSpPr>
            <p:cNvPr id="607" name="Line 16"/>
            <p:cNvSpPr/>
            <p:nvPr/>
          </p:nvSpPr>
          <p:spPr>
            <a:xfrm flipV="1">
              <a:off x="6419880" y="2644920"/>
              <a:ext cx="0" cy="777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7"/>
            <p:cNvSpPr/>
            <p:nvPr/>
          </p:nvSpPr>
          <p:spPr>
            <a:xfrm flipH="1">
              <a:off x="6086520" y="2644920"/>
              <a:ext cx="333360" cy="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18"/>
            <p:cNvSpPr/>
            <p:nvPr/>
          </p:nvSpPr>
          <p:spPr>
            <a:xfrm>
              <a:off x="6086520" y="2567160"/>
              <a:ext cx="83160" cy="155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9"/>
            <p:cNvSpPr/>
            <p:nvPr/>
          </p:nvSpPr>
          <p:spPr>
            <a:xfrm>
              <a:off x="6336720" y="2644920"/>
              <a:ext cx="0" cy="777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Text Box 20"/>
          <p:cNvSpPr/>
          <p:nvPr/>
        </p:nvSpPr>
        <p:spPr>
          <a:xfrm>
            <a:off x="4838760" y="2679840"/>
            <a:ext cx="300996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Llave privada de la Autoridad de Cert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6253200" y="2722680"/>
            <a:ext cx="0" cy="46656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4413240" y="3498840"/>
            <a:ext cx="1003320" cy="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23"/>
          <p:cNvSpPr/>
          <p:nvPr/>
        </p:nvSpPr>
        <p:spPr>
          <a:xfrm>
            <a:off x="4413240" y="3809880"/>
            <a:ext cx="1839960" cy="1089000"/>
          </a:xfrm>
          <a:custGeom>
            <a:avLst/>
            <a:gdLst/>
            <a:ahLst/>
            <a:rect l="l" t="t" r="r" b="b"/>
            <a:pathLst>
              <a:path w="1980" h="1260">
                <a:moveTo>
                  <a:pt x="1980" y="0"/>
                </a:moveTo>
                <a:lnTo>
                  <a:pt x="1980" y="1260"/>
                </a:lnTo>
                <a:lnTo>
                  <a:pt x="0" y="1260"/>
                </a:lnTo>
              </a:path>
            </a:pathLst>
          </a:custGeom>
          <a:noFill/>
          <a:ln w="28440">
            <a:solidFill>
              <a:srgbClr val="b2b2b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2595600" y="1322280"/>
            <a:ext cx="1504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ertifi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ific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838080" y="1600200"/>
            <a:ext cx="762012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certificado digital incluye la llave pública, información acerca de la identidad del suscriptor que posee la llave privada, un período de validez del certificado, y la firma digital de la propia autoridad certificadora. El certificado puede contener otros campos como por ejemplo: información adicional sobre la autoridad certificadora o información acerca de usos recomendados para la llave púb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ertificado Dig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iclo de vida un certificado dig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2743200" y="1523880"/>
            <a:ext cx="2895480" cy="368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enerar ll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4"/>
          <p:cNvGrpSpPr/>
          <p:nvPr/>
        </p:nvGrpSpPr>
        <p:grpSpPr>
          <a:xfrm>
            <a:off x="2743200" y="1899720"/>
            <a:ext cx="2895480" cy="906840"/>
            <a:chOff x="2743200" y="1899720"/>
            <a:chExt cx="2895480" cy="906840"/>
          </a:xfrm>
        </p:grpSpPr>
        <p:sp>
          <p:nvSpPr>
            <p:cNvPr id="622" name="Text Box 5"/>
            <p:cNvSpPr/>
            <p:nvPr/>
          </p:nvSpPr>
          <p:spPr>
            <a:xfrm>
              <a:off x="2743200" y="2438280"/>
              <a:ext cx="2895480" cy="368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Generar certific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3" name="AutoShape 6"/>
            <p:cNvCxnSpPr>
              <a:stCxn id="620" idx="2"/>
              <a:endCxn id="622" idx="0"/>
            </p:cNvCxnSpPr>
            <p:nvPr/>
          </p:nvCxnSpPr>
          <p:spPr>
            <a:xfrm>
              <a:off x="4190760" y="1899720"/>
              <a:ext cx="1080" cy="5389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4" name="Group 7"/>
          <p:cNvGrpSpPr/>
          <p:nvPr/>
        </p:nvGrpSpPr>
        <p:grpSpPr>
          <a:xfrm>
            <a:off x="2743200" y="2814480"/>
            <a:ext cx="2895480" cy="1379160"/>
            <a:chOff x="2743200" y="2814480"/>
            <a:chExt cx="2895480" cy="1379160"/>
          </a:xfrm>
        </p:grpSpPr>
        <p:sp>
          <p:nvSpPr>
            <p:cNvPr id="625" name="Text Box 8"/>
            <p:cNvSpPr/>
            <p:nvPr/>
          </p:nvSpPr>
          <p:spPr>
            <a:xfrm>
              <a:off x="2743200" y="3276720"/>
              <a:ext cx="2895480" cy="91692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ertificado válido y en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6" name="AutoShape 9"/>
            <p:cNvCxnSpPr>
              <a:stCxn id="622" idx="2"/>
              <a:endCxn id="625" idx="0"/>
            </p:cNvCxnSpPr>
            <p:nvPr/>
          </p:nvCxnSpPr>
          <p:spPr>
            <a:xfrm>
              <a:off x="4190760" y="2814480"/>
              <a:ext cx="1080" cy="462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7" name="Group 10"/>
          <p:cNvGrpSpPr/>
          <p:nvPr/>
        </p:nvGrpSpPr>
        <p:grpSpPr>
          <a:xfrm>
            <a:off x="5638320" y="3809880"/>
            <a:ext cx="3048480" cy="642600"/>
            <a:chOff x="5638320" y="3809880"/>
            <a:chExt cx="3048480" cy="642600"/>
          </a:xfrm>
        </p:grpSpPr>
        <p:sp>
          <p:nvSpPr>
            <p:cNvPr id="628" name="Text Box 11"/>
            <p:cNvSpPr/>
            <p:nvPr/>
          </p:nvSpPr>
          <p:spPr>
            <a:xfrm>
              <a:off x="6400800" y="3809880"/>
              <a:ext cx="2286000" cy="6426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Llave privada compromet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9" name="AutoShape 12"/>
            <p:cNvCxnSpPr>
              <a:stCxn id="625" idx="3"/>
              <a:endCxn id="628" idx="1"/>
            </p:cNvCxnSpPr>
            <p:nvPr/>
          </p:nvCxnSpPr>
          <p:spPr>
            <a:xfrm>
              <a:off x="5638320" y="3876840"/>
              <a:ext cx="762840" cy="259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0" name="Group 13"/>
          <p:cNvGrpSpPr/>
          <p:nvPr/>
        </p:nvGrpSpPr>
        <p:grpSpPr>
          <a:xfrm>
            <a:off x="2743200" y="4476240"/>
            <a:ext cx="2895480" cy="844920"/>
            <a:chOff x="2743200" y="4476240"/>
            <a:chExt cx="2895480" cy="844920"/>
          </a:xfrm>
        </p:grpSpPr>
        <p:sp>
          <p:nvSpPr>
            <p:cNvPr id="631" name="Text Box 14"/>
            <p:cNvSpPr/>
            <p:nvPr/>
          </p:nvSpPr>
          <p:spPr>
            <a:xfrm>
              <a:off x="2743200" y="4952880"/>
              <a:ext cx="2895480" cy="368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ertificado expi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2" name="AutoShape 15"/>
            <p:cNvCxnSpPr>
              <a:stCxn id="625" idx="2"/>
              <a:endCxn id="631" idx="0"/>
            </p:cNvCxnSpPr>
            <p:nvPr/>
          </p:nvCxnSpPr>
          <p:spPr>
            <a:xfrm>
              <a:off x="4190760" y="4476240"/>
              <a:ext cx="1080" cy="4770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3" name="Group 16"/>
          <p:cNvGrpSpPr/>
          <p:nvPr/>
        </p:nvGrpSpPr>
        <p:grpSpPr>
          <a:xfrm>
            <a:off x="1295280" y="2626920"/>
            <a:ext cx="1448280" cy="2514960"/>
            <a:chOff x="1295280" y="2626920"/>
            <a:chExt cx="1448280" cy="2514960"/>
          </a:xfrm>
        </p:grpSpPr>
        <p:cxnSp>
          <p:nvCxnSpPr>
            <p:cNvPr id="634" name="AutoShape 17"/>
            <p:cNvCxnSpPr>
              <a:stCxn id="631" idx="1"/>
              <a:endCxn id="635" idx="2"/>
            </p:cNvCxnSpPr>
            <p:nvPr/>
          </p:nvCxnSpPr>
          <p:spPr>
            <a:xfrm rot="10800000">
              <a:off x="1904400" y="3956760"/>
              <a:ext cx="838800" cy="118512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5" name="Text Box 18"/>
            <p:cNvSpPr/>
            <p:nvPr/>
          </p:nvSpPr>
          <p:spPr>
            <a:xfrm>
              <a:off x="1295280" y="3581280"/>
              <a:ext cx="1219320" cy="3070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certific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6" name="AutoShape 19"/>
            <p:cNvCxnSpPr>
              <a:stCxn id="635" idx="0"/>
              <a:endCxn id="622" idx="1"/>
            </p:cNvCxnSpPr>
            <p:nvPr/>
          </p:nvCxnSpPr>
          <p:spPr>
            <a:xfrm flipH="1" flipV="1" rot="5400000">
              <a:off x="1846800" y="2684880"/>
              <a:ext cx="954720" cy="8388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7" name="Group 20"/>
          <p:cNvGrpSpPr/>
          <p:nvPr/>
        </p:nvGrpSpPr>
        <p:grpSpPr>
          <a:xfrm>
            <a:off x="570960" y="4460400"/>
            <a:ext cx="8115840" cy="1788120"/>
            <a:chOff x="570960" y="4460400"/>
            <a:chExt cx="8115840" cy="1788120"/>
          </a:xfrm>
        </p:grpSpPr>
        <p:sp>
          <p:nvSpPr>
            <p:cNvPr id="638" name="Text Box 21"/>
            <p:cNvSpPr/>
            <p:nvPr/>
          </p:nvSpPr>
          <p:spPr>
            <a:xfrm>
              <a:off x="6400800" y="4952880"/>
              <a:ext cx="2286000" cy="64260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Certificado revoc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9" name="AutoShape 22"/>
            <p:cNvCxnSpPr>
              <a:stCxn id="628" idx="2"/>
              <a:endCxn id="638" idx="0"/>
            </p:cNvCxnSpPr>
            <p:nvPr/>
          </p:nvCxnSpPr>
          <p:spPr>
            <a:xfrm>
              <a:off x="7543440" y="4460400"/>
              <a:ext cx="1080" cy="492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0" name="AutoShape 23"/>
            <p:cNvCxnSpPr>
              <a:stCxn id="638" idx="2"/>
              <a:endCxn id="641" idx="4"/>
            </p:cNvCxnSpPr>
            <p:nvPr/>
          </p:nvCxnSpPr>
          <p:spPr>
            <a:xfrm rot="5400000">
              <a:off x="3849840" y="2324520"/>
              <a:ext cx="415080" cy="6972840"/>
            </a:xfrm>
            <a:prstGeom prst="bentConnector3">
              <a:avLst>
                <a:gd name="adj1" fmla="val 15555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2" name="Group 24"/>
          <p:cNvGrpSpPr/>
          <p:nvPr/>
        </p:nvGrpSpPr>
        <p:grpSpPr>
          <a:xfrm>
            <a:off x="2743200" y="5329080"/>
            <a:ext cx="2895480" cy="830520"/>
            <a:chOff x="2743200" y="5329080"/>
            <a:chExt cx="2895480" cy="830520"/>
          </a:xfrm>
        </p:grpSpPr>
        <p:sp>
          <p:nvSpPr>
            <p:cNvPr id="643" name="Text Box 25"/>
            <p:cNvSpPr/>
            <p:nvPr/>
          </p:nvSpPr>
          <p:spPr>
            <a:xfrm>
              <a:off x="2743200" y="5791320"/>
              <a:ext cx="2895480" cy="368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Llaves expira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4" name="AutoShape 26"/>
            <p:cNvCxnSpPr>
              <a:stCxn id="631" idx="2"/>
              <a:endCxn id="643" idx="0"/>
            </p:cNvCxnSpPr>
            <p:nvPr/>
          </p:nvCxnSpPr>
          <p:spPr>
            <a:xfrm>
              <a:off x="4190760" y="5329080"/>
              <a:ext cx="1080" cy="462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45" name="Group 27"/>
          <p:cNvGrpSpPr/>
          <p:nvPr/>
        </p:nvGrpSpPr>
        <p:grpSpPr>
          <a:xfrm>
            <a:off x="533160" y="1712520"/>
            <a:ext cx="2210040" cy="4307400"/>
            <a:chOff x="533160" y="1712520"/>
            <a:chExt cx="2210040" cy="4307400"/>
          </a:xfrm>
        </p:grpSpPr>
        <p:cxnSp>
          <p:nvCxnSpPr>
            <p:cNvPr id="646" name="AutoShape 28"/>
            <p:cNvCxnSpPr>
              <a:stCxn id="643" idx="1"/>
              <a:endCxn id="641" idx="2"/>
            </p:cNvCxnSpPr>
            <p:nvPr/>
          </p:nvCxnSpPr>
          <p:spPr>
            <a:xfrm flipH="1" flipV="1">
              <a:off x="608760" y="5979240"/>
              <a:ext cx="2134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1" name="Oval 29"/>
            <p:cNvSpPr/>
            <p:nvPr/>
          </p:nvSpPr>
          <p:spPr>
            <a:xfrm flipH="1">
              <a:off x="532800" y="5943600"/>
              <a:ext cx="75960" cy="7632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7" name="AutoShape 30"/>
            <p:cNvCxnSpPr>
              <a:stCxn id="641" idx="0"/>
              <a:endCxn id="620" idx="1"/>
            </p:cNvCxnSpPr>
            <p:nvPr/>
          </p:nvCxnSpPr>
          <p:spPr>
            <a:xfrm flipH="1" flipV="1" rot="5400000">
              <a:off x="-458280" y="2742120"/>
              <a:ext cx="4231440" cy="21718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ertificado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ias compañías comerciales producen AC: Nortel, GTE  y VeriSign entre otras. La más dominante en el mercado es esta últ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ás de 35K sitios comerciales WEB utilizaban certificados Verisign en los no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ás de un millón de certificados han sido expedidos a navegadores Netscape y de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Times New Roman"/>
              </a:rPr>
              <a:t>El certificado clase 1 De Verisign cuesta $14.95 USD al año. Existe una edición de 60 días de pru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ertificado X.5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Picture 5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16256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69343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ista de Revocación de 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ertific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Picture 5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4730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259092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1. Entorno de una Autoridad Certific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ertificado T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259092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1. Entorno de una Autoridad Certific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Generación de certificado X.50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utenticación: Mecanis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 autenticación asegura que la identidad de los participantes sea verdadera. Se pueden evaluar tres aspectos para autenticar usuar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imes New Roman"/>
              </a:rPr>
              <a:t>verificar algo que el usuario </a:t>
            </a:r>
            <a:r>
              <a:rPr b="0" i="1" lang="es-MX" sz="2800" spc="-1" strike="noStrike">
                <a:solidFill>
                  <a:srgbClr val="3333cc"/>
                </a:solidFill>
                <a:latin typeface="Times New Roman"/>
              </a:rPr>
              <a:t>tiene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imes New Roman"/>
              </a:rPr>
              <a:t>poner a prueba al usuario sobre algo que </a:t>
            </a:r>
            <a:r>
              <a:rPr b="0" i="1" lang="es-MX" sz="2800" spc="-1" strike="noStrike">
                <a:solidFill>
                  <a:srgbClr val="3333cc"/>
                </a:solidFill>
                <a:latin typeface="Times New Roman"/>
              </a:rPr>
              <a:t>sabe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</a:rPr>
              <a:t>, esto es, pedirle una contraseña 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</a:rPr>
              <a:t>verificar algo que el usuario </a:t>
            </a:r>
            <a:r>
              <a:rPr b="0" i="1" lang="es-MX" sz="2800" spc="-1" strike="noStrike">
                <a:solidFill>
                  <a:srgbClr val="3333cc"/>
                </a:solidFill>
                <a:latin typeface="Times New Roman"/>
              </a:rPr>
              <a:t>es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</a:rPr>
              <a:t>, por ejemplo, analizar sus huellas dactilares o su ret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259092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1. Entorno de una Autoridad Certific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paración de componentes de un certificado X.5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4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92468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259092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1. Entorno de una Autoridad Certific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Firma de Certifi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4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0722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2"/>
          <p:cNvSpPr/>
          <p:nvPr/>
        </p:nvSpPr>
        <p:spPr>
          <a:xfrm>
            <a:off x="259092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ig. 1. Entorno de una Autoridad Certific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Verificación de certificado dig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Picture 4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858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nfidencialidad con llave públ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2666880" y="2971800"/>
            <a:ext cx="335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6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92468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257800" cy="10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unciones  H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373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90720" indent="-533520" algn="just">
              <a:lnSpc>
                <a:spcPct val="120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oducen huellas digitales de longitud fija para documentos de longitud arbitraria. De esta manera producen información útil para detectar modificaciones malici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20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raducen contraseñas a salidas de longitud f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20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ueden ser utilizadas para producir números alea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20000"/>
              </a:lnSpc>
              <a:spcAft>
                <a:spcPts val="1089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oveen autenticación básica a través de la funcionalidad MAC [Message Authentication Cod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 algn="just">
              <a:lnSpc>
                <a:spcPct val="120000"/>
              </a:lnSpc>
              <a:spcAft>
                <a:spcPts val="1089"/>
              </a:spcAft>
              <a:buClr>
                <a:srgbClr val="00cc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cc99"/>
                </a:solidFill>
                <a:latin typeface="Times New Roman"/>
              </a:rPr>
              <a:t>Utilizadas como bloques básicas para firmas dig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91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quema básico de una función h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2666880" y="2971800"/>
            <a:ext cx="335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9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3674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btención de llave priv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2666880" y="2971800"/>
            <a:ext cx="335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4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2296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7053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eneración de números aleatorios con funciones h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2666880" y="2971800"/>
            <a:ext cx="335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4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2296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07:04:50Z</dcterms:created>
  <dc:creator>Pablo Turmero</dc:creator>
  <dc:description/>
  <dc:language>en-US</dc:language>
  <cp:lastModifiedBy>Pablo</cp:lastModifiedBy>
  <dcterms:modified xsi:type="dcterms:W3CDTF">2016-01-15T13:08:45Z</dcterms:modified>
  <cp:revision>163</cp:revision>
  <dc:subject/>
  <dc:title/>
</cp:coreProperties>
</file>