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jpeg" ContentType="image/jpeg"/>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E006E-2EBD-48A1-B205-6EEE52517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98EFC-AFFC-4C36-9E6C-C2235352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CF717-C564-448A-A6BD-0AC41968CA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99427-5D34-4325-B8FD-A4A333A949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B7B62B-97B0-4A01-93D1-79B8816712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DE06C-4C55-4182-8A73-643DC23E61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D31640-291F-4BC3-9A2E-1C7A1FA5E3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DEAF27-C69A-467A-8A93-19CF802866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041C1-F68D-4114-8BEC-2E1521AB71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C2C7DB-F53B-4F53-A0C7-CC4300C3AC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A0C5E2-A4AD-4F00-8950-D01F666597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BD8774-C1A5-4DFF-87F6-D9AE6E9E43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F8696-AAA5-40DE-9DC2-EEA635485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C138A2-FA75-4202-B99A-46FDB6FBE9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9E5698-5BE7-4386-B012-AEB15DEAFA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18A9F7-5081-45B6-9087-60141570D6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947CF1-2E3C-4DB1-88B3-5EF56A64C8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0A0E2F-4A76-4E69-916A-8481795EEF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967934-403E-4265-9C43-63BB4AD0C0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3A5431-A7DD-4EC6-96F8-DCDA4301EF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84BD7E-A85E-4CFA-A356-32429EE2AD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7BEC1A-52D9-49E4-8A9B-ECA9350D65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01E44C-3223-4228-8826-B6858437F9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7E46F-E8D1-4CB9-800F-1CF4B05D7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24F674A-9D52-407C-B221-BE74142273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606013-0AC3-41F0-8D58-8DB12360DA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7CA1A3-9619-4728-8D0D-05862B65B3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7846B6-A28E-472D-AA07-9FF3DB918D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0D4CD2-E903-4C86-BD73-AAB1E8C44D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19660D-F3AD-472B-8EB8-CBC2DECB32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5E3101-EDD8-404C-8B48-68A0445E1A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7D1C3E-BA37-4113-86E5-D94C6BF90D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7C4BC5-E865-4721-A76F-31D7EBB599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641639-2711-4535-8998-545AB82C83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B6DEB9-6F66-4535-8C93-47D93C5B7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053ACF-3768-407E-9978-0749272357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6376F9-E28F-4CCB-8BE7-1BF94DA886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35A0AB-D74F-402C-AB40-8262FC3E36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CE69B3-1520-4C31-93F2-6FED191573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2E734E-26BC-4254-9960-3ED8BE3814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C7E807-8FD6-491B-B830-2982FFD467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0EA57D-5FFB-4873-8937-281DAE20CB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03CA61-BDC6-4ADA-882E-5DCCC37C6F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385D76-9960-4BB5-AE78-ECF6A95250B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24B9BE-46E1-44DB-8AD2-9C84AA47AC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87097-4D25-48EA-A606-F39D77352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ED1FAD-2EF8-463E-AC83-7976C84095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5A9559-7B42-42F0-8327-9919147D1D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B9633A-2C12-4DCB-9545-10B898A4B9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634C1D-1608-45A5-866A-273545E78D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CFBA30-A9AF-4359-AE3B-0B1BD388E14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7275FC-5262-4BCE-B38E-15AFFEB9C9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C0C1C9-7630-4E6D-87C1-15807D96D2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FD4F1B-7FAA-489F-A259-4396992740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3248CAF-D213-4507-AD0F-E1940EE285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F414AF-50C4-4831-86CC-B30570F3BF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C6DEA-A0EB-4A80-9BD1-C24B77620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E23575-9A36-4115-AF9F-CE61738D05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AF12CA-F67E-4C93-8678-CD0DF30A88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D49924-EAD1-413B-948D-AF6ADCBC37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10B0AF-5F71-4DE2-85E4-0084CDD7BC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06C596-C7D3-4038-8C03-617EE6CD14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360C1E3-B35B-4EA2-BFC8-0B9A427DC4C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545FF5-0239-430A-97FD-3D657D437CC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733E7-ECF0-4C1B-BD01-39BCDED49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9F361-FEC9-46B3-93FB-1CDA0D4B9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D04D1-EB37-4844-9B7E-AB5BE3D1E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F0298-1708-40E5-A5B4-53D77DBCB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ABD7-BEB4-41EB-A73F-B333CF1B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83A57-1732-43DD-AC56-D9EAF8BCE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B7F1-B85F-4266-8FC6-45F3A3DD5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4385A-CE82-4F3A-B454-9C2A917CA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A64D0-C393-41EC-8FD6-FC5551DE7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8F62A-700C-4C8A-8945-6932A3D9E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4DD90-9858-44EC-B1CD-C3132645E9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5531C-BCCF-44CF-BEAB-4267DD30F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10EAD4-B733-4242-96FA-1773FF035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B01FCD-C5FD-434C-9725-8AA7A2777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1D70CD-1D55-4D7A-A9FA-9BE462D4C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03E6F-CD11-453F-BD0E-5C17D7B5E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3C4C59-A4B5-4FB0-8AC0-F8C63C191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525A9-48B3-41A2-9020-B1DA6376D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B723ED-1A1C-4225-982A-66A6598BE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969AE0-5DB7-4892-A90B-CC9249CDA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7CA42-1B13-41E5-B20D-38E9ED4162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76F89-64DE-40E5-B02E-2DEC7CE027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6EB9B-4A8E-43E5-B0FD-812AD1B89A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2BE809-6025-404F-9874-7A755C404D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2D030-131F-487B-9F75-4BD0B6115F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224BA-A044-459D-A06A-3F937809F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E3C9-B8DB-4D20-94F6-260313FF2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1E8F18-120F-4B13-B69C-20CE248E7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3D46C-FE5B-4CB8-8A11-D8AC35DFB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E46FE-3993-471F-96C0-5FC63BE1F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27196-65BB-4D63-9429-BF988826B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ABF4D-0B43-43D6-BAFA-2AF3CC00B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DAE7AA-13FE-4965-8F78-FCF5DDFC0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AF2FD-3E9E-449A-9F5E-C3EE2D6EA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E6D56-9AE2-43AB-BF0C-E2A964068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DCA01C-0B55-424D-AF71-57F75E96B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A39754-2C51-47DB-AD6C-0486A49FAC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6673-67A5-4BFE-9AD2-186A57237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C0A15-8DCA-475F-8C7F-05083DB42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F02443-2EA6-4B89-A634-A4A1F101D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626E23-343B-45B6-AF1D-98FB3D3E2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15151-349A-4C8D-864C-2DEF68BCE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02969-4A00-44BF-9AFB-E9F0FCDB82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5AC69-4360-4619-B5FC-4D605A4BB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18EE9-C229-4AB3-A24B-2104D28E6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05CC8-817B-415F-A868-08E088BD7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FB9A2-B0B9-47E5-B9E5-8A731B3F0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1884B9-EF07-4E46-93BC-5CEA21B264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92FC-BF01-4BE2-B509-5C5CD695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C0DA33-5F38-4240-997C-931A029744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135C32-902C-4B21-84BF-8AA83AF84D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06BCE-D8A5-489B-834E-0085CC334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680B30-BB93-4727-A801-85E8C5269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DBF33-1955-4ABC-A439-4E84B9C56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22E6F7-6820-4CA7-A289-ED1FBF34FA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DEC1F7-E8D3-4AC7-B147-4CFE50C99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E582E-5C71-49AD-9D5A-86A37F8447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6A5154-AF7D-41B2-8E0D-8F4140284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6B394-B66E-4359-9602-35AA9C8E1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DCBB2-DB6D-490F-9CC3-1A98B8FF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22B43-B630-4554-8A9C-A757996BD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3745A1-90B0-44D9-A2EB-7A7929B25F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8BF2F0-9925-43BF-A106-7FA5D26194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3D0A33-1826-41DC-87D4-4ACE8D6B85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FE23B2-B4AE-4ABA-B07B-9B262B2B2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E35DE-2714-49B1-BCD3-59571C8A5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2432F-F99D-42E0-A53D-E7B4C01FB5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78CC7F-9D77-4B6B-9B96-2082FEEC0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C18B73-C7EC-43FA-A20C-9BB7723724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857215-F565-4E9B-B72D-FD4917AE2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7116-B6E3-44C4-BBAB-637DDA151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1CF7C-8341-4ADC-872B-2AD2A70103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33E54-B470-4988-A0CA-05722DD8D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FBB731-BA21-4C4F-A6F4-AC30326E0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1CD62C-9335-4FC7-B1B4-BE88CD41E9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357DC7-59F8-42F4-8484-8EB927E12B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D70750-EBEB-4C23-92A3-67D6D1A1C8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CB28AE-46A0-408A-8C57-D22F790C38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D1782A-2747-4818-B413-439117083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62B216-E6B4-454B-BF62-970943DA5D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C0EBB-A3BE-486D-A3DF-D9F217F459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DF44-E9D9-412E-A7A5-D011B55E3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8A393E-F1C5-404C-B94B-ADF432A27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2742A-ADB1-460B-8215-6575DFBB8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35D0F-2B30-4D1E-9F01-87700439DA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30152-0D5A-4F59-8390-E50CD1452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62E32-4EF9-4019-B6AF-659BEF1DC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A39D2E-7D4B-4D18-892F-4C8E419385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04AAC4-F6C8-44D8-BA7A-BD1DB33A0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E6A011-BCEE-40A9-9B8C-3304DFC2A2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6CB158-5E74-450E-82FE-1ED8B23AD1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C86D14-F62C-4E68-9418-6A8ED90022F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BF78-F6D6-4260-8D18-4BB4D7C7BFF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C9A7-BBA8-46CB-B205-49C083B6CBF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5117-DC23-4BBB-B245-C567C9EAA8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7737-755E-4F92-82B2-3AF76BDAA3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3223-694B-4874-B146-EB7B9E7B6FB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4953-7F20-4455-8163-EF6BA4B5FE4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0A56-E827-4039-9272-9C1231DA4A0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3DB9-3E03-402D-8C2E-445007EE3A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179A-1175-42EF-924B-99FD3C7003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95A5-EEAE-45D9-BAFA-B756744C60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26EF-48DC-40E4-8D81-F3B2D02790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1D2E-1790-43DD-9072-383C28FF336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615A-420E-4ADE-ABB5-A50EB5B0BC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6668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imes New Roman"/>
                <a:ea typeface="Times New Roman"/>
              </a:rPr>
              <a:t>El procesamiento óptico y las computadoras ópticas</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ohn Von Newmann, de la Universidad de Princeton, propuso usar una sola memoria tanto para datos como para programa. Con ello se optimiza el uso de la memoria.</a:t>
            </a:r>
            <a:endParaRPr b="0" lang="en-US" sz="2800" spc="-1" strike="noStrike">
              <a:solidFill>
                <a:srgbClr val="000000"/>
              </a:solidFill>
              <a:latin typeface="Times New Roman"/>
            </a:endParaRPr>
          </a:p>
        </p:txBody>
      </p:sp>
      <p:graphicFrame>
        <p:nvGraphicFramePr>
          <p:cNvPr id="554" name="Object 5"/>
          <p:cNvGraphicFramePr/>
          <p:nvPr/>
        </p:nvGraphicFramePr>
        <p:xfrm>
          <a:off x="4648320" y="2957400"/>
          <a:ext cx="3809880" cy="2160720"/>
        </p:xfrm>
        <a:graphic>
          <a:graphicData uri="http://schemas.openxmlformats.org/presentationml/2006/ole">
            <p:oleObj r:id="rId1" spid="">
              <p:embed/>
              <p:pic>
                <p:nvPicPr>
                  <p:cNvPr id="555" name="Object 5" descr=""/>
                  <p:cNvPicPr/>
                  <p:nvPr/>
                </p:nvPicPr>
                <p:blipFill>
                  <a:blip r:embed="rId2"/>
                  <a:stretch/>
                </p:blipFill>
                <p:spPr>
                  <a:xfrm>
                    <a:off x="4648320" y="2957400"/>
                    <a:ext cx="3809880" cy="21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la actualidad, prácticamente todas las computadoras son del tipo Von Newma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sta arquitectura sufre del “Cuello de botella de Von Newmann”. Ya que sólo puede direccionar un dato a la ve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comparásemos una central telefónica a una máquina Von Newmann, en una central solo se podría realizar una conferencia a la vez.</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centrales telefónicas se conectan mediante alambres individuales con la central telefónica. Por ello, puede haber cientos de conversaciones simultánea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centrales trabajaran de acuerdo a la arquitectura Von Newmann, solo habría un alambre y una conversación telefónica.</a:t>
            </a:r>
            <a:endParaRPr b="0" lang="en-US" sz="2400" spc="-1" strike="noStrike">
              <a:solidFill>
                <a:srgbClr val="000000"/>
              </a:solidFill>
              <a:latin typeface="Times New Roman"/>
            </a:endParaRPr>
          </a:p>
        </p:txBody>
      </p:sp>
      <p:graphicFrame>
        <p:nvGraphicFramePr>
          <p:cNvPr id="558" name="Object 4"/>
          <p:cNvGraphicFramePr/>
          <p:nvPr/>
        </p:nvGraphicFramePr>
        <p:xfrm>
          <a:off x="5334120" y="2133720"/>
          <a:ext cx="2590560" cy="3809880"/>
        </p:xfrm>
        <a:graphic>
          <a:graphicData uri="http://schemas.openxmlformats.org/presentationml/2006/ole">
            <p:oleObj r:id="rId1" spid="">
              <p:embed/>
              <p:pic>
                <p:nvPicPr>
                  <p:cNvPr id="559" name="Object 4" descr=""/>
                  <p:cNvPicPr/>
                  <p:nvPr/>
                </p:nvPicPr>
                <p:blipFill>
                  <a:blip r:embed="rId2"/>
                  <a:stretch/>
                </p:blipFill>
                <p:spPr>
                  <a:xfrm>
                    <a:off x="5334120" y="2133720"/>
                    <a:ext cx="259056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oda máquina secuencial requiere de un “marcapaso” que indique cada cuándo se debe ejecutar una instrucción básic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diseñadores de computadoras buscan la más alta velocidad de ejecución, limitada por la construcción de las compon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omputadoras electrónicas, el reloj lo marca un oscilador de cuarzo, de precisión muy alta (una parte en 10</a:t>
            </a:r>
            <a:r>
              <a:rPr b="0" lang="es-ES_tradnl" sz="2800" spc="-1" strike="noStrike" baseline="30000">
                <a:solidFill>
                  <a:srgbClr val="000000"/>
                </a:solidFill>
                <a:latin typeface="Times New Roman"/>
              </a:rPr>
              <a:t>6</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arte de el recurso de aumentar la frecuencia de oscilación del reloj, la velocidad de una computadora se puede incrementar utilizando varios procesadores que trabajan concurrentemen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problema ahora es la sincronización de los diversos procesado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seguida, se describen algunas de las arquitecturas más comunes de computadoras multiprocesad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computadoras multiprocesadores en “Pipeline” o líneas de ensamble, se configura en una línea donde cada procesador realiza una operación única sobre un conjunto de datos.</a:t>
            </a:r>
            <a:endParaRPr b="0" lang="en-US" sz="2800" spc="-1" strike="noStrike">
              <a:solidFill>
                <a:srgbClr val="000000"/>
              </a:solidFill>
              <a:latin typeface="Times New Roman"/>
            </a:endParaRPr>
          </a:p>
        </p:txBody>
      </p:sp>
      <p:graphicFrame>
        <p:nvGraphicFramePr>
          <p:cNvPr id="563" name="Object 4"/>
          <p:cNvGraphicFramePr/>
          <p:nvPr/>
        </p:nvGraphicFramePr>
        <p:xfrm>
          <a:off x="4648320" y="3706920"/>
          <a:ext cx="3809880" cy="662040"/>
        </p:xfrm>
        <a:graphic>
          <a:graphicData uri="http://schemas.openxmlformats.org/presentationml/2006/ole">
            <p:oleObj r:id="rId1" spid="">
              <p:embed/>
              <p:pic>
                <p:nvPicPr>
                  <p:cNvPr id="564" name="Object 4" descr=""/>
                  <p:cNvPicPr/>
                  <p:nvPr/>
                </p:nvPicPr>
                <p:blipFill>
                  <a:blip r:embed="rId2"/>
                  <a:stretch/>
                </p:blipFill>
                <p:spPr>
                  <a:xfrm>
                    <a:off x="4648320" y="3706920"/>
                    <a:ext cx="380988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computadoras multiprocesadores en paralelo efectúan las mismas operaciones a un conjunto de datos en forma paralela. Los procesadores trabajan síncronamente.</a:t>
            </a:r>
            <a:endParaRPr b="0" lang="en-US" sz="2800" spc="-1" strike="noStrike">
              <a:solidFill>
                <a:srgbClr val="000000"/>
              </a:solidFill>
              <a:latin typeface="Times New Roman"/>
            </a:endParaRPr>
          </a:p>
        </p:txBody>
      </p:sp>
      <p:graphicFrame>
        <p:nvGraphicFramePr>
          <p:cNvPr id="566" name="Object 5"/>
          <p:cNvGraphicFramePr/>
          <p:nvPr/>
        </p:nvGraphicFramePr>
        <p:xfrm>
          <a:off x="4648320" y="2946240"/>
          <a:ext cx="3809880" cy="2184480"/>
        </p:xfrm>
        <a:graphic>
          <a:graphicData uri="http://schemas.openxmlformats.org/presentationml/2006/ole">
            <p:oleObj r:id="rId1" spid="">
              <p:embed/>
              <p:pic>
                <p:nvPicPr>
                  <p:cNvPr id="567" name="Object 5" descr=""/>
                  <p:cNvPicPr/>
                  <p:nvPr/>
                </p:nvPicPr>
                <p:blipFill>
                  <a:blip r:embed="rId2"/>
                  <a:stretch/>
                </p:blipFill>
                <p:spPr>
                  <a:xfrm>
                    <a:off x="4648320" y="2946240"/>
                    <a:ext cx="380988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computadoras multiprocesadores en arreglo, efectúan simultáneamente operaciones en pipeline y en paralelo.</a:t>
            </a:r>
            <a:endParaRPr b="0" lang="en-US" sz="2800" spc="-1" strike="noStrike">
              <a:solidFill>
                <a:srgbClr val="000000"/>
              </a:solidFill>
              <a:latin typeface="Times New Roman"/>
            </a:endParaRPr>
          </a:p>
        </p:txBody>
      </p:sp>
      <p:graphicFrame>
        <p:nvGraphicFramePr>
          <p:cNvPr id="569" name="Object 5"/>
          <p:cNvGraphicFramePr/>
          <p:nvPr/>
        </p:nvGraphicFramePr>
        <p:xfrm>
          <a:off x="4648320" y="3171960"/>
          <a:ext cx="3809880" cy="1733400"/>
        </p:xfrm>
        <a:graphic>
          <a:graphicData uri="http://schemas.openxmlformats.org/presentationml/2006/ole">
            <p:oleObj r:id="rId1" spid="">
              <p:embed/>
              <p:pic>
                <p:nvPicPr>
                  <p:cNvPr id="570" name="Object 5" descr=""/>
                  <p:cNvPicPr/>
                  <p:nvPr/>
                </p:nvPicPr>
                <p:blipFill>
                  <a:blip r:embed="rId2"/>
                  <a:stretch/>
                </p:blipFill>
                <p:spPr>
                  <a:xfrm>
                    <a:off x="4648320" y="3171960"/>
                    <a:ext cx="3809880" cy="173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computadoras multiprocesadores distribuidas, usan un procesador dedicado para realizar tareas específicas. Las PC aprovechan esta arquitectura para obtener una mayor potencia de cómputo.</a:t>
            </a:r>
            <a:endParaRPr b="0" lang="en-US" sz="2800" spc="-1" strike="noStrike">
              <a:solidFill>
                <a:srgbClr val="000000"/>
              </a:solidFill>
              <a:latin typeface="Times New Roman"/>
            </a:endParaRPr>
          </a:p>
        </p:txBody>
      </p:sp>
      <p:graphicFrame>
        <p:nvGraphicFramePr>
          <p:cNvPr id="572" name="Object 5"/>
          <p:cNvGraphicFramePr/>
          <p:nvPr/>
        </p:nvGraphicFramePr>
        <p:xfrm>
          <a:off x="5005440" y="1981080"/>
          <a:ext cx="3093840" cy="4114800"/>
        </p:xfrm>
        <a:graphic>
          <a:graphicData uri="http://schemas.openxmlformats.org/presentationml/2006/ole">
            <p:oleObj r:id="rId1" spid="">
              <p:embed/>
              <p:pic>
                <p:nvPicPr>
                  <p:cNvPr id="573" name="Object 5" descr=""/>
                  <p:cNvPicPr/>
                  <p:nvPr/>
                </p:nvPicPr>
                <p:blipFill>
                  <a:blip r:embed="rId2"/>
                  <a:stretch/>
                </p:blipFill>
                <p:spPr>
                  <a:xfrm>
                    <a:off x="5005440" y="1981080"/>
                    <a:ext cx="3093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cc99"/>
                </a:solidFill>
                <a:latin typeface="Times New Roman"/>
                <a:ea typeface="Times New Roman"/>
              </a:rPr>
              <a:t>Discusión 1</a:t>
            </a:r>
            <a:endParaRPr b="0" lang="en-US" sz="3200" spc="-1" strike="noStrike">
              <a:solidFill>
                <a:srgbClr val="000000"/>
              </a:solidFill>
              <a:latin typeface="Times New Roman"/>
            </a:endParaRPr>
          </a:p>
        </p:txBody>
      </p:sp>
      <p:sp>
        <p:nvSpPr>
          <p:cNvPr id="5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fabricante de cañones militares, le solicita a Ud. Tablas balística para diferentes ángulos de elevación y diferentes velocidades de salida del proyectil. Los cálculos se harán con calculadoras de bolsillo, por lo que se decide contratar cuarenta calculistas para realizar las operaciones. Discuta la manera de organizar los calculistas para realizar las operaciones. Analice el trabajo de coordinación, realizada por uno o más coordinadores designa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Máquinas secuenciales.</a:t>
            </a:r>
            <a:endParaRPr b="0" lang="en-US" sz="32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teoría de autómatas, las máquinas se dividen en combinatorias y secuenci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combinatoria es aquella que su resultado depende de las entradas al sistema únicam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máquina secuencial es aquella que su salida depende, además de sus entradas, de los estados anteriores del sistema (el sistema tiene memo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de ondas, segunda par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la misma manera que los vectores se pueden descomponer en componentes mutuamente ortogonales, las señales periódicas se pueden descomponer en “funciones ortogonales”, es decir funciones que son mutuamente independie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una señal periódica, las componentes mutuamente ortogonales son las funciones senoidales armónicas en múltiplos enteros más las funciones cosenoidales en múltiplos enteros, es decir:</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578" name="Object 4"/>
              <p:cNvSpPr txBox="1"/>
              <p:nvPr/>
            </p:nvSpPr>
            <p:spPr>
              <a:xfrm>
                <a:off x="1828800" y="4495680"/>
                <a:ext cx="5791320" cy="1081080"/>
              </a:xfrm>
              <a:prstGeom prst="rect">
                <a:avLst/>
              </a:prstGeom>
            </p:spPr>
            <p:txBody>
              <a:bodyPr/>
              <a:p>
                <a14:m>
                  <m:oMath xmlns:m="http://schemas.openxmlformats.org/officeDocument/2006/math">
                    <m:eqArr>
                      <m:e>
                        <m:r>
                          <m:rPr>
                            <m:lit/>
                            <m:nor/>
                          </m:rPr>
                          <m:t xml:space="preserve">sen</m:t>
                        </m:r>
                        <m:r>
                          <m:t xml:space="preserve"> </m:t>
                        </m:r>
                        <m:r>
                          <m:t xml:space="preserve">ωt</m:t>
                        </m:r>
                        <m:r>
                          <m:t xml:space="preserve"> </m:t>
                        </m:r>
                        <m:r>
                          <m:t xml:space="preserve">,</m:t>
                        </m:r>
                        <m:r>
                          <m:rPr>
                            <m:lit/>
                            <m:nor/>
                          </m:rPr>
                          <m:t xml:space="preserve">sen</m:t>
                        </m:r>
                        <m:r>
                          <m:t xml:space="preserve"> </m:t>
                        </m:r>
                        <m:r>
                          <m:t xml:space="preserve">2</m:t>
                        </m:r>
                        <m:r>
                          <m:t xml:space="preserve">ωt</m:t>
                        </m:r>
                        <m:r>
                          <m:t xml:space="preserve"> </m:t>
                        </m:r>
                        <m:r>
                          <m:t xml:space="preserve">,</m:t>
                        </m:r>
                        <m:r>
                          <m:t xml:space="preserve"> </m:t>
                        </m:r>
                        <m:r>
                          <m:rPr>
                            <m:lit/>
                            <m:nor/>
                          </m:rPr>
                          <m:t xml:space="preserve">sen</m:t>
                        </m:r>
                        <m:r>
                          <m:t xml:space="preserve"> </m:t>
                        </m:r>
                        <m:r>
                          <m:t xml:space="preserve">3</m:t>
                        </m:r>
                        <m:r>
                          <m:t xml:space="preserve">ωt</m:t>
                        </m:r>
                        <m:r>
                          <m:t xml:space="preserve">…</m:t>
                        </m:r>
                        <m:r>
                          <m:t xml:space="preserve"> </m:t>
                        </m:r>
                        <m:r>
                          <m:t xml:space="preserve">=</m:t>
                        </m:r>
                        <m:r>
                          <m:t xml:space="preserve"> </m:t>
                        </m:r>
                        <m:r>
                          <m:rPr>
                            <m:lit/>
                            <m:nor/>
                          </m:rPr>
                          <m:t xml:space="preserve">sen</m:t>
                        </m:r>
                        <m:r>
                          <m:t xml:space="preserve"> </m:t>
                        </m:r>
                        <m:r>
                          <m:t xml:space="preserve">nωt</m:t>
                        </m:r>
                      </m:e>
                      <m:e>
                        <m:r>
                          <m:rPr>
                            <m:lit/>
                            <m:nor/>
                          </m:rPr>
                          <m:t xml:space="preserve">cos</m:t>
                        </m:r>
                        <m:r>
                          <m:t xml:space="preserve"> </m:t>
                        </m:r>
                        <m:r>
                          <m:t xml:space="preserve">ωt</m:t>
                        </m:r>
                        <m:r>
                          <m:t xml:space="preserve"> </m:t>
                        </m:r>
                        <m:r>
                          <m:t xml:space="preserve">,</m:t>
                        </m:r>
                        <m:r>
                          <m:t xml:space="preserve"> </m:t>
                        </m:r>
                        <m:r>
                          <m:rPr>
                            <m:lit/>
                            <m:nor/>
                          </m:rPr>
                          <m:t xml:space="preserve">cos</m:t>
                        </m:r>
                        <m:r>
                          <m:t xml:space="preserve"> </m:t>
                        </m:r>
                        <m:r>
                          <m:t xml:space="preserve">2</m:t>
                        </m:r>
                        <m:r>
                          <m:t xml:space="preserve">ωt</m:t>
                        </m:r>
                        <m:r>
                          <m:t xml:space="preserve"> </m:t>
                        </m:r>
                        <m:r>
                          <m:t xml:space="preserve">,</m:t>
                        </m:r>
                        <m:r>
                          <m:t xml:space="preserve"> </m:t>
                        </m:r>
                        <m:r>
                          <m:rPr>
                            <m:lit/>
                            <m:nor/>
                          </m:rPr>
                          <m:t xml:space="preserve">cos</m:t>
                        </m:r>
                        <m:r>
                          <m:t xml:space="preserve"> </m:t>
                        </m:r>
                        <m:r>
                          <m:t xml:space="preserve">3</m:t>
                        </m:r>
                        <m:r>
                          <m:t xml:space="preserve">ωt</m:t>
                        </m:r>
                        <m:r>
                          <m:t xml:space="preserve">…</m:t>
                        </m:r>
                        <m:r>
                          <m:t xml:space="preserve"> </m:t>
                        </m:r>
                        <m:r>
                          <m:t xml:space="preserve">=</m:t>
                        </m:r>
                        <m:r>
                          <m:t xml:space="preserve"> </m:t>
                        </m:r>
                        <m:r>
                          <m:rPr>
                            <m:lit/>
                            <m:nor/>
                          </m:rPr>
                          <m:t xml:space="preserve">cos</m:t>
                        </m:r>
                        <m:r>
                          <m:t xml:space="preserve"> </m:t>
                        </m:r>
                        <m:r>
                          <m:t xml:space="preserve">nωt</m:t>
                        </m:r>
                      </m:e>
                    </m:eqAr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 ejemplo, una señal periódica cuadrada, se puede descomponer en sus componentes senoidales de la siguiente maner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580" name="Object 4"/>
          <p:cNvGraphicFramePr/>
          <p:nvPr/>
        </p:nvGraphicFramePr>
        <p:xfrm>
          <a:off x="4648320" y="2909880"/>
          <a:ext cx="3809880" cy="2255760"/>
        </p:xfrm>
        <a:graphic>
          <a:graphicData uri="http://schemas.openxmlformats.org/presentationml/2006/ole">
            <p:oleObj r:id="rId1" spid="">
              <p:embed/>
              <p:pic>
                <p:nvPicPr>
                  <p:cNvPr id="581" name="Object 4" descr=""/>
                  <p:cNvPicPr/>
                  <p:nvPr/>
                </p:nvPicPr>
                <p:blipFill>
                  <a:blip r:embed="rId2"/>
                  <a:stretch/>
                </p:blipFill>
                <p:spPr>
                  <a:xfrm>
                    <a:off x="4648320" y="2909880"/>
                    <a:ext cx="3809880" cy="2255760"/>
                  </a:xfrm>
                  <a:prstGeom prst="rect">
                    <a:avLst/>
                  </a:prstGeom>
                  <a:ln w="0">
                    <a:noFill/>
                  </a:ln>
                </p:spPr>
              </p:pic>
            </p:oleObj>
          </a:graphicData>
        </a:graphic>
      </p:graphicFrame>
      <mc:AlternateContent>
        <mc:Choice xmlns:a14="http://schemas.microsoft.com/office/drawing/2010/main" Requires="a14">
          <p:sp>
            <p:nvSpPr>
              <p:cNvPr id="582" name="Object 5"/>
              <p:cNvSpPr txBox="1"/>
              <p:nvPr/>
            </p:nvSpPr>
            <p:spPr>
              <a:xfrm>
                <a:off x="533520" y="5181480"/>
                <a:ext cx="3886200" cy="560520"/>
              </a:xfrm>
              <a:prstGeom prst="rect">
                <a:avLst/>
              </a:prstGeom>
            </p:spPr>
            <p:txBody>
              <a:bodyPr/>
              <a:p>
                <a14:m>
                  <m:oMath xmlns:m="http://schemas.openxmlformats.org/officeDocument/2006/math">
                    <m:r>
                      <m:rPr>
                        <m:lit/>
                        <m:nor/>
                      </m:rPr>
                      <m:t xml:space="preserve">cos</m:t>
                    </m:r>
                    <m:r>
                      <m:t xml:space="preserve"> </m:t>
                    </m:r>
                    <m:r>
                      <m:t xml:space="preserve">ωt</m:t>
                    </m:r>
                    <m:r>
                      <m:t xml:space="preserve"> </m:t>
                    </m:r>
                    <m:r>
                      <m:t xml:space="preserve">−</m:t>
                    </m:r>
                    <m:r>
                      <m:t xml:space="preserve"> </m:t>
                    </m:r>
                    <m:f>
                      <m:num>
                        <m:r>
                          <m:t xml:space="preserve">1</m:t>
                        </m:r>
                      </m:num>
                      <m:den>
                        <m:r>
                          <m:t xml:space="preserve">3</m:t>
                        </m:r>
                      </m:den>
                    </m:f>
                    <m:r>
                      <m:rPr>
                        <m:lit/>
                        <m:nor/>
                      </m:rPr>
                      <m:t xml:space="preserve">cos</m:t>
                    </m:r>
                    <m:r>
                      <m:t xml:space="preserve"> </m:t>
                    </m:r>
                    <m:r>
                      <m:t xml:space="preserve">3</m:t>
                    </m:r>
                    <m:r>
                      <m:t xml:space="preserve">ωt</m:t>
                    </m:r>
                    <m:r>
                      <m:t xml:space="preserve"> </m:t>
                    </m:r>
                    <m:r>
                      <m:t xml:space="preserve">+</m:t>
                    </m:r>
                    <m:r>
                      <m:t xml:space="preserve"> </m:t>
                    </m:r>
                    <m:f>
                      <m:num>
                        <m:r>
                          <m:t xml:space="preserve">1</m:t>
                        </m:r>
                      </m:num>
                      <m:den>
                        <m:r>
                          <m:t xml:space="preserve">5</m:t>
                        </m:r>
                      </m:den>
                    </m:f>
                    <m:r>
                      <m:t xml:space="preserve"> </m:t>
                    </m:r>
                    <m:r>
                      <m:rPr>
                        <m:lit/>
                        <m:nor/>
                      </m:rPr>
                      <m:t xml:space="preserve">cos</m:t>
                    </m:r>
                    <m:r>
                      <m:t xml:space="preserve"> </m:t>
                    </m:r>
                    <m:r>
                      <m:t xml:space="preserve">5</m:t>
                    </m:r>
                    <m:r>
                      <m:t xml:space="preserve">ωt</m:t>
                    </m:r>
                    <m:r>
                      <m:t xml:space="preserve"> </m:t>
                    </m:r>
                    <m:r>
                      <m:t xml:space="preserve">−</m:t>
                    </m:r>
                    <m:f>
                      <m:num>
                        <m:r>
                          <m:t xml:space="preserve">1</m:t>
                        </m:r>
                      </m:num>
                      <m:den>
                        <m:r>
                          <m:t xml:space="preserve">7</m:t>
                        </m:r>
                      </m:den>
                    </m:f>
                    <m:r>
                      <m:t xml:space="preserve"> </m:t>
                    </m:r>
                    <m:r>
                      <m:rPr>
                        <m:lit/>
                        <m:nor/>
                      </m:rPr>
                      <m:t xml:space="preserve">cos</m:t>
                    </m:r>
                    <m:r>
                      <m:t xml:space="preserve"> </m:t>
                    </m:r>
                    <m:r>
                      <m:t xml:space="preserve">7</m:t>
                    </m:r>
                    <m:r>
                      <m:t xml:space="preserve">ωt</m:t>
                    </m:r>
                    <m:r>
                      <m:t xml:space="preserve"> </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Hay dos maneras de describir una función periódica, la primera como una función que depende del tiempo. La ecuación resultante puede ser muy complicada, como en el caso de la función de pulso cuadr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ternativamente, una función se puede describir en término de sus componentes de frecuencia. Describir una señal armónica, requiere describir las amplitudes de sus componentes armó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dos gráficas de la derecha, describen la misma señal de pulso cuadrado. Una es función del tiempo, mientras que la segunda es función de la frecuencia.</a:t>
            </a:r>
            <a:endParaRPr b="0" lang="en-US" sz="2800" spc="-1" strike="noStrike">
              <a:solidFill>
                <a:srgbClr val="000000"/>
              </a:solidFill>
              <a:latin typeface="Times New Roman"/>
            </a:endParaRPr>
          </a:p>
        </p:txBody>
      </p:sp>
      <p:graphicFrame>
        <p:nvGraphicFramePr>
          <p:cNvPr id="585" name="Object 4"/>
          <p:cNvGraphicFramePr/>
          <p:nvPr/>
        </p:nvGraphicFramePr>
        <p:xfrm>
          <a:off x="4648320" y="2768760"/>
          <a:ext cx="3809880" cy="2538360"/>
        </p:xfrm>
        <a:graphic>
          <a:graphicData uri="http://schemas.openxmlformats.org/presentationml/2006/ole">
            <p:oleObj r:id="rId1" spid="">
              <p:embed/>
              <p:pic>
                <p:nvPicPr>
                  <p:cNvPr id="586" name="Object 4" descr=""/>
                  <p:cNvPicPr/>
                  <p:nvPr/>
                </p:nvPicPr>
                <p:blipFill>
                  <a:blip r:embed="rId2"/>
                  <a:stretch/>
                </p:blipFill>
                <p:spPr>
                  <a:xfrm>
                    <a:off x="4648320" y="2768760"/>
                    <a:ext cx="3809880" cy="253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PlaceHolder 1"/>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ontenido armónico de una señal de audio, distingue los tonos provenientes de diferentes instrumentos musicales. El oído distingue un piano de un violín y una flauta gracias al contenido armónico que es diferente para cada instrument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caso de la luz, los colores del espectro (arcoiris ) son las componentes fundamentales de la luz. El color de un objeto depende del contenido de las diferentes componentes de luz espectral. La luz blanca es el resultado de mezclar todos los colores del espect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cc99"/>
                </a:solidFill>
                <a:latin typeface="Times New Roman"/>
                <a:ea typeface="Times New Roman"/>
              </a:rPr>
              <a:t>Discusión 2</a:t>
            </a:r>
            <a:endParaRPr b="0" lang="en-US" sz="3200" spc="-1" strike="noStrike">
              <a:solidFill>
                <a:srgbClr val="000000"/>
              </a:solidFill>
              <a:latin typeface="Times New Roman"/>
            </a:endParaRPr>
          </a:p>
        </p:txBody>
      </p:sp>
      <p:sp>
        <p:nvSpPr>
          <p:cNvPr id="5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criba un dispositivo que proporciona las componentes de una oscilación de ondas electromagnét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criba un dispositivo que proporciona las componentes de una oscilación de au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uta la utilidad de conocer las componentes en frecuencia de una señal de au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uta la utilidad de conocer las componentes en frecuencia de una señal sísm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finición:  Una máquina secuencial es aquella que realiza una serie de operaciones una tras otra en el tiemp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operaciones pueden ser diferentes dependiendo del estado de la máqu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ejemplo de máquina combinatoria es un candado de números. El candado se abrirá cuando coloquemos el número correcto, sin importar el orden en que se colocar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andado secuencial es un candado que para abrirlo, se requiere hacerlo en el orden correcto.</a:t>
            </a:r>
            <a:endParaRPr b="0" lang="en-US" sz="2400" spc="-1" strike="noStrike">
              <a:solidFill>
                <a:srgbClr val="000000"/>
              </a:solidFill>
              <a:latin typeface="Times New Roman"/>
            </a:endParaRPr>
          </a:p>
        </p:txBody>
      </p:sp>
      <p:graphicFrame>
        <p:nvGraphicFramePr>
          <p:cNvPr id="538" name="Object 4"/>
          <p:cNvGraphicFramePr/>
          <p:nvPr/>
        </p:nvGraphicFramePr>
        <p:xfrm>
          <a:off x="4648320" y="2735280"/>
          <a:ext cx="3809880" cy="2606760"/>
        </p:xfrm>
        <a:graphic>
          <a:graphicData uri="http://schemas.openxmlformats.org/presentationml/2006/ole">
            <p:oleObj r:id="rId1" spid="">
              <p:embed/>
              <p:pic>
                <p:nvPicPr>
                  <p:cNvPr id="539" name="Object 4" descr=""/>
                  <p:cNvPicPr/>
                  <p:nvPr/>
                </p:nvPicPr>
                <p:blipFill>
                  <a:blip r:embed="rId2"/>
                  <a:stretch/>
                </p:blipFill>
                <p:spPr>
                  <a:xfrm>
                    <a:off x="4648320" y="2735280"/>
                    <a:ext cx="3809880" cy="26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a unidad aritmética aislada, es como una calculadora de bolsillo, solo puede realizar un cálculo a la vez.</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ra que una calculadora se convierta en una computadora programable, hay que asociarle a ella una máquina secuencial, que realice operaciones encaden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de las primeras máquinas secuenciales fue el telar de Jacquard, que en 1804, hacía diseños de telas programados en tarjetas perforadas.</a:t>
            </a:r>
            <a:endParaRPr b="0" lang="en-US" sz="2800" spc="-1" strike="noStrike">
              <a:solidFill>
                <a:srgbClr val="000000"/>
              </a:solidFill>
              <a:latin typeface="Times New Roman"/>
            </a:endParaRPr>
          </a:p>
        </p:txBody>
      </p:sp>
      <p:graphicFrame>
        <p:nvGraphicFramePr>
          <p:cNvPr id="542" name="Object 4"/>
          <p:cNvGraphicFramePr/>
          <p:nvPr/>
        </p:nvGraphicFramePr>
        <p:xfrm>
          <a:off x="5035680" y="1981080"/>
          <a:ext cx="3033720" cy="4114800"/>
        </p:xfrm>
        <a:graphic>
          <a:graphicData uri="http://schemas.openxmlformats.org/presentationml/2006/ole">
            <p:oleObj r:id="rId1" spid="">
              <p:embed/>
              <p:pic>
                <p:nvPicPr>
                  <p:cNvPr id="543" name="Object 4" descr=""/>
                  <p:cNvPicPr/>
                  <p:nvPr/>
                </p:nvPicPr>
                <p:blipFill>
                  <a:blip r:embed="rId2"/>
                  <a:stretch/>
                </p:blipFill>
                <p:spPr>
                  <a:xfrm>
                    <a:off x="5035680" y="1981080"/>
                    <a:ext cx="3033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ia 1822, el inglés Charles Babbage, combina las tarjetas perforadas del telar de Jacquard con una calculadora mecánica, para iniciar la construcción de la “Máquina diferencial” para hacer cálculos astronómicos y científicos repetitivos.</a:t>
            </a:r>
            <a:endParaRPr b="0" lang="en-US" sz="2400" spc="-1" strike="noStrike">
              <a:solidFill>
                <a:srgbClr val="000000"/>
              </a:solidFill>
              <a:latin typeface="Times New Roman"/>
            </a:endParaRPr>
          </a:p>
        </p:txBody>
      </p:sp>
      <p:graphicFrame>
        <p:nvGraphicFramePr>
          <p:cNvPr id="545" name="Object 5"/>
          <p:cNvGraphicFramePr/>
          <p:nvPr/>
        </p:nvGraphicFramePr>
        <p:xfrm>
          <a:off x="4886280" y="1981080"/>
          <a:ext cx="3333960" cy="4114800"/>
        </p:xfrm>
        <a:graphic>
          <a:graphicData uri="http://schemas.openxmlformats.org/presentationml/2006/ole">
            <p:oleObj r:id="rId1" spid="">
              <p:embed/>
              <p:pic>
                <p:nvPicPr>
                  <p:cNvPr id="546" name="Object 5" descr=""/>
                  <p:cNvPicPr/>
                  <p:nvPr/>
                </p:nvPicPr>
                <p:blipFill>
                  <a:blip r:embed="rId2"/>
                  <a:stretch/>
                </p:blipFill>
                <p:spPr>
                  <a:xfrm>
                    <a:off x="4886280" y="1981080"/>
                    <a:ext cx="33339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demos imaginar la construcción de una computadora en la actualidad, con una calculadora electrónica de bolsillo activando las teclas con un rollo de papel perforado como pianol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da programa diferente, requerirá de un rollo de pianola diferente.</a:t>
            </a:r>
            <a:endParaRPr b="0" lang="en-US" sz="2400" spc="-1" strike="noStrike">
              <a:solidFill>
                <a:srgbClr val="000000"/>
              </a:solidFill>
              <a:latin typeface="Times New Roman"/>
            </a:endParaRPr>
          </a:p>
        </p:txBody>
      </p:sp>
      <p:graphicFrame>
        <p:nvGraphicFramePr>
          <p:cNvPr id="548" name="Object 5"/>
          <p:cNvGraphicFramePr/>
          <p:nvPr/>
        </p:nvGraphicFramePr>
        <p:xfrm>
          <a:off x="4648320" y="2624040"/>
          <a:ext cx="3809880" cy="2828880"/>
        </p:xfrm>
        <a:graphic>
          <a:graphicData uri="http://schemas.openxmlformats.org/presentationml/2006/ole">
            <p:oleObj r:id="rId1" spid="">
              <p:embed/>
              <p:pic>
                <p:nvPicPr>
                  <p:cNvPr id="549" name="Object 5" descr=""/>
                  <p:cNvPicPr/>
                  <p:nvPr/>
                </p:nvPicPr>
                <p:blipFill>
                  <a:blip r:embed="rId2"/>
                  <a:stretch/>
                </p:blipFill>
                <p:spPr>
                  <a:xfrm>
                    <a:off x="4648320" y="2624040"/>
                    <a:ext cx="3809880" cy="28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p:nvPr>
        </p:nvSpPr>
        <p:spPr>
          <a:xfrm>
            <a:off x="685440" y="1981080"/>
            <a:ext cx="380988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primeras computadoras eran básicamente una calculadora con dos memorias, una para almacenar el programa que activa las funciones aritméticas y lógicas y otra memoria para almacenar resultados numéricos temporal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esta arquitectura, se le llama arquitectura Harvard</a:t>
            </a:r>
            <a:endParaRPr b="0" lang="en-US" sz="2400" spc="-1" strike="noStrike">
              <a:solidFill>
                <a:srgbClr val="000000"/>
              </a:solidFill>
              <a:latin typeface="Times New Roman"/>
            </a:endParaRPr>
          </a:p>
        </p:txBody>
      </p:sp>
      <p:graphicFrame>
        <p:nvGraphicFramePr>
          <p:cNvPr id="551" name="Object 5"/>
          <p:cNvGraphicFramePr/>
          <p:nvPr/>
        </p:nvGraphicFramePr>
        <p:xfrm>
          <a:off x="4648320" y="3097080"/>
          <a:ext cx="3809880" cy="1881360"/>
        </p:xfrm>
        <a:graphic>
          <a:graphicData uri="http://schemas.openxmlformats.org/presentationml/2006/ole">
            <p:oleObj r:id="rId1" spid="">
              <p:embed/>
              <p:pic>
                <p:nvPicPr>
                  <p:cNvPr id="552" name="Object 5" descr=""/>
                  <p:cNvPicPr/>
                  <p:nvPr/>
                </p:nvPicPr>
                <p:blipFill>
                  <a:blip r:embed="rId2"/>
                  <a:stretch/>
                </p:blipFill>
                <p:spPr>
                  <a:xfrm>
                    <a:off x="4648320" y="3097080"/>
                    <a:ext cx="3809880" cy="18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1T02:38:22Z</dcterms:created>
  <dc:creator>Pablo Turmero</dc:creator>
  <dc:description/>
  <dc:language>en-US</dc:language>
  <cp:lastModifiedBy>Pablo</cp:lastModifiedBy>
  <dcterms:modified xsi:type="dcterms:W3CDTF">2015-10-08T20:42:58Z</dcterms:modified>
  <cp:revision>16</cp:revision>
  <dc:subject/>
  <dc:title/>
</cp:coreProperties>
</file>