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Universidad de las Americas-Pueb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18"/>
          </p:nvPr>
        </p:nvSpPr>
        <p:spPr>
          <a:xfrm>
            <a:off x="3994200" y="0"/>
            <a:ext cx="30542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sldImg"/>
          </p:nvPr>
        </p:nvSpPr>
        <p:spPr>
          <a:xfrm>
            <a:off x="120924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body"/>
          </p:nvPr>
        </p:nvSpPr>
        <p:spPr>
          <a:xfrm>
            <a:off x="939960" y="4414680"/>
            <a:ext cx="5168880" cy="418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ftr" idx="19"/>
          </p:nvPr>
        </p:nvSpPr>
        <p:spPr>
          <a:xfrm>
            <a:off x="0" y="8832600"/>
            <a:ext cx="30542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 type="sldNum" idx="20"/>
          </p:nvPr>
        </p:nvSpPr>
        <p:spPr>
          <a:xfrm>
            <a:off x="3994200" y="8832600"/>
            <a:ext cx="3054240" cy="4633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A377DF7-75B9-49FB-BA0B-0D74A72DF4B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0" y="0"/>
            <a:ext cx="3054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Universidad de las Americas-Pueb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6"/>
          <p:cNvSpPr/>
          <p:nvPr/>
        </p:nvSpPr>
        <p:spPr>
          <a:xfrm>
            <a:off x="0" y="8832960"/>
            <a:ext cx="3054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096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9960" y="4414680"/>
            <a:ext cx="51688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9343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3556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3556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3556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" name="Object 8"/>
          <p:cNvGraphicFramePr/>
          <p:nvPr/>
        </p:nvGraphicFramePr>
        <p:xfrm>
          <a:off x="609480" y="457200"/>
          <a:ext cx="917640" cy="13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57200"/>
                    <a:ext cx="91764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Rectangle 9"/>
          <p:cNvSpPr/>
          <p:nvPr/>
        </p:nvSpPr>
        <p:spPr>
          <a:xfrm>
            <a:off x="1295280" y="762120"/>
            <a:ext cx="7086600" cy="75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10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11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12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3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14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5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6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17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4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5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6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7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8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9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Universidad de las Américas-Pueb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UNDAMENTOS DE LOGICA DIF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1" name="Object 3"/>
          <p:cNvGraphicFramePr/>
          <p:nvPr/>
        </p:nvGraphicFramePr>
        <p:xfrm>
          <a:off x="903240" y="1447920"/>
          <a:ext cx="74120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1447920"/>
                    <a:ext cx="74120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Object 3"/>
          <p:cNvGraphicFramePr/>
          <p:nvPr/>
        </p:nvGraphicFramePr>
        <p:xfrm>
          <a:off x="804960" y="1447920"/>
          <a:ext cx="745632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47920"/>
                    <a:ext cx="74563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3880" y="1518840"/>
            <a:ext cx="693432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azonami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35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azonamiento cotidiano es de naturaleza aproxim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ontrar un lugar donde estacionar tu car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ización de una llamada telef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oger cual ruta debes tomar para llegar a tu destino lo mas pronto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uzar la ca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desayu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3880" y="1461960"/>
            <a:ext cx="69343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tributo (objeto, valor del obje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2727360"/>
            <a:ext cx="777240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dad (Juan, 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dad (X, [30,50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dad (X, Media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9" name="Object 2"/>
          <p:cNvGraphicFramePr/>
          <p:nvPr/>
        </p:nvGraphicFramePr>
        <p:xfrm>
          <a:off x="1952640" y="1295280"/>
          <a:ext cx="523728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2640" y="1295280"/>
                    <a:ext cx="52372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133720" y="2286000"/>
          <a:ext cx="48751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0"/>
                    <a:ext cx="48751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fusifisidad .vs. Prob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Object 2"/>
          <p:cNvGraphicFramePr/>
          <p:nvPr/>
        </p:nvGraphicFramePr>
        <p:xfrm>
          <a:off x="1523880" y="1501920"/>
          <a:ext cx="6323040" cy="45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01920"/>
                    <a:ext cx="632304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693396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ubconjuntos difu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subconjunto difus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n conjunt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un par ordenado en el conjunto, cuyo primer elemento es un elemento a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y e segundo elemento es un numero real entre 0 y 1, llamado el grado de membresia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onjunt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llamado universo en dis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mapeo  entre los elemento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los grados de membresia e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una función, llamada la función de membresia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subconjuntos difusos son usualmente representados por sus funciones de membre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Object 2"/>
          <p:cNvGraphicFramePr/>
          <p:nvPr/>
        </p:nvGraphicFramePr>
        <p:xfrm>
          <a:off x="990720" y="1600200"/>
          <a:ext cx="697212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69721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ógica difu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2504880"/>
            <a:ext cx="77724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b     min (membresia (a), membresia (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b        max (membresia (a), membresia (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         1 - membresia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LOGICA DIF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lógica difusa o borrosa (Fuzzy logic) descansa en la idea que en un instante dado, no es posible precisar el valor de una variabl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sino tan solo conocer el grado de pertenencia a cada uno de los conjuntos en que se ha participado el rango de variación de la var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grado de pertenencia se cuantifica mediante la función de pertene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que normalmente se escoge de una forma trapezo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 de funciones de perten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B:  Tempera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: Temperatura me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: Temperatura a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Object 2"/>
          <p:cNvGraphicFramePr/>
          <p:nvPr/>
        </p:nvGraphicFramePr>
        <p:xfrm>
          <a:off x="1231920" y="412920"/>
          <a:ext cx="6997680" cy="59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412920"/>
                    <a:ext cx="69976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Object 2"/>
          <p:cNvGraphicFramePr/>
          <p:nvPr/>
        </p:nvGraphicFramePr>
        <p:xfrm>
          <a:off x="1143000" y="380880"/>
          <a:ext cx="7670880" cy="59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7670880" cy="59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ra qué es usada la lógica difu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únmente se usa para toma de decisiones en presencia de datos o conocimientos incie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nocimiento de patrones ambiguo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o un componente de sistemas experto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ara que se usan los sistemas expertos difu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control de sistemas lineales y no line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modelar sistemas lineales y no line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diagnostico y aislamiento de fallas en sistemas en tiempo real y análisis de datos fuera de  lí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tomar una decisión comple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ondades de los sistemas expertos difuso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D. Son una forma fácil de codificar un sistema no lin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D. Tiene una buena correspondencia a la forma del pensamiento humano sobre una gran clase de problemas matem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sistemas expertos difusos se ejecutan rápidamente sobre computadoras conven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sistemas expertos difusos los ejecutan a velocidades extremadamente alta sobre hardware especial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sventajas de los sistemas expertos difu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actualmente un análisis matemático riguroso que garantice que el uso de un sistema experto difuso para controlar un sistema de cómo resultado un sistema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difícil llegar a una función de membresia y a una regla confiable sin la participación de un experto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47560" y="11430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plicaciones de lógica difu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ivel uno - control mediante lógica dif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ar un operador humano por un sistema de difuso basado en reg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tro Sendai (Hitach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emento Kiln (F.L. Smid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elevador (Fujitec, Hitachi, Toshi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rro de Su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obot de Hiro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éndulo invertido de Yamakaw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actor nuclear (Hitachi, Bern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automática (Nissan, Subar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Bulldozer (Teran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ducción de ethanol (Fil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plicaciones de la lógica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838080" y="18288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vel dos: Análisis de decisión basado en lógica dif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emplazo de un operador humano por un sistema experto basado en lógica dif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dicin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(CADAG, Adlssnig), Arita, OM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Yamaichi, Hitac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robante de crédi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Zimmerma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signación de dañ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Yao, Hadiprio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agnostico de fall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Guangzh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laneación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Turks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6933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a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v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nos de microo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cesadores de arr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mpiadores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maras de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levis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tér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du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móv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máquinas, transmisiones, fren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oles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tf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nóstico Méd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resión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UNDAMENTOS DE CONTROL DIF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Object 2"/>
          <p:cNvGraphicFramePr/>
          <p:nvPr/>
        </p:nvGraphicFramePr>
        <p:xfrm>
          <a:off x="2774880" y="1295280"/>
          <a:ext cx="359424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4880" y="1295280"/>
                    <a:ext cx="359424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523880" y="1295280"/>
            <a:ext cx="69343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rol basado en lógica difu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236052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lógica difusa permite incorporar el concepto de incertidumbre o confianza, que integ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 imprecisión en la medi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 subjetividad que caracteriza al control lingüís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as las funciones de pertenencia para cada variable medida, el procesamiento de las reglas conduce a conclusiones con factores de confianza. Esto impl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supervisión inteligente, de que  la conclusión acerca de una detección o diagnostico se acompaña de un factor de cert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control inteligente, en el cual la acción de control puede  calcul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4"/>
              <p:cNvSpPr txBox="1"/>
              <p:nvPr/>
            </p:nvSpPr>
            <p:spPr>
              <a:xfrm>
                <a:off x="4038480" y="5334120"/>
                <a:ext cx="1067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925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esta expresió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i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 el control obtenido al evaluar la regl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y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coeficiente de confianza respe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figura muestra un controlador experto basado en lógica difusa, en el c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” es la variable de proceso y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” es la variable manipul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,..., f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son las funciones de pertenencia asociados a las variables lingüística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,...,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...,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on los valores de certeza respe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,..., U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on los valores representativos de las variables lingüística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,..., 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,..., d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on los valores de confianza correspond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reglas se expresan entonces en términos de la variable lingüísticas, y son similare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 temperatura esta alta y creciendo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NTONC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be aumentarse bastante el agua enfri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Object 4"/>
          <p:cNvGraphicFramePr/>
          <p:nvPr/>
        </p:nvGraphicFramePr>
        <p:xfrm>
          <a:off x="1676520" y="2971800"/>
          <a:ext cx="563868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56386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1" name="Object 2"/>
          <p:cNvGraphicFramePr/>
          <p:nvPr/>
        </p:nvGraphicFramePr>
        <p:xfrm>
          <a:off x="1295280" y="1752480"/>
          <a:ext cx="6705720" cy="33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705720" cy="33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3" name="Object 2"/>
          <p:cNvGraphicFramePr/>
          <p:nvPr/>
        </p:nvGraphicFramePr>
        <p:xfrm>
          <a:off x="2403360" y="1523880"/>
          <a:ext cx="42991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3360" y="1523880"/>
                    <a:ext cx="42991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Object 2"/>
          <p:cNvGraphicFramePr/>
          <p:nvPr/>
        </p:nvGraphicFramePr>
        <p:xfrm>
          <a:off x="1143000" y="1249200"/>
          <a:ext cx="66294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49200"/>
                    <a:ext cx="66294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C:\Documentos\ArchivosCorel\Figura4.gif"/>
          <p:cNvPicPr/>
          <p:nvPr/>
        </p:nvPicPr>
        <p:blipFill>
          <a:blip r:embed="rId1"/>
          <a:stretch/>
        </p:blipFill>
        <p:spPr>
          <a:xfrm>
            <a:off x="2286000" y="1219320"/>
            <a:ext cx="470052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C:\Documentos\ArchivosCorel\Figura5.gif"/>
          <p:cNvPicPr/>
          <p:nvPr/>
        </p:nvPicPr>
        <p:blipFill>
          <a:blip r:embed="rId1"/>
          <a:stretch/>
        </p:blipFill>
        <p:spPr>
          <a:xfrm>
            <a:off x="2438280" y="1219320"/>
            <a:ext cx="47293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C:\Documentos\ArchivosCorel\Figura6.gif"/>
          <p:cNvPicPr/>
          <p:nvPr/>
        </p:nvPicPr>
        <p:blipFill>
          <a:blip r:embed="rId1"/>
          <a:stretch/>
        </p:blipFill>
        <p:spPr>
          <a:xfrm>
            <a:off x="2209680" y="1295280"/>
            <a:ext cx="49402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dica la función de pertenencia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l conjunt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x) esta entre 0 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f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x)=1, x pertenece totalmente 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f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x)=0, x no pertenece 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partir de esta definición es posible comprobar que se cumplen las siguientes propie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x)=max (fA(x), fB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x)=min (fA(x), fB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x)=1-f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Japanese Companies Employing Fuz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non                             SLR camera focusing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tepper control  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sio                              Cleaning room temp and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umidity control                   P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aldan                           Gas cooling plant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uji electronic               Chemical mixer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Waste buring plant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tachi                           Sendai subway control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evator control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dec Izumi                     GaAs crystal growth   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shidaInstruments          Automatic measuring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eon Auto Machinery   Food processing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Nippon Steel                  Iron mill control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ruman                       Golf club selection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ycom                          Robotic controllers     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elden-sha                   Dredging control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chine control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inolta                         Camera focusing         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itsubishi Chemical    Cement klin control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itsubishi Electric       Elevator control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sma Etching                    P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itsubushi Heavy              Air-conditioning systems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sushita(Panasonic)       Temperature controllers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Nissan  Motor Company    Automatic transmission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ABS braking system     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Nuclear Power Corp           Nuclear power plant control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actory controllers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obotic controllers       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mera stabilizers        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icoh                                   Camera focusing          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oice Recognition        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anyo                                  Camera iris control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eiko                                   Desing expert system            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aru                                 Automatic transmission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oshiba                               Elevator control  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 desing expert system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amaichi Securities           Stock trading                          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okogawa Electric             Digital measurement systems 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eas de aplicación de la teoría dif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4" name="Object 3"/>
          <p:cNvGraphicFramePr/>
          <p:nvPr/>
        </p:nvGraphicFramePr>
        <p:xfrm>
          <a:off x="685800" y="1600200"/>
          <a:ext cx="789156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89156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693432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aracterísticas del control dif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paralelo/distrib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las de producción (IF-T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Representación simple del 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misas de evaluación mix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 cuali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jora la calidad y la robust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8" name="Object 2"/>
          <p:cNvGraphicFramePr/>
          <p:nvPr/>
        </p:nvGraphicFramePr>
        <p:xfrm>
          <a:off x="838080" y="1295280"/>
          <a:ext cx="7925040" cy="42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92504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ID VS. Control Dif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1" name="Object 3"/>
          <p:cNvGraphicFramePr/>
          <p:nvPr/>
        </p:nvGraphicFramePr>
        <p:xfrm>
          <a:off x="2125800" y="2286000"/>
          <a:ext cx="4892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286000"/>
                    <a:ext cx="4892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523880" y="1294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ID vs. Control Dif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Object 3"/>
          <p:cNvGraphicFramePr/>
          <p:nvPr/>
        </p:nvGraphicFramePr>
        <p:xfrm>
          <a:off x="1871640" y="2286000"/>
          <a:ext cx="53992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2286000"/>
                    <a:ext cx="53992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71600" y="10666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ire acondi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o del diseño en abril de 198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mulación en verano de 198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ón en Octubre de 198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s de calentamiento y enfriamiento reducidos en 5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ilidad de la temperatura incrementada en 2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horro en el consumo total de potencia del 24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uce el número de sens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8" name="Object 2"/>
          <p:cNvGraphicFramePr/>
          <p:nvPr/>
        </p:nvGraphicFramePr>
        <p:xfrm>
          <a:off x="682560" y="1143000"/>
          <a:ext cx="79376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143000"/>
                    <a:ext cx="79376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71600" y="10666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stema Metro de Send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puesto en 197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iguió el permiso para operar en 1986 después de 300,000 simulaciones y 3,000 viajes en vací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ó la posición de paro en 3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uce el ajuste de potencia en 2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tencia total reducida en un 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tachi ganó el concurso para el Metr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okyo en 199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2" name="Object 2"/>
          <p:cNvGraphicFramePr/>
          <p:nvPr/>
        </p:nvGraphicFramePr>
        <p:xfrm>
          <a:off x="1066680" y="1371600"/>
          <a:ext cx="73551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3551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600200" y="990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sarrollos notables de la lógica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65 Fuzzy set (Prof.. Lotti A. Zadeh, U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66 Fuzzy Logic (Dr.. Peter N. Marinos, Bell Lab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72 Fuzzy Measure (Prof.. Michino Sugeno, T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74 Fuzzy Logic Controller for Steam Engine (Prof.. E.H. Mamdani, Queen Mary College, London    Univ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80 Control of Cement-Kiln with Monitor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F.L. Smidth, Denma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87 Automatic Train Operation for Sendal Sub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Hitach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88 Stock Trading Expert System (Yamaichi Sequ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989 Life (Laboratory for Internacional Fuzzy Engine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ansmisiones Auto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2392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uavizar la march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ducir el consumo de combusti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Menor desgas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atrones de comportamiento mas parecido al huma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ultad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ontinua en progre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Menor frecuencia de cambios en terreno variabl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47560" y="11430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foco difuso Cann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6553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a la calidad del fo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uce el tiempo de enfo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a la calidad del fo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de enfocado reducido en un 2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uce el tiempo de c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3880" y="9907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SA Shuttle Autopi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duce la carga al oper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Incrementa la confiabilidad del sis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duce el consumo de combusti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ultad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ontrol de posición y consumo de combustible reducidos en en 3x respecto aun operador huma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23880" y="1574280"/>
            <a:ext cx="693432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uentes de incert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fiabilidad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fusif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eator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recisión del leguaje de representación mediante reglas lingüí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 in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 agre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sión de la represen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claración en confli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de combinación ev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23880" y="1461600"/>
            <a:ext cx="69343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Que es la difusifi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2430000"/>
            <a:ext cx="77724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usifisidad es incertidumbre determin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usifisidad esta relacionada al grado con el cual los eventos ocurren sin importar la probabilidad de su ocur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jemplo, el grado de juventud de una persona es un evento difuso sin importar que sea un elemento ale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3880" y="1461960"/>
            <a:ext cx="693432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fusifisidad contra Prob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usifisidad es una incertidumbre deterministica, la probabilidad es no determinis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incertidumbre probabilistica se disipa con el incremento del numero de ocurrencias y la difusifisidad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ifusifisidad describe eventos ambiguos, La probabilidad describe los eventos que ocurren. Si un evento ocurre es aleatorio. El grado con el cual ocurre es difu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fusifisidad contra Prob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Object 3"/>
          <p:cNvGraphicFramePr/>
          <p:nvPr/>
        </p:nvGraphicFramePr>
        <p:xfrm>
          <a:off x="3200400" y="2505240"/>
          <a:ext cx="273996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05240"/>
                    <a:ext cx="273996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4267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esta probablemente una elipse, o es ambiguamente una eli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6T19:23:02Z</dcterms:created>
  <dc:creator>Pablo Turmero</dc:creator>
  <dc:description/>
  <dc:language>en-US</dc:language>
  <cp:lastModifiedBy>Pablo</cp:lastModifiedBy>
  <cp:lastPrinted>1997-03-26T00:54:50Z</cp:lastPrinted>
  <dcterms:modified xsi:type="dcterms:W3CDTF">2015-09-02T15:01:00Z</dcterms:modified>
  <cp:revision>2</cp:revision>
  <dc:subject/>
  <dc:title/>
</cp:coreProperties>
</file>