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35.png" ContentType="image/png"/>
  <Override PartName="/ppt/media/image28.wmf" ContentType="image/x-wmf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2.wmf" ContentType="image/x-wmf"/>
  <Override PartName="/ppt/media/image30.wmf" ContentType="image/x-wmf"/>
  <Override PartName="/ppt/media/image45.png" ContentType="image/png"/>
  <Override PartName="/ppt/media/image31.wmf" ContentType="image/x-wmf"/>
  <Override PartName="/ppt/media/image46.png" ContentType="image/png"/>
  <Override PartName="/ppt/media/image11.png" ContentType="image/png"/>
  <Override PartName="/ppt/media/image29.wmf" ContentType="image/x-wmf"/>
  <Override PartName="/ppt/media/image43.wmf" ContentType="image/x-wmf"/>
  <Override PartName="/ppt/media/image44.wmf" ContentType="image/x-wmf"/>
  <Override PartName="/ppt/media/image41.wmf" ContentType="image/x-wmf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0.png" ContentType="image/png"/>
  <Override PartName="/ppt/media/image47.png" ContentType="image/png"/>
  <Override PartName="/ppt/media/image1.jpeg" ContentType="image/jpeg"/>
  <Override PartName="/ppt/media/image36.png" ContentType="image/png"/>
  <Override PartName="/ppt/media/image6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7AC2-1211-4E5C-AC8F-6C806F73CBE8}" type="slidenum">
              <a:rPr b="0" lang="es-P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F610-751C-4203-8EBA-B67BBEC8E0E9}" type="slidenum">
              <a:rPr b="0" lang="es-P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0F66-67B2-40F0-81A5-10FE51FD600B}" type="slidenum">
              <a:rPr b="0" lang="es-P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0295-EBFB-45A7-9CB3-F8F929E32AEA}" type="slidenum">
              <a:rPr b="0" lang="es-P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7025-2A46-4B2C-B08B-22C00E2020E0}" type="slidenum">
              <a:rPr b="0" lang="es-P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2448-5CE7-4AAE-8EFA-DE84CAD85627}" type="slidenum">
              <a:rPr b="0" lang="es-P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940D-AFBF-42ED-BCF9-6BC167AC7F47}" type="slidenum">
              <a:rPr b="0" lang="es-P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5E46-23FB-4EBA-9DE4-0B921E600B99}" type="slidenum">
              <a:rPr b="0" lang="es-P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1A1A-893D-4F6F-B658-843038C8ED5D}" type="slidenum">
              <a:rPr b="0" lang="es-P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AA2E-FA75-45B1-A9D6-B316995D2A96}" type="slidenum">
              <a:rPr b="0" lang="es-P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E819-8B06-4E1C-9A42-D91B36258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5CC3-3BC4-474E-88A6-EDC27A052312}" type="slidenum">
              <a:rPr b="0" lang="es-P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1A62-D636-4CDB-BFAE-EF15D2DC4EF8}" type="slidenum">
              <a:rPr b="0" lang="es-P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55B8-3B20-4FD2-B901-1AFFA72A3175}" type="slidenum">
              <a:rPr b="0" lang="es-P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2246-1A0D-4257-BD6D-51F3E96E64D2}" type="slidenum">
              <a:rPr b="0" lang="es-P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79F9-71B0-4551-B861-02DDE608883C}" type="slidenum">
              <a:rPr b="0" lang="es-P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97B3-6147-4C73-BF60-FA51CFFD7247}" type="slidenum">
              <a:rPr b="0" lang="es-P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099A-726B-4E21-B71F-0566F8C6D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1E9E-3CCB-48B1-9AAB-94742BB75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43EC-912D-4E95-829C-852A6CC01D8C}" type="slidenum">
              <a:rPr b="0" lang="es-P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AC97-82A1-4A11-9C35-D2FA99125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F212-0B51-4052-98A7-8F1AFCEF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5DE83D-531C-4208-B932-643FDE1C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6B2F8-2A85-4784-BA6A-89D51D62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E20C9A-8188-4FFA-9855-324F4FA7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AEA4B-6B63-478B-A977-6F714793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B71256-6C0B-49FD-9BF4-306EC019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AA541B-C5DC-4A97-A834-6A83DABA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494AC1-9F32-45ED-9891-7D4CFA05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C4F9AB-BA5D-4716-911C-DE43EA0A3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7DFAB5-1D55-4F50-981E-4D0667120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16E829-E637-4E8F-9E3E-C8DB0295E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337E-56A5-4106-91F7-C4F43E192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42D444-80D5-4A57-8689-E8F55F8D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850AB2-ACB6-4505-A33C-858C673D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635F301-252D-4B5D-B737-93BDB05F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697990-FFF3-4B83-8DA7-3B05AE13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BA96E8-916A-45D9-80C7-56B12C78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E105B3-45EF-414F-830B-4A736EE6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30D8A4-57F2-4CB9-86B4-FAAEF42F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06E7EA-5A77-4942-A8FF-F867C0E5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74B880E-C410-44E9-888E-D194D148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E69982-2DC8-48B7-BB31-F3848DD3D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DC4D-40AF-4ED2-AC0C-C5E487E5A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63E41E-4D2E-4C43-84A4-6508CB66A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EE0061-C552-4EF3-98B7-21171D377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895BE-5334-41C4-AA29-7203C08C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04596E-2D15-49E7-BB83-9D84EB36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B710A-155B-4E61-B2B3-60120122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83FAFF-1CB5-4F1F-B7EB-5D41240B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27C18-8FC1-4F12-BA71-17444C58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419E8B-BF4F-425B-9787-9249D06C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899C86-D988-4BB5-AAD9-A135D99C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F777A0-CFD9-4F2F-BCE6-C0AE7E7F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4C80-C278-4A9D-BE1B-C2EC56FD3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29F59-F8FC-43A4-9EEC-51E3BB78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CA7BF2-9110-42B3-8C52-8F539E180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94FE19-2E16-4857-8B00-50C7D61A0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8E14B4-40C3-49D1-85E8-B05C956F7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857C16-2B7F-4C29-8887-B3DE642A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F97360-0428-4EF9-A042-930DC99A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9AB177-771A-4AC0-8A4F-44E66A99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8122AF-6C0C-45E7-BC0E-B357A36A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785E4E-F6AE-487F-AFFD-95AFA563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3FF8E2-B6A4-4249-B557-8A1AB96D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E029-24D4-45C3-9DE5-E0EB2938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FB9393-44D0-4E5E-8891-9B592AC2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DA8047-D145-4715-95A5-001DC8DE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C01026-341E-46F8-BEF3-C8786844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A581A6-65EF-49B3-AD64-0291FA027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F93EEE-29DB-4CD4-8079-700D71308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3F8B99-728D-42C1-B477-40C0EC7C1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20AB55-5602-40BB-A9FB-77B658A2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93FB28-92FF-49D0-9FAF-3903E616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A837CE-AEEE-45AE-90CD-B2516E6F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504A2E-6294-4B6D-8D1D-8F9E14A2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7EFE-522D-4428-9B63-335BEE04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B2721D-661B-48E1-8A53-4DD81FBB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F698B2-1375-4CB1-BCB9-D7909B3F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CB173C-4B21-4AB1-A1AB-C992F202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293C35-ACC6-4913-849C-C6CC0F48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F5D651-7471-48FE-B4BD-F5B8B63C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B2326B-B7DF-4738-8BBC-B8121FA9C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606459-1F4C-43C0-B546-78CDD8B94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5D34B5-CEFE-41E2-A26D-2DE2C8E00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28047D-BFD6-4FAD-8881-84C5279C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90EB16-A756-46B6-A1AD-8F46D784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D4CF-D228-412B-8A42-C19CE508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98E96E-9F8B-493A-8167-10ED8019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121125-119A-4641-A4F6-70B52FA9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51B61D-EA8C-48C0-9A46-C9CBE2E5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FC0493-3C3F-4660-A2E2-253C7BE1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F015FB-D115-421A-B907-82D41E39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BFD7E1-812D-44E8-A89F-CAB85D87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6178D8-3537-4DAD-B120-B4165CFC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C34B5A-5E9F-4BB5-8D10-04BC5BB9C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7D9321-0169-43FB-BBB7-871052DC7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540D31-D4E3-41EF-9063-F0B206340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E141-50C3-4B8F-9DAD-8CBD450A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05F072-2BC3-460F-970E-FCC81CB0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235607-FA53-4D3E-A63C-C0666CC4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ADF418-E1EA-4435-ADDD-BDCD50AA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61A930-30F6-42F3-86B3-B109908F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6F73F2-C74E-4E48-957B-ED0D174E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CF4AF6-08FC-4B81-B68D-3D2CB3CB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33A1C2-EE7D-49EF-86E8-0A50AE81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1957C0-DD3D-4F85-AF8B-F19EC1A7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177EF4-FF48-49EA-AAA8-8A5EBB6E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39EDE7-0CBC-4D2A-BD2F-B99C94C4C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2302-2954-4033-8149-C32AAEA5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E41F6F-CDE9-4D8E-A189-649164042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0E1A-1C3C-4867-A902-30996476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D1E4-8215-43C7-94DD-23C6CD62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E7C1-15EC-4EA7-8C34-F120E082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C30A-531D-4795-A1B0-47098A09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2D4F-5BAD-4FA4-B70F-A512A5FF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B9E0-4C90-406C-B51B-CDF9B092E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435D-D280-476C-B38F-C670DE8CA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CDEFB-F1F7-46BD-B5CA-AE496580E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8A963-4E8A-4902-8F00-D5147D8A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05323-1DD9-420A-B9AE-49FA0C57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74EAE-B5CA-4901-B4BB-EF08BB4C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F7425-ACD1-4798-98A1-059A5594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EEA3-7152-481F-8103-7C46C936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7411E-8106-45F5-882C-4B09A7FD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FACC9-15A6-403E-9E67-01B6910D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609A8-7A93-4675-A939-D1D5BB45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D3002-38CE-455F-B07F-52059AB9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05795-2B22-4F60-A84E-87635214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5998A-965B-4FBF-9209-2D475011F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7A751-97E6-4C43-9657-C8888C02A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4B9A43-F509-4998-9ECA-EE7B2EDAB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6F61EB-4649-487C-886C-B1863B32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428302-3023-4F13-A4A8-2EA7C08C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4622-C66E-4A55-9879-1DA3795F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7FBBEC-5469-41E2-92AC-DC593AEF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D7B540-3A29-42DC-8556-2CF19FD1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746867-A40F-4F1A-B6A6-CD3C09B0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ABA56A-1409-488D-BEB0-3ED87F8F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DEC193-818D-448E-9E91-F277E4BE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4D3244-1E5D-4274-870F-A35CD4FE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08C8CD-3ADE-4F60-B6AA-C0F9A725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C74D01-E626-4CF8-9261-BB363AA26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DB056B-5BBC-4FD9-9761-3E08BC6C6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BBD9C7-DEA1-45C1-A1DA-9B9987DF0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1340-E40C-4516-83B8-CBD3B10B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038FBF-C6A6-4483-96E4-1BC14031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249249-6BD3-485E-B99C-F10FB906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C6361A-F882-494A-A3B4-51630073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4B682F-F571-4552-AA9F-17B4A54A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06C8C9-1D41-4F79-A386-BCD0B7ED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DBA2ED-A191-4F17-9876-00F0CCC0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24CF8E-1A71-4331-9310-FE47812E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452E97-CF53-4ACA-BF42-AE00FF1E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DFE17D-57F2-4649-B472-E23003B7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DE309C-19F8-458D-AB3E-FB5349746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5460-3528-490D-93D9-AD3F6EF7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B0360A-BE8B-4ABE-A858-5CC9C5B79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9BD141-2586-424C-9797-964FA81B7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DA003E-74C6-4CD6-96A8-6D8AD74F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F24A50-56C7-4DCE-A2BB-95EC222D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8E4472-DEE6-4ADD-9EF2-BC3F3EA7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FB4078-6A26-43B9-B493-8B7046AC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12749A-334F-43C0-BCD1-6BB23C30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95BA35-FDC8-4BC6-B41A-08140B12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813F3B-4E1B-4788-BFCD-5C1D8EF9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0C6E18-11EA-4074-B7A5-9AC559F5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B5AD-E85A-4D47-ACAA-AD965ED4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C4202C-437A-45FC-B4EA-D1B17D68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40A292-90A9-4A72-A291-56D57CB32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932778-4C39-46B8-919B-570619ED7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2B653-83E1-4420-B8E9-927C808C9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D24E9-847B-47F0-AD01-DF65CA4B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D4A2D-FEF2-45F8-AB77-6C91BAD4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D7A04-5A70-4E96-B32A-C2CF7B33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5CF59-9FF0-4FA2-975D-445ADEB5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2DB66-D4E4-4DB0-B46B-8BA5E8AA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88CA2-3677-48A1-B3ED-AE1BB67E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5210-5E61-45ED-9194-AAB300E9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A3589-345E-46D9-ADA6-A2889342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6AD2E-7816-4035-81C0-B30F4C82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2B5D8-0296-45C5-8724-6C06D247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60B12-88A5-4F63-A3EF-127F69D9B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95964-E480-43EC-80B0-C8CE3BF24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42C5D-B0A7-4388-8FE4-7D6DCA883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80A9C-E9A2-4E5E-8E92-CE05A8DC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6CD49-1A58-4C3E-8A02-245FD324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14CF5-9D92-4387-BB24-D2E4E559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1FA51-6F51-47AB-9733-D01DB24A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5B68-9AD1-4050-817D-FDA4D8A4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A0060-5F0E-4DC9-8898-4EC49CA6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D45F1-03C6-4877-8A30-C3137253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154B2-85DF-424E-8405-6DC70356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A99F9-33D7-41EE-BE0A-D10F5B13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B8549-56FA-4E07-B770-9105E6B8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51F22-CA59-4E4F-B1A8-DFA304F72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08B94-0275-491F-8603-97E95B405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6C7AC7-E773-4743-9DCA-EE9CA06BE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62AB50-3B8B-4235-AD39-87FC5065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17C1B-D4F9-4481-89EB-8416602E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0E13-1637-4D90-AFE5-B40FC3BB5F63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9 Rectángulo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10 Rectángulo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11 Rectángulo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12 Rectángulo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94F7-A11C-4DC8-B20A-1445BA8F1735}" type="slidenum"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58C9-C672-4B68-8F92-D8852DD3491F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9 Rectángulo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10 Rectángulo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11 Rectángulo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1F9F-97F0-40D8-811A-0B1877D4C1A0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5DA9-6E0D-4690-B46F-185DB778DA65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4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4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42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6D73-9312-4744-B094-E5BEA3E8CD80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4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98BC-34CD-4DB7-9356-DFBFC234ACBC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9 Rectángulo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10 Rectángulo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11 Rectángulo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E13F-55CB-4497-8043-7D4B7E3EC86D}" type="slidenum">
              <a:rPr b="1" lang="es-E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ECB8-70CD-40FB-9340-342584EF2A50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9 Rectángulo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10 Rectángulo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11 Rectángulo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06F0-82C6-41A9-85BD-8F944619200E}" type="slidenum"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AB48-0162-4D7B-B15B-474705E3F02A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78B3-43BD-443B-BAD9-A23311B06641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A56C-95A2-4EB0-AE5B-4E2032FA6BA1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2FED-8051-48F1-B929-16C05220152C}" type="slidenum">
              <a:rPr b="1" lang="es-E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0553-23A6-4578-9738-C270CB399B65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3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image" Target="../media/image47.png"/><Relationship Id="rId4" Type="http://schemas.openxmlformats.org/officeDocument/2006/relationships/image" Target="../media/image47.pn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69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57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762120" y="1714320"/>
            <a:ext cx="769608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bddc3"/>
                </a:solidFill>
                <a:latin typeface="Tw Cen MT"/>
              </a:rPr>
              <a:t>FILTROS ACTIVOS</a:t>
            </a: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775f55"/>
                </a:solidFill>
                <a:latin typeface="Tw Cen MT"/>
              </a:rPr>
              <a:t>Tipos de Filtros Activo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28760" y="162864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775f55"/>
                </a:solidFill>
                <a:uFillTx/>
                <a:latin typeface="Arial"/>
              </a:rPr>
              <a:t>El Sallen – Key (VCVS</a:t>
            </a:r>
            <a:r>
              <a:rPr b="1" lang="es-ES" sz="1600" spc="-1" strike="noStrike">
                <a:solidFill>
                  <a:srgbClr val="775f55"/>
                </a:solidFill>
                <a:latin typeface="Arial"/>
              </a:rPr>
              <a:t>):</a:t>
            </a:r>
            <a:r>
              <a:rPr b="1" lang="es-ES" sz="28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49280" indent="-449280" algn="just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80000"/>
              <a:buFont typeface="Symbol" charset="2"/>
              <a:buChar char="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circuito produce un filtro pasa bajo o pasa alto de dos polos usando dos resistencias, dos condensadores y un amplificador.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4492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449280" indent="-449280" algn="just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80000"/>
              <a:buFont typeface="Symbol" charset="2"/>
              <a:buChar char="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ara obtener un filtro de orden mayor se pueden poner en cascada varias etapas.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4492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449280" indent="-449280" algn="just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80000"/>
              <a:buFont typeface="Symbol" charset="2"/>
              <a:buChar char="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tos filtros son relativamente flexibles con la tolerancia de los componentes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4492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449280" indent="-449280" algn="just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80000"/>
              <a:buFont typeface="Symbol" charset="2"/>
              <a:buChar char="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ara obtener un factor Q alto se requieren componentes de valores extremos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4492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449280" indent="-449280" algn="just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80000"/>
              <a:buFont typeface="Symbol" charset="2"/>
              <a:buChar char="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VCVS tiene ganancia fija, ya que R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y R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determinan el factor de amortiguación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4492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35" name="Picture 7" descr=""/>
          <p:cNvPicPr/>
          <p:nvPr/>
        </p:nvPicPr>
        <p:blipFill>
          <a:blip r:embed="rId1"/>
          <a:stretch/>
        </p:blipFill>
        <p:spPr>
          <a:xfrm>
            <a:off x="4854600" y="1714680"/>
            <a:ext cx="3625920" cy="207468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9" descr=""/>
          <p:cNvPicPr/>
          <p:nvPr/>
        </p:nvPicPr>
        <p:blipFill>
          <a:blip r:embed="rId2"/>
          <a:stretch/>
        </p:blipFill>
        <p:spPr>
          <a:xfrm>
            <a:off x="5318280" y="4199040"/>
            <a:ext cx="2698560" cy="1836720"/>
          </a:xfrm>
          <a:prstGeom prst="rect">
            <a:avLst/>
          </a:prstGeom>
          <a:ln w="0">
            <a:noFill/>
          </a:ln>
        </p:spPr>
      </p:pic>
      <p:sp>
        <p:nvSpPr>
          <p:cNvPr id="737" name="9 Rectángulo"/>
          <p:cNvSpPr/>
          <p:nvPr/>
        </p:nvSpPr>
        <p:spPr>
          <a:xfrm>
            <a:off x="4714920" y="3995640"/>
            <a:ext cx="39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000000"/>
                </a:solidFill>
                <a:latin typeface="Times New Roman"/>
              </a:rPr>
              <a:t>Etapa pasa-baja de segundo orden VCV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13 Rectángulo"/>
          <p:cNvSpPr/>
          <p:nvPr/>
        </p:nvSpPr>
        <p:spPr>
          <a:xfrm>
            <a:off x="4714920" y="6083280"/>
            <a:ext cx="40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000000"/>
                </a:solidFill>
                <a:latin typeface="Times New Roman"/>
              </a:rPr>
              <a:t>Etapa pasa-alta de segundo orden VCV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9" name="Picture 7" descr=""/>
          <p:cNvPicPr/>
          <p:nvPr/>
        </p:nvPicPr>
        <p:blipFill>
          <a:blip r:embed="rId3"/>
          <a:stretch/>
        </p:blipFill>
        <p:spPr>
          <a:xfrm>
            <a:off x="4859280" y="1724040"/>
            <a:ext cx="362592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775f55"/>
                </a:solidFill>
                <a:latin typeface="Tw Cen MT"/>
              </a:rPr>
              <a:t>De Retroalimentación Múltiple:(MFB)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un filtro paso de banda, sencillo y de buen funcionamiento, también se pueden diseñar filtros pasa alta y pasa baja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nde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y R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forman la retroalimentación y la maximización cerca de f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Q)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y R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porcionan la respuesta Pasa baja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y R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proporcionan la respuesta pasa alta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eleva la R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ent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y ofrece una ganancia controlable de banda de paso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42" name="Picture 6" descr=""/>
          <p:cNvPicPr/>
          <p:nvPr/>
        </p:nvPicPr>
        <p:blipFill>
          <a:blip r:embed="rId1"/>
          <a:stretch/>
        </p:blipFill>
        <p:spPr>
          <a:xfrm>
            <a:off x="4983120" y="1628640"/>
            <a:ext cx="3368880" cy="207504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 txBox="1"/>
          <p:nvPr/>
        </p:nvSpPr>
        <p:spPr>
          <a:xfrm>
            <a:off x="4648320" y="4378320"/>
            <a:ext cx="4038480" cy="20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Ajustes: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Variar f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ajustando C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o R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y R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simultáneamente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justar Q variando la razón R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/R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manteniendo constante el producto R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*R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justar la ganancia con R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4" name="13 Rectángulo"/>
          <p:cNvSpPr/>
          <p:nvPr/>
        </p:nvSpPr>
        <p:spPr>
          <a:xfrm>
            <a:off x="4714920" y="3751200"/>
            <a:ext cx="400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000000"/>
                </a:solidFill>
                <a:latin typeface="Times New Roman"/>
              </a:rPr>
              <a:t>Etapa pasa-banda de segundo orden-Retroalimentación Múltip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775f55"/>
                </a:solidFill>
                <a:latin typeface="Tw Cen MT"/>
              </a:rPr>
              <a:t>Procedimiento De Diseño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250920" y="191628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Procedimiento de calculo sin R2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leccionar f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y f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y un AOP con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o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&gt; 2Q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a las f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y f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deseadas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2. A partir de f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y f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deseadas,             calcular f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y Q aplicando: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i Q  es mayor que 15, elegir un filtro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ariable de estado o biquad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paso-banda. Si Q es menor que 15, proseguir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989280" indent="-3733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1" marL="989280" indent="-373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1" marL="989280" indent="-373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9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3. Seleccionar C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= C y calcular: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179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179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179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179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179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179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179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179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179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4. Calcular: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179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179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8" name="Rectangle 7"/>
          <p:cNvSpPr/>
          <p:nvPr/>
        </p:nvSpPr>
        <p:spPr>
          <a:xfrm>
            <a:off x="1800" y="0"/>
            <a:ext cx="180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8"/>
          <p:cNvSpPr/>
          <p:nvPr/>
        </p:nvSpPr>
        <p:spPr>
          <a:xfrm>
            <a:off x="1800" y="822960"/>
            <a:ext cx="22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1" name="Picture 18" descr=""/>
          <p:cNvPicPr/>
          <p:nvPr/>
        </p:nvPicPr>
        <p:blipFill>
          <a:blip r:embed="rId1"/>
          <a:stretch/>
        </p:blipFill>
        <p:spPr>
          <a:xfrm>
            <a:off x="1258920" y="4653000"/>
            <a:ext cx="1225440" cy="41436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19" descr=""/>
          <p:cNvPicPr/>
          <p:nvPr/>
        </p:nvPicPr>
        <p:blipFill>
          <a:blip r:embed="rId2"/>
          <a:stretch/>
        </p:blipFill>
        <p:spPr>
          <a:xfrm>
            <a:off x="1258920" y="3860640"/>
            <a:ext cx="1152360" cy="66204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20" descr=""/>
          <p:cNvPicPr/>
          <p:nvPr/>
        </p:nvPicPr>
        <p:blipFill>
          <a:blip r:embed="rId3"/>
          <a:stretch/>
        </p:blipFill>
        <p:spPr>
          <a:xfrm>
            <a:off x="5796000" y="4695840"/>
            <a:ext cx="1079640" cy="38880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22" descr=""/>
          <p:cNvPicPr/>
          <p:nvPr/>
        </p:nvPicPr>
        <p:blipFill>
          <a:blip r:embed="rId4"/>
          <a:stretch/>
        </p:blipFill>
        <p:spPr>
          <a:xfrm>
            <a:off x="5724360" y="2854440"/>
            <a:ext cx="1194120" cy="103500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24" descr=""/>
          <p:cNvPicPr/>
          <p:nvPr/>
        </p:nvPicPr>
        <p:blipFill>
          <a:blip r:embed="rId5"/>
          <a:stretch/>
        </p:blipFill>
        <p:spPr>
          <a:xfrm>
            <a:off x="5724360" y="1989000"/>
            <a:ext cx="129708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775f55"/>
                </a:solidFill>
                <a:latin typeface="Tw Cen MT"/>
              </a:rPr>
              <a:t>PROCEDIMIENTO DE DISEÑO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69560" indent="-169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Procedimiento de calculo con R</a:t>
            </a:r>
            <a:r>
              <a:rPr b="1" lang="es-ES" sz="1800" spc="-1" strike="noStrike" u="sng" baseline="-25000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169560" indent="-169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. Seleccionar f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f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un AOP con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169560" indent="-169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o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&gt; 2Q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las f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f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seadas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169560" indent="-169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 Calcular f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Q aplicando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169560" indent="-169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169560" indent="-169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169560" indent="-1695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169560" indent="-1695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169560" indent="-1695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169560" indent="-169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169560" indent="-169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. Si Q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 15, seleccionar la ganancia banda de paso deseado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 2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169560" indent="-1695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169560" indent="-1695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169560" indent="-1695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169560" indent="-1695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3160" indent="-173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. Elegir 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C y calcular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173160" indent="-173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173160" indent="-173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173160" indent="-173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173160" indent="-173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173160" indent="-173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173160" indent="-173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173160" indent="-173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173160" indent="-173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173160" indent="-173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. Verificar A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partir de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173160" indent="-173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173160" indent="-173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59" name="Picture 7" descr=""/>
          <p:cNvPicPr/>
          <p:nvPr/>
        </p:nvPicPr>
        <p:blipFill>
          <a:blip r:embed="rId1"/>
          <a:stretch/>
        </p:blipFill>
        <p:spPr>
          <a:xfrm>
            <a:off x="1619280" y="4005360"/>
            <a:ext cx="1152360" cy="66204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8" descr=""/>
          <p:cNvPicPr/>
          <p:nvPr/>
        </p:nvPicPr>
        <p:blipFill>
          <a:blip r:embed="rId2"/>
          <a:stretch/>
        </p:blipFill>
        <p:spPr>
          <a:xfrm>
            <a:off x="1619280" y="3357720"/>
            <a:ext cx="1225440" cy="41436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10" descr=""/>
          <p:cNvPicPr/>
          <p:nvPr/>
        </p:nvPicPr>
        <p:blipFill>
          <a:blip r:embed="rId3"/>
          <a:stretch/>
        </p:blipFill>
        <p:spPr>
          <a:xfrm>
            <a:off x="5508720" y="2293920"/>
            <a:ext cx="1368360" cy="66528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11" descr=""/>
          <p:cNvPicPr/>
          <p:nvPr/>
        </p:nvPicPr>
        <p:blipFill>
          <a:blip r:embed="rId4"/>
          <a:stretch/>
        </p:blipFill>
        <p:spPr>
          <a:xfrm>
            <a:off x="5508720" y="3079800"/>
            <a:ext cx="2016000" cy="58572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12" descr=""/>
          <p:cNvPicPr/>
          <p:nvPr/>
        </p:nvPicPr>
        <p:blipFill>
          <a:blip r:embed="rId5"/>
          <a:stretch/>
        </p:blipFill>
        <p:spPr>
          <a:xfrm>
            <a:off x="5508720" y="3895560"/>
            <a:ext cx="1150920" cy="65268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14" descr=""/>
          <p:cNvPicPr/>
          <p:nvPr/>
        </p:nvPicPr>
        <p:blipFill>
          <a:blip r:embed="rId6"/>
          <a:stretch/>
        </p:blipFill>
        <p:spPr>
          <a:xfrm>
            <a:off x="5508720" y="5394240"/>
            <a:ext cx="10810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775f55"/>
                </a:solidFill>
                <a:uFillTx/>
                <a:latin typeface="Tw Cen MT"/>
              </a:rPr>
              <a:t>VCVS / MFB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39528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775f55"/>
                </a:solidFill>
                <a:latin typeface="Tw Cen MT"/>
              </a:rPr>
              <a:t>VENTAJA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80000"/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abilida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80000"/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aja impedancia de salida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80000"/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acilidad de ajuste de frecuencia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80000"/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cos component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s-ES" sz="2900" spc="-1" strike="noStrike">
                <a:solidFill>
                  <a:srgbClr val="775f55"/>
                </a:solidFill>
                <a:latin typeface="Arial"/>
              </a:rPr>
              <a:t>DESVENTAJAS:</a:t>
            </a:r>
            <a:r>
              <a:rPr b="0" lang="es-ES" sz="2900" spc="-1" strike="noStrike">
                <a:solidFill>
                  <a:srgbClr val="775f55"/>
                </a:solidFill>
                <a:latin typeface="Arial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80000"/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áximo valor de Q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=10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80000"/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FB invierte la polarida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775f55"/>
                </a:solidFill>
                <a:latin typeface="Tw Cen MT"/>
              </a:rPr>
              <a:t>Filtro De Variable De Estado</a:t>
            </a:r>
            <a:r>
              <a:rPr b="0" lang="es-ES" sz="4000" spc="-1" strike="noStrike">
                <a:solidFill>
                  <a:srgbClr val="775f55"/>
                </a:solidFill>
                <a:latin typeface="Tw Cen MT"/>
              </a:rPr>
              <a:t>: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80000"/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ene ganancia igual a la unidad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80000"/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variable de estado proporciona simultáneamente una respuesta de segundo orden en paso- bajas, en paso-altas y en paso-banda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80000"/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filtro de variable de estado es muy estable, tiene bajas sensibilidades y hay poca interacción entre los ajustes de frecuencia y el Q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80000"/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se usa como filtro paso-banda, se pueden obtener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Q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bles hasta de 100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80000"/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filtro con variable de estado, se le denomina  "filtro activo universal “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69" name="Picture 4" descr=""/>
          <p:cNvPicPr/>
          <p:nvPr/>
        </p:nvPicPr>
        <p:blipFill>
          <a:blip r:embed="rId1"/>
          <a:stretch/>
        </p:blipFill>
        <p:spPr>
          <a:xfrm>
            <a:off x="4648320" y="2054160"/>
            <a:ext cx="4038480" cy="162396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 txBox="1"/>
          <p:nvPr/>
        </p:nvSpPr>
        <p:spPr>
          <a:xfrm>
            <a:off x="4643280" y="4056120"/>
            <a:ext cx="4043520" cy="23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xplicación: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conexión en cascada de A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y A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forman el LP de segundo orden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salida de LP y la señal de entrada se suman (fuera de fase) y se obtiene HP. F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&gt; Fo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l BP se obtiene de la integración de la suma de la salida LP y HP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775f55"/>
                </a:solidFill>
                <a:latin typeface="Tw Cen MT"/>
              </a:rPr>
              <a:t>Filtro Activo De Variable De Estado Sin Ganancia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772" name="Picture 4" descr=""/>
          <p:cNvPicPr/>
          <p:nvPr/>
        </p:nvPicPr>
        <p:blipFill>
          <a:blip r:embed="rId1"/>
          <a:stretch/>
        </p:blipFill>
        <p:spPr>
          <a:xfrm>
            <a:off x="2203560" y="1754280"/>
            <a:ext cx="5392800" cy="2149560"/>
          </a:xfrm>
          <a:prstGeom prst="rect">
            <a:avLst/>
          </a:prstGeom>
          <a:ln w="0">
            <a:noFill/>
          </a:ln>
        </p:spPr>
      </p:pic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405576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xplic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integradores A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A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terminan la F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R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‛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tablecen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o Q en caso de pasabanda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sumador resta la señales que están por debajo de la Fo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respuesta LP Y HP son las mismas (condición del diseño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9 Rectángulo"/>
          <p:cNvSpPr/>
          <p:nvPr/>
        </p:nvSpPr>
        <p:spPr>
          <a:xfrm>
            <a:off x="1692360" y="356400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000000"/>
                </a:solidFill>
                <a:latin typeface="Times New Roman"/>
              </a:rPr>
              <a:t>Etapa Pasa-Baja/Pasa Alta/ Pasa Banda de segundo orden sin Gananc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Procedimiento Variable de Estado sin Ganancia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457200" y="1628640"/>
            <a:ext cx="8229600" cy="22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67840" indent="-26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000" spc="-1" strike="noStrike">
                <a:solidFill>
                  <a:srgbClr val="ff0000"/>
                </a:solidFill>
                <a:latin typeface="Tw Cen MT"/>
              </a:rPr>
              <a:t>Diseño del Filtro Pasa Banda y Pasa Alt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7840" indent="-2678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000" spc="-1" strike="noStrike">
                <a:solidFill>
                  <a:srgbClr val="000000"/>
                </a:solidFill>
                <a:latin typeface="Tw Cen MT"/>
              </a:rPr>
              <a:t>Seleccionar f(</a:t>
            </a:r>
            <a:r>
              <a:rPr b="1" lang="es-PA" sz="2000" spc="-1" strike="noStrike">
                <a:solidFill>
                  <a:srgbClr val="000000"/>
                </a:solidFill>
                <a:latin typeface="Tw Cen MT"/>
              </a:rPr>
              <a:t>3 dB</a:t>
            </a:r>
            <a:r>
              <a:rPr b="0" lang="es-PA" sz="2000" spc="-1" strike="noStrike">
                <a:solidFill>
                  <a:srgbClr val="000000"/>
                </a:solidFill>
                <a:latin typeface="Tw Cen MT"/>
              </a:rPr>
              <a:t>) y el tipo de filtro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7840" indent="-2678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000" spc="-1" strike="noStrike">
                <a:solidFill>
                  <a:srgbClr val="000000"/>
                </a:solidFill>
                <a:latin typeface="Tw Cen MT"/>
              </a:rPr>
              <a:t>Consultar la tabla N. 1 y encontrar la razón  y el coeficiente de amortiguamiento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7840" indent="-2678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000" spc="-1" strike="noStrike">
                <a:solidFill>
                  <a:srgbClr val="000000"/>
                </a:solidFill>
                <a:latin typeface="Tw Cen MT"/>
              </a:rPr>
              <a:t>Calcular la frecuencia de cort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7840" indent="-2678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000" spc="-1" strike="noStrike">
                <a:solidFill>
                  <a:srgbClr val="000000"/>
                </a:solidFill>
                <a:latin typeface="Tw Cen MT"/>
              </a:rPr>
              <a:t>Fijar: R1=R2=R3=R4=Rf’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7840" indent="-2678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000" spc="-1" strike="noStrike">
                <a:solidFill>
                  <a:srgbClr val="000000"/>
                </a:solidFill>
                <a:latin typeface="Tw Cen MT"/>
              </a:rPr>
              <a:t>Seleccionar C1=C2=C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7840" indent="-2678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443664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000" spc="-1" strike="noStrike">
                <a:solidFill>
                  <a:srgbClr val="000000"/>
                </a:solidFill>
                <a:latin typeface="Tw Cen MT"/>
              </a:rPr>
              <a:t>Calcular R                                  Calcular R5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000" spc="-1" strike="noStrike">
                <a:solidFill>
                  <a:srgbClr val="000000"/>
                </a:solidFill>
                <a:latin typeface="Tw Cen MT"/>
              </a:rPr>
              <a:t>Realizar los ajust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3"/>
          <p:cNvSpPr/>
          <p:nvPr/>
        </p:nvSpPr>
        <p:spPr>
          <a:xfrm>
            <a:off x="0" y="1197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0" name="Picture 5" descr=""/>
          <p:cNvPicPr/>
          <p:nvPr/>
        </p:nvPicPr>
        <p:blipFill>
          <a:blip r:embed="rId1"/>
          <a:stretch/>
        </p:blipFill>
        <p:spPr>
          <a:xfrm>
            <a:off x="1332000" y="4881600"/>
            <a:ext cx="1150920" cy="601560"/>
          </a:xfrm>
          <a:prstGeom prst="rect">
            <a:avLst/>
          </a:prstGeom>
          <a:ln w="0">
            <a:noFill/>
          </a:ln>
        </p:spPr>
      </p:pic>
      <p:sp>
        <p:nvSpPr>
          <p:cNvPr id="781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Rectangle 7"/>
          <p:cNvSpPr/>
          <p:nvPr/>
        </p:nvSpPr>
        <p:spPr>
          <a:xfrm>
            <a:off x="0" y="1058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Rectangle 8"/>
          <p:cNvSpPr/>
          <p:nvPr/>
        </p:nvSpPr>
        <p:spPr>
          <a:xfrm>
            <a:off x="0" y="2079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4" name="Picture 9" descr=""/>
          <p:cNvPicPr/>
          <p:nvPr/>
        </p:nvPicPr>
        <p:blipFill>
          <a:blip r:embed="rId2"/>
          <a:stretch/>
        </p:blipFill>
        <p:spPr>
          <a:xfrm>
            <a:off x="4065480" y="4869000"/>
            <a:ext cx="1874880" cy="563400"/>
          </a:xfrm>
          <a:prstGeom prst="rect">
            <a:avLst/>
          </a:prstGeom>
          <a:ln w="0">
            <a:noFill/>
          </a:ln>
        </p:spPr>
      </p:pic>
      <p:sp>
        <p:nvSpPr>
          <p:cNvPr id="785" name="Rectangle 11"/>
          <p:cNvSpPr/>
          <p:nvPr/>
        </p:nvSpPr>
        <p:spPr>
          <a:xfrm>
            <a:off x="0" y="1020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456840" y="1815840"/>
            <a:ext cx="821844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000" spc="-1" strike="noStrike">
                <a:solidFill>
                  <a:srgbClr val="ff0000"/>
                </a:solidFill>
                <a:latin typeface="Tw Cen MT"/>
              </a:rPr>
              <a:t>Diseño del filtro Pasa Band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000" spc="-1" strike="noStrike">
                <a:solidFill>
                  <a:srgbClr val="000000"/>
                </a:solidFill>
                <a:latin typeface="Tw Cen MT"/>
              </a:rPr>
              <a:t>La ganancia de paso y el factor de calidad son iguale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000" spc="-1" strike="noStrike">
                <a:solidFill>
                  <a:srgbClr val="000000"/>
                </a:solidFill>
                <a:latin typeface="Tw Cen MT"/>
              </a:rPr>
              <a:t>Datos f1 y f2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000" spc="-1" strike="noStrike">
                <a:solidFill>
                  <a:srgbClr val="000000"/>
                </a:solidFill>
                <a:latin typeface="Tw Cen MT"/>
              </a:rPr>
              <a:t>Calcular fo y Q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000" spc="-1" strike="noStrike">
                <a:solidFill>
                  <a:srgbClr val="000000"/>
                </a:solidFill>
                <a:latin typeface="Tw Cen MT"/>
              </a:rPr>
              <a:t>Seleccionar C1=C2=C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000" spc="-1" strike="noStrike">
                <a:solidFill>
                  <a:srgbClr val="000000"/>
                </a:solidFill>
                <a:latin typeface="Tw Cen MT"/>
              </a:rPr>
              <a:t>Calcular R1=R2=R3=R4=Rf’ =Rf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/>
          </p:nvPr>
        </p:nvSpPr>
        <p:spPr>
          <a:xfrm>
            <a:off x="394920" y="4437000"/>
            <a:ext cx="82803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000" spc="-1" strike="noStrike">
                <a:solidFill>
                  <a:srgbClr val="ff0000"/>
                </a:solidFill>
                <a:latin typeface="Tw Cen MT"/>
              </a:rPr>
              <a:t>Formulas de Resistencia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000" spc="-1" strike="noStrike">
                <a:solidFill>
                  <a:srgbClr val="000000"/>
                </a:solidFill>
                <a:latin typeface="Tw Cen MT"/>
              </a:rPr>
              <a:t>Realizar los ajust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Procedimiento Variable De Estado Sin Ganancia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grpSp>
        <p:nvGrpSpPr>
          <p:cNvPr id="789" name="10 Grupo"/>
          <p:cNvGrpSpPr/>
          <p:nvPr/>
        </p:nvGrpSpPr>
        <p:grpSpPr>
          <a:xfrm>
            <a:off x="1084320" y="4937040"/>
            <a:ext cx="4314600" cy="606600"/>
            <a:chOff x="1084320" y="4937040"/>
            <a:chExt cx="4314600" cy="606600"/>
          </a:xfrm>
        </p:grpSpPr>
        <p:pic>
          <p:nvPicPr>
            <p:cNvPr id="790" name="Picture 2" descr=""/>
            <p:cNvPicPr/>
            <p:nvPr/>
          </p:nvPicPr>
          <p:blipFill>
            <a:blip r:embed="rId1"/>
            <a:stretch/>
          </p:blipFill>
          <p:spPr>
            <a:xfrm>
              <a:off x="1084320" y="4937040"/>
              <a:ext cx="1181160" cy="6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" name="Picture 1" descr=""/>
            <p:cNvPicPr/>
            <p:nvPr/>
          </p:nvPicPr>
          <p:blipFill>
            <a:blip r:embed="rId2"/>
            <a:stretch/>
          </p:blipFill>
          <p:spPr>
            <a:xfrm>
              <a:off x="3622680" y="5082840"/>
              <a:ext cx="1776240" cy="35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2" name="Rectangle 4"/>
          <p:cNvSpPr/>
          <p:nvPr/>
        </p:nvSpPr>
        <p:spPr>
          <a:xfrm>
            <a:off x="0" y="1058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Rectangle 5"/>
          <p:cNvSpPr/>
          <p:nvPr/>
        </p:nvSpPr>
        <p:spPr>
          <a:xfrm>
            <a:off x="0" y="1909800"/>
            <a:ext cx="913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250920" y="124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775f55"/>
                </a:solidFill>
                <a:latin typeface="Tw Cen MT"/>
              </a:rPr>
              <a:t>Filtro De Variable De Estado Con Ganancia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795" name="Picture 7" descr=""/>
          <p:cNvPicPr/>
          <p:nvPr/>
        </p:nvPicPr>
        <p:blipFill>
          <a:blip r:embed="rId1"/>
          <a:stretch/>
        </p:blipFill>
        <p:spPr>
          <a:xfrm>
            <a:off x="1332000" y="1658880"/>
            <a:ext cx="6445080" cy="2922480"/>
          </a:xfrm>
          <a:prstGeom prst="rect">
            <a:avLst/>
          </a:prstGeom>
          <a:ln w="0">
            <a:noFill/>
          </a:ln>
        </p:spPr>
      </p:pic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480960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xplicación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obtener una ganancia distinta a la unidad se agrego un cuarto AOP inversor, donde R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R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terminan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ganancia la determina R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R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7" name="9 Rectángulo"/>
          <p:cNvSpPr/>
          <p:nvPr/>
        </p:nvSpPr>
        <p:spPr>
          <a:xfrm>
            <a:off x="1116000" y="4354560"/>
            <a:ext cx="72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000000"/>
                </a:solidFill>
                <a:latin typeface="Times New Roman"/>
              </a:rPr>
              <a:t>Etapa Pasa-Baja/Pasa Alta/ Pasa Banda de segundo orden con Gananc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775f55"/>
                </a:solidFill>
                <a:latin typeface="Tw Cen MT"/>
              </a:rPr>
              <a:t>Definicion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w Cen MT"/>
              </a:rPr>
              <a:t>Un filtro es un circuito eléctrico cuya función es </a:t>
            </a:r>
            <a:r>
              <a:rPr b="1" lang="es-ES" sz="1900" spc="-1" strike="noStrike">
                <a:solidFill>
                  <a:srgbClr val="704404"/>
                </a:solidFill>
                <a:latin typeface="Tw Cen MT"/>
              </a:rPr>
              <a:t>modificar</a:t>
            </a:r>
            <a:r>
              <a:rPr b="1" lang="es-ES" sz="19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1" lang="es-ES" sz="1900" spc="-1" strike="noStrike">
                <a:solidFill>
                  <a:srgbClr val="704404"/>
                </a:solidFill>
                <a:latin typeface="Tw Cen MT"/>
              </a:rPr>
              <a:t>deformar</a:t>
            </a:r>
            <a:r>
              <a:rPr b="1" lang="es-ES" sz="1900" spc="-1" strike="noStrike">
                <a:solidFill>
                  <a:srgbClr val="000000"/>
                </a:solidFill>
                <a:latin typeface="Tw Cen MT"/>
              </a:rPr>
              <a:t> o </a:t>
            </a:r>
            <a:r>
              <a:rPr b="1" lang="es-ES" sz="1900" spc="-1" strike="noStrike">
                <a:solidFill>
                  <a:srgbClr val="704404"/>
                </a:solidFill>
                <a:latin typeface="Tw Cen MT"/>
              </a:rPr>
              <a:t>manipular</a:t>
            </a:r>
            <a:r>
              <a:rPr b="1" lang="es-ES" sz="1900" spc="-1" strike="noStrike">
                <a:solidFill>
                  <a:srgbClr val="000000"/>
                </a:solidFill>
                <a:latin typeface="Tw Cen MT"/>
              </a:rPr>
              <a:t> en general, el espectro en frecuencias de una señal de entrada de acuerdo a unos determinados </a:t>
            </a:r>
            <a:r>
              <a:rPr b="1" i="1" lang="es-ES" sz="1900" spc="-1" strike="noStrike" u="sng">
                <a:solidFill>
                  <a:srgbClr val="ff0000"/>
                </a:solidFill>
                <a:uFillTx/>
                <a:latin typeface="Tw Cen MT"/>
              </a:rPr>
              <a:t>especificaciones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w Cen MT"/>
              </a:rPr>
              <a:t>Redes de dos puertos que funcionan en el dominio de la frecuencia, cuya finalidad se centra en el </a:t>
            </a:r>
            <a:r>
              <a:rPr b="1" lang="es-ES" sz="1900" spc="-1" strike="noStrike">
                <a:solidFill>
                  <a:srgbClr val="704404"/>
                </a:solidFill>
                <a:latin typeface="Tw Cen MT"/>
              </a:rPr>
              <a:t>paso o rechazo</a:t>
            </a:r>
            <a:r>
              <a:rPr b="1" lang="es-ES" sz="1900" spc="-1" strike="noStrike">
                <a:solidFill>
                  <a:srgbClr val="000000"/>
                </a:solidFill>
                <a:latin typeface="Tw Cen MT"/>
              </a:rPr>
              <a:t> de una señal de entrada en un intervalo especifico de frecuencias, según las especificaciones de diseño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296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41" name="Picture 7" descr="filtrosceramicos"/>
          <p:cNvPicPr/>
          <p:nvPr/>
        </p:nvPicPr>
        <p:blipFill>
          <a:blip r:embed="rId1"/>
          <a:stretch/>
        </p:blipFill>
        <p:spPr>
          <a:xfrm>
            <a:off x="5334120" y="1752480"/>
            <a:ext cx="3081240" cy="215748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8" descr="filtropasabandawi-fiUHF"/>
          <p:cNvPicPr/>
          <p:nvPr/>
        </p:nvPicPr>
        <p:blipFill>
          <a:blip r:embed="rId2"/>
          <a:stretch/>
        </p:blipFill>
        <p:spPr>
          <a:xfrm>
            <a:off x="6477120" y="4343400"/>
            <a:ext cx="209556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775f55"/>
                </a:solidFill>
                <a:latin typeface="Tw Cen MT"/>
              </a:rPr>
              <a:t>BIQUA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 un filtro activo muy estable, fácil de conectar en cascada,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61800" indent="-36180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gt;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100 en la aplicación paso-banda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61800" indent="-36180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W permanece constante a medida que sé varia su  frecuencia, de manera que su Q aumenta con la frecuencia de los filtros ajustable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61800" indent="-36180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a formado por tres AOP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1279440" indent="-73800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mador – integrado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1279440" indent="-73800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verso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1279440" indent="-73800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egrado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61800" indent="-36180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61800" indent="-36180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775f55"/>
                </a:solidFill>
                <a:latin typeface="Tw Cen MT"/>
              </a:rPr>
              <a:t>Filtro Bicuadrático Pasabanda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457200" y="1828800"/>
            <a:ext cx="8229600" cy="20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02" name="Picture 3" descr=""/>
          <p:cNvPicPr/>
          <p:nvPr/>
        </p:nvPicPr>
        <p:blipFill>
          <a:blip r:embed="rId1"/>
          <a:stretch/>
        </p:blipFill>
        <p:spPr>
          <a:xfrm>
            <a:off x="216000" y="1557360"/>
            <a:ext cx="8748720" cy="4005360"/>
          </a:xfrm>
          <a:prstGeom prst="rect">
            <a:avLst/>
          </a:prstGeom>
          <a:ln w="0">
            <a:noFill/>
          </a:ln>
        </p:spPr>
      </p:pic>
      <p:sp>
        <p:nvSpPr>
          <p:cNvPr id="803" name="9 Rectángulo"/>
          <p:cNvSpPr/>
          <p:nvPr/>
        </p:nvSpPr>
        <p:spPr>
          <a:xfrm>
            <a:off x="1332000" y="543564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000000"/>
                </a:solidFill>
                <a:latin typeface="Times New Roman"/>
              </a:rPr>
              <a:t>Etapa  Pasa Banda de segundo or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775f55"/>
                </a:solidFill>
                <a:latin typeface="Tw Cen MT"/>
              </a:rPr>
              <a:t>Factores a Considerar En La Selección Del Aop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3160" indent="-1731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Selección del BW y A</a:t>
            </a:r>
            <a:r>
              <a:rPr b="1" lang="es-ES" sz="1600" spc="-1" strike="noStrike" u="sng" baseline="-25000">
                <a:solidFill>
                  <a:srgbClr val="000000"/>
                </a:solidFill>
                <a:uFillTx/>
                <a:latin typeface="Arial"/>
              </a:rPr>
              <a:t>vf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17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.Del punto A al B la atenuación es constante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17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2. La frecuencia en el punto B se denomina ganancia unitaria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17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3. Se establece una A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vf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fija y se determina el Bw o viceversa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17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17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17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17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17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ambién se denomina frecuencia de trnasición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17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17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6" name="Object 9"/>
              <p:cNvSpPr txBox="1"/>
              <p:nvPr/>
            </p:nvSpPr>
            <p:spPr>
              <a:xfrm>
                <a:off x="6330960" y="2744640"/>
                <a:ext cx="673200" cy="2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BW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07" name=""/>
          <p:cNvGraphicFramePr/>
          <p:nvPr/>
        </p:nvGraphicFramePr>
        <p:xfrm>
          <a:off x="4648320" y="4056120"/>
          <a:ext cx="4038480" cy="20527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1" lang="es-E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M7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M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M3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M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M3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M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</a:tbl>
          </a:graphicData>
        </a:graphic>
      </p:graphicFrame>
      <p:pic>
        <p:nvPicPr>
          <p:cNvPr id="808" name="Picture 8" descr=""/>
          <p:cNvPicPr/>
          <p:nvPr/>
        </p:nvPicPr>
        <p:blipFill>
          <a:blip r:embed="rId1"/>
          <a:stretch/>
        </p:blipFill>
        <p:spPr>
          <a:xfrm>
            <a:off x="4859280" y="1916280"/>
            <a:ext cx="3857760" cy="199044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30" descr=""/>
          <p:cNvPicPr/>
          <p:nvPr/>
        </p:nvPicPr>
        <p:blipFill>
          <a:blip r:embed="rId2"/>
          <a:stretch/>
        </p:blipFill>
        <p:spPr>
          <a:xfrm>
            <a:off x="1692360" y="4005360"/>
            <a:ext cx="165564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775f55"/>
                </a:solidFill>
                <a:latin typeface="Tw Cen MT"/>
              </a:rPr>
              <a:t>Factores a considerar en la selección del AOP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Selección V</a:t>
            </a:r>
            <a:r>
              <a:rPr b="1" lang="es-ES" sz="1800" spc="-1" strike="noStrike" u="sng" baseline="-25000">
                <a:solidFill>
                  <a:srgbClr val="000000"/>
                </a:solidFill>
                <a:uFillTx/>
                <a:latin typeface="Arial"/>
              </a:rPr>
              <a:t>pmax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o f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velocidad de respuesta de los Aop se define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donde Vp es la salida máxima que se puede obtener sin distorsión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t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Como la frecuencia esta relacionada con el BW, este factor es importante determinarlo correctament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812" name=""/>
          <p:cNvGraphicFramePr/>
          <p:nvPr/>
        </p:nvGraphicFramePr>
        <p:xfrm>
          <a:off x="4648320" y="2492280"/>
          <a:ext cx="4038480" cy="207504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(V/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μ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M7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F3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M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</a:tbl>
          </a:graphicData>
        </a:graphic>
      </p:graphicFrame>
      <p:pic>
        <p:nvPicPr>
          <p:cNvPr id="813" name="Picture 42" descr=""/>
          <p:cNvPicPr/>
          <p:nvPr/>
        </p:nvPicPr>
        <p:blipFill>
          <a:blip r:embed="rId1"/>
          <a:stretch/>
        </p:blipFill>
        <p:spPr>
          <a:xfrm>
            <a:off x="1403280" y="2852640"/>
            <a:ext cx="15130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775f55"/>
                </a:solidFill>
                <a:latin typeface="Tw Cen MT"/>
              </a:rPr>
              <a:t>Factores a Considerar en la Selección del AOP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Frecuencia de corte y atenuación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a grafica se observa que del punto a al B la atenuación es constante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el punto a Avo en db es -3db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atenuación la determina la estructura interna del AOP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capacitor interno impide que el Aop se desestabilice cuando la frecuencia varí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16" name="Picture 5" descr=""/>
          <p:cNvPicPr/>
          <p:nvPr/>
        </p:nvPicPr>
        <p:blipFill>
          <a:blip r:embed="rId1"/>
          <a:stretch/>
        </p:blipFill>
        <p:spPr>
          <a:xfrm>
            <a:off x="4716360" y="1844640"/>
            <a:ext cx="3857760" cy="199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7" name=""/>
          <p:cNvGraphicFramePr/>
          <p:nvPr/>
        </p:nvGraphicFramePr>
        <p:xfrm>
          <a:off x="4648320" y="4056120"/>
          <a:ext cx="4038480" cy="207468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69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p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p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</a:tbl>
          </a:graphicData>
        </a:graphic>
      </p:graphicFrame>
      <p:pic>
        <p:nvPicPr>
          <p:cNvPr id="818" name="Picture 8" descr=""/>
          <p:cNvPicPr/>
          <p:nvPr/>
        </p:nvPicPr>
        <p:blipFill>
          <a:blip r:embed="rId2"/>
          <a:stretch/>
        </p:blipFill>
        <p:spPr>
          <a:xfrm>
            <a:off x="1547640" y="3429000"/>
            <a:ext cx="1800360" cy="49536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9" descr=""/>
          <p:cNvPicPr/>
          <p:nvPr/>
        </p:nvPicPr>
        <p:blipFill>
          <a:blip r:embed="rId3"/>
          <a:stretch/>
        </p:blipFill>
        <p:spPr>
          <a:xfrm>
            <a:off x="1116000" y="4149720"/>
            <a:ext cx="2232000" cy="32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775f55"/>
                </a:solidFill>
                <a:latin typeface="Tw Cen MT"/>
              </a:rPr>
              <a:t>Técnicas Universales para la compensación offset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821" name="Picture 4" descr=""/>
          <p:cNvPicPr/>
          <p:nvPr/>
        </p:nvPicPr>
        <p:blipFill>
          <a:blip r:embed="rId1"/>
          <a:stretch/>
        </p:blipFill>
        <p:spPr>
          <a:xfrm>
            <a:off x="1785960" y="1928880"/>
            <a:ext cx="557676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Diseños de filtros Activos en Cascada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823" name="Picture 2" descr=""/>
          <p:cNvPicPr/>
          <p:nvPr/>
        </p:nvPicPr>
        <p:blipFill>
          <a:blip r:embed="rId1"/>
          <a:srcRect l="23435" t="27854" r="22605" b="10133"/>
          <a:stretch/>
        </p:blipFill>
        <p:spPr>
          <a:xfrm>
            <a:off x="826920" y="1628640"/>
            <a:ext cx="705816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4" name=""/>
          <p:cNvGraphicFramePr/>
          <p:nvPr/>
        </p:nvGraphicFramePr>
        <p:xfrm>
          <a:off x="468360" y="1773360"/>
          <a:ext cx="8209080" cy="4495680"/>
        </p:xfrm>
        <a:graphic>
          <a:graphicData uri="http://schemas.openxmlformats.org/drawingml/2006/table">
            <a:tbl>
              <a:tblPr/>
              <a:tblGrid>
                <a:gridCol w="2635200"/>
                <a:gridCol w="2157480"/>
                <a:gridCol w="1727280"/>
                <a:gridCol w="168912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Condensa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Ventaj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Desventaj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Aplicación en los filt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68760" rIns="68760" tIns="0" bIns="0" anchor="t">
                      <a:noAutofit/>
                    </a:bodyPr>
                    <a:p>
                      <a:pPr lvl="1" marL="743040" indent="-285840" algn="just">
                        <a:lnSpc>
                          <a:spcPct val="100000"/>
                        </a:lnSpc>
                        <a:buSzPct val="102950"/>
                        <a:buBlip>
                          <a:blip r:embed="rId1"/>
                        </a:buBlip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Poliestireno enroll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355d7e"/>
                        </a:buClr>
                        <a:buFont typeface="Arial"/>
                        <a:buAutoNum type="arabicPeriod"/>
                        <a:tabLst>
                          <a:tab algn="l" pos="112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Bajo coeficiente de disipació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355d7e"/>
                        </a:buClr>
                        <a:buFont typeface="Arial"/>
                        <a:buAutoNum type="arabicPeriod"/>
                        <a:tabLst>
                          <a:tab algn="l" pos="112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Bajo coeficiente de tempera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355d7e"/>
                        </a:buClr>
                        <a:buFont typeface="Arial"/>
                        <a:buAutoNum type="arabicPeriod"/>
                        <a:tabLst>
                          <a:tab algn="l" pos="117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Caros y de gran tamaño para un valor dado de capacita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En todos los filt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68760" rIns="68760" tIns="0" bIns="0" anchor="t">
                      <a:noAutofit/>
                    </a:bodyPr>
                    <a:p>
                      <a:pPr lvl="1" marL="743040" indent="-285840">
                        <a:lnSpc>
                          <a:spcPct val="100000"/>
                        </a:lnSpc>
                        <a:buSzPct val="102950"/>
                        <a:buBlip>
                          <a:blip r:embed="rId2"/>
                        </a:buBlip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NPO de cerámica carb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5720">
                <a:tc>
                  <a:txBody>
                    <a:bodyPr lIns="68760" rIns="68760" tIns="0" bIns="0" anchor="t">
                      <a:noAutofit/>
                    </a:bodyPr>
                    <a:p>
                      <a:pPr lvl="1" marL="743040" indent="-285840">
                        <a:lnSpc>
                          <a:spcPct val="100000"/>
                        </a:lnSpc>
                        <a:buSzPct val="102950"/>
                        <a:buBlip>
                          <a:blip r:embed="rId3"/>
                        </a:buBlip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M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3920">
                <a:tc>
                  <a:txBody>
                    <a:bodyPr lIns="68760" rIns="68760" tIns="0" bIns="0" anchor="t">
                      <a:noAutofit/>
                    </a:bodyPr>
                    <a:p>
                      <a:pPr lvl="1" marL="743040" indent="-285840">
                        <a:lnSpc>
                          <a:spcPct val="100000"/>
                        </a:lnSpc>
                        <a:buSzPct val="102950"/>
                        <a:buBlip>
                          <a:blip r:embed="rId4"/>
                        </a:buBlip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Mylar metalizados o policarbona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1. Medio coeficiente de disipació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4600" indent="-174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2. Medio coeficiente de tempera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Experiment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000">
                <a:tc>
                  <a:txBody>
                    <a:bodyPr lIns="68760" rIns="68760" tIns="0" bIns="0" anchor="t">
                      <a:noAutofit/>
                    </a:bodyPr>
                    <a:p>
                      <a:pPr lvl="1" marL="743040" indent="-285840">
                        <a:lnSpc>
                          <a:spcPct val="100000"/>
                        </a:lnSpc>
                        <a:buSzPct val="102950"/>
                        <a:buBlip>
                          <a:blip r:embed="rId5"/>
                        </a:buBlip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Disco de cerám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*********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1. La capacitancia varía significativamente con el voltaje, la temperatura, el tiempo y la frecue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No apl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Selección de los componentes de los Filtros Activo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6" name=""/>
          <p:cNvGraphicFramePr/>
          <p:nvPr/>
        </p:nvGraphicFramePr>
        <p:xfrm>
          <a:off x="755640" y="1700280"/>
          <a:ext cx="7777080" cy="4602240"/>
        </p:xfrm>
        <a:graphic>
          <a:graphicData uri="http://schemas.openxmlformats.org/drawingml/2006/table">
            <a:tbl>
              <a:tblPr/>
              <a:tblGrid>
                <a:gridCol w="2176560"/>
                <a:gridCol w="3039840"/>
                <a:gridCol w="2560680"/>
              </a:tblGrid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Resistenc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Característic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Aplicación en los filt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68760" rIns="68760" tIns="0" bIns="0" anchor="t">
                      <a:noAutofit/>
                    </a:bodyPr>
                    <a:p>
                      <a:pPr lvl="1" marL="743040" indent="-285840" algn="just">
                        <a:lnSpc>
                          <a:spcPct val="100000"/>
                        </a:lnSpc>
                        <a:buSzPct val="102950"/>
                        <a:buBlip>
                          <a:blip r:embed="rId1"/>
                        </a:buBlip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Película Metál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355d7e"/>
                        </a:buClr>
                        <a:buFont typeface="Arial"/>
                        <a:buAutoNum type="arabicPeriod"/>
                        <a:tabLst>
                          <a:tab algn="l" pos="112680"/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Poco rui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355d7e"/>
                        </a:buClr>
                        <a:buFont typeface="Arial"/>
                        <a:buAutoNum type="arabicPeriod"/>
                        <a:tabLst>
                          <a:tab algn="l" pos="112680"/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Buena respuesta de frecue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355d7e"/>
                        </a:buClr>
                        <a:buFont typeface="Arial"/>
                        <a:buAutoNum type="arabicPeriod"/>
                        <a:tabLst>
                          <a:tab algn="l" pos="112680"/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Coeficiente de temperatura bastante 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Para todos los filtro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9160">
                <a:tc>
                  <a:txBody>
                    <a:bodyPr lIns="68760" rIns="68760" tIns="0" bIns="0" anchor="t">
                      <a:noAutofit/>
                    </a:bodyPr>
                    <a:p>
                      <a:pPr lvl="1" marL="743040" indent="-285840" algn="just">
                        <a:lnSpc>
                          <a:spcPct val="100000"/>
                        </a:lnSpc>
                        <a:buSzPct val="102950"/>
                        <a:buBlip>
                          <a:blip r:embed="rId2"/>
                        </a:buBlip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Alambre enroll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355d7e"/>
                        </a:buClr>
                        <a:buFont typeface="Arial"/>
                        <a:buAutoNum type="arabicPeriod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Alta precisión a baja frecuenc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lang="es-ES" sz="1400" spc="-1" strike="noStrike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1.a)  Poco rui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2.b)  Poco desajuste de     temperatur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355d7e"/>
                        </a:buClr>
                        <a:buFont typeface="Arial"/>
                        <a:buAutoNum type="arabicPeriod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Para altas frecuencias o moderadas las resistencias deben ser no inductiv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Filtros de baja frecue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68760" rIns="68760" tIns="0" bIns="0" anchor="t">
                      <a:noAutofit/>
                    </a:bodyPr>
                    <a:p>
                      <a:pPr lvl="1" marL="743040" indent="-285840" algn="just">
                        <a:lnSpc>
                          <a:spcPct val="100000"/>
                        </a:lnSpc>
                        <a:buSzPct val="102950"/>
                        <a:buBlip>
                          <a:blip r:embed="rId3"/>
                        </a:buBlip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Película de carb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355d7e"/>
                        </a:buClr>
                        <a:buFont typeface="Arial"/>
                        <a:buAutoNum type="arabicPeriod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Se pueden obtener con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355d7e"/>
                        </a:buClr>
                        <a:buFont typeface="Arial"/>
                        <a:buAutoNum type="arabicPeriod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a) Alta preci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355d7e"/>
                        </a:buClr>
                        <a:buFont typeface="Arial"/>
                        <a:buAutoNum type="arabicPeriod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b) Ruido a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355d7e"/>
                        </a:buClr>
                        <a:buFont typeface="Arial"/>
                        <a:buAutoNum type="arabicPeriod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c) Buena respuesta de frecuenc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Para experiment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Seleccion de los componentes de los Filtros Activo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4400" spc="-1" strike="noStrike">
                <a:solidFill>
                  <a:srgbClr val="775f55"/>
                </a:solidFill>
                <a:latin typeface="Tw Cen MT"/>
              </a:rPr>
              <a:t>Filtro idea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403848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00"/>
                </a:solidFill>
                <a:latin typeface="Tw Cen MT"/>
              </a:rPr>
              <a:t>Magnitud constante de la función de transferencia en la banda de paso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00"/>
                </a:solidFill>
                <a:latin typeface="Tw Cen MT"/>
              </a:rPr>
              <a:t>3. Frecuencia de corte abrupta, es decir atenuación infinita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00"/>
                </a:solidFill>
                <a:latin typeface="Tw Cen MT"/>
              </a:rPr>
              <a:t>Fase Lineal respecto a la frecuenci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645" name="13 Grupo"/>
          <p:cNvGrpSpPr/>
          <p:nvPr/>
        </p:nvGrpSpPr>
        <p:grpSpPr>
          <a:xfrm>
            <a:off x="4356000" y="1916280"/>
            <a:ext cx="4392720" cy="3744720"/>
            <a:chOff x="4356000" y="1916280"/>
            <a:chExt cx="4392720" cy="3744720"/>
          </a:xfrm>
        </p:grpSpPr>
        <p:pic>
          <p:nvPicPr>
            <p:cNvPr id="646" name="Picture 4" descr=""/>
            <p:cNvPicPr/>
            <p:nvPr/>
          </p:nvPicPr>
          <p:blipFill>
            <a:blip r:embed="rId1"/>
            <a:stretch/>
          </p:blipFill>
          <p:spPr>
            <a:xfrm>
              <a:off x="4356000" y="2009880"/>
              <a:ext cx="2117160" cy="161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7" name="Picture 5" descr=""/>
            <p:cNvPicPr/>
            <p:nvPr/>
          </p:nvPicPr>
          <p:blipFill>
            <a:blip r:embed="rId2"/>
            <a:stretch/>
          </p:blipFill>
          <p:spPr>
            <a:xfrm>
              <a:off x="6710760" y="1916280"/>
              <a:ext cx="1947240" cy="168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8" name="Picture 6" descr=""/>
            <p:cNvPicPr/>
            <p:nvPr/>
          </p:nvPicPr>
          <p:blipFill>
            <a:blip r:embed="rId3"/>
            <a:stretch/>
          </p:blipFill>
          <p:spPr>
            <a:xfrm>
              <a:off x="4356000" y="4069440"/>
              <a:ext cx="2094480" cy="153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9" name="Picture 7" descr=""/>
            <p:cNvPicPr/>
            <p:nvPr/>
          </p:nvPicPr>
          <p:blipFill>
            <a:blip r:embed="rId4"/>
            <a:stretch/>
          </p:blipFill>
          <p:spPr>
            <a:xfrm>
              <a:off x="6620400" y="3999240"/>
              <a:ext cx="2128320" cy="166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0" name="10 Rectángulo"/>
          <p:cNvSpPr/>
          <p:nvPr/>
        </p:nvSpPr>
        <p:spPr>
          <a:xfrm>
            <a:off x="533160" y="1447920"/>
            <a:ext cx="343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600" spc="-1" strike="noStrike">
                <a:solidFill>
                  <a:srgbClr val="000000"/>
                </a:solidFill>
                <a:latin typeface="Tw Cen MT"/>
              </a:rPr>
              <a:t>Característica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" name="11 Grupo"/>
          <p:cNvGrpSpPr/>
          <p:nvPr/>
        </p:nvGrpSpPr>
        <p:grpSpPr>
          <a:xfrm>
            <a:off x="1523880" y="2490840"/>
            <a:ext cx="6248520" cy="4122720"/>
            <a:chOff x="1523880" y="2490840"/>
            <a:chExt cx="6248520" cy="4122720"/>
          </a:xfrm>
        </p:grpSpPr>
        <p:pic>
          <p:nvPicPr>
            <p:cNvPr id="652" name="Picture 5" descr=""/>
            <p:cNvPicPr/>
            <p:nvPr/>
          </p:nvPicPr>
          <p:blipFill>
            <a:blip r:embed="rId1"/>
            <a:stretch/>
          </p:blipFill>
          <p:spPr>
            <a:xfrm>
              <a:off x="5943600" y="5157720"/>
              <a:ext cx="1828800" cy="14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Picture 3" descr=""/>
            <p:cNvPicPr/>
            <p:nvPr/>
          </p:nvPicPr>
          <p:blipFill>
            <a:blip r:embed="rId2"/>
            <a:stretch/>
          </p:blipFill>
          <p:spPr>
            <a:xfrm>
              <a:off x="5943600" y="2675880"/>
              <a:ext cx="1828800" cy="16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2" descr=""/>
            <p:cNvPicPr/>
            <p:nvPr/>
          </p:nvPicPr>
          <p:blipFill>
            <a:blip r:embed="rId3"/>
            <a:stretch/>
          </p:blipFill>
          <p:spPr>
            <a:xfrm>
              <a:off x="1676160" y="2490840"/>
              <a:ext cx="1752480" cy="156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5" name="Picture 4" descr=""/>
            <p:cNvPicPr/>
            <p:nvPr/>
          </p:nvPicPr>
          <p:blipFill>
            <a:blip r:embed="rId4"/>
            <a:stretch/>
          </p:blipFill>
          <p:spPr>
            <a:xfrm>
              <a:off x="1523880" y="5166000"/>
              <a:ext cx="1981080" cy="143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775f55"/>
                </a:solidFill>
                <a:latin typeface="Tw Cen MT"/>
              </a:rPr>
              <a:t>Filtro Rea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410080" y="429264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Tw Cen MT"/>
              </a:rPr>
              <a:t>4. Rechazo de banda</a:t>
            </a:r>
            <a:r>
              <a:rPr b="0" lang="es-ES" sz="1800" spc="-1" strike="noStrike">
                <a:solidFill>
                  <a:srgbClr val="000000"/>
                </a:solidFill>
                <a:latin typeface="Tw Cen MT"/>
              </a:rPr>
              <a:t>: Rechazan una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Tw Cen MT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w Cen MT"/>
              </a:rPr>
              <a:t> banda de frecuencias de una señal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8" name="7 Rectángulo"/>
          <p:cNvSpPr/>
          <p:nvPr/>
        </p:nvSpPr>
        <p:spPr>
          <a:xfrm>
            <a:off x="76320" y="1773360"/>
            <a:ext cx="419076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lnSpc>
                <a:spcPct val="90000"/>
              </a:lnSpc>
              <a:buClr>
                <a:srgbClr val="000000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Tw Cen MT"/>
              </a:rPr>
              <a:t>Pasa baja (LP</a:t>
            </a:r>
            <a:r>
              <a:rPr b="0" lang="es-ES" sz="1800" spc="-1" strike="noStrike">
                <a:solidFill>
                  <a:srgbClr val="000000"/>
                </a:solidFill>
                <a:latin typeface="Tw Cen MT"/>
              </a:rPr>
              <a:t>): Permite pasar las frecuencias bajas con muy pocas pérdidas y atenuar las altas frecuenci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8 Rectángulo"/>
          <p:cNvSpPr/>
          <p:nvPr/>
        </p:nvSpPr>
        <p:spPr>
          <a:xfrm>
            <a:off x="4876920" y="1773360"/>
            <a:ext cx="380988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Tw Cen MT"/>
              </a:rPr>
              <a:t>2. Pasa alta  (HP):</a:t>
            </a: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Tw Cen MT"/>
              </a:rPr>
              <a:t>Pasa las frecuencias por encima de una frecuencia denominada frecuencia de co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9 Rectángulo"/>
          <p:cNvSpPr/>
          <p:nvPr/>
        </p:nvSpPr>
        <p:spPr>
          <a:xfrm>
            <a:off x="0" y="4140360"/>
            <a:ext cx="426708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Tw Cen MT"/>
              </a:rPr>
              <a:t>3. Pasa Banda (BP):  </a:t>
            </a:r>
            <a:r>
              <a:rPr b="0" lang="es-ES" sz="1800" spc="-1" strike="noStrike">
                <a:solidFill>
                  <a:srgbClr val="000000"/>
                </a:solidFill>
                <a:latin typeface="Tw Cen MT"/>
              </a:rPr>
              <a:t>Pasa las señales en una banda de frecuencias con atenuación muy baja mientras que rechaza las frecuencias a ambos l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775f55"/>
                </a:solidFill>
                <a:latin typeface="Tw Cen MT"/>
              </a:rPr>
              <a:t>Símbolos Electrónicos de los Filtro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grpSp>
        <p:nvGrpSpPr>
          <p:cNvPr id="662" name="16 Grupo"/>
          <p:cNvGrpSpPr/>
          <p:nvPr/>
        </p:nvGrpSpPr>
        <p:grpSpPr>
          <a:xfrm>
            <a:off x="533520" y="2057400"/>
            <a:ext cx="7958160" cy="3809880"/>
            <a:chOff x="533520" y="2057400"/>
            <a:chExt cx="7958160" cy="3809880"/>
          </a:xfrm>
        </p:grpSpPr>
        <p:pic>
          <p:nvPicPr>
            <p:cNvPr id="663" name="Picture 2" descr=""/>
            <p:cNvPicPr/>
            <p:nvPr/>
          </p:nvPicPr>
          <p:blipFill>
            <a:blip r:embed="rId1"/>
            <a:stretch/>
          </p:blipFill>
          <p:spPr>
            <a:xfrm>
              <a:off x="609480" y="2057400"/>
              <a:ext cx="1219320" cy="59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4" name="Picture 3" descr=""/>
            <p:cNvPicPr/>
            <p:nvPr/>
          </p:nvPicPr>
          <p:blipFill>
            <a:blip r:embed="rId2"/>
            <a:stretch/>
          </p:blipFill>
          <p:spPr>
            <a:xfrm>
              <a:off x="2667240" y="2743200"/>
              <a:ext cx="119052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5" name="Picture 4" descr=""/>
            <p:cNvPicPr/>
            <p:nvPr/>
          </p:nvPicPr>
          <p:blipFill>
            <a:blip r:embed="rId3"/>
            <a:stretch/>
          </p:blipFill>
          <p:spPr>
            <a:xfrm>
              <a:off x="4725000" y="3504960"/>
              <a:ext cx="127620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6" name="Picture 5" descr=""/>
            <p:cNvPicPr/>
            <p:nvPr/>
          </p:nvPicPr>
          <p:blipFill>
            <a:blip r:embed="rId4"/>
            <a:stretch/>
          </p:blipFill>
          <p:spPr>
            <a:xfrm>
              <a:off x="6782400" y="4419720"/>
              <a:ext cx="1171440" cy="7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7" name="Picture 6" descr=""/>
            <p:cNvPicPr/>
            <p:nvPr/>
          </p:nvPicPr>
          <p:blipFill>
            <a:blip r:embed="rId5"/>
            <a:stretch/>
          </p:blipFill>
          <p:spPr>
            <a:xfrm>
              <a:off x="762120" y="3124080"/>
              <a:ext cx="132084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7" descr=""/>
            <p:cNvPicPr/>
            <p:nvPr/>
          </p:nvPicPr>
          <p:blipFill>
            <a:blip r:embed="rId6"/>
            <a:stretch/>
          </p:blipFill>
          <p:spPr>
            <a:xfrm>
              <a:off x="2895840" y="3675600"/>
              <a:ext cx="1103040" cy="36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9" name="Picture 8" descr=""/>
            <p:cNvPicPr/>
            <p:nvPr/>
          </p:nvPicPr>
          <p:blipFill>
            <a:blip r:embed="rId7"/>
            <a:stretch/>
          </p:blipFill>
          <p:spPr>
            <a:xfrm>
              <a:off x="4953600" y="4651920"/>
              <a:ext cx="1306440" cy="37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0" name="Picture 9" descr=""/>
            <p:cNvPicPr/>
            <p:nvPr/>
          </p:nvPicPr>
          <p:blipFill>
            <a:blip r:embed="rId8"/>
            <a:stretch/>
          </p:blipFill>
          <p:spPr>
            <a:xfrm>
              <a:off x="6858720" y="5562720"/>
              <a:ext cx="155304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2" descr=""/>
            <p:cNvPicPr/>
            <p:nvPr/>
          </p:nvPicPr>
          <p:blipFill>
            <a:blip r:embed="rId9"/>
            <a:stretch/>
          </p:blipFill>
          <p:spPr>
            <a:xfrm>
              <a:off x="533520" y="2057400"/>
              <a:ext cx="185796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3" descr=""/>
            <p:cNvPicPr/>
            <p:nvPr/>
          </p:nvPicPr>
          <p:blipFill>
            <a:blip r:embed="rId10"/>
            <a:stretch/>
          </p:blipFill>
          <p:spPr>
            <a:xfrm>
              <a:off x="2514960" y="2775600"/>
              <a:ext cx="1814400" cy="95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4" descr=""/>
            <p:cNvPicPr/>
            <p:nvPr/>
          </p:nvPicPr>
          <p:blipFill>
            <a:blip r:embed="rId11"/>
            <a:stretch/>
          </p:blipFill>
          <p:spPr>
            <a:xfrm>
              <a:off x="4648680" y="3504960"/>
              <a:ext cx="1945080" cy="116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5" descr=""/>
            <p:cNvPicPr/>
            <p:nvPr/>
          </p:nvPicPr>
          <p:blipFill>
            <a:blip r:embed="rId12"/>
            <a:stretch/>
          </p:blipFill>
          <p:spPr>
            <a:xfrm>
              <a:off x="6706440" y="4310640"/>
              <a:ext cx="1785240" cy="1175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1 Título"/>
          <p:cNvSpPr/>
          <p:nvPr/>
        </p:nvSpPr>
        <p:spPr>
          <a:xfrm>
            <a:off x="230040" y="125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4000" spc="-1" strike="noStrike">
                <a:solidFill>
                  <a:srgbClr val="775f55"/>
                </a:solidFill>
                <a:latin typeface="Tw Cen MT"/>
              </a:rPr>
              <a:t>Clasificación de los filtros según sus compone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2 Marcador de contenido"/>
          <p:cNvSpPr/>
          <p:nvPr/>
        </p:nvSpPr>
        <p:spPr>
          <a:xfrm>
            <a:off x="152280" y="182880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900" spc="-1" strike="noStrike">
                <a:solidFill>
                  <a:srgbClr val="000000"/>
                </a:solidFill>
                <a:latin typeface="Tw Cen MT"/>
              </a:rPr>
              <a:t>Pasivos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3 Marcador de texto"/>
          <p:cNvSpPr/>
          <p:nvPr/>
        </p:nvSpPr>
        <p:spPr>
          <a:xfrm>
            <a:off x="152280" y="2362320"/>
            <a:ext cx="182880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900" spc="-1" strike="noStrike">
                <a:solidFill>
                  <a:srgbClr val="000000"/>
                </a:solidFill>
                <a:latin typeface="Tw Cen MT"/>
              </a:rPr>
              <a:t>Activo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3 Marcador de texto"/>
          <p:cNvSpPr/>
          <p:nvPr/>
        </p:nvSpPr>
        <p:spPr>
          <a:xfrm>
            <a:off x="152280" y="2971800"/>
            <a:ext cx="51055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900" spc="-1" strike="noStrike">
                <a:solidFill>
                  <a:srgbClr val="000000"/>
                </a:solidFill>
                <a:latin typeface="Tw Cen MT"/>
              </a:rPr>
              <a:t>Capacidades conmutada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3 Marcador de texto"/>
          <p:cNvSpPr/>
          <p:nvPr/>
        </p:nvSpPr>
        <p:spPr>
          <a:xfrm>
            <a:off x="5943600" y="4724280"/>
            <a:ext cx="297180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900" spc="-1" strike="noStrike">
                <a:solidFill>
                  <a:srgbClr val="000000"/>
                </a:solidFill>
                <a:latin typeface="Tw Cen MT"/>
              </a:rPr>
              <a:t>Digital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3 Marcador de texto"/>
          <p:cNvSpPr/>
          <p:nvPr/>
        </p:nvSpPr>
        <p:spPr>
          <a:xfrm>
            <a:off x="685800" y="3505320"/>
            <a:ext cx="380988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71080" indent="-2710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 implementa en CI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10 Cerrar llave"/>
          <p:cNvSpPr/>
          <p:nvPr/>
        </p:nvSpPr>
        <p:spPr>
          <a:xfrm>
            <a:off x="4572000" y="1752480"/>
            <a:ext cx="533520" cy="2438640"/>
          </a:xfrm>
          <a:custGeom>
            <a:avLst/>
            <a:gdLst>
              <a:gd name="textAreaLeft" fmla="*/ 0 w 533520"/>
              <a:gd name="textAreaRight" fmla="*/ 192600 w 533520"/>
              <a:gd name="textAreaTop" fmla="*/ 13680 h 2438640"/>
              <a:gd name="textAreaBottom" fmla="*/ 242496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16200" y="10800"/>
                  <a:pt x="21600" y="10800"/>
                </a:cubicBezTo>
                <a:cubicBezTo>
                  <a:pt x="162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5400" y="21600"/>
                  <a:pt x="0" y="21600"/>
                </a:cubicBezTo>
              </a:path>
            </a:pathLst>
          </a:custGeom>
          <a:noFill/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3 Marcador de texto"/>
          <p:cNvSpPr/>
          <p:nvPr/>
        </p:nvSpPr>
        <p:spPr>
          <a:xfrm>
            <a:off x="152280" y="4267080"/>
            <a:ext cx="83059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R: Respuesta al impulso finita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3 Marcador de texto"/>
          <p:cNvSpPr/>
          <p:nvPr/>
        </p:nvSpPr>
        <p:spPr>
          <a:xfrm>
            <a:off x="152280" y="5122800"/>
            <a:ext cx="685800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IR: Respuesta al impulso infinita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13 Cerrar llave"/>
          <p:cNvSpPr/>
          <p:nvPr/>
        </p:nvSpPr>
        <p:spPr>
          <a:xfrm>
            <a:off x="5181480" y="4343400"/>
            <a:ext cx="609840" cy="1371600"/>
          </a:xfrm>
          <a:custGeom>
            <a:avLst/>
            <a:gdLst>
              <a:gd name="textAreaLeft" fmla="*/ 0 w 609840"/>
              <a:gd name="textAreaRight" fmla="*/ 220320 w 609840"/>
              <a:gd name="textAreaTop" fmla="*/ 15840 h 1371600"/>
              <a:gd name="textAreaBottom" fmla="*/ 13557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0"/>
                  <a:pt x="10800" y="800"/>
                </a:cubicBezTo>
                <a:lnTo>
                  <a:pt x="10800" y="10000"/>
                </a:lnTo>
                <a:cubicBezTo>
                  <a:pt x="10800" y="10400"/>
                  <a:pt x="16200" y="10800"/>
                  <a:pt x="21600" y="10800"/>
                </a:cubicBezTo>
                <a:cubicBezTo>
                  <a:pt x="16200" y="10800"/>
                  <a:pt x="10800" y="11200"/>
                  <a:pt x="10800" y="11600"/>
                </a:cubicBezTo>
                <a:lnTo>
                  <a:pt x="10800" y="20800"/>
                </a:lnTo>
                <a:cubicBezTo>
                  <a:pt x="10800" y="21200"/>
                  <a:pt x="5400" y="21600"/>
                  <a:pt x="0" y="21600"/>
                </a:cubicBezTo>
              </a:path>
            </a:pathLst>
          </a:custGeom>
          <a:noFill/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3 Marcador de texto"/>
          <p:cNvSpPr/>
          <p:nvPr/>
        </p:nvSpPr>
        <p:spPr>
          <a:xfrm>
            <a:off x="5724360" y="2349360"/>
            <a:ext cx="2971800" cy="7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900" spc="-1" strike="noStrike">
                <a:solidFill>
                  <a:srgbClr val="000000"/>
                </a:solidFill>
                <a:latin typeface="Tw Cen MT"/>
              </a:rPr>
              <a:t>Analógico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2"/>
          <p:cNvSpPr/>
          <p:nvPr/>
        </p:nvSpPr>
        <p:spPr>
          <a:xfrm>
            <a:off x="379440" y="189000"/>
            <a:ext cx="81532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775f55"/>
                </a:solidFill>
                <a:latin typeface="Tw Cen MT"/>
              </a:rPr>
              <a:t>Comparación de los filtros Pasivos vs Ac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3"/>
          <p:cNvSpPr/>
          <p:nvPr/>
        </p:nvSpPr>
        <p:spPr>
          <a:xfrm>
            <a:off x="228600" y="4648320"/>
            <a:ext cx="41911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Sensibilidad baj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Pueden operar con señales de amplitud al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3 Rectángulo"/>
          <p:cNvSpPr/>
          <p:nvPr/>
        </p:nvSpPr>
        <p:spPr>
          <a:xfrm>
            <a:off x="5486400" y="26668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Ancho de banda limi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La sensibilidad al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Alimentación ex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Amplitud de la,baj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4 Rectángulo"/>
          <p:cNvSpPr/>
          <p:nvPr/>
        </p:nvSpPr>
        <p:spPr>
          <a:xfrm>
            <a:off x="-16920" y="1447920"/>
            <a:ext cx="36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Tw Cen MT"/>
              </a:rPr>
              <a:t>filtro pasivo</a:t>
            </a:r>
            <a:r>
              <a:rPr b="0" lang="es-ES" sz="3200" spc="-1" strike="noStrike">
                <a:solidFill>
                  <a:srgbClr val="000000"/>
                </a:solidFill>
                <a:latin typeface="Tw Cen MT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5 Rectángulo"/>
          <p:cNvSpPr/>
          <p:nvPr/>
        </p:nvSpPr>
        <p:spPr>
          <a:xfrm>
            <a:off x="3001320" y="205740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w Cen MT"/>
              </a:rPr>
              <a:t>Desventaj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6 Rectángulo"/>
          <p:cNvSpPr/>
          <p:nvPr/>
        </p:nvSpPr>
        <p:spPr>
          <a:xfrm>
            <a:off x="304920" y="2666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No amplifica la señal de sal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Calculo de diseño muy tedio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Diseñado para una impedancia específi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7 Rectángulo"/>
          <p:cNvSpPr/>
          <p:nvPr/>
        </p:nvSpPr>
        <p:spPr>
          <a:xfrm>
            <a:off x="5089320" y="1447920"/>
            <a:ext cx="37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Tw Cen MT"/>
              </a:rPr>
              <a:t>filtro activos</a:t>
            </a:r>
            <a:r>
              <a:rPr b="0" lang="es-ES" sz="3200" spc="-1" strike="noStrike">
                <a:solidFill>
                  <a:srgbClr val="000000"/>
                </a:solidFill>
                <a:latin typeface="Tw Cen MT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8 Rectángulo"/>
          <p:cNvSpPr/>
          <p:nvPr/>
        </p:nvSpPr>
        <p:spPr>
          <a:xfrm>
            <a:off x="3187800" y="380988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w Cen MT"/>
              </a:rPr>
              <a:t>Ventajas</a:t>
            </a:r>
            <a:r>
              <a:rPr b="1" lang="es-ES" sz="24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9 Rectángulo"/>
          <p:cNvSpPr/>
          <p:nvPr/>
        </p:nvSpPr>
        <p:spPr>
          <a:xfrm>
            <a:off x="4572000" y="429264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Fabricación pueden </a:t>
            </a:r>
            <a:r>
              <a:rPr b="1" lang="es-PA" sz="1800" spc="-1" strike="noStrike">
                <a:solidFill>
                  <a:srgbClr val="000000"/>
                </a:solidFill>
                <a:latin typeface="Tw Cen MT"/>
              </a:rPr>
              <a:t>ser automatiz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El coste es mucho  menor que el de los pasiv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Los efectos parásitos se reducen debido al menor tamañ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Tw Cen MT"/>
              </a:rPr>
              <a:t>Proporcionan gananci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18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1" lang="es-PA" sz="1800" spc="-1" strike="noStrike">
                <a:solidFill>
                  <a:srgbClr val="000000"/>
                </a:solidFill>
                <a:latin typeface="Tw Cen MT"/>
              </a:rPr>
              <a:t>Pérdidas o atenuaciones nu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Filtros Activo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pSp>
        <p:nvGrpSpPr>
          <p:cNvPr id="696" name="52 Grupo"/>
          <p:cNvGrpSpPr/>
          <p:nvPr/>
        </p:nvGrpSpPr>
        <p:grpSpPr>
          <a:xfrm>
            <a:off x="250920" y="1835280"/>
            <a:ext cx="4481640" cy="4482000"/>
            <a:chOff x="250920" y="1835280"/>
            <a:chExt cx="4481640" cy="4482000"/>
          </a:xfrm>
        </p:grpSpPr>
        <p:grpSp>
          <p:nvGrpSpPr>
            <p:cNvPr id="697" name="17 Grupo"/>
            <p:cNvGrpSpPr/>
            <p:nvPr/>
          </p:nvGrpSpPr>
          <p:grpSpPr>
            <a:xfrm>
              <a:off x="250920" y="1835280"/>
              <a:ext cx="4481640" cy="1303560"/>
              <a:chOff x="250920" y="1835280"/>
              <a:chExt cx="4481640" cy="1303560"/>
            </a:xfrm>
          </p:grpSpPr>
          <p:sp>
            <p:nvSpPr>
              <p:cNvPr id="698" name="3 Rectángulo"/>
              <p:cNvSpPr/>
              <p:nvPr/>
            </p:nvSpPr>
            <p:spPr>
              <a:xfrm>
                <a:off x="1025280" y="1835280"/>
                <a:ext cx="2601000" cy="368280"/>
              </a:xfrm>
              <a:prstGeom prst="rect">
                <a:avLst/>
              </a:prstGeom>
              <a:noFill/>
              <a:ln w="28440">
                <a:solidFill>
                  <a:srgbClr val="558bb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Se componen de circuitos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4 Rectángulo"/>
              <p:cNvSpPr/>
              <p:nvPr/>
            </p:nvSpPr>
            <p:spPr>
              <a:xfrm>
                <a:off x="250920" y="2756520"/>
                <a:ext cx="863640" cy="368280"/>
              </a:xfrm>
              <a:prstGeom prst="rect">
                <a:avLst/>
              </a:prstGeom>
              <a:noFill/>
              <a:ln w="28440">
                <a:solidFill>
                  <a:srgbClr val="558bb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AO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5 Rectángulo"/>
              <p:cNvSpPr/>
              <p:nvPr/>
            </p:nvSpPr>
            <p:spPr>
              <a:xfrm>
                <a:off x="1770120" y="2770560"/>
                <a:ext cx="1179000" cy="368280"/>
              </a:xfrm>
              <a:prstGeom prst="rect">
                <a:avLst/>
              </a:prstGeom>
              <a:noFill/>
              <a:ln w="28440">
                <a:solidFill>
                  <a:srgbClr val="558bb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Resistores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6 Rectángulo"/>
              <p:cNvSpPr/>
              <p:nvPr/>
            </p:nvSpPr>
            <p:spPr>
              <a:xfrm>
                <a:off x="3354120" y="2756520"/>
                <a:ext cx="1378440" cy="368280"/>
              </a:xfrm>
              <a:prstGeom prst="rect">
                <a:avLst/>
              </a:prstGeom>
              <a:noFill/>
              <a:ln w="28440">
                <a:solidFill>
                  <a:srgbClr val="558bb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Capacitores.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8 Conector recto"/>
              <p:cNvSpPr/>
              <p:nvPr/>
            </p:nvSpPr>
            <p:spPr>
              <a:xfrm>
                <a:off x="538200" y="2421360"/>
                <a:ext cx="3675240" cy="0"/>
              </a:xfrm>
              <a:prstGeom prst="line">
                <a:avLst/>
              </a:prstGeom>
              <a:ln w="28440">
                <a:solidFill>
                  <a:srgbClr val="94b6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703" name="11 Conector recto de flecha"/>
              <p:cNvCxnSpPr/>
              <p:nvPr/>
            </p:nvCxnSpPr>
            <p:spPr>
              <a:xfrm>
                <a:off x="537840" y="2421360"/>
                <a:ext cx="1080" cy="288000"/>
              </a:xfrm>
              <a:prstGeom prst="straightConnector1">
                <a:avLst/>
              </a:prstGeom>
              <a:ln w="28440">
                <a:solidFill>
                  <a:srgbClr val="94b6d2"/>
                </a:solidFill>
                <a:miter/>
                <a:tailEnd len="med" type="arrow" w="med"/>
              </a:ln>
            </p:spPr>
          </p:cxnSp>
          <p:cxnSp>
            <p:nvCxnSpPr>
              <p:cNvPr id="704" name="13 Conector recto de flecha"/>
              <p:cNvCxnSpPr/>
              <p:nvPr/>
            </p:nvCxnSpPr>
            <p:spPr>
              <a:xfrm>
                <a:off x="2339640" y="2421360"/>
                <a:ext cx="1080" cy="288000"/>
              </a:xfrm>
              <a:prstGeom prst="straightConnector1">
                <a:avLst/>
              </a:prstGeom>
              <a:ln w="28440">
                <a:solidFill>
                  <a:srgbClr val="94b6d2"/>
                </a:solidFill>
                <a:miter/>
                <a:tailEnd len="med" type="arrow" w="med"/>
              </a:ln>
            </p:spPr>
          </p:cxnSp>
          <p:cxnSp>
            <p:nvCxnSpPr>
              <p:cNvPr id="705" name="14 Conector recto de flecha"/>
              <p:cNvCxnSpPr/>
              <p:nvPr/>
            </p:nvCxnSpPr>
            <p:spPr>
              <a:xfrm>
                <a:off x="4213080" y="2421360"/>
                <a:ext cx="1080" cy="288000"/>
              </a:xfrm>
              <a:prstGeom prst="straightConnector1">
                <a:avLst/>
              </a:prstGeom>
              <a:ln w="28440">
                <a:solidFill>
                  <a:srgbClr val="94b6d2"/>
                </a:solidFill>
                <a:miter/>
                <a:tailEnd len="med" type="arrow" w="med"/>
              </a:ln>
            </p:spPr>
          </p:cxnSp>
          <p:sp>
            <p:nvSpPr>
              <p:cNvPr id="706" name="16 Conector recto"/>
              <p:cNvSpPr/>
              <p:nvPr/>
            </p:nvSpPr>
            <p:spPr>
              <a:xfrm flipV="1">
                <a:off x="2340000" y="2205360"/>
                <a:ext cx="0" cy="216000"/>
              </a:xfrm>
              <a:prstGeom prst="line">
                <a:avLst/>
              </a:prstGeom>
              <a:ln w="28440">
                <a:solidFill>
                  <a:srgbClr val="94b6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51 Grupo"/>
            <p:cNvGrpSpPr/>
            <p:nvPr/>
          </p:nvGrpSpPr>
          <p:grpSpPr>
            <a:xfrm>
              <a:off x="826560" y="3500640"/>
              <a:ext cx="3237840" cy="2816640"/>
              <a:chOff x="826560" y="3500640"/>
              <a:chExt cx="3237840" cy="2816640"/>
            </a:xfrm>
          </p:grpSpPr>
          <p:sp>
            <p:nvSpPr>
              <p:cNvPr id="708" name="18 Flecha abajo"/>
              <p:cNvSpPr/>
              <p:nvPr/>
            </p:nvSpPr>
            <p:spPr>
              <a:xfrm>
                <a:off x="2268360" y="3500640"/>
                <a:ext cx="215640" cy="360360"/>
              </a:xfrm>
              <a:prstGeom prst="downArrow">
                <a:avLst>
                  <a:gd name="adj1" fmla="val 50000"/>
                  <a:gd name="adj2" fmla="val 50048"/>
                </a:avLst>
              </a:prstGeom>
              <a:solidFill>
                <a:srgbClr val="94b6d2"/>
              </a:solidFill>
              <a:ln w="19080">
                <a:solidFill>
                  <a:srgbClr val="6b85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19 Rectángulo"/>
              <p:cNvSpPr/>
              <p:nvPr/>
            </p:nvSpPr>
            <p:spPr>
              <a:xfrm>
                <a:off x="1085760" y="4004640"/>
                <a:ext cx="2978640" cy="368280"/>
              </a:xfrm>
              <a:prstGeom prst="rect">
                <a:avLst/>
              </a:prstGeom>
              <a:noFill/>
              <a:ln w="28440">
                <a:solidFill>
                  <a:srgbClr val="94b6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La  eliminación de las bobina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20 Rectángulo"/>
              <p:cNvSpPr/>
              <p:nvPr/>
            </p:nvSpPr>
            <p:spPr>
              <a:xfrm>
                <a:off x="1543680" y="4653000"/>
                <a:ext cx="1941120" cy="368280"/>
              </a:xfrm>
              <a:prstGeom prst="rect">
                <a:avLst/>
              </a:prstGeom>
              <a:noFill/>
              <a:ln w="28440">
                <a:solidFill>
                  <a:srgbClr val="94b6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Reduce el  tamaño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21 Rectángulo"/>
              <p:cNvSpPr/>
              <p:nvPr/>
            </p:nvSpPr>
            <p:spPr>
              <a:xfrm>
                <a:off x="1557000" y="5291640"/>
                <a:ext cx="1860120" cy="368280"/>
              </a:xfrm>
              <a:prstGeom prst="rect">
                <a:avLst/>
              </a:prstGeom>
              <a:noFill/>
              <a:ln w="28440">
                <a:solidFill>
                  <a:srgbClr val="94b6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Ahorro de  cost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22 Rectángulo"/>
              <p:cNvSpPr/>
              <p:nvPr/>
            </p:nvSpPr>
            <p:spPr>
              <a:xfrm>
                <a:off x="1474920" y="5949000"/>
                <a:ext cx="1944720" cy="368280"/>
              </a:xfrm>
              <a:prstGeom prst="rect">
                <a:avLst/>
              </a:prstGeom>
              <a:noFill/>
              <a:ln w="28440">
                <a:solidFill>
                  <a:srgbClr val="94b6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Frecuencias Bajas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713" name="24 Conector recto de flecha"/>
              <p:cNvCxnSpPr/>
              <p:nvPr/>
            </p:nvCxnSpPr>
            <p:spPr>
              <a:xfrm>
                <a:off x="2491920" y="4364280"/>
                <a:ext cx="1080" cy="289440"/>
              </a:xfrm>
              <a:prstGeom prst="straightConnector1">
                <a:avLst/>
              </a:prstGeom>
              <a:ln w="28440">
                <a:solidFill>
                  <a:srgbClr val="94b6d2"/>
                </a:solidFill>
                <a:miter/>
                <a:tailEnd len="med" type="arrow" w="med"/>
              </a:ln>
            </p:spPr>
          </p:cxnSp>
          <p:cxnSp>
            <p:nvCxnSpPr>
              <p:cNvPr id="714" name="25 Conector recto de flecha"/>
              <p:cNvCxnSpPr/>
              <p:nvPr/>
            </p:nvCxnSpPr>
            <p:spPr>
              <a:xfrm>
                <a:off x="2484000" y="5013360"/>
                <a:ext cx="1080" cy="288000"/>
              </a:xfrm>
              <a:prstGeom prst="straightConnector1">
                <a:avLst/>
              </a:prstGeom>
              <a:ln w="28440">
                <a:solidFill>
                  <a:srgbClr val="94b6d2"/>
                </a:solidFill>
                <a:miter/>
                <a:tailEnd len="med" type="arrow" w="med"/>
              </a:ln>
            </p:spPr>
          </p:cxnSp>
          <p:cxnSp>
            <p:nvCxnSpPr>
              <p:cNvPr id="715" name="37 Conector recto de flecha"/>
              <p:cNvCxnSpPr/>
              <p:nvPr/>
            </p:nvCxnSpPr>
            <p:spPr>
              <a:xfrm>
                <a:off x="1186920" y="4868640"/>
                <a:ext cx="361080" cy="1080"/>
              </a:xfrm>
              <a:prstGeom prst="straightConnector1">
                <a:avLst/>
              </a:prstGeom>
              <a:ln w="10080">
                <a:solidFill>
                  <a:srgbClr val="94b6d2"/>
                </a:solidFill>
                <a:miter/>
                <a:tailEnd len="med" type="triangle" w="med"/>
              </a:ln>
            </p:spPr>
          </p:cxnSp>
          <p:cxnSp>
            <p:nvCxnSpPr>
              <p:cNvPr id="716" name="41 Conector recto de flecha"/>
              <p:cNvCxnSpPr/>
              <p:nvPr/>
            </p:nvCxnSpPr>
            <p:spPr>
              <a:xfrm>
                <a:off x="1186920" y="5445000"/>
                <a:ext cx="361080" cy="1080"/>
              </a:xfrm>
              <a:prstGeom prst="straightConnector1">
                <a:avLst/>
              </a:prstGeom>
              <a:ln w="10080">
                <a:solidFill>
                  <a:srgbClr val="94b6d2"/>
                </a:solidFill>
                <a:miter/>
                <a:tailEnd len="med" type="triangle" w="med"/>
              </a:ln>
            </p:spPr>
          </p:cxnSp>
          <p:sp>
            <p:nvSpPr>
              <p:cNvPr id="717" name="43 Conector recto"/>
              <p:cNvSpPr/>
              <p:nvPr/>
            </p:nvSpPr>
            <p:spPr>
              <a:xfrm>
                <a:off x="1187280" y="4869000"/>
                <a:ext cx="0" cy="576000"/>
              </a:xfrm>
              <a:prstGeom prst="line">
                <a:avLst/>
              </a:prstGeom>
              <a:ln w="10080">
                <a:solidFill>
                  <a:srgbClr val="94b6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45 Conector recto"/>
              <p:cNvSpPr/>
              <p:nvPr/>
            </p:nvSpPr>
            <p:spPr>
              <a:xfrm>
                <a:off x="826920" y="5156280"/>
                <a:ext cx="360360" cy="0"/>
              </a:xfrm>
              <a:prstGeom prst="line">
                <a:avLst/>
              </a:prstGeom>
              <a:ln w="10080">
                <a:solidFill>
                  <a:srgbClr val="94b6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47 Conector recto"/>
              <p:cNvSpPr/>
              <p:nvPr/>
            </p:nvSpPr>
            <p:spPr>
              <a:xfrm>
                <a:off x="826920" y="5156280"/>
                <a:ext cx="0" cy="1152360"/>
              </a:xfrm>
              <a:prstGeom prst="line">
                <a:avLst/>
              </a:prstGeom>
              <a:ln w="10080">
                <a:solidFill>
                  <a:srgbClr val="94b6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720" name="48 Conector recto de flecha"/>
              <p:cNvCxnSpPr/>
              <p:nvPr/>
            </p:nvCxnSpPr>
            <p:spPr>
              <a:xfrm>
                <a:off x="826560" y="6237360"/>
                <a:ext cx="648360" cy="1080"/>
              </a:xfrm>
              <a:prstGeom prst="straightConnector1">
                <a:avLst/>
              </a:prstGeom>
              <a:ln w="10080">
                <a:solidFill>
                  <a:srgbClr val="94b6d2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721" name="66 Grupo"/>
          <p:cNvGrpSpPr/>
          <p:nvPr/>
        </p:nvGrpSpPr>
        <p:grpSpPr>
          <a:xfrm>
            <a:off x="5580000" y="1844640"/>
            <a:ext cx="2879640" cy="4460040"/>
            <a:chOff x="5580000" y="1844640"/>
            <a:chExt cx="2879640" cy="4460040"/>
          </a:xfrm>
        </p:grpSpPr>
        <p:sp>
          <p:nvSpPr>
            <p:cNvPr id="722" name="57 Rectángulo"/>
            <p:cNvSpPr/>
            <p:nvPr/>
          </p:nvSpPr>
          <p:spPr>
            <a:xfrm>
              <a:off x="5580000" y="2597760"/>
              <a:ext cx="2879640" cy="824040"/>
            </a:xfrm>
            <a:prstGeom prst="rect">
              <a:avLst/>
            </a:prstGeom>
            <a:noFill/>
            <a:ln w="28440">
              <a:solidFill>
                <a:srgbClr val="94b6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MFB</a:t>
              </a: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structura de Retroaliment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últi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58 Rectángulo"/>
            <p:cNvSpPr/>
            <p:nvPr/>
          </p:nvSpPr>
          <p:spPr>
            <a:xfrm>
              <a:off x="5580000" y="3749760"/>
              <a:ext cx="2807640" cy="824040"/>
            </a:xfrm>
            <a:prstGeom prst="rect">
              <a:avLst/>
            </a:prstGeom>
            <a:noFill/>
            <a:ln w="28440">
              <a:solidFill>
                <a:srgbClr val="94b6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VCVS</a:t>
              </a: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structura de Fuente de Voltaje Controlada por Voltaj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59 Rectángulo"/>
            <p:cNvSpPr/>
            <p:nvPr/>
          </p:nvSpPr>
          <p:spPr>
            <a:xfrm>
              <a:off x="5580000" y="4860000"/>
              <a:ext cx="2807640" cy="580680"/>
            </a:xfrm>
            <a:prstGeom prst="rect">
              <a:avLst/>
            </a:prstGeom>
            <a:noFill/>
            <a:ln w="28440">
              <a:solidFill>
                <a:srgbClr val="94b6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Variable de Esta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Con ganancia y sin gananc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60 Rectángulo"/>
            <p:cNvSpPr/>
            <p:nvPr/>
          </p:nvSpPr>
          <p:spPr>
            <a:xfrm>
              <a:off x="6083640" y="5724000"/>
              <a:ext cx="1943640" cy="580680"/>
            </a:xfrm>
            <a:prstGeom prst="rect">
              <a:avLst/>
            </a:prstGeom>
            <a:noFill/>
            <a:ln w="28440">
              <a:solidFill>
                <a:srgbClr val="94b6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Biqua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Bicuadrat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61 CuadroTexto"/>
            <p:cNvSpPr/>
            <p:nvPr/>
          </p:nvSpPr>
          <p:spPr>
            <a:xfrm>
              <a:off x="5867280" y="1844640"/>
              <a:ext cx="2376360" cy="368280"/>
            </a:xfrm>
            <a:prstGeom prst="rect">
              <a:avLst/>
            </a:prstGeom>
            <a:noFill/>
            <a:ln w="28440">
              <a:solidFill>
                <a:srgbClr val="355d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structur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7" name="62 Conector recto de flecha"/>
            <p:cNvCxnSpPr/>
            <p:nvPr/>
          </p:nvCxnSpPr>
          <p:spPr>
            <a:xfrm>
              <a:off x="7019280" y="2276280"/>
              <a:ext cx="1080" cy="289440"/>
            </a:xfrm>
            <a:prstGeom prst="straightConnector1">
              <a:avLst/>
            </a:prstGeom>
            <a:ln w="28440">
              <a:solidFill>
                <a:srgbClr val="94b6d2"/>
              </a:solidFill>
              <a:miter/>
              <a:tailEnd len="med" type="arrow" w="med"/>
            </a:ln>
          </p:spPr>
        </p:cxnSp>
        <p:cxnSp>
          <p:nvCxnSpPr>
            <p:cNvPr id="728" name="63 Conector recto de flecha"/>
            <p:cNvCxnSpPr/>
            <p:nvPr/>
          </p:nvCxnSpPr>
          <p:spPr>
            <a:xfrm>
              <a:off x="7019280" y="3500280"/>
              <a:ext cx="1080" cy="289440"/>
            </a:xfrm>
            <a:prstGeom prst="straightConnector1">
              <a:avLst/>
            </a:prstGeom>
            <a:ln w="28440">
              <a:solidFill>
                <a:srgbClr val="94b6d2"/>
              </a:solidFill>
              <a:miter/>
              <a:tailEnd len="med" type="arrow" w="med"/>
            </a:ln>
          </p:spPr>
        </p:cxnSp>
        <p:cxnSp>
          <p:nvCxnSpPr>
            <p:cNvPr id="729" name="64 Conector recto de flecha"/>
            <p:cNvCxnSpPr/>
            <p:nvPr/>
          </p:nvCxnSpPr>
          <p:spPr>
            <a:xfrm>
              <a:off x="7019280" y="4579920"/>
              <a:ext cx="1080" cy="289440"/>
            </a:xfrm>
            <a:prstGeom prst="straightConnector1">
              <a:avLst/>
            </a:prstGeom>
            <a:ln w="28440">
              <a:solidFill>
                <a:srgbClr val="94b6d2"/>
              </a:solidFill>
              <a:miter/>
              <a:tailEnd len="med" type="arrow" w="med"/>
            </a:ln>
          </p:spPr>
        </p:cxnSp>
        <p:cxnSp>
          <p:nvCxnSpPr>
            <p:cNvPr id="730" name="65 Conector recto de flecha"/>
            <p:cNvCxnSpPr/>
            <p:nvPr/>
          </p:nvCxnSpPr>
          <p:spPr>
            <a:xfrm>
              <a:off x="7019280" y="5445000"/>
              <a:ext cx="1080" cy="288000"/>
            </a:xfrm>
            <a:prstGeom prst="straightConnector1">
              <a:avLst/>
            </a:prstGeom>
            <a:ln w="28440">
              <a:solidFill>
                <a:srgbClr val="94b6d2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775f55"/>
                </a:solidFill>
                <a:latin typeface="Tw Cen MT"/>
              </a:rPr>
              <a:t>Aplicacion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80000"/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os circuitos se usan para aumentar o atenuar ciertas frecuencias en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80000"/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itos de audio,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80000"/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dores electrónicos de música,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80000"/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os sísmicos,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80000"/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itos de comunicaciones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80000"/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aboratorios de investigación para estudiar las componentes de frecuencia de señales tan diversas como: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Symbol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das cerebrales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Symbol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braciones mecánica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23:04:36Z</dcterms:created>
  <dc:creator>Pablo Turmero</dc:creator>
  <dc:description/>
  <dc:language>en-US</dc:language>
  <cp:lastModifiedBy>Pablo</cp:lastModifiedBy>
  <dcterms:modified xsi:type="dcterms:W3CDTF">2015-10-04T23:00:01Z</dcterms:modified>
  <cp:revision>74</cp:revision>
  <dc:subject/>
  <dc:title/>
</cp:coreProperties>
</file>