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B86-A132-42A4-A85C-1FE4F841E6A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DD43-D6F6-427E-A3FA-182C70ACCE2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FB3-1D98-411D-B161-CB4503C7EFA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3C3F-AC13-462E-8A08-6348D6FA3C9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2F1C-CA7F-4864-AF2E-0AB4843E991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A90B-335F-472C-A00C-9BB64D02644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4497-5C3E-492C-ABBE-1A2AC72CBB8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ABA2-E8EC-44BD-B1A8-797D2CCE917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C9A4-C6D7-4B9E-A1D8-1FEFF00119A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4F3A-1020-419E-93C7-54971A446AD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9AAE-E947-4F54-AEA0-F0CE76FEE21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7F7D-AA9F-4619-B6BF-23B658C4051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B7C6-78CE-4B26-8C48-C65094D1B8A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EAD-D437-46E9-A831-5F402932985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2033-E138-4C06-9FE7-0E8BD5CD86A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676-B042-4546-9EA0-DE8EB899E4D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7DD-1174-43B1-95ED-B1E577BD911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1529-D14E-48B6-ABB4-A84A3A7A816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16AD-753B-4CA3-AC64-8063E984766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D55C-9DA0-43BC-8E6A-25F00928358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32A9-A067-4F06-AB1B-47BC1D7EEC9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428A-3C20-44E4-8E5C-F6D00637D6F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D9A-9D6C-4592-8462-3056A78814D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0B37-0B87-4104-BC9E-DF7C7CFEA7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B8D8-11C7-4A27-A724-B48B36AA1D1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190-71FC-40AC-AC89-DF165EBDD77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59E-3140-404C-AB5B-6A995A27C7B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5D3-BA91-4C3E-963E-855FDB27B9B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23A-0CCF-4837-B574-A358F1ED6DC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64F-7999-4969-AFF8-AE4EB913E0E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8364-DEC6-4AA9-9887-BE68962D46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4889-87B5-4F19-9201-4F2ADEF1C5A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F73-7446-4E73-BDB2-A77BA82088B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485-0E8A-47C7-A765-2B8D6435987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2F8F-B9D0-4CB1-A790-7A942A9DB04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0FB-8616-42C3-98F8-4AB6EB2E24D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1FD3-575A-4410-91D0-CCFD0C064A2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AD4-444D-4E93-9EFD-8DCD2F0FE8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4D7-B6A8-486B-B8BB-C7C0EE82FB2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01F3-F22E-4DFC-B4F7-B6E9A05035E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7A5-F415-4AC8-897C-2DBBE0E5E1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337F-8ADB-4B81-9AD6-5EE0D0F8D04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95E-AC87-4499-B249-BF9BDF8447D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8C6F-E755-45A6-A445-A41AB84FB03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002-06A8-4089-963F-256C1816B51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46AD-53F8-417D-A611-3467C25AEEB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ECA-59EC-4261-9F46-CDC7C3DE0EC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490-B229-483C-A49E-379D92622C8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1371-15EA-4C2E-A2E8-FADD1270DDD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2F13-FB68-4C20-B048-48EA0B02783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E637-2724-490E-84F8-BA8FB4AFA60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1F8B-974F-4C0A-AF38-20B54F35AD9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065-B63A-4CA9-A76E-33D6B45337B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7E5-19EB-417C-8AA9-A654519F3AE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378-D4DF-4AAA-8B5C-40BA7713542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C020-C5E7-4710-9333-E726E685380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195-89A4-4D90-8D84-FADBF928CE4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97C7-D03F-4D49-A7B7-FF0C1B5068F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EE3-85FA-4E79-A20D-6E5D4748D8C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557-D232-4DE0-830A-47D28EDC70E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1FDF-7FC6-4AD3-A040-9ADCE69FAD5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7F2D-7120-4375-992B-7FED3FEB43D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775E-1D81-446F-A90B-AB1BCB748F0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A0F9-BBDC-4753-A060-059610D2563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0F5-B509-4B2D-BC29-3A58923D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AF4-3ABF-41EF-8651-9540169C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8D78C-84FB-4D21-B302-19A3FB3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88C02-A580-42E2-BC80-6C74081F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6567A-51CD-4B5B-B711-2E66956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BD68-DC01-475F-9E6F-9489DDF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DD09A-3276-405A-B957-730B73B6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9586-B7E4-4718-8616-2BE6A82C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059BE-3844-451A-AA8B-38A5CA63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4494F-4D1E-4454-9CD5-B3F1329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6EB3B-DCAD-4C50-A5B0-D9E9F0FA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83921-5257-42C2-ABDC-89DAA03F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2F4-2271-4F41-9F39-BD06E3E7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69606-AD3E-4C1A-8DD7-C368313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B55B3-436E-4601-860C-105BC6E0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239E4-7E9D-4782-8F48-176D982A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55F77-0FEB-41D9-9094-80DC458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3FD87-7C90-4A7B-81AD-EE6D7EB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EDFBD-7C83-46BC-BDAC-B45F4A9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C8CC3-8A83-4C42-BE70-9B01AFA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48B05-DD94-4D89-AEFC-488D041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A9248-C215-4CE0-BBFD-37267F2D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33DE6-E381-43E8-AE48-AB77D0E5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BA3-AFD3-44F4-B809-BA45592D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52625-6E06-4360-9AD4-D9374E64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3DECD-8CF9-42F9-BA44-289E7AAF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403C-56C1-4A55-8D2E-B2A8C481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F7FC1-4F73-4D68-969B-A368581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1FED0-53C2-44FC-994F-9D3E6C7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E60E6-FE77-4B1F-BEBF-7DDE57C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24F24-F14A-463E-B403-3552F6F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0E15-7605-4419-9983-C5A41CF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72662-C66A-49BB-8594-E068E37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14AC-4FE3-4A3C-B10F-CF0362D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4DA5-F1EB-4288-8F69-1C90B27A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BDE6-AD55-430D-9464-BAA637E9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C506C-414C-43F0-88FC-18524179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261E5-0346-4AFA-9C15-70BA697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BE178-6BB5-4847-A0D0-BB8B7CE2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C0F19-7DA8-4E39-B5F6-A1EAC9AF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37BCF-D93A-4B8F-BD09-D67A550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0243D-1B76-49F6-A83D-FB904E3C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515C7-EB9C-472D-9390-853A8E4E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1E0D7-973F-44DB-AB06-995D887D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1045E-8029-4A41-AE5F-02BB2E5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4DFB-6B5C-4E72-B517-A912DD92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B2904-0D35-463B-9FB1-669E5DC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C9008-B031-4474-A830-2656318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3BC24-C2AE-4444-9E03-CD353EA4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4503C-8D5D-4720-A0DA-6E351041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9F3FE-71C5-44BD-9BCE-9325091D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FF9A-DC51-49B6-BBEC-E0554CD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28F4-A18D-4163-91B2-D044E55F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CF7-F868-4E33-9F62-3B8C9A95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646F-0BE7-4D95-919C-95AC2588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41F-37B3-4D64-A692-CD1D7E9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A4A-FA24-42F0-ABD4-399E00C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0BC4-E291-4991-A3F2-52B915C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60BF-D6FD-4E24-8460-233E0F9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4CD-2D82-4EC1-BAC7-CD976A47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79C4-BCC6-49A9-B22E-62193085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35BD-D10B-4673-AC40-DD954310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2669-4090-424B-BB72-17B8FC6D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EAB6-FBF1-4D7C-8900-33016D26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A254-CAD5-4B0B-BDE8-BFF1BDF3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3F446-4FA6-455A-99A1-5B28A58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3A3A-60E3-4A21-8FC2-2CDF304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C6B-6E66-4801-8885-E970024A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89D3-53D2-47AC-AA96-96C5C93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8E75-58D4-4D41-B974-508965E6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AB74-D101-4376-B70F-81239D9D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0B79-E0AF-458F-8DB5-3D97583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DB39-8405-4C9C-A0B7-D838E23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B041-7EE4-47FC-B538-E88B3B06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96D7-6ED3-4C4B-83AF-E882377F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3609-AD54-44BE-A9C3-D54A2339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3512-3625-49AE-9FEC-5A0101C2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1B18-08A6-4089-9E89-053CFEA0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B0C-BCC0-4271-9B6D-4FA74A8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96DA-FCCD-407D-9B45-B50FA93D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3B03-49EE-451E-B79A-444D80DA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9E8E-5F7E-4262-9257-EFA1B7E1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5D1A-C0EA-4D8C-9818-16D4F0C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5296-1E70-4B03-BF4B-A4B1EBA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F647-CE17-4A5B-ADAF-ADB3447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8C36-3CC8-4E76-9ACC-CE4217B5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B17C-2AFE-4AEE-ABB1-4FC5F91D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8A39-C932-4F36-BEB1-209DFE1D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FA62-B60F-4AEF-B350-865588B7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19A-2EE4-4912-9984-3ACDE87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4A0F-9FE0-4D9E-9083-2584C95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64C9-5AB1-405A-86C0-C26E89F7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7CAF-F8A6-4BA9-8EAA-AC67B407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3867-C39C-49B6-A93D-B5E1B2B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199E1-1E7F-4CEF-B22F-9316254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F8F8-D22E-4ABD-BF95-640D8D6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2DE3-EABB-42F5-839C-CFCB374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0E5A-371B-414C-8479-C7C5862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AE85-2426-4175-8F8E-CE41967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A329-5CF6-4174-9204-30BEA742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33A-5156-434E-BE32-5A45D6C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BB2B-C07B-4381-A2C2-329A0E39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8D00-34EA-4B7D-AFC4-50E974DC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7CDF-0947-4815-A453-93752DD0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FCC9A-E05A-4BD3-9397-6F531ED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9291-3F6C-4CB3-ABE0-C0572C11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6F08-C77A-4E2F-85F4-169B67C3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B0A87-7151-4E83-B5A9-866CB505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6742-2DD7-449A-88A8-453B5A7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9E090-144F-4997-8ABC-89C3207F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7E33-F1FC-498D-89C0-1DC988A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535-B514-46EA-A399-1F6ED2A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05AD-D387-40E5-B132-1D9F2A7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3DCC2-5096-4E74-8931-C6B1A3ED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187A-9973-44EC-BFDB-892EDDEC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6AAE-6DF5-4BEC-8B84-BC5B3A5E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88F4F-B4E2-4BC6-AAB7-9DDB46D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6FE5-2C51-4145-B76F-02B6C8D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5699-323D-4B49-949B-28E4B12F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D6DAB-807D-4B5B-B7F4-73AC5CF3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BE83-EBD9-44DA-8F3A-5A5B3845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044EC-F5F0-450C-BCF5-50DCB15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69E-7006-4419-839D-D3A1870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736D3-579E-44A6-A111-FE39C03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2798-61A1-4081-83E8-8E719E7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F687-3FB7-4FDE-AA1F-D00CF11D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1AA1-7C8A-48A2-B0B4-E15127D6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AADA-8CB5-4F5D-8ADA-0645F26E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F093F-014F-4DC7-839A-87B9A48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AA5A3-E930-4B2D-89CE-7C4076D1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06E5D-60D3-4B9F-A3DF-DFA472C4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EF5D7-644C-42CA-A023-4B5280DC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F9CF-72EF-42B1-A9F4-DF0D593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A53-EBAB-4B5B-87C7-AA083BC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47111-3417-4DDC-9AA1-2718CF90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6F884-EF76-45FC-A2EE-AB3FC7C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8A88-DC05-4BBA-8D00-6508132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A1402-DB5E-497B-A6B2-466334E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13866-03E9-411A-9D63-77E54893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D438D-3D7B-4487-8915-DC18B369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D73D5-906E-4BF8-BC08-CF2814A4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236F9-77A7-4538-B0CC-5A87B9C0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0DAFA-5D8A-4093-AA86-00170F15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A728A-B618-41EA-9D87-141B70C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E249-F2F5-4551-BDF2-0002313803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352-366B-4BC4-9FED-4A1DE9CEA4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467C-10E4-49E1-A682-ADF3D379A88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4C20-956F-4A9C-92D0-E0293D14E7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9F3D-F9B6-4904-9063-F1E3794BEF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41C5-D29D-4CCD-88C2-D24776719E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E888-6AF8-4BF4-86FF-C8B0D85277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03E-57B7-4316-8A56-76950F4A40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9BCC-D5AB-45CD-8FD2-06C4D3BE6D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C593-52E7-44D2-B974-1A9FEE165E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FDCA-52FB-4468-AAEB-C0021374FF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7578-40B7-4605-BF08-1405735CC25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73.xml"/><Relationship Id="rId1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estado senoidal permanente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forzada a funciones sen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6858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con la ecuación diferenci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39099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4"/>
              <p:cNvSpPr txBox="1"/>
              <p:nvPr/>
            </p:nvSpPr>
            <p:spPr>
              <a:xfrm>
                <a:off x="3402000" y="2739960"/>
                <a:ext cx="2338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304920" y="3657600"/>
            <a:ext cx="845820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i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 senoidal, en general puede ser de la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ituyendo se ob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forzada a funciones sen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647640" y="1828800"/>
            <a:ext cx="784872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upando términos con seno y con coseno, se ob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debe cumplirse para tod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 lo tanto los coeficientes del seno y del coseno deben ser cero.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457200" y="4572000"/>
            <a:ext cx="380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nd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33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4419720" y="4419720"/>
                <a:ext cx="44956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7" name="Text Box 7"/>
          <p:cNvSpPr/>
          <p:nvPr/>
        </p:nvSpPr>
        <p:spPr>
          <a:xfrm>
            <a:off x="533520" y="5334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puesta forzada se escribe como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3271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8"/>
              <p:cNvSpPr txBox="1"/>
              <p:nvPr/>
            </p:nvSpPr>
            <p:spPr>
              <a:xfrm>
                <a:off x="2590920" y="5943600"/>
                <a:ext cx="4572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forzada a funciones sen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762120" y="182880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una respuesta de la for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emos a determinar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sarrollando el coseno de la resta de á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2457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4"/>
              <p:cNvSpPr txBox="1"/>
              <p:nvPr/>
            </p:nvSpPr>
            <p:spPr>
              <a:xfrm>
                <a:off x="1295280" y="3657600"/>
                <a:ext cx="69724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Text Box 6"/>
          <p:cNvSpPr/>
          <p:nvPr/>
        </p:nvSpPr>
        <p:spPr>
          <a:xfrm>
            <a:off x="838080" y="4191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quí encontramos qu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3024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7"/>
              <p:cNvSpPr txBox="1"/>
              <p:nvPr/>
            </p:nvSpPr>
            <p:spPr>
              <a:xfrm>
                <a:off x="1943280" y="4876920"/>
                <a:ext cx="5257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yA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Text Box 9"/>
          <p:cNvSpPr/>
          <p:nvPr/>
        </p:nvSpPr>
        <p:spPr>
          <a:xfrm>
            <a:off x="762120" y="5791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e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3905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3238560" y="5850000"/>
                <a:ext cx="21715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forzada a funciones sen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68580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ndo al cuadrado las anteriores y suma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2381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409760" y="2727360"/>
                <a:ext cx="63244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Text Box 6"/>
          <p:cNvSpPr/>
          <p:nvPr/>
        </p:nvSpPr>
        <p:spPr>
          <a:xfrm>
            <a:off x="762120" y="3962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onsecu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4167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7"/>
              <p:cNvSpPr txBox="1"/>
              <p:nvPr/>
            </p:nvSpPr>
            <p:spPr>
              <a:xfrm>
                <a:off x="3733920" y="3962520"/>
                <a:ext cx="1218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Rectangle 10"/>
          <p:cNvSpPr/>
          <p:nvPr/>
        </p:nvSpPr>
        <p:spPr>
          <a:xfrm>
            <a:off x="4043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9"/>
              <p:cNvSpPr txBox="1"/>
              <p:nvPr/>
            </p:nvSpPr>
            <p:spPr>
              <a:xfrm>
                <a:off x="6095880" y="3962520"/>
                <a:ext cx="1447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Rectangle 12"/>
          <p:cNvSpPr/>
          <p:nvPr/>
        </p:nvSpPr>
        <p:spPr>
          <a:xfrm>
            <a:off x="3386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1"/>
              <p:cNvSpPr txBox="1"/>
              <p:nvPr/>
            </p:nvSpPr>
            <p:spPr>
              <a:xfrm>
                <a:off x="2781360" y="5181480"/>
                <a:ext cx="35812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79280" y="1268280"/>
            <a:ext cx="53341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1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0mH,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8 cos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= 30e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mega = 1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f;hold of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empo = linspace(0,8.1*1e-3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 = 8*cos(1e3*tiemp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8/sqrt(R^2+omega^2*L^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se = atan(omega*L/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= a*cos(1e3*tiempo - fa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ot(tiempo,v,'-b',tiempo,i,':b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label('tiempo (sec.)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label('v (volts), i(amps)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gend('v(t)','i(t)'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Object 4"/>
          <p:cNvGraphicFramePr/>
          <p:nvPr/>
        </p:nvGraphicFramePr>
        <p:xfrm>
          <a:off x="4791240" y="3141720"/>
          <a:ext cx="435276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3141720"/>
                    <a:ext cx="435276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2" descr="10-5"/>
          <p:cNvPicPr/>
          <p:nvPr/>
        </p:nvPicPr>
        <p:blipFill>
          <a:blip r:embed="rId1"/>
          <a:stretch/>
        </p:blipFill>
        <p:spPr>
          <a:xfrm>
            <a:off x="2556000" y="2205000"/>
            <a:ext cx="4824360" cy="16160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3"/>
          <p:cNvSpPr/>
          <p:nvPr/>
        </p:nvSpPr>
        <p:spPr>
          <a:xfrm>
            <a:off x="826920" y="1773360"/>
            <a:ext cx="770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contrar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n la siguiente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4"/>
          <p:cNvSpPr/>
          <p:nvPr/>
        </p:nvSpPr>
        <p:spPr>
          <a:xfrm>
            <a:off x="5724360" y="30686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55"/>
          <p:cNvSpPr/>
          <p:nvPr/>
        </p:nvSpPr>
        <p:spPr>
          <a:xfrm>
            <a:off x="5651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Object 56"/>
          <p:cNvGraphicFramePr/>
          <p:nvPr/>
        </p:nvGraphicFramePr>
        <p:xfrm>
          <a:off x="684360" y="4640400"/>
          <a:ext cx="4679640" cy="16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1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640400"/>
                    <a:ext cx="46796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57"/>
          <p:cNvSpPr/>
          <p:nvPr/>
        </p:nvSpPr>
        <p:spPr>
          <a:xfrm>
            <a:off x="539640" y="4221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contrar el equivalente de Thévenin entre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9"/>
          <p:cNvSpPr/>
          <p:nvPr/>
        </p:nvSpPr>
        <p:spPr>
          <a:xfrm>
            <a:off x="622764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ircuito equival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60"/>
          <p:cNvGraphicFramePr/>
          <p:nvPr/>
        </p:nvGraphicFramePr>
        <p:xfrm>
          <a:off x="5435640" y="4797360"/>
          <a:ext cx="3240000" cy="156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5" name="Object 6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4797360"/>
                    <a:ext cx="324000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rea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Object 5"/>
          <p:cNvGraphicFramePr/>
          <p:nvPr/>
        </p:nvGraphicFramePr>
        <p:xfrm>
          <a:off x="2124000" y="2565360"/>
          <a:ext cx="49672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565360"/>
                    <a:ext cx="49672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Line 6"/>
          <p:cNvSpPr/>
          <p:nvPr/>
        </p:nvSpPr>
        <p:spPr>
          <a:xfrm>
            <a:off x="3203640" y="29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514836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8"/>
          <p:cNvSpPr/>
          <p:nvPr/>
        </p:nvSpPr>
        <p:spPr>
          <a:xfrm>
            <a:off x="5724360" y="306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539640" y="1484280"/>
            <a:ext cx="8136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a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= 40 cos 800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V en el circuito de la figura. Recurra al teorema Thévenin en los casos en que esté sea más adecuado, y determine el valor en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= 0 para: a)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b )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,b)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, c)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 Donde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s el voltaje en la bob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1476360" y="566100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spuesta: 18.71 mA, 15.97 V, 5.32 mA, 24.0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3"/>
              <p:cNvSpPr txBox="1"/>
              <p:nvPr/>
            </p:nvSpPr>
            <p:spPr>
              <a:xfrm>
                <a:off x="2268360" y="4724280"/>
                <a:ext cx="3816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forzada complej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609480" y="175248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ente senoidal esta descrit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puesta en alguna rama de la red eléctrica será de 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forzada senoidal siempre da lugar a una respuesta forzada senoidal de la misma frecuencia en un circuito lineal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Object 4"/>
          <p:cNvGraphicFramePr/>
          <p:nvPr/>
        </p:nvGraphicFramePr>
        <p:xfrm>
          <a:off x="2743200" y="4724280"/>
          <a:ext cx="318600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724280"/>
                    <a:ext cx="318600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5"/>
          <p:cNvSpPr/>
          <p:nvPr/>
        </p:nvSpPr>
        <p:spPr>
          <a:xfrm>
            <a:off x="1219320" y="5410080"/>
            <a:ext cx="33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fr-F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5791320" y="5410080"/>
            <a:ext cx="2590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forzada comple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609480" y="1981080"/>
            <a:ext cx="800100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ambiamos la fase de la fuente senoidal en 90º, la respuesta también cambiará su fase en 90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90º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90º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plicamos un voltaje imaginario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V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drem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Object 4"/>
          <p:cNvGraphicFramePr/>
          <p:nvPr/>
        </p:nvGraphicFramePr>
        <p:xfrm>
          <a:off x="2743200" y="4724280"/>
          <a:ext cx="318600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724280"/>
                    <a:ext cx="318600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Text Box 5"/>
          <p:cNvSpPr/>
          <p:nvPr/>
        </p:nvSpPr>
        <p:spPr>
          <a:xfrm>
            <a:off x="1219320" y="5410080"/>
            <a:ext cx="33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V</a:t>
            </a:r>
            <a:r>
              <a:rPr b="0" i="1" lang="fr-F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5791320" y="5410080"/>
            <a:ext cx="2590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forzada comple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685800" y="1981080"/>
            <a:ext cx="78487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aplica un voltaje complejo, se obtendrá una respuest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V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anterior se puede escribir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Object 4"/>
          <p:cNvGraphicFramePr/>
          <p:nvPr/>
        </p:nvGraphicFramePr>
        <p:xfrm>
          <a:off x="2743200" y="4724280"/>
          <a:ext cx="318600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724280"/>
                    <a:ext cx="318600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Text Box 5"/>
          <p:cNvSpPr/>
          <p:nvPr/>
        </p:nvSpPr>
        <p:spPr>
          <a:xfrm>
            <a:off x="1828800" y="5486400"/>
            <a:ext cx="33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fr-F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791320" y="5410080"/>
            <a:ext cx="2590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ensión senoi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826920" y="1197000"/>
            <a:ext cx="2286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900000" y="2133720"/>
            <a:ext cx="331164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mplitud de la 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rg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826920" y="386064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se repite cada 2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es  y por lo tanto el periodo 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senoidal es de 2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recuencia 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676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forzada comple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685800" y="1981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mos resolver la ecuación del circuito RL utilizando estas funciones comple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39099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4"/>
              <p:cNvSpPr txBox="1"/>
              <p:nvPr/>
            </p:nvSpPr>
            <p:spPr>
              <a:xfrm>
                <a:off x="3657600" y="2560680"/>
                <a:ext cx="2286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Text Box 6"/>
          <p:cNvSpPr/>
          <p:nvPr/>
        </p:nvSpPr>
        <p:spPr>
          <a:xfrm>
            <a:off x="762120" y="3200400"/>
            <a:ext cx="792468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itu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fr-F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8"/>
          <p:cNvSpPr/>
          <p:nvPr/>
        </p:nvSpPr>
        <p:spPr>
          <a:xfrm>
            <a:off x="3529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1025"/>
              <p:cNvSpPr txBox="1"/>
              <p:nvPr/>
            </p:nvSpPr>
            <p:spPr>
              <a:xfrm>
                <a:off x="3200400" y="5715000"/>
                <a:ext cx="3305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forzada comple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68580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 fácil 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4024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4"/>
              <p:cNvSpPr txBox="1"/>
              <p:nvPr/>
            </p:nvSpPr>
            <p:spPr>
              <a:xfrm>
                <a:off x="3476520" y="2639880"/>
                <a:ext cx="1552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Rectangle 7"/>
          <p:cNvSpPr/>
          <p:nvPr/>
        </p:nvSpPr>
        <p:spPr>
          <a:xfrm>
            <a:off x="4114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6"/>
              <p:cNvSpPr txBox="1"/>
              <p:nvPr/>
            </p:nvSpPr>
            <p:spPr>
              <a:xfrm>
                <a:off x="3657600" y="3538440"/>
                <a:ext cx="1371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Rectangle 9"/>
          <p:cNvSpPr/>
          <p:nvPr/>
        </p:nvSpPr>
        <p:spPr>
          <a:xfrm>
            <a:off x="35863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8"/>
              <p:cNvSpPr txBox="1"/>
              <p:nvPr/>
            </p:nvSpPr>
            <p:spPr>
              <a:xfrm>
                <a:off x="3276720" y="4314960"/>
                <a:ext cx="27432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8" name="Text Box 10"/>
          <p:cNvSpPr/>
          <p:nvPr/>
        </p:nvSpPr>
        <p:spPr>
          <a:xfrm>
            <a:off x="533520" y="5029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iente es la parte real de este número complej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3386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1"/>
              <p:cNvSpPr txBox="1"/>
              <p:nvPr/>
            </p:nvSpPr>
            <p:spPr>
              <a:xfrm>
                <a:off x="3009960" y="5715000"/>
                <a:ext cx="3124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84360" y="1844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e la tensión compleja en la combinación en serie de un resistor de 50 Ohms y un inductor de 95mH si fluye la corriente compleja 8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3000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356000" y="5805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.: 4.6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(3000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+ 29.7°)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rea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84360" y="184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e la tensión compleja que se produce cuando se aplica una corriente compleja 4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800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a la combinación serie de un capacitor de 1mF y un resistor de 2 O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4356000" y="5805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.: 9.43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(800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– 32°)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7"/>
              <p:cNvSpPr txBox="1"/>
              <p:nvPr/>
            </p:nvSpPr>
            <p:spPr>
              <a:xfrm>
                <a:off x="1619280" y="4221000"/>
                <a:ext cx="14400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a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187280" y="1700280"/>
            <a:ext cx="7129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corriente o la tensió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 una frecuencia determina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se caracteriza por solo dos parámetros: amplitud y ángulo de f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representación compleja de tensión o corriente contiene el factor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w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este puede eliminarse ya que no contiene información 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presentaremos la corriente o la tensión como números complejos en forma polar, a esta representación se le llam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resentación fasori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presentación fas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900000" y="1989000"/>
            <a:ext cx="7704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de transformación fasorial mediante el cua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cambia 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Re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- representación en el domin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presentación en el domino de l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presentación fasorial es válida para alguna frecu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900000" y="184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100 cos(4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30°)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uprime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400 rad/s y se obtiene el fa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755640" y="3645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sen(5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10°)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cribe como función cos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sen(58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110°)  =  5 cos(58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110° + 90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5 cos(58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2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o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826920" y="2060640"/>
            <a:ext cx="792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5 sen(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10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3 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5(sen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s 110°+ 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en 11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3 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5(– sen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en 20° – 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s 2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3 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5(– 0.342sen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 0.940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1.71cos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1.698sen 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2.41 cos(6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 134.8°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2.41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134.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826920" y="227664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 cos(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30°)+ 4 sen(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– 100°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(cos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 30°– sen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 30°) + 4(sen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 100° – cos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 100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8(0.866 cos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– 0.5 sen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+ 4(–0.174 sen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– 0.985 cos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6.928 cos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– 4 sen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– 0.696sen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– 3.940 cos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2.988 cos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– 4.696 sen 4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 5.566 cos(4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+ 57.53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5.566/_57.5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versión al dominio del tiem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826920" y="1989000"/>
            <a:ext cx="749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fasor con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500 rad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2.41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–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transform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2.41 cos(5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45°) V = 2.41 sen(5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5°)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afica de la función s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685800" y="1905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senoidal en función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Object 4"/>
          <p:cNvGraphicFramePr/>
          <p:nvPr/>
        </p:nvGraphicFramePr>
        <p:xfrm>
          <a:off x="2733840" y="2743200"/>
          <a:ext cx="36763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743200"/>
                    <a:ext cx="36763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533520" y="54864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ódigo en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fplot('sin',[-pi/2 2*pi+0.1 -1.5 1.5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39640" y="112536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a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2000 rad/s y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1 ms. Encuentre la corriente instantánea para los siguientes fa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 = 10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0°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10 cos(2000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+ 90°) = 10 sen(2000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 en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1 ms se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bt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 sen(2 rad) = 9.0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) 20 +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0 +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22.6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6.6°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22.36 cos(2rad +26.6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22.36 cos(114.6°+ 26.6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22.36 cos(141.2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17.43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) 20 + j(10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0°)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0 + j(10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0°) = 20 + j(9.397 + j3.4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16.58 + j9.397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19.06 cos(114.6° + 29.54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19.06 cos(144.14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– 15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rea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11280" y="1989000"/>
            <a:ext cx="820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rese cada una de las siguientes corrientes como un fas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) 12 sen(40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110°)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) –7sen 80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3cos 80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600 rad/s, determine el valor instantáneo de cada una de las siguientes tensiones en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5 m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) 70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0°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) –60 +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4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2124000" y="5877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os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B sen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os(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-B/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4859280" y="5950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fasorial para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611280" y="1557360"/>
            <a:ext cx="7777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lación corriente voltaje para el resistor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licando un voltaje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 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iminando el términ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encont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forma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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= R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 ta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fasorial para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500040" y="1071720"/>
            <a:ext cx="78487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licando un voltaje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iminando el términ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encont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forma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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= j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 ta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611280" y="17733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lique una tensión 8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0° a una frecuenci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 100 rad/s en un inductor de 4H y determine la corriente fasorial y la corriente en el dominio d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s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°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(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2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°)(0.02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2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0.02 cos(100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140°)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fasorial para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684360" y="1700280"/>
            <a:ext cx="784836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plicando un corriente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iminando el término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encontr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forma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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or ta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sumen de relaciones fasor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7" name="Object 10"/>
          <p:cNvGraphicFramePr/>
          <p:nvPr/>
        </p:nvGraphicFramePr>
        <p:xfrm>
          <a:off x="1403280" y="2997360"/>
          <a:ext cx="158436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997360"/>
                    <a:ext cx="15843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17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Object 9"/>
          <p:cNvGraphicFramePr/>
          <p:nvPr/>
        </p:nvGraphicFramePr>
        <p:xfrm>
          <a:off x="6300720" y="2924280"/>
          <a:ext cx="1582920" cy="87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924280"/>
                    <a:ext cx="15829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Rectangle 19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Object 8"/>
          <p:cNvGraphicFramePr/>
          <p:nvPr/>
        </p:nvGraphicFramePr>
        <p:xfrm>
          <a:off x="1332000" y="3860640"/>
          <a:ext cx="1727280" cy="7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860640"/>
                    <a:ext cx="172728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Rectangle 21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7"/>
              <p:cNvSpPr txBox="1"/>
              <p:nvPr/>
            </p:nvSpPr>
            <p:spPr>
              <a:xfrm>
                <a:off x="3348000" y="3933720"/>
                <a:ext cx="865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7" name="Rectangle 24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Object 6"/>
          <p:cNvGraphicFramePr/>
          <p:nvPr/>
        </p:nvGraphicFramePr>
        <p:xfrm>
          <a:off x="6372360" y="3860640"/>
          <a:ext cx="151128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72360" y="3860640"/>
                    <a:ext cx="15112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Rectangle 26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Object 5"/>
          <p:cNvGraphicFramePr/>
          <p:nvPr/>
        </p:nvGraphicFramePr>
        <p:xfrm>
          <a:off x="1547640" y="4869000"/>
          <a:ext cx="148608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4869000"/>
                    <a:ext cx="1486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28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4"/>
              <p:cNvSpPr txBox="1"/>
              <p:nvPr/>
            </p:nvSpPr>
            <p:spPr>
              <a:xfrm>
                <a:off x="3348000" y="4970520"/>
                <a:ext cx="936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5" name="Rectangle 31"/>
          <p:cNvSpPr/>
          <p:nvPr/>
        </p:nvSpPr>
        <p:spPr>
          <a:xfrm>
            <a:off x="1720800" y="2516040"/>
            <a:ext cx="142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Object 3"/>
          <p:cNvGraphicFramePr/>
          <p:nvPr/>
        </p:nvGraphicFramePr>
        <p:xfrm>
          <a:off x="6300720" y="4724280"/>
          <a:ext cx="15843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7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4724280"/>
                    <a:ext cx="15843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403280" y="2421000"/>
          <a:ext cx="6624720" cy="3182760"/>
        </p:xfrm>
        <a:graphic>
          <a:graphicData uri="http://schemas.openxmlformats.org/drawingml/2006/table">
            <a:tbl>
              <a:tblPr/>
              <a:tblGrid>
                <a:gridCol w="1656000"/>
                <a:gridCol w="1657080"/>
                <a:gridCol w="1656000"/>
                <a:gridCol w="1655640"/>
              </a:tblGrid>
              <a:tr h="4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inio del tiemp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ino de l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eyes de Kirchoff con fa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611280" y="1773360"/>
            <a:ext cx="7993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+…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imos cada tensión real por una compleja y eliminamos el término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encont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ircuito RL con fa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Object 5"/>
          <p:cNvGraphicFramePr/>
          <p:nvPr/>
        </p:nvGraphicFramePr>
        <p:xfrm>
          <a:off x="179280" y="2637000"/>
          <a:ext cx="3132360" cy="21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37000"/>
                    <a:ext cx="313236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Text Box 6"/>
          <p:cNvSpPr/>
          <p:nvPr/>
        </p:nvSpPr>
        <p:spPr>
          <a:xfrm>
            <a:off x="3995640" y="1197000"/>
            <a:ext cx="4537080" cy="48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tilizando las relaciones fas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spejando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tomamos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n ángulo de fase 0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forma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7"/>
              <p:cNvSpPr txBox="1"/>
              <p:nvPr/>
            </p:nvSpPr>
            <p:spPr>
              <a:xfrm>
                <a:off x="5076720" y="6021360"/>
                <a:ext cx="3024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rea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755640" y="1916280"/>
            <a:ext cx="799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la figura se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200 rad/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.2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8° A e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3° A. Determine a)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b)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Object 6"/>
          <p:cNvGraphicFramePr/>
          <p:nvPr/>
        </p:nvGraphicFramePr>
        <p:xfrm>
          <a:off x="1979640" y="3068640"/>
          <a:ext cx="547200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068640"/>
                    <a:ext cx="547200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Text Box 7"/>
          <p:cNvSpPr/>
          <p:nvPr/>
        </p:nvSpPr>
        <p:spPr>
          <a:xfrm>
            <a:off x="971640" y="5589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3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31° A , 34.9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4.5° V, 3.99cos(120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17.42°)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7621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senoidal en función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97180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Object 3"/>
          <p:cNvGraphicFramePr/>
          <p:nvPr/>
        </p:nvGraphicFramePr>
        <p:xfrm>
          <a:off x="2590920" y="2362320"/>
          <a:ext cx="39621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39621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10.7 Imped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Las relaciones de corriente-tensión para los tres elementos pasivos en el dominio de la frecuencia son (suponiendo que satisface la convención de signos pasiv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Si las ecuaciones se escriben como proporciones tensión fasorial/corriente faso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Object 4"/>
          <p:cNvGraphicFramePr/>
          <p:nvPr/>
        </p:nvGraphicFramePr>
        <p:xfrm>
          <a:off x="2075040" y="3522600"/>
          <a:ext cx="554508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5040" y="3522600"/>
                    <a:ext cx="5545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5"/>
          <p:cNvGraphicFramePr/>
          <p:nvPr/>
        </p:nvGraphicFramePr>
        <p:xfrm>
          <a:off x="2362320" y="5334120"/>
          <a:ext cx="541008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334120"/>
                    <a:ext cx="54100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10.7 Imped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Definamos la proporción entre la tensión fasorial y la corriente fasorial como la </a:t>
            </a:r>
            <a:r>
              <a:rPr b="1" i="1" lang="es-MX" sz="2000" spc="-1" strike="noStrike">
                <a:solidFill>
                  <a:srgbClr val="000000"/>
                </a:solidFill>
                <a:latin typeface="Arial Unicode MS"/>
              </a:rPr>
              <a:t>impedancia,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 simbolizada por la letra Z. Es una cantidad compleja que tiene las dimensiones de ohms; no es un fasor y no puede transformarse al dominio del tiempo multiplicándola por e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s-MX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 y tomando la parte r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 Unicode MS"/>
              </a:rPr>
              <a:t>R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=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=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 Unicode MS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=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5105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sistencia y reacta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2 CuadroTexto"/>
          <p:cNvSpPr/>
          <p:nvPr/>
        </p:nvSpPr>
        <p:spPr>
          <a:xfrm>
            <a:off x="714240" y="1857240"/>
            <a:ext cx="792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a parte real de la impedancia se le llama res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Re[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parte imaginaria de la impedancia se conoce como reactancia. Esta puede ser inductiva o capacitiva. Si es mayor que cero es inductiva, sino, es capac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Im[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0  -- reactancia in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 0  -- reactancia capac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Combinaciones de impedancia en s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La impedancia del inductor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La impedancia del capacitor está d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La impedancia de la combinación en serie corresponde por tan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Object 4"/>
          <p:cNvGraphicFramePr/>
          <p:nvPr/>
        </p:nvGraphicFramePr>
        <p:xfrm>
          <a:off x="2909880" y="2514600"/>
          <a:ext cx="33242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9880" y="2514600"/>
                    <a:ext cx="3324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5"/>
          <p:cNvGraphicFramePr/>
          <p:nvPr/>
        </p:nvGraphicFramePr>
        <p:xfrm>
          <a:off x="2457360" y="3552840"/>
          <a:ext cx="462924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7360" y="3552840"/>
                    <a:ext cx="46292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6"/>
          <p:cNvGraphicFramePr/>
          <p:nvPr/>
        </p:nvGraphicFramePr>
        <p:xfrm>
          <a:off x="1752480" y="5600880"/>
          <a:ext cx="609624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5600880"/>
                    <a:ext cx="6096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 Unicode MS"/>
              </a:rPr>
              <a:t>Combinaciones de impedancia en paral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La combinación en paralelo del inductor de 5mH y el capacitor de 10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F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=10000 rad/s se calcula del mismo modo que las resistencias en parale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Con 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=5000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 rad/s, el equivalente en paralelo es –j2.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El número complejo o cantidad que representa a la impedancia se podría expresar en forma polar o en forma rectan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Object 4"/>
          <p:cNvGraphicFramePr/>
          <p:nvPr/>
        </p:nvGraphicFramePr>
        <p:xfrm>
          <a:off x="2085840" y="3273480"/>
          <a:ext cx="522936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3273480"/>
                    <a:ext cx="52293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Ejemplo 1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Determine la impedancia equivalente de la red de la figura 10.17a, la cual produce una pulsación de operación de 5 rad/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a) Red que se va a sustituir por una sola impedancia equivalente. b) Los elementos se sustituyen por sus impedancias 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= 5 rad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Object 4"/>
          <p:cNvGraphicFramePr/>
          <p:nvPr/>
        </p:nvGraphicFramePr>
        <p:xfrm>
          <a:off x="1066680" y="3147840"/>
          <a:ext cx="789480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47840"/>
                    <a:ext cx="78948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Ejemplo 1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Empezamos conviertiendo los resistencias, capacitores y la bobina en impedancias. Luego de examinar la red resultante, observamos que la impedancia de 6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 está en paralelo con –j0.4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. Esta convinación equival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Object 4"/>
          <p:cNvGraphicFramePr/>
          <p:nvPr/>
        </p:nvGraphicFramePr>
        <p:xfrm>
          <a:off x="1828800" y="4343400"/>
          <a:ext cx="641016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343400"/>
                    <a:ext cx="6410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Ejemplo 1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La expresión anterior está en serie con las impedancias -j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 y 10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, de modo que tenem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Esta nueva impedancia está en paralelo con 10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 Unicode MS"/>
              </a:rPr>
              <a:t>, por lo que la impedancia equivalente de la red resul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manera alternativa, expresamos la impedancia en forma polar como 6.511</a:t>
            </a:r>
            <a:r>
              <a:rPr b="0" lang="es-MX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49.2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Object 4"/>
          <p:cNvGraphicFramePr/>
          <p:nvPr/>
        </p:nvGraphicFramePr>
        <p:xfrm>
          <a:off x="1782720" y="2819520"/>
          <a:ext cx="644688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819520"/>
                    <a:ext cx="64468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5"/>
          <p:cNvGraphicFramePr/>
          <p:nvPr/>
        </p:nvGraphicFramePr>
        <p:xfrm>
          <a:off x="1866960" y="4081320"/>
          <a:ext cx="5981760" cy="12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4081320"/>
                    <a:ext cx="59817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Prác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10.9. De acuerdo con la red de la figura 10.18, determine la impeancia de entrada Z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 Unicode MS"/>
              </a:rPr>
              <a:t>ent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 que se mediría entre las terminales: a)a y g; b)b y g; c) a y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 Unicode MS"/>
              </a:rPr>
              <a:t>Respuestas: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 2.81 + j4.49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; 1.798 – j1.24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; 0.1124 – j3.82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Object 4"/>
          <p:cNvGraphicFramePr/>
          <p:nvPr/>
        </p:nvGraphicFramePr>
        <p:xfrm>
          <a:off x="1820880" y="3048120"/>
          <a:ext cx="5951520" cy="25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3048120"/>
                    <a:ext cx="5951520" cy="25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Ejemplo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Determine la corriente i(t) en el circuito mostrado en la figura 10.19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a)Circuito RLC para el que se desea la respuesta forzada senoidal i(t). b)Equivalente en el dominio de la frecuencia del circuito dado e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=300 rad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so y adelant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68580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general de la senoid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4572000" y="1600200"/>
            <a:ext cx="3581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666880" y="2209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gulo de fas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08628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Object 6"/>
          <p:cNvGraphicFramePr/>
          <p:nvPr/>
        </p:nvGraphicFramePr>
        <p:xfrm>
          <a:off x="762120" y="2743200"/>
          <a:ext cx="4038480" cy="29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4038480" cy="29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Text Box 8"/>
          <p:cNvSpPr/>
          <p:nvPr/>
        </p:nvSpPr>
        <p:spPr>
          <a:xfrm>
            <a:off x="5257800" y="2743200"/>
            <a:ext cx="35812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ódigo en 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archivo v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 = v(t,Vm,w,the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Vm*sin(w*t+the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fplot('v',[-pi/2 2*pi+0.1 -1 1],[],[],'-r',0.5,1,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fplot('v',[-pi/2 2*pi+0.1 -1 1],[],[],'-b',0.5,1,pi/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609480" y="5715000"/>
            <a:ext cx="8153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qu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delanta  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es. Las señales se encuentran fuera de fas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Técnicas de 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Identifique el objetivo del probl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Recopile la información cono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Decida la técnica la mejor técnica que mejor se ajusta al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Construya un conjunto apropiado de ecu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Determine si se quiere información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Busque la 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Unicode MS"/>
              </a:rPr>
              <a:t>Verifique la solución.¿Es razonable o la esper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Práctica ( tarea #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42960" y="10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10.10. En el circuito de la figura 10.20, determine en el dominio de la frecuencia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)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; b)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; c)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 Unicode MS"/>
              </a:rPr>
              <a:t>Respuesta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28.3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45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 A; b) 20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9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 A; c)20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Object 4"/>
          <p:cNvGraphicFramePr/>
          <p:nvPr/>
        </p:nvGraphicFramePr>
        <p:xfrm>
          <a:off x="2500200" y="1785960"/>
          <a:ext cx="3800520" cy="22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785960"/>
                    <a:ext cx="380052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6 CuadroTexto"/>
          <p:cNvSpPr/>
          <p:nvPr/>
        </p:nvSpPr>
        <p:spPr>
          <a:xfrm>
            <a:off x="2286000" y="4857840"/>
            <a:ext cx="450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ción en Octa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R = 5; ZC = -5j;ZL = 5j; V =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ZC + ZL*ZR/(ZL+Z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1 = V/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2 = ZL/(ZL+ZR)*I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3 = ZR/(ZL+ZR)*I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10.8 Admi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Definimos la admitancia Y de un elemento de circuito como la proporción entre la corriente fasorial y la tensión faso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Y por 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La parte real de la admitancia es la coductancia G, y la parte imaginaria de la admitancia es la es la susceptancia B, éstas se miden en siemens. De tal man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Object 4"/>
          <p:cNvGraphicFramePr/>
          <p:nvPr/>
        </p:nvGraphicFramePr>
        <p:xfrm>
          <a:off x="4033800" y="2895480"/>
          <a:ext cx="10764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3800" y="2895480"/>
                    <a:ext cx="10764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5"/>
          <p:cNvGraphicFramePr/>
          <p:nvPr/>
        </p:nvGraphicFramePr>
        <p:xfrm>
          <a:off x="4076640" y="3886200"/>
          <a:ext cx="10288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3886200"/>
                    <a:ext cx="10288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2971800" y="5724360"/>
          <a:ext cx="42958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724360"/>
                    <a:ext cx="42958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nálisis nodal y de mal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Object 3"/>
          <p:cNvGraphicFramePr/>
          <p:nvPr/>
        </p:nvGraphicFramePr>
        <p:xfrm>
          <a:off x="1300320" y="3429000"/>
          <a:ext cx="65419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3429000"/>
                    <a:ext cx="65419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 Box 4"/>
          <p:cNvSpPr/>
          <p:nvPr/>
        </p:nvSpPr>
        <p:spPr>
          <a:xfrm>
            <a:off x="682560" y="256536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Determine las tensiones de nodo 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(t) y 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 Unicode MS"/>
              </a:rPr>
              <a:t>(t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lución en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200" y="1928880"/>
            <a:ext cx="46800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Ejercicio 1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determine las tensiones de nodo v1(t) y v2(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                 +---C1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+------+----+----+        +-----+---+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^      |    |    +---L1---+     |   |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I1     R1   C2                 L2   R2 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|      |    |                   |   |  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+------+----+-------------------+---+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C1 = -5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C2 = -10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R1 = 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R2 = 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L1 = 10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L2 = 5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I1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I2 = -0.5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4"/>
          <p:cNvSpPr/>
          <p:nvPr/>
        </p:nvSpPr>
        <p:spPr>
          <a:xfrm>
            <a:off x="4857840" y="1714680"/>
            <a:ext cx="3816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Matriz de admita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Y = [1/R1+1/C2+1/C1+1/L1,-1/C1-1/L1;-1/C1-1/L1,1/R2+1/L2+1/C1+1/L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vector de corr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I = [I1;I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solu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V = inv(Y)*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voltaj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polar(V(1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polar(V(2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asor2t(V(1)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asor2t(V(2)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Solu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3.69855 cos(10t + (-37.7468°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% 1.37361 cos(10t + (-15.9454°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928800" y="550080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unction polar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r = abs(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a = angle(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printf('%g/_%g°\n',r,a*180/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4"/>
          <p:cNvSpPr/>
          <p:nvPr/>
        </p:nvSpPr>
        <p:spPr>
          <a:xfrm>
            <a:off x="4429080" y="5429160"/>
            <a:ext cx="45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unction fasor2t(v,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x = abs(v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 = angle(v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urier New"/>
              </a:rPr>
              <a:t>fprintf('%g cos(%gt + (%g°))\n',x,w,f*180/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Unicode MS"/>
              </a:rPr>
              <a:t>Práctica ( tarea #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3"/>
          <p:cNvSpPr/>
          <p:nvPr/>
        </p:nvSpPr>
        <p:spPr>
          <a:xfrm>
            <a:off x="571680" y="1928880"/>
            <a:ext cx="7961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Escriba un guión en Octave para obtener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(t) en el circuito de la figura si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(t) = 20 cos1000t V y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(t) = 20 sen1000t V. Utilice análisis de mallas. Ayuda: primero redibuje la red utilizando impedancias, luego plantee las ecuaciones con fasores e imped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3564000" y="6093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70.7cos(1000t – 45°)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Object 5"/>
          <p:cNvGraphicFramePr/>
          <p:nvPr/>
        </p:nvGraphicFramePr>
        <p:xfrm>
          <a:off x="2340000" y="3591000"/>
          <a:ext cx="475308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91000"/>
                    <a:ext cx="475308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 de super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3852720" y="3645000"/>
            <a:ext cx="107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MX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2700360" y="4510080"/>
            <a:ext cx="107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4 -</a:t>
            </a:r>
            <a:r>
              <a:rPr b="0" i="1" lang="es-MX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4932360" y="4510080"/>
            <a:ext cx="107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2 +</a:t>
            </a:r>
            <a:r>
              <a:rPr b="0" i="1" lang="es-MX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6"/>
          <p:cNvSpPr/>
          <p:nvPr/>
        </p:nvSpPr>
        <p:spPr>
          <a:xfrm flipH="1">
            <a:off x="1763280" y="3789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7"/>
          <p:cNvSpPr/>
          <p:nvPr/>
        </p:nvSpPr>
        <p:spPr>
          <a:xfrm>
            <a:off x="320364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4932360" y="378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9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0"/>
          <p:cNvSpPr/>
          <p:nvPr/>
        </p:nvSpPr>
        <p:spPr>
          <a:xfrm>
            <a:off x="6948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1"/>
          <p:cNvSpPr/>
          <p:nvPr/>
        </p:nvSpPr>
        <p:spPr>
          <a:xfrm>
            <a:off x="6948360" y="494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1763640" y="5661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3"/>
          <p:cNvSpPr/>
          <p:nvPr/>
        </p:nvSpPr>
        <p:spPr>
          <a:xfrm flipV="1">
            <a:off x="1763640" y="50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4"/>
          <p:cNvSpPr/>
          <p:nvPr/>
        </p:nvSpPr>
        <p:spPr>
          <a:xfrm flipV="1">
            <a:off x="176364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15"/>
          <p:cNvSpPr/>
          <p:nvPr/>
        </p:nvSpPr>
        <p:spPr>
          <a:xfrm>
            <a:off x="320364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6"/>
          <p:cNvSpPr/>
          <p:nvPr/>
        </p:nvSpPr>
        <p:spPr>
          <a:xfrm>
            <a:off x="550872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17"/>
          <p:cNvSpPr/>
          <p:nvPr/>
        </p:nvSpPr>
        <p:spPr>
          <a:xfrm>
            <a:off x="1547640" y="4581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8"/>
          <p:cNvSpPr/>
          <p:nvPr/>
        </p:nvSpPr>
        <p:spPr>
          <a:xfrm flipV="1">
            <a:off x="1763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19"/>
          <p:cNvSpPr/>
          <p:nvPr/>
        </p:nvSpPr>
        <p:spPr>
          <a:xfrm>
            <a:off x="6732720" y="450864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0"/>
          <p:cNvSpPr/>
          <p:nvPr/>
        </p:nvSpPr>
        <p:spPr>
          <a:xfrm flipV="1">
            <a:off x="6948360" y="4579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21"/>
          <p:cNvSpPr/>
          <p:nvPr/>
        </p:nvSpPr>
        <p:spPr>
          <a:xfrm>
            <a:off x="828720" y="46134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7237440" y="4629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-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3"/>
          <p:cNvSpPr/>
          <p:nvPr/>
        </p:nvSpPr>
        <p:spPr>
          <a:xfrm>
            <a:off x="2987640" y="3357720"/>
            <a:ext cx="10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4"/>
          <p:cNvSpPr/>
          <p:nvPr/>
        </p:nvSpPr>
        <p:spPr>
          <a:xfrm>
            <a:off x="826920" y="2421000"/>
            <a:ext cx="806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contrar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por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lución con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250920" y="2349360"/>
            <a:ext cx="5184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Ejercicio 10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determine las tensiones de nodo V1 por superposi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+-------+---Z1---+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^       |        |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I1      Z2       Z3    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|       |        |     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+-------+--------+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%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I1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I2 = 0.5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Z1 = -10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Z2 = 4 - 2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urier New"/>
              </a:rPr>
              <a:t>Z3 = 2 + 4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3995640" y="3255840"/>
            <a:ext cx="4897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alculamos voltaje debido a I1, I2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La impedancia equivalente es Z2 || (Z1+Z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Zeq = Z2*(Z1+Z3)/(Z2+Z1+Z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1L = I1*Z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alculamos voltaje debido a I2, I1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encontramos la corriente que pasa p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Z2 aplicando el divis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orriente entre Z2+Z1 y Z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Z2 = Z3/(Z1+Z2+Z3)*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1R = IZ2*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el voltaje real es la suma de V1L y V1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1 = V1L + V1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Solu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V1 =   1.0000 - 2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quivalente de Théven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3852720" y="3645000"/>
            <a:ext cx="107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MX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2700360" y="4510080"/>
            <a:ext cx="107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4 -</a:t>
            </a:r>
            <a:r>
              <a:rPr b="0" i="1" lang="es-MX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4932360" y="4510080"/>
            <a:ext cx="107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2 +</a:t>
            </a:r>
            <a:r>
              <a:rPr b="0" i="1" lang="es-MX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6"/>
          <p:cNvSpPr/>
          <p:nvPr/>
        </p:nvSpPr>
        <p:spPr>
          <a:xfrm flipH="1">
            <a:off x="1763280" y="3789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320364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8"/>
          <p:cNvSpPr/>
          <p:nvPr/>
        </p:nvSpPr>
        <p:spPr>
          <a:xfrm>
            <a:off x="4932360" y="378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9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0"/>
          <p:cNvSpPr/>
          <p:nvPr/>
        </p:nvSpPr>
        <p:spPr>
          <a:xfrm>
            <a:off x="6948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1"/>
          <p:cNvSpPr/>
          <p:nvPr/>
        </p:nvSpPr>
        <p:spPr>
          <a:xfrm>
            <a:off x="6948360" y="494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2"/>
          <p:cNvSpPr/>
          <p:nvPr/>
        </p:nvSpPr>
        <p:spPr>
          <a:xfrm flipH="1">
            <a:off x="1763640" y="5661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3"/>
          <p:cNvSpPr/>
          <p:nvPr/>
        </p:nvSpPr>
        <p:spPr>
          <a:xfrm flipV="1">
            <a:off x="1763640" y="50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4"/>
          <p:cNvSpPr/>
          <p:nvPr/>
        </p:nvSpPr>
        <p:spPr>
          <a:xfrm flipV="1">
            <a:off x="176364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5"/>
          <p:cNvSpPr/>
          <p:nvPr/>
        </p:nvSpPr>
        <p:spPr>
          <a:xfrm>
            <a:off x="320364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6"/>
          <p:cNvSpPr/>
          <p:nvPr/>
        </p:nvSpPr>
        <p:spPr>
          <a:xfrm>
            <a:off x="550872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17"/>
          <p:cNvSpPr/>
          <p:nvPr/>
        </p:nvSpPr>
        <p:spPr>
          <a:xfrm>
            <a:off x="1547640" y="4581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8"/>
          <p:cNvSpPr/>
          <p:nvPr/>
        </p:nvSpPr>
        <p:spPr>
          <a:xfrm flipV="1">
            <a:off x="1763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19"/>
          <p:cNvSpPr/>
          <p:nvPr/>
        </p:nvSpPr>
        <p:spPr>
          <a:xfrm>
            <a:off x="6732720" y="450864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20"/>
          <p:cNvSpPr/>
          <p:nvPr/>
        </p:nvSpPr>
        <p:spPr>
          <a:xfrm flipV="1">
            <a:off x="6948360" y="4579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1"/>
          <p:cNvSpPr/>
          <p:nvPr/>
        </p:nvSpPr>
        <p:spPr>
          <a:xfrm>
            <a:off x="828720" y="46134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2"/>
          <p:cNvSpPr/>
          <p:nvPr/>
        </p:nvSpPr>
        <p:spPr>
          <a:xfrm>
            <a:off x="7237440" y="4629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-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3"/>
          <p:cNvSpPr/>
          <p:nvPr/>
        </p:nvSpPr>
        <p:spPr>
          <a:xfrm>
            <a:off x="2987640" y="3357720"/>
            <a:ext cx="10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4"/>
          <p:cNvSpPr/>
          <p:nvPr/>
        </p:nvSpPr>
        <p:spPr>
          <a:xfrm>
            <a:off x="826920" y="2421000"/>
            <a:ext cx="8066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contrar el equivalente de Thévenin visto desde la impedancia de –j10 y con el encontrar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lución con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"/>
          <p:cNvSpPr/>
          <p:nvPr/>
        </p:nvSpPr>
        <p:spPr>
          <a:xfrm>
            <a:off x="324000" y="2349360"/>
            <a:ext cx="5184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Ejercicio 10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Encontrar el equivalente de Thévenin vis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desde la impedancia de -j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        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+-------+---Z1---+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^       |        |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I1      Z2       Z3    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|       |        |     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+-------+--------+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1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2 = 0.5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Z1 = -10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Z2 = 4 - 2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Z3 = 2 + 4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3924360" y="3357720"/>
            <a:ext cx="5040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alculamos el voltaje de circuito abie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visto desde La impedancia 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oc = I1*Z2 - I2*Z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alculamos la impedancia equival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Zeq = Z2 + Z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podemos calcular la corriente I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ircula en 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 = Voc/(Z1+Ze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on esta corriente en el circuito 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calculamos V1 restando de I1 el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de I y multiplicando por 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1 = (I1-I)*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Solu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% V1 =   1.0000 - 2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ón de senos a cosen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2666880" y="2209680"/>
            <a:ext cx="464832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umple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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2629080" y="3429000"/>
            <a:ext cx="3886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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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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450072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2666880" y="5257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∓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rea #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900000" y="2349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termine la corriente i que pasa por el resistor de 4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 Deberá utilizar la superposición ya que las fuentes son de distint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Object 4"/>
          <p:cNvGraphicFramePr/>
          <p:nvPr/>
        </p:nvGraphicFramePr>
        <p:xfrm>
          <a:off x="2124000" y="3944880"/>
          <a:ext cx="568800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44880"/>
                    <a:ext cx="568800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Text Box 5"/>
          <p:cNvSpPr/>
          <p:nvPr/>
        </p:nvSpPr>
        <p:spPr>
          <a:xfrm>
            <a:off x="1042920" y="6165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 = 175.6 cos(2t – 20.55°) + 547.1 cos(5t – 43.16°)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457200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7"/>
          <p:cNvSpPr/>
          <p:nvPr/>
        </p:nvSpPr>
        <p:spPr>
          <a:xfrm>
            <a:off x="478800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agramas fasoriale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611280" y="1916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diagrama fasorial es un diagrama en el plano complejo que muestra las relaciones entre voltajes y corrientes fasoriales a través de un circui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298764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2700360" y="59500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8"/>
          <p:cNvSpPr/>
          <p:nvPr/>
        </p:nvSpPr>
        <p:spPr>
          <a:xfrm flipV="1">
            <a:off x="2987640" y="3715920"/>
            <a:ext cx="1584360" cy="223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7640" y="4149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rc 10"/>
          <p:cNvSpPr/>
          <p:nvPr/>
        </p:nvSpPr>
        <p:spPr>
          <a:xfrm>
            <a:off x="2987640" y="5541840"/>
            <a:ext cx="504720" cy="406440"/>
          </a:xfrm>
          <a:custGeom>
            <a:avLst/>
            <a:gdLst>
              <a:gd name="textAreaLeft" fmla="*/ 0 w 504720"/>
              <a:gd name="textAreaRight" fmla="*/ 505080 w 5047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fill="none" w="21600" h="17432">
                <a:moveTo>
                  <a:pt x="12754" y="0"/>
                </a:moveTo>
                <a:cubicBezTo>
                  <a:pt x="18314" y="4067"/>
                  <a:pt x="21600" y="10543"/>
                  <a:pt x="21600" y="17432"/>
                </a:cubicBezTo>
              </a:path>
              <a:path stroke="0" w="21600" h="17432">
                <a:moveTo>
                  <a:pt x="12754" y="0"/>
                </a:moveTo>
                <a:cubicBezTo>
                  <a:pt x="18314" y="4067"/>
                  <a:pt x="21600" y="10543"/>
                  <a:pt x="21600" y="17432"/>
                </a:cubicBezTo>
                <a:lnTo>
                  <a:pt x="0" y="17432"/>
                </a:lnTo>
                <a:lnTo>
                  <a:pt x="127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492360" y="5445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53.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427640" y="59500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2627280" y="3429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5364000" y="5734080"/>
            <a:ext cx="21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je real (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2413080" y="3092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je imaginario (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3"/>
          <p:cNvSpPr/>
          <p:nvPr/>
        </p:nvSpPr>
        <p:spPr>
          <a:xfrm>
            <a:off x="1258920" y="292428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4"/>
          <p:cNvSpPr/>
          <p:nvPr/>
        </p:nvSpPr>
        <p:spPr>
          <a:xfrm>
            <a:off x="971640" y="486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5"/>
          <p:cNvSpPr/>
          <p:nvPr/>
        </p:nvSpPr>
        <p:spPr>
          <a:xfrm flipV="1">
            <a:off x="1258920" y="3860280"/>
            <a:ext cx="43164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403280" y="3429000"/>
            <a:ext cx="100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=3+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1258920" y="4869000"/>
            <a:ext cx="43164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1690560" y="3860640"/>
            <a:ext cx="433440" cy="144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5"/>
          <p:cNvSpPr/>
          <p:nvPr/>
        </p:nvSpPr>
        <p:spPr>
          <a:xfrm flipV="1">
            <a:off x="1690560" y="4005360"/>
            <a:ext cx="433440" cy="1008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6"/>
          <p:cNvSpPr/>
          <p:nvPr/>
        </p:nvSpPr>
        <p:spPr>
          <a:xfrm flipV="1">
            <a:off x="1258920" y="4005000"/>
            <a:ext cx="8650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1258920" y="515628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=3–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1979640" y="4076640"/>
            <a:ext cx="100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140328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7"/>
          <p:cNvSpPr/>
          <p:nvPr/>
        </p:nvSpPr>
        <p:spPr>
          <a:xfrm>
            <a:off x="154764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8"/>
          <p:cNvSpPr/>
          <p:nvPr/>
        </p:nvSpPr>
        <p:spPr>
          <a:xfrm>
            <a:off x="169056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9"/>
          <p:cNvSpPr/>
          <p:nvPr/>
        </p:nvSpPr>
        <p:spPr>
          <a:xfrm>
            <a:off x="183528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30"/>
          <p:cNvSpPr/>
          <p:nvPr/>
        </p:nvSpPr>
        <p:spPr>
          <a:xfrm>
            <a:off x="197964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31"/>
          <p:cNvSpPr/>
          <p:nvPr/>
        </p:nvSpPr>
        <p:spPr>
          <a:xfrm>
            <a:off x="212400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32"/>
          <p:cNvSpPr/>
          <p:nvPr/>
        </p:nvSpPr>
        <p:spPr>
          <a:xfrm>
            <a:off x="1258920" y="4724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33"/>
          <p:cNvSpPr/>
          <p:nvPr/>
        </p:nvSpPr>
        <p:spPr>
          <a:xfrm>
            <a:off x="1258920" y="4581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34"/>
          <p:cNvSpPr/>
          <p:nvPr/>
        </p:nvSpPr>
        <p:spPr>
          <a:xfrm>
            <a:off x="1258920" y="4437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1258920" y="4292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36"/>
          <p:cNvSpPr/>
          <p:nvPr/>
        </p:nvSpPr>
        <p:spPr>
          <a:xfrm>
            <a:off x="1258920" y="4148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37"/>
          <p:cNvSpPr/>
          <p:nvPr/>
        </p:nvSpPr>
        <p:spPr>
          <a:xfrm>
            <a:off x="1258920" y="4005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38"/>
          <p:cNvSpPr/>
          <p:nvPr/>
        </p:nvSpPr>
        <p:spPr>
          <a:xfrm>
            <a:off x="1258920" y="386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39"/>
          <p:cNvSpPr/>
          <p:nvPr/>
        </p:nvSpPr>
        <p:spPr>
          <a:xfrm>
            <a:off x="1258920" y="3716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40"/>
          <p:cNvSpPr/>
          <p:nvPr/>
        </p:nvSpPr>
        <p:spPr>
          <a:xfrm>
            <a:off x="1258920" y="501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41"/>
          <p:cNvSpPr/>
          <p:nvPr/>
        </p:nvSpPr>
        <p:spPr>
          <a:xfrm>
            <a:off x="1258920" y="5156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2"/>
          <p:cNvSpPr/>
          <p:nvPr/>
        </p:nvSpPr>
        <p:spPr>
          <a:xfrm>
            <a:off x="68436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uma de dos tensiones fasor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3"/>
          <p:cNvSpPr/>
          <p:nvPr/>
        </p:nvSpPr>
        <p:spPr>
          <a:xfrm>
            <a:off x="6084720" y="292428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4"/>
          <p:cNvSpPr/>
          <p:nvPr/>
        </p:nvSpPr>
        <p:spPr>
          <a:xfrm>
            <a:off x="5797440" y="48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5"/>
          <p:cNvSpPr/>
          <p:nvPr/>
        </p:nvSpPr>
        <p:spPr>
          <a:xfrm flipH="1" flipV="1">
            <a:off x="5940000" y="3860280"/>
            <a:ext cx="14436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46"/>
          <p:cNvSpPr/>
          <p:nvPr/>
        </p:nvSpPr>
        <p:spPr>
          <a:xfrm>
            <a:off x="6659640" y="3645000"/>
            <a:ext cx="100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50"/>
          <p:cNvSpPr/>
          <p:nvPr/>
        </p:nvSpPr>
        <p:spPr>
          <a:xfrm flipV="1">
            <a:off x="6084720" y="3860280"/>
            <a:ext cx="64800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4932360" y="3429000"/>
            <a:ext cx="15829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=(1+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rc 69"/>
          <p:cNvSpPr/>
          <p:nvPr/>
        </p:nvSpPr>
        <p:spPr>
          <a:xfrm>
            <a:off x="6010200" y="4340160"/>
            <a:ext cx="347760" cy="503280"/>
          </a:xfrm>
          <a:custGeom>
            <a:avLst/>
            <a:gdLst>
              <a:gd name="textAreaLeft" fmla="*/ 0 w 347760"/>
              <a:gd name="textAreaRight" fmla="*/ 348120 w 347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14860" h="21600">
                <a:moveTo>
                  <a:pt x="0" y="239"/>
                </a:moveTo>
                <a:cubicBezTo>
                  <a:pt x="1061" y="79"/>
                  <a:pt x="2132" y="-1"/>
                  <a:pt x="3206" y="0"/>
                </a:cubicBezTo>
                <a:cubicBezTo>
                  <a:pt x="7337" y="0"/>
                  <a:pt x="11381" y="1184"/>
                  <a:pt x="14860" y="3413"/>
                </a:cubicBezTo>
              </a:path>
              <a:path stroke="0" w="14860" h="21600">
                <a:moveTo>
                  <a:pt x="0" y="239"/>
                </a:moveTo>
                <a:cubicBezTo>
                  <a:pt x="1061" y="79"/>
                  <a:pt x="2132" y="-1"/>
                  <a:pt x="3206" y="0"/>
                </a:cubicBezTo>
                <a:cubicBezTo>
                  <a:pt x="7337" y="0"/>
                  <a:pt x="11381" y="1184"/>
                  <a:pt x="14860" y="3413"/>
                </a:cubicBezTo>
                <a:lnTo>
                  <a:pt x="3206" y="21600"/>
                </a:lnTo>
                <a:lnTo>
                  <a:pt x="0" y="2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70"/>
          <p:cNvSpPr/>
          <p:nvPr/>
        </p:nvSpPr>
        <p:spPr>
          <a:xfrm>
            <a:off x="6084720" y="3933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71"/>
          <p:cNvSpPr/>
          <p:nvPr/>
        </p:nvSpPr>
        <p:spPr>
          <a:xfrm>
            <a:off x="3924360" y="2205000"/>
            <a:ext cx="4680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agrama fasorial de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V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 1 +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 =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5°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Line 19"/>
          <p:cNvSpPr/>
          <p:nvPr/>
        </p:nvSpPr>
        <p:spPr>
          <a:xfrm>
            <a:off x="6300720" y="3860640"/>
            <a:ext cx="86364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6"/>
          <p:cNvSpPr/>
          <p:nvPr/>
        </p:nvSpPr>
        <p:spPr>
          <a:xfrm flipH="1">
            <a:off x="6300360" y="1916280"/>
            <a:ext cx="180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7"/>
          <p:cNvSpPr/>
          <p:nvPr/>
        </p:nvSpPr>
        <p:spPr>
          <a:xfrm>
            <a:off x="6014880" y="386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8"/>
          <p:cNvSpPr/>
          <p:nvPr/>
        </p:nvSpPr>
        <p:spPr>
          <a:xfrm flipH="1" flipV="1">
            <a:off x="6300360" y="2276640"/>
            <a:ext cx="1800" cy="1584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9"/>
          <p:cNvSpPr/>
          <p:nvPr/>
        </p:nvSpPr>
        <p:spPr>
          <a:xfrm>
            <a:off x="6443640" y="342900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"/>
          <p:cNvSpPr/>
          <p:nvPr/>
        </p:nvSpPr>
        <p:spPr>
          <a:xfrm flipV="1">
            <a:off x="6300720" y="2276640"/>
            <a:ext cx="287280" cy="158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6"/>
          <p:cNvSpPr/>
          <p:nvPr/>
        </p:nvSpPr>
        <p:spPr>
          <a:xfrm flipH="1" flipV="1">
            <a:off x="6300360" y="3860280"/>
            <a:ext cx="1800" cy="1584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7"/>
          <p:cNvSpPr/>
          <p:nvPr/>
        </p:nvSpPr>
        <p:spPr>
          <a:xfrm>
            <a:off x="6300720" y="3860640"/>
            <a:ext cx="28728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8"/>
          <p:cNvSpPr/>
          <p:nvPr/>
        </p:nvSpPr>
        <p:spPr>
          <a:xfrm>
            <a:off x="6300720" y="3860640"/>
            <a:ext cx="28728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0"/>
          <p:cNvSpPr/>
          <p:nvPr/>
        </p:nvSpPr>
        <p:spPr>
          <a:xfrm>
            <a:off x="5867280" y="2276640"/>
            <a:ext cx="100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21"/>
          <p:cNvSpPr/>
          <p:nvPr/>
        </p:nvSpPr>
        <p:spPr>
          <a:xfrm>
            <a:off x="5940360" y="508464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22"/>
          <p:cNvSpPr/>
          <p:nvPr/>
        </p:nvSpPr>
        <p:spPr>
          <a:xfrm>
            <a:off x="6588000" y="2276640"/>
            <a:ext cx="100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23"/>
          <p:cNvSpPr/>
          <p:nvPr/>
        </p:nvSpPr>
        <p:spPr>
          <a:xfrm>
            <a:off x="6588000" y="4869000"/>
            <a:ext cx="100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24"/>
          <p:cNvSpPr/>
          <p:nvPr/>
        </p:nvSpPr>
        <p:spPr>
          <a:xfrm>
            <a:off x="6877080" y="3860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25"/>
          <p:cNvSpPr/>
          <p:nvPr/>
        </p:nvSpPr>
        <p:spPr>
          <a:xfrm>
            <a:off x="6300720" y="227664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27"/>
          <p:cNvSpPr/>
          <p:nvPr/>
        </p:nvSpPr>
        <p:spPr>
          <a:xfrm>
            <a:off x="6300720" y="544500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28"/>
          <p:cNvSpPr/>
          <p:nvPr/>
        </p:nvSpPr>
        <p:spPr>
          <a:xfrm flipV="1">
            <a:off x="6588000" y="2276280"/>
            <a:ext cx="0" cy="31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755640" y="2349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rcuito RLC 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Object 30"/>
          <p:cNvGraphicFramePr/>
          <p:nvPr/>
        </p:nvGraphicFramePr>
        <p:xfrm>
          <a:off x="900000" y="3424320"/>
          <a:ext cx="44640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424320"/>
                    <a:ext cx="4464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684360" y="1989000"/>
            <a:ext cx="792000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r el ángulo mediante el cual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tá retrasada respecto 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si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20 cos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40°) e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igual a 1.4 sen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7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.4 sen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70°) = 1.4 cos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70° – 9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1.4 cos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16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diferencia de fas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40° – 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160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 tanto el retraso es de 120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re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84360" y="1989000"/>
            <a:ext cx="79200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r el ángulo mediante el cual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tá retrasada respecto 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si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20 cos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40°) e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igual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) 2.5 cos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2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) –0.8 cos(120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– 11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4427640" y="3573360"/>
            <a:ext cx="3886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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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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7"/>
              <p:cNvSpPr txBox="1"/>
              <p:nvPr/>
            </p:nvSpPr>
            <p:spPr>
              <a:xfrm>
                <a:off x="4500720" y="5373720"/>
                <a:ext cx="198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∓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forzada a funciones senoidal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762120" y="2133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n los términos respuesta forzada o respuesta a estado permanent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38080" y="3276720"/>
            <a:ext cx="76964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 el circuito seri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a fuente senoida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5"/>
          <p:cNvGraphicFramePr/>
          <p:nvPr/>
        </p:nvGraphicFramePr>
        <p:xfrm>
          <a:off x="1187280" y="4581360"/>
          <a:ext cx="381024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581360"/>
                    <a:ext cx="381024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6"/>
          <p:cNvSpPr/>
          <p:nvPr/>
        </p:nvSpPr>
        <p:spPr>
          <a:xfrm>
            <a:off x="5867280" y="4653000"/>
            <a:ext cx="28083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licando L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067280" y="5445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3564000" y="5084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28472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399564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327672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42847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40:20Z</dcterms:created>
  <dc:creator>Pablo Turmero</dc:creator>
  <dc:description/>
  <dc:language>en-US</dc:language>
  <cp:lastModifiedBy>Pablo</cp:lastModifiedBy>
  <dcterms:modified xsi:type="dcterms:W3CDTF">2015-10-11T22:05:52Z</dcterms:modified>
  <cp:revision>53</cp:revision>
  <dc:subject/>
  <dc:title/>
</cp:coreProperties>
</file>