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22.png" ContentType="image/png"/>
  <Override PartName="/ppt/media/image20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23.wmf" ContentType="image/x-wmf"/>
  <Override PartName="/ppt/media/image28.jpeg" ContentType="image/jpeg"/>
  <Override PartName="/ppt/media/image12.jpeg" ContentType="image/jpeg"/>
  <Override PartName="/ppt/media/image34.png" ContentType="image/png"/>
  <Override PartName="/ppt/media/image10.jpeg" ContentType="image/jpeg"/>
  <Override PartName="/ppt/media/image8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297D-DF93-4929-90F7-CB8D89261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76AC-B13A-44BB-AD7B-EEE36529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10B80-5B28-4ED9-92BF-45E68D81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4B980-1292-4343-A9C9-5E3D0588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70E43-B493-494D-8231-C65CF47C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D9B8CD-12B7-4FA9-9079-BA2C34F1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F7E0DA-0155-4907-971E-D310131E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8A66F5-451D-4F90-B751-4C86DBBD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DDCBCE-DCA3-4690-A39F-9A750586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28D26C-5F27-48DF-8351-2120AC26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20237-F793-4A5F-A4B0-663C11F72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892A9-B918-48ED-BCA1-F16F0873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1629-DAC1-4CF2-BA06-A6EEB11DF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1EA3FD-8357-4958-A2BB-8469FD01C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124371-35B6-4372-A4BA-175C22C4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19AACB-159F-49D4-92D0-23397E589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7DAB0-11BC-4FC1-8925-CFC8BE2F5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ADFD86-F909-45EF-8E80-15F57A133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73FA9-9C4D-413C-9692-BEB2701A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F4263-8F40-4F33-991A-B1D4ECA4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9DFDA2-3DE5-4A97-A381-8410E42E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0058A3-5B48-475F-AB3C-D8714E4B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6DA66E-B815-4A44-94EF-42BFC7D4F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8215-F0FE-4E52-9E8D-E9D4C2D4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147C1-A5BD-4D28-8390-B307E1AC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1F223A-6ED0-42C1-8643-642865DB8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E39487-8271-46ED-95BE-7B7272F8C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7C52D2-90B2-483E-B5A8-E38A6099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3AAE29-CB5A-4415-BD82-B1D2813BB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D97DDD-24C8-4FE5-9E2D-48B3CA8A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72BD5-FE9A-4A8F-AD3F-0A0A2551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A50139-1C7D-4BBB-BFE9-CEBAF60C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90267F-3F6B-4237-9ACE-6D94D32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0F66A-129F-4897-AE1B-13BB9CC9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D747-4E93-4C7F-ABDA-52280A052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804C6-83B4-428D-BC5B-F628BC17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A3F7A-68DE-47E3-B945-AB2DB391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FCF491-E4C4-4D52-AFA7-DC1604446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DB6D2E-85CF-44F9-8940-B9E544087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F9FC2E-D532-4836-8CAE-A02A4E485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07197-CA70-4D8D-BB44-14D7A1FB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1DB7B8-5DBC-4DC9-855C-D0A391048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A35B8A-3381-4612-95D9-2D66B7AB9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597CE-2321-4890-B63B-524A5144B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7D3F8D-FE61-4F1C-87F2-EBD9C0E9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D7A4-BF7D-4893-8998-00DCD8276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D897DE-FDAE-45DC-BCB9-97E997542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54F898-8408-4BA5-BCB6-30CADD7B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CF93C8-F5A5-44E9-BD29-88B207AE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336D07-1DD3-451E-A090-C60D6582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8B68F2-127B-45CF-9F11-EC6B4BC3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32B65-F437-4ABE-B60A-B635ACEE9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0A6BB7-C306-4AB6-B1C4-555753B0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5B1F21-9DF7-4610-916D-FBFBD165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461A7-E5E9-42FF-8407-44F03832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06FC6-35DD-4833-98A2-499103A9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C22CF-EED0-46AB-850D-39FDF00F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716CC8-2D05-4BE1-AF03-7441B32A2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A5F20-43F7-4424-808C-2503F701C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80E17D-82D2-4678-8876-25C88411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0B023A-82BB-41EB-96DD-78BECB71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F116C8-36B9-43E0-8AE1-78A46833E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611A3-B587-4D71-A1D5-A949D425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9A8615-E3D7-4C3F-A861-C642E383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24DB1-CD37-4C0F-9775-E449D4092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2B56B-ED92-47DB-9EE9-B91198ED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EA3D-AB4D-4409-B95D-A892DCD3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7684B-7AD0-4AF5-884C-0D012251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8818-2457-4162-93F4-07E499DF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A105-548D-477D-A983-E6B61DA4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03D1-4DB6-4F9C-ADD5-113D891F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71D59-29AA-4E5A-9BA2-BF7033099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5F0A1-ADC6-41A5-B945-0C9D97E4D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4ACE7-C035-4EA0-B342-F65DF2C36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72513-157C-4598-8817-10CF395B0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9B277-4BF1-43FC-AF2E-84F08B75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FE309-BB9C-4D4E-B826-7DC4AB4F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A05C3-DB5B-40F3-BE0C-9994E44AF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7D58B-9226-446D-A255-435DCB689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095D-E5B0-402F-BFF9-EFC4A605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E61745-F884-4EA3-B879-9D8F9387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7B33-E6ED-4327-B37A-D49F5240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66279-0052-418E-B47E-CE87EA1E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99A87-A35F-4B76-AC71-8DB6D79B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9866C-D3ED-470B-B75E-E7E49EED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02970-8F31-46A7-ADD5-1F5EDE02A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25391-6856-4F04-8589-C195AC40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6459D-AD71-4310-AB18-1636FC139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93596-F66F-4243-9929-712782C9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64462-570D-4DC6-A4E3-58A04B24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3550-0EE3-47A5-AAFA-E825BC7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C1955-4DC0-4BE9-9A0D-F9CF91A5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263FE-02F8-4528-A616-39504424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29C51-1B25-486A-BBE9-1EFDA66B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EF2B6-84E4-48EF-8545-6048698FC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0E51C-8D7A-498E-AF9A-912C1A64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59566-673D-41FC-8487-77966C22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CFBB-CB1A-4737-AAA8-B91652516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A9170-3A1E-4B38-B795-3EDD14E64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C48A-ED28-4C24-A52C-35E1349E8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72C67-11C1-4CBE-BF06-68708F61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1BDA-8AB3-475B-AB48-AC630FAC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85E80-8E0B-41EC-A831-39A60ABA3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6095E-9781-4C7B-8EB5-4343D885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498E0-8F61-4984-97F6-C505B6344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D5EEE-2AE7-486F-9604-643C125E8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6D008E-B63C-4B7D-965E-511C6D95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2B67C-8874-4075-B036-A3FE1B65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B7369F-071E-4A5B-A828-0A0CA899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FBEC28-81BE-4B10-993A-E401107E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CFCCB7-6E2C-4A87-9B21-87FE49D5A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B6C25-6B5B-4A34-9E27-0A046D978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603-BE73-496C-9188-1E83803A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37F0A5-7F9C-413C-94EF-504BB7E9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5CE81-2EF2-4F8E-BB19-5BFA4D559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CE2DD-8AFA-48BA-8CCA-A7B22FFD6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FF55D-B001-4EB4-9A62-5F95C5245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3C6973-AB5B-46AB-826D-40A2F5B3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25C53-17F2-4D9B-94D1-BB5DB630A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68B65F-BCA5-4C44-A083-CBD73143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3C0FC-9259-46BF-8B19-8C3EEB29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4C4BA2-0508-44AB-B557-98459451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6C485-EC17-43C0-9978-35234438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78F1-6A2E-4BE7-B6C6-F61653856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8D62A-FE43-4C1F-87E0-F090C7B1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2CAA9-8228-4847-B998-BE2D63E2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25387-F244-4875-B84D-626A0E7B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8F38F-68C9-4147-988A-451DF8DA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433D65-3CDF-464F-B3A0-0B0CF4F1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44A73-3FB0-4FEA-BFCE-2FB0C0349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9CE452-ECF6-46FD-B94C-FF7ED4D8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F0BE1-B9C6-4773-B870-7217C11B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78E2B5-5F91-4257-AB75-43387829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ADA17-32B9-44E6-9334-3834867CF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9A87-D3E2-40B5-B3A5-C237BC9D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37333-5737-4D83-99F1-32EFB35DE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58E95-AB6A-4EA4-BAD9-4F9B81E8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774DE4-E9F3-40D1-93C7-C39645F36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1E3981-BA72-4DE4-8FA3-7F0E18CC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03E18-6FA2-4148-BE15-18D0A0BEE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1A7D28-FF8D-4C78-A056-A7B3438CB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C8C1F-AB33-4F5C-8199-97276C53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9563F4-F08F-4934-9421-339554CB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3945EF-2C1E-42BA-B7E2-85CB7121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3CC43C-AAB7-49CD-AC12-9669CAD1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2657-F1EB-45D9-8128-621767C4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753F3-E9C2-4A9D-B981-544A8CA5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85089-69E4-4225-A968-8542C5E4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910DA0-C7BE-4BBE-ADC8-7116D632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E94C10-EB2B-40B4-B05F-60D25C40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C77B3-FEC1-4F04-8250-75C1A91B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A37B44-49DB-411E-8491-9EEE7EFE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B41AE3-5EC8-4645-BBDF-3A81AAA2A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5F637-E9CC-4709-A7E2-FE283AA11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2D8C5-A236-4D70-BAC2-1B957BB50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B4F8D8-643C-440B-88D3-090122C3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F8C8-DD77-436C-AE54-6072DAB2FC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16C3-140A-4692-8DA7-327C4639EDF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9380F-4A5E-4F1C-98AB-8A645D4AD77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E121-9B93-4C1D-A350-F6C0CA76B15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EE382-E4E4-46A6-A4DB-45EE05CC5F0C}" type="slidenum"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F6F4F-E309-45C0-93AF-B59B8188290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3F3F-B981-4FD7-863E-33738FFF78E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CC13-1A18-4BDE-936C-F92B9FD4FBD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327C-FDFE-4942-9BD3-982608150DA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3599-2D75-4A01-8AD8-31187ECC63D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B608-0AC9-452E-A380-6446E5455A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54D32-6903-4AAD-ADF7-D3CDDD626E8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0768-F3FF-4515-A592-55B03BD684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ortalelectricos.com/retie/index.php" TargetMode="External"/><Relationship Id="rId2" Type="http://schemas.openxmlformats.org/officeDocument/2006/relationships/hyperlink" Target="http://www.cidet.com.co/" TargetMode="External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centelsa.com/" TargetMode="External"/><Relationship Id="rId2" Type="http://schemas.openxmlformats.org/officeDocument/2006/relationships/hyperlink" Target="http://www.sural.com/productos/desnudos/acsr.htm" TargetMode="External"/><Relationship Id="rId3" Type="http://schemas.openxmlformats.org/officeDocument/2006/relationships/hyperlink" Target="http://www.cdeln.com/produc.htm" TargetMode="External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22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A2FC-993C-45C1-9966-549D9AB954D6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700" spc="-1" strike="noStrike">
                <a:solidFill>
                  <a:srgbClr val="ffffcc"/>
                </a:solidFill>
                <a:latin typeface="Arial"/>
              </a:rPr>
              <a:t>LÍNEAS DE TRANSMISIÓN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CONCEPTOS GENERALES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1AD2-CF58-48AC-9E61-883222D932D5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Equipo de servicios auxiliare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6" name="Rectangle 3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887" name=""/>
          <p:cNvGraphicFramePr/>
          <p:nvPr/>
        </p:nvGraphicFramePr>
        <p:xfrm>
          <a:off x="684360" y="2421000"/>
          <a:ext cx="7920000" cy="1554120"/>
        </p:xfrm>
        <a:graphic>
          <a:graphicData uri="http://schemas.openxmlformats.org/drawingml/2006/table">
            <a:tbl>
              <a:tblPr/>
              <a:tblGrid>
                <a:gridCol w="1871640"/>
                <a:gridCol w="2447640"/>
                <a:gridCol w="360072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 de servicios auxiliares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Fuentes de alimentación de los equipos principales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Bancos de baterías, plantas de emergencia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argadores de baterías, tableros de distribución AC y DC, transformadores de servicios auxiliares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8" name="Picture 61" descr="BAT DE 125 VDC"/>
          <p:cNvPicPr/>
          <p:nvPr/>
        </p:nvPicPr>
        <p:blipFill>
          <a:blip r:embed="rId1"/>
          <a:stretch/>
        </p:blipFill>
        <p:spPr>
          <a:xfrm>
            <a:off x="5003640" y="4076640"/>
            <a:ext cx="2521080" cy="189072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62" descr="PLA"/>
          <p:cNvPicPr/>
          <p:nvPr/>
        </p:nvPicPr>
        <p:blipFill>
          <a:blip r:embed="rId2"/>
          <a:stretch/>
        </p:blipFill>
        <p:spPr>
          <a:xfrm>
            <a:off x="1228680" y="4076640"/>
            <a:ext cx="2551320" cy="191304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3"/>
          <p:cNvSpPr/>
          <p:nvPr/>
        </p:nvSpPr>
        <p:spPr>
          <a:xfrm>
            <a:off x="1114560" y="609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Planta de emergencia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1" name="Text Box 64"/>
          <p:cNvSpPr/>
          <p:nvPr/>
        </p:nvSpPr>
        <p:spPr>
          <a:xfrm>
            <a:off x="4572000" y="60865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Banco de baterías 125 V DC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D16-85DA-4A16-8924-10AAD6DA5E60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Subestacione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4" name="Rectangle 3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895" name="Group 50"/>
          <p:cNvGrpSpPr/>
          <p:nvPr/>
        </p:nvGrpSpPr>
        <p:grpSpPr>
          <a:xfrm>
            <a:off x="539640" y="2060640"/>
            <a:ext cx="4176720" cy="4176720"/>
            <a:chOff x="539640" y="2060640"/>
            <a:chExt cx="4176720" cy="4176720"/>
          </a:xfrm>
        </p:grpSpPr>
        <p:sp>
          <p:nvSpPr>
            <p:cNvPr id="896" name="Line 15"/>
            <p:cNvSpPr/>
            <p:nvPr/>
          </p:nvSpPr>
          <p:spPr>
            <a:xfrm>
              <a:off x="539640" y="2259000"/>
              <a:ext cx="1044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97" name="Line 16"/>
            <p:cNvSpPr/>
            <p:nvPr/>
          </p:nvSpPr>
          <p:spPr>
            <a:xfrm>
              <a:off x="1062000" y="2259000"/>
              <a:ext cx="0" cy="3978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98" name="Line 17"/>
            <p:cNvSpPr/>
            <p:nvPr/>
          </p:nvSpPr>
          <p:spPr>
            <a:xfrm>
              <a:off x="928800" y="2855880"/>
              <a:ext cx="26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99" name="Rectangle 18"/>
            <p:cNvSpPr/>
            <p:nvPr/>
          </p:nvSpPr>
          <p:spPr>
            <a:xfrm>
              <a:off x="800280" y="3308400"/>
              <a:ext cx="522000" cy="74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00" name="Line 19"/>
            <p:cNvSpPr/>
            <p:nvPr/>
          </p:nvSpPr>
          <p:spPr>
            <a:xfrm>
              <a:off x="928800" y="5043240"/>
              <a:ext cx="2617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01" name="Oval 20"/>
            <p:cNvSpPr/>
            <p:nvPr/>
          </p:nvSpPr>
          <p:spPr>
            <a:xfrm>
              <a:off x="928800" y="4248000"/>
              <a:ext cx="261720" cy="398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902" name="Group 21"/>
            <p:cNvGrpSpPr/>
            <p:nvPr/>
          </p:nvGrpSpPr>
          <p:grpSpPr>
            <a:xfrm>
              <a:off x="1062000" y="5043240"/>
              <a:ext cx="912960" cy="398520"/>
              <a:chOff x="1062000" y="5043240"/>
              <a:chExt cx="912960" cy="398520"/>
            </a:xfrm>
          </p:grpSpPr>
          <p:sp>
            <p:nvSpPr>
              <p:cNvPr id="903" name="Line 22"/>
              <p:cNvSpPr/>
              <p:nvPr/>
            </p:nvSpPr>
            <p:spPr>
              <a:xfrm>
                <a:off x="1062000" y="5242320"/>
                <a:ext cx="260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04" name="Oval 23"/>
              <p:cNvSpPr/>
              <p:nvPr/>
            </p:nvSpPr>
            <p:spPr>
              <a:xfrm>
                <a:off x="1322640" y="5043240"/>
                <a:ext cx="260640" cy="398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05" name="Oval 24"/>
              <p:cNvSpPr/>
              <p:nvPr/>
            </p:nvSpPr>
            <p:spPr>
              <a:xfrm>
                <a:off x="1453320" y="5043240"/>
                <a:ext cx="260640" cy="398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06" name="Line 25"/>
              <p:cNvSpPr/>
              <p:nvPr/>
            </p:nvSpPr>
            <p:spPr>
              <a:xfrm>
                <a:off x="1714320" y="5242320"/>
                <a:ext cx="2606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907" name="Group 26"/>
            <p:cNvGrpSpPr/>
            <p:nvPr/>
          </p:nvGrpSpPr>
          <p:grpSpPr>
            <a:xfrm>
              <a:off x="1062000" y="5668920"/>
              <a:ext cx="854280" cy="376200"/>
              <a:chOff x="1062000" y="5668920"/>
              <a:chExt cx="854280" cy="376200"/>
            </a:xfrm>
          </p:grpSpPr>
          <p:sp>
            <p:nvSpPr>
              <p:cNvPr id="908" name="Line 27"/>
              <p:cNvSpPr/>
              <p:nvPr/>
            </p:nvSpPr>
            <p:spPr>
              <a:xfrm>
                <a:off x="1062000" y="5839200"/>
                <a:ext cx="52200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tailEnd len="sm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09" name="Rectangle 28"/>
              <p:cNvSpPr/>
              <p:nvPr/>
            </p:nvSpPr>
            <p:spPr>
              <a:xfrm>
                <a:off x="1192320" y="5700960"/>
                <a:ext cx="522000" cy="27540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10" name="Line 29"/>
              <p:cNvSpPr/>
              <p:nvPr/>
            </p:nvSpPr>
            <p:spPr>
              <a:xfrm>
                <a:off x="1714680" y="5839200"/>
                <a:ext cx="130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11" name="Line 30"/>
              <p:cNvSpPr/>
              <p:nvPr/>
            </p:nvSpPr>
            <p:spPr>
              <a:xfrm>
                <a:off x="1845360" y="5668920"/>
                <a:ext cx="0" cy="376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12" name="Line 31"/>
              <p:cNvSpPr/>
              <p:nvPr/>
            </p:nvSpPr>
            <p:spPr>
              <a:xfrm>
                <a:off x="1874880" y="5700960"/>
                <a:ext cx="0" cy="313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913" name="Line 32"/>
              <p:cNvSpPr/>
              <p:nvPr/>
            </p:nvSpPr>
            <p:spPr>
              <a:xfrm>
                <a:off x="1916280" y="5731920"/>
                <a:ext cx="0" cy="251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914" name="Text Box 33"/>
            <p:cNvSpPr/>
            <p:nvPr/>
          </p:nvSpPr>
          <p:spPr>
            <a:xfrm>
              <a:off x="1714680" y="2060640"/>
              <a:ext cx="7822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Barraje</a:t>
              </a:r>
              <a:endParaRPr b="1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5" name="Text Box 34"/>
            <p:cNvSpPr/>
            <p:nvPr/>
          </p:nvSpPr>
          <p:spPr>
            <a:xfrm>
              <a:off x="1333440" y="2714400"/>
              <a:ext cx="12733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Seccionador</a:t>
              </a:r>
              <a:endParaRPr b="1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6" name="Text Box 35"/>
            <p:cNvSpPr/>
            <p:nvPr/>
          </p:nvSpPr>
          <p:spPr>
            <a:xfrm>
              <a:off x="1714680" y="3321000"/>
              <a:ext cx="134460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Interruptor</a:t>
              </a:r>
              <a:endParaRPr b="1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7" name="Text Box 36"/>
            <p:cNvSpPr/>
            <p:nvPr/>
          </p:nvSpPr>
          <p:spPr>
            <a:xfrm>
              <a:off x="1714680" y="4248000"/>
              <a:ext cx="1434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Trafo de corriente</a:t>
              </a:r>
              <a:endParaRPr b="1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8" name="Text Box 37"/>
            <p:cNvSpPr/>
            <p:nvPr/>
          </p:nvSpPr>
          <p:spPr>
            <a:xfrm>
              <a:off x="2106720" y="5043240"/>
              <a:ext cx="1434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Trafo de potencial</a:t>
              </a:r>
              <a:endParaRPr b="1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19" name="Text Box 38"/>
            <p:cNvSpPr/>
            <p:nvPr/>
          </p:nvSpPr>
          <p:spPr>
            <a:xfrm>
              <a:off x="2106720" y="5640120"/>
              <a:ext cx="1434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Pararrayos</a:t>
              </a:r>
              <a:endParaRPr b="1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0" name="Text Box 39"/>
            <p:cNvSpPr/>
            <p:nvPr/>
          </p:nvSpPr>
          <p:spPr>
            <a:xfrm>
              <a:off x="3411360" y="3254400"/>
              <a:ext cx="1305000" cy="1191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ontrol, medida y </a:t>
              </a:r>
              <a:endParaRPr b="1" lang="en-US" sz="1400" spc="-1" strike="noStrike">
                <a:solidFill>
                  <a:srgbClr val="eaeaea"/>
                </a:solidFill>
                <a:latin typeface="Verdan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protección</a:t>
              </a:r>
              <a:endParaRPr b="1" lang="en-US" sz="14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1" name="Line 40"/>
            <p:cNvSpPr/>
            <p:nvPr/>
          </p:nvSpPr>
          <p:spPr>
            <a:xfrm>
              <a:off x="1192320" y="4446360"/>
              <a:ext cx="39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2" name="Line 41"/>
            <p:cNvSpPr/>
            <p:nvPr/>
          </p:nvSpPr>
          <p:spPr>
            <a:xfrm>
              <a:off x="1584360" y="4049640"/>
              <a:ext cx="182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3" name="Line 42"/>
            <p:cNvSpPr/>
            <p:nvPr/>
          </p:nvSpPr>
          <p:spPr>
            <a:xfrm flipV="1">
              <a:off x="1584360" y="4049640"/>
              <a:ext cx="0" cy="396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4" name="Line 43"/>
            <p:cNvSpPr/>
            <p:nvPr/>
          </p:nvSpPr>
          <p:spPr>
            <a:xfrm>
              <a:off x="1974960" y="5243400"/>
              <a:ext cx="131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5" name="Line 44"/>
            <p:cNvSpPr/>
            <p:nvPr/>
          </p:nvSpPr>
          <p:spPr>
            <a:xfrm flipV="1">
              <a:off x="3541680" y="444600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6" name="Line 45"/>
            <p:cNvSpPr/>
            <p:nvPr/>
          </p:nvSpPr>
          <p:spPr>
            <a:xfrm>
              <a:off x="2106720" y="4844880"/>
              <a:ext cx="1434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7" name="Line 46"/>
            <p:cNvSpPr/>
            <p:nvPr/>
          </p:nvSpPr>
          <p:spPr>
            <a:xfrm flipV="1">
              <a:off x="2106720" y="4844520"/>
              <a:ext cx="0" cy="398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28" name="Line 47"/>
            <p:cNvSpPr/>
            <p:nvPr/>
          </p:nvSpPr>
          <p:spPr>
            <a:xfrm>
              <a:off x="1322280" y="3647880"/>
              <a:ext cx="20890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929" name="Text Box 48"/>
          <p:cNvSpPr/>
          <p:nvPr/>
        </p:nvSpPr>
        <p:spPr>
          <a:xfrm>
            <a:off x="34920" y="6261120"/>
            <a:ext cx="568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Salida”, “campo” o “bahía”  de una subestación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30" name="Picture 49" descr="BARRAJE 33 KV"/>
          <p:cNvPicPr/>
          <p:nvPr/>
        </p:nvPicPr>
        <p:blipFill>
          <a:blip r:embed="rId1"/>
          <a:stretch/>
        </p:blipFill>
        <p:spPr>
          <a:xfrm>
            <a:off x="5364000" y="2421000"/>
            <a:ext cx="3025800" cy="2268360"/>
          </a:xfrm>
          <a:prstGeom prst="rect">
            <a:avLst/>
          </a:prstGeom>
          <a:ln w="0">
            <a:noFill/>
          </a:ln>
        </p:spPr>
      </p:pic>
      <p:sp>
        <p:nvSpPr>
          <p:cNvPr id="931" name="Oval 51"/>
          <p:cNvSpPr/>
          <p:nvPr/>
        </p:nvSpPr>
        <p:spPr>
          <a:xfrm>
            <a:off x="5940360" y="5373720"/>
            <a:ext cx="2735280" cy="79200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Barraje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2" name="Oval 52"/>
          <p:cNvSpPr/>
          <p:nvPr/>
        </p:nvSpPr>
        <p:spPr>
          <a:xfrm>
            <a:off x="5651640" y="2924280"/>
            <a:ext cx="1800000" cy="433440"/>
          </a:xfrm>
          <a:prstGeom prst="ellipse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3" name="Line 53"/>
          <p:cNvSpPr/>
          <p:nvPr/>
        </p:nvSpPr>
        <p:spPr>
          <a:xfrm>
            <a:off x="6516720" y="3357720"/>
            <a:ext cx="360360" cy="2016000"/>
          </a:xfrm>
          <a:prstGeom prst="line">
            <a:avLst/>
          </a:prstGeom>
          <a:ln w="1260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170D-5F04-456D-ACCC-27433A1819E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Plantas de generación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7" name="Text Box 38"/>
          <p:cNvSpPr/>
          <p:nvPr/>
        </p:nvSpPr>
        <p:spPr>
          <a:xfrm>
            <a:off x="5076720" y="337644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Están constituidas por la central de generación y la subestación eléctrica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938" name="Picture 52" descr="006_6_2"/>
          <p:cNvPicPr/>
          <p:nvPr/>
        </p:nvPicPr>
        <p:blipFill>
          <a:blip r:embed="rId1"/>
          <a:stretch/>
        </p:blipFill>
        <p:spPr>
          <a:xfrm>
            <a:off x="468360" y="2565360"/>
            <a:ext cx="439272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D7034-8467-48C7-A9E9-8B541C653710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Sistemas de Control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1" name="Rectangle 3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942" name=""/>
          <p:cNvGraphicFramePr/>
          <p:nvPr/>
        </p:nvGraphicFramePr>
        <p:xfrm>
          <a:off x="468360" y="2655720"/>
          <a:ext cx="8136000" cy="3017880"/>
        </p:xfrm>
        <a:graphic>
          <a:graphicData uri="http://schemas.openxmlformats.org/drawingml/2006/table">
            <a:tbl>
              <a:tblPr/>
              <a:tblGrid>
                <a:gridCol w="1224000"/>
                <a:gridCol w="3456000"/>
                <a:gridCol w="345600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Nivel de control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s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Ubicación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mputador sistema de control remoto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entro de control remoto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mputador central de sistema de control local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asa de control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Relés de protección y equipo de control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ablero de control y protección ubicado en caseta de relés o casa de control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0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 de corte y maniobra  y controles locales de equipo asociado al proceso.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atio de subestación, tablero de control local de equipo, zona de proceso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D0EB-AF87-405E-9B1C-38C612E3143F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Centro de Control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5" name="Rectangle 3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946" name="Group 30"/>
          <p:cNvGrpSpPr/>
          <p:nvPr/>
        </p:nvGrpSpPr>
        <p:grpSpPr>
          <a:xfrm>
            <a:off x="395280" y="2565360"/>
            <a:ext cx="5943600" cy="2286000"/>
            <a:chOff x="395280" y="2565360"/>
            <a:chExt cx="5943600" cy="2286000"/>
          </a:xfrm>
        </p:grpSpPr>
        <p:sp>
          <p:nvSpPr>
            <p:cNvPr id="947" name="Text Box 31"/>
            <p:cNvSpPr/>
            <p:nvPr/>
          </p:nvSpPr>
          <p:spPr>
            <a:xfrm>
              <a:off x="395280" y="4394160"/>
              <a:ext cx="91440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entro de 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ontrol SDL1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48" name="Text Box 32"/>
            <p:cNvSpPr/>
            <p:nvPr/>
          </p:nvSpPr>
          <p:spPr>
            <a:xfrm>
              <a:off x="1309680" y="3479760"/>
              <a:ext cx="114264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entro de Control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STR1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49" name="Text Box 33"/>
            <p:cNvSpPr/>
            <p:nvPr/>
          </p:nvSpPr>
          <p:spPr>
            <a:xfrm>
              <a:off x="3252600" y="3479760"/>
              <a:ext cx="114264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entro de Control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STR2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0" name="Text Box 34"/>
            <p:cNvSpPr/>
            <p:nvPr/>
          </p:nvSpPr>
          <p:spPr>
            <a:xfrm>
              <a:off x="1423800" y="4394160"/>
              <a:ext cx="91440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entro de 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ontrol SDL2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1" name="Text Box 35"/>
            <p:cNvSpPr/>
            <p:nvPr/>
          </p:nvSpPr>
          <p:spPr>
            <a:xfrm>
              <a:off x="2452680" y="4394160"/>
              <a:ext cx="91440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entro de 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ontrol SDLn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2" name="Text Box 36"/>
            <p:cNvSpPr/>
            <p:nvPr/>
          </p:nvSpPr>
          <p:spPr>
            <a:xfrm>
              <a:off x="5195880" y="3479760"/>
              <a:ext cx="114300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entro de Control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STRn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3" name="Text Box 37"/>
            <p:cNvSpPr/>
            <p:nvPr/>
          </p:nvSpPr>
          <p:spPr>
            <a:xfrm>
              <a:off x="3252600" y="2565360"/>
              <a:ext cx="1142640" cy="4572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Centro de Control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Lucida Sans Unicode"/>
                  <a:ea typeface="SimSun"/>
                </a:rPr>
                <a:t>STN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4" name="Line 38"/>
            <p:cNvSpPr/>
            <p:nvPr/>
          </p:nvSpPr>
          <p:spPr>
            <a:xfrm>
              <a:off x="3824280" y="30225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5" name="Line 39"/>
            <p:cNvSpPr/>
            <p:nvPr/>
          </p:nvSpPr>
          <p:spPr>
            <a:xfrm>
              <a:off x="1881000" y="3251160"/>
              <a:ext cx="3886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6" name="Line 40"/>
            <p:cNvSpPr/>
            <p:nvPr/>
          </p:nvSpPr>
          <p:spPr>
            <a:xfrm>
              <a:off x="1881000" y="32511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7" name="Line 41"/>
            <p:cNvSpPr/>
            <p:nvPr/>
          </p:nvSpPr>
          <p:spPr>
            <a:xfrm>
              <a:off x="5767200" y="32511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8" name="Line 42"/>
            <p:cNvSpPr/>
            <p:nvPr/>
          </p:nvSpPr>
          <p:spPr>
            <a:xfrm>
              <a:off x="852480" y="41655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59" name="Line 43"/>
            <p:cNvSpPr/>
            <p:nvPr/>
          </p:nvSpPr>
          <p:spPr>
            <a:xfrm>
              <a:off x="1881000" y="3936960"/>
              <a:ext cx="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60" name="Line 44"/>
            <p:cNvSpPr/>
            <p:nvPr/>
          </p:nvSpPr>
          <p:spPr>
            <a:xfrm>
              <a:off x="2909880" y="4165560"/>
              <a:ext cx="0" cy="228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61" name="Line 45"/>
            <p:cNvSpPr/>
            <p:nvPr/>
          </p:nvSpPr>
          <p:spPr>
            <a:xfrm>
              <a:off x="852480" y="4165560"/>
              <a:ext cx="2057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962" name="Text Box 46"/>
          <p:cNvSpPr/>
          <p:nvPr/>
        </p:nvSpPr>
        <p:spPr>
          <a:xfrm>
            <a:off x="3564000" y="4508640"/>
            <a:ext cx="532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Sitio donde se realiza la operación integrada de un sistema de potencia. Puede ser local, regional o nacional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Se requiere que en las subestaciones y plantas de generación exista algún grado de automatización y un sistema de comunicaciones entre las instalaciones involucradas.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0323-1C3F-4287-BBA8-441D993D704A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Verdana"/>
              </a:rPr>
              <a:t>ZONAS FUNCIONALES DEL SISTEMA ELÉCTRICO DE POTENCIA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5" name="Rectangle 3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3. ZONAS FUNCIONALES DEL SISTEMA ELÉCTRICO DE POTENCIA</a:t>
            </a: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6" name="Text Box 21"/>
          <p:cNvSpPr/>
          <p:nvPr/>
        </p:nvSpPr>
        <p:spPr>
          <a:xfrm>
            <a:off x="539640" y="2355840"/>
            <a:ext cx="1774800" cy="560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aeaea"/>
                </a:solidFill>
                <a:latin typeface="Lucida Sans Unicode"/>
                <a:ea typeface="SimSun"/>
              </a:rPr>
              <a:t>GENERACIÓN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7" name="Text Box 22"/>
          <p:cNvSpPr/>
          <p:nvPr/>
        </p:nvSpPr>
        <p:spPr>
          <a:xfrm>
            <a:off x="539640" y="3432240"/>
            <a:ext cx="1774800" cy="560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Lucida Sans Unicode"/>
                <a:ea typeface="SimSun"/>
              </a:rPr>
              <a:t>TRANSMISIÓN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8" name="Text Box 23"/>
          <p:cNvSpPr/>
          <p:nvPr/>
        </p:nvSpPr>
        <p:spPr>
          <a:xfrm>
            <a:off x="539640" y="4508640"/>
            <a:ext cx="1774800" cy="560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eaeaea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Lucida Sans Unicode"/>
                <a:ea typeface="SimSun"/>
              </a:rPr>
              <a:t>DISTRIBUCIÓN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9" name="Line 24"/>
          <p:cNvSpPr/>
          <p:nvPr/>
        </p:nvSpPr>
        <p:spPr>
          <a:xfrm>
            <a:off x="1355760" y="2916360"/>
            <a:ext cx="1440" cy="517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0" name="Line 25"/>
          <p:cNvSpPr/>
          <p:nvPr/>
        </p:nvSpPr>
        <p:spPr>
          <a:xfrm>
            <a:off x="1355760" y="3992400"/>
            <a:ext cx="1440" cy="5162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1" name="Text Box 26"/>
          <p:cNvSpPr/>
          <p:nvPr/>
        </p:nvSpPr>
        <p:spPr>
          <a:xfrm>
            <a:off x="1403280" y="3044880"/>
            <a:ext cx="72072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Lucida Sans Unicode"/>
                <a:ea typeface="SimSun"/>
              </a:rPr>
              <a:t>P, Q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2" name="Text Box 27"/>
          <p:cNvSpPr/>
          <p:nvPr/>
        </p:nvSpPr>
        <p:spPr>
          <a:xfrm>
            <a:off x="1403280" y="4164120"/>
            <a:ext cx="504720" cy="2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Lucida Sans Unicode"/>
                <a:ea typeface="SimSun"/>
              </a:rPr>
              <a:t>P, Q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3" name="Line 28"/>
          <p:cNvSpPr/>
          <p:nvPr/>
        </p:nvSpPr>
        <p:spPr>
          <a:xfrm>
            <a:off x="1355760" y="5068800"/>
            <a:ext cx="1440" cy="515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4" name="Text Box 29"/>
          <p:cNvSpPr/>
          <p:nvPr/>
        </p:nvSpPr>
        <p:spPr>
          <a:xfrm>
            <a:off x="1403280" y="5197320"/>
            <a:ext cx="57636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Lucida Sans Unicode"/>
                <a:ea typeface="SimSun"/>
              </a:rPr>
              <a:t>P, Q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5" name="Text Box 30"/>
          <p:cNvSpPr/>
          <p:nvPr/>
        </p:nvSpPr>
        <p:spPr>
          <a:xfrm>
            <a:off x="1403280" y="5456160"/>
            <a:ext cx="1081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Lucida Sans Unicode"/>
                <a:ea typeface="SimSun"/>
              </a:rPr>
              <a:t>USUARIOS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6" name="Line 31"/>
          <p:cNvSpPr/>
          <p:nvPr/>
        </p:nvSpPr>
        <p:spPr>
          <a:xfrm>
            <a:off x="1992240" y="3990960"/>
            <a:ext cx="1800" cy="2509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7" name="Text Box 32"/>
          <p:cNvSpPr/>
          <p:nvPr/>
        </p:nvSpPr>
        <p:spPr>
          <a:xfrm>
            <a:off x="1992240" y="4038480"/>
            <a:ext cx="17877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Lucida Sans Unicode"/>
                <a:ea typeface="SimSun"/>
              </a:rPr>
              <a:t>GRANDES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eaeaea"/>
                </a:solidFill>
                <a:latin typeface="Lucida Sans Unicode"/>
                <a:ea typeface="SimSun"/>
              </a:rPr>
              <a:t>USUARIOS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8" name="AutoShape 33"/>
          <p:cNvSpPr/>
          <p:nvPr/>
        </p:nvSpPr>
        <p:spPr>
          <a:xfrm>
            <a:off x="2700360" y="2206800"/>
            <a:ext cx="287280" cy="8618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2320 h 861840"/>
              <a:gd name="textAreaBottom" fmla="*/ 839520 h 86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9" name="Text Box 34"/>
          <p:cNvSpPr/>
          <p:nvPr/>
        </p:nvSpPr>
        <p:spPr>
          <a:xfrm>
            <a:off x="3060720" y="2171880"/>
            <a:ext cx="6048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equipos e instalaciones cuya función es producir energía eléctrica en grandes cantidades a partir de fuentes primarias de energía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0" name="AutoShape 35"/>
          <p:cNvSpPr/>
          <p:nvPr/>
        </p:nvSpPr>
        <p:spPr>
          <a:xfrm>
            <a:off x="2771640" y="3141720"/>
            <a:ext cx="287640" cy="1152360"/>
          </a:xfrm>
          <a:custGeom>
            <a:avLst/>
            <a:gdLst>
              <a:gd name="textAreaLeft" fmla="*/ 183960 w 287640"/>
              <a:gd name="textAreaRight" fmla="*/ 288000 w 287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1" name="Text Box 36"/>
          <p:cNvSpPr/>
          <p:nvPr/>
        </p:nvSpPr>
        <p:spPr>
          <a:xfrm>
            <a:off x="3059280" y="3068640"/>
            <a:ext cx="5978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equipos e instalaciones cuya función es transportar energía de los centros de producción a los principales nodos de consumo (subestaciones de distribución o grandes usuarios). Por lo general, su topología es enmallada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2" name="AutoShape 37"/>
          <p:cNvSpPr/>
          <p:nvPr/>
        </p:nvSpPr>
        <p:spPr>
          <a:xfrm>
            <a:off x="2771640" y="4581360"/>
            <a:ext cx="216000" cy="129564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3" name="Text Box 38"/>
          <p:cNvSpPr/>
          <p:nvPr/>
        </p:nvSpPr>
        <p:spPr>
          <a:xfrm>
            <a:off x="3059280" y="4437000"/>
            <a:ext cx="56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equipos e instalaciones cuya función es llevar la energía eléctrica a los usuarios finales en sus puntos de conexión. Consiste en circuitos de distribución (feeders) con topología radial. Cuando existe topología enmallada, es común operar en forma radial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8B26-22E1-4822-8CA6-0C31B8291749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4. </a:t>
            </a: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VOLTAJES UTILIZADOS EN SISTEMAS DE POTENCIA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468360" y="1844640"/>
          <a:ext cx="8064360" cy="1036800"/>
        </p:xfrm>
        <a:graphic>
          <a:graphicData uri="http://schemas.openxmlformats.org/drawingml/2006/table">
            <a:tbl>
              <a:tblPr/>
              <a:tblGrid>
                <a:gridCol w="1512720"/>
                <a:gridCol w="6551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Voltaje de operación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s el voltaje al cual opera el sistema de potencia y sobre el cual se define la regulación de voltaje. Se expresa en kV rms línea-línea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Voltaje nominal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s el voltaje máximo al cual puede operar en forma continua un equipo eléctrico. Se expresa en kV rms línea-línea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7" name="Text Box 120"/>
          <p:cNvSpPr/>
          <p:nvPr/>
        </p:nvSpPr>
        <p:spPr>
          <a:xfrm>
            <a:off x="468360" y="321948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Para algunos equipos del sistema eléctrico, no aplica el concepto de voltaje nominal: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468360" y="4264200"/>
          <a:ext cx="7920000" cy="1981080"/>
        </p:xfrm>
        <a:graphic>
          <a:graphicData uri="http://schemas.openxmlformats.org/drawingml/2006/table">
            <a:tbl>
              <a:tblPr/>
              <a:tblGrid>
                <a:gridCol w="574560"/>
                <a:gridCol w="2232000"/>
                <a:gridCol w="511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1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Líneas de transmisión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l voltaje nominal es su voltaje de operación.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2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formadores de distribución y potencia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Los voltajes nominales corresponden a los voltajes de la relación de transformación, es decir, voltajes de operación. Ejemplo: 115/13.8 kV. Sin embargo, algunos de sus componentes pueden designarse con el voltaje máximo nominal.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3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Generadores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Se designan por su voltaje operativo. En general, valores de baja y media tensión.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D497-6B27-4407-BEF4-BF03460149A2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lasificació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4. </a:t>
            </a: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VOLTAJES UTILIZADOS EN SISTEMAS DE POTENCIA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2" name="Text Box 4"/>
          <p:cNvSpPr/>
          <p:nvPr/>
        </p:nvSpPr>
        <p:spPr>
          <a:xfrm>
            <a:off x="611280" y="422100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Actividades según la CREG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(Voperación):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3" name="Text Box 5"/>
          <p:cNvSpPr/>
          <p:nvPr/>
        </p:nvSpPr>
        <p:spPr>
          <a:xfrm>
            <a:off x="468360" y="22636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Niveles de tensión establecidos por la CREG (Vnominal):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994" name=""/>
          <p:cNvGraphicFramePr/>
          <p:nvPr/>
        </p:nvGraphicFramePr>
        <p:xfrm>
          <a:off x="826920" y="4822920"/>
          <a:ext cx="7705800" cy="1096920"/>
        </p:xfrm>
        <a:graphic>
          <a:graphicData uri="http://schemas.openxmlformats.org/drawingml/2006/table">
            <a:tbl>
              <a:tblPr/>
              <a:tblGrid>
                <a:gridCol w="1368720"/>
                <a:gridCol w="6337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misión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kVoperación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220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Se denomina Sistema de Transmisión Nacional (STN)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Distribución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kVoperación &lt; 220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uede ser Sistema de Transmisión Regional (STR) ó Sistema de Distribución Local (SDL)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95" name=""/>
          <p:cNvGraphicFramePr/>
          <p:nvPr/>
        </p:nvGraphicFramePr>
        <p:xfrm>
          <a:off x="1657440" y="2766960"/>
          <a:ext cx="5829120" cy="1096920"/>
        </p:xfrm>
        <a:graphic>
          <a:graphicData uri="http://schemas.openxmlformats.org/drawingml/2006/table">
            <a:tbl>
              <a:tblPr/>
              <a:tblGrid>
                <a:gridCol w="1371600"/>
                <a:gridCol w="4457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Nivel 1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kVnom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&lt;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Nivel 2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1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 kVnom &lt; 30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Nivel 3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30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 kVnom &lt; 62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Nivel 4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kVnom 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 62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ED18-D4E3-42F4-9E46-18F714524E03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lasificació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4. </a:t>
            </a: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VOLTAJES UTILIZADOS EN SISTEMAS DE POTENCIA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9" name="Text Box 5"/>
          <p:cNvSpPr/>
          <p:nvPr/>
        </p:nvSpPr>
        <p:spPr>
          <a:xfrm>
            <a:off x="468360" y="226368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Niveles de tensión establecidos por el RETIE – Norma NTC 1340: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000" name=""/>
          <p:cNvGraphicFramePr/>
          <p:nvPr/>
        </p:nvGraphicFramePr>
        <p:xfrm>
          <a:off x="649440" y="3352680"/>
          <a:ext cx="6946920" cy="1676520"/>
        </p:xfrm>
        <a:graphic>
          <a:graphicData uri="http://schemas.openxmlformats.org/drawingml/2006/table">
            <a:tbl>
              <a:tblPr/>
              <a:tblGrid>
                <a:gridCol w="2736720"/>
                <a:gridCol w="4210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</a:rPr>
                        <a:t>Extra alta tensión (EAT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</a:rPr>
                        <a:t>&gt; 230 kV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</a:rPr>
                        <a:t>Alta tensión (AT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57,5 kV &lt; V 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 230 kV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</a:rPr>
                        <a:t>Media tensión (MT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1 kV &lt; V 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 57,5 kV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</a:rPr>
                        <a:t>Baja tensión (BT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25 V &lt; V 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 1 kV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</a:rPr>
                        <a:t>Muy baja tensión (MBT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</a:rPr>
                        <a:t>V &lt; 25 V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1" name="Text Box 61"/>
          <p:cNvSpPr/>
          <p:nvPr/>
        </p:nvSpPr>
        <p:spPr>
          <a:xfrm>
            <a:off x="1763640" y="5445000"/>
            <a:ext cx="655344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portalelectricos.com/retie/index.php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cidet.com.co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E58BC-7A74-44EA-A72D-CC3DC1B7314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lasificación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4. </a:t>
            </a:r>
            <a:r>
              <a:rPr b="1" lang="es-ES" sz="4000" spc="-1" strike="noStrike">
                <a:solidFill>
                  <a:srgbClr val="ffffcc"/>
                </a:solidFill>
                <a:latin typeface="Arial"/>
              </a:rPr>
              <a:t>VOLTAJES UTILIZADOS EN SISTEMAS DE POTENCIA</a:t>
            </a: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5" name="Text Box 5"/>
          <p:cNvSpPr/>
          <p:nvPr/>
        </p:nvSpPr>
        <p:spPr>
          <a:xfrm>
            <a:off x="755640" y="227664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ANSI según voltaje nominal: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006" name=""/>
          <p:cNvGraphicFramePr/>
          <p:nvPr/>
        </p:nvGraphicFramePr>
        <p:xfrm>
          <a:off x="1657440" y="2835360"/>
          <a:ext cx="5829120" cy="1738080"/>
        </p:xfrm>
        <a:graphic>
          <a:graphicData uri="http://schemas.openxmlformats.org/drawingml/2006/table">
            <a:tbl>
              <a:tblPr/>
              <a:tblGrid>
                <a:gridCol w="1371600"/>
                <a:gridCol w="4457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Bajo voltaje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kVmax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1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Medio voltaje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1 &lt; kVmax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 72,5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Alto voltaje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72,5 &lt; kVmax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 242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xtra alto voltaje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242 &lt; kVmax &lt; 1000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Ultra alto voltaje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kVmax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 1000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7" name="Text Box 68"/>
          <p:cNvSpPr/>
          <p:nvPr/>
        </p:nvSpPr>
        <p:spPr>
          <a:xfrm>
            <a:off x="828720" y="4718160"/>
            <a:ext cx="712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Verdana"/>
              </a:rPr>
              <a:t>ANSI según voltaje de operación: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008" name=""/>
          <p:cNvGraphicFramePr/>
          <p:nvPr/>
        </p:nvGraphicFramePr>
        <p:xfrm>
          <a:off x="1657440" y="5229360"/>
          <a:ext cx="5829120" cy="823680"/>
        </p:xfrm>
        <a:graphic>
          <a:graphicData uri="http://schemas.openxmlformats.org/drawingml/2006/table">
            <a:tbl>
              <a:tblPr/>
              <a:tblGrid>
                <a:gridCol w="1371600"/>
                <a:gridCol w="4457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Distribución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kVoperación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34,5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Subtransmisión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34,5 &lt; kVoperación 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 138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misión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kVoperación &gt; 115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1696-2452-4A34-A689-13B9F24758B9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1. SISTEMA ELÉCTRICO DE POT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0" name="Rectangle 108"/>
          <p:cNvSpPr/>
          <p:nvPr/>
        </p:nvSpPr>
        <p:spPr>
          <a:xfrm>
            <a:off x="468360" y="1989000"/>
            <a:ext cx="822960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Conjunto de instalaciones y equipos para producir, transportar y distribuir energía eléctrica a los usuarios de una zona, ciudad, región o país.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“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La función del sistema eléctrico de potencia es abastecer a todos los usuarios con energía eléctrica tan económicamente como sea posible, en la cantidad deseada y con un nivel aceptable de calidad, seguridad y confiabilidad” </a:t>
            </a:r>
            <a:endParaRPr b="1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A642-3BEE-4D21-8B78-4846F7574FB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Dispositivo que transmite potencia eléctrica entre dos puntos por medio de conductores y opera a un voltaje mayor a 1 kV con señal DC o AC sinusoidal de 50 ó 60 Hertz.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12" name="Picture 5" descr="DSC06152"/>
          <p:cNvPicPr/>
          <p:nvPr/>
        </p:nvPicPr>
        <p:blipFill>
          <a:blip r:embed="rId1"/>
          <a:stretch/>
        </p:blipFill>
        <p:spPr>
          <a:xfrm>
            <a:off x="539640" y="3357720"/>
            <a:ext cx="3992760" cy="299376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7" descr="T86 a T01V - Salida a variante cto LVIRCART"/>
          <p:cNvPicPr/>
          <p:nvPr/>
        </p:nvPicPr>
        <p:blipFill>
          <a:blip r:embed="rId2"/>
          <a:stretch/>
        </p:blipFill>
        <p:spPr>
          <a:xfrm>
            <a:off x="4859280" y="3357720"/>
            <a:ext cx="39607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7B65-33A3-4F17-82EA-11BF5DB579D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a línea de transmisión de potencia se puede representar como una red de dos puertos o cuadripolo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017" name="Group 12"/>
          <p:cNvGrpSpPr/>
          <p:nvPr/>
        </p:nvGrpSpPr>
        <p:grpSpPr>
          <a:xfrm>
            <a:off x="1835280" y="3170160"/>
            <a:ext cx="5330520" cy="863640"/>
            <a:chOff x="1835280" y="3170160"/>
            <a:chExt cx="5330520" cy="863640"/>
          </a:xfrm>
        </p:grpSpPr>
        <p:sp>
          <p:nvSpPr>
            <p:cNvPr id="1018" name="Rectangle 6"/>
            <p:cNvSpPr/>
            <p:nvPr/>
          </p:nvSpPr>
          <p:spPr>
            <a:xfrm>
              <a:off x="3276720" y="3170160"/>
              <a:ext cx="2447640" cy="863640"/>
            </a:xfrm>
            <a:prstGeom prst="rect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eaeaea"/>
                  </a:solidFill>
                  <a:latin typeface="Verdana"/>
                </a:rPr>
                <a:t>CUADRIPOLO</a:t>
              </a: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19" name="Line 7"/>
            <p:cNvSpPr/>
            <p:nvPr/>
          </p:nvSpPr>
          <p:spPr>
            <a:xfrm>
              <a:off x="1835280" y="3386160"/>
              <a:ext cx="14414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0" name="Line 8"/>
            <p:cNvSpPr/>
            <p:nvPr/>
          </p:nvSpPr>
          <p:spPr>
            <a:xfrm>
              <a:off x="1835280" y="3818160"/>
              <a:ext cx="14414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1" name="Line 9"/>
            <p:cNvSpPr/>
            <p:nvPr/>
          </p:nvSpPr>
          <p:spPr>
            <a:xfrm>
              <a:off x="5724360" y="3386160"/>
              <a:ext cx="14414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22" name="Line 10"/>
            <p:cNvSpPr/>
            <p:nvPr/>
          </p:nvSpPr>
          <p:spPr>
            <a:xfrm>
              <a:off x="5724360" y="3818160"/>
              <a:ext cx="1441440" cy="0"/>
            </a:xfrm>
            <a:prstGeom prst="line">
              <a:avLst/>
            </a:prstGeom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023" name="Text Box 13"/>
          <p:cNvSpPr/>
          <p:nvPr/>
        </p:nvSpPr>
        <p:spPr>
          <a:xfrm>
            <a:off x="609480" y="3170160"/>
            <a:ext cx="122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Entrada, fuente o envío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4" name="Text Box 14"/>
          <p:cNvSpPr/>
          <p:nvPr/>
        </p:nvSpPr>
        <p:spPr>
          <a:xfrm>
            <a:off x="7236000" y="3170160"/>
            <a:ext cx="122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Salida, carga o recibo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5" name="Text Box 15"/>
          <p:cNvSpPr/>
          <p:nvPr/>
        </p:nvSpPr>
        <p:spPr>
          <a:xfrm>
            <a:off x="2916360" y="417816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Red de secuencia positiva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6" name="Text Box 16"/>
          <p:cNvSpPr/>
          <p:nvPr/>
        </p:nvSpPr>
        <p:spPr>
          <a:xfrm>
            <a:off x="179280" y="4819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Lineal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7" name="Text Box 18"/>
          <p:cNvSpPr/>
          <p:nvPr/>
        </p:nvSpPr>
        <p:spPr>
          <a:xfrm>
            <a:off x="179280" y="55389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Pasiva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8" name="Text Box 19"/>
          <p:cNvSpPr/>
          <p:nvPr/>
        </p:nvSpPr>
        <p:spPr>
          <a:xfrm>
            <a:off x="179280" y="61214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Bilateral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29" name="Text Box 20"/>
          <p:cNvSpPr/>
          <p:nvPr/>
        </p:nvSpPr>
        <p:spPr>
          <a:xfrm>
            <a:off x="1476360" y="4681440"/>
            <a:ext cx="734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Parámetros eléctricos son independientes de la carga eléctrica y de la corriente eléctrica. Sólo dependen de la geometría de montaje de los conductores y del tamaño y tipo de conductor.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0" name="Text Box 21"/>
          <p:cNvSpPr/>
          <p:nvPr/>
        </p:nvSpPr>
        <p:spPr>
          <a:xfrm>
            <a:off x="1476360" y="5618160"/>
            <a:ext cx="539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No es fuente de energía eléctrica 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1" name="Text Box 22"/>
          <p:cNvSpPr/>
          <p:nvPr/>
        </p:nvSpPr>
        <p:spPr>
          <a:xfrm>
            <a:off x="1692360" y="6080040"/>
            <a:ext cx="62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Parámetros eléctricos son los mismos vistos desde cualquier par de terminales.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2" name="AutoShape 23"/>
          <p:cNvSpPr/>
          <p:nvPr/>
        </p:nvSpPr>
        <p:spPr>
          <a:xfrm>
            <a:off x="1042920" y="4897440"/>
            <a:ext cx="433440" cy="289080"/>
          </a:xfrm>
          <a:custGeom>
            <a:avLst/>
            <a:gdLst>
              <a:gd name="textAreaLeft" fmla="*/ 67680 w 433440"/>
              <a:gd name="textAreaRight" fmla="*/ 379440 w 433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3" name="AutoShape 24"/>
          <p:cNvSpPr/>
          <p:nvPr/>
        </p:nvSpPr>
        <p:spPr>
          <a:xfrm>
            <a:off x="1042920" y="5616720"/>
            <a:ext cx="433440" cy="288720"/>
          </a:xfrm>
          <a:custGeom>
            <a:avLst/>
            <a:gdLst>
              <a:gd name="textAreaLeft" fmla="*/ 67680 w 433440"/>
              <a:gd name="textAreaRight" fmla="*/ 379440 w 4334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4" name="AutoShape 25"/>
          <p:cNvSpPr/>
          <p:nvPr/>
        </p:nvSpPr>
        <p:spPr>
          <a:xfrm>
            <a:off x="1258920" y="6192720"/>
            <a:ext cx="433440" cy="289080"/>
          </a:xfrm>
          <a:custGeom>
            <a:avLst/>
            <a:gdLst>
              <a:gd name="textAreaLeft" fmla="*/ 67680 w 433440"/>
              <a:gd name="textAreaRight" fmla="*/ 379440 w 433440"/>
              <a:gd name="textAreaTop" fmla="*/ 72000 h 289080"/>
              <a:gd name="textAreaBottom" fmla="*/ 217080 h 289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B044-B02A-47B4-9191-B8E31F2519C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lementos principales (conductores)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38" name="Picture 15" descr="DSC00056"/>
          <p:cNvPicPr/>
          <p:nvPr/>
        </p:nvPicPr>
        <p:blipFill>
          <a:blip r:embed="rId1"/>
          <a:stretch/>
        </p:blipFill>
        <p:spPr>
          <a:xfrm>
            <a:off x="179280" y="4653000"/>
            <a:ext cx="2479680" cy="1860480"/>
          </a:xfrm>
          <a:prstGeom prst="rect">
            <a:avLst/>
          </a:prstGeom>
          <a:ln w="0">
            <a:noFill/>
          </a:ln>
        </p:spPr>
      </p:pic>
      <p:sp>
        <p:nvSpPr>
          <p:cNvPr id="1039" name="Text Box 16"/>
          <p:cNvSpPr/>
          <p:nvPr/>
        </p:nvSpPr>
        <p:spPr>
          <a:xfrm>
            <a:off x="2987640" y="2492280"/>
            <a:ext cx="590544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Se utilizan cables, no alambres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Pueden utilizarse conductores distintos para fases y apantallamiento (cables guarda)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Pueden ser desnudos o aislados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Los materiales más utilizados son: aluminio (AA), cobre (CU), acero galvanizado (SS) y aleaciones y combinaciones de éstos como ACSR, alumoweld (AW), ACSR/AW, copperweld 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Los cables aislados pueden tener o no un neutro concéntrico, y ser  monopolares, bipolares, tripolares, triplex, armados o acorazados.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Material aislante preferido: Polietileno reticulado (XLPE)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En los cables aislados siempre se utiliza una pantalla metálica exterior que se conecta a tierra para controlar el gradiente de potencial. 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040" name="Picture 17" descr="IMG_2230"/>
          <p:cNvPicPr/>
          <p:nvPr/>
        </p:nvPicPr>
        <p:blipFill>
          <a:blip r:embed="rId2"/>
          <a:stretch/>
        </p:blipFill>
        <p:spPr>
          <a:xfrm>
            <a:off x="250920" y="2492280"/>
            <a:ext cx="1042920" cy="19447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8" descr="IMG_2237"/>
          <p:cNvPicPr/>
          <p:nvPr/>
        </p:nvPicPr>
        <p:blipFill>
          <a:blip r:embed="rId3"/>
          <a:stretch/>
        </p:blipFill>
        <p:spPr>
          <a:xfrm>
            <a:off x="1476360" y="2492280"/>
            <a:ext cx="13525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Marcador de número de diapositiva 4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F456-A7D1-4B1E-AF43-E5FB09E07477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3" name="Rectangle 3"/>
          <p:cNvSpPr/>
          <p:nvPr/>
        </p:nvSpPr>
        <p:spPr>
          <a:xfrm>
            <a:off x="395280" y="580536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cc"/>
                </a:solidFill>
                <a:latin typeface="Arial"/>
              </a:rPr>
              <a:t>Tipo XLPE </a:t>
            </a:r>
            <a:endParaRPr b="1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044" name="Group 4"/>
          <p:cNvGrpSpPr/>
          <p:nvPr/>
        </p:nvGrpSpPr>
        <p:grpSpPr>
          <a:xfrm>
            <a:off x="609480" y="1752480"/>
            <a:ext cx="5410440" cy="4137120"/>
            <a:chOff x="609480" y="1752480"/>
            <a:chExt cx="5410440" cy="4137120"/>
          </a:xfrm>
        </p:grpSpPr>
        <p:sp>
          <p:nvSpPr>
            <p:cNvPr id="1045" name="Freeform 5"/>
            <p:cNvSpPr/>
            <p:nvPr/>
          </p:nvSpPr>
          <p:spPr>
            <a:xfrm>
              <a:off x="1676520" y="1905120"/>
              <a:ext cx="1981080" cy="220968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56"/>
                  </a:moveTo>
                  <a:lnTo>
                    <a:pt x="72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6" name="Text Box 6"/>
            <p:cNvSpPr/>
            <p:nvPr/>
          </p:nvSpPr>
          <p:spPr>
            <a:xfrm>
              <a:off x="3886200" y="1752480"/>
              <a:ext cx="213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Arial"/>
                </a:rPr>
                <a:t>Chaqueta</a:t>
              </a: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47" name="AutoShape 7"/>
            <p:cNvSpPr/>
            <p:nvPr/>
          </p:nvSpPr>
          <p:spPr>
            <a:xfrm rot="5400000">
              <a:off x="681840" y="4118760"/>
              <a:ext cx="1698480" cy="1843200"/>
            </a:xfrm>
            <a:prstGeom prst="can">
              <a:avLst>
                <a:gd name="adj" fmla="val 39212"/>
              </a:avLst>
            </a:prstGeom>
            <a:gradFill rotWithShape="0">
              <a:gsLst>
                <a:gs pos="0">
                  <a:srgbClr val="595959"/>
                </a:gs>
                <a:gs pos="50000">
                  <a:srgbClr val="c0c0c0"/>
                </a:gs>
                <a:gs pos="100000">
                  <a:srgbClr val="59595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048" name="Group 8"/>
          <p:cNvGrpSpPr/>
          <p:nvPr/>
        </p:nvGrpSpPr>
        <p:grpSpPr>
          <a:xfrm>
            <a:off x="1857240" y="2133720"/>
            <a:ext cx="4695840" cy="3542760"/>
            <a:chOff x="1857240" y="2133720"/>
            <a:chExt cx="4695840" cy="3542760"/>
          </a:xfrm>
        </p:grpSpPr>
        <p:sp>
          <p:nvSpPr>
            <p:cNvPr id="1049" name="AutoShape 9"/>
            <p:cNvSpPr/>
            <p:nvPr/>
          </p:nvSpPr>
          <p:spPr>
            <a:xfrm rot="5400000">
              <a:off x="1919880" y="4275360"/>
              <a:ext cx="1338120" cy="1463760"/>
            </a:xfrm>
            <a:prstGeom prst="can">
              <a:avLst>
                <a:gd name="adj" fmla="val 36273"/>
              </a:avLst>
            </a:prstGeom>
            <a:gradFill rotWithShape="0">
              <a:gsLst>
                <a:gs pos="0">
                  <a:srgbClr val="ccffff"/>
                </a:gs>
                <a:gs pos="50000">
                  <a:srgbClr val="ffffff"/>
                </a:gs>
                <a:gs pos="100000">
                  <a:srgbClr val="ccffff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>
              <a:off x="2109960" y="4357440"/>
              <a:ext cx="687240" cy="7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1" name="Line 11"/>
            <p:cNvSpPr/>
            <p:nvPr/>
          </p:nvSpPr>
          <p:spPr>
            <a:xfrm>
              <a:off x="1857240" y="4989240"/>
              <a:ext cx="614520" cy="68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2" name="Text Box 12"/>
            <p:cNvSpPr/>
            <p:nvPr/>
          </p:nvSpPr>
          <p:spPr>
            <a:xfrm>
              <a:off x="4419720" y="213372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Arial"/>
                </a:rPr>
                <a:t>Cinta</a:t>
              </a: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3" name="Freeform 13"/>
            <p:cNvSpPr/>
            <p:nvPr/>
          </p:nvSpPr>
          <p:spPr>
            <a:xfrm>
              <a:off x="2590920" y="2347920"/>
              <a:ext cx="1752480" cy="190440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56"/>
                  </a:moveTo>
                  <a:lnTo>
                    <a:pt x="72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054" name="Group 14"/>
          <p:cNvGrpSpPr/>
          <p:nvPr/>
        </p:nvGrpSpPr>
        <p:grpSpPr>
          <a:xfrm>
            <a:off x="2868480" y="2909880"/>
            <a:ext cx="6275520" cy="2727360"/>
            <a:chOff x="2868480" y="2909880"/>
            <a:chExt cx="6275520" cy="2727360"/>
          </a:xfrm>
        </p:grpSpPr>
        <p:sp>
          <p:nvSpPr>
            <p:cNvPr id="1055" name="Text Box 15"/>
            <p:cNvSpPr/>
            <p:nvPr/>
          </p:nvSpPr>
          <p:spPr>
            <a:xfrm>
              <a:off x="6477120" y="373392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Arial"/>
                </a:rPr>
                <a:t>Blindaje del conductor</a:t>
              </a: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6" name="Freeform 16"/>
            <p:cNvSpPr/>
            <p:nvPr/>
          </p:nvSpPr>
          <p:spPr>
            <a:xfrm>
              <a:off x="4191120" y="3124080"/>
              <a:ext cx="1218960" cy="121932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56"/>
                  </a:moveTo>
                  <a:lnTo>
                    <a:pt x="72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7" name="Text Box 17"/>
            <p:cNvSpPr/>
            <p:nvPr/>
          </p:nvSpPr>
          <p:spPr>
            <a:xfrm>
              <a:off x="5943600" y="33526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Arial"/>
                </a:rPr>
                <a:t>Aislamiento</a:t>
              </a: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8" name="Text Box 18"/>
            <p:cNvSpPr/>
            <p:nvPr/>
          </p:nvSpPr>
          <p:spPr>
            <a:xfrm>
              <a:off x="5410080" y="290988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Arial"/>
                </a:rPr>
                <a:t>Blindaje del aislamiento</a:t>
              </a: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59" name="Freeform 19"/>
            <p:cNvSpPr/>
            <p:nvPr/>
          </p:nvSpPr>
          <p:spPr>
            <a:xfrm>
              <a:off x="5029200" y="3505320"/>
              <a:ext cx="914400" cy="91440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56"/>
                  </a:moveTo>
                  <a:lnTo>
                    <a:pt x="72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0" name="Freeform 20"/>
            <p:cNvSpPr/>
            <p:nvPr/>
          </p:nvSpPr>
          <p:spPr>
            <a:xfrm>
              <a:off x="5791320" y="3886200"/>
              <a:ext cx="685800" cy="83808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56"/>
                  </a:moveTo>
                  <a:lnTo>
                    <a:pt x="72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1" name="AutoShape 21"/>
            <p:cNvSpPr/>
            <p:nvPr/>
          </p:nvSpPr>
          <p:spPr>
            <a:xfrm rot="5400000">
              <a:off x="3248640" y="4028040"/>
              <a:ext cx="1228680" cy="1989360"/>
            </a:xfrm>
            <a:prstGeom prst="can">
              <a:avLst>
                <a:gd name="adj" fmla="val 26361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2" name="AutoShape 22"/>
            <p:cNvSpPr/>
            <p:nvPr/>
          </p:nvSpPr>
          <p:spPr>
            <a:xfrm rot="5400000">
              <a:off x="4468320" y="4398840"/>
              <a:ext cx="1138320" cy="1265400"/>
            </a:xfrm>
            <a:prstGeom prst="can">
              <a:avLst>
                <a:gd name="adj" fmla="val 40578"/>
              </a:avLst>
            </a:prstGeom>
            <a:gradFill rotWithShape="0">
              <a:gsLst>
                <a:gs pos="0">
                  <a:srgbClr val="ffffcc"/>
                </a:gs>
                <a:gs pos="50000">
                  <a:srgbClr val="ffffff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3" name="AutoShape 23"/>
            <p:cNvSpPr/>
            <p:nvPr/>
          </p:nvSpPr>
          <p:spPr>
            <a:xfrm rot="5400000">
              <a:off x="5498640" y="4597560"/>
              <a:ext cx="506520" cy="849240"/>
            </a:xfrm>
            <a:prstGeom prst="can">
              <a:avLst>
                <a:gd name="adj" fmla="val 23402"/>
              </a:avLst>
            </a:prstGeom>
            <a:gradFill rotWithShape="0">
              <a:gsLst>
                <a:gs pos="0">
                  <a:srgbClr val="3b3b3b"/>
                </a:gs>
                <a:gs pos="5000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064" name="Group 24"/>
          <p:cNvGrpSpPr/>
          <p:nvPr/>
        </p:nvGrpSpPr>
        <p:grpSpPr>
          <a:xfrm>
            <a:off x="2833560" y="2590920"/>
            <a:ext cx="5853240" cy="3122640"/>
            <a:chOff x="2833560" y="2590920"/>
            <a:chExt cx="5853240" cy="3122640"/>
          </a:xfrm>
        </p:grpSpPr>
        <p:sp>
          <p:nvSpPr>
            <p:cNvPr id="1065" name="Freeform 25"/>
            <p:cNvSpPr/>
            <p:nvPr/>
          </p:nvSpPr>
          <p:spPr>
            <a:xfrm>
              <a:off x="3429000" y="2819520"/>
              <a:ext cx="1371600" cy="152388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56"/>
                  </a:moveTo>
                  <a:lnTo>
                    <a:pt x="72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6" name="Text Box 26"/>
            <p:cNvSpPr/>
            <p:nvPr/>
          </p:nvSpPr>
          <p:spPr>
            <a:xfrm>
              <a:off x="4800600" y="2590920"/>
              <a:ext cx="388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Arial"/>
                </a:rPr>
                <a:t>Pantalla Metálica (hilos de cobre)</a:t>
              </a: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7" name="Oval 27"/>
            <p:cNvSpPr/>
            <p:nvPr/>
          </p:nvSpPr>
          <p:spPr>
            <a:xfrm>
              <a:off x="3556080" y="5057640"/>
              <a:ext cx="5400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8" name="Oval 28"/>
            <p:cNvSpPr/>
            <p:nvPr/>
          </p:nvSpPr>
          <p:spPr>
            <a:xfrm>
              <a:off x="3592440" y="4660920"/>
              <a:ext cx="54000" cy="71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69" name="Oval 29"/>
            <p:cNvSpPr/>
            <p:nvPr/>
          </p:nvSpPr>
          <p:spPr>
            <a:xfrm>
              <a:off x="2995560" y="5581800"/>
              <a:ext cx="54000" cy="72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70" name="Rectangle 30"/>
            <p:cNvSpPr/>
            <p:nvPr/>
          </p:nvSpPr>
          <p:spPr>
            <a:xfrm rot="19800000">
              <a:off x="2978280" y="5419800"/>
              <a:ext cx="66816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71" name="Oval 31"/>
            <p:cNvSpPr/>
            <p:nvPr/>
          </p:nvSpPr>
          <p:spPr>
            <a:xfrm>
              <a:off x="3573360" y="5257800"/>
              <a:ext cx="5580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72" name="Oval 32"/>
            <p:cNvSpPr/>
            <p:nvPr/>
          </p:nvSpPr>
          <p:spPr>
            <a:xfrm>
              <a:off x="2905200" y="5419800"/>
              <a:ext cx="54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73" name="Rectangle 33"/>
            <p:cNvSpPr/>
            <p:nvPr/>
          </p:nvSpPr>
          <p:spPr>
            <a:xfrm rot="19800000">
              <a:off x="2868480" y="5238720"/>
              <a:ext cx="76068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74" name="Oval 34"/>
            <p:cNvSpPr/>
            <p:nvPr/>
          </p:nvSpPr>
          <p:spPr>
            <a:xfrm>
              <a:off x="3556080" y="5057640"/>
              <a:ext cx="54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75" name="Oval 35"/>
            <p:cNvSpPr/>
            <p:nvPr/>
          </p:nvSpPr>
          <p:spPr>
            <a:xfrm>
              <a:off x="2851200" y="5238720"/>
              <a:ext cx="54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76" name="Rectangle 36"/>
            <p:cNvSpPr/>
            <p:nvPr/>
          </p:nvSpPr>
          <p:spPr>
            <a:xfrm rot="19800000">
              <a:off x="2814480" y="5040000"/>
              <a:ext cx="81468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77" name="Oval 37"/>
            <p:cNvSpPr/>
            <p:nvPr/>
          </p:nvSpPr>
          <p:spPr>
            <a:xfrm>
              <a:off x="3538440" y="4842000"/>
              <a:ext cx="5400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78" name="Oval 38"/>
            <p:cNvSpPr/>
            <p:nvPr/>
          </p:nvSpPr>
          <p:spPr>
            <a:xfrm>
              <a:off x="2833560" y="5094360"/>
              <a:ext cx="54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79" name="Rectangle 39"/>
            <p:cNvSpPr/>
            <p:nvPr/>
          </p:nvSpPr>
          <p:spPr>
            <a:xfrm rot="19800000">
              <a:off x="2814480" y="4878000"/>
              <a:ext cx="849600" cy="71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80" name="Oval 40"/>
            <p:cNvSpPr/>
            <p:nvPr/>
          </p:nvSpPr>
          <p:spPr>
            <a:xfrm>
              <a:off x="3592440" y="4660920"/>
              <a:ext cx="5400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81" name="Rectangle 41"/>
            <p:cNvSpPr/>
            <p:nvPr/>
          </p:nvSpPr>
          <p:spPr>
            <a:xfrm rot="19800000">
              <a:off x="2797200" y="4696920"/>
              <a:ext cx="903240" cy="71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82" name="Oval 42"/>
            <p:cNvSpPr/>
            <p:nvPr/>
          </p:nvSpPr>
          <p:spPr>
            <a:xfrm>
              <a:off x="3610080" y="4479840"/>
              <a:ext cx="54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83" name="Rectangle 43"/>
            <p:cNvSpPr/>
            <p:nvPr/>
          </p:nvSpPr>
          <p:spPr>
            <a:xfrm rot="19800000">
              <a:off x="3193920" y="5527440"/>
              <a:ext cx="47016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84" name="Oval 44"/>
            <p:cNvSpPr/>
            <p:nvPr/>
          </p:nvSpPr>
          <p:spPr>
            <a:xfrm>
              <a:off x="3610080" y="5419800"/>
              <a:ext cx="54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85" name="Oval 45"/>
            <p:cNvSpPr/>
            <p:nvPr/>
          </p:nvSpPr>
          <p:spPr>
            <a:xfrm>
              <a:off x="2833560" y="4714920"/>
              <a:ext cx="54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86" name="Rectangle 46"/>
            <p:cNvSpPr/>
            <p:nvPr/>
          </p:nvSpPr>
          <p:spPr>
            <a:xfrm rot="19800000">
              <a:off x="2814480" y="4533480"/>
              <a:ext cx="723960" cy="730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87" name="Oval 47"/>
            <p:cNvSpPr/>
            <p:nvPr/>
          </p:nvSpPr>
          <p:spPr>
            <a:xfrm>
              <a:off x="2905200" y="4479840"/>
              <a:ext cx="54000" cy="73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88" name="Rectangle 48"/>
            <p:cNvSpPr/>
            <p:nvPr/>
          </p:nvSpPr>
          <p:spPr>
            <a:xfrm rot="19800000">
              <a:off x="2922120" y="4408560"/>
              <a:ext cx="271440" cy="712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089" name="Group 49"/>
          <p:cNvGrpSpPr/>
          <p:nvPr/>
        </p:nvGrpSpPr>
        <p:grpSpPr>
          <a:xfrm>
            <a:off x="5959440" y="4191120"/>
            <a:ext cx="2193840" cy="1066680"/>
            <a:chOff x="5959440" y="4191120"/>
            <a:chExt cx="2193840" cy="1066680"/>
          </a:xfrm>
        </p:grpSpPr>
        <p:sp>
          <p:nvSpPr>
            <p:cNvPr id="1090" name="Text Box 50"/>
            <p:cNvSpPr/>
            <p:nvPr/>
          </p:nvSpPr>
          <p:spPr>
            <a:xfrm>
              <a:off x="6858000" y="419112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eaeaea"/>
                  </a:solidFill>
                  <a:latin typeface="Arial"/>
                </a:rPr>
                <a:t>Conductor</a:t>
              </a: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1" name="Freeform 51"/>
            <p:cNvSpPr/>
            <p:nvPr/>
          </p:nvSpPr>
          <p:spPr>
            <a:xfrm>
              <a:off x="6553080" y="4343400"/>
              <a:ext cx="304920" cy="380880"/>
            </a:xfrm>
            <a:custGeom>
              <a:avLst/>
              <a:gdLst/>
              <a:ahLst/>
              <a:rect l="l" t="t" r="r" b="b"/>
              <a:pathLst>
                <a:path w="1488" h="1056">
                  <a:moveTo>
                    <a:pt x="0" y="1056"/>
                  </a:moveTo>
                  <a:lnTo>
                    <a:pt x="720" y="0"/>
                  </a:lnTo>
                  <a:lnTo>
                    <a:pt x="1488" y="0"/>
                  </a:lnTo>
                </a:path>
              </a:pathLst>
            </a:custGeom>
            <a:noFill/>
            <a:ln w="9360">
              <a:solidFill>
                <a:srgbClr val="eaeaea"/>
              </a:solidFill>
              <a:round/>
              <a:headEnd len="sm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2" name="AutoShape 52"/>
            <p:cNvSpPr/>
            <p:nvPr/>
          </p:nvSpPr>
          <p:spPr>
            <a:xfrm rot="5400000">
              <a:off x="6158520" y="4588560"/>
              <a:ext cx="469800" cy="868320"/>
            </a:xfrm>
            <a:prstGeom prst="can">
              <a:avLst>
                <a:gd name="adj" fmla="val 27657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800000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3" name="Oval 53"/>
            <p:cNvSpPr/>
            <p:nvPr/>
          </p:nvSpPr>
          <p:spPr>
            <a:xfrm>
              <a:off x="6665760" y="4950000"/>
              <a:ext cx="71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4" name="Oval 54"/>
            <p:cNvSpPr/>
            <p:nvPr/>
          </p:nvSpPr>
          <p:spPr>
            <a:xfrm>
              <a:off x="6665760" y="4805280"/>
              <a:ext cx="7164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5" name="Oval 55"/>
            <p:cNvSpPr/>
            <p:nvPr/>
          </p:nvSpPr>
          <p:spPr>
            <a:xfrm>
              <a:off x="6665760" y="5094360"/>
              <a:ext cx="7164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6" name="Oval 56"/>
            <p:cNvSpPr/>
            <p:nvPr/>
          </p:nvSpPr>
          <p:spPr>
            <a:xfrm>
              <a:off x="6737400" y="4878360"/>
              <a:ext cx="7308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7" name="Oval 57"/>
            <p:cNvSpPr/>
            <p:nvPr/>
          </p:nvSpPr>
          <p:spPr>
            <a:xfrm>
              <a:off x="6737400" y="5022720"/>
              <a:ext cx="7308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8" name="Oval 58"/>
            <p:cNvSpPr/>
            <p:nvPr/>
          </p:nvSpPr>
          <p:spPr>
            <a:xfrm>
              <a:off x="6593040" y="4878360"/>
              <a:ext cx="72720" cy="144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99" name="Oval 59"/>
            <p:cNvSpPr/>
            <p:nvPr/>
          </p:nvSpPr>
          <p:spPr>
            <a:xfrm>
              <a:off x="6593040" y="5022720"/>
              <a:ext cx="72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00" name="Line 60"/>
            <p:cNvSpPr/>
            <p:nvPr/>
          </p:nvSpPr>
          <p:spPr>
            <a:xfrm flipH="1">
              <a:off x="6014880" y="5022720"/>
              <a:ext cx="59544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01" name="Line 61"/>
            <p:cNvSpPr/>
            <p:nvPr/>
          </p:nvSpPr>
          <p:spPr>
            <a:xfrm flipH="1">
              <a:off x="5978160" y="4896000"/>
              <a:ext cx="61452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02" name="Line 62"/>
            <p:cNvSpPr/>
            <p:nvPr/>
          </p:nvSpPr>
          <p:spPr>
            <a:xfrm flipH="1">
              <a:off x="6357960" y="5167440"/>
              <a:ext cx="2714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03" name="Line 63"/>
            <p:cNvSpPr/>
            <p:nvPr/>
          </p:nvSpPr>
          <p:spPr>
            <a:xfrm flipH="1">
              <a:off x="5978160" y="4788000"/>
              <a:ext cx="52380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FF1AB-4E08-4531-9738-0635910FBFA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lementos principales (Estructuras)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08" name="Picture 12" descr="chinsaba 5001 v    689"/>
          <p:cNvPicPr/>
          <p:nvPr/>
        </p:nvPicPr>
        <p:blipFill>
          <a:blip r:embed="rId1"/>
          <a:stretch/>
        </p:blipFill>
        <p:spPr>
          <a:xfrm>
            <a:off x="900000" y="227664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3" descr="DSC03166"/>
          <p:cNvPicPr/>
          <p:nvPr/>
        </p:nvPicPr>
        <p:blipFill>
          <a:blip r:embed="rId2"/>
          <a:stretch/>
        </p:blipFill>
        <p:spPr>
          <a:xfrm>
            <a:off x="4714920" y="2276640"/>
            <a:ext cx="3313080" cy="2485800"/>
          </a:xfrm>
          <a:prstGeom prst="rect">
            <a:avLst/>
          </a:prstGeom>
          <a:ln w="0">
            <a:noFill/>
          </a:ln>
        </p:spPr>
      </p:pic>
      <p:sp>
        <p:nvSpPr>
          <p:cNvPr id="1110" name="Text Box 14"/>
          <p:cNvSpPr/>
          <p:nvPr/>
        </p:nvSpPr>
        <p:spPr>
          <a:xfrm>
            <a:off x="1908000" y="5229360"/>
            <a:ext cx="48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Autosoportadas o retenidas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Postes de concreto, madera, acero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Torres en acero galvanizado (celosía)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4BCB-C88B-440F-8053-59FA43F46DD5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lementos principales (aisladores)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4" name="Text Box 12"/>
          <p:cNvSpPr/>
          <p:nvPr/>
        </p:nvSpPr>
        <p:spPr>
          <a:xfrm>
            <a:off x="2124000" y="2637000"/>
            <a:ext cx="511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Suspensión y retención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Tipo pin, poste, cadenas conformadas por unidades de suspensión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Materiales: Porcelana, vidrio, materiales sintéticos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15" name="Picture 14" descr="aisladores"/>
          <p:cNvPicPr/>
          <p:nvPr/>
        </p:nvPicPr>
        <p:blipFill>
          <a:blip r:embed="rId1"/>
          <a:stretch/>
        </p:blipFill>
        <p:spPr>
          <a:xfrm>
            <a:off x="179280" y="1989000"/>
            <a:ext cx="1781280" cy="26672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5" descr="aisladores2"/>
          <p:cNvPicPr/>
          <p:nvPr/>
        </p:nvPicPr>
        <p:blipFill>
          <a:blip r:embed="rId2"/>
          <a:stretch/>
        </p:blipFill>
        <p:spPr>
          <a:xfrm>
            <a:off x="7164360" y="3716280"/>
            <a:ext cx="1790640" cy="26668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8" descr="T215 sc esm falla aislad4"/>
          <p:cNvPicPr/>
          <p:nvPr/>
        </p:nvPicPr>
        <p:blipFill>
          <a:blip r:embed="rId3"/>
          <a:stretch/>
        </p:blipFill>
        <p:spPr>
          <a:xfrm>
            <a:off x="2627280" y="4508640"/>
            <a:ext cx="381636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7320-144B-41D6-9D25-1BA6592DF2D5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lementos principales (herrajes)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3421080" y="2349360"/>
            <a:ext cx="5688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Grapas para sujetar cables de fases y guarda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Amortiguadores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Espaciadores para mantener separados los conductores de un haz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Anillos para control de efecto corona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Cuernos de arco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Crucetas y demás elementos metálicos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Cables para retención o anclaje 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22" name="Picture 11" descr="Separador Chinsaba 500 1"/>
          <p:cNvPicPr/>
          <p:nvPr/>
        </p:nvPicPr>
        <p:blipFill>
          <a:blip r:embed="rId1"/>
          <a:stretch/>
        </p:blipFill>
        <p:spPr>
          <a:xfrm>
            <a:off x="4500720" y="4381560"/>
            <a:ext cx="3024000" cy="227016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3" descr="DSC03014"/>
          <p:cNvPicPr/>
          <p:nvPr/>
        </p:nvPicPr>
        <p:blipFill>
          <a:blip r:embed="rId2"/>
          <a:stretch/>
        </p:blipFill>
        <p:spPr>
          <a:xfrm>
            <a:off x="684360" y="2205000"/>
            <a:ext cx="25336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C6512-79B0-48D4-A7AA-4297FBE10AE0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lementos principales (obras civiles)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7" name="Text Box 12"/>
          <p:cNvSpPr/>
          <p:nvPr/>
        </p:nvSpPr>
        <p:spPr>
          <a:xfrm>
            <a:off x="5219640" y="450864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Líneas subterráneas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8" name="Text Box 13"/>
          <p:cNvSpPr/>
          <p:nvPr/>
        </p:nvSpPr>
        <p:spPr>
          <a:xfrm>
            <a:off x="861840" y="5803920"/>
            <a:ext cx="32054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Cimentaciones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MX" sz="1600" spc="-1" strike="noStrike">
                <a:solidFill>
                  <a:srgbClr val="eaeaea"/>
                </a:solidFill>
                <a:latin typeface="Verdana"/>
              </a:rPr>
              <a:t>Corredor o servidumbre (Right of way)</a:t>
            </a: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9" name="Text Box 14"/>
          <p:cNvSpPr/>
          <p:nvPr/>
        </p:nvSpPr>
        <p:spPr>
          <a:xfrm>
            <a:off x="4788000" y="5445000"/>
            <a:ext cx="3960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Bancos de ductos o zanjas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1001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Cajas de inspección, halado o tiro 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30" name="Picture 15" descr="DSC03163"/>
          <p:cNvPicPr/>
          <p:nvPr/>
        </p:nvPicPr>
        <p:blipFill>
          <a:blip r:embed="rId1"/>
          <a:stretch/>
        </p:blipFill>
        <p:spPr>
          <a:xfrm>
            <a:off x="900000" y="1989000"/>
            <a:ext cx="2232000" cy="29768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6" descr="filtro2"/>
          <p:cNvPicPr/>
          <p:nvPr/>
        </p:nvPicPr>
        <p:blipFill>
          <a:blip r:embed="rId2"/>
          <a:stretch/>
        </p:blipFill>
        <p:spPr>
          <a:xfrm>
            <a:off x="4859280" y="2205000"/>
            <a:ext cx="3313080" cy="219564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17"/>
          <p:cNvSpPr/>
          <p:nvPr/>
        </p:nvSpPr>
        <p:spPr>
          <a:xfrm>
            <a:off x="1116000" y="501336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Líneas aéreas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3" name="AutoShape 18"/>
          <p:cNvSpPr/>
          <p:nvPr/>
        </p:nvSpPr>
        <p:spPr>
          <a:xfrm rot="5400000">
            <a:off x="6156000" y="4868640"/>
            <a:ext cx="431640" cy="505080"/>
          </a:xfrm>
          <a:custGeom>
            <a:avLst/>
            <a:gdLst>
              <a:gd name="textAreaLeft" fmla="*/ 67320 w 431640"/>
              <a:gd name="textAreaRight" fmla="*/ 378000 w 431640"/>
              <a:gd name="textAreaTop" fmla="*/ 126360 h 505080"/>
              <a:gd name="textAreaBottom" fmla="*/ 379080 h 505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4" name="AutoShape 19"/>
          <p:cNvSpPr/>
          <p:nvPr/>
        </p:nvSpPr>
        <p:spPr>
          <a:xfrm rot="5400000">
            <a:off x="1834920" y="5445000"/>
            <a:ext cx="433080" cy="287640"/>
          </a:xfrm>
          <a:custGeom>
            <a:avLst/>
            <a:gdLst>
              <a:gd name="textAreaLeft" fmla="*/ 67680 w 433080"/>
              <a:gd name="textAreaRight" fmla="*/ 379080 w 433080"/>
              <a:gd name="textAreaTop" fmla="*/ 72000 h 287640"/>
              <a:gd name="textAreaBottom" fmla="*/ 216000 h 287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F3D3A-5879-4E98-B2DD-0768C242C08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ementos principales (puesta a tierra):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8" name="Text Box 4"/>
          <p:cNvSpPr/>
          <p:nvPr/>
        </p:nvSpPr>
        <p:spPr>
          <a:xfrm>
            <a:off x="3708360" y="255276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able de cobre desnudo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nectores cobre-cobre o bimetálicos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Varillas de puesta a tierra en cobre o copperweld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ntrapesos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Mallas de puesta a tierra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39" name="Picture 5" descr="Bolivia_2006-01-27_ (6)"/>
          <p:cNvPicPr/>
          <p:nvPr/>
        </p:nvPicPr>
        <p:blipFill>
          <a:blip r:embed="rId1"/>
          <a:stretch/>
        </p:blipFill>
        <p:spPr>
          <a:xfrm>
            <a:off x="108000" y="2274840"/>
            <a:ext cx="316872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0C2A-B2CD-4B16-BD22-57FE79AC10F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lementos principales (otros):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3" name="Text Box 4"/>
          <p:cNvSpPr/>
          <p:nvPr/>
        </p:nvSpPr>
        <p:spPr>
          <a:xfrm>
            <a:off x="250920" y="2997360"/>
            <a:ext cx="453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Pararrayos de línea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Empalmes y terminales monofásico y trifásicos para cables aislados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Anclajes (Anchors)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Balizas para señalización aeronáutica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44" name="Picture 6" descr="MVC-002S"/>
          <p:cNvPicPr/>
          <p:nvPr/>
        </p:nvPicPr>
        <p:blipFill>
          <a:blip r:embed="rId1"/>
          <a:stretch/>
        </p:blipFill>
        <p:spPr>
          <a:xfrm>
            <a:off x="5003640" y="2781360"/>
            <a:ext cx="380232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E86F0-E2CA-4336-98E4-3536DBB4075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572" name="Group 57"/>
          <p:cNvGrpSpPr/>
          <p:nvPr/>
        </p:nvGrpSpPr>
        <p:grpSpPr>
          <a:xfrm>
            <a:off x="4165560" y="4172040"/>
            <a:ext cx="685800" cy="164880"/>
            <a:chOff x="4165560" y="4172040"/>
            <a:chExt cx="685800" cy="164880"/>
          </a:xfrm>
        </p:grpSpPr>
        <p:sp>
          <p:nvSpPr>
            <p:cNvPr id="573" name="Line 59"/>
            <p:cNvSpPr/>
            <p:nvPr/>
          </p:nvSpPr>
          <p:spPr>
            <a:xfrm>
              <a:off x="4165560" y="425448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74" name="Rectangle 58"/>
            <p:cNvSpPr/>
            <p:nvPr/>
          </p:nvSpPr>
          <p:spPr>
            <a:xfrm>
              <a:off x="4361400" y="4172040"/>
              <a:ext cx="195840" cy="164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575" name="Group 52"/>
          <p:cNvGrpSpPr/>
          <p:nvPr/>
        </p:nvGrpSpPr>
        <p:grpSpPr>
          <a:xfrm>
            <a:off x="5991120" y="4174920"/>
            <a:ext cx="571680" cy="114480"/>
            <a:chOff x="5991120" y="4174920"/>
            <a:chExt cx="571680" cy="114480"/>
          </a:xfrm>
        </p:grpSpPr>
        <p:sp>
          <p:nvSpPr>
            <p:cNvPr id="576" name="Line 56"/>
            <p:cNvSpPr/>
            <p:nvPr/>
          </p:nvSpPr>
          <p:spPr>
            <a:xfrm>
              <a:off x="5991120" y="423216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577" name="Group 53"/>
            <p:cNvGrpSpPr/>
            <p:nvPr/>
          </p:nvGrpSpPr>
          <p:grpSpPr>
            <a:xfrm>
              <a:off x="6181560" y="4174920"/>
              <a:ext cx="190440" cy="114480"/>
              <a:chOff x="6181560" y="4174920"/>
              <a:chExt cx="190440" cy="114480"/>
            </a:xfrm>
          </p:grpSpPr>
          <p:sp>
            <p:nvSpPr>
              <p:cNvPr id="578" name="Line 55"/>
              <p:cNvSpPr/>
              <p:nvPr/>
            </p:nvSpPr>
            <p:spPr>
              <a:xfrm flipV="1">
                <a:off x="6181560" y="4174920"/>
                <a:ext cx="1904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79" name="Line 54"/>
              <p:cNvSpPr/>
              <p:nvPr/>
            </p:nvSpPr>
            <p:spPr>
              <a:xfrm>
                <a:off x="6181560" y="4175280"/>
                <a:ext cx="19044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grpSp>
        <p:nvGrpSpPr>
          <p:cNvPr id="580" name="Group 9"/>
          <p:cNvGrpSpPr/>
          <p:nvPr/>
        </p:nvGrpSpPr>
        <p:grpSpPr>
          <a:xfrm>
            <a:off x="4048200" y="6232320"/>
            <a:ext cx="568080" cy="114480"/>
            <a:chOff x="4048200" y="6232320"/>
            <a:chExt cx="568080" cy="114480"/>
          </a:xfrm>
        </p:grpSpPr>
        <p:sp>
          <p:nvSpPr>
            <p:cNvPr id="581" name="Line 13"/>
            <p:cNvSpPr/>
            <p:nvPr/>
          </p:nvSpPr>
          <p:spPr>
            <a:xfrm>
              <a:off x="4048200" y="6289560"/>
              <a:ext cx="56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582" name="Group 10"/>
            <p:cNvGrpSpPr/>
            <p:nvPr/>
          </p:nvGrpSpPr>
          <p:grpSpPr>
            <a:xfrm>
              <a:off x="4237560" y="6232320"/>
              <a:ext cx="189360" cy="114480"/>
              <a:chOff x="4237560" y="6232320"/>
              <a:chExt cx="189360" cy="114480"/>
            </a:xfrm>
          </p:grpSpPr>
          <p:sp>
            <p:nvSpPr>
              <p:cNvPr id="583" name="Line 12"/>
              <p:cNvSpPr/>
              <p:nvPr/>
            </p:nvSpPr>
            <p:spPr>
              <a:xfrm flipV="1">
                <a:off x="4237560" y="6232320"/>
                <a:ext cx="18936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84" name="Line 11"/>
              <p:cNvSpPr/>
              <p:nvPr/>
            </p:nvSpPr>
            <p:spPr>
              <a:xfrm>
                <a:off x="4237560" y="6232680"/>
                <a:ext cx="189360" cy="11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grpSp>
        <p:nvGrpSpPr>
          <p:cNvPr id="585" name="Group 4"/>
          <p:cNvGrpSpPr/>
          <p:nvPr/>
        </p:nvGrpSpPr>
        <p:grpSpPr>
          <a:xfrm>
            <a:off x="6151680" y="6232680"/>
            <a:ext cx="527040" cy="177480"/>
            <a:chOff x="6151680" y="6232680"/>
            <a:chExt cx="527040" cy="177480"/>
          </a:xfrm>
        </p:grpSpPr>
        <p:sp>
          <p:nvSpPr>
            <p:cNvPr id="586" name="Line 8"/>
            <p:cNvSpPr/>
            <p:nvPr/>
          </p:nvSpPr>
          <p:spPr>
            <a:xfrm>
              <a:off x="6151680" y="6232680"/>
              <a:ext cx="527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87" name="Line 7"/>
            <p:cNvSpPr/>
            <p:nvPr/>
          </p:nvSpPr>
          <p:spPr>
            <a:xfrm flipH="1">
              <a:off x="6302160" y="6232680"/>
              <a:ext cx="150480" cy="68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88" name="Line 6"/>
            <p:cNvSpPr/>
            <p:nvPr/>
          </p:nvSpPr>
          <p:spPr>
            <a:xfrm>
              <a:off x="6302160" y="6296040"/>
              <a:ext cx="150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89" name="Line 5"/>
            <p:cNvSpPr/>
            <p:nvPr/>
          </p:nvSpPr>
          <p:spPr>
            <a:xfrm flipH="1">
              <a:off x="6302160" y="6291720"/>
              <a:ext cx="150480" cy="11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590" name="Group 47"/>
          <p:cNvGrpSpPr/>
          <p:nvPr/>
        </p:nvGrpSpPr>
        <p:grpSpPr>
          <a:xfrm>
            <a:off x="4162320" y="4626000"/>
            <a:ext cx="574920" cy="228600"/>
            <a:chOff x="4162320" y="4626000"/>
            <a:chExt cx="574920" cy="228600"/>
          </a:xfrm>
        </p:grpSpPr>
        <p:sp>
          <p:nvSpPr>
            <p:cNvPr id="591" name="Line 51"/>
            <p:cNvSpPr/>
            <p:nvPr/>
          </p:nvSpPr>
          <p:spPr>
            <a:xfrm>
              <a:off x="4508640" y="47365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2" name="Line 50"/>
            <p:cNvSpPr/>
            <p:nvPr/>
          </p:nvSpPr>
          <p:spPr>
            <a:xfrm>
              <a:off x="4390920" y="46260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3" name="Line 49"/>
            <p:cNvSpPr/>
            <p:nvPr/>
          </p:nvSpPr>
          <p:spPr>
            <a:xfrm>
              <a:off x="4505400" y="46260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4" name="Line 48"/>
            <p:cNvSpPr/>
            <p:nvPr/>
          </p:nvSpPr>
          <p:spPr>
            <a:xfrm>
              <a:off x="4162320" y="474012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595" name="Group 36"/>
          <p:cNvGrpSpPr/>
          <p:nvPr/>
        </p:nvGrpSpPr>
        <p:grpSpPr>
          <a:xfrm>
            <a:off x="4162320" y="5127480"/>
            <a:ext cx="574920" cy="228600"/>
            <a:chOff x="4162320" y="5127480"/>
            <a:chExt cx="574920" cy="228600"/>
          </a:xfrm>
        </p:grpSpPr>
        <p:grpSp>
          <p:nvGrpSpPr>
            <p:cNvPr id="596" name="Group 38"/>
            <p:cNvGrpSpPr/>
            <p:nvPr/>
          </p:nvGrpSpPr>
          <p:grpSpPr>
            <a:xfrm>
              <a:off x="4162320" y="5127480"/>
              <a:ext cx="574920" cy="228600"/>
              <a:chOff x="4162320" y="5127480"/>
              <a:chExt cx="574920" cy="228600"/>
            </a:xfrm>
          </p:grpSpPr>
          <p:sp>
            <p:nvSpPr>
              <p:cNvPr id="597" name="Line 42"/>
              <p:cNvSpPr/>
              <p:nvPr/>
            </p:nvSpPr>
            <p:spPr>
              <a:xfrm>
                <a:off x="4508640" y="523800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98" name="Line 41"/>
              <p:cNvSpPr/>
              <p:nvPr/>
            </p:nvSpPr>
            <p:spPr>
              <a:xfrm>
                <a:off x="4390920" y="5127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599" name="Line 40"/>
              <p:cNvSpPr/>
              <p:nvPr/>
            </p:nvSpPr>
            <p:spPr>
              <a:xfrm>
                <a:off x="4505400" y="5127480"/>
                <a:ext cx="0" cy="228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00" name="Line 39"/>
              <p:cNvSpPr/>
              <p:nvPr/>
            </p:nvSpPr>
            <p:spPr>
              <a:xfrm>
                <a:off x="4162320" y="5241600"/>
                <a:ext cx="228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601" name="Line 37"/>
            <p:cNvSpPr/>
            <p:nvPr/>
          </p:nvSpPr>
          <p:spPr>
            <a:xfrm flipV="1">
              <a:off x="4276440" y="5155560"/>
              <a:ext cx="343080" cy="19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602" name="Group 43"/>
          <p:cNvGrpSpPr/>
          <p:nvPr/>
        </p:nvGrpSpPr>
        <p:grpSpPr>
          <a:xfrm>
            <a:off x="5762520" y="4625640"/>
            <a:ext cx="1028520" cy="228600"/>
            <a:chOff x="5762520" y="4625640"/>
            <a:chExt cx="1028520" cy="228600"/>
          </a:xfrm>
        </p:grpSpPr>
        <p:sp>
          <p:nvSpPr>
            <p:cNvPr id="603" name="Line 46"/>
            <p:cNvSpPr/>
            <p:nvPr/>
          </p:nvSpPr>
          <p:spPr>
            <a:xfrm>
              <a:off x="5762520" y="4850640"/>
              <a:ext cx="3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4" name="Line 45"/>
            <p:cNvSpPr/>
            <p:nvPr/>
          </p:nvSpPr>
          <p:spPr>
            <a:xfrm>
              <a:off x="6448320" y="485064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5" name="Line 44"/>
            <p:cNvSpPr/>
            <p:nvPr/>
          </p:nvSpPr>
          <p:spPr>
            <a:xfrm flipV="1">
              <a:off x="6104880" y="4625640"/>
              <a:ext cx="3427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606" name="Group 31"/>
          <p:cNvGrpSpPr/>
          <p:nvPr/>
        </p:nvGrpSpPr>
        <p:grpSpPr>
          <a:xfrm>
            <a:off x="5762520" y="5241600"/>
            <a:ext cx="1028520" cy="114120"/>
            <a:chOff x="5762520" y="5241600"/>
            <a:chExt cx="1028520" cy="114120"/>
          </a:xfrm>
        </p:grpSpPr>
        <p:sp>
          <p:nvSpPr>
            <p:cNvPr id="607" name="Line 35"/>
            <p:cNvSpPr/>
            <p:nvPr/>
          </p:nvSpPr>
          <p:spPr>
            <a:xfrm>
              <a:off x="5762520" y="5353560"/>
              <a:ext cx="3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8" name="Line 34"/>
            <p:cNvSpPr/>
            <p:nvPr/>
          </p:nvSpPr>
          <p:spPr>
            <a:xfrm>
              <a:off x="6448320" y="535356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9" name="Line 33"/>
            <p:cNvSpPr/>
            <p:nvPr/>
          </p:nvSpPr>
          <p:spPr>
            <a:xfrm flipV="1">
              <a:off x="6447600" y="5241600"/>
              <a:ext cx="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0" name="Line 32"/>
            <p:cNvSpPr/>
            <p:nvPr/>
          </p:nvSpPr>
          <p:spPr>
            <a:xfrm flipV="1">
              <a:off x="6104880" y="5241600"/>
              <a:ext cx="457200" cy="11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611" name="Group 23"/>
          <p:cNvGrpSpPr/>
          <p:nvPr/>
        </p:nvGrpSpPr>
        <p:grpSpPr>
          <a:xfrm>
            <a:off x="4051440" y="5630760"/>
            <a:ext cx="799920" cy="231840"/>
            <a:chOff x="4051440" y="5630760"/>
            <a:chExt cx="799920" cy="231840"/>
          </a:xfrm>
        </p:grpSpPr>
        <p:sp>
          <p:nvSpPr>
            <p:cNvPr id="612" name="Line 30"/>
            <p:cNvSpPr/>
            <p:nvPr/>
          </p:nvSpPr>
          <p:spPr>
            <a:xfrm>
              <a:off x="4051440" y="5742720"/>
              <a:ext cx="799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613" name="Group 27"/>
            <p:cNvGrpSpPr/>
            <p:nvPr/>
          </p:nvGrpSpPr>
          <p:grpSpPr>
            <a:xfrm>
              <a:off x="4276440" y="5630760"/>
              <a:ext cx="114480" cy="231840"/>
              <a:chOff x="4276440" y="5630760"/>
              <a:chExt cx="114480" cy="231840"/>
            </a:xfrm>
          </p:grpSpPr>
          <p:sp>
            <p:nvSpPr>
              <p:cNvPr id="614" name="Arc 29"/>
              <p:cNvSpPr/>
              <p:nvPr/>
            </p:nvSpPr>
            <p:spPr>
              <a:xfrm flipH="1">
                <a:off x="4276080" y="5630760"/>
                <a:ext cx="57240" cy="231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15" name="Arc 28"/>
              <p:cNvSpPr/>
              <p:nvPr/>
            </p:nvSpPr>
            <p:spPr>
              <a:xfrm>
                <a:off x="4334040" y="5630760"/>
                <a:ext cx="56880" cy="231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616" name="Group 24"/>
            <p:cNvGrpSpPr/>
            <p:nvPr/>
          </p:nvGrpSpPr>
          <p:grpSpPr>
            <a:xfrm>
              <a:off x="4390560" y="5630760"/>
              <a:ext cx="114480" cy="231840"/>
              <a:chOff x="4390560" y="5630760"/>
              <a:chExt cx="114480" cy="231840"/>
            </a:xfrm>
          </p:grpSpPr>
          <p:sp>
            <p:nvSpPr>
              <p:cNvPr id="617" name="Arc 26"/>
              <p:cNvSpPr/>
              <p:nvPr/>
            </p:nvSpPr>
            <p:spPr>
              <a:xfrm flipH="1">
                <a:off x="4390200" y="5630760"/>
                <a:ext cx="57240" cy="231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618" name="Arc 25"/>
              <p:cNvSpPr/>
              <p:nvPr/>
            </p:nvSpPr>
            <p:spPr>
              <a:xfrm>
                <a:off x="4448160" y="5630760"/>
                <a:ext cx="56880" cy="231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grpSp>
        <p:nvGrpSpPr>
          <p:cNvPr id="619" name="Group 14"/>
          <p:cNvGrpSpPr/>
          <p:nvPr/>
        </p:nvGrpSpPr>
        <p:grpSpPr>
          <a:xfrm>
            <a:off x="5648400" y="5630760"/>
            <a:ext cx="685800" cy="228600"/>
            <a:chOff x="5648400" y="5630760"/>
            <a:chExt cx="685800" cy="228600"/>
          </a:xfrm>
        </p:grpSpPr>
        <p:sp>
          <p:nvSpPr>
            <p:cNvPr id="620" name="Oval 16"/>
            <p:cNvSpPr/>
            <p:nvPr/>
          </p:nvSpPr>
          <p:spPr>
            <a:xfrm>
              <a:off x="5877000" y="5630760"/>
              <a:ext cx="228240" cy="228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1" name="Line 15"/>
            <p:cNvSpPr/>
            <p:nvPr/>
          </p:nvSpPr>
          <p:spPr>
            <a:xfrm>
              <a:off x="5648400" y="5745240"/>
              <a:ext cx="685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622" name="Group 17"/>
          <p:cNvGrpSpPr/>
          <p:nvPr/>
        </p:nvGrpSpPr>
        <p:grpSpPr>
          <a:xfrm>
            <a:off x="6562800" y="5684760"/>
            <a:ext cx="685440" cy="204840"/>
            <a:chOff x="6562800" y="5684760"/>
            <a:chExt cx="685440" cy="204840"/>
          </a:xfrm>
        </p:grpSpPr>
        <p:sp>
          <p:nvSpPr>
            <p:cNvPr id="623" name="Line 22"/>
            <p:cNvSpPr/>
            <p:nvPr/>
          </p:nvSpPr>
          <p:spPr>
            <a:xfrm>
              <a:off x="6563160" y="5684760"/>
              <a:ext cx="685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4" name="Rectangle 21"/>
            <p:cNvSpPr/>
            <p:nvPr/>
          </p:nvSpPr>
          <p:spPr>
            <a:xfrm>
              <a:off x="6677280" y="5742000"/>
              <a:ext cx="456840" cy="71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5" name="Line 20"/>
            <p:cNvSpPr/>
            <p:nvPr/>
          </p:nvSpPr>
          <p:spPr>
            <a:xfrm flipV="1">
              <a:off x="6562800" y="5775120"/>
              <a:ext cx="68544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6" name="Line 19"/>
            <p:cNvSpPr/>
            <p:nvPr/>
          </p:nvSpPr>
          <p:spPr>
            <a:xfrm>
              <a:off x="6562800" y="57751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7" name="Line 18"/>
            <p:cNvSpPr/>
            <p:nvPr/>
          </p:nvSpPr>
          <p:spPr>
            <a:xfrm>
              <a:off x="7246080" y="577512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628" name="Group 235"/>
          <p:cNvGrpSpPr/>
          <p:nvPr/>
        </p:nvGrpSpPr>
        <p:grpSpPr>
          <a:xfrm>
            <a:off x="3933720" y="494280"/>
            <a:ext cx="1029960" cy="236880"/>
            <a:chOff x="3933720" y="494280"/>
            <a:chExt cx="1029960" cy="236880"/>
          </a:xfrm>
        </p:grpSpPr>
        <p:grpSp>
          <p:nvGrpSpPr>
            <p:cNvPr id="629" name="Group 251"/>
            <p:cNvGrpSpPr/>
            <p:nvPr/>
          </p:nvGrpSpPr>
          <p:grpSpPr>
            <a:xfrm>
              <a:off x="4275720" y="496800"/>
              <a:ext cx="158400" cy="231840"/>
              <a:chOff x="4275720" y="496800"/>
              <a:chExt cx="158400" cy="231840"/>
            </a:xfrm>
          </p:grpSpPr>
          <p:grpSp>
            <p:nvGrpSpPr>
              <p:cNvPr id="630" name="Group 261"/>
              <p:cNvGrpSpPr/>
              <p:nvPr/>
            </p:nvGrpSpPr>
            <p:grpSpPr>
              <a:xfrm>
                <a:off x="4275720" y="496800"/>
                <a:ext cx="152280" cy="63360"/>
                <a:chOff x="4275720" y="496800"/>
                <a:chExt cx="152280" cy="63360"/>
              </a:xfrm>
            </p:grpSpPr>
            <p:sp>
              <p:nvSpPr>
                <p:cNvPr id="631" name="Arc 263"/>
                <p:cNvSpPr/>
                <p:nvPr/>
              </p:nvSpPr>
              <p:spPr>
                <a:xfrm flipH="1" rot="5325600">
                  <a:off x="4335840" y="43776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32" name="Arc 262"/>
                <p:cNvSpPr/>
                <p:nvPr/>
              </p:nvSpPr>
              <p:spPr>
                <a:xfrm rot="5325600">
                  <a:off x="4336920" y="46800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3" name="Group 258"/>
              <p:cNvGrpSpPr/>
              <p:nvPr/>
            </p:nvGrpSpPr>
            <p:grpSpPr>
              <a:xfrm>
                <a:off x="4277160" y="556560"/>
                <a:ext cx="151920" cy="63000"/>
                <a:chOff x="4277160" y="556560"/>
                <a:chExt cx="151920" cy="63000"/>
              </a:xfrm>
            </p:grpSpPr>
            <p:sp>
              <p:nvSpPr>
                <p:cNvPr id="634" name="Arc 260"/>
                <p:cNvSpPr/>
                <p:nvPr/>
              </p:nvSpPr>
              <p:spPr>
                <a:xfrm flipH="1" rot="5325600">
                  <a:off x="4337280" y="49752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35" name="Arc 259"/>
                <p:cNvSpPr/>
                <p:nvPr/>
              </p:nvSpPr>
              <p:spPr>
                <a:xfrm rot="5325600">
                  <a:off x="4338360" y="527760"/>
                  <a:ext cx="2952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6" name="Group 255"/>
              <p:cNvGrpSpPr/>
              <p:nvPr/>
            </p:nvGrpSpPr>
            <p:grpSpPr>
              <a:xfrm>
                <a:off x="4280760" y="608760"/>
                <a:ext cx="152280" cy="63000"/>
                <a:chOff x="4280760" y="608760"/>
                <a:chExt cx="152280" cy="63000"/>
              </a:xfrm>
            </p:grpSpPr>
            <p:sp>
              <p:nvSpPr>
                <p:cNvPr id="637" name="Arc 257"/>
                <p:cNvSpPr/>
                <p:nvPr/>
              </p:nvSpPr>
              <p:spPr>
                <a:xfrm flipH="1" rot="5325600">
                  <a:off x="4340880" y="54972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38" name="Arc 256"/>
                <p:cNvSpPr/>
                <p:nvPr/>
              </p:nvSpPr>
              <p:spPr>
                <a:xfrm rot="5325600">
                  <a:off x="4342320" y="579960"/>
                  <a:ext cx="2952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9" name="Group 252"/>
              <p:cNvGrpSpPr/>
              <p:nvPr/>
            </p:nvGrpSpPr>
            <p:grpSpPr>
              <a:xfrm>
                <a:off x="4281840" y="665280"/>
                <a:ext cx="152280" cy="63360"/>
                <a:chOff x="4281840" y="665280"/>
                <a:chExt cx="152280" cy="63360"/>
              </a:xfrm>
            </p:grpSpPr>
            <p:sp>
              <p:nvSpPr>
                <p:cNvPr id="640" name="Arc 254"/>
                <p:cNvSpPr/>
                <p:nvPr/>
              </p:nvSpPr>
              <p:spPr>
                <a:xfrm flipH="1" rot="5325600">
                  <a:off x="4341960" y="60624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41" name="Arc 253"/>
                <p:cNvSpPr/>
                <p:nvPr/>
              </p:nvSpPr>
              <p:spPr>
                <a:xfrm rot="5325600">
                  <a:off x="4343040" y="63648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42" name="Line 250"/>
            <p:cNvSpPr/>
            <p:nvPr/>
          </p:nvSpPr>
          <p:spPr>
            <a:xfrm flipH="1">
              <a:off x="3933720" y="60840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643" name="Group 237"/>
            <p:cNvGrpSpPr/>
            <p:nvPr/>
          </p:nvGrpSpPr>
          <p:grpSpPr>
            <a:xfrm>
              <a:off x="4494240" y="494280"/>
              <a:ext cx="166320" cy="236880"/>
              <a:chOff x="4494240" y="494280"/>
              <a:chExt cx="166320" cy="236880"/>
            </a:xfrm>
          </p:grpSpPr>
          <p:grpSp>
            <p:nvGrpSpPr>
              <p:cNvPr id="644" name="Group 247"/>
              <p:cNvGrpSpPr/>
              <p:nvPr/>
            </p:nvGrpSpPr>
            <p:grpSpPr>
              <a:xfrm>
                <a:off x="4506480" y="662400"/>
                <a:ext cx="154080" cy="68760"/>
                <a:chOff x="4506480" y="662400"/>
                <a:chExt cx="154080" cy="68760"/>
              </a:xfrm>
            </p:grpSpPr>
            <p:sp>
              <p:nvSpPr>
                <p:cNvPr id="645" name="Arc 249"/>
                <p:cNvSpPr/>
                <p:nvPr/>
              </p:nvSpPr>
              <p:spPr>
                <a:xfrm flipH="1" rot="16002000">
                  <a:off x="4568760" y="63612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46" name="Arc 248"/>
                <p:cNvSpPr/>
                <p:nvPr/>
              </p:nvSpPr>
              <p:spPr>
                <a:xfrm rot="16002000">
                  <a:off x="4567680" y="60624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47" name="Group 244"/>
              <p:cNvGrpSpPr/>
              <p:nvPr/>
            </p:nvGrpSpPr>
            <p:grpSpPr>
              <a:xfrm>
                <a:off x="4502880" y="603360"/>
                <a:ext cx="154080" cy="68400"/>
                <a:chOff x="4502880" y="603360"/>
                <a:chExt cx="154080" cy="68400"/>
              </a:xfrm>
            </p:grpSpPr>
            <p:sp>
              <p:nvSpPr>
                <p:cNvPr id="648" name="Arc 246"/>
                <p:cNvSpPr/>
                <p:nvPr/>
              </p:nvSpPr>
              <p:spPr>
                <a:xfrm flipH="1" rot="16002000">
                  <a:off x="4565160" y="57672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49" name="Arc 245"/>
                <p:cNvSpPr/>
                <p:nvPr/>
              </p:nvSpPr>
              <p:spPr>
                <a:xfrm rot="16002000">
                  <a:off x="4564080" y="546840"/>
                  <a:ext cx="2952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0" name="Group 241"/>
              <p:cNvGrpSpPr/>
              <p:nvPr/>
            </p:nvGrpSpPr>
            <p:grpSpPr>
              <a:xfrm>
                <a:off x="4497480" y="550800"/>
                <a:ext cx="154080" cy="68400"/>
                <a:chOff x="4497480" y="550800"/>
                <a:chExt cx="154080" cy="68400"/>
              </a:xfrm>
            </p:grpSpPr>
            <p:sp>
              <p:nvSpPr>
                <p:cNvPr id="651" name="Arc 243"/>
                <p:cNvSpPr/>
                <p:nvPr/>
              </p:nvSpPr>
              <p:spPr>
                <a:xfrm flipH="1" rot="16002000">
                  <a:off x="4559760" y="52416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52" name="Arc 242"/>
                <p:cNvSpPr/>
                <p:nvPr/>
              </p:nvSpPr>
              <p:spPr>
                <a:xfrm rot="16002000">
                  <a:off x="4558680" y="494280"/>
                  <a:ext cx="2952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53" name="Group 238"/>
              <p:cNvGrpSpPr/>
              <p:nvPr/>
            </p:nvGrpSpPr>
            <p:grpSpPr>
              <a:xfrm>
                <a:off x="4494240" y="494280"/>
                <a:ext cx="154080" cy="68760"/>
                <a:chOff x="4494240" y="494280"/>
                <a:chExt cx="154080" cy="68760"/>
              </a:xfrm>
            </p:grpSpPr>
            <p:sp>
              <p:nvSpPr>
                <p:cNvPr id="654" name="Arc 240"/>
                <p:cNvSpPr/>
                <p:nvPr/>
              </p:nvSpPr>
              <p:spPr>
                <a:xfrm flipH="1" rot="16002000">
                  <a:off x="4556520" y="46800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55" name="Arc 239"/>
                <p:cNvSpPr/>
                <p:nvPr/>
              </p:nvSpPr>
              <p:spPr>
                <a:xfrm rot="16002000">
                  <a:off x="4555440" y="438120"/>
                  <a:ext cx="29880" cy="1508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56" name="Line 236"/>
            <p:cNvSpPr/>
            <p:nvPr/>
          </p:nvSpPr>
          <p:spPr>
            <a:xfrm flipH="1">
              <a:off x="4620960" y="60840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657" name="Group 230"/>
          <p:cNvGrpSpPr/>
          <p:nvPr/>
        </p:nvGrpSpPr>
        <p:grpSpPr>
          <a:xfrm>
            <a:off x="5952960" y="500040"/>
            <a:ext cx="789120" cy="228600"/>
            <a:chOff x="5952960" y="500040"/>
            <a:chExt cx="789120" cy="228600"/>
          </a:xfrm>
        </p:grpSpPr>
        <p:sp>
          <p:nvSpPr>
            <p:cNvPr id="658" name="Oval 234"/>
            <p:cNvSpPr/>
            <p:nvPr/>
          </p:nvSpPr>
          <p:spPr>
            <a:xfrm>
              <a:off x="6177960" y="50040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9" name="Line 233"/>
            <p:cNvSpPr/>
            <p:nvPr/>
          </p:nvSpPr>
          <p:spPr>
            <a:xfrm>
              <a:off x="5952960" y="61524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0" name="Oval 232"/>
            <p:cNvSpPr/>
            <p:nvPr/>
          </p:nvSpPr>
          <p:spPr>
            <a:xfrm>
              <a:off x="6288480" y="500040"/>
              <a:ext cx="22860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1" name="Line 231"/>
            <p:cNvSpPr/>
            <p:nvPr/>
          </p:nvSpPr>
          <p:spPr>
            <a:xfrm>
              <a:off x="6517080" y="61416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662" name="Group 74"/>
          <p:cNvGrpSpPr/>
          <p:nvPr/>
        </p:nvGrpSpPr>
        <p:grpSpPr>
          <a:xfrm>
            <a:off x="6175440" y="2558880"/>
            <a:ext cx="349200" cy="349560"/>
            <a:chOff x="6175440" y="2558880"/>
            <a:chExt cx="349200" cy="349560"/>
          </a:xfrm>
        </p:grpSpPr>
        <p:sp>
          <p:nvSpPr>
            <p:cNvPr id="663" name="Oval 76"/>
            <p:cNvSpPr/>
            <p:nvPr/>
          </p:nvSpPr>
          <p:spPr>
            <a:xfrm>
              <a:off x="6175440" y="2558880"/>
              <a:ext cx="349200" cy="3495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4" name="Text Box 75"/>
            <p:cNvSpPr/>
            <p:nvPr/>
          </p:nvSpPr>
          <p:spPr>
            <a:xfrm>
              <a:off x="6228720" y="2649960"/>
              <a:ext cx="261720" cy="17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800" spc="-1" strike="noStrike">
                  <a:solidFill>
                    <a:srgbClr val="eaeaea"/>
                  </a:solidFill>
                  <a:latin typeface="Arial"/>
                  <a:ea typeface="Times New Roman"/>
                </a:rPr>
                <a:t>G</a:t>
              </a:r>
              <a:endParaRPr b="1" lang="en-US" sz="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665" name="Group 77"/>
          <p:cNvGrpSpPr/>
          <p:nvPr/>
        </p:nvGrpSpPr>
        <p:grpSpPr>
          <a:xfrm>
            <a:off x="4346640" y="2560680"/>
            <a:ext cx="349200" cy="349200"/>
            <a:chOff x="4346640" y="2560680"/>
            <a:chExt cx="349200" cy="349200"/>
          </a:xfrm>
        </p:grpSpPr>
        <p:sp>
          <p:nvSpPr>
            <p:cNvPr id="666" name="Oval 85"/>
            <p:cNvSpPr/>
            <p:nvPr/>
          </p:nvSpPr>
          <p:spPr>
            <a:xfrm>
              <a:off x="4346640" y="2560680"/>
              <a:ext cx="349200" cy="3492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667" name="Group 78"/>
            <p:cNvGrpSpPr/>
            <p:nvPr/>
          </p:nvGrpSpPr>
          <p:grpSpPr>
            <a:xfrm>
              <a:off x="4460400" y="2673000"/>
              <a:ext cx="114120" cy="113760"/>
              <a:chOff x="4460400" y="2673000"/>
              <a:chExt cx="114120" cy="113760"/>
            </a:xfrm>
          </p:grpSpPr>
          <p:grpSp>
            <p:nvGrpSpPr>
              <p:cNvPr id="668" name="Group 82"/>
              <p:cNvGrpSpPr/>
              <p:nvPr/>
            </p:nvGrpSpPr>
            <p:grpSpPr>
              <a:xfrm>
                <a:off x="4460400" y="2729520"/>
                <a:ext cx="57240" cy="57240"/>
                <a:chOff x="4460400" y="2729520"/>
                <a:chExt cx="57240" cy="57240"/>
              </a:xfrm>
            </p:grpSpPr>
            <p:sp>
              <p:nvSpPr>
                <p:cNvPr id="669" name="Arc 84"/>
                <p:cNvSpPr/>
                <p:nvPr/>
              </p:nvSpPr>
              <p:spPr>
                <a:xfrm flipH="1" flipV="1">
                  <a:off x="4460040" y="2729880"/>
                  <a:ext cx="28440" cy="5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70" name="Arc 83"/>
                <p:cNvSpPr/>
                <p:nvPr/>
              </p:nvSpPr>
              <p:spPr>
                <a:xfrm flipV="1">
                  <a:off x="4489200" y="2729160"/>
                  <a:ext cx="28440" cy="572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71" name="Group 79"/>
              <p:cNvGrpSpPr/>
              <p:nvPr/>
            </p:nvGrpSpPr>
            <p:grpSpPr>
              <a:xfrm>
                <a:off x="4517280" y="2673000"/>
                <a:ext cx="57240" cy="56880"/>
                <a:chOff x="4517280" y="2673000"/>
                <a:chExt cx="57240" cy="56880"/>
              </a:xfrm>
            </p:grpSpPr>
            <p:sp>
              <p:nvSpPr>
                <p:cNvPr id="672" name="Arc 81"/>
                <p:cNvSpPr/>
                <p:nvPr/>
              </p:nvSpPr>
              <p:spPr>
                <a:xfrm flipH="1">
                  <a:off x="4516920" y="2673000"/>
                  <a:ext cx="28440" cy="5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73" name="Arc 80"/>
                <p:cNvSpPr/>
                <p:nvPr/>
              </p:nvSpPr>
              <p:spPr>
                <a:xfrm>
                  <a:off x="4546080" y="2673000"/>
                  <a:ext cx="28440" cy="568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674" name="Group 146"/>
          <p:cNvGrpSpPr/>
          <p:nvPr/>
        </p:nvGrpSpPr>
        <p:grpSpPr>
          <a:xfrm>
            <a:off x="3933360" y="1519560"/>
            <a:ext cx="1051200" cy="236880"/>
            <a:chOff x="3933360" y="1519560"/>
            <a:chExt cx="1051200" cy="236880"/>
          </a:xfrm>
        </p:grpSpPr>
        <p:grpSp>
          <p:nvGrpSpPr>
            <p:cNvPr id="675" name="Group 163"/>
            <p:cNvGrpSpPr/>
            <p:nvPr/>
          </p:nvGrpSpPr>
          <p:grpSpPr>
            <a:xfrm>
              <a:off x="4275720" y="1522080"/>
              <a:ext cx="158760" cy="231840"/>
              <a:chOff x="4275720" y="1522080"/>
              <a:chExt cx="158760" cy="231840"/>
            </a:xfrm>
          </p:grpSpPr>
          <p:grpSp>
            <p:nvGrpSpPr>
              <p:cNvPr id="676" name="Group 173"/>
              <p:cNvGrpSpPr/>
              <p:nvPr/>
            </p:nvGrpSpPr>
            <p:grpSpPr>
              <a:xfrm>
                <a:off x="4275720" y="1522080"/>
                <a:ext cx="152640" cy="63360"/>
                <a:chOff x="4275720" y="1522080"/>
                <a:chExt cx="152640" cy="63360"/>
              </a:xfrm>
            </p:grpSpPr>
            <p:sp>
              <p:nvSpPr>
                <p:cNvPr id="677" name="Arc 175"/>
                <p:cNvSpPr/>
                <p:nvPr/>
              </p:nvSpPr>
              <p:spPr>
                <a:xfrm flipH="1" rot="5325600">
                  <a:off x="4336560" y="146304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78" name="Arc 174"/>
                <p:cNvSpPr/>
                <p:nvPr/>
              </p:nvSpPr>
              <p:spPr>
                <a:xfrm rot="5325600">
                  <a:off x="4337280" y="149328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79" name="Group 170"/>
              <p:cNvGrpSpPr/>
              <p:nvPr/>
            </p:nvGrpSpPr>
            <p:grpSpPr>
              <a:xfrm>
                <a:off x="4277160" y="1581840"/>
                <a:ext cx="152280" cy="63000"/>
                <a:chOff x="4277160" y="1581840"/>
                <a:chExt cx="152280" cy="63000"/>
              </a:xfrm>
            </p:grpSpPr>
            <p:sp>
              <p:nvSpPr>
                <p:cNvPr id="680" name="Arc 172"/>
                <p:cNvSpPr/>
                <p:nvPr/>
              </p:nvSpPr>
              <p:spPr>
                <a:xfrm flipH="1" rot="5325600">
                  <a:off x="4338000" y="152280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81" name="Arc 171"/>
                <p:cNvSpPr/>
                <p:nvPr/>
              </p:nvSpPr>
              <p:spPr>
                <a:xfrm rot="5325600">
                  <a:off x="4338360" y="1552680"/>
                  <a:ext cx="2952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2" name="Group 167"/>
              <p:cNvGrpSpPr/>
              <p:nvPr/>
            </p:nvGrpSpPr>
            <p:grpSpPr>
              <a:xfrm>
                <a:off x="4280760" y="1634040"/>
                <a:ext cx="152640" cy="63000"/>
                <a:chOff x="4280760" y="1634040"/>
                <a:chExt cx="152640" cy="63000"/>
              </a:xfrm>
            </p:grpSpPr>
            <p:sp>
              <p:nvSpPr>
                <p:cNvPr id="683" name="Arc 169"/>
                <p:cNvSpPr/>
                <p:nvPr/>
              </p:nvSpPr>
              <p:spPr>
                <a:xfrm flipH="1" rot="5325600">
                  <a:off x="4341600" y="157500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84" name="Arc 168"/>
                <p:cNvSpPr/>
                <p:nvPr/>
              </p:nvSpPr>
              <p:spPr>
                <a:xfrm rot="5325600">
                  <a:off x="4342320" y="1604880"/>
                  <a:ext cx="2952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85" name="Group 164"/>
              <p:cNvGrpSpPr/>
              <p:nvPr/>
            </p:nvGrpSpPr>
            <p:grpSpPr>
              <a:xfrm>
                <a:off x="4281840" y="1690560"/>
                <a:ext cx="152640" cy="63360"/>
                <a:chOff x="4281840" y="1690560"/>
                <a:chExt cx="152640" cy="63360"/>
              </a:xfrm>
            </p:grpSpPr>
            <p:sp>
              <p:nvSpPr>
                <p:cNvPr id="686" name="Arc 166"/>
                <p:cNvSpPr/>
                <p:nvPr/>
              </p:nvSpPr>
              <p:spPr>
                <a:xfrm flipH="1" rot="5325600">
                  <a:off x="4342680" y="163152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87" name="Arc 165"/>
                <p:cNvSpPr/>
                <p:nvPr/>
              </p:nvSpPr>
              <p:spPr>
                <a:xfrm rot="5325600">
                  <a:off x="4343400" y="166176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688" name="Line 162"/>
            <p:cNvSpPr/>
            <p:nvPr/>
          </p:nvSpPr>
          <p:spPr>
            <a:xfrm flipH="1">
              <a:off x="3933360" y="1633680"/>
              <a:ext cx="3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689" name="Group 149"/>
            <p:cNvGrpSpPr/>
            <p:nvPr/>
          </p:nvGrpSpPr>
          <p:grpSpPr>
            <a:xfrm>
              <a:off x="4494600" y="1519560"/>
              <a:ext cx="166680" cy="236880"/>
              <a:chOff x="4494600" y="1519560"/>
              <a:chExt cx="166680" cy="236880"/>
            </a:xfrm>
          </p:grpSpPr>
          <p:grpSp>
            <p:nvGrpSpPr>
              <p:cNvPr id="690" name="Group 159"/>
              <p:cNvGrpSpPr/>
              <p:nvPr/>
            </p:nvGrpSpPr>
            <p:grpSpPr>
              <a:xfrm>
                <a:off x="4506840" y="1687680"/>
                <a:ext cx="154440" cy="68760"/>
                <a:chOff x="4506840" y="1687680"/>
                <a:chExt cx="154440" cy="68760"/>
              </a:xfrm>
            </p:grpSpPr>
            <p:sp>
              <p:nvSpPr>
                <p:cNvPr id="691" name="Arc 161"/>
                <p:cNvSpPr/>
                <p:nvPr/>
              </p:nvSpPr>
              <p:spPr>
                <a:xfrm flipH="1" rot="16002000">
                  <a:off x="4569840" y="166140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92" name="Arc 160"/>
                <p:cNvSpPr/>
                <p:nvPr/>
              </p:nvSpPr>
              <p:spPr>
                <a:xfrm rot="16002000">
                  <a:off x="4568040" y="163116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3" name="Group 156"/>
              <p:cNvGrpSpPr/>
              <p:nvPr/>
            </p:nvGrpSpPr>
            <p:grpSpPr>
              <a:xfrm>
                <a:off x="4503240" y="1628640"/>
                <a:ext cx="154440" cy="68400"/>
                <a:chOff x="4503240" y="1628640"/>
                <a:chExt cx="154440" cy="68400"/>
              </a:xfrm>
            </p:grpSpPr>
            <p:sp>
              <p:nvSpPr>
                <p:cNvPr id="694" name="Arc 158"/>
                <p:cNvSpPr/>
                <p:nvPr/>
              </p:nvSpPr>
              <p:spPr>
                <a:xfrm flipH="1" rot="16002000">
                  <a:off x="4566240" y="160200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95" name="Arc 157"/>
                <p:cNvSpPr/>
                <p:nvPr/>
              </p:nvSpPr>
              <p:spPr>
                <a:xfrm rot="16002000">
                  <a:off x="4564800" y="1571760"/>
                  <a:ext cx="2952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6" name="Group 153"/>
              <p:cNvGrpSpPr/>
              <p:nvPr/>
            </p:nvGrpSpPr>
            <p:grpSpPr>
              <a:xfrm>
                <a:off x="4497840" y="1576080"/>
                <a:ext cx="154440" cy="68400"/>
                <a:chOff x="4497840" y="1576080"/>
                <a:chExt cx="154440" cy="68400"/>
              </a:xfrm>
            </p:grpSpPr>
            <p:sp>
              <p:nvSpPr>
                <p:cNvPr id="697" name="Arc 155"/>
                <p:cNvSpPr/>
                <p:nvPr/>
              </p:nvSpPr>
              <p:spPr>
                <a:xfrm flipH="1" rot="16002000">
                  <a:off x="4560840" y="154944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698" name="Arc 154"/>
                <p:cNvSpPr/>
                <p:nvPr/>
              </p:nvSpPr>
              <p:spPr>
                <a:xfrm rot="16002000">
                  <a:off x="4559400" y="1519200"/>
                  <a:ext cx="2952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9" name="Group 150"/>
              <p:cNvGrpSpPr/>
              <p:nvPr/>
            </p:nvGrpSpPr>
            <p:grpSpPr>
              <a:xfrm>
                <a:off x="4494600" y="1519560"/>
                <a:ext cx="154440" cy="68760"/>
                <a:chOff x="4494600" y="1519560"/>
                <a:chExt cx="154440" cy="68760"/>
              </a:xfrm>
            </p:grpSpPr>
            <p:sp>
              <p:nvSpPr>
                <p:cNvPr id="700" name="Arc 152"/>
                <p:cNvSpPr/>
                <p:nvPr/>
              </p:nvSpPr>
              <p:spPr>
                <a:xfrm flipH="1" rot="16002000">
                  <a:off x="4557600" y="149328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01" name="Arc 151"/>
                <p:cNvSpPr/>
                <p:nvPr/>
              </p:nvSpPr>
              <p:spPr>
                <a:xfrm rot="16002000">
                  <a:off x="4555800" y="146304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02" name="Line 148"/>
            <p:cNvSpPr/>
            <p:nvPr/>
          </p:nvSpPr>
          <p:spPr>
            <a:xfrm flipH="1">
              <a:off x="4621680" y="1633680"/>
              <a:ext cx="3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3" name="Line 147"/>
            <p:cNvSpPr/>
            <p:nvPr/>
          </p:nvSpPr>
          <p:spPr>
            <a:xfrm flipH="1">
              <a:off x="4641480" y="1751760"/>
              <a:ext cx="3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04" name="Group 141"/>
          <p:cNvGrpSpPr/>
          <p:nvPr/>
        </p:nvGrpSpPr>
        <p:grpSpPr>
          <a:xfrm>
            <a:off x="5950080" y="1521000"/>
            <a:ext cx="788760" cy="228600"/>
            <a:chOff x="5950080" y="1521000"/>
            <a:chExt cx="788760" cy="228600"/>
          </a:xfrm>
        </p:grpSpPr>
        <p:sp>
          <p:nvSpPr>
            <p:cNvPr id="705" name="Line 145"/>
            <p:cNvSpPr/>
            <p:nvPr/>
          </p:nvSpPr>
          <p:spPr>
            <a:xfrm>
              <a:off x="5950080" y="1636560"/>
              <a:ext cx="2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6" name="Oval 144"/>
            <p:cNvSpPr/>
            <p:nvPr/>
          </p:nvSpPr>
          <p:spPr>
            <a:xfrm>
              <a:off x="6285240" y="152100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7" name="Line 143"/>
            <p:cNvSpPr/>
            <p:nvPr/>
          </p:nvSpPr>
          <p:spPr>
            <a:xfrm>
              <a:off x="6513840" y="163512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8" name="Arc 142"/>
            <p:cNvSpPr/>
            <p:nvPr/>
          </p:nvSpPr>
          <p:spPr>
            <a:xfrm flipH="1">
              <a:off x="6183720" y="1521000"/>
              <a:ext cx="228600" cy="116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09" name="Group 183"/>
          <p:cNvGrpSpPr/>
          <p:nvPr/>
        </p:nvGrpSpPr>
        <p:grpSpPr>
          <a:xfrm>
            <a:off x="3773160" y="1001880"/>
            <a:ext cx="1033200" cy="353880"/>
            <a:chOff x="3773160" y="1001880"/>
            <a:chExt cx="1033200" cy="353880"/>
          </a:xfrm>
        </p:grpSpPr>
        <p:grpSp>
          <p:nvGrpSpPr>
            <p:cNvPr id="710" name="Group 217"/>
            <p:cNvGrpSpPr/>
            <p:nvPr/>
          </p:nvGrpSpPr>
          <p:grpSpPr>
            <a:xfrm>
              <a:off x="4115520" y="1096920"/>
              <a:ext cx="158760" cy="232200"/>
              <a:chOff x="4115520" y="1096920"/>
              <a:chExt cx="158760" cy="232200"/>
            </a:xfrm>
          </p:grpSpPr>
          <p:grpSp>
            <p:nvGrpSpPr>
              <p:cNvPr id="711" name="Group 227"/>
              <p:cNvGrpSpPr/>
              <p:nvPr/>
            </p:nvGrpSpPr>
            <p:grpSpPr>
              <a:xfrm>
                <a:off x="4115520" y="1096920"/>
                <a:ext cx="152640" cy="63360"/>
                <a:chOff x="4115520" y="1096920"/>
                <a:chExt cx="152640" cy="63360"/>
              </a:xfrm>
            </p:grpSpPr>
            <p:sp>
              <p:nvSpPr>
                <p:cNvPr id="712" name="Arc 229"/>
                <p:cNvSpPr/>
                <p:nvPr/>
              </p:nvSpPr>
              <p:spPr>
                <a:xfrm flipH="1" rot="5325600">
                  <a:off x="4176360" y="103788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13" name="Arc 228"/>
                <p:cNvSpPr/>
                <p:nvPr/>
              </p:nvSpPr>
              <p:spPr>
                <a:xfrm rot="5325600">
                  <a:off x="4177080" y="106812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4" name="Group 224"/>
              <p:cNvGrpSpPr/>
              <p:nvPr/>
            </p:nvGrpSpPr>
            <p:grpSpPr>
              <a:xfrm>
                <a:off x="4116960" y="1156680"/>
                <a:ext cx="152280" cy="63360"/>
                <a:chOff x="4116960" y="1156680"/>
                <a:chExt cx="152280" cy="63360"/>
              </a:xfrm>
            </p:grpSpPr>
            <p:sp>
              <p:nvSpPr>
                <p:cNvPr id="715" name="Arc 226"/>
                <p:cNvSpPr/>
                <p:nvPr/>
              </p:nvSpPr>
              <p:spPr>
                <a:xfrm flipH="1" rot="5325600">
                  <a:off x="4177800" y="109764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16" name="Arc 225"/>
                <p:cNvSpPr/>
                <p:nvPr/>
              </p:nvSpPr>
              <p:spPr>
                <a:xfrm rot="5325600">
                  <a:off x="4178160" y="112788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17" name="Group 221"/>
              <p:cNvGrpSpPr/>
              <p:nvPr/>
            </p:nvGrpSpPr>
            <p:grpSpPr>
              <a:xfrm>
                <a:off x="4120560" y="1209240"/>
                <a:ext cx="152640" cy="63360"/>
                <a:chOff x="4120560" y="1209240"/>
                <a:chExt cx="152640" cy="63360"/>
              </a:xfrm>
            </p:grpSpPr>
            <p:sp>
              <p:nvSpPr>
                <p:cNvPr id="718" name="Arc 223"/>
                <p:cNvSpPr/>
                <p:nvPr/>
              </p:nvSpPr>
              <p:spPr>
                <a:xfrm flipH="1" rot="5325600">
                  <a:off x="4181400" y="115020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19" name="Arc 222"/>
                <p:cNvSpPr/>
                <p:nvPr/>
              </p:nvSpPr>
              <p:spPr>
                <a:xfrm rot="5325600">
                  <a:off x="4182120" y="118044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0" name="Group 218"/>
              <p:cNvGrpSpPr/>
              <p:nvPr/>
            </p:nvGrpSpPr>
            <p:grpSpPr>
              <a:xfrm>
                <a:off x="4121640" y="1265760"/>
                <a:ext cx="152640" cy="63360"/>
                <a:chOff x="4121640" y="1265760"/>
                <a:chExt cx="152640" cy="63360"/>
              </a:xfrm>
            </p:grpSpPr>
            <p:sp>
              <p:nvSpPr>
                <p:cNvPr id="721" name="Arc 220"/>
                <p:cNvSpPr/>
                <p:nvPr/>
              </p:nvSpPr>
              <p:spPr>
                <a:xfrm flipH="1" rot="5325600">
                  <a:off x="4182480" y="120672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722" name="Arc 219"/>
                <p:cNvSpPr/>
                <p:nvPr/>
              </p:nvSpPr>
              <p:spPr>
                <a:xfrm rot="5325600">
                  <a:off x="4183200" y="1236960"/>
                  <a:ext cx="29880" cy="15120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723" name="Line 216"/>
            <p:cNvSpPr/>
            <p:nvPr/>
          </p:nvSpPr>
          <p:spPr>
            <a:xfrm flipH="1">
              <a:off x="3773160" y="1233000"/>
              <a:ext cx="34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724" name="Group 200"/>
            <p:cNvGrpSpPr/>
            <p:nvPr/>
          </p:nvGrpSpPr>
          <p:grpSpPr>
            <a:xfrm>
              <a:off x="4384440" y="1001880"/>
              <a:ext cx="419760" cy="122400"/>
              <a:chOff x="4384440" y="1001880"/>
              <a:chExt cx="419760" cy="122400"/>
            </a:xfrm>
          </p:grpSpPr>
          <p:grpSp>
            <p:nvGrpSpPr>
              <p:cNvPr id="725" name="Group 203"/>
              <p:cNvGrpSpPr/>
              <p:nvPr/>
            </p:nvGrpSpPr>
            <p:grpSpPr>
              <a:xfrm>
                <a:off x="4384440" y="1001880"/>
                <a:ext cx="159480" cy="122400"/>
                <a:chOff x="4384440" y="1001880"/>
                <a:chExt cx="159480" cy="122400"/>
              </a:xfrm>
            </p:grpSpPr>
            <p:grpSp>
              <p:nvGrpSpPr>
                <p:cNvPr id="726" name="Group 213"/>
                <p:cNvGrpSpPr/>
                <p:nvPr/>
              </p:nvGrpSpPr>
              <p:grpSpPr>
                <a:xfrm>
                  <a:off x="4391640" y="1085760"/>
                  <a:ext cx="152280" cy="38520"/>
                  <a:chOff x="4391640" y="1085760"/>
                  <a:chExt cx="152280" cy="38520"/>
                </a:xfrm>
              </p:grpSpPr>
              <p:sp>
                <p:nvSpPr>
                  <p:cNvPr id="727" name="Arc 215"/>
                  <p:cNvSpPr/>
                  <p:nvPr/>
                </p:nvSpPr>
                <p:spPr>
                  <a:xfrm flipH="1" rot="16002000">
                    <a:off x="4460040" y="103680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28" name="Arc 214"/>
                  <p:cNvSpPr/>
                  <p:nvPr/>
                </p:nvSpPr>
                <p:spPr>
                  <a:xfrm rot="16002000">
                    <a:off x="4459680" y="102168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29" name="Group 210"/>
                <p:cNvGrpSpPr/>
                <p:nvPr/>
              </p:nvGrpSpPr>
              <p:grpSpPr>
                <a:xfrm>
                  <a:off x="4389840" y="1056240"/>
                  <a:ext cx="152640" cy="38520"/>
                  <a:chOff x="4389840" y="1056240"/>
                  <a:chExt cx="152640" cy="38520"/>
                </a:xfrm>
              </p:grpSpPr>
              <p:sp>
                <p:nvSpPr>
                  <p:cNvPr id="730" name="Arc 212"/>
                  <p:cNvSpPr/>
                  <p:nvPr/>
                </p:nvSpPr>
                <p:spPr>
                  <a:xfrm flipH="1" rot="16002000">
                    <a:off x="4458600" y="100728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1" name="Arc 211"/>
                  <p:cNvSpPr/>
                  <p:nvPr/>
                </p:nvSpPr>
                <p:spPr>
                  <a:xfrm rot="16002000">
                    <a:off x="4457880" y="99216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32" name="Group 207"/>
                <p:cNvGrpSpPr/>
                <p:nvPr/>
              </p:nvGrpSpPr>
              <p:grpSpPr>
                <a:xfrm>
                  <a:off x="4385880" y="1029960"/>
                  <a:ext cx="152640" cy="38520"/>
                  <a:chOff x="4385880" y="1029960"/>
                  <a:chExt cx="152640" cy="38520"/>
                </a:xfrm>
              </p:grpSpPr>
              <p:sp>
                <p:nvSpPr>
                  <p:cNvPr id="733" name="Arc 209"/>
                  <p:cNvSpPr/>
                  <p:nvPr/>
                </p:nvSpPr>
                <p:spPr>
                  <a:xfrm flipH="1" rot="16002000">
                    <a:off x="4454640" y="98100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4" name="Arc 208"/>
                  <p:cNvSpPr/>
                  <p:nvPr/>
                </p:nvSpPr>
                <p:spPr>
                  <a:xfrm rot="16002000">
                    <a:off x="4453920" y="96588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35" name="Group 204"/>
                <p:cNvGrpSpPr/>
                <p:nvPr/>
              </p:nvGrpSpPr>
              <p:grpSpPr>
                <a:xfrm>
                  <a:off x="4384440" y="1001880"/>
                  <a:ext cx="152280" cy="38520"/>
                  <a:chOff x="4384440" y="1001880"/>
                  <a:chExt cx="152280" cy="38520"/>
                </a:xfrm>
              </p:grpSpPr>
              <p:sp>
                <p:nvSpPr>
                  <p:cNvPr id="736" name="Arc 206"/>
                  <p:cNvSpPr/>
                  <p:nvPr/>
                </p:nvSpPr>
                <p:spPr>
                  <a:xfrm flipH="1" rot="16002000">
                    <a:off x="4452840" y="95292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37" name="Arc 205"/>
                  <p:cNvSpPr/>
                  <p:nvPr/>
                </p:nvSpPr>
                <p:spPr>
                  <a:xfrm rot="16002000">
                    <a:off x="4452480" y="93780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738" name="Line 202"/>
              <p:cNvSpPr/>
              <p:nvPr/>
            </p:nvSpPr>
            <p:spPr>
              <a:xfrm flipH="1">
                <a:off x="4461120" y="1121040"/>
                <a:ext cx="34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39" name="Line 201"/>
              <p:cNvSpPr/>
              <p:nvPr/>
            </p:nvSpPr>
            <p:spPr>
              <a:xfrm flipH="1">
                <a:off x="4461120" y="1006560"/>
                <a:ext cx="34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740" name="Group 184"/>
            <p:cNvGrpSpPr/>
            <p:nvPr/>
          </p:nvGrpSpPr>
          <p:grpSpPr>
            <a:xfrm>
              <a:off x="4386600" y="1233360"/>
              <a:ext cx="419760" cy="122400"/>
              <a:chOff x="4386600" y="1233360"/>
              <a:chExt cx="419760" cy="122400"/>
            </a:xfrm>
          </p:grpSpPr>
          <p:grpSp>
            <p:nvGrpSpPr>
              <p:cNvPr id="741" name="Group 187"/>
              <p:cNvGrpSpPr/>
              <p:nvPr/>
            </p:nvGrpSpPr>
            <p:grpSpPr>
              <a:xfrm>
                <a:off x="4386600" y="1233360"/>
                <a:ext cx="159480" cy="122400"/>
                <a:chOff x="4386600" y="1233360"/>
                <a:chExt cx="159480" cy="122400"/>
              </a:xfrm>
            </p:grpSpPr>
            <p:grpSp>
              <p:nvGrpSpPr>
                <p:cNvPr id="742" name="Group 197"/>
                <p:cNvGrpSpPr/>
                <p:nvPr/>
              </p:nvGrpSpPr>
              <p:grpSpPr>
                <a:xfrm>
                  <a:off x="4393800" y="1317240"/>
                  <a:ext cx="152280" cy="38520"/>
                  <a:chOff x="4393800" y="1317240"/>
                  <a:chExt cx="152280" cy="38520"/>
                </a:xfrm>
              </p:grpSpPr>
              <p:sp>
                <p:nvSpPr>
                  <p:cNvPr id="743" name="Arc 199"/>
                  <p:cNvSpPr/>
                  <p:nvPr/>
                </p:nvSpPr>
                <p:spPr>
                  <a:xfrm flipH="1" rot="16002000">
                    <a:off x="4462200" y="126828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4" name="Arc 198"/>
                  <p:cNvSpPr/>
                  <p:nvPr/>
                </p:nvSpPr>
                <p:spPr>
                  <a:xfrm rot="16002000">
                    <a:off x="4461840" y="125316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5" name="Group 194"/>
                <p:cNvGrpSpPr/>
                <p:nvPr/>
              </p:nvGrpSpPr>
              <p:grpSpPr>
                <a:xfrm>
                  <a:off x="4392000" y="1287720"/>
                  <a:ext cx="152640" cy="38520"/>
                  <a:chOff x="4392000" y="1287720"/>
                  <a:chExt cx="152640" cy="38520"/>
                </a:xfrm>
              </p:grpSpPr>
              <p:sp>
                <p:nvSpPr>
                  <p:cNvPr id="746" name="Arc 196"/>
                  <p:cNvSpPr/>
                  <p:nvPr/>
                </p:nvSpPr>
                <p:spPr>
                  <a:xfrm flipH="1" rot="16002000">
                    <a:off x="4460760" y="123876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47" name="Arc 195"/>
                  <p:cNvSpPr/>
                  <p:nvPr/>
                </p:nvSpPr>
                <p:spPr>
                  <a:xfrm rot="16002000">
                    <a:off x="4460040" y="122364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48" name="Group 191"/>
                <p:cNvGrpSpPr/>
                <p:nvPr/>
              </p:nvGrpSpPr>
              <p:grpSpPr>
                <a:xfrm>
                  <a:off x="4388040" y="1261440"/>
                  <a:ext cx="152640" cy="38520"/>
                  <a:chOff x="4388040" y="1261440"/>
                  <a:chExt cx="152640" cy="38520"/>
                </a:xfrm>
              </p:grpSpPr>
              <p:sp>
                <p:nvSpPr>
                  <p:cNvPr id="749" name="Arc 193"/>
                  <p:cNvSpPr/>
                  <p:nvPr/>
                </p:nvSpPr>
                <p:spPr>
                  <a:xfrm flipH="1" rot="16002000">
                    <a:off x="4456800" y="121248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0" name="Arc 192"/>
                  <p:cNvSpPr/>
                  <p:nvPr/>
                </p:nvSpPr>
                <p:spPr>
                  <a:xfrm rot="16002000">
                    <a:off x="4456080" y="119736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51" name="Group 188"/>
                <p:cNvGrpSpPr/>
                <p:nvPr/>
              </p:nvGrpSpPr>
              <p:grpSpPr>
                <a:xfrm>
                  <a:off x="4386600" y="1233360"/>
                  <a:ext cx="152280" cy="38520"/>
                  <a:chOff x="4386600" y="1233360"/>
                  <a:chExt cx="152280" cy="38520"/>
                </a:xfrm>
              </p:grpSpPr>
              <p:sp>
                <p:nvSpPr>
                  <p:cNvPr id="752" name="Arc 190"/>
                  <p:cNvSpPr/>
                  <p:nvPr/>
                </p:nvSpPr>
                <p:spPr>
                  <a:xfrm flipH="1" rot="16002000">
                    <a:off x="4455000" y="118440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53" name="Arc 189"/>
                  <p:cNvSpPr/>
                  <p:nvPr/>
                </p:nvSpPr>
                <p:spPr>
                  <a:xfrm rot="16002000">
                    <a:off x="4454640" y="1169280"/>
                    <a:ext cx="1476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754" name="Line 186"/>
              <p:cNvSpPr/>
              <p:nvPr/>
            </p:nvSpPr>
            <p:spPr>
              <a:xfrm flipH="1">
                <a:off x="4463280" y="1352520"/>
                <a:ext cx="34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55" name="Line 185"/>
              <p:cNvSpPr/>
              <p:nvPr/>
            </p:nvSpPr>
            <p:spPr>
              <a:xfrm flipH="1">
                <a:off x="4463280" y="1238040"/>
                <a:ext cx="343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grpSp>
        <p:nvGrpSpPr>
          <p:cNvPr id="756" name="Group 176"/>
          <p:cNvGrpSpPr/>
          <p:nvPr/>
        </p:nvGrpSpPr>
        <p:grpSpPr>
          <a:xfrm>
            <a:off x="5956200" y="1006560"/>
            <a:ext cx="796680" cy="458280"/>
            <a:chOff x="5956200" y="1006560"/>
            <a:chExt cx="796680" cy="458280"/>
          </a:xfrm>
        </p:grpSpPr>
        <p:sp>
          <p:nvSpPr>
            <p:cNvPr id="757" name="Oval 182"/>
            <p:cNvSpPr/>
            <p:nvPr/>
          </p:nvSpPr>
          <p:spPr>
            <a:xfrm>
              <a:off x="6181200" y="1122480"/>
              <a:ext cx="228600" cy="228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8" name="Line 181"/>
            <p:cNvSpPr/>
            <p:nvPr/>
          </p:nvSpPr>
          <p:spPr>
            <a:xfrm>
              <a:off x="5956200" y="123732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59" name="Oval 180"/>
            <p:cNvSpPr/>
            <p:nvPr/>
          </p:nvSpPr>
          <p:spPr>
            <a:xfrm>
              <a:off x="6280920" y="1006560"/>
              <a:ext cx="22860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0" name="Line 179"/>
            <p:cNvSpPr/>
            <p:nvPr/>
          </p:nvSpPr>
          <p:spPr>
            <a:xfrm>
              <a:off x="6509880" y="1120680"/>
              <a:ext cx="225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1" name="Oval 178"/>
            <p:cNvSpPr/>
            <p:nvPr/>
          </p:nvSpPr>
          <p:spPr>
            <a:xfrm>
              <a:off x="6295680" y="1236600"/>
              <a:ext cx="228600" cy="228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62" name="Line 177"/>
            <p:cNvSpPr/>
            <p:nvPr/>
          </p:nvSpPr>
          <p:spPr>
            <a:xfrm>
              <a:off x="6524280" y="1351080"/>
              <a:ext cx="228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763" name="Group 93"/>
          <p:cNvGrpSpPr/>
          <p:nvPr/>
        </p:nvGrpSpPr>
        <p:grpSpPr>
          <a:xfrm>
            <a:off x="3889080" y="2054520"/>
            <a:ext cx="1054080" cy="351720"/>
            <a:chOff x="3889080" y="2054520"/>
            <a:chExt cx="1054080" cy="351720"/>
          </a:xfrm>
        </p:grpSpPr>
        <p:grpSp>
          <p:nvGrpSpPr>
            <p:cNvPr id="764" name="Group 126"/>
            <p:cNvGrpSpPr/>
            <p:nvPr/>
          </p:nvGrpSpPr>
          <p:grpSpPr>
            <a:xfrm>
              <a:off x="3889080" y="2057040"/>
              <a:ext cx="500760" cy="232200"/>
              <a:chOff x="3889080" y="2057040"/>
              <a:chExt cx="500760" cy="232200"/>
            </a:xfrm>
          </p:grpSpPr>
          <p:grpSp>
            <p:nvGrpSpPr>
              <p:cNvPr id="765" name="Group 128"/>
              <p:cNvGrpSpPr/>
              <p:nvPr/>
            </p:nvGrpSpPr>
            <p:grpSpPr>
              <a:xfrm>
                <a:off x="4231440" y="2057040"/>
                <a:ext cx="158400" cy="232200"/>
                <a:chOff x="4231440" y="2057040"/>
                <a:chExt cx="158400" cy="232200"/>
              </a:xfrm>
            </p:grpSpPr>
            <p:grpSp>
              <p:nvGrpSpPr>
                <p:cNvPr id="766" name="Group 138"/>
                <p:cNvGrpSpPr/>
                <p:nvPr/>
              </p:nvGrpSpPr>
              <p:grpSpPr>
                <a:xfrm>
                  <a:off x="4231440" y="2057040"/>
                  <a:ext cx="152280" cy="63360"/>
                  <a:chOff x="4231440" y="2057040"/>
                  <a:chExt cx="152280" cy="63360"/>
                </a:xfrm>
              </p:grpSpPr>
              <p:sp>
                <p:nvSpPr>
                  <p:cNvPr id="767" name="Arc 140"/>
                  <p:cNvSpPr/>
                  <p:nvPr/>
                </p:nvSpPr>
                <p:spPr>
                  <a:xfrm flipH="1" rot="5325600">
                    <a:off x="4291560" y="1998000"/>
                    <a:ext cx="29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68" name="Arc 139"/>
                  <p:cNvSpPr/>
                  <p:nvPr/>
                </p:nvSpPr>
                <p:spPr>
                  <a:xfrm rot="5325600">
                    <a:off x="4292640" y="2028240"/>
                    <a:ext cx="29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69" name="Group 135"/>
                <p:cNvGrpSpPr/>
                <p:nvPr/>
              </p:nvGrpSpPr>
              <p:grpSpPr>
                <a:xfrm>
                  <a:off x="4232880" y="2116800"/>
                  <a:ext cx="151920" cy="63360"/>
                  <a:chOff x="4232880" y="2116800"/>
                  <a:chExt cx="151920" cy="63360"/>
                </a:xfrm>
              </p:grpSpPr>
              <p:sp>
                <p:nvSpPr>
                  <p:cNvPr id="770" name="Arc 137"/>
                  <p:cNvSpPr/>
                  <p:nvPr/>
                </p:nvSpPr>
                <p:spPr>
                  <a:xfrm flipH="1" rot="5325600">
                    <a:off x="4293000" y="2057760"/>
                    <a:ext cx="29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1" name="Arc 136"/>
                  <p:cNvSpPr/>
                  <p:nvPr/>
                </p:nvSpPr>
                <p:spPr>
                  <a:xfrm rot="5325600">
                    <a:off x="4293720" y="2088000"/>
                    <a:ext cx="29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72" name="Group 132"/>
                <p:cNvGrpSpPr/>
                <p:nvPr/>
              </p:nvGrpSpPr>
              <p:grpSpPr>
                <a:xfrm>
                  <a:off x="4236480" y="2169360"/>
                  <a:ext cx="152280" cy="63360"/>
                  <a:chOff x="4236480" y="2169360"/>
                  <a:chExt cx="152280" cy="63360"/>
                </a:xfrm>
              </p:grpSpPr>
              <p:sp>
                <p:nvSpPr>
                  <p:cNvPr id="773" name="Arc 134"/>
                  <p:cNvSpPr/>
                  <p:nvPr/>
                </p:nvSpPr>
                <p:spPr>
                  <a:xfrm flipH="1" rot="5325600">
                    <a:off x="4296600" y="2110320"/>
                    <a:ext cx="29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4" name="Arc 133"/>
                  <p:cNvSpPr/>
                  <p:nvPr/>
                </p:nvSpPr>
                <p:spPr>
                  <a:xfrm rot="5325600">
                    <a:off x="4297680" y="2140560"/>
                    <a:ext cx="29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75" name="Group 129"/>
                <p:cNvGrpSpPr/>
                <p:nvPr/>
              </p:nvGrpSpPr>
              <p:grpSpPr>
                <a:xfrm>
                  <a:off x="4237560" y="2225880"/>
                  <a:ext cx="152280" cy="63360"/>
                  <a:chOff x="4237560" y="2225880"/>
                  <a:chExt cx="152280" cy="63360"/>
                </a:xfrm>
              </p:grpSpPr>
              <p:sp>
                <p:nvSpPr>
                  <p:cNvPr id="776" name="Arc 131"/>
                  <p:cNvSpPr/>
                  <p:nvPr/>
                </p:nvSpPr>
                <p:spPr>
                  <a:xfrm flipH="1" rot="5325600">
                    <a:off x="4297680" y="2166840"/>
                    <a:ext cx="29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77" name="Arc 130"/>
                  <p:cNvSpPr/>
                  <p:nvPr/>
                </p:nvSpPr>
                <p:spPr>
                  <a:xfrm rot="5325600">
                    <a:off x="4298760" y="2197080"/>
                    <a:ext cx="2988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778" name="Line 127"/>
              <p:cNvSpPr/>
              <p:nvPr/>
            </p:nvSpPr>
            <p:spPr>
              <a:xfrm flipH="1">
                <a:off x="3889080" y="2168640"/>
                <a:ext cx="342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779" name="Group 110"/>
            <p:cNvGrpSpPr/>
            <p:nvPr/>
          </p:nvGrpSpPr>
          <p:grpSpPr>
            <a:xfrm>
              <a:off x="4453200" y="2054520"/>
              <a:ext cx="485640" cy="123120"/>
              <a:chOff x="4453200" y="2054520"/>
              <a:chExt cx="485640" cy="123120"/>
            </a:xfrm>
          </p:grpSpPr>
          <p:grpSp>
            <p:nvGrpSpPr>
              <p:cNvPr id="780" name="Group 113"/>
              <p:cNvGrpSpPr/>
              <p:nvPr/>
            </p:nvGrpSpPr>
            <p:grpSpPr>
              <a:xfrm>
                <a:off x="4453200" y="2054520"/>
                <a:ext cx="159120" cy="123120"/>
                <a:chOff x="4453200" y="2054520"/>
                <a:chExt cx="159120" cy="123120"/>
              </a:xfrm>
            </p:grpSpPr>
            <p:grpSp>
              <p:nvGrpSpPr>
                <p:cNvPr id="781" name="Group 123"/>
                <p:cNvGrpSpPr/>
                <p:nvPr/>
              </p:nvGrpSpPr>
              <p:grpSpPr>
                <a:xfrm>
                  <a:off x="4460400" y="2139120"/>
                  <a:ext cx="151920" cy="38520"/>
                  <a:chOff x="4460400" y="2139120"/>
                  <a:chExt cx="151920" cy="38520"/>
                </a:xfrm>
              </p:grpSpPr>
              <p:sp>
                <p:nvSpPr>
                  <p:cNvPr id="782" name="Arc 125"/>
                  <p:cNvSpPr/>
                  <p:nvPr/>
                </p:nvSpPr>
                <p:spPr>
                  <a:xfrm flipH="1" rot="16002000">
                    <a:off x="4528800" y="2090160"/>
                    <a:ext cx="151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83" name="Arc 124"/>
                  <p:cNvSpPr/>
                  <p:nvPr/>
                </p:nvSpPr>
                <p:spPr>
                  <a:xfrm rot="16002000">
                    <a:off x="4528440" y="2075040"/>
                    <a:ext cx="147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84" name="Group 120"/>
                <p:cNvGrpSpPr/>
                <p:nvPr/>
              </p:nvGrpSpPr>
              <p:grpSpPr>
                <a:xfrm>
                  <a:off x="4458600" y="2109240"/>
                  <a:ext cx="152280" cy="38520"/>
                  <a:chOff x="4458600" y="2109240"/>
                  <a:chExt cx="152280" cy="38520"/>
                </a:xfrm>
              </p:grpSpPr>
              <p:sp>
                <p:nvSpPr>
                  <p:cNvPr id="785" name="Arc 122"/>
                  <p:cNvSpPr/>
                  <p:nvPr/>
                </p:nvSpPr>
                <p:spPr>
                  <a:xfrm flipH="1" rot="16002000">
                    <a:off x="4527360" y="2060280"/>
                    <a:ext cx="151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86" name="Arc 121"/>
                  <p:cNvSpPr/>
                  <p:nvPr/>
                </p:nvSpPr>
                <p:spPr>
                  <a:xfrm rot="16002000">
                    <a:off x="4526640" y="2045160"/>
                    <a:ext cx="147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87" name="Group 117"/>
                <p:cNvGrpSpPr/>
                <p:nvPr/>
              </p:nvGrpSpPr>
              <p:grpSpPr>
                <a:xfrm>
                  <a:off x="4454640" y="2082960"/>
                  <a:ext cx="152280" cy="38520"/>
                  <a:chOff x="4454640" y="2082960"/>
                  <a:chExt cx="152280" cy="38520"/>
                </a:xfrm>
              </p:grpSpPr>
              <p:sp>
                <p:nvSpPr>
                  <p:cNvPr id="788" name="Arc 119"/>
                  <p:cNvSpPr/>
                  <p:nvPr/>
                </p:nvSpPr>
                <p:spPr>
                  <a:xfrm flipH="1" rot="16002000">
                    <a:off x="4523400" y="2034000"/>
                    <a:ext cx="151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89" name="Arc 118"/>
                  <p:cNvSpPr/>
                  <p:nvPr/>
                </p:nvSpPr>
                <p:spPr>
                  <a:xfrm rot="16002000">
                    <a:off x="4522680" y="2018880"/>
                    <a:ext cx="147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790" name="Group 114"/>
                <p:cNvGrpSpPr/>
                <p:nvPr/>
              </p:nvGrpSpPr>
              <p:grpSpPr>
                <a:xfrm>
                  <a:off x="4453200" y="2054520"/>
                  <a:ext cx="151920" cy="38520"/>
                  <a:chOff x="4453200" y="2054520"/>
                  <a:chExt cx="151920" cy="38520"/>
                </a:xfrm>
              </p:grpSpPr>
              <p:sp>
                <p:nvSpPr>
                  <p:cNvPr id="791" name="Arc 116"/>
                  <p:cNvSpPr/>
                  <p:nvPr/>
                </p:nvSpPr>
                <p:spPr>
                  <a:xfrm flipH="1" rot="16002000">
                    <a:off x="4521600" y="2005560"/>
                    <a:ext cx="151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2" name="Arc 115"/>
                  <p:cNvSpPr/>
                  <p:nvPr/>
                </p:nvSpPr>
                <p:spPr>
                  <a:xfrm rot="16002000">
                    <a:off x="4521240" y="1990440"/>
                    <a:ext cx="147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793" name="Line 112"/>
              <p:cNvSpPr/>
              <p:nvPr/>
            </p:nvSpPr>
            <p:spPr>
              <a:xfrm flipH="1">
                <a:off x="4576320" y="2113920"/>
                <a:ext cx="34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794" name="Line 111"/>
              <p:cNvSpPr/>
              <p:nvPr/>
            </p:nvSpPr>
            <p:spPr>
              <a:xfrm flipH="1">
                <a:off x="4596120" y="2172960"/>
                <a:ext cx="34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grpSp>
          <p:nvGrpSpPr>
            <p:cNvPr id="795" name="Group 94"/>
            <p:cNvGrpSpPr/>
            <p:nvPr/>
          </p:nvGrpSpPr>
          <p:grpSpPr>
            <a:xfrm>
              <a:off x="4457520" y="2283120"/>
              <a:ext cx="485640" cy="123120"/>
              <a:chOff x="4457520" y="2283120"/>
              <a:chExt cx="485640" cy="123120"/>
            </a:xfrm>
          </p:grpSpPr>
          <p:grpSp>
            <p:nvGrpSpPr>
              <p:cNvPr id="796" name="Group 97"/>
              <p:cNvGrpSpPr/>
              <p:nvPr/>
            </p:nvGrpSpPr>
            <p:grpSpPr>
              <a:xfrm>
                <a:off x="4457520" y="2283120"/>
                <a:ext cx="159120" cy="123120"/>
                <a:chOff x="4457520" y="2283120"/>
                <a:chExt cx="159120" cy="123120"/>
              </a:xfrm>
            </p:grpSpPr>
            <p:grpSp>
              <p:nvGrpSpPr>
                <p:cNvPr id="797" name="Group 107"/>
                <p:cNvGrpSpPr/>
                <p:nvPr/>
              </p:nvGrpSpPr>
              <p:grpSpPr>
                <a:xfrm>
                  <a:off x="4464720" y="2367720"/>
                  <a:ext cx="151920" cy="38520"/>
                  <a:chOff x="4464720" y="2367720"/>
                  <a:chExt cx="151920" cy="38520"/>
                </a:xfrm>
              </p:grpSpPr>
              <p:sp>
                <p:nvSpPr>
                  <p:cNvPr id="798" name="Arc 109"/>
                  <p:cNvSpPr/>
                  <p:nvPr/>
                </p:nvSpPr>
                <p:spPr>
                  <a:xfrm flipH="1" rot="16002000">
                    <a:off x="4533120" y="2318760"/>
                    <a:ext cx="151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799" name="Arc 108"/>
                  <p:cNvSpPr/>
                  <p:nvPr/>
                </p:nvSpPr>
                <p:spPr>
                  <a:xfrm rot="16002000">
                    <a:off x="4532760" y="2303640"/>
                    <a:ext cx="147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00" name="Group 104"/>
                <p:cNvGrpSpPr/>
                <p:nvPr/>
              </p:nvGrpSpPr>
              <p:grpSpPr>
                <a:xfrm>
                  <a:off x="4462920" y="2337840"/>
                  <a:ext cx="152280" cy="38520"/>
                  <a:chOff x="4462920" y="2337840"/>
                  <a:chExt cx="152280" cy="38520"/>
                </a:xfrm>
              </p:grpSpPr>
              <p:sp>
                <p:nvSpPr>
                  <p:cNvPr id="801" name="Arc 106"/>
                  <p:cNvSpPr/>
                  <p:nvPr/>
                </p:nvSpPr>
                <p:spPr>
                  <a:xfrm flipH="1" rot="16002000">
                    <a:off x="4531680" y="2288880"/>
                    <a:ext cx="151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2" name="Arc 105"/>
                  <p:cNvSpPr/>
                  <p:nvPr/>
                </p:nvSpPr>
                <p:spPr>
                  <a:xfrm rot="16002000">
                    <a:off x="4530960" y="2273760"/>
                    <a:ext cx="147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03" name="Group 101"/>
                <p:cNvGrpSpPr/>
                <p:nvPr/>
              </p:nvGrpSpPr>
              <p:grpSpPr>
                <a:xfrm>
                  <a:off x="4458960" y="2311560"/>
                  <a:ext cx="152280" cy="38520"/>
                  <a:chOff x="4458960" y="2311560"/>
                  <a:chExt cx="152280" cy="38520"/>
                </a:xfrm>
              </p:grpSpPr>
              <p:sp>
                <p:nvSpPr>
                  <p:cNvPr id="804" name="Arc 103"/>
                  <p:cNvSpPr/>
                  <p:nvPr/>
                </p:nvSpPr>
                <p:spPr>
                  <a:xfrm flipH="1" rot="16002000">
                    <a:off x="4527720" y="2262600"/>
                    <a:ext cx="151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5" name="Arc 102"/>
                  <p:cNvSpPr/>
                  <p:nvPr/>
                </p:nvSpPr>
                <p:spPr>
                  <a:xfrm rot="16002000">
                    <a:off x="4527000" y="2247480"/>
                    <a:ext cx="147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806" name="Group 98"/>
                <p:cNvGrpSpPr/>
                <p:nvPr/>
              </p:nvGrpSpPr>
              <p:grpSpPr>
                <a:xfrm>
                  <a:off x="4457520" y="2283120"/>
                  <a:ext cx="151920" cy="38520"/>
                  <a:chOff x="4457520" y="2283120"/>
                  <a:chExt cx="151920" cy="38520"/>
                </a:xfrm>
              </p:grpSpPr>
              <p:sp>
                <p:nvSpPr>
                  <p:cNvPr id="807" name="Arc 100"/>
                  <p:cNvSpPr/>
                  <p:nvPr/>
                </p:nvSpPr>
                <p:spPr>
                  <a:xfrm flipH="1" rot="16002000">
                    <a:off x="4525920" y="2234160"/>
                    <a:ext cx="1512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808" name="Arc 99"/>
                  <p:cNvSpPr/>
                  <p:nvPr/>
                </p:nvSpPr>
                <p:spPr>
                  <a:xfrm rot="16002000">
                    <a:off x="4525560" y="2219040"/>
                    <a:ext cx="14760" cy="150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</a:path>
                      <a:path stroke="0" w="21600" h="21600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809" name="Line 96"/>
              <p:cNvSpPr/>
              <p:nvPr/>
            </p:nvSpPr>
            <p:spPr>
              <a:xfrm flipH="1">
                <a:off x="4580640" y="2342520"/>
                <a:ext cx="34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810" name="Line 95"/>
              <p:cNvSpPr/>
              <p:nvPr/>
            </p:nvSpPr>
            <p:spPr>
              <a:xfrm flipH="1">
                <a:off x="4600440" y="2401560"/>
                <a:ext cx="342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</p:grpSp>
      <p:grpSp>
        <p:nvGrpSpPr>
          <p:cNvPr id="811" name="Group 86"/>
          <p:cNvGrpSpPr/>
          <p:nvPr/>
        </p:nvGrpSpPr>
        <p:grpSpPr>
          <a:xfrm>
            <a:off x="6060960" y="2120760"/>
            <a:ext cx="788760" cy="459000"/>
            <a:chOff x="6060960" y="2120760"/>
            <a:chExt cx="788760" cy="459000"/>
          </a:xfrm>
        </p:grpSpPr>
        <p:sp>
          <p:nvSpPr>
            <p:cNvPr id="812" name="Line 92"/>
            <p:cNvSpPr/>
            <p:nvPr/>
          </p:nvSpPr>
          <p:spPr>
            <a:xfrm>
              <a:off x="6060960" y="2236320"/>
              <a:ext cx="2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3" name="Oval 91"/>
            <p:cNvSpPr/>
            <p:nvPr/>
          </p:nvSpPr>
          <p:spPr>
            <a:xfrm>
              <a:off x="6404040" y="212076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4" name="Line 90"/>
            <p:cNvSpPr/>
            <p:nvPr/>
          </p:nvSpPr>
          <p:spPr>
            <a:xfrm>
              <a:off x="6625080" y="2235240"/>
              <a:ext cx="224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5" name="Arc 89"/>
            <p:cNvSpPr/>
            <p:nvPr/>
          </p:nvSpPr>
          <p:spPr>
            <a:xfrm flipH="1">
              <a:off x="6294600" y="2120760"/>
              <a:ext cx="228600" cy="1162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6" name="Oval 88"/>
            <p:cNvSpPr/>
            <p:nvPr/>
          </p:nvSpPr>
          <p:spPr>
            <a:xfrm>
              <a:off x="6282720" y="2236320"/>
              <a:ext cx="228600" cy="228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17" name="Line 87"/>
            <p:cNvSpPr/>
            <p:nvPr/>
          </p:nvSpPr>
          <p:spPr>
            <a:xfrm>
              <a:off x="6396840" y="2465280"/>
              <a:ext cx="0" cy="11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18" name="Line 72"/>
          <p:cNvSpPr/>
          <p:nvPr/>
        </p:nvSpPr>
        <p:spPr>
          <a:xfrm>
            <a:off x="423216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19" name="Line 73"/>
          <p:cNvSpPr/>
          <p:nvPr/>
        </p:nvSpPr>
        <p:spPr>
          <a:xfrm>
            <a:off x="4803840" y="3097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20" name="Line 71"/>
          <p:cNvSpPr/>
          <p:nvPr/>
        </p:nvSpPr>
        <p:spPr>
          <a:xfrm>
            <a:off x="4232160" y="30369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821" name="Group 67"/>
          <p:cNvGrpSpPr/>
          <p:nvPr/>
        </p:nvGrpSpPr>
        <p:grpSpPr>
          <a:xfrm>
            <a:off x="6181560" y="3097080"/>
            <a:ext cx="571680" cy="228600"/>
            <a:chOff x="6181560" y="3097080"/>
            <a:chExt cx="571680" cy="228600"/>
          </a:xfrm>
        </p:grpSpPr>
        <p:sp>
          <p:nvSpPr>
            <p:cNvPr id="822" name="Line 70"/>
            <p:cNvSpPr/>
            <p:nvPr/>
          </p:nvSpPr>
          <p:spPr>
            <a:xfrm>
              <a:off x="6181560" y="309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3" name="Line 69"/>
            <p:cNvSpPr/>
            <p:nvPr/>
          </p:nvSpPr>
          <p:spPr>
            <a:xfrm>
              <a:off x="6753240" y="30970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4" name="Line 68"/>
            <p:cNvSpPr/>
            <p:nvPr/>
          </p:nvSpPr>
          <p:spPr>
            <a:xfrm>
              <a:off x="6181560" y="3211920"/>
              <a:ext cx="571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825" name="Group 60"/>
          <p:cNvGrpSpPr/>
          <p:nvPr/>
        </p:nvGrpSpPr>
        <p:grpSpPr>
          <a:xfrm>
            <a:off x="5877000" y="3593880"/>
            <a:ext cx="1028520" cy="228600"/>
            <a:chOff x="5877000" y="3593880"/>
            <a:chExt cx="1028520" cy="228600"/>
          </a:xfrm>
        </p:grpSpPr>
        <p:sp>
          <p:nvSpPr>
            <p:cNvPr id="826" name="Line 63"/>
            <p:cNvSpPr/>
            <p:nvPr/>
          </p:nvSpPr>
          <p:spPr>
            <a:xfrm>
              <a:off x="5877000" y="38188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7" name="Line 62"/>
            <p:cNvSpPr/>
            <p:nvPr/>
          </p:nvSpPr>
          <p:spPr>
            <a:xfrm>
              <a:off x="6562800" y="3818880"/>
              <a:ext cx="34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28" name="Line 61"/>
            <p:cNvSpPr/>
            <p:nvPr/>
          </p:nvSpPr>
          <p:spPr>
            <a:xfrm flipV="1">
              <a:off x="6219000" y="3593880"/>
              <a:ext cx="34272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829" name="Group 64"/>
          <p:cNvGrpSpPr/>
          <p:nvPr/>
        </p:nvGrpSpPr>
        <p:grpSpPr>
          <a:xfrm>
            <a:off x="4232160" y="3600360"/>
            <a:ext cx="457200" cy="219240"/>
            <a:chOff x="4232160" y="3600360"/>
            <a:chExt cx="457200" cy="219240"/>
          </a:xfrm>
        </p:grpSpPr>
        <p:sp>
          <p:nvSpPr>
            <p:cNvPr id="830" name="Line 66"/>
            <p:cNvSpPr/>
            <p:nvPr/>
          </p:nvSpPr>
          <p:spPr>
            <a:xfrm>
              <a:off x="4460760" y="3600360"/>
              <a:ext cx="0" cy="219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>
              <a:off x="4232160" y="37105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832" name="Rectangle 268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3" name="Rectangle 270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4" name="Rectangle 273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5" name="Rectangle 275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6" name="Rectangle 278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7" name="Rectangle 280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8" name="Rectangle 283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9" name="Rectangle 285"/>
          <p:cNvSpPr/>
          <p:nvPr/>
        </p:nvSpPr>
        <p:spPr>
          <a:xfrm>
            <a:off x="2531880" y="209520"/>
            <a:ext cx="180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1" lang="en-US" sz="1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0" name="Rectangle 288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1" name="Rectangle 290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2" name="Rectangle 294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3" name="Rectangle 295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4" name="Rectangle 297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5" name="Rectangle 300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6" name="Rectangle 302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7" name="Rectangle 305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8" name="Rectangle 307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9" name="Rectangle 310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0" name="Rectangle 312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1" name="Rectangle 315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2" name="Rectangle 317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3" name="Rectangle 320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4" name="Rectangle 322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5" name="Rectangle 325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6" name="Rectangle 327"/>
          <p:cNvSpPr/>
          <p:nvPr/>
        </p:nvSpPr>
        <p:spPr>
          <a:xfrm>
            <a:off x="1647720" y="209520"/>
            <a:ext cx="19494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1647720" y="209520"/>
          <a:ext cx="5848560" cy="6446880"/>
        </p:xfrm>
        <a:graphic>
          <a:graphicData uri="http://schemas.openxmlformats.org/drawingml/2006/table">
            <a:tbl>
              <a:tblPr/>
              <a:tblGrid>
                <a:gridCol w="1949400"/>
                <a:gridCol w="1949760"/>
                <a:gridCol w="1949400"/>
              </a:tblGrid>
              <a:tr h="23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FUNCIÓN O ELEMENTO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NORMA AMERICANA (ANSI)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NORMAS EUROPEAS (IEC)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formador de potencia o potencial, dos devanados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formador de potencia o de potencial tridevanado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Autotransformador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Autotransformador tridevanado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Generador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Línea de transmisión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Seccionador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Interruptor de potencia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52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ntacto normalmente abierto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ntacto normalmente cerrado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formador de corriente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Fallo</a:t>
                      </a:r>
                      <a:endParaRPr b="1" lang="en-US" sz="9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980E-325A-440D-BDC7-C3914E9E54A9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Designación de Conductor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8" name="Text Box 4"/>
          <p:cNvSpPr/>
          <p:nvPr/>
        </p:nvSpPr>
        <p:spPr>
          <a:xfrm>
            <a:off x="179280" y="25653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El tamaño del conductor se designa con base en el </a:t>
            </a:r>
            <a:r>
              <a:rPr b="1" lang="es-ES" sz="1800" spc="-1" strike="noStrike" u="sng">
                <a:solidFill>
                  <a:srgbClr val="eaeaea"/>
                </a:solidFill>
                <a:uFillTx/>
                <a:latin typeface="Verdana"/>
              </a:rPr>
              <a:t>área total.</a:t>
            </a: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49" name="Text Box 5"/>
          <p:cNvSpPr/>
          <p:nvPr/>
        </p:nvSpPr>
        <p:spPr>
          <a:xfrm>
            <a:off x="395280" y="44370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Circular Mil (CMIL)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0" name="Text Box 6"/>
          <p:cNvSpPr/>
          <p:nvPr/>
        </p:nvSpPr>
        <p:spPr>
          <a:xfrm>
            <a:off x="3203640" y="3573360"/>
            <a:ext cx="59403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eaeaea"/>
                </a:solidFill>
                <a:latin typeface="Verdana"/>
              </a:rPr>
              <a:t>Es una práctica norteamericana</a:t>
            </a:r>
            <a:endParaRPr b="1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eaeaea"/>
                </a:solidFill>
                <a:latin typeface="Verdana"/>
              </a:rPr>
              <a:t>1 CMIL = 0,506 7*10</a:t>
            </a:r>
            <a:r>
              <a:rPr b="0" lang="es-ES" sz="1300" spc="-1" strike="noStrike" baseline="30000">
                <a:solidFill>
                  <a:srgbClr val="eaeaea"/>
                </a:solidFill>
                <a:latin typeface="Verdana"/>
              </a:rPr>
              <a:t>-3 </a:t>
            </a:r>
            <a:r>
              <a:rPr b="0" lang="es-ES" sz="1300" spc="-1" strike="noStrike">
                <a:solidFill>
                  <a:srgbClr val="eaeaea"/>
                </a:solidFill>
                <a:latin typeface="Verdana"/>
              </a:rPr>
              <a:t>mm</a:t>
            </a:r>
            <a:r>
              <a:rPr b="0" lang="es-ES" sz="13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1300" spc="-1" strike="noStrike">
                <a:solidFill>
                  <a:srgbClr val="eaeaea"/>
                </a:solidFill>
                <a:latin typeface="Verdana"/>
              </a:rPr>
              <a:t>, es el </a:t>
            </a:r>
            <a:r>
              <a:rPr b="0" lang="es-ES" sz="1300" spc="-1" strike="noStrike" u="sng">
                <a:solidFill>
                  <a:srgbClr val="eaeaea"/>
                </a:solidFill>
                <a:uFillTx/>
                <a:latin typeface="Verdana"/>
              </a:rPr>
              <a:t>área de un círculo cuyo diámetro es una milésima de pulgada</a:t>
            </a:r>
            <a:endParaRPr b="1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eaeaea"/>
                </a:solidFill>
                <a:latin typeface="Verdana"/>
              </a:rPr>
              <a:t>A cada área estandarizada se le asigna una designación AWG o kcmil</a:t>
            </a:r>
            <a:endParaRPr b="1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eaeaea"/>
                </a:solidFill>
                <a:latin typeface="Verdana"/>
              </a:rPr>
              <a:t>Los conductores hasta 211 600 cmil se designan por un calibre AWG: 1, 2, 3, 4, 5, 6, 7, 8, 9, 0, 1/0, 2/0, 3/0, 4/0</a:t>
            </a:r>
            <a:endParaRPr b="1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eaeaea"/>
                </a:solidFill>
                <a:latin typeface="Verdana"/>
              </a:rPr>
              <a:t>Los conductores mayores a 211 600 se designan por kcmil</a:t>
            </a:r>
            <a:endParaRPr b="1" lang="en-US" sz="13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eaeaea"/>
                </a:solidFill>
                <a:latin typeface="Verdana"/>
              </a:rPr>
              <a:t>Es común asociar a cada calibre el nombre en Inglés de un ave (</a:t>
            </a:r>
            <a:r>
              <a:rPr b="0" i="1" lang="es-ES" sz="1300" spc="-1" strike="noStrike">
                <a:solidFill>
                  <a:srgbClr val="eaeaea"/>
                </a:solidFill>
                <a:latin typeface="Verdana"/>
              </a:rPr>
              <a:t>Parrot, ostrich</a:t>
            </a:r>
            <a:r>
              <a:rPr b="0" lang="es-ES" sz="1300" spc="-1" strike="noStrike">
                <a:solidFill>
                  <a:srgbClr val="eaeaea"/>
                </a:solidFill>
                <a:latin typeface="Verdana"/>
              </a:rPr>
              <a:t> etc). </a:t>
            </a:r>
            <a:endParaRPr b="1" lang="en-US" sz="13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1" name="Text Box 7"/>
          <p:cNvSpPr/>
          <p:nvPr/>
        </p:nvSpPr>
        <p:spPr>
          <a:xfrm>
            <a:off x="2987640" y="2571840"/>
            <a:ext cx="230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Milímetros cuadrados (mm</a:t>
            </a:r>
            <a:r>
              <a:rPr b="0" lang="es-ES" sz="1600" spc="-1" strike="noStrike" baseline="30000">
                <a:solidFill>
                  <a:srgbClr val="eaeaea"/>
                </a:solidFill>
                <a:latin typeface="Verdana"/>
              </a:rPr>
              <a:t>2</a:t>
            </a: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)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2" name="Text Box 8"/>
          <p:cNvSpPr/>
          <p:nvPr/>
        </p:nvSpPr>
        <p:spPr>
          <a:xfrm>
            <a:off x="5580000" y="2421000"/>
            <a:ext cx="35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Es la práctica internacional pues cumple con el Sistema Internacional (SI) de unidades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3" name="Oval 10"/>
          <p:cNvSpPr/>
          <p:nvPr/>
        </p:nvSpPr>
        <p:spPr>
          <a:xfrm>
            <a:off x="179280" y="5157720"/>
            <a:ext cx="1441440" cy="14414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4" name="AutoShape 13"/>
          <p:cNvSpPr/>
          <p:nvPr/>
        </p:nvSpPr>
        <p:spPr>
          <a:xfrm rot="16200000">
            <a:off x="2448720" y="1305360"/>
            <a:ext cx="431640" cy="2087640"/>
          </a:xfrm>
          <a:custGeom>
            <a:avLst/>
            <a:gdLst>
              <a:gd name="textAreaLeft" fmla="*/ 57600 w 431640"/>
              <a:gd name="textAreaRight" fmla="*/ 374040 w 431640"/>
              <a:gd name="textAreaTop" fmla="*/ 365400 h 2087640"/>
              <a:gd name="textAreaBottom" fmla="*/ 151380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5" name="AutoShape 14"/>
          <p:cNvSpPr/>
          <p:nvPr/>
        </p:nvSpPr>
        <p:spPr>
          <a:xfrm>
            <a:off x="4932360" y="263700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6" name="AutoShape 15"/>
          <p:cNvSpPr/>
          <p:nvPr/>
        </p:nvSpPr>
        <p:spPr>
          <a:xfrm>
            <a:off x="179280" y="3716280"/>
            <a:ext cx="289080" cy="1152720"/>
          </a:xfrm>
          <a:custGeom>
            <a:avLst/>
            <a:gdLst>
              <a:gd name="textAreaLeft" fmla="*/ 38520 w 289080"/>
              <a:gd name="textAreaRight" fmla="*/ 250560 w 289080"/>
              <a:gd name="textAreaTop" fmla="*/ 201600 h 1152720"/>
              <a:gd name="textAreaBottom" fmla="*/ 83592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7" name="AutoShape 16"/>
          <p:cNvSpPr/>
          <p:nvPr/>
        </p:nvSpPr>
        <p:spPr>
          <a:xfrm>
            <a:off x="2411280" y="4437000"/>
            <a:ext cx="576360" cy="360360"/>
          </a:xfrm>
          <a:custGeom>
            <a:avLst/>
            <a:gdLst>
              <a:gd name="textAreaLeft" fmla="*/ 90000 w 576360"/>
              <a:gd name="textAreaRight" fmla="*/ 504360 w 576360"/>
              <a:gd name="textAreaTop" fmla="*/ 90000 h 360360"/>
              <a:gd name="textAreaBottom" fmla="*/ 270360 h 36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58" name="Line 18"/>
          <p:cNvSpPr/>
          <p:nvPr/>
        </p:nvSpPr>
        <p:spPr>
          <a:xfrm>
            <a:off x="179280" y="5877000"/>
            <a:ext cx="1440000" cy="0"/>
          </a:xfrm>
          <a:prstGeom prst="line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159" name="Object 20"/>
          <p:cNvGraphicFramePr/>
          <p:nvPr/>
        </p:nvGraphicFramePr>
        <p:xfrm>
          <a:off x="1663560" y="5805360"/>
          <a:ext cx="3011760" cy="701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0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63560" y="5805360"/>
                    <a:ext cx="30117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1" name="Object 21"/>
          <p:cNvGraphicFramePr/>
          <p:nvPr/>
        </p:nvGraphicFramePr>
        <p:xfrm>
          <a:off x="5353200" y="5805360"/>
          <a:ext cx="1676160" cy="701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62" name="Object 21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53200" y="5805360"/>
                    <a:ext cx="167616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3" name="Object 22"/>
          <p:cNvGraphicFramePr/>
          <p:nvPr/>
        </p:nvGraphicFramePr>
        <p:xfrm>
          <a:off x="755640" y="5877000"/>
          <a:ext cx="249120" cy="3157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64" name="Object 2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55640" y="5877000"/>
                    <a:ext cx="249120" cy="31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5" name="AutoShape 23"/>
          <p:cNvSpPr/>
          <p:nvPr/>
        </p:nvSpPr>
        <p:spPr>
          <a:xfrm>
            <a:off x="3035160" y="3562200"/>
            <a:ext cx="217800" cy="2089440"/>
          </a:xfrm>
          <a:custGeom>
            <a:avLst/>
            <a:gdLst>
              <a:gd name="textAreaLeft" fmla="*/ 139320 w 217800"/>
              <a:gd name="textAreaRight" fmla="*/ 218160 w 217800"/>
              <a:gd name="textAreaTop" fmla="*/ 54360 h 2089440"/>
              <a:gd name="textAreaBottom" fmla="*/ 2035080 h 20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BA92-0F56-42EA-B3DB-4CAD03F7FB9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ductores desnud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9" name="Text Box 15"/>
          <p:cNvSpPr/>
          <p:nvPr/>
        </p:nvSpPr>
        <p:spPr>
          <a:xfrm>
            <a:off x="684360" y="2417760"/>
            <a:ext cx="7056360" cy="642600"/>
          </a:xfrm>
          <a:prstGeom prst="rect">
            <a:avLst/>
          </a:pr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En la selección de un conductor se busca la mayor relación conductividad/peso y/o fuerza/peso a un mínimo costo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0" name="Text Box 21"/>
          <p:cNvSpPr/>
          <p:nvPr/>
        </p:nvSpPr>
        <p:spPr>
          <a:xfrm>
            <a:off x="539640" y="3368520"/>
            <a:ext cx="619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nductores estándar: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AAC (All Aluminum Conductor)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ACSR (Aluminum Conductor Steel Reinforced)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AAAC (All Aluminum Alloy Conductor)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ACAR (Aluminum Conductor, Aluminum-Alloy Reinforced)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1" name="Text Box 28"/>
          <p:cNvSpPr/>
          <p:nvPr/>
        </p:nvSpPr>
        <p:spPr>
          <a:xfrm>
            <a:off x="2627280" y="5661000"/>
            <a:ext cx="4321080" cy="9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eec85e"/>
                </a:solidFill>
                <a:uFillTx/>
                <a:latin typeface="Verdana"/>
                <a:hlinkClick r:id="rId1"/>
              </a:rPr>
              <a:t>http://www.centelsa.com/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eec85e"/>
                </a:solidFill>
                <a:uFillTx/>
                <a:latin typeface="Verdana"/>
                <a:hlinkClick r:id="rId2"/>
              </a:rPr>
              <a:t>http://www.sural.com/productos/desnudos/acsr.htm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eec85e"/>
                </a:solidFill>
                <a:uFillTx/>
                <a:latin typeface="Verdana"/>
                <a:hlinkClick r:id="rId3"/>
              </a:rPr>
              <a:t>http://www.cdeln.com/produc.htm</a:t>
            </a: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7FCD-0A2D-431C-9B0B-4D8A9303C324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2960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ductores desnud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5" name="Text Box 13"/>
          <p:cNvSpPr/>
          <p:nvPr/>
        </p:nvSpPr>
        <p:spPr>
          <a:xfrm>
            <a:off x="324000" y="1844640"/>
            <a:ext cx="6192720" cy="39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nductores estándar: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AAC (All Aluminum Conductor): Aluminio 1350-H19, bajo costo, conductividad de 61,2%, buena resistencia a la corrosión. Mayor relación conductividad/peso de todos los conductores aéreos. Se usa en zonas urbanas, vanos cortos, máxima transferencia de corriente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ACSR (Aluminum Conductor Steel Reinforced): Núcleo de acero rodeado de una o varias capas de aluminio 1350-H19, vanos largos, el área en cmil se especifica en función del área de aluminio, se elonga menos que otros conductores, soporta altas temperaturas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176" name="Group 20"/>
          <p:cNvGrpSpPr/>
          <p:nvPr/>
        </p:nvGrpSpPr>
        <p:grpSpPr>
          <a:xfrm>
            <a:off x="7093080" y="4567320"/>
            <a:ext cx="1459440" cy="1583280"/>
            <a:chOff x="7093080" y="4567320"/>
            <a:chExt cx="1459440" cy="1583280"/>
          </a:xfrm>
        </p:grpSpPr>
        <p:sp>
          <p:nvSpPr>
            <p:cNvPr id="1177" name="Oval 21"/>
            <p:cNvSpPr/>
            <p:nvPr/>
          </p:nvSpPr>
          <p:spPr>
            <a:xfrm>
              <a:off x="8021880" y="4830840"/>
              <a:ext cx="530640" cy="5263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8" name="Oval 22"/>
            <p:cNvSpPr/>
            <p:nvPr/>
          </p:nvSpPr>
          <p:spPr>
            <a:xfrm>
              <a:off x="7551000" y="4567320"/>
              <a:ext cx="529920" cy="526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9" name="Oval 23"/>
            <p:cNvSpPr/>
            <p:nvPr/>
          </p:nvSpPr>
          <p:spPr>
            <a:xfrm>
              <a:off x="7551000" y="5093640"/>
              <a:ext cx="529920" cy="52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0" name="Oval 24"/>
            <p:cNvSpPr/>
            <p:nvPr/>
          </p:nvSpPr>
          <p:spPr>
            <a:xfrm>
              <a:off x="7551000" y="5624280"/>
              <a:ext cx="529920" cy="52632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1" name="Oval 25"/>
            <p:cNvSpPr/>
            <p:nvPr/>
          </p:nvSpPr>
          <p:spPr>
            <a:xfrm>
              <a:off x="8007840" y="5360760"/>
              <a:ext cx="529920" cy="5230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2" name="Oval 26"/>
            <p:cNvSpPr/>
            <p:nvPr/>
          </p:nvSpPr>
          <p:spPr>
            <a:xfrm>
              <a:off x="7107840" y="4830840"/>
              <a:ext cx="529920" cy="52632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3" name="Oval 27"/>
            <p:cNvSpPr/>
            <p:nvPr/>
          </p:nvSpPr>
          <p:spPr>
            <a:xfrm>
              <a:off x="7093080" y="5360760"/>
              <a:ext cx="530640" cy="5230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184" name="Text Box 28"/>
          <p:cNvSpPr/>
          <p:nvPr/>
        </p:nvSpPr>
        <p:spPr>
          <a:xfrm>
            <a:off x="8101080" y="4292640"/>
            <a:ext cx="7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Acero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5" name="Text Box 29"/>
          <p:cNvSpPr/>
          <p:nvPr/>
        </p:nvSpPr>
        <p:spPr>
          <a:xfrm>
            <a:off x="5796000" y="58770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Aluminio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6" name="Text Box 30"/>
          <p:cNvSpPr/>
          <p:nvPr/>
        </p:nvSpPr>
        <p:spPr>
          <a:xfrm>
            <a:off x="6877080" y="617868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Verdana"/>
              </a:rPr>
              <a:t>ACSR 4 AWG 6 Al/1 S</a:t>
            </a:r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87" name="Line 31"/>
          <p:cNvSpPr/>
          <p:nvPr/>
        </p:nvSpPr>
        <p:spPr>
          <a:xfrm flipV="1">
            <a:off x="7885080" y="4581360"/>
            <a:ext cx="432000" cy="64800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88" name="Picture 34" descr="linea 500 kv cto 1 torre 1083 f 9"/>
          <p:cNvPicPr/>
          <p:nvPr/>
        </p:nvPicPr>
        <p:blipFill>
          <a:blip r:embed="rId7"/>
          <a:stretch/>
        </p:blipFill>
        <p:spPr>
          <a:xfrm>
            <a:off x="6659640" y="2233440"/>
            <a:ext cx="2266920" cy="1700280"/>
          </a:xfrm>
          <a:prstGeom prst="rect">
            <a:avLst/>
          </a:prstGeom>
          <a:ln w="0">
            <a:noFill/>
          </a:ln>
        </p:spPr>
      </p:pic>
      <p:sp>
        <p:nvSpPr>
          <p:cNvPr id="1189" name="Line 35"/>
          <p:cNvSpPr/>
          <p:nvPr/>
        </p:nvSpPr>
        <p:spPr>
          <a:xfrm flipH="1">
            <a:off x="6227280" y="5084640"/>
            <a:ext cx="1008360" cy="79236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0" name="Line 36"/>
          <p:cNvSpPr/>
          <p:nvPr/>
        </p:nvSpPr>
        <p:spPr>
          <a:xfrm flipH="1">
            <a:off x="6588000" y="5661000"/>
            <a:ext cx="720720" cy="2890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1" name="Line 37"/>
          <p:cNvSpPr/>
          <p:nvPr/>
        </p:nvSpPr>
        <p:spPr>
          <a:xfrm flipH="1">
            <a:off x="6659280" y="5950080"/>
            <a:ext cx="1152360" cy="7128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A182-6481-47F8-BADC-46F88C9A6C5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ductores desnud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5" name="Text Box 13"/>
          <p:cNvSpPr/>
          <p:nvPr/>
        </p:nvSpPr>
        <p:spPr>
          <a:xfrm>
            <a:off x="250920" y="2349360"/>
            <a:ext cx="864216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nductores estándar: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3.  AAAC (all aluminum alloy conductor): No contiene núcleo de acero, aleación de aluminio de alta fortaleza 6201-T81, alta relación resistencia/peso, ofrece mayor resistencia a la corrosión que el ACSR. La resistencia DC a 20 ºC de los conductores AAAC y el ACSR estándar del mismo diámetro es aproximadamente la misma. 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4.  ACAR (Aluminum Conductor, Aluminum-Alloy Reinforced): Mezcla de hilos AAAC y AAC del mismo diámetro, excelente balance entre propiedades mecánicas y eléctricas, alta resistencia a la corrosión.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63F38-3A8F-4C27-A306-A6EDFE948F35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nductores desnudo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Arial"/>
              </a:rPr>
              <a:t>5. LÍNEAS DE TRANSMISIÓ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9" name="Text Box 4"/>
          <p:cNvSpPr/>
          <p:nvPr/>
        </p:nvSpPr>
        <p:spPr>
          <a:xfrm>
            <a:off x="250920" y="2349360"/>
            <a:ext cx="8642160" cy="18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Conductores modificados: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Incrementar: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001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Capacidad de corriente para el mismo diámetro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001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Auto-amortiguamiento para reducir las vibraciones aéreas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1001"/>
              </a:spcBef>
              <a:buClr>
                <a:srgbClr val="eaeae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Esfuerzo mecánico para reducir la catenaria de los conductores. 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00" name="Picture 5" descr="chinsaba 5001 v  687"/>
          <p:cNvPicPr/>
          <p:nvPr/>
        </p:nvPicPr>
        <p:blipFill>
          <a:blip r:embed="rId1"/>
          <a:stretch/>
        </p:blipFill>
        <p:spPr>
          <a:xfrm>
            <a:off x="108000" y="4365720"/>
            <a:ext cx="3240000" cy="2430360"/>
          </a:xfrm>
          <a:prstGeom prst="rect">
            <a:avLst/>
          </a:prstGeom>
          <a:ln w="0">
            <a:noFill/>
          </a:ln>
        </p:spPr>
      </p:pic>
      <p:sp>
        <p:nvSpPr>
          <p:cNvPr id="1201" name="Text Box 6"/>
          <p:cNvSpPr/>
          <p:nvPr/>
        </p:nvSpPr>
        <p:spPr>
          <a:xfrm>
            <a:off x="3348000" y="4768920"/>
            <a:ext cx="561672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Formas de los hilos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Grado de temple del aluminio de los hilos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Diferentes tipos de cubiertas para la protección contra la corrosión del núcleo de acero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Verdana"/>
              </a:rPr>
              <a:t>Modificación de la configuración geométrica del conductor para producir un perfil variable frente al viento</a:t>
            </a:r>
            <a:endParaRPr b="1" lang="en-US" sz="14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2" name="Text Box 7"/>
          <p:cNvSpPr/>
          <p:nvPr/>
        </p:nvSpPr>
        <p:spPr>
          <a:xfrm>
            <a:off x="3780000" y="4365720"/>
            <a:ext cx="122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aeaea"/>
                </a:solidFill>
                <a:latin typeface="Verdana"/>
              </a:rPr>
              <a:t>Cambios</a:t>
            </a:r>
            <a:endParaRPr b="1" lang="en-US" sz="1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3" name="AutoShape 8"/>
          <p:cNvSpPr/>
          <p:nvPr/>
        </p:nvSpPr>
        <p:spPr>
          <a:xfrm>
            <a:off x="7236000" y="2421000"/>
            <a:ext cx="504720" cy="1800000"/>
          </a:xfrm>
          <a:custGeom>
            <a:avLst/>
            <a:gdLst>
              <a:gd name="textAreaLeft" fmla="*/ 0 w 504720"/>
              <a:gd name="textAreaRight" fmla="*/ 182160 w 504720"/>
              <a:gd name="textAreaTop" fmla="*/ 46800 h 1800000"/>
              <a:gd name="textAreaBottom" fmla="*/ 1753200 h 18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4" name="AutoShape 10"/>
          <p:cNvSpPr/>
          <p:nvPr/>
        </p:nvSpPr>
        <p:spPr>
          <a:xfrm>
            <a:off x="7813800" y="3068640"/>
            <a:ext cx="1079280" cy="2160720"/>
          </a:xfrm>
          <a:custGeom>
            <a:avLst/>
            <a:gdLst>
              <a:gd name="textAreaLeft" fmla="*/ 144360 w 1079280"/>
              <a:gd name="textAreaRight" fmla="*/ 934920 w 1079280"/>
              <a:gd name="textAreaTop" fmla="*/ 378000 h 2160720"/>
              <a:gd name="textAreaBottom" fmla="*/ 156672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9966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4C92-7E28-45A3-BA68-CCAA26F7BBF8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206" name="Group 159"/>
          <p:cNvGrpSpPr/>
          <p:nvPr/>
        </p:nvGrpSpPr>
        <p:grpSpPr>
          <a:xfrm>
            <a:off x="179280" y="2709720"/>
            <a:ext cx="3598920" cy="3598920"/>
            <a:chOff x="179280" y="2709720"/>
            <a:chExt cx="3598920" cy="3598920"/>
          </a:xfrm>
        </p:grpSpPr>
        <p:sp>
          <p:nvSpPr>
            <p:cNvPr id="1207" name="AutoShape 13"/>
            <p:cNvSpPr/>
            <p:nvPr/>
          </p:nvSpPr>
          <p:spPr>
            <a:xfrm>
              <a:off x="179280" y="2709720"/>
              <a:ext cx="3598920" cy="3598920"/>
            </a:xfrm>
            <a:custGeom>
              <a:avLst/>
              <a:gdLst>
                <a:gd name="textAreaLeft" fmla="*/ 527040 w 3598920"/>
                <a:gd name="textAreaRight" fmla="*/ 3071880 w 3598920"/>
                <a:gd name="textAreaTop" fmla="*/ 527040 h 3598920"/>
                <a:gd name="textAreaBottom" fmla="*/ 3071880 h 359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4316" y="10800"/>
                  </a:moveTo>
                  <a:cubicBezTo>
                    <a:pt x="4316" y="14381"/>
                    <a:pt x="7219" y="17284"/>
                    <a:pt x="10800" y="17284"/>
                  </a:cubicBezTo>
                  <a:cubicBezTo>
                    <a:pt x="14381" y="17284"/>
                    <a:pt x="17284" y="14381"/>
                    <a:pt x="17284" y="10800"/>
                  </a:cubicBezTo>
                  <a:cubicBezTo>
                    <a:pt x="17284" y="7219"/>
                    <a:pt x="14381" y="4316"/>
                    <a:pt x="10800" y="4316"/>
                  </a:cubicBezTo>
                  <a:cubicBezTo>
                    <a:pt x="7219" y="4316"/>
                    <a:pt x="4316" y="7219"/>
                    <a:pt x="4316" y="10800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8" name="Oval 14"/>
            <p:cNvSpPr/>
            <p:nvPr/>
          </p:nvSpPr>
          <p:spPr>
            <a:xfrm>
              <a:off x="1379520" y="3909960"/>
              <a:ext cx="1185840" cy="1185840"/>
            </a:xfrm>
            <a:prstGeom prst="ellipse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1209" name="Group 15"/>
            <p:cNvGrpSpPr/>
            <p:nvPr/>
          </p:nvGrpSpPr>
          <p:grpSpPr>
            <a:xfrm>
              <a:off x="349200" y="2722680"/>
              <a:ext cx="3246480" cy="3560760"/>
              <a:chOff x="349200" y="2722680"/>
              <a:chExt cx="3246480" cy="3560760"/>
            </a:xfrm>
          </p:grpSpPr>
          <p:sp>
            <p:nvSpPr>
              <p:cNvPr id="1210" name="Oval 16"/>
              <p:cNvSpPr/>
              <p:nvPr/>
            </p:nvSpPr>
            <p:spPr>
              <a:xfrm>
                <a:off x="2409840" y="4496040"/>
                <a:ext cx="1185840" cy="118764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11" name="Oval 17"/>
              <p:cNvSpPr/>
              <p:nvPr/>
            </p:nvSpPr>
            <p:spPr>
              <a:xfrm>
                <a:off x="349200" y="4510440"/>
                <a:ext cx="1185840" cy="118584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12" name="Oval 18"/>
              <p:cNvSpPr/>
              <p:nvPr/>
            </p:nvSpPr>
            <p:spPr>
              <a:xfrm>
                <a:off x="1379520" y="5096160"/>
                <a:ext cx="1185840" cy="118728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13" name="Oval 19"/>
              <p:cNvSpPr/>
              <p:nvPr/>
            </p:nvSpPr>
            <p:spPr>
              <a:xfrm>
                <a:off x="2409840" y="3310200"/>
                <a:ext cx="1185840" cy="118584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14" name="Oval 20"/>
              <p:cNvSpPr/>
              <p:nvPr/>
            </p:nvSpPr>
            <p:spPr>
              <a:xfrm>
                <a:off x="349200" y="3322800"/>
                <a:ext cx="1185840" cy="118764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  <p:sp>
            <p:nvSpPr>
              <p:cNvPr id="1215" name="Oval 21"/>
              <p:cNvSpPr/>
              <p:nvPr/>
            </p:nvSpPr>
            <p:spPr>
              <a:xfrm>
                <a:off x="1379520" y="2722680"/>
                <a:ext cx="1185840" cy="1187640"/>
              </a:xfrm>
              <a:prstGeom prst="ellipse">
                <a:avLst/>
              </a:prstGeom>
              <a:gradFill rotWithShape="0">
                <a:gsLst>
                  <a:gs pos="0">
                    <a:srgbClr val="80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eaeaea"/>
                  </a:solidFill>
                  <a:latin typeface="Verdana"/>
                </a:endParaRPr>
              </a:p>
            </p:txBody>
          </p:sp>
        </p:grpSp>
        <p:sp>
          <p:nvSpPr>
            <p:cNvPr id="1216" name="Oval 22"/>
            <p:cNvSpPr/>
            <p:nvPr/>
          </p:nvSpPr>
          <p:spPr>
            <a:xfrm>
              <a:off x="179280" y="2709720"/>
              <a:ext cx="3598920" cy="359892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217" name="Group 160"/>
          <p:cNvGrpSpPr/>
          <p:nvPr/>
        </p:nvGrpSpPr>
        <p:grpSpPr>
          <a:xfrm>
            <a:off x="4790160" y="2492280"/>
            <a:ext cx="3419640" cy="3328920"/>
            <a:chOff x="4790160" y="2492280"/>
            <a:chExt cx="3419640" cy="3328920"/>
          </a:xfrm>
        </p:grpSpPr>
        <p:sp>
          <p:nvSpPr>
            <p:cNvPr id="1218" name="AutoShape 93"/>
            <p:cNvSpPr/>
            <p:nvPr/>
          </p:nvSpPr>
          <p:spPr>
            <a:xfrm>
              <a:off x="4859280" y="2492280"/>
              <a:ext cx="3276720" cy="3328920"/>
            </a:xfrm>
            <a:custGeom>
              <a:avLst/>
              <a:gdLst>
                <a:gd name="textAreaLeft" fmla="*/ 479160 w 3276720"/>
                <a:gd name="textAreaRight" fmla="*/ 2797560 w 3276720"/>
                <a:gd name="textAreaTop" fmla="*/ 487080 h 3328920"/>
                <a:gd name="textAreaBottom" fmla="*/ 2841840 h 33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1601" y="10800"/>
                  </a:moveTo>
                  <a:cubicBezTo>
                    <a:pt x="1601" y="15880"/>
                    <a:pt x="5720" y="19999"/>
                    <a:pt x="10800" y="19999"/>
                  </a:cubicBezTo>
                  <a:cubicBezTo>
                    <a:pt x="15880" y="19999"/>
                    <a:pt x="19999" y="15880"/>
                    <a:pt x="19999" y="10800"/>
                  </a:cubicBezTo>
                  <a:cubicBezTo>
                    <a:pt x="19999" y="5720"/>
                    <a:pt x="15880" y="1601"/>
                    <a:pt x="10800" y="1601"/>
                  </a:cubicBezTo>
                  <a:cubicBezTo>
                    <a:pt x="5720" y="1601"/>
                    <a:pt x="1601" y="5720"/>
                    <a:pt x="1601" y="10800"/>
                  </a:cubicBez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grpSp>
          <p:nvGrpSpPr>
            <p:cNvPr id="1219" name="Group 94"/>
            <p:cNvGrpSpPr/>
            <p:nvPr/>
          </p:nvGrpSpPr>
          <p:grpSpPr>
            <a:xfrm>
              <a:off x="4790160" y="2492280"/>
              <a:ext cx="3419640" cy="3308040"/>
              <a:chOff x="4790160" y="2492280"/>
              <a:chExt cx="3419640" cy="3308040"/>
            </a:xfrm>
          </p:grpSpPr>
          <p:grpSp>
            <p:nvGrpSpPr>
              <p:cNvPr id="1220" name="Group 95"/>
              <p:cNvGrpSpPr/>
              <p:nvPr/>
            </p:nvGrpSpPr>
            <p:grpSpPr>
              <a:xfrm>
                <a:off x="5783040" y="2492280"/>
                <a:ext cx="1419480" cy="1048320"/>
                <a:chOff x="5783040" y="2492280"/>
                <a:chExt cx="1419480" cy="1048320"/>
              </a:xfrm>
            </p:grpSpPr>
            <p:sp>
              <p:nvSpPr>
                <p:cNvPr id="1221" name="Line 96"/>
                <p:cNvSpPr/>
                <p:nvPr/>
              </p:nvSpPr>
              <p:spPr>
                <a:xfrm>
                  <a:off x="6258240" y="3540600"/>
                  <a:ext cx="45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22" name="Line 97"/>
                <p:cNvSpPr/>
                <p:nvPr/>
              </p:nvSpPr>
              <p:spPr>
                <a:xfrm flipH="1" flipV="1">
                  <a:off x="5808960" y="2939400"/>
                  <a:ext cx="295200" cy="5112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23" name="Line 98"/>
                <p:cNvSpPr/>
                <p:nvPr/>
              </p:nvSpPr>
              <p:spPr>
                <a:xfrm flipV="1">
                  <a:off x="6883920" y="2939400"/>
                  <a:ext cx="292320" cy="52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24" name="Arc 99"/>
                <p:cNvSpPr/>
                <p:nvPr/>
              </p:nvSpPr>
              <p:spPr>
                <a:xfrm>
                  <a:off x="5962680" y="2492280"/>
                  <a:ext cx="1074960" cy="293040"/>
                </a:xfrm>
                <a:custGeom>
                  <a:avLst/>
                  <a:gdLst/>
                  <a:ahLst/>
                  <a:rect l="l" t="t" r="r" b="b"/>
                  <a:pathLst>
                    <a:path fill="none" w="31578" h="21600">
                      <a:moveTo>
                        <a:pt x="0" y="6521"/>
                      </a:moveTo>
                      <a:cubicBezTo>
                        <a:pt x="4065" y="2351"/>
                        <a:pt x="9642" y="0"/>
                        <a:pt x="15466" y="0"/>
                      </a:cubicBezTo>
                      <a:cubicBezTo>
                        <a:pt x="21619" y="0"/>
                        <a:pt x="27480" y="2624"/>
                        <a:pt x="31578" y="7213"/>
                      </a:cubicBezTo>
                    </a:path>
                    <a:path stroke="0" w="31578" h="21600">
                      <a:moveTo>
                        <a:pt x="0" y="6521"/>
                      </a:moveTo>
                      <a:cubicBezTo>
                        <a:pt x="4065" y="2351"/>
                        <a:pt x="9642" y="0"/>
                        <a:pt x="15466" y="0"/>
                      </a:cubicBezTo>
                      <a:cubicBezTo>
                        <a:pt x="21619" y="0"/>
                        <a:pt x="27480" y="2624"/>
                        <a:pt x="31578" y="7213"/>
                      </a:cubicBezTo>
                      <a:lnTo>
                        <a:pt x="15466" y="21600"/>
                      </a:lnTo>
                      <a:lnTo>
                        <a:pt x="0" y="65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25" name="Arc 100"/>
                <p:cNvSpPr/>
                <p:nvPr/>
              </p:nvSpPr>
              <p:spPr>
                <a:xfrm flipH="1" flipV="1">
                  <a:off x="6104520" y="3374280"/>
                  <a:ext cx="153360" cy="165240"/>
                </a:xfrm>
                <a:custGeom>
                  <a:avLst/>
                  <a:gdLst/>
                  <a:ahLst/>
                  <a:rect l="l" t="t" r="r" b="b"/>
                  <a:pathLst>
                    <a:path fill="none" w="20548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9493" y="0"/>
                        <a:pt x="16758" y="4306"/>
                        <a:pt x="20547" y="11232"/>
                      </a:cubicBezTo>
                    </a:path>
                    <a:path stroke="0" w="20548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9493" y="0"/>
                        <a:pt x="16758" y="4306"/>
                        <a:pt x="20547" y="11232"/>
                      </a:cubicBezTo>
                      <a:lnTo>
                        <a:pt x="1599" y="2160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26" name="Arc 101"/>
                <p:cNvSpPr/>
                <p:nvPr/>
              </p:nvSpPr>
              <p:spPr>
                <a:xfrm flipV="1">
                  <a:off x="6715800" y="3374280"/>
                  <a:ext cx="167760" cy="165240"/>
                </a:xfrm>
                <a:custGeom>
                  <a:avLst/>
                  <a:gdLst/>
                  <a:ahLst/>
                  <a:rect l="l" t="t" r="r" b="b"/>
                  <a:pathLst>
                    <a:path fill="none" w="19683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8893" y="0"/>
                        <a:pt x="15694" y="3681"/>
                        <a:pt x="19683" y="9787"/>
                      </a:cubicBezTo>
                    </a:path>
                    <a:path stroke="0" w="19683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8893" y="0"/>
                        <a:pt x="15694" y="3681"/>
                        <a:pt x="19683" y="9787"/>
                      </a:cubicBezTo>
                      <a:lnTo>
                        <a:pt x="1599" y="2160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27" name="Arc 102"/>
                <p:cNvSpPr/>
                <p:nvPr/>
              </p:nvSpPr>
              <p:spPr>
                <a:xfrm flipH="1" flipV="1">
                  <a:off x="5783040" y="2579400"/>
                  <a:ext cx="257760" cy="371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</a:path>
                    <a:path stroke="0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  <a:lnTo>
                        <a:pt x="0" y="10057"/>
                      </a:lnTo>
                      <a:lnTo>
                        <a:pt x="191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28" name="Arc 103"/>
                <p:cNvSpPr/>
                <p:nvPr/>
              </p:nvSpPr>
              <p:spPr>
                <a:xfrm flipV="1">
                  <a:off x="6933240" y="2579400"/>
                  <a:ext cx="269280" cy="371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</a:path>
                    <a:path stroke="0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  <a:lnTo>
                        <a:pt x="0" y="10057"/>
                      </a:lnTo>
                      <a:lnTo>
                        <a:pt x="191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29" name="Group 104"/>
              <p:cNvGrpSpPr/>
              <p:nvPr/>
            </p:nvGrpSpPr>
            <p:grpSpPr>
              <a:xfrm>
                <a:off x="5798880" y="4752360"/>
                <a:ext cx="1419120" cy="1047960"/>
                <a:chOff x="5798880" y="4752360"/>
                <a:chExt cx="1419120" cy="1047960"/>
              </a:xfrm>
            </p:grpSpPr>
            <p:sp>
              <p:nvSpPr>
                <p:cNvPr id="1230" name="Line 105"/>
                <p:cNvSpPr/>
                <p:nvPr/>
              </p:nvSpPr>
              <p:spPr>
                <a:xfrm flipH="1">
                  <a:off x="6285600" y="4752360"/>
                  <a:ext cx="457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31" name="Line 106"/>
                <p:cNvSpPr/>
                <p:nvPr/>
              </p:nvSpPr>
              <p:spPr>
                <a:xfrm>
                  <a:off x="6896880" y="4842720"/>
                  <a:ext cx="295200" cy="510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32" name="Line 107"/>
                <p:cNvSpPr/>
                <p:nvPr/>
              </p:nvSpPr>
              <p:spPr>
                <a:xfrm flipH="1">
                  <a:off x="5825160" y="4827600"/>
                  <a:ext cx="292320" cy="525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33" name="Arc 108"/>
                <p:cNvSpPr/>
                <p:nvPr/>
              </p:nvSpPr>
              <p:spPr>
                <a:xfrm rot="10800000">
                  <a:off x="5964120" y="5507280"/>
                  <a:ext cx="1074600" cy="293040"/>
                </a:xfrm>
                <a:custGeom>
                  <a:avLst/>
                  <a:gdLst/>
                  <a:ahLst/>
                  <a:rect l="l" t="t" r="r" b="b"/>
                  <a:pathLst>
                    <a:path fill="none" w="31578" h="21600">
                      <a:moveTo>
                        <a:pt x="0" y="6521"/>
                      </a:moveTo>
                      <a:cubicBezTo>
                        <a:pt x="4065" y="2351"/>
                        <a:pt x="9642" y="0"/>
                        <a:pt x="15466" y="0"/>
                      </a:cubicBezTo>
                      <a:cubicBezTo>
                        <a:pt x="21619" y="0"/>
                        <a:pt x="27480" y="2624"/>
                        <a:pt x="31578" y="7213"/>
                      </a:cubicBezTo>
                    </a:path>
                    <a:path stroke="0" w="31578" h="21600">
                      <a:moveTo>
                        <a:pt x="0" y="6521"/>
                      </a:moveTo>
                      <a:cubicBezTo>
                        <a:pt x="4065" y="2351"/>
                        <a:pt x="9642" y="0"/>
                        <a:pt x="15466" y="0"/>
                      </a:cubicBezTo>
                      <a:cubicBezTo>
                        <a:pt x="21619" y="0"/>
                        <a:pt x="27480" y="2624"/>
                        <a:pt x="31578" y="7213"/>
                      </a:cubicBezTo>
                      <a:lnTo>
                        <a:pt x="15466" y="21600"/>
                      </a:lnTo>
                      <a:lnTo>
                        <a:pt x="0" y="65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34" name="Arc 109"/>
                <p:cNvSpPr/>
                <p:nvPr/>
              </p:nvSpPr>
              <p:spPr>
                <a:xfrm flipH="1" flipV="1" rot="10800000">
                  <a:off x="6743160" y="4752360"/>
                  <a:ext cx="153360" cy="165240"/>
                </a:xfrm>
                <a:custGeom>
                  <a:avLst/>
                  <a:gdLst/>
                  <a:ahLst/>
                  <a:rect l="l" t="t" r="r" b="b"/>
                  <a:pathLst>
                    <a:path fill="none" w="20548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9493" y="0"/>
                        <a:pt x="16758" y="4306"/>
                        <a:pt x="20547" y="11232"/>
                      </a:cubicBezTo>
                    </a:path>
                    <a:path stroke="0" w="20548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9493" y="0"/>
                        <a:pt x="16758" y="4306"/>
                        <a:pt x="20547" y="11232"/>
                      </a:cubicBezTo>
                      <a:lnTo>
                        <a:pt x="1599" y="2160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35" name="Arc 110"/>
                <p:cNvSpPr/>
                <p:nvPr/>
              </p:nvSpPr>
              <p:spPr>
                <a:xfrm flipV="1" rot="10800000">
                  <a:off x="6117480" y="4752360"/>
                  <a:ext cx="167760" cy="165240"/>
                </a:xfrm>
                <a:custGeom>
                  <a:avLst/>
                  <a:gdLst/>
                  <a:ahLst/>
                  <a:rect l="l" t="t" r="r" b="b"/>
                  <a:pathLst>
                    <a:path fill="none" w="19683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8893" y="0"/>
                        <a:pt x="15694" y="3681"/>
                        <a:pt x="19683" y="9787"/>
                      </a:cubicBezTo>
                    </a:path>
                    <a:path stroke="0" w="19683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8893" y="0"/>
                        <a:pt x="15694" y="3681"/>
                        <a:pt x="19683" y="9787"/>
                      </a:cubicBezTo>
                      <a:lnTo>
                        <a:pt x="1599" y="2160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36" name="Arc 111"/>
                <p:cNvSpPr/>
                <p:nvPr/>
              </p:nvSpPr>
              <p:spPr>
                <a:xfrm flipH="1" flipV="1" rot="10800000">
                  <a:off x="6960240" y="5342040"/>
                  <a:ext cx="257760" cy="371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</a:path>
                    <a:path stroke="0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  <a:lnTo>
                        <a:pt x="0" y="10057"/>
                      </a:lnTo>
                      <a:lnTo>
                        <a:pt x="191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37" name="Arc 112"/>
                <p:cNvSpPr/>
                <p:nvPr/>
              </p:nvSpPr>
              <p:spPr>
                <a:xfrm flipV="1" rot="10800000">
                  <a:off x="5798880" y="5342040"/>
                  <a:ext cx="269280" cy="371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</a:path>
                    <a:path stroke="0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  <a:lnTo>
                        <a:pt x="0" y="10057"/>
                      </a:lnTo>
                      <a:lnTo>
                        <a:pt x="191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38" name="Group 113"/>
              <p:cNvGrpSpPr/>
              <p:nvPr/>
            </p:nvGrpSpPr>
            <p:grpSpPr>
              <a:xfrm>
                <a:off x="6828120" y="2739600"/>
                <a:ext cx="1381680" cy="1435320"/>
                <a:chOff x="6828120" y="2739600"/>
                <a:chExt cx="1381680" cy="1435320"/>
              </a:xfrm>
            </p:grpSpPr>
            <p:sp>
              <p:nvSpPr>
                <p:cNvPr id="1239" name="Line 114"/>
                <p:cNvSpPr/>
                <p:nvPr/>
              </p:nvSpPr>
              <p:spPr>
                <a:xfrm>
                  <a:off x="6904800" y="3632400"/>
                  <a:ext cx="228960" cy="39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40" name="Line 115"/>
                <p:cNvSpPr/>
                <p:nvPr/>
              </p:nvSpPr>
              <p:spPr>
                <a:xfrm flipV="1">
                  <a:off x="6906240" y="2942280"/>
                  <a:ext cx="294480" cy="51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41" name="Line 116"/>
                <p:cNvSpPr/>
                <p:nvPr/>
              </p:nvSpPr>
              <p:spPr>
                <a:xfrm flipV="1">
                  <a:off x="7283880" y="4127760"/>
                  <a:ext cx="601200" cy="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42" name="Arc 117"/>
                <p:cNvSpPr/>
                <p:nvPr/>
              </p:nvSpPr>
              <p:spPr>
                <a:xfrm rot="3600000">
                  <a:off x="7268040" y="3244680"/>
                  <a:ext cx="1076040" cy="293040"/>
                </a:xfrm>
                <a:custGeom>
                  <a:avLst/>
                  <a:gdLst/>
                  <a:ahLst/>
                  <a:rect l="l" t="t" r="r" b="b"/>
                  <a:pathLst>
                    <a:path fill="none" w="31578" h="21600">
                      <a:moveTo>
                        <a:pt x="0" y="6521"/>
                      </a:moveTo>
                      <a:cubicBezTo>
                        <a:pt x="4065" y="2351"/>
                        <a:pt x="9642" y="0"/>
                        <a:pt x="15466" y="0"/>
                      </a:cubicBezTo>
                      <a:cubicBezTo>
                        <a:pt x="21619" y="0"/>
                        <a:pt x="27480" y="2624"/>
                        <a:pt x="31578" y="7213"/>
                      </a:cubicBezTo>
                    </a:path>
                    <a:path stroke="0" w="31578" h="21600">
                      <a:moveTo>
                        <a:pt x="0" y="6521"/>
                      </a:moveTo>
                      <a:cubicBezTo>
                        <a:pt x="4065" y="2351"/>
                        <a:pt x="9642" y="0"/>
                        <a:pt x="15466" y="0"/>
                      </a:cubicBezTo>
                      <a:cubicBezTo>
                        <a:pt x="21619" y="0"/>
                        <a:pt x="27480" y="2624"/>
                        <a:pt x="31578" y="7213"/>
                      </a:cubicBezTo>
                      <a:lnTo>
                        <a:pt x="15466" y="21600"/>
                      </a:lnTo>
                      <a:lnTo>
                        <a:pt x="0" y="65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43" name="Arc 118"/>
                <p:cNvSpPr/>
                <p:nvPr/>
              </p:nvSpPr>
              <p:spPr>
                <a:xfrm flipH="1" flipV="1" rot="3600000">
                  <a:off x="6860880" y="3440880"/>
                  <a:ext cx="153720" cy="165240"/>
                </a:xfrm>
                <a:custGeom>
                  <a:avLst/>
                  <a:gdLst/>
                  <a:ahLst/>
                  <a:rect l="l" t="t" r="r" b="b"/>
                  <a:pathLst>
                    <a:path fill="none" w="20548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9493" y="0"/>
                        <a:pt x="16758" y="4306"/>
                        <a:pt x="20547" y="11232"/>
                      </a:cubicBezTo>
                    </a:path>
                    <a:path stroke="0" w="20548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9493" y="0"/>
                        <a:pt x="16758" y="4306"/>
                        <a:pt x="20547" y="11232"/>
                      </a:cubicBezTo>
                      <a:lnTo>
                        <a:pt x="1599" y="2160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44" name="Arc 119"/>
                <p:cNvSpPr/>
                <p:nvPr/>
              </p:nvSpPr>
              <p:spPr>
                <a:xfrm flipV="1" rot="3600000">
                  <a:off x="7164000" y="3978000"/>
                  <a:ext cx="168120" cy="165240"/>
                </a:xfrm>
                <a:custGeom>
                  <a:avLst/>
                  <a:gdLst/>
                  <a:ahLst/>
                  <a:rect l="l" t="t" r="r" b="b"/>
                  <a:pathLst>
                    <a:path fill="none" w="19683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8893" y="0"/>
                        <a:pt x="15694" y="3681"/>
                        <a:pt x="19683" y="9787"/>
                      </a:cubicBezTo>
                    </a:path>
                    <a:path stroke="0" w="19683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8893" y="0"/>
                        <a:pt x="15694" y="3681"/>
                        <a:pt x="19683" y="9787"/>
                      </a:cubicBezTo>
                      <a:lnTo>
                        <a:pt x="1599" y="2160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45" name="Arc 120"/>
                <p:cNvSpPr/>
                <p:nvPr/>
              </p:nvSpPr>
              <p:spPr>
                <a:xfrm flipH="1" flipV="1" rot="3600000">
                  <a:off x="7273440" y="2757960"/>
                  <a:ext cx="258120" cy="371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</a:path>
                    <a:path stroke="0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  <a:lnTo>
                        <a:pt x="0" y="10057"/>
                      </a:lnTo>
                      <a:lnTo>
                        <a:pt x="191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46" name="Arc 121"/>
                <p:cNvSpPr/>
                <p:nvPr/>
              </p:nvSpPr>
              <p:spPr>
                <a:xfrm flipV="1" rot="3600000">
                  <a:off x="7846560" y="3760560"/>
                  <a:ext cx="269640" cy="371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</a:path>
                    <a:path stroke="0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  <a:lnTo>
                        <a:pt x="0" y="10057"/>
                      </a:lnTo>
                      <a:lnTo>
                        <a:pt x="191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47" name="Group 122"/>
              <p:cNvGrpSpPr/>
              <p:nvPr/>
            </p:nvGrpSpPr>
            <p:grpSpPr>
              <a:xfrm>
                <a:off x="6814800" y="4105440"/>
                <a:ext cx="1383480" cy="1432440"/>
                <a:chOff x="6814800" y="4105440"/>
                <a:chExt cx="1383480" cy="1432440"/>
              </a:xfrm>
            </p:grpSpPr>
            <p:sp>
              <p:nvSpPr>
                <p:cNvPr id="1248" name="Line 123"/>
                <p:cNvSpPr/>
                <p:nvPr/>
              </p:nvSpPr>
              <p:spPr>
                <a:xfrm flipH="1">
                  <a:off x="6898680" y="4238640"/>
                  <a:ext cx="229320" cy="39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49" name="Line 124"/>
                <p:cNvSpPr/>
                <p:nvPr/>
              </p:nvSpPr>
              <p:spPr>
                <a:xfrm flipV="1">
                  <a:off x="7283160" y="4149360"/>
                  <a:ext cx="590400" cy="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50" name="Line 125"/>
                <p:cNvSpPr/>
                <p:nvPr/>
              </p:nvSpPr>
              <p:spPr>
                <a:xfrm>
                  <a:off x="6879960" y="4818600"/>
                  <a:ext cx="308520" cy="516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51" name="Arc 126"/>
                <p:cNvSpPr/>
                <p:nvPr/>
              </p:nvSpPr>
              <p:spPr>
                <a:xfrm rot="7200000">
                  <a:off x="7249320" y="4752360"/>
                  <a:ext cx="1076040" cy="293040"/>
                </a:xfrm>
                <a:custGeom>
                  <a:avLst/>
                  <a:gdLst/>
                  <a:ahLst/>
                  <a:rect l="l" t="t" r="r" b="b"/>
                  <a:pathLst>
                    <a:path fill="none" w="31578" h="21600">
                      <a:moveTo>
                        <a:pt x="0" y="6521"/>
                      </a:moveTo>
                      <a:cubicBezTo>
                        <a:pt x="4065" y="2351"/>
                        <a:pt x="9642" y="0"/>
                        <a:pt x="15466" y="0"/>
                      </a:cubicBezTo>
                      <a:cubicBezTo>
                        <a:pt x="21619" y="0"/>
                        <a:pt x="27480" y="2624"/>
                        <a:pt x="31578" y="7213"/>
                      </a:cubicBezTo>
                    </a:path>
                    <a:path stroke="0" w="31578" h="21600">
                      <a:moveTo>
                        <a:pt x="0" y="6521"/>
                      </a:moveTo>
                      <a:cubicBezTo>
                        <a:pt x="4065" y="2351"/>
                        <a:pt x="9642" y="0"/>
                        <a:pt x="15466" y="0"/>
                      </a:cubicBezTo>
                      <a:cubicBezTo>
                        <a:pt x="21619" y="0"/>
                        <a:pt x="27480" y="2624"/>
                        <a:pt x="31578" y="7213"/>
                      </a:cubicBezTo>
                      <a:lnTo>
                        <a:pt x="15466" y="21600"/>
                      </a:lnTo>
                      <a:lnTo>
                        <a:pt x="0" y="65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52" name="Arc 127"/>
                <p:cNvSpPr/>
                <p:nvPr/>
              </p:nvSpPr>
              <p:spPr>
                <a:xfrm flipH="1" flipV="1" rot="7200000">
                  <a:off x="7160760" y="4129920"/>
                  <a:ext cx="153720" cy="165240"/>
                </a:xfrm>
                <a:custGeom>
                  <a:avLst/>
                  <a:gdLst/>
                  <a:ahLst/>
                  <a:rect l="l" t="t" r="r" b="b"/>
                  <a:pathLst>
                    <a:path fill="none" w="20548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9493" y="0"/>
                        <a:pt x="16758" y="4306"/>
                        <a:pt x="20547" y="11232"/>
                      </a:cubicBezTo>
                    </a:path>
                    <a:path stroke="0" w="20548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9493" y="0"/>
                        <a:pt x="16758" y="4306"/>
                        <a:pt x="20547" y="11232"/>
                      </a:cubicBezTo>
                      <a:lnTo>
                        <a:pt x="1599" y="2160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53" name="Arc 128"/>
                <p:cNvSpPr/>
                <p:nvPr/>
              </p:nvSpPr>
              <p:spPr>
                <a:xfrm flipV="1" rot="7200000">
                  <a:off x="6844320" y="4667040"/>
                  <a:ext cx="168120" cy="165240"/>
                </a:xfrm>
                <a:custGeom>
                  <a:avLst/>
                  <a:gdLst/>
                  <a:ahLst/>
                  <a:rect l="l" t="t" r="r" b="b"/>
                  <a:pathLst>
                    <a:path fill="none" w="19683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8893" y="0"/>
                        <a:pt x="15694" y="3681"/>
                        <a:pt x="19683" y="9787"/>
                      </a:cubicBezTo>
                    </a:path>
                    <a:path stroke="0" w="19683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8893" y="0"/>
                        <a:pt x="15694" y="3681"/>
                        <a:pt x="19683" y="9787"/>
                      </a:cubicBezTo>
                      <a:lnTo>
                        <a:pt x="1599" y="2160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54" name="Arc 129"/>
                <p:cNvSpPr/>
                <p:nvPr/>
              </p:nvSpPr>
              <p:spPr>
                <a:xfrm flipH="1" flipV="1" rot="7200000">
                  <a:off x="7843680" y="4139640"/>
                  <a:ext cx="258120" cy="371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</a:path>
                    <a:path stroke="0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  <a:lnTo>
                        <a:pt x="0" y="10057"/>
                      </a:lnTo>
                      <a:lnTo>
                        <a:pt x="191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55" name="Arc 130"/>
                <p:cNvSpPr/>
                <p:nvPr/>
              </p:nvSpPr>
              <p:spPr>
                <a:xfrm flipV="1" rot="7200000">
                  <a:off x="7259400" y="5141880"/>
                  <a:ext cx="269640" cy="371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</a:path>
                    <a:path stroke="0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  <a:lnTo>
                        <a:pt x="0" y="10057"/>
                      </a:lnTo>
                      <a:lnTo>
                        <a:pt x="191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56" name="Group 131"/>
              <p:cNvGrpSpPr/>
              <p:nvPr/>
            </p:nvGrpSpPr>
            <p:grpSpPr>
              <a:xfrm>
                <a:off x="4804200" y="4092840"/>
                <a:ext cx="1382040" cy="1435320"/>
                <a:chOff x="4804200" y="4092840"/>
                <a:chExt cx="1382040" cy="1435320"/>
              </a:xfrm>
            </p:grpSpPr>
            <p:sp>
              <p:nvSpPr>
                <p:cNvPr id="1257" name="Line 132"/>
                <p:cNvSpPr/>
                <p:nvPr/>
              </p:nvSpPr>
              <p:spPr>
                <a:xfrm flipH="1" flipV="1">
                  <a:off x="5880240" y="4238640"/>
                  <a:ext cx="228960" cy="396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58" name="Line 133"/>
                <p:cNvSpPr/>
                <p:nvPr/>
              </p:nvSpPr>
              <p:spPr>
                <a:xfrm flipH="1">
                  <a:off x="5813280" y="4813920"/>
                  <a:ext cx="294480" cy="511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59" name="Line 134"/>
                <p:cNvSpPr/>
                <p:nvPr/>
              </p:nvSpPr>
              <p:spPr>
                <a:xfrm flipH="1">
                  <a:off x="5128920" y="4130640"/>
                  <a:ext cx="601200" cy="9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60" name="Arc 135"/>
                <p:cNvSpPr/>
                <p:nvPr/>
              </p:nvSpPr>
              <p:spPr>
                <a:xfrm rot="14400000">
                  <a:off x="4669560" y="4729680"/>
                  <a:ext cx="1076040" cy="293040"/>
                </a:xfrm>
                <a:custGeom>
                  <a:avLst/>
                  <a:gdLst/>
                  <a:ahLst/>
                  <a:rect l="l" t="t" r="r" b="b"/>
                  <a:pathLst>
                    <a:path fill="none" w="31578" h="21600">
                      <a:moveTo>
                        <a:pt x="0" y="6521"/>
                      </a:moveTo>
                      <a:cubicBezTo>
                        <a:pt x="4065" y="2351"/>
                        <a:pt x="9642" y="0"/>
                        <a:pt x="15466" y="0"/>
                      </a:cubicBezTo>
                      <a:cubicBezTo>
                        <a:pt x="21619" y="0"/>
                        <a:pt x="27480" y="2624"/>
                        <a:pt x="31578" y="7213"/>
                      </a:cubicBezTo>
                    </a:path>
                    <a:path stroke="0" w="31578" h="21600">
                      <a:moveTo>
                        <a:pt x="0" y="6521"/>
                      </a:moveTo>
                      <a:cubicBezTo>
                        <a:pt x="4065" y="2351"/>
                        <a:pt x="9642" y="0"/>
                        <a:pt x="15466" y="0"/>
                      </a:cubicBezTo>
                      <a:cubicBezTo>
                        <a:pt x="21619" y="0"/>
                        <a:pt x="27480" y="2624"/>
                        <a:pt x="31578" y="7213"/>
                      </a:cubicBezTo>
                      <a:lnTo>
                        <a:pt x="15466" y="21600"/>
                      </a:lnTo>
                      <a:lnTo>
                        <a:pt x="0" y="652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61" name="Arc 136"/>
                <p:cNvSpPr/>
                <p:nvPr/>
              </p:nvSpPr>
              <p:spPr>
                <a:xfrm flipH="1" flipV="1" rot="14400000">
                  <a:off x="5999040" y="4660560"/>
                  <a:ext cx="153720" cy="165240"/>
                </a:xfrm>
                <a:custGeom>
                  <a:avLst/>
                  <a:gdLst/>
                  <a:ahLst/>
                  <a:rect l="l" t="t" r="r" b="b"/>
                  <a:pathLst>
                    <a:path fill="none" w="20548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9493" y="0"/>
                        <a:pt x="16758" y="4306"/>
                        <a:pt x="20547" y="11232"/>
                      </a:cubicBezTo>
                    </a:path>
                    <a:path stroke="0" w="20548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9493" y="0"/>
                        <a:pt x="16758" y="4306"/>
                        <a:pt x="20547" y="11232"/>
                      </a:cubicBezTo>
                      <a:lnTo>
                        <a:pt x="1599" y="2160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62" name="Arc 137"/>
                <p:cNvSpPr/>
                <p:nvPr/>
              </p:nvSpPr>
              <p:spPr>
                <a:xfrm flipV="1" rot="14400000">
                  <a:off x="5681880" y="4124160"/>
                  <a:ext cx="168120" cy="165240"/>
                </a:xfrm>
                <a:custGeom>
                  <a:avLst/>
                  <a:gdLst/>
                  <a:ahLst/>
                  <a:rect l="l" t="t" r="r" b="b"/>
                  <a:pathLst>
                    <a:path fill="none" w="19683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8893" y="0"/>
                        <a:pt x="15694" y="3681"/>
                        <a:pt x="19683" y="9787"/>
                      </a:cubicBezTo>
                    </a:path>
                    <a:path stroke="0" w="19683" h="21600">
                      <a:moveTo>
                        <a:pt x="0" y="59"/>
                      </a:moveTo>
                      <a:cubicBezTo>
                        <a:pt x="532" y="19"/>
                        <a:pt x="1065" y="0"/>
                        <a:pt x="1599" y="0"/>
                      </a:cubicBezTo>
                      <a:cubicBezTo>
                        <a:pt x="8893" y="0"/>
                        <a:pt x="15694" y="3681"/>
                        <a:pt x="19683" y="9787"/>
                      </a:cubicBezTo>
                      <a:lnTo>
                        <a:pt x="1599" y="2160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63" name="Arc 138"/>
                <p:cNvSpPr/>
                <p:nvPr/>
              </p:nvSpPr>
              <p:spPr>
                <a:xfrm flipH="1" flipV="1" rot="14400000">
                  <a:off x="5482080" y="5137200"/>
                  <a:ext cx="258120" cy="371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</a:path>
                    <a:path stroke="0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  <a:lnTo>
                        <a:pt x="0" y="10057"/>
                      </a:lnTo>
                      <a:lnTo>
                        <a:pt x="191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64" name="Arc 139"/>
                <p:cNvSpPr/>
                <p:nvPr/>
              </p:nvSpPr>
              <p:spPr>
                <a:xfrm flipV="1" rot="14400000">
                  <a:off x="4897800" y="4134600"/>
                  <a:ext cx="269640" cy="3715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</a:path>
                    <a:path stroke="0" w="21600" h="30849">
                      <a:moveTo>
                        <a:pt x="19115" y="0"/>
                      </a:moveTo>
                      <a:cubicBezTo>
                        <a:pt x="20747" y="3101"/>
                        <a:pt x="21600" y="6552"/>
                        <a:pt x="21600" y="10057"/>
                      </a:cubicBezTo>
                      <a:cubicBezTo>
                        <a:pt x="21600" y="19732"/>
                        <a:pt x="15166" y="28227"/>
                        <a:pt x="5852" y="30848"/>
                      </a:cubicBezTo>
                      <a:lnTo>
                        <a:pt x="0" y="10057"/>
                      </a:lnTo>
                      <a:lnTo>
                        <a:pt x="1911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265" name="Group 140"/>
              <p:cNvGrpSpPr/>
              <p:nvPr/>
            </p:nvGrpSpPr>
            <p:grpSpPr>
              <a:xfrm>
                <a:off x="4790160" y="2568600"/>
                <a:ext cx="3416400" cy="3154320"/>
                <a:chOff x="4790160" y="2568600"/>
                <a:chExt cx="3416400" cy="3154320"/>
              </a:xfrm>
            </p:grpSpPr>
            <p:sp>
              <p:nvSpPr>
                <p:cNvPr id="1266" name="Oval 141"/>
                <p:cNvSpPr/>
                <p:nvPr/>
              </p:nvSpPr>
              <p:spPr>
                <a:xfrm>
                  <a:off x="5884920" y="3517920"/>
                  <a:ext cx="1231560" cy="123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0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67" name="Freeform 142"/>
                <p:cNvSpPr/>
                <p:nvPr/>
              </p:nvSpPr>
              <p:spPr>
                <a:xfrm>
                  <a:off x="5808600" y="2568600"/>
                  <a:ext cx="1371240" cy="961920"/>
                </a:xfrm>
                <a:custGeom>
                  <a:avLst/>
                  <a:gdLst/>
                  <a:ahLst/>
                  <a:rect l="l" t="t" r="r" b="b"/>
                  <a:pathLst>
                    <a:path w="107" h="75">
                      <a:moveTo>
                        <a:pt x="11" y="2"/>
                      </a:moveTo>
                      <a:lnTo>
                        <a:pt x="18" y="0"/>
                      </a:lnTo>
                      <a:lnTo>
                        <a:pt x="93" y="2"/>
                      </a:lnTo>
                      <a:lnTo>
                        <a:pt x="107" y="27"/>
                      </a:lnTo>
                      <a:lnTo>
                        <a:pt x="83" y="70"/>
                      </a:lnTo>
                      <a:lnTo>
                        <a:pt x="71" y="75"/>
                      </a:lnTo>
                      <a:lnTo>
                        <a:pt x="34" y="75"/>
                      </a:lnTo>
                      <a:lnTo>
                        <a:pt x="24" y="69"/>
                      </a:lnTo>
                      <a:lnTo>
                        <a:pt x="0" y="28"/>
                      </a:lnTo>
                      <a:lnTo>
                        <a:pt x="6" y="8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68" name="Freeform 143"/>
                <p:cNvSpPr/>
                <p:nvPr/>
              </p:nvSpPr>
              <p:spPr>
                <a:xfrm rot="10800000">
                  <a:off x="5819400" y="4761000"/>
                  <a:ext cx="1371240" cy="961920"/>
                </a:xfrm>
                <a:custGeom>
                  <a:avLst/>
                  <a:gdLst/>
                  <a:ahLst/>
                  <a:rect l="l" t="t" r="r" b="b"/>
                  <a:pathLst>
                    <a:path w="107" h="75">
                      <a:moveTo>
                        <a:pt x="11" y="2"/>
                      </a:moveTo>
                      <a:lnTo>
                        <a:pt x="18" y="0"/>
                      </a:lnTo>
                      <a:lnTo>
                        <a:pt x="93" y="2"/>
                      </a:lnTo>
                      <a:lnTo>
                        <a:pt x="107" y="27"/>
                      </a:lnTo>
                      <a:lnTo>
                        <a:pt x="83" y="70"/>
                      </a:lnTo>
                      <a:lnTo>
                        <a:pt x="71" y="75"/>
                      </a:lnTo>
                      <a:lnTo>
                        <a:pt x="34" y="75"/>
                      </a:lnTo>
                      <a:lnTo>
                        <a:pt x="24" y="69"/>
                      </a:lnTo>
                      <a:lnTo>
                        <a:pt x="0" y="28"/>
                      </a:lnTo>
                      <a:lnTo>
                        <a:pt x="6" y="8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69" name="Freeform 144"/>
                <p:cNvSpPr/>
                <p:nvPr/>
              </p:nvSpPr>
              <p:spPr>
                <a:xfrm rot="3600000">
                  <a:off x="6759720" y="3109320"/>
                  <a:ext cx="1373400" cy="961560"/>
                </a:xfrm>
                <a:custGeom>
                  <a:avLst/>
                  <a:gdLst/>
                  <a:ahLst/>
                  <a:rect l="l" t="t" r="r" b="b"/>
                  <a:pathLst>
                    <a:path w="107" h="75">
                      <a:moveTo>
                        <a:pt x="11" y="2"/>
                      </a:moveTo>
                      <a:lnTo>
                        <a:pt x="18" y="0"/>
                      </a:lnTo>
                      <a:lnTo>
                        <a:pt x="93" y="2"/>
                      </a:lnTo>
                      <a:lnTo>
                        <a:pt x="107" y="27"/>
                      </a:lnTo>
                      <a:lnTo>
                        <a:pt x="83" y="70"/>
                      </a:lnTo>
                      <a:lnTo>
                        <a:pt x="71" y="75"/>
                      </a:lnTo>
                      <a:lnTo>
                        <a:pt x="34" y="75"/>
                      </a:lnTo>
                      <a:lnTo>
                        <a:pt x="24" y="69"/>
                      </a:lnTo>
                      <a:lnTo>
                        <a:pt x="0" y="28"/>
                      </a:lnTo>
                      <a:lnTo>
                        <a:pt x="6" y="8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grpSp>
              <p:nvGrpSpPr>
                <p:cNvPr id="1270" name="Group 145"/>
                <p:cNvGrpSpPr/>
                <p:nvPr/>
              </p:nvGrpSpPr>
              <p:grpSpPr>
                <a:xfrm>
                  <a:off x="4790160" y="2729520"/>
                  <a:ext cx="1522440" cy="1683000"/>
                  <a:chOff x="4790160" y="2729520"/>
                  <a:chExt cx="1522440" cy="1683000"/>
                </a:xfrm>
              </p:grpSpPr>
              <p:grpSp>
                <p:nvGrpSpPr>
                  <p:cNvPr id="1271" name="Group 146"/>
                  <p:cNvGrpSpPr/>
                  <p:nvPr/>
                </p:nvGrpSpPr>
                <p:grpSpPr>
                  <a:xfrm>
                    <a:off x="4790160" y="2729520"/>
                    <a:ext cx="1383480" cy="1432440"/>
                    <a:chOff x="4790160" y="2729520"/>
                    <a:chExt cx="1383480" cy="1432440"/>
                  </a:xfrm>
                </p:grpSpPr>
                <p:sp>
                  <p:nvSpPr>
                    <p:cNvPr id="1272" name="Line 147"/>
                    <p:cNvSpPr/>
                    <p:nvPr/>
                  </p:nvSpPr>
                  <p:spPr>
                    <a:xfrm flipV="1">
                      <a:off x="5860440" y="3632040"/>
                      <a:ext cx="229320" cy="396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273" name="Line 148"/>
                    <p:cNvSpPr/>
                    <p:nvPr/>
                  </p:nvSpPr>
                  <p:spPr>
                    <a:xfrm flipH="1">
                      <a:off x="5114880" y="4117320"/>
                      <a:ext cx="590400" cy="7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080" bIns="-4608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274" name="Line 149"/>
                    <p:cNvSpPr/>
                    <p:nvPr/>
                  </p:nvSpPr>
                  <p:spPr>
                    <a:xfrm flipH="1" flipV="1">
                      <a:off x="5799960" y="2932560"/>
                      <a:ext cx="308520" cy="5162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275" name="Arc 150"/>
                    <p:cNvSpPr/>
                    <p:nvPr/>
                  </p:nvSpPr>
                  <p:spPr>
                    <a:xfrm rot="18000000">
                      <a:off x="4662720" y="3221640"/>
                      <a:ext cx="1076040" cy="29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31578" h="21600">
                          <a:moveTo>
                            <a:pt x="0" y="6521"/>
                          </a:moveTo>
                          <a:cubicBezTo>
                            <a:pt x="4065" y="2351"/>
                            <a:pt x="9642" y="0"/>
                            <a:pt x="15466" y="0"/>
                          </a:cubicBezTo>
                          <a:cubicBezTo>
                            <a:pt x="21619" y="0"/>
                            <a:pt x="27480" y="2624"/>
                            <a:pt x="31578" y="7213"/>
                          </a:cubicBezTo>
                        </a:path>
                        <a:path stroke="0" w="31578" h="21600">
                          <a:moveTo>
                            <a:pt x="0" y="6521"/>
                          </a:moveTo>
                          <a:cubicBezTo>
                            <a:pt x="4065" y="2351"/>
                            <a:pt x="9642" y="0"/>
                            <a:pt x="15466" y="0"/>
                          </a:cubicBezTo>
                          <a:cubicBezTo>
                            <a:pt x="21619" y="0"/>
                            <a:pt x="27480" y="2624"/>
                            <a:pt x="31578" y="7213"/>
                          </a:cubicBezTo>
                          <a:lnTo>
                            <a:pt x="15466" y="21600"/>
                          </a:lnTo>
                          <a:lnTo>
                            <a:pt x="0" y="6521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276" name="Arc 151"/>
                    <p:cNvSpPr/>
                    <p:nvPr/>
                  </p:nvSpPr>
                  <p:spPr>
                    <a:xfrm flipH="1" flipV="1" rot="18000000">
                      <a:off x="5672880" y="3971160"/>
                      <a:ext cx="15372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0548" h="21600">
                          <a:moveTo>
                            <a:pt x="0" y="59"/>
                          </a:moveTo>
                          <a:cubicBezTo>
                            <a:pt x="532" y="19"/>
                            <a:pt x="1065" y="0"/>
                            <a:pt x="1599" y="0"/>
                          </a:cubicBezTo>
                          <a:cubicBezTo>
                            <a:pt x="9493" y="0"/>
                            <a:pt x="16758" y="4306"/>
                            <a:pt x="20547" y="11232"/>
                          </a:cubicBezTo>
                        </a:path>
                        <a:path stroke="0" w="20548" h="21600">
                          <a:moveTo>
                            <a:pt x="0" y="59"/>
                          </a:moveTo>
                          <a:cubicBezTo>
                            <a:pt x="532" y="19"/>
                            <a:pt x="1065" y="0"/>
                            <a:pt x="1599" y="0"/>
                          </a:cubicBezTo>
                          <a:cubicBezTo>
                            <a:pt x="9493" y="0"/>
                            <a:pt x="16758" y="4306"/>
                            <a:pt x="20547" y="11232"/>
                          </a:cubicBezTo>
                          <a:lnTo>
                            <a:pt x="1599" y="21600"/>
                          </a:lnTo>
                          <a:lnTo>
                            <a:pt x="0" y="5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277" name="Arc 152"/>
                    <p:cNvSpPr/>
                    <p:nvPr/>
                  </p:nvSpPr>
                  <p:spPr>
                    <a:xfrm flipV="1" rot="18000000">
                      <a:off x="5976000" y="3434760"/>
                      <a:ext cx="168120" cy="165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19683" h="21600">
                          <a:moveTo>
                            <a:pt x="0" y="59"/>
                          </a:moveTo>
                          <a:cubicBezTo>
                            <a:pt x="532" y="19"/>
                            <a:pt x="1065" y="0"/>
                            <a:pt x="1599" y="0"/>
                          </a:cubicBezTo>
                          <a:cubicBezTo>
                            <a:pt x="8893" y="0"/>
                            <a:pt x="15694" y="3681"/>
                            <a:pt x="19683" y="9787"/>
                          </a:cubicBezTo>
                        </a:path>
                        <a:path stroke="0" w="19683" h="21600">
                          <a:moveTo>
                            <a:pt x="0" y="59"/>
                          </a:moveTo>
                          <a:cubicBezTo>
                            <a:pt x="532" y="19"/>
                            <a:pt x="1065" y="0"/>
                            <a:pt x="1599" y="0"/>
                          </a:cubicBezTo>
                          <a:cubicBezTo>
                            <a:pt x="8893" y="0"/>
                            <a:pt x="15694" y="3681"/>
                            <a:pt x="19683" y="9787"/>
                          </a:cubicBezTo>
                          <a:lnTo>
                            <a:pt x="1599" y="21600"/>
                          </a:lnTo>
                          <a:lnTo>
                            <a:pt x="0" y="59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278" name="Arc 153"/>
                    <p:cNvSpPr/>
                    <p:nvPr/>
                  </p:nvSpPr>
                  <p:spPr>
                    <a:xfrm flipH="1" flipV="1" rot="18000000">
                      <a:off x="4886280" y="3755160"/>
                      <a:ext cx="258120" cy="37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30849">
                          <a:moveTo>
                            <a:pt x="19115" y="0"/>
                          </a:moveTo>
                          <a:cubicBezTo>
                            <a:pt x="20747" y="3101"/>
                            <a:pt x="21600" y="6552"/>
                            <a:pt x="21600" y="10057"/>
                          </a:cubicBezTo>
                          <a:cubicBezTo>
                            <a:pt x="21600" y="19732"/>
                            <a:pt x="15166" y="28227"/>
                            <a:pt x="5852" y="30848"/>
                          </a:cubicBezTo>
                        </a:path>
                        <a:path stroke="0" w="21600" h="30849">
                          <a:moveTo>
                            <a:pt x="19115" y="0"/>
                          </a:moveTo>
                          <a:cubicBezTo>
                            <a:pt x="20747" y="3101"/>
                            <a:pt x="21600" y="6552"/>
                            <a:pt x="21600" y="10057"/>
                          </a:cubicBezTo>
                          <a:cubicBezTo>
                            <a:pt x="21600" y="19732"/>
                            <a:pt x="15166" y="28227"/>
                            <a:pt x="5852" y="30848"/>
                          </a:cubicBezTo>
                          <a:lnTo>
                            <a:pt x="0" y="10057"/>
                          </a:lnTo>
                          <a:lnTo>
                            <a:pt x="19115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  <p:sp>
                  <p:nvSpPr>
                    <p:cNvPr id="1279" name="Arc 154"/>
                    <p:cNvSpPr/>
                    <p:nvPr/>
                  </p:nvSpPr>
                  <p:spPr>
                    <a:xfrm flipV="1" rot="18000000">
                      <a:off x="5459400" y="2752920"/>
                      <a:ext cx="269640" cy="37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30849">
                          <a:moveTo>
                            <a:pt x="19115" y="0"/>
                          </a:moveTo>
                          <a:cubicBezTo>
                            <a:pt x="20747" y="3101"/>
                            <a:pt x="21600" y="6552"/>
                            <a:pt x="21600" y="10057"/>
                          </a:cubicBezTo>
                          <a:cubicBezTo>
                            <a:pt x="21600" y="19732"/>
                            <a:pt x="15166" y="28227"/>
                            <a:pt x="5852" y="30848"/>
                          </a:cubicBezTo>
                        </a:path>
                        <a:path stroke="0" w="21600" h="30849">
                          <a:moveTo>
                            <a:pt x="19115" y="0"/>
                          </a:moveTo>
                          <a:cubicBezTo>
                            <a:pt x="20747" y="3101"/>
                            <a:pt x="21600" y="6552"/>
                            <a:pt x="21600" y="10057"/>
                          </a:cubicBezTo>
                          <a:cubicBezTo>
                            <a:pt x="21600" y="19732"/>
                            <a:pt x="15166" y="28227"/>
                            <a:pt x="5852" y="30848"/>
                          </a:cubicBezTo>
                          <a:lnTo>
                            <a:pt x="0" y="10057"/>
                          </a:lnTo>
                          <a:lnTo>
                            <a:pt x="19115" y="0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800000"/>
                        </a:gs>
                        <a:gs pos="100000">
                          <a:srgbClr val="ff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  <a:ln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p:txBody>
                </p:sp>
              </p:grpSp>
              <p:sp>
                <p:nvSpPr>
                  <p:cNvPr id="1280" name="Freeform 155"/>
                  <p:cNvSpPr/>
                  <p:nvPr/>
                </p:nvSpPr>
                <p:spPr>
                  <a:xfrm rot="18000000">
                    <a:off x="4865760" y="3096360"/>
                    <a:ext cx="1373400" cy="9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75">
                        <a:moveTo>
                          <a:pt x="11" y="2"/>
                        </a:moveTo>
                        <a:lnTo>
                          <a:pt x="18" y="0"/>
                        </a:lnTo>
                        <a:lnTo>
                          <a:pt x="93" y="2"/>
                        </a:lnTo>
                        <a:lnTo>
                          <a:pt x="107" y="27"/>
                        </a:lnTo>
                        <a:lnTo>
                          <a:pt x="83" y="70"/>
                        </a:lnTo>
                        <a:lnTo>
                          <a:pt x="71" y="75"/>
                        </a:lnTo>
                        <a:lnTo>
                          <a:pt x="34" y="75"/>
                        </a:lnTo>
                        <a:lnTo>
                          <a:pt x="24" y="69"/>
                        </a:lnTo>
                        <a:lnTo>
                          <a:pt x="0" y="28"/>
                        </a:lnTo>
                        <a:lnTo>
                          <a:pt x="6" y="8"/>
                        </a:lnTo>
                        <a:lnTo>
                          <a:pt x="11" y="2"/>
                        </a:lnTo>
                        <a:close/>
                      </a:path>
                    </a:pathLst>
                  </a:custGeom>
                  <a:blipFill rotWithShape="0">
                    <a:blip r:embed="rId4"/>
                    <a:srcRect/>
                    <a:stretch/>
                  </a:blipFill>
                  <a:ln w="324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eaeaea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281" name="Freeform 156"/>
                <p:cNvSpPr/>
                <p:nvPr/>
              </p:nvSpPr>
              <p:spPr>
                <a:xfrm rot="7200000">
                  <a:off x="6747480" y="4205880"/>
                  <a:ext cx="1373040" cy="961920"/>
                </a:xfrm>
                <a:custGeom>
                  <a:avLst/>
                  <a:gdLst/>
                  <a:ahLst/>
                  <a:rect l="l" t="t" r="r" b="b"/>
                  <a:pathLst>
                    <a:path w="107" h="75">
                      <a:moveTo>
                        <a:pt x="11" y="2"/>
                      </a:moveTo>
                      <a:lnTo>
                        <a:pt x="18" y="0"/>
                      </a:lnTo>
                      <a:lnTo>
                        <a:pt x="93" y="2"/>
                      </a:lnTo>
                      <a:lnTo>
                        <a:pt x="107" y="27"/>
                      </a:lnTo>
                      <a:lnTo>
                        <a:pt x="83" y="70"/>
                      </a:lnTo>
                      <a:lnTo>
                        <a:pt x="71" y="75"/>
                      </a:lnTo>
                      <a:lnTo>
                        <a:pt x="34" y="75"/>
                      </a:lnTo>
                      <a:lnTo>
                        <a:pt x="24" y="69"/>
                      </a:lnTo>
                      <a:lnTo>
                        <a:pt x="0" y="28"/>
                      </a:lnTo>
                      <a:lnTo>
                        <a:pt x="6" y="8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blipFill rotWithShape="0">
                  <a:blip r:embed="rId5"/>
                  <a:srcRect/>
                  <a:stretch/>
                </a:blip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  <p:sp>
              <p:nvSpPr>
                <p:cNvPr id="1282" name="Freeform 157"/>
                <p:cNvSpPr/>
                <p:nvPr/>
              </p:nvSpPr>
              <p:spPr>
                <a:xfrm rot="14400000">
                  <a:off x="4878360" y="4192920"/>
                  <a:ext cx="1373400" cy="961560"/>
                </a:xfrm>
                <a:custGeom>
                  <a:avLst/>
                  <a:gdLst/>
                  <a:ahLst/>
                  <a:rect l="l" t="t" r="r" b="b"/>
                  <a:pathLst>
                    <a:path w="107" h="75">
                      <a:moveTo>
                        <a:pt x="11" y="2"/>
                      </a:moveTo>
                      <a:lnTo>
                        <a:pt x="18" y="0"/>
                      </a:lnTo>
                      <a:lnTo>
                        <a:pt x="93" y="2"/>
                      </a:lnTo>
                      <a:lnTo>
                        <a:pt x="107" y="27"/>
                      </a:lnTo>
                      <a:lnTo>
                        <a:pt x="83" y="70"/>
                      </a:lnTo>
                      <a:lnTo>
                        <a:pt x="71" y="75"/>
                      </a:lnTo>
                      <a:lnTo>
                        <a:pt x="34" y="75"/>
                      </a:lnTo>
                      <a:lnTo>
                        <a:pt x="24" y="69"/>
                      </a:lnTo>
                      <a:lnTo>
                        <a:pt x="0" y="28"/>
                      </a:lnTo>
                      <a:lnTo>
                        <a:pt x="6" y="8"/>
                      </a:lnTo>
                      <a:lnTo>
                        <a:pt x="11" y="2"/>
                      </a:lnTo>
                      <a:close/>
                    </a:path>
                  </a:pathLst>
                </a:custGeom>
                <a:blipFill rotWithShape="0">
                  <a:blip r:embed="rId6"/>
                  <a:srcRect/>
                  <a:stretch/>
                </a:blipFill>
                <a:ln w="324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eaeaea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283" name="Oval 158"/>
            <p:cNvSpPr/>
            <p:nvPr/>
          </p:nvSpPr>
          <p:spPr>
            <a:xfrm>
              <a:off x="4859280" y="2492280"/>
              <a:ext cx="3276720" cy="3311640"/>
            </a:xfrm>
            <a:prstGeom prst="ellipse">
              <a:avLst/>
            </a:prstGeom>
            <a:noFill/>
            <a:ln cap="rnd" w="1260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E0C0-AF2F-4250-BE1B-645F11117A2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457200" y="3105000"/>
          <a:ext cx="8229600" cy="3500640"/>
        </p:xfrm>
        <a:graphic>
          <a:graphicData uri="http://schemas.openxmlformats.org/drawingml/2006/table">
            <a:tbl>
              <a:tblPr/>
              <a:tblGrid>
                <a:gridCol w="1646280"/>
                <a:gridCol w="2671560"/>
                <a:gridCol w="3911760"/>
              </a:tblGrid>
              <a:tr h="371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mponente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Descripción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jemplos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lantas de generación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Instalaciones y equipos para producir energía eléctrica mediante la transformación de otras formas de energía.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lantas hidráulicas con o sin embalse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lantas térmicas: gas, carbón, nuclear, etc. 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lantas eólicas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lantas solares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formadores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s para elevar y reducir los niveles de tensión de operación del sistema eléctrico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formadores de potencia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formadores de distribución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 de compensación reactiva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s que producen o consumen energía reactiva para control de voltaje, control de factor de potencia o estabilidad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Bancos de condensadores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Reactores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Static Var Compensation (SVC)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ndensador sincrónico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Líneas de transmisión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s para transportar energía eléctrica entre dos puntos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Líneas de transmisión, sub-transmisión, distribución.</a:t>
                      </a:r>
                      <a:endParaRPr b="1" lang="en-US" sz="12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1" name="Rectangle 29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eaeaea"/>
                </a:solidFill>
                <a:latin typeface="Verdana"/>
              </a:rPr>
              <a:t>Componentes principales: Equipos directamente relacionados con la producción, transporte y distribución de energía eléctrica</a:t>
            </a:r>
            <a:r>
              <a:rPr b="0" lang="es-ES" sz="2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1" lang="en-US" sz="2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B9B2-9CF9-4488-A7FB-63DA6149554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457200" y="1483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Equipo de corte y maniobra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4" name="Rectangle 5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865" name=""/>
          <p:cNvGraphicFramePr/>
          <p:nvPr/>
        </p:nvGraphicFramePr>
        <p:xfrm>
          <a:off x="755640" y="2587680"/>
          <a:ext cx="7416720" cy="2743200"/>
        </p:xfrm>
        <a:graphic>
          <a:graphicData uri="http://schemas.openxmlformats.org/drawingml/2006/table">
            <a:tbl>
              <a:tblPr/>
              <a:tblGrid>
                <a:gridCol w="1512720"/>
                <a:gridCol w="2664000"/>
                <a:gridCol w="32400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mponente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Descripción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jemplos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 de corte y maniobra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Realizan las maniobras de conexión y desconexión de los equipos eléctricos principales en condiciones normales de operación o bajo falla.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ueden manejar los sobrevoltajes asociados a las maniobras (switcheo) y el fenómeno del arco eléctrico.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Interruptor de potencia (circuit breaker)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Seccionador (disconnector)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Reconectadotes (Recloser)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rtacircuitos (Cut-outs)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4D6F-6712-4F25-87E0-AE006443EF5F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Verdana"/>
              </a:rPr>
              <a:t>Equipo de protección: </a:t>
            </a:r>
            <a:r>
              <a:rPr b="0" lang="es-ES" sz="2000" spc="-1" strike="noStrike">
                <a:solidFill>
                  <a:srgbClr val="eaeaea"/>
                </a:solidFill>
                <a:latin typeface="Verdana"/>
              </a:rPr>
              <a:t>No previene las fallas, su operación tiene gran efecto sobre la seguridad y estabilidad del sistema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68" name="Rectangle 4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611280" y="2924280"/>
          <a:ext cx="7921440" cy="2315880"/>
        </p:xfrm>
        <a:graphic>
          <a:graphicData uri="http://schemas.openxmlformats.org/drawingml/2006/table">
            <a:tbl>
              <a:tblPr/>
              <a:tblGrid>
                <a:gridCol w="1512720"/>
                <a:gridCol w="2589120"/>
                <a:gridCol w="38196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mponente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Descripción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jemplos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 de protección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s que detectan las fallas o condiciones anormales de operación y realizan una acción.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Lucida Sans Unicode"/>
                        <a:buAutoNum type="arabicPeriod"/>
                        <a:tabLst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Relés de protección (Relays): Poseen alguna forma de inteligencia para ejecutar su función. 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mparan los valores de una o varias señales de entrada con respecto a una referencia. Si se cumple el criterio de comparación se produce una orden de disparo o alarma.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eaeaea"/>
                        </a:buClr>
                        <a:buFont typeface="Lucida Sans Unicode"/>
                        <a:buAutoNum type="arabicPeriod"/>
                        <a:tabLst>
                          <a:tab algn="l" pos="247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ararrayos (Surge Arrester)</a:t>
                      </a:r>
                      <a:endParaRPr b="1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F99EC-0E56-4A40-BDB3-1B84D20BBF74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Equipo de medida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2" name="Rectangle 4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873" name=""/>
          <p:cNvGraphicFramePr/>
          <p:nvPr/>
        </p:nvGraphicFramePr>
        <p:xfrm>
          <a:off x="611280" y="2792520"/>
          <a:ext cx="7777080" cy="2133360"/>
        </p:xfrm>
        <a:graphic>
          <a:graphicData uri="http://schemas.openxmlformats.org/drawingml/2006/table">
            <a:tbl>
              <a:tblPr/>
              <a:tblGrid>
                <a:gridCol w="2246400"/>
                <a:gridCol w="2793960"/>
                <a:gridCol w="27367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mponente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Descripción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jemplos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 de medida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oman muestras de las señales de interés, y las convierten a señales analógicas o digitales de bajo rango. Por ejemplo, baja tensión y baja corriente (1A, 5A)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formadores de instrumentación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Medidores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Remote Terminal Unit (RTU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Analizadores de señales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B8B5F-EA3C-40B0-86F5-DB69A96D0715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Equipo de control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877" name=""/>
          <p:cNvGraphicFramePr/>
          <p:nvPr/>
        </p:nvGraphicFramePr>
        <p:xfrm>
          <a:off x="468360" y="2859120"/>
          <a:ext cx="8064360" cy="2620800"/>
        </p:xfrm>
        <a:graphic>
          <a:graphicData uri="http://schemas.openxmlformats.org/drawingml/2006/table">
            <a:tbl>
              <a:tblPr/>
              <a:tblGrid>
                <a:gridCol w="1655640"/>
                <a:gridCol w="2589120"/>
                <a:gridCol w="3819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mponente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Descripción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jemplos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 de control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ermiten controlar la operación de los equipos principales del sistema de potencia.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Regulador de velocidad (Governor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Regulador de voltaje (Excitation control, AVR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ower System Stabilizer (PSS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Control convencional (humano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rogrammable Logic Controlers (PLC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Scada, control coordinado, centro de control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Marcador de número de diapositiva 5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24D9-C57E-4802-8F1A-719B7C49C3CC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aeaea"/>
                </a:solidFill>
                <a:latin typeface="Verdana"/>
              </a:rPr>
              <a:t>Equipo de comunicacione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0" name="Rectangle 3"/>
          <p:cNvSpPr/>
          <p:nvPr/>
        </p:nvSpPr>
        <p:spPr>
          <a:xfrm>
            <a:off x="395280" y="1285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marL="838080" indent="-838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cc"/>
                </a:solidFill>
                <a:latin typeface="Arial"/>
              </a:rPr>
              <a:t>2. COMPONENTES DEL SISTEMA ELÉCTRICO DE POTENCIA</a:t>
            </a:r>
            <a:endParaRPr b="1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881" name=""/>
          <p:cNvGraphicFramePr/>
          <p:nvPr/>
        </p:nvGraphicFramePr>
        <p:xfrm>
          <a:off x="539640" y="2389320"/>
          <a:ext cx="7920000" cy="822240"/>
        </p:xfrm>
        <a:graphic>
          <a:graphicData uri="http://schemas.openxmlformats.org/drawingml/2006/table">
            <a:tbl>
              <a:tblPr/>
              <a:tblGrid>
                <a:gridCol w="1800360"/>
                <a:gridCol w="2952720"/>
                <a:gridCol w="31669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Equipo de comunicaciones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ransmisión y recepción de señales de medida, control, protección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PLC (Power Line Carrier)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aeaea"/>
                          </a:solidFill>
                          <a:latin typeface="Lucida Sans Unicode"/>
                          <a:ea typeface="Times New Roman"/>
                        </a:rPr>
                        <a:t>Teléfono, microondas, radio</a:t>
                      </a:r>
                      <a:endParaRPr b="1" lang="en-US" sz="16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2" name="Picture 70" descr="TORRE DE MICROONDAS"/>
          <p:cNvPicPr/>
          <p:nvPr/>
        </p:nvPicPr>
        <p:blipFill>
          <a:blip r:embed="rId1"/>
          <a:stretch/>
        </p:blipFill>
        <p:spPr>
          <a:xfrm>
            <a:off x="2627280" y="3284640"/>
            <a:ext cx="2592360" cy="3456000"/>
          </a:xfrm>
          <a:prstGeom prst="rect">
            <a:avLst/>
          </a:prstGeom>
          <a:ln w="0">
            <a:noFill/>
          </a:ln>
        </p:spPr>
      </p:pic>
      <p:sp>
        <p:nvSpPr>
          <p:cNvPr id="883" name="Text Box 71"/>
          <p:cNvSpPr/>
          <p:nvPr/>
        </p:nvSpPr>
        <p:spPr>
          <a:xfrm>
            <a:off x="5508720" y="436572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Verdana"/>
              </a:rPr>
              <a:t>Torre de microondas</a:t>
            </a:r>
            <a:endParaRPr b="1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blo Turmero</dc:creator>
  <dc:description/>
  <dc:language>en-US</dc:language>
  <cp:lastModifiedBy>Pablo Turmero</cp:lastModifiedBy>
  <dcterms:modified xsi:type="dcterms:W3CDTF">2015-08-09T19:55:23Z</dcterms:modified>
  <cp:revision>224</cp:revision>
  <dc:subject/>
  <dc:title/>
</cp:coreProperties>
</file>