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2AB-2736-4848-A187-650016A7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F35-2002-47C0-A586-ABC3B7E8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30EC6-B457-4AB3-80EC-E401858C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AD674-720A-43DF-95D7-9A78FCDF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903F8-8200-4715-8952-D031047B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5481D-3542-4E62-BAFA-A23CEA6D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D3748-CEA2-4ECC-890F-43E60450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25EC0-0268-417F-A9F4-34F00F4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1DAF5-37E5-4AA7-BF32-A2E915C3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9530E-A6F2-40F1-8427-77AC0216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EB10C-8780-424E-8D5C-5FF1F04A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12CA6-63A6-4D2B-B1EF-CD85D90D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E75-3810-4761-BB85-9C3EE7B4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8F598-A4C6-4CE0-8D7A-F5AF58B7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82F91-506A-4E5C-9980-4644BD56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BD7D5-B1C1-4567-B54C-5DE6EE5A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ADF27-28BE-49DD-8223-4AD93512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E847E-45EC-4204-A891-1ED5C00F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7448A-F938-4FA4-94C5-4A2FFD12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38D60-9E51-48F2-B7AF-D3397B86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CE564-8088-4359-9B48-7039262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1DE7F-E5AB-4D5C-B18C-94DD4A86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179A5-A00C-435F-9D58-27CA2348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4C2-EBFE-4B84-8F5D-6CBE69AE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3CFED-9489-4378-92D7-81B03859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A8CDD-EF69-4AEC-8B4D-4D3D744B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484DD-04C2-49AF-A744-0FBEA20B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EB079-111B-4960-9416-562E9309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9C748-A64A-48CE-9E0C-CAD301C4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618A1-2494-4F66-A961-CD05789A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8AC70-756D-47AE-82DC-0032B3C7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E5587-F2AD-477E-AB11-CC56C601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B6095-B35A-42A0-B539-0BDD627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A0E82-3D5B-425A-A765-F52AB42E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A6F0-22B2-42EB-8BD8-47F0E6AD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09DD6-DD6F-4212-BED1-C3F82BF0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D55AB-529D-4700-863F-7A5BAA47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E885D-C455-4097-8318-495B18ED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99A73-EE15-4B8B-A874-DF356BAC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EDBF2-2CBE-47A2-9D43-85D86495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5E495-74D9-40EF-BE92-AF5667C3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5719A-18B0-47A6-BF33-69812B2F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E5683-2A16-41B2-AE0E-9E6AC23F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686DF-2947-497F-B31D-6E3F316D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C4B90-AEC4-4A25-A5FC-3F4F59C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DD48-4EE0-4BC6-87F9-17FEB9B5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40E4A-6D65-497C-8EBC-BFC5AB69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92286-F6A4-49AB-B124-9459DBA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13214-A730-4F9E-BB96-AE443558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45B30-7F5D-407D-82C4-E16DF2E9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965F8-DCFD-4903-ABFA-27E12DB9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BBD78-B61F-4B18-A29C-7EBD674F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2F8EF-06C3-41AF-9F74-DD5C35C6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6CD21-C64A-46B5-BC2B-284D349A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B3E4B-1004-444E-B268-2D1423D4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D2B7F-AA75-4240-BF45-AFDC0D5E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D250-11B3-4A0E-A73B-57FBA878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2C56C-F74F-4B58-9368-851705BC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53C76-ADA5-4525-BE7E-80E844EE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3D075-5D4A-45C4-A362-D6302460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E660F-0984-4A36-9BA8-E29CCC39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57834-3408-4886-88DA-A918F7E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4DC18-F393-4445-A865-2D4393C1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73097-1EB6-4128-A549-C6D90116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D654-67FB-4D21-98F2-08225A22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8449-D72A-4942-A459-0BC42CC5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7E4B-59CF-414C-BC35-E5C194E7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7969-A0BD-4149-8899-0ECAFB5D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E83-DC91-46DD-B033-B9296ACB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AB86-690C-49F6-8BE7-BE69BE3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CB5B-2F7F-4E72-927E-2DDF37C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017C-56B9-4341-96FD-3F2DB335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41CF-5627-4A1D-95B3-C8432A54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706A-07F8-4F0F-B61E-64472F91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338F-CB89-474E-9540-DBBECE1A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6B7DB-A990-482A-91B5-D52032F4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B365-BCCA-4DCC-A139-ED50912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DA700-969B-41C0-91F1-1F42DB3C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EDBF-1F76-4A25-8899-B0A18EC6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5D6-5A81-44D0-9864-C3EA2E13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EC7B-491B-4745-9201-9EBD8C7B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D3A0-2AE5-4F51-A687-8ADED947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062B-C046-4A77-B2AD-F2425A7E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8E92F-8815-4C38-B4DC-752109C4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AAB3-ED79-47FD-AE2D-DA6B5CD9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64DC-C151-4E7C-B099-5E9DF70B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87F6-A612-490A-90CC-67D8508F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923F5-D7D6-4CF1-8067-2463882E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1156-E23D-42FB-A04A-5774B718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3BA9-FA33-48D8-A7F1-901998C0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547-319A-4499-AFC9-1D7B7EE7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A755-BECC-46A9-9AF4-0FF84F7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8E733-FF94-4B57-AE91-4941D727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B80F-CEF3-4D7F-AC72-13F30F48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39774-5F08-4CD3-9EEC-659F69D2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52B6-1596-49A3-84DD-471E1ADC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7AC9F-CE76-4121-911B-28D14E59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1786F-AB23-488A-BCB5-889B737C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70A5-32A6-405E-A9C5-CD5DB9E0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8D40D-3562-4942-BFC3-9FAB5C75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F386-49C6-4547-9EA5-CE6F9FF5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620-0159-46A8-A830-63BA18C9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10E0-51D3-4105-8790-E83B0B98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B9793-5973-4433-BCFB-C72D5306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8F9D-FE9A-4E43-89CB-B557DCE3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DD25-BCA0-4DE2-A16D-35CB5B3D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3745F-D1BC-462D-B5D4-456FA882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1C99F-70CD-4A30-9ED6-3C173E17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2319-D5B2-456D-A931-33543BD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B3621-D3AE-487B-9718-7F0FF38C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50C6E-019B-4CF7-9CA0-33FEC292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844BB-8432-4588-9038-D9C804D0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0F6-AEC8-47ED-8004-12C08988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6F1B-FAF4-4A5F-B597-6479F5A9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5EB7B-3C5E-4B85-BBB2-7D225D6C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AA615-83E7-4C18-9463-8434FDB0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52F70-B3AB-4464-A06D-78623B37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0EB4-58DC-4F8D-B78F-57C66EC8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01C6-836B-4C30-B558-FA448722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C19C-CDDB-45B9-8084-6ABDB0C2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866FD-7EA9-42B6-B56C-E775FD4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E346-ABE5-431B-A056-1648241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7BD05-52EA-47ED-AEFF-FC17313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FB3-F2DC-473D-B3DE-5E49F407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59C2D-04C0-47CC-BAD2-1369B938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E64D6-7593-4762-B5A1-858E2E27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7C75F-B074-4D44-99CC-AC1B94C7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E9A3A-75E2-4BEC-9307-41C9BEED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B51E1-9A90-4586-B0B2-0A772F57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F12E-E2FB-4C04-AD5A-57FC3CC8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D122-B906-4EFC-B8B8-83E99D7B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4FE5D-3BDA-4D08-9DE5-E60F9448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FB5FA-F759-46AE-8CF1-388CFC04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DD863-02E1-4FEB-AD44-C919099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72E-2EA2-4A7C-873A-133917B3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E2B95-A25C-4794-B6E5-582B6FF4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A68CA-5F7F-4365-9905-CC1467B1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CC832-5163-477F-833A-D09B3D2B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4E907-2DB7-4E00-ADB3-B789A4A6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72914-7BB5-4303-AEF5-895DE4F8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3771E-4938-4A1D-A451-351053AB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D9FE2-E443-49D4-987A-FEA2CA0A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3ED85-312A-4A1C-A210-5764A136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63F99-B747-4F6F-AACA-B92E7A75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C446-A867-44D4-9CD5-9B13C18F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D59-99E6-46B1-95EB-7315E6D6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3F9BD-B7AF-473F-822D-EA3AE7D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6F8B6-EC17-4BD2-B737-F8D48AAB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A072-DF34-452E-8335-13783B61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97A0B-6DCC-485F-B5A8-0C2869B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497B3-6CE2-4EC1-B251-4E402C84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3FDF6-45A2-4CF8-978E-2B04BA8E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C220F-D8B7-4780-A8E2-0ED88112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5BF6A-69B4-455F-9C19-B976818E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E9E6E-86C2-4E64-B4BA-AC4730ED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FCF62-8321-4AC0-9FAE-39776A86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C9CA-FBBC-4625-9CBE-CDBC2A4E0D5A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BE2-AC09-49B6-A7FB-57023023A9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EDA0-65DB-4088-9AED-2CDFF1755761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1521-B431-4B13-B24C-2C9A3D3293F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16C7-0304-4E47-BABF-FC17727CCF89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65C1-265F-4B86-87EE-EAC54B6F07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0016-6A8C-4C3B-A388-29994E4BE594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158F-79D5-4A1E-AC75-9FF344E694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D13-B825-4C08-9EED-AD5CFB46A249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F236-FAE3-417B-83DF-DD26435F53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6E9E-CBDF-4EB2-9DFF-6AC976F0AFD6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8083-E73E-4DEC-A3F4-983B825AF4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35C7-E44C-41E0-B501-496AC8C58F4E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8FC4-67FA-4197-BF42-5664B3F9B1F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4107-43F3-4029-811F-666A9BA68149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2CE8-0B75-4FDD-9A05-14AF5F74A1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B0F0-3D8B-44EC-A360-4BC2F3102EC7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992C-770E-490D-802C-9B4C5970B9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1EA8-3A61-47CB-9500-4CE63B0729EC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6DFF-5364-490D-AB8C-DD9E3F9313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B61D-6C50-46A7-BAC1-0566554D1C7D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6911-839E-4589-8235-96054E3C46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9C0A-2B59-4DB0-B2CF-404464F65883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525F-286A-49B9-982E-B0C869D9A8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9826-D695-4E2F-835C-F81122048DF4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60F-02EE-4121-A28F-4D8EF64486C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C7E6-26A6-4C3C-BA30-F9F298DE37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042920" y="404640"/>
            <a:ext cx="705816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108000" y="1341360"/>
            <a:ext cx="8928000" cy="4894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udio de las características de las antenas (rendimiento, ganancia, anchura de ha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o de la intensidad del campo eléctrico en un punto remoto de la antena transmis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lculo de la potencia recibida por una antena receptora lejos de la antena transmis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Marcador de número de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7AA0-FBC8-4066-9022-E51F4A9B1D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gramas de radiación de una ant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23"/>
          <p:cNvGrpSpPr/>
          <p:nvPr/>
        </p:nvGrpSpPr>
        <p:grpSpPr>
          <a:xfrm>
            <a:off x="395280" y="2205000"/>
            <a:ext cx="3671640" cy="3268080"/>
            <a:chOff x="395280" y="2205000"/>
            <a:chExt cx="3671640" cy="3268080"/>
          </a:xfrm>
        </p:grpSpPr>
        <p:sp>
          <p:nvSpPr>
            <p:cNvPr id="632" name="Text Box 20"/>
            <p:cNvSpPr/>
            <p:nvPr/>
          </p:nvSpPr>
          <p:spPr>
            <a:xfrm>
              <a:off x="1547640" y="29718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22"/>
            <p:cNvGrpSpPr/>
            <p:nvPr/>
          </p:nvGrpSpPr>
          <p:grpSpPr>
            <a:xfrm>
              <a:off x="395280" y="2205000"/>
              <a:ext cx="3671640" cy="3268080"/>
              <a:chOff x="395280" y="2205000"/>
              <a:chExt cx="3671640" cy="3268080"/>
            </a:xfrm>
          </p:grpSpPr>
          <p:grpSp>
            <p:nvGrpSpPr>
              <p:cNvPr id="634" name="Group 19"/>
              <p:cNvGrpSpPr/>
              <p:nvPr/>
            </p:nvGrpSpPr>
            <p:grpSpPr>
              <a:xfrm>
                <a:off x="395280" y="2205000"/>
                <a:ext cx="3671640" cy="3268080"/>
                <a:chOff x="395280" y="2205000"/>
                <a:chExt cx="3671640" cy="3268080"/>
              </a:xfrm>
            </p:grpSpPr>
            <p:grpSp>
              <p:nvGrpSpPr>
                <p:cNvPr id="635" name="Group 13"/>
                <p:cNvGrpSpPr/>
                <p:nvPr/>
              </p:nvGrpSpPr>
              <p:grpSpPr>
                <a:xfrm>
                  <a:off x="395280" y="2205000"/>
                  <a:ext cx="3671640" cy="3268080"/>
                  <a:chOff x="395280" y="2205000"/>
                  <a:chExt cx="3671640" cy="3268080"/>
                </a:xfrm>
              </p:grpSpPr>
              <p:sp>
                <p:nvSpPr>
                  <p:cNvPr id="636" name="Line 4"/>
                  <p:cNvSpPr/>
                  <p:nvPr/>
                </p:nvSpPr>
                <p:spPr>
                  <a:xfrm flipV="1">
                    <a:off x="1474560" y="2349000"/>
                    <a:ext cx="0" cy="1584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Line 6"/>
                  <p:cNvSpPr/>
                  <p:nvPr/>
                </p:nvSpPr>
                <p:spPr>
                  <a:xfrm>
                    <a:off x="1474560" y="3933720"/>
                    <a:ext cx="201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Line 7"/>
                  <p:cNvSpPr/>
                  <p:nvPr/>
                </p:nvSpPr>
                <p:spPr>
                  <a:xfrm flipH="1">
                    <a:off x="610560" y="3933720"/>
                    <a:ext cx="863640" cy="115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Text Box 8"/>
                  <p:cNvSpPr/>
                  <p:nvPr/>
                </p:nvSpPr>
                <p:spPr>
                  <a:xfrm>
                    <a:off x="395280" y="5013360"/>
                    <a:ext cx="776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Text Box 9"/>
                  <p:cNvSpPr/>
                  <p:nvPr/>
                </p:nvSpPr>
                <p:spPr>
                  <a:xfrm>
                    <a:off x="3419280" y="3716280"/>
                    <a:ext cx="64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Text Box 10"/>
                  <p:cNvSpPr/>
                  <p:nvPr/>
                </p:nvSpPr>
                <p:spPr>
                  <a:xfrm>
                    <a:off x="1547640" y="2205000"/>
                    <a:ext cx="720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11"/>
                  <p:cNvSpPr/>
                  <p:nvPr/>
                </p:nvSpPr>
                <p:spPr>
                  <a:xfrm>
                    <a:off x="1474560" y="3645000"/>
                    <a:ext cx="0" cy="5760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Line 12"/>
                  <p:cNvSpPr/>
                  <p:nvPr/>
                </p:nvSpPr>
                <p:spPr>
                  <a:xfrm flipV="1">
                    <a:off x="1474560" y="2781000"/>
                    <a:ext cx="1513080" cy="115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4" name="Line 14"/>
                <p:cNvSpPr/>
                <p:nvPr/>
              </p:nvSpPr>
              <p:spPr>
                <a:xfrm>
                  <a:off x="2987640" y="2781360"/>
                  <a:ext cx="0" cy="19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6"/>
                <p:cNvSpPr/>
                <p:nvPr/>
              </p:nvSpPr>
              <p:spPr>
                <a:xfrm>
                  <a:off x="1474560" y="3933720"/>
                  <a:ext cx="1513080" cy="79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7"/>
                <p:cNvSpPr/>
                <p:nvPr/>
              </p:nvSpPr>
              <p:spPr>
                <a:xfrm flipV="1">
                  <a:off x="1042920" y="4220640"/>
                  <a:ext cx="936720" cy="2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8"/>
                <p:cNvSpPr/>
                <p:nvPr/>
              </p:nvSpPr>
              <p:spPr>
                <a:xfrm>
                  <a:off x="1474560" y="3284640"/>
                  <a:ext cx="36036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8" name="Text Box 21"/>
              <p:cNvSpPr/>
              <p:nvPr/>
            </p:nvSpPr>
            <p:spPr>
              <a:xfrm>
                <a:off x="1403280" y="422100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Text Box 24"/>
          <p:cNvSpPr/>
          <p:nvPr/>
        </p:nvSpPr>
        <p:spPr>
          <a:xfrm>
            <a:off x="4067280" y="1484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grama horizontal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Object 25"/>
              <p:cNvSpPr txBox="1"/>
              <p:nvPr/>
            </p:nvSpPr>
            <p:spPr>
              <a:xfrm>
                <a:off x="4643280" y="2060640"/>
                <a:ext cx="2665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2" name="Text Box 27"/>
          <p:cNvSpPr/>
          <p:nvPr/>
        </p:nvSpPr>
        <p:spPr>
          <a:xfrm>
            <a:off x="4067280" y="354816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grama vertical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32"/>
              <p:cNvSpPr txBox="1"/>
              <p:nvPr/>
            </p:nvSpPr>
            <p:spPr>
              <a:xfrm>
                <a:off x="4788000" y="4437000"/>
                <a:ext cx="24480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0B34-EF5F-4C0B-ADED-50C0557179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9000" cy="550836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5"/>
          <p:cNvSpPr/>
          <p:nvPr/>
        </p:nvSpPr>
        <p:spPr>
          <a:xfrm>
            <a:off x="1187280" y="404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s de medidas de las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1093-CF46-48EF-B6CA-11283C319D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481960" cy="41133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5"/>
          <p:cNvSpPr/>
          <p:nvPr/>
        </p:nvSpPr>
        <p:spPr>
          <a:xfrm>
            <a:off x="1042920" y="765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mpo exterior (Out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262A-7611-486D-A895-B313AF50ED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tretch/>
        </p:blipFill>
        <p:spPr>
          <a:xfrm>
            <a:off x="241200" y="1413000"/>
            <a:ext cx="8651880" cy="45781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5"/>
          <p:cNvSpPr/>
          <p:nvPr/>
        </p:nvSpPr>
        <p:spPr>
          <a:xfrm>
            <a:off x="468360" y="404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mpo interior (Indoo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C4D8-64B5-4948-A483-45E368A42F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4" descr=""/>
          <p:cNvPicPr/>
          <p:nvPr/>
        </p:nvPicPr>
        <p:blipFill>
          <a:blip r:embed="rId1"/>
          <a:stretch/>
        </p:blipFill>
        <p:spPr>
          <a:xfrm>
            <a:off x="264960" y="1652760"/>
            <a:ext cx="8410680" cy="408132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5"/>
          <p:cNvSpPr/>
          <p:nvPr/>
        </p:nvSpPr>
        <p:spPr>
          <a:xfrm>
            <a:off x="2049840" y="54936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mpo compacto interior (In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1FD-F431-49B1-96D9-0F20D30C90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139680" y="1413000"/>
            <a:ext cx="8825040" cy="420660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5"/>
          <p:cNvSpPr/>
          <p:nvPr/>
        </p:nvSpPr>
        <p:spPr>
          <a:xfrm>
            <a:off x="971640" y="595440"/>
            <a:ext cx="69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mpo interior de medidas del campo cer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C264-2BD8-493F-A4EE-9673166ED2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801720" y="476280"/>
            <a:ext cx="75423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FA9C-827D-4E39-A09F-4ED6A31542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"/>
          <p:cNvPicPr/>
          <p:nvPr/>
        </p:nvPicPr>
        <p:blipFill>
          <a:blip r:embed="rId1"/>
          <a:stretch/>
        </p:blipFill>
        <p:spPr>
          <a:xfrm>
            <a:off x="824040" y="819000"/>
            <a:ext cx="74977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DC19-3F51-48AF-BC68-EDC6EE9F7E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"/>
          <p:cNvPicPr/>
          <p:nvPr/>
        </p:nvPicPr>
        <p:blipFill>
          <a:blip r:embed="rId1"/>
          <a:stretch/>
        </p:blipFill>
        <p:spPr>
          <a:xfrm>
            <a:off x="885960" y="819000"/>
            <a:ext cx="737388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F87E-E027-405B-B83D-1B4087B022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5453280" cy="465948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5"/>
          <p:cNvSpPr/>
          <p:nvPr/>
        </p:nvSpPr>
        <p:spPr>
          <a:xfrm>
            <a:off x="1258920" y="260280"/>
            <a:ext cx="6769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chura de h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395280" y="57992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diagrama representa el lóbulo principal y dos lóbulos secund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9155-FF36-4EF5-B85C-CB0403F630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23"/>
          <p:cNvGrpSpPr/>
          <p:nvPr/>
        </p:nvGrpSpPr>
        <p:grpSpPr>
          <a:xfrm>
            <a:off x="395280" y="2120760"/>
            <a:ext cx="8209080" cy="1238400"/>
            <a:chOff x="395280" y="2120760"/>
            <a:chExt cx="8209080" cy="1238400"/>
          </a:xfrm>
        </p:grpSpPr>
        <p:grpSp>
          <p:nvGrpSpPr>
            <p:cNvPr id="538" name="Group 21"/>
            <p:cNvGrpSpPr/>
            <p:nvPr/>
          </p:nvGrpSpPr>
          <p:grpSpPr>
            <a:xfrm>
              <a:off x="395280" y="2120760"/>
              <a:ext cx="8209080" cy="1238400"/>
              <a:chOff x="395280" y="2120760"/>
              <a:chExt cx="8209080" cy="1238400"/>
            </a:xfrm>
          </p:grpSpPr>
          <p:grpSp>
            <p:nvGrpSpPr>
              <p:cNvPr id="539" name="Group 19"/>
              <p:cNvGrpSpPr/>
              <p:nvPr/>
            </p:nvGrpSpPr>
            <p:grpSpPr>
              <a:xfrm>
                <a:off x="395280" y="2120760"/>
                <a:ext cx="8209080" cy="1085760"/>
                <a:chOff x="395280" y="2120760"/>
                <a:chExt cx="8209080" cy="1085760"/>
              </a:xfrm>
            </p:grpSpPr>
            <p:grpSp>
              <p:nvGrpSpPr>
                <p:cNvPr id="540" name="Group 17"/>
                <p:cNvGrpSpPr/>
                <p:nvPr/>
              </p:nvGrpSpPr>
              <p:grpSpPr>
                <a:xfrm>
                  <a:off x="395280" y="2342880"/>
                  <a:ext cx="7560720" cy="863640"/>
                  <a:chOff x="395280" y="2342880"/>
                  <a:chExt cx="7560720" cy="863640"/>
                </a:xfrm>
              </p:grpSpPr>
              <p:grpSp>
                <p:nvGrpSpPr>
                  <p:cNvPr id="541" name="Group 16"/>
                  <p:cNvGrpSpPr/>
                  <p:nvPr/>
                </p:nvGrpSpPr>
                <p:grpSpPr>
                  <a:xfrm>
                    <a:off x="395280" y="2342880"/>
                    <a:ext cx="7560720" cy="863640"/>
                    <a:chOff x="395280" y="2342880"/>
                    <a:chExt cx="7560720" cy="863640"/>
                  </a:xfrm>
                </p:grpSpPr>
                <p:grpSp>
                  <p:nvGrpSpPr>
                    <p:cNvPr id="542" name="Group 13"/>
                    <p:cNvGrpSpPr/>
                    <p:nvPr/>
                  </p:nvGrpSpPr>
                  <p:grpSpPr>
                    <a:xfrm>
                      <a:off x="395280" y="2342880"/>
                      <a:ext cx="7560720" cy="863640"/>
                      <a:chOff x="395280" y="2342880"/>
                      <a:chExt cx="7560720" cy="863640"/>
                    </a:xfrm>
                  </p:grpSpPr>
                  <p:grpSp>
                    <p:nvGrpSpPr>
                      <p:cNvPr id="543" name="Group 9"/>
                      <p:cNvGrpSpPr/>
                      <p:nvPr/>
                    </p:nvGrpSpPr>
                    <p:grpSpPr>
                      <a:xfrm>
                        <a:off x="395280" y="2342880"/>
                        <a:ext cx="5891400" cy="792000"/>
                        <a:chOff x="395280" y="2342880"/>
                        <a:chExt cx="5891400" cy="792000"/>
                      </a:xfrm>
                    </p:grpSpPr>
                    <p:sp>
                      <p:nvSpPr>
                        <p:cNvPr id="544" name="Rectangle 4"/>
                        <p:cNvSpPr/>
                        <p:nvPr/>
                      </p:nvSpPr>
                      <p:spPr>
                        <a:xfrm>
                          <a:off x="395280" y="2342880"/>
                          <a:ext cx="1865520" cy="7920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Rectangle 6"/>
                        <p:cNvSpPr/>
                        <p:nvPr/>
                      </p:nvSpPr>
                      <p:spPr>
                        <a:xfrm>
                          <a:off x="4421160" y="2342880"/>
                          <a:ext cx="1865520" cy="7920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Line 8"/>
                        <p:cNvSpPr/>
                        <p:nvPr/>
                      </p:nvSpPr>
                      <p:spPr>
                        <a:xfrm>
                          <a:off x="2260800" y="2701440"/>
                          <a:ext cx="21600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47" name="AutoShape 12"/>
                      <p:cNvSpPr/>
                      <p:nvPr/>
                    </p:nvSpPr>
                    <p:spPr>
                      <a:xfrm>
                        <a:off x="6483960" y="2630160"/>
                        <a:ext cx="1472040" cy="576360"/>
                      </a:xfrm>
                      <a:prstGeom prst="lightningBolt">
                        <a:avLst/>
                      </a:pr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8" name="Text Box 14"/>
                    <p:cNvSpPr/>
                    <p:nvPr/>
                  </p:nvSpPr>
                  <p:spPr>
                    <a:xfrm>
                      <a:off x="826920" y="2485800"/>
                      <a:ext cx="1081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9" name="Text Box 15"/>
                  <p:cNvSpPr/>
                  <p:nvPr/>
                </p:nvSpPr>
                <p:spPr>
                  <a:xfrm>
                    <a:off x="4500360" y="2414160"/>
                    <a:ext cx="17287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ntena Transmisor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0" name="Text Box 18"/>
                <p:cNvSpPr/>
                <p:nvPr/>
              </p:nvSpPr>
              <p:spPr>
                <a:xfrm>
                  <a:off x="6588000" y="2120760"/>
                  <a:ext cx="201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ndas E.M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20"/>
              <p:cNvSpPr/>
              <p:nvPr/>
            </p:nvSpPr>
            <p:spPr>
              <a:xfrm>
                <a:off x="2700360" y="2990880"/>
                <a:ext cx="136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Señ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2"/>
            <p:cNvSpPr/>
            <p:nvPr/>
          </p:nvSpPr>
          <p:spPr>
            <a:xfrm flipV="1">
              <a:off x="3276720" y="27748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5"/>
          <p:cNvGrpSpPr/>
          <p:nvPr/>
        </p:nvGrpSpPr>
        <p:grpSpPr>
          <a:xfrm>
            <a:off x="395280" y="4004280"/>
            <a:ext cx="8713800" cy="1802520"/>
            <a:chOff x="395280" y="4004280"/>
            <a:chExt cx="8713800" cy="1802520"/>
          </a:xfrm>
        </p:grpSpPr>
        <p:grpSp>
          <p:nvGrpSpPr>
            <p:cNvPr id="554" name="Group 33"/>
            <p:cNvGrpSpPr/>
            <p:nvPr/>
          </p:nvGrpSpPr>
          <p:grpSpPr>
            <a:xfrm>
              <a:off x="395280" y="4004280"/>
              <a:ext cx="7954560" cy="1802520"/>
              <a:chOff x="395280" y="4004280"/>
              <a:chExt cx="7954560" cy="1802520"/>
            </a:xfrm>
          </p:grpSpPr>
          <p:grpSp>
            <p:nvGrpSpPr>
              <p:cNvPr id="555" name="Group 31"/>
              <p:cNvGrpSpPr/>
              <p:nvPr/>
            </p:nvGrpSpPr>
            <p:grpSpPr>
              <a:xfrm>
                <a:off x="395280" y="4581360"/>
                <a:ext cx="6119640" cy="1225440"/>
                <a:chOff x="395280" y="4581360"/>
                <a:chExt cx="6119640" cy="1225440"/>
              </a:xfrm>
            </p:grpSpPr>
            <p:sp>
              <p:nvSpPr>
                <p:cNvPr id="556" name="Text Box 28"/>
                <p:cNvSpPr/>
                <p:nvPr/>
              </p:nvSpPr>
              <p:spPr>
                <a:xfrm>
                  <a:off x="2482920" y="5438520"/>
                  <a:ext cx="187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eñ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7" name="Group 30"/>
                <p:cNvGrpSpPr/>
                <p:nvPr/>
              </p:nvGrpSpPr>
              <p:grpSpPr>
                <a:xfrm>
                  <a:off x="395280" y="4581360"/>
                  <a:ext cx="6119640" cy="863280"/>
                  <a:chOff x="395280" y="4581360"/>
                  <a:chExt cx="6119640" cy="863280"/>
                </a:xfrm>
              </p:grpSpPr>
              <p:grpSp>
                <p:nvGrpSpPr>
                  <p:cNvPr id="558" name="Group 27"/>
                  <p:cNvGrpSpPr/>
                  <p:nvPr/>
                </p:nvGrpSpPr>
                <p:grpSpPr>
                  <a:xfrm>
                    <a:off x="395280" y="4581360"/>
                    <a:ext cx="6119640" cy="792000"/>
                    <a:chOff x="395280" y="4581360"/>
                    <a:chExt cx="6119640" cy="792000"/>
                  </a:xfrm>
                </p:grpSpPr>
                <p:grpSp>
                  <p:nvGrpSpPr>
                    <p:cNvPr id="559" name="Group 25"/>
                    <p:cNvGrpSpPr/>
                    <p:nvPr/>
                  </p:nvGrpSpPr>
                  <p:grpSpPr>
                    <a:xfrm>
                      <a:off x="395280" y="4581360"/>
                      <a:ext cx="6047640" cy="792000"/>
                      <a:chOff x="395280" y="4581360"/>
                      <a:chExt cx="6047640" cy="792000"/>
                    </a:xfrm>
                  </p:grpSpPr>
                  <p:grpSp>
                    <p:nvGrpSpPr>
                      <p:cNvPr id="560" name="Group 11"/>
                      <p:cNvGrpSpPr/>
                      <p:nvPr/>
                    </p:nvGrpSpPr>
                    <p:grpSpPr>
                      <a:xfrm>
                        <a:off x="395280" y="4581360"/>
                        <a:ext cx="6047640" cy="792000"/>
                        <a:chOff x="395280" y="4581360"/>
                        <a:chExt cx="6047640" cy="792000"/>
                      </a:xfrm>
                    </p:grpSpPr>
                    <p:sp>
                      <p:nvSpPr>
                        <p:cNvPr id="561" name="Rectangle 5"/>
                        <p:cNvSpPr/>
                        <p:nvPr/>
                      </p:nvSpPr>
                      <p:spPr>
                        <a:xfrm>
                          <a:off x="395280" y="4581360"/>
                          <a:ext cx="1767600" cy="7920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Rectangle 7"/>
                        <p:cNvSpPr/>
                        <p:nvPr/>
                      </p:nvSpPr>
                      <p:spPr>
                        <a:xfrm>
                          <a:off x="4675320" y="4581360"/>
                          <a:ext cx="1767600" cy="7920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Line 10"/>
                        <p:cNvSpPr/>
                        <p:nvPr/>
                      </p:nvSpPr>
                      <p:spPr>
                        <a:xfrm flipH="1">
                          <a:off x="2162520" y="5013000"/>
                          <a:ext cx="2512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64" name="Text Box 24"/>
                      <p:cNvSpPr/>
                      <p:nvPr/>
                    </p:nvSpPr>
                    <p:spPr>
                      <a:xfrm>
                        <a:off x="682560" y="4790880"/>
                        <a:ext cx="1224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     </a:t>
                        </a:r>
                        <a:r>
                          <a:rPr b="1" lang="es-E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x.</a:t>
                        </a:r>
                        <a:r>
                          <a:rPr b="0" lang="es-E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5" name="Text Box 26"/>
                    <p:cNvSpPr/>
                    <p:nvPr/>
                  </p:nvSpPr>
                  <p:spPr>
                    <a:xfrm>
                      <a:off x="4714920" y="4654080"/>
                      <a:ext cx="18000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a Recept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Line 29"/>
                  <p:cNvSpPr/>
                  <p:nvPr/>
                </p:nvSpPr>
                <p:spPr>
                  <a:xfrm flipV="1">
                    <a:off x="3274920" y="5084280"/>
                    <a:ext cx="0" cy="3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7" name="AutoShape 32"/>
              <p:cNvSpPr/>
              <p:nvPr/>
            </p:nvSpPr>
            <p:spPr>
              <a:xfrm rot="6725400">
                <a:off x="6911640" y="4112640"/>
                <a:ext cx="1162080" cy="1378080"/>
              </a:xfrm>
              <a:prstGeom prst="lightningBol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Text Box 34"/>
            <p:cNvSpPr/>
            <p:nvPr/>
          </p:nvSpPr>
          <p:spPr>
            <a:xfrm>
              <a:off x="6877080" y="5229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ndas E.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 Box 36"/>
          <p:cNvSpPr/>
          <p:nvPr/>
        </p:nvSpPr>
        <p:spPr>
          <a:xfrm>
            <a:off x="971640" y="692280"/>
            <a:ext cx="72738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cepto de las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BE25-9FED-41BC-A7F9-9C7AD92016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330960" cy="38732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5"/>
          <p:cNvSpPr/>
          <p:nvPr/>
        </p:nvSpPr>
        <p:spPr>
          <a:xfrm>
            <a:off x="3350160" y="404640"/>
            <a:ext cx="24483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chura de h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682560" y="5726160"/>
            <a:ext cx="79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diagrama representa el lóbulo principal y cuatro lóbulos secund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F35C-9ED3-4D3B-86F2-C2622C384F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153040" cy="456408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5"/>
          <p:cNvSpPr/>
          <p:nvPr/>
        </p:nvSpPr>
        <p:spPr>
          <a:xfrm>
            <a:off x="90000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agrama de radiación de una antena isótro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941A-C97B-4AA0-A66B-59E968DA56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91040" cy="41720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5"/>
          <p:cNvSpPr/>
          <p:nvPr/>
        </p:nvSpPr>
        <p:spPr>
          <a:xfrm>
            <a:off x="898560" y="549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agrama de radiación de una antena de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A0E4-2C09-41FD-9CE3-78B42CF1AC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4"/>
          <p:cNvGraphicFramePr/>
          <p:nvPr/>
        </p:nvGraphicFramePr>
        <p:xfrm>
          <a:off x="154080" y="1060560"/>
          <a:ext cx="88376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060560"/>
                    <a:ext cx="88376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Text Box 5"/>
          <p:cNvSpPr/>
          <p:nvPr/>
        </p:nvSpPr>
        <p:spPr>
          <a:xfrm>
            <a:off x="900000" y="333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omic Sans MS"/>
              </a:rPr>
              <a:t>Control de Lóbulos Secundarios</a:t>
            </a:r>
            <a:r>
              <a:rPr b="1" lang="es-E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Marcador de número de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AA60-8FF1-4322-A5C6-62A6069835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Distancias de me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2050920" y="1989000"/>
          <a:ext cx="4826160" cy="3878280"/>
        </p:xfrm>
        <a:graphic>
          <a:graphicData uri="http://schemas.openxmlformats.org/drawingml/2006/table">
            <a:tbl>
              <a:tblPr/>
              <a:tblGrid>
                <a:gridCol w="2378160"/>
                <a:gridCol w="2448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LL (d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,0 D</a:t>
                      </a:r>
                      <a:r>
                        <a:rPr b="0" lang="es-E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5 D</a:t>
                      </a:r>
                      <a:r>
                        <a:rPr b="0" lang="es-E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,0 D</a:t>
                      </a:r>
                      <a:r>
                        <a:rPr b="0" lang="es-E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,5 D</a:t>
                      </a:r>
                      <a:r>
                        <a:rPr b="0" lang="es-E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D</a:t>
                      </a:r>
                      <a:r>
                        <a:rPr b="0" lang="es-E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0" lang="es-ES" sz="2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Text Box 42"/>
          <p:cNvSpPr/>
          <p:nvPr/>
        </p:nvSpPr>
        <p:spPr>
          <a:xfrm>
            <a:off x="1835280" y="12621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un error de 1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FDDF-CE15-4BA5-8C23-F5E1E0EB04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7"/>
          <p:cNvGrpSpPr/>
          <p:nvPr/>
        </p:nvGrpSpPr>
        <p:grpSpPr>
          <a:xfrm>
            <a:off x="611280" y="1700280"/>
            <a:ext cx="431640" cy="3024000"/>
            <a:chOff x="611280" y="1700280"/>
            <a:chExt cx="431640" cy="3024000"/>
          </a:xfrm>
        </p:grpSpPr>
        <p:sp>
          <p:nvSpPr>
            <p:cNvPr id="700" name="Line 4"/>
            <p:cNvSpPr/>
            <p:nvPr/>
          </p:nvSpPr>
          <p:spPr>
            <a:xfrm>
              <a:off x="827280" y="1700280"/>
              <a:ext cx="0" cy="1368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5"/>
            <p:cNvSpPr/>
            <p:nvPr/>
          </p:nvSpPr>
          <p:spPr>
            <a:xfrm>
              <a:off x="827280" y="3355920"/>
              <a:ext cx="0" cy="1368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6"/>
            <p:cNvSpPr/>
            <p:nvPr/>
          </p:nvSpPr>
          <p:spPr>
            <a:xfrm>
              <a:off x="611280" y="29955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 Box 8"/>
          <p:cNvSpPr/>
          <p:nvPr/>
        </p:nvSpPr>
        <p:spPr>
          <a:xfrm>
            <a:off x="36360" y="5203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polo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10"/>
              <p:cNvSpPr txBox="1"/>
              <p:nvPr/>
            </p:nvSpPr>
            <p:spPr>
              <a:xfrm>
                <a:off x="1116000" y="3044880"/>
                <a:ext cx="1152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6" name="Picture 19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016600" cy="451476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20"/>
          <p:cNvSpPr/>
          <p:nvPr/>
        </p:nvSpPr>
        <p:spPr>
          <a:xfrm>
            <a:off x="147636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po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2BD4-A244-477A-9F0F-5E28A7351A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Object 4"/>
          <p:cNvGraphicFramePr/>
          <p:nvPr/>
        </p:nvGraphicFramePr>
        <p:xfrm>
          <a:off x="468360" y="1197000"/>
          <a:ext cx="806112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06112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Text Box 5"/>
          <p:cNvSpPr/>
          <p:nvPr/>
        </p:nvSpPr>
        <p:spPr>
          <a:xfrm>
            <a:off x="684360" y="549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polos coline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611280" y="5877000"/>
            <a:ext cx="741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La impedancia efectiva de los dos dipolos es    Z</a:t>
            </a:r>
            <a:r>
              <a:rPr b="1" lang="es-ES" sz="2000" spc="-1" strike="noStrike" baseline="-25000">
                <a:solidFill>
                  <a:srgbClr val="009999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= Z </a:t>
            </a:r>
            <a:r>
              <a:rPr b="1" lang="es-ES" sz="2000" spc="-1" strike="noStrike" baseline="-25000">
                <a:solidFill>
                  <a:srgbClr val="009999"/>
                </a:solidFill>
                <a:latin typeface="Arial"/>
              </a:rPr>
              <a:t>ant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-Z</a:t>
            </a:r>
            <a:r>
              <a:rPr b="1" lang="es-ES" sz="2000" spc="-1" strike="noStrike" baseline="-25000">
                <a:solidFill>
                  <a:srgbClr val="0099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A10D-94A6-47C2-8EE9-C9FE0C90AD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Object 5"/>
          <p:cNvGraphicFramePr/>
          <p:nvPr/>
        </p:nvGraphicFramePr>
        <p:xfrm>
          <a:off x="4500720" y="1125360"/>
          <a:ext cx="4343400" cy="51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125360"/>
                    <a:ext cx="4343400" cy="51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6"/>
          <p:cNvGraphicFramePr/>
          <p:nvPr/>
        </p:nvGraphicFramePr>
        <p:xfrm>
          <a:off x="179280" y="1700280"/>
          <a:ext cx="4294440" cy="32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700280"/>
                    <a:ext cx="42944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Text Box 8"/>
          <p:cNvSpPr/>
          <p:nvPr/>
        </p:nvSpPr>
        <p:spPr>
          <a:xfrm>
            <a:off x="61128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polos enfr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DDC2-C0A8-4251-9D38-4819ED37E0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1687680" y="620640"/>
            <a:ext cx="1228680" cy="46864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5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119320" cy="367848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6"/>
          <p:cNvSpPr/>
          <p:nvPr/>
        </p:nvSpPr>
        <p:spPr>
          <a:xfrm>
            <a:off x="826920" y="58514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ray de 4 dip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7"/>
          <p:cNvSpPr/>
          <p:nvPr/>
        </p:nvSpPr>
        <p:spPr>
          <a:xfrm>
            <a:off x="457200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na bi-c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0F60-6FC9-4210-B202-F0B4F9AD51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9"/>
          <p:cNvGrpSpPr/>
          <p:nvPr/>
        </p:nvGrpSpPr>
        <p:grpSpPr>
          <a:xfrm>
            <a:off x="539640" y="2060640"/>
            <a:ext cx="2087640" cy="2015640"/>
            <a:chOff x="539640" y="2060640"/>
            <a:chExt cx="2087640" cy="2015640"/>
          </a:xfrm>
        </p:grpSpPr>
        <p:sp>
          <p:nvSpPr>
            <p:cNvPr id="727" name="Line 10"/>
            <p:cNvSpPr/>
            <p:nvPr/>
          </p:nvSpPr>
          <p:spPr>
            <a:xfrm>
              <a:off x="1547640" y="2060640"/>
              <a:ext cx="0" cy="1642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1"/>
            <p:cNvSpPr/>
            <p:nvPr/>
          </p:nvSpPr>
          <p:spPr>
            <a:xfrm>
              <a:off x="539640" y="4076280"/>
              <a:ext cx="208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1331640" y="3702960"/>
              <a:ext cx="432000" cy="373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 Box 13"/>
          <p:cNvSpPr/>
          <p:nvPr/>
        </p:nvSpPr>
        <p:spPr>
          <a:xfrm>
            <a:off x="395280" y="465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nopolo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14"/>
              <p:cNvSpPr txBox="1"/>
              <p:nvPr/>
            </p:nvSpPr>
            <p:spPr>
              <a:xfrm>
                <a:off x="1873080" y="2565360"/>
                <a:ext cx="1330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32" name="Picture 15" descr=""/>
          <p:cNvPicPr/>
          <p:nvPr/>
        </p:nvPicPr>
        <p:blipFill>
          <a:blip r:embed="rId1"/>
          <a:stretch/>
        </p:blipFill>
        <p:spPr>
          <a:xfrm>
            <a:off x="5954760" y="981000"/>
            <a:ext cx="3009960" cy="4103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7" descr="MFJ-1868"/>
          <p:cNvPicPr/>
          <p:nvPr/>
        </p:nvPicPr>
        <p:blipFill>
          <a:blip r:embed="rId2"/>
          <a:stretch/>
        </p:blipFill>
        <p:spPr>
          <a:xfrm>
            <a:off x="3459240" y="1268280"/>
            <a:ext cx="2408040" cy="365940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18"/>
          <p:cNvSpPr/>
          <p:nvPr/>
        </p:nvSpPr>
        <p:spPr>
          <a:xfrm>
            <a:off x="3492360" y="515772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nas Disc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59DF-93A7-488B-86C8-776F8978E6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684360" y="285840"/>
            <a:ext cx="7559640" cy="1137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ísticas del elemento ra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Object 32"/>
          <p:cNvGraphicFramePr/>
          <p:nvPr/>
        </p:nvGraphicFramePr>
        <p:xfrm>
          <a:off x="395280" y="1700280"/>
          <a:ext cx="833436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833436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CEA-7A85-46E4-8F74-FF68132DF4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4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4618080" cy="572292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5"/>
          <p:cNvSpPr/>
          <p:nvPr/>
        </p:nvSpPr>
        <p:spPr>
          <a:xfrm>
            <a:off x="2771640" y="263700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5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6" descr=""/>
          <p:cNvPicPr/>
          <p:nvPr/>
        </p:nvPicPr>
        <p:blipFill>
          <a:blip r:embed="rId2"/>
          <a:stretch/>
        </p:blipFill>
        <p:spPr>
          <a:xfrm>
            <a:off x="5686560" y="1844640"/>
            <a:ext cx="2846160" cy="22338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7"/>
          <p:cNvSpPr/>
          <p:nvPr/>
        </p:nvSpPr>
        <p:spPr>
          <a:xfrm>
            <a:off x="5796000" y="4987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l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6BCB-652A-44EF-9F93-AE7F8C339B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8"/>
          <p:cNvSpPr/>
          <p:nvPr/>
        </p:nvSpPr>
        <p:spPr>
          <a:xfrm>
            <a:off x="1403280" y="333360"/>
            <a:ext cx="64087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na disc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9"/>
          <p:cNvSpPr/>
          <p:nvPr/>
        </p:nvSpPr>
        <p:spPr>
          <a:xfrm>
            <a:off x="826920" y="50133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m) = 300/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 = 0,175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 = 0,250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2" descr=""/>
          <p:cNvPicPr/>
          <p:nvPr/>
        </p:nvPicPr>
        <p:blipFill>
          <a:blip r:embed="rId1"/>
          <a:stretch/>
        </p:blipFill>
        <p:spPr>
          <a:xfrm>
            <a:off x="5497560" y="1125360"/>
            <a:ext cx="3379680" cy="4607280"/>
          </a:xfrm>
          <a:prstGeom prst="rect">
            <a:avLst/>
          </a:prstGeom>
          <a:ln w="0">
            <a:noFill/>
          </a:ln>
        </p:spPr>
      </p:pic>
      <p:grpSp>
        <p:nvGrpSpPr>
          <p:cNvPr id="744" name="Group 44"/>
          <p:cNvGrpSpPr/>
          <p:nvPr/>
        </p:nvGrpSpPr>
        <p:grpSpPr>
          <a:xfrm>
            <a:off x="468000" y="1125360"/>
            <a:ext cx="4032720" cy="3960000"/>
            <a:chOff x="468000" y="1125360"/>
            <a:chExt cx="4032720" cy="3960000"/>
          </a:xfrm>
        </p:grpSpPr>
        <p:grpSp>
          <p:nvGrpSpPr>
            <p:cNvPr id="745" name="Group 24"/>
            <p:cNvGrpSpPr/>
            <p:nvPr/>
          </p:nvGrpSpPr>
          <p:grpSpPr>
            <a:xfrm>
              <a:off x="468000" y="1125360"/>
              <a:ext cx="4032720" cy="3960000"/>
              <a:chOff x="468000" y="1125360"/>
              <a:chExt cx="4032720" cy="3960000"/>
            </a:xfrm>
          </p:grpSpPr>
          <p:grpSp>
            <p:nvGrpSpPr>
              <p:cNvPr id="746" name="Group 25"/>
              <p:cNvGrpSpPr/>
              <p:nvPr/>
            </p:nvGrpSpPr>
            <p:grpSpPr>
              <a:xfrm>
                <a:off x="468000" y="1125360"/>
                <a:ext cx="4032720" cy="3960000"/>
                <a:chOff x="468000" y="1125360"/>
                <a:chExt cx="4032720" cy="3960000"/>
              </a:xfrm>
            </p:grpSpPr>
            <p:grpSp>
              <p:nvGrpSpPr>
                <p:cNvPr id="747" name="Group 26"/>
                <p:cNvGrpSpPr/>
                <p:nvPr/>
              </p:nvGrpSpPr>
              <p:grpSpPr>
                <a:xfrm>
                  <a:off x="468000" y="1125360"/>
                  <a:ext cx="3888000" cy="3960000"/>
                  <a:chOff x="468000" y="1125360"/>
                  <a:chExt cx="3888000" cy="3960000"/>
                </a:xfrm>
              </p:grpSpPr>
              <p:grpSp>
                <p:nvGrpSpPr>
                  <p:cNvPr id="748" name="Group 27"/>
                  <p:cNvGrpSpPr/>
                  <p:nvPr/>
                </p:nvGrpSpPr>
                <p:grpSpPr>
                  <a:xfrm>
                    <a:off x="468000" y="1485720"/>
                    <a:ext cx="3888000" cy="3599640"/>
                    <a:chOff x="468000" y="1485720"/>
                    <a:chExt cx="3888000" cy="3599640"/>
                  </a:xfrm>
                </p:grpSpPr>
                <p:grpSp>
                  <p:nvGrpSpPr>
                    <p:cNvPr id="749" name="Group 28"/>
                    <p:cNvGrpSpPr/>
                    <p:nvPr/>
                  </p:nvGrpSpPr>
                  <p:grpSpPr>
                    <a:xfrm>
                      <a:off x="468000" y="1630080"/>
                      <a:ext cx="3745080" cy="3455280"/>
                      <a:chOff x="468000" y="1630080"/>
                      <a:chExt cx="3745080" cy="3455280"/>
                    </a:xfrm>
                  </p:grpSpPr>
                  <p:grpSp>
                    <p:nvGrpSpPr>
                      <p:cNvPr id="750" name="Group 29"/>
                      <p:cNvGrpSpPr/>
                      <p:nvPr/>
                    </p:nvGrpSpPr>
                    <p:grpSpPr>
                      <a:xfrm>
                        <a:off x="468000" y="1630080"/>
                        <a:ext cx="3745080" cy="3455280"/>
                        <a:chOff x="468000" y="1630080"/>
                        <a:chExt cx="3745080" cy="3455280"/>
                      </a:xfrm>
                    </p:grpSpPr>
                    <p:grpSp>
                      <p:nvGrpSpPr>
                        <p:cNvPr id="751" name="Group 30"/>
                        <p:cNvGrpSpPr/>
                        <p:nvPr/>
                      </p:nvGrpSpPr>
                      <p:grpSpPr>
                        <a:xfrm>
                          <a:off x="761040" y="1630080"/>
                          <a:ext cx="3011040" cy="217800"/>
                          <a:chOff x="761040" y="1630080"/>
                          <a:chExt cx="3011040" cy="217800"/>
                        </a:xfrm>
                      </p:grpSpPr>
                      <p:sp>
                        <p:nvSpPr>
                          <p:cNvPr id="752" name="Rectangle 31"/>
                          <p:cNvSpPr/>
                          <p:nvPr/>
                        </p:nvSpPr>
                        <p:spPr>
                          <a:xfrm>
                            <a:off x="761040" y="1630080"/>
                            <a:ext cx="3011040" cy="73080"/>
                          </a:xfrm>
                          <a:prstGeom prst="rect">
                            <a:avLst/>
                          </a:prstGeom>
                          <a:solidFill>
                            <a:srgbClr val="bbe0e3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6280" bIns="2628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3" name="Rectangle 32"/>
                          <p:cNvSpPr/>
                          <p:nvPr/>
                        </p:nvSpPr>
                        <p:spPr>
                          <a:xfrm>
                            <a:off x="2230920" y="1775520"/>
                            <a:ext cx="219960" cy="72360"/>
                          </a:xfrm>
                          <a:prstGeom prst="rect">
                            <a:avLst/>
                          </a:prstGeom>
                          <a:solidFill>
                            <a:srgbClr val="bbe0e3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54" name="Line 33"/>
                        <p:cNvSpPr/>
                        <p:nvPr/>
                      </p:nvSpPr>
                      <p:spPr>
                        <a:xfrm flipH="1">
                          <a:off x="468000" y="1850400"/>
                          <a:ext cx="1762920" cy="31604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5" name="Line 34"/>
                        <p:cNvSpPr/>
                        <p:nvPr/>
                      </p:nvSpPr>
                      <p:spPr>
                        <a:xfrm>
                          <a:off x="2451600" y="1850400"/>
                          <a:ext cx="1761480" cy="3234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56" name="Line 35"/>
                      <p:cNvSpPr/>
                      <p:nvPr/>
                    </p:nvSpPr>
                    <p:spPr>
                      <a:xfrm>
                        <a:off x="2340000" y="1850400"/>
                        <a:ext cx="0" cy="808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7" name="Line 36"/>
                    <p:cNvSpPr/>
                    <p:nvPr/>
                  </p:nvSpPr>
                  <p:spPr>
                    <a:xfrm>
                      <a:off x="755640" y="1485720"/>
                      <a:ext cx="302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Line 37"/>
                    <p:cNvSpPr/>
                    <p:nvPr/>
                  </p:nvSpPr>
                  <p:spPr>
                    <a:xfrm flipV="1">
                      <a:off x="2340000" y="2062080"/>
                      <a:ext cx="216000" cy="7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Line 38"/>
                    <p:cNvSpPr/>
                    <p:nvPr/>
                  </p:nvSpPr>
                  <p:spPr>
                    <a:xfrm>
                      <a:off x="2627280" y="1846080"/>
                      <a:ext cx="1728720" cy="3168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0" name="Text Box 39"/>
                  <p:cNvSpPr/>
                  <p:nvPr/>
                </p:nvSpPr>
                <p:spPr>
                  <a:xfrm>
                    <a:off x="1403280" y="1125360"/>
                    <a:ext cx="180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1" name="Text Box 40"/>
                <p:cNvSpPr/>
                <p:nvPr/>
              </p:nvSpPr>
              <p:spPr>
                <a:xfrm>
                  <a:off x="3349800" y="2998440"/>
                  <a:ext cx="1150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Text Box 41"/>
              <p:cNvSpPr/>
              <p:nvPr/>
            </p:nvSpPr>
            <p:spPr>
              <a:xfrm>
                <a:off x="2340000" y="2062080"/>
                <a:ext cx="7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" name="Rectangle 43"/>
            <p:cNvSpPr/>
            <p:nvPr/>
          </p:nvSpPr>
          <p:spPr>
            <a:xfrm>
              <a:off x="2195640" y="1700280"/>
              <a:ext cx="287280" cy="73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785C-6041-4E4C-AE48-CBDC6EB656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95280" y="42861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quisitos para la propagación en el espacio libre para enlaces terre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- Corta distancia entre el transmisor y el receptor (menor que 30 k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- Antenas con una altura mayor que 100m para enlaces terrest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4"/>
          <p:cNvSpPr/>
          <p:nvPr/>
        </p:nvSpPr>
        <p:spPr>
          <a:xfrm>
            <a:off x="1781280" y="331920"/>
            <a:ext cx="61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pagación en el espacio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18"/>
          <p:cNvGrpSpPr/>
          <p:nvPr/>
        </p:nvGrpSpPr>
        <p:grpSpPr>
          <a:xfrm>
            <a:off x="1042920" y="1413000"/>
            <a:ext cx="7129440" cy="2022120"/>
            <a:chOff x="1042920" y="1413000"/>
            <a:chExt cx="7129440" cy="2022120"/>
          </a:xfrm>
        </p:grpSpPr>
        <p:grpSp>
          <p:nvGrpSpPr>
            <p:cNvPr id="768" name="Group 13"/>
            <p:cNvGrpSpPr/>
            <p:nvPr/>
          </p:nvGrpSpPr>
          <p:grpSpPr>
            <a:xfrm>
              <a:off x="1042920" y="1413000"/>
              <a:ext cx="7129440" cy="2022120"/>
              <a:chOff x="1042920" y="1413000"/>
              <a:chExt cx="7129440" cy="2022120"/>
            </a:xfrm>
          </p:grpSpPr>
          <p:grpSp>
            <p:nvGrpSpPr>
              <p:cNvPr id="769" name="Group 11"/>
              <p:cNvGrpSpPr/>
              <p:nvPr/>
            </p:nvGrpSpPr>
            <p:grpSpPr>
              <a:xfrm>
                <a:off x="1042920" y="1413000"/>
                <a:ext cx="7129440" cy="2022120"/>
                <a:chOff x="1042920" y="1413000"/>
                <a:chExt cx="7129440" cy="2022120"/>
              </a:xfrm>
            </p:grpSpPr>
            <p:grpSp>
              <p:nvGrpSpPr>
                <p:cNvPr id="770" name="Group 9"/>
                <p:cNvGrpSpPr/>
                <p:nvPr/>
              </p:nvGrpSpPr>
              <p:grpSpPr>
                <a:xfrm>
                  <a:off x="1042920" y="1779480"/>
                  <a:ext cx="6624720" cy="1655640"/>
                  <a:chOff x="1042920" y="1779480"/>
                  <a:chExt cx="6624720" cy="1655640"/>
                </a:xfrm>
              </p:grpSpPr>
              <p:sp>
                <p:nvSpPr>
                  <p:cNvPr id="771" name="Line 6"/>
                  <p:cNvSpPr/>
                  <p:nvPr/>
                </p:nvSpPr>
                <p:spPr>
                  <a:xfrm flipV="1">
                    <a:off x="1042920" y="3363840"/>
                    <a:ext cx="662472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Line 7"/>
                  <p:cNvSpPr/>
                  <p:nvPr/>
                </p:nvSpPr>
                <p:spPr>
                  <a:xfrm flipV="1">
                    <a:off x="1403280" y="1779480"/>
                    <a:ext cx="0" cy="165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Line 8"/>
                  <p:cNvSpPr/>
                  <p:nvPr/>
                </p:nvSpPr>
                <p:spPr>
                  <a:xfrm flipV="1">
                    <a:off x="7307280" y="1779840"/>
                    <a:ext cx="0" cy="158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4" name="Text Box 10"/>
                <p:cNvSpPr/>
                <p:nvPr/>
              </p:nvSpPr>
              <p:spPr>
                <a:xfrm>
                  <a:off x="1042920" y="1413000"/>
                  <a:ext cx="7129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Transmisor                                                                         Recep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"/>
              <p:cNvSpPr/>
              <p:nvPr/>
            </p:nvSpPr>
            <p:spPr>
              <a:xfrm>
                <a:off x="1476360" y="1852920"/>
                <a:ext cx="57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Text Box 16"/>
            <p:cNvSpPr/>
            <p:nvPr/>
          </p:nvSpPr>
          <p:spPr>
            <a:xfrm>
              <a:off x="1906560" y="2356200"/>
              <a:ext cx="48243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ponente de propagación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37C4-58A9-4850-A207-7C2FE8ABCD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333399"/>
                </a:solidFill>
                <a:latin typeface="Comic Sans MS"/>
              </a:rPr>
              <a:t>Campo eléctrico en condiciones de espacio libre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17"/>
          <p:cNvGrpSpPr/>
          <p:nvPr/>
        </p:nvGrpSpPr>
        <p:grpSpPr>
          <a:xfrm>
            <a:off x="684360" y="1125360"/>
            <a:ext cx="7127640" cy="877680"/>
            <a:chOff x="684360" y="1125360"/>
            <a:chExt cx="7127640" cy="877680"/>
          </a:xfrm>
        </p:grpSpPr>
        <mc:AlternateContent>
          <mc:Choice xmlns:a14="http://schemas.microsoft.com/office/drawing/2010/main" Requires="a14">
            <p:sp>
              <p:nvSpPr>
                <p:cNvPr id="781" name="Object 5"/>
                <p:cNvSpPr txBox="1"/>
                <p:nvPr/>
              </p:nvSpPr>
              <p:spPr>
                <a:xfrm>
                  <a:off x="4643280" y="1125360"/>
                  <a:ext cx="316872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3</m:t>
                      </m:r>
                      <m:r>
                        <m:t xml:space="preserve">,</m:t>
                      </m:r>
                      <m:r>
                        <m:t xml:space="preserve">2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W</m:t>
                              </m:r>
                              <m:r>
                                <m:t xml:space="preserve">)</m:t>
                              </m:r>
                            </m:e>
                          </m:rad>
                        </m:num>
                        <m:den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km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82" name="Text Box 7"/>
            <p:cNvSpPr/>
            <p:nvPr/>
          </p:nvSpPr>
          <p:spPr>
            <a:xfrm>
              <a:off x="684360" y="1341000"/>
              <a:ext cx="31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ntena isótro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2"/>
          <p:cNvSpPr/>
          <p:nvPr/>
        </p:nvSpPr>
        <p:spPr>
          <a:xfrm>
            <a:off x="0" y="47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250920" y="4076640"/>
            <a:ext cx="820872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 = Campo eléc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 = potenci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 = distancia entre el transmisor y 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nt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= ganancia de la antena transmis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re = potencia isótropa radiada equivalente (W) o 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RE = Potencia Isótropa Radiada Equivalente (dBW) o (d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18"/>
          <p:cNvGrpSpPr/>
          <p:nvPr/>
        </p:nvGrpSpPr>
        <p:grpSpPr>
          <a:xfrm>
            <a:off x="684360" y="2205000"/>
            <a:ext cx="7559640" cy="1854360"/>
            <a:chOff x="684360" y="2205000"/>
            <a:chExt cx="7559640" cy="1854360"/>
          </a:xfrm>
        </p:grpSpPr>
        <p:sp>
          <p:nvSpPr>
            <p:cNvPr id="787" name="Text Box 10"/>
            <p:cNvSpPr/>
            <p:nvPr/>
          </p:nvSpPr>
          <p:spPr>
            <a:xfrm>
              <a:off x="684360" y="29242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tras ante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Group 16"/>
            <p:cNvGrpSpPr/>
            <p:nvPr/>
          </p:nvGrpSpPr>
          <p:grpSpPr>
            <a:xfrm>
              <a:off x="4643280" y="2205000"/>
              <a:ext cx="3600720" cy="1854360"/>
              <a:chOff x="4643280" y="2205000"/>
              <a:chExt cx="3600720" cy="1854360"/>
            </a:xfrm>
          </p:grpSpPr>
          <mc:AlternateContent>
            <mc:Choice xmlns:a14="http://schemas.microsoft.com/office/drawing/2010/main" Requires="a14">
              <p:sp>
                <p:nvSpPr>
                  <p:cNvPr id="789" name="Object 8"/>
                  <p:cNvSpPr txBox="1"/>
                  <p:nvPr/>
                </p:nvSpPr>
                <p:spPr>
                  <a:xfrm>
                    <a:off x="4643280" y="2205000"/>
                    <a:ext cx="3600720" cy="86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t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0" name="Object 14"/>
                  <p:cNvSpPr txBox="1"/>
                  <p:nvPr/>
                </p:nvSpPr>
                <p:spPr>
                  <a:xfrm>
                    <a:off x="4643280" y="3213360"/>
                    <a:ext cx="3473640" cy="84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ire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91" name="AutoShape 15"/>
            <p:cNvSpPr/>
            <p:nvPr/>
          </p:nvSpPr>
          <p:spPr>
            <a:xfrm>
              <a:off x="4067280" y="2637000"/>
              <a:ext cx="217440" cy="115236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1A3-67F5-43A3-AF28-908C93C4C4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684360" y="47628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omic Sans MS"/>
              </a:rPr>
              <a:t>Campo eléctrico en condiciones de espacio libr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755640" y="249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polo el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6"/>
              <p:cNvSpPr txBox="1"/>
              <p:nvPr/>
            </p:nvSpPr>
            <p:spPr>
              <a:xfrm>
                <a:off x="4356000" y="1687680"/>
                <a:ext cx="3876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  <m:r>
                      <m:t xml:space="preserve">,</m:t>
                    </m:r>
                    <m:r>
                      <m:t xml:space="preserve">2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7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8"/>
              <p:cNvSpPr txBox="1"/>
              <p:nvPr/>
            </p:nvSpPr>
            <p:spPr>
              <a:xfrm>
                <a:off x="4356000" y="2924280"/>
                <a:ext cx="352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9" name="Rectangle 10"/>
          <p:cNvSpPr/>
          <p:nvPr/>
        </p:nvSpPr>
        <p:spPr>
          <a:xfrm>
            <a:off x="767520" y="5059440"/>
            <a:ext cx="20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polo en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11"/>
              <p:cNvSpPr txBox="1"/>
              <p:nvPr/>
            </p:nvSpPr>
            <p:spPr>
              <a:xfrm>
                <a:off x="4297320" y="4316400"/>
                <a:ext cx="3998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  <m:r>
                      <m:t xml:space="preserve">,</m:t>
                    </m:r>
                    <m:r>
                      <m:t xml:space="preserve">2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2" name="Rectangle 1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13"/>
              <p:cNvSpPr txBox="1"/>
              <p:nvPr/>
            </p:nvSpPr>
            <p:spPr>
              <a:xfrm>
                <a:off x="4356000" y="5386320"/>
                <a:ext cx="31687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2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AutoShape 15"/>
          <p:cNvSpPr/>
          <p:nvPr/>
        </p:nvSpPr>
        <p:spPr>
          <a:xfrm>
            <a:off x="3995640" y="220500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6"/>
          <p:cNvSpPr/>
          <p:nvPr/>
        </p:nvSpPr>
        <p:spPr>
          <a:xfrm>
            <a:off x="3995640" y="472428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88A2-D46D-4F0C-844D-78CC87789C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621000" y="12682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nopolo en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5"/>
              <p:cNvSpPr txBox="1"/>
              <p:nvPr/>
            </p:nvSpPr>
            <p:spPr>
              <a:xfrm>
                <a:off x="5076720" y="1052640"/>
                <a:ext cx="3167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0" name="Rectangle 7"/>
          <p:cNvSpPr/>
          <p:nvPr/>
        </p:nvSpPr>
        <p:spPr>
          <a:xfrm>
            <a:off x="610920" y="242100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nopolo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Object 8"/>
              <p:cNvSpPr txBox="1"/>
              <p:nvPr/>
            </p:nvSpPr>
            <p:spPr>
              <a:xfrm>
                <a:off x="5076720" y="2205000"/>
                <a:ext cx="31687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3" name="Text Box 10"/>
          <p:cNvSpPr/>
          <p:nvPr/>
        </p:nvSpPr>
        <p:spPr>
          <a:xfrm>
            <a:off x="611280" y="32130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ras antenas con potencia 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2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66560" y="573408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A = Potencia Radiada Aparente  (dBW) o (dBmW = d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>
            <a:off x="612720" y="411120"/>
            <a:ext cx="77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omic Sans MS"/>
              </a:rPr>
              <a:t>Campo eléctrico en condiciones de espacio libre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9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Object 18"/>
              <p:cNvSpPr txBox="1"/>
              <p:nvPr/>
            </p:nvSpPr>
            <p:spPr>
              <a:xfrm>
                <a:off x="5740560" y="5013360"/>
                <a:ext cx="24667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a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0" name="Rectangle 20"/>
          <p:cNvSpPr/>
          <p:nvPr/>
        </p:nvSpPr>
        <p:spPr>
          <a:xfrm>
            <a:off x="461880" y="508464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a = potencia radiada aparente (W) o 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21"/>
              <p:cNvSpPr txBox="1"/>
              <p:nvPr/>
            </p:nvSpPr>
            <p:spPr>
              <a:xfrm>
                <a:off x="3276720" y="6237360"/>
                <a:ext cx="2160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r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28"/>
              <p:cNvSpPr txBox="1"/>
              <p:nvPr/>
            </p:nvSpPr>
            <p:spPr>
              <a:xfrm>
                <a:off x="611280" y="3994200"/>
                <a:ext cx="7947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r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2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0402-ED3C-442A-8336-DFC173D877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147636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omic Sans MS"/>
              </a:rPr>
              <a:t>Potencia recibid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755640" y="2205000"/>
            <a:ext cx="79930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la densidad del flujo de potencia recib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eq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la superficie equivalente de la antena recept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Object 8"/>
              <p:cNvSpPr txBox="1"/>
              <p:nvPr/>
            </p:nvSpPr>
            <p:spPr>
              <a:xfrm>
                <a:off x="900000" y="3789360"/>
                <a:ext cx="2360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9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10"/>
              <p:cNvSpPr txBox="1"/>
              <p:nvPr/>
            </p:nvSpPr>
            <p:spPr>
              <a:xfrm>
                <a:off x="4788000" y="3797280"/>
                <a:ext cx="30272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1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14"/>
              <p:cNvSpPr txBox="1"/>
              <p:nvPr/>
            </p:nvSpPr>
            <p:spPr>
              <a:xfrm>
                <a:off x="1116000" y="907920"/>
                <a:ext cx="41385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4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16"/>
              <p:cNvSpPr txBox="1"/>
              <p:nvPr/>
            </p:nvSpPr>
            <p:spPr>
              <a:xfrm>
                <a:off x="1757520" y="5232240"/>
                <a:ext cx="4830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Bm</m:t>
                        </m:r>
                      </m:e>
                    </m:d>
                    <m:r>
                      <m:t xml:space="preserve">−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B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18"/>
              <p:cNvSpPr txBox="1"/>
              <p:nvPr/>
            </p:nvSpPr>
            <p:spPr>
              <a:xfrm>
                <a:off x="1670040" y="6095880"/>
                <a:ext cx="4989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BW</m:t>
                        </m:r>
                      </m:e>
                    </m:d>
                    <m:r>
                      <m:t xml:space="preserve">−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B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4C0-4BA4-4F2D-83FB-E226358B1A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4" descr=""/>
          <p:cNvPicPr/>
          <p:nvPr/>
        </p:nvPicPr>
        <p:blipFill>
          <a:blip r:embed="rId1"/>
          <a:stretch/>
        </p:blipFill>
        <p:spPr>
          <a:xfrm>
            <a:off x="216000" y="836640"/>
            <a:ext cx="8316720" cy="535464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5"/>
          <p:cNvSpPr/>
          <p:nvPr/>
        </p:nvSpPr>
        <p:spPr>
          <a:xfrm>
            <a:off x="2050920" y="2602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aper en Ant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2C93-9296-4FDC-AAC9-76AC73362E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Object 4"/>
          <p:cNvGraphicFramePr/>
          <p:nvPr/>
        </p:nvGraphicFramePr>
        <p:xfrm>
          <a:off x="826920" y="765000"/>
          <a:ext cx="774576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4576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A6EE-73C4-43A5-A829-6ADB4404A5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4"/>
          <p:cNvGraphicFramePr/>
          <p:nvPr/>
        </p:nvGraphicFramePr>
        <p:xfrm>
          <a:off x="768240" y="776160"/>
          <a:ext cx="7608960" cy="530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776160"/>
                    <a:ext cx="760896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91E8-B1A1-4C22-B829-9D64CB3C92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749160" y="561960"/>
          <a:ext cx="764712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61960"/>
                    <a:ext cx="764712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1A0A-F96D-4E94-BD5D-61CA6F0CB2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Object 4"/>
          <p:cNvGraphicFramePr/>
          <p:nvPr/>
        </p:nvGraphicFramePr>
        <p:xfrm>
          <a:off x="755640" y="692280"/>
          <a:ext cx="7626240" cy="53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62624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6C74-F125-452F-9F54-9B38882943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468360" y="404640"/>
            <a:ext cx="849636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es generales de los campos electromagnétos en el espacio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826920" y="1557360"/>
            <a:ext cx="73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edancia característica del medio Z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6"/>
              <p:cNvSpPr txBox="1"/>
              <p:nvPr/>
            </p:nvSpPr>
            <p:spPr>
              <a:xfrm>
                <a:off x="2843280" y="2349360"/>
                <a:ext cx="3124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2" name="Text Box 8"/>
          <p:cNvSpPr/>
          <p:nvPr/>
        </p:nvSpPr>
        <p:spPr>
          <a:xfrm>
            <a:off x="826920" y="32130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locidad de la onda electromagnética v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9"/>
              <p:cNvSpPr txBox="1"/>
              <p:nvPr/>
            </p:nvSpPr>
            <p:spPr>
              <a:xfrm>
                <a:off x="3059280" y="4005360"/>
                <a:ext cx="1800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11"/>
              <p:cNvSpPr txBox="1"/>
              <p:nvPr/>
            </p:nvSpPr>
            <p:spPr>
              <a:xfrm>
                <a:off x="755640" y="5138640"/>
                <a:ext cx="2124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7" name="Rectangle 1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13"/>
              <p:cNvSpPr txBox="1"/>
              <p:nvPr/>
            </p:nvSpPr>
            <p:spPr>
              <a:xfrm>
                <a:off x="5292720" y="4797360"/>
                <a:ext cx="22892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9" name="Text Box 15"/>
          <p:cNvSpPr/>
          <p:nvPr/>
        </p:nvSpPr>
        <p:spPr>
          <a:xfrm>
            <a:off x="2700360" y="5924520"/>
            <a:ext cx="29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3.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m/s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Marca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A64-42F4-48C1-9728-1A7E21CED4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1474920" y="260280"/>
            <a:ext cx="554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anancia de una ant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8"/>
          <p:cNvGrpSpPr/>
          <p:nvPr/>
        </p:nvGrpSpPr>
        <p:grpSpPr>
          <a:xfrm>
            <a:off x="36360" y="1195560"/>
            <a:ext cx="9144000" cy="4178160"/>
            <a:chOff x="36360" y="1195560"/>
            <a:chExt cx="9144000" cy="4178160"/>
          </a:xfrm>
        </p:grpSpPr>
        <p:sp>
          <p:nvSpPr>
            <p:cNvPr id="603" name="Text Box 23"/>
            <p:cNvSpPr/>
            <p:nvPr/>
          </p:nvSpPr>
          <p:spPr>
            <a:xfrm>
              <a:off x="6661080" y="3186360"/>
              <a:ext cx="86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37"/>
            <p:cNvGrpSpPr/>
            <p:nvPr/>
          </p:nvGrpSpPr>
          <p:grpSpPr>
            <a:xfrm>
              <a:off x="36360" y="1195560"/>
              <a:ext cx="9144000" cy="4178160"/>
              <a:chOff x="36360" y="1195560"/>
              <a:chExt cx="9144000" cy="4178160"/>
            </a:xfrm>
          </p:grpSpPr>
          <p:sp>
            <p:nvSpPr>
              <p:cNvPr id="605" name="Text Box 22"/>
              <p:cNvSpPr/>
              <p:nvPr/>
            </p:nvSpPr>
            <p:spPr>
              <a:xfrm>
                <a:off x="6588000" y="2132280"/>
                <a:ext cx="151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36"/>
              <p:cNvGrpSpPr/>
              <p:nvPr/>
            </p:nvGrpSpPr>
            <p:grpSpPr>
              <a:xfrm>
                <a:off x="36360" y="1195560"/>
                <a:ext cx="9144000" cy="4178160"/>
                <a:chOff x="36360" y="1195560"/>
                <a:chExt cx="9144000" cy="4178160"/>
              </a:xfrm>
            </p:grpSpPr>
            <p:sp>
              <p:nvSpPr>
                <p:cNvPr id="607" name="Text Box 9"/>
                <p:cNvSpPr/>
                <p:nvPr/>
              </p:nvSpPr>
              <p:spPr>
                <a:xfrm>
                  <a:off x="1763640" y="1195560"/>
                  <a:ext cx="172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Re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Group 35"/>
                <p:cNvGrpSpPr/>
                <p:nvPr/>
              </p:nvGrpSpPr>
              <p:grpSpPr>
                <a:xfrm>
                  <a:off x="36360" y="1700280"/>
                  <a:ext cx="9144000" cy="3673440"/>
                  <a:chOff x="36360" y="1700280"/>
                  <a:chExt cx="9144000" cy="3673440"/>
                </a:xfrm>
              </p:grpSpPr>
              <p:sp>
                <p:nvSpPr>
                  <p:cNvPr id="609" name="Text Box 15"/>
                  <p:cNvSpPr/>
                  <p:nvPr/>
                </p:nvSpPr>
                <p:spPr>
                  <a:xfrm>
                    <a:off x="395280" y="3691080"/>
                    <a:ext cx="4103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   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Antena bajo estudi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34"/>
                  <p:cNvGrpSpPr/>
                  <p:nvPr/>
                </p:nvGrpSpPr>
                <p:grpSpPr>
                  <a:xfrm>
                    <a:off x="36360" y="1700280"/>
                    <a:ext cx="9144000" cy="3673440"/>
                    <a:chOff x="36360" y="1700280"/>
                    <a:chExt cx="9144000" cy="3673440"/>
                  </a:xfrm>
                </p:grpSpPr>
                <p:sp>
                  <p:nvSpPr>
                    <p:cNvPr id="611" name="Text Box 19"/>
                    <p:cNvSpPr/>
                    <p:nvPr/>
                  </p:nvSpPr>
                  <p:spPr>
                    <a:xfrm>
                      <a:off x="5437080" y="4075200"/>
                      <a:ext cx="352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a recept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12" name="Group 33"/>
                    <p:cNvGrpSpPr/>
                    <p:nvPr/>
                  </p:nvGrpSpPr>
                  <p:grpSpPr>
                    <a:xfrm>
                      <a:off x="36360" y="1700280"/>
                      <a:ext cx="9144000" cy="3673440"/>
                      <a:chOff x="36360" y="1700280"/>
                      <a:chExt cx="9144000" cy="3673440"/>
                    </a:xfrm>
                  </p:grpSpPr>
                  <p:grpSp>
                    <p:nvGrpSpPr>
                      <p:cNvPr id="613" name="Group 18"/>
                      <p:cNvGrpSpPr/>
                      <p:nvPr/>
                    </p:nvGrpSpPr>
                    <p:grpSpPr>
                      <a:xfrm>
                        <a:off x="7020000" y="2708280"/>
                        <a:ext cx="1008000" cy="1297080"/>
                        <a:chOff x="7020000" y="2708280"/>
                        <a:chExt cx="1008000" cy="1297080"/>
                      </a:xfrm>
                    </p:grpSpPr>
                    <p:sp>
                      <p:nvSpPr>
                        <p:cNvPr id="614" name="Oval 16"/>
                        <p:cNvSpPr/>
                        <p:nvPr/>
                      </p:nvSpPr>
                      <p:spPr>
                        <a:xfrm>
                          <a:off x="7020000" y="2708280"/>
                          <a:ext cx="1008000" cy="360360"/>
                        </a:xfrm>
                        <a:prstGeom prst="ellipse">
                          <a:avLst/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Line 17"/>
                        <p:cNvSpPr/>
                        <p:nvPr/>
                      </p:nvSpPr>
                      <p:spPr>
                        <a:xfrm>
                          <a:off x="7523280" y="3068640"/>
                          <a:ext cx="0" cy="93672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6" name="Group 32"/>
                      <p:cNvGrpSpPr/>
                      <p:nvPr/>
                    </p:nvGrpSpPr>
                    <p:grpSpPr>
                      <a:xfrm>
                        <a:off x="36360" y="1700280"/>
                        <a:ext cx="9144000" cy="3673440"/>
                        <a:chOff x="36360" y="1700280"/>
                        <a:chExt cx="9144000" cy="3673440"/>
                      </a:xfrm>
                    </p:grpSpPr>
                    <p:grpSp>
                      <p:nvGrpSpPr>
                        <p:cNvPr id="617" name="Group 8"/>
                        <p:cNvGrpSpPr/>
                        <p:nvPr/>
                      </p:nvGrpSpPr>
                      <p:grpSpPr>
                        <a:xfrm>
                          <a:off x="1295280" y="1700280"/>
                          <a:ext cx="1225440" cy="1224000"/>
                          <a:chOff x="1295280" y="1700280"/>
                          <a:chExt cx="1225440" cy="1224000"/>
                        </a:xfrm>
                      </p:grpSpPr>
                      <p:sp>
                        <p:nvSpPr>
                          <p:cNvPr id="618" name="Line 6"/>
                          <p:cNvSpPr/>
                          <p:nvPr/>
                        </p:nvSpPr>
                        <p:spPr>
                          <a:xfrm flipV="1">
                            <a:off x="2520720" y="1700280"/>
                            <a:ext cx="0" cy="12240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9" name="Line 7"/>
                          <p:cNvSpPr/>
                          <p:nvPr/>
                        </p:nvSpPr>
                        <p:spPr>
                          <a:xfrm flipH="1">
                            <a:off x="1295280" y="2924280"/>
                            <a:ext cx="122544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0" name="Group 14"/>
                        <p:cNvGrpSpPr/>
                        <p:nvPr/>
                      </p:nvGrpSpPr>
                      <p:grpSpPr>
                        <a:xfrm>
                          <a:off x="1152360" y="4221360"/>
                          <a:ext cx="1582560" cy="1152360"/>
                          <a:chOff x="1152360" y="4221360"/>
                          <a:chExt cx="1582560" cy="1152360"/>
                        </a:xfrm>
                      </p:grpSpPr>
                      <p:sp>
                        <p:nvSpPr>
                          <p:cNvPr id="621" name="Rectangle 10"/>
                          <p:cNvSpPr/>
                          <p:nvPr/>
                        </p:nvSpPr>
                        <p:spPr>
                          <a:xfrm>
                            <a:off x="2158920" y="4221360"/>
                            <a:ext cx="576000" cy="216000"/>
                          </a:xfrm>
                          <a:prstGeom prst="rect">
                            <a:avLst/>
                          </a:prstGeom>
                          <a:solidFill>
                            <a:srgbClr val="bbe0e3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22" name="Group 13"/>
                          <p:cNvGrpSpPr/>
                          <p:nvPr/>
                        </p:nvGrpSpPr>
                        <p:grpSpPr>
                          <a:xfrm>
                            <a:off x="1152360" y="4437360"/>
                            <a:ext cx="1295280" cy="936360"/>
                            <a:chOff x="1152360" y="4437360"/>
                            <a:chExt cx="1295280" cy="936360"/>
                          </a:xfrm>
                        </p:grpSpPr>
                        <p:sp>
                          <p:nvSpPr>
                            <p:cNvPr id="623" name="Line 11"/>
                            <p:cNvSpPr/>
                            <p:nvPr/>
                          </p:nvSpPr>
                          <p:spPr>
                            <a:xfrm>
                              <a:off x="2447640" y="4437360"/>
                              <a:ext cx="0" cy="93636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4" name="Line 12"/>
                            <p:cNvSpPr/>
                            <p:nvPr/>
                          </p:nvSpPr>
                          <p:spPr>
                            <a:xfrm flipH="1">
                              <a:off x="1152360" y="5373720"/>
                              <a:ext cx="12952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625" name="Line 20"/>
                        <p:cNvSpPr/>
                        <p:nvPr/>
                      </p:nvSpPr>
                      <p:spPr>
                        <a:xfrm>
                          <a:off x="2663640" y="1773360"/>
                          <a:ext cx="4392720" cy="93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Line 21"/>
                        <p:cNvSpPr/>
                        <p:nvPr/>
                      </p:nvSpPr>
                      <p:spPr>
                        <a:xfrm flipV="1">
                          <a:off x="2808000" y="3141720"/>
                          <a:ext cx="4392720" cy="1152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Rectangle 25"/>
                        <p:cNvSpPr/>
                        <p:nvPr/>
                      </p:nvSpPr>
                      <p:spPr>
                        <a:xfrm>
                          <a:off x="36360" y="2970360"/>
                          <a:ext cx="9144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6440" bIns="-4644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mc:AlternateContent>
        <mc:Choice xmlns:a14="http://schemas.microsoft.com/office/drawing/2010/main" Requires="a14">
          <p:sp>
            <p:nvSpPr>
              <p:cNvPr id="628" name="Object 24"/>
              <p:cNvSpPr txBox="1"/>
              <p:nvPr/>
            </p:nvSpPr>
            <p:spPr>
              <a:xfrm>
                <a:off x="2844720" y="5380200"/>
                <a:ext cx="34560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6:32:57Z</dcterms:created>
  <dc:creator>Pablo Turmero</dc:creator>
  <dc:description/>
  <dc:language>en-US</dc:language>
  <cp:lastModifiedBy>Pablo Turmero</cp:lastModifiedBy>
  <dcterms:modified xsi:type="dcterms:W3CDTF">2015-07-16T16:57:42Z</dcterms:modified>
  <cp:revision>336</cp:revision>
  <dc:subject/>
  <dc:title/>
</cp:coreProperties>
</file>