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3FD17-259B-4454-B06A-D04EC4976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38269-E046-472E-8004-7229C1EC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304880-6EDB-4508-A7F7-D8045355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9C6D7F-A055-46C0-9AC7-FA8E6854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1ED0589-7167-492A-A343-D9304C4C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A4E5BA-20AD-4DFE-915D-6BE0F5BA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9E87BE-E654-4D9A-8897-DCE7F2AC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28D892-BAF9-4975-9444-C12A9330A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B80CC5-23FD-4596-8DB8-F2DFB609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2199C9-D064-4B67-A558-DC5F0B78D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86AA09-002B-4245-9607-460A346A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1AD80B-9C00-4723-96E6-487A9422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9C6F1-B196-4BDC-B6DC-B70B332D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1DC132-BFC5-4928-8C1A-E17CCD61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2834A9-A3CA-49C9-833F-3E838E1D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50073E-80F0-4366-B3F2-005F4C2B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BDFA2C-EE1F-46C9-9141-DC634A52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E9B709-A6D0-4502-A7E2-E338A052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211BEF-920A-451E-8F80-84D51F22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3B92A7-6754-4835-AF6C-C39A219C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E54ACA-3CEA-490D-A44A-3812FB40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9A7E2B-7ADE-4C91-AC09-3DEA5529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BA1550-FDAB-406E-B0EB-57B7CB0C5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BBBF7-C111-46DC-B59E-121F98E9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97A8CD2-FDA5-45D5-944F-A26E0985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1BA548-EE2A-4A3F-8F1D-53C2C91B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CE770B-A79C-4033-A5B9-55096DFA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C27E2C-D9E4-400D-98B0-02A63775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0CCEE3-8B2F-4DE8-B824-44E023C2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0C3F8B-D0E0-4DC5-92BF-619437FD7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4CA29CC-1AB9-452D-8FF8-9DCFED7E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94AF7DB-AF5C-4FB0-806D-CCD1EE18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77AABA-C9DD-479D-9F90-6F83FEAC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3005F2-4F88-4201-9D09-51A43A65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A103-176B-4DEF-BA6E-EC950D09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F216A43-7952-415D-BA2B-A1A52179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DB6E460-1B57-424E-AC88-93C9A849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93D6A9-7777-4ED5-AEFB-B36398AD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FE97DA-A29E-4962-A0C1-14F82A1F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8BD3855-71D9-4829-9327-0315DCA1D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7D7E6D-B71F-482F-9630-D8414012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978D10-71A7-4A1B-9E79-BAD76521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901D95-C5DB-426F-AC1E-D570CA4B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D6090F-C33B-4E5C-B64B-DC5C1213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1EC6DEE-EDF8-44CE-9FFE-ED2768DB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CD4E-6815-4AFE-8EDC-B0DB3EB6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BAC341-7222-4A09-BFED-9C0E0786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4B1A0E-DFDB-4BA1-B137-8A96840E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75AA0C-CE2D-4B1C-A91C-FD47A853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B03FCA-35EF-4888-A89D-667AD185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AF55F51-A318-4CC4-BF96-BD3F6E5A2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835B23-3E50-4A59-B60A-32929691C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12F5AC5-6BA8-4A94-94CE-45E63608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CEBE69-42D2-4703-B7A9-35990E1B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D0320E-FB0C-488F-B69B-0B911422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7A5883-DEF2-4254-AD96-500CDBB4D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B06DE-EDAF-4145-BCB0-D02D02614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D8AC8E-3723-4CBE-B42D-1814D04D0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41C317-5590-452C-8BF5-D636A191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98DF8A9-E382-4FEB-B9C9-237F19F5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CBCDED-1BA0-4091-8053-48D21213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63158D-6E9E-4E54-B4F5-30C453FDE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9C41DA-E34F-471B-9D7F-201DDB57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3DE430-E23E-4960-AA03-D2B76096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D943D94-509A-4DE7-A072-C7C9DE17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F6ACBD-53F1-4893-8FAF-67730DA6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1310A6C-FB39-40CF-B9D0-5879BE20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A0B2-3C58-485C-B27B-888E010EC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F060D4B-1333-4A02-BD72-F6712198E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20EEB91-42AA-4BAF-A16C-EEDC3498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BA1C15-D375-4D39-BF8C-AE556970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66EF9D3-5543-4DF2-864D-C51792B2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EFA5A5B-6B6A-4EC2-AD05-2B6DD70D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FE57F2D-8375-4FD1-83A7-B715AE39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3B1DBE-0469-4ADC-A2EE-52C4BBE4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436BA8-F972-4DAC-B92E-28A2A122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A49794-0C5B-4EF3-B711-4E7CE74B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31DFB1C-5E38-40D5-B728-BCA16ADA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C354-ECB5-4202-AA77-A1B8481A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57CD73-804F-4236-AA3D-B8613C3B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550BBA-5553-477D-8ADF-1498F5EE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E1B94C-47EB-4D50-BBF1-460223A5B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EDBEDA-020C-4F0F-825F-0B8E8DAC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07F397-F317-4255-B473-7FB40B4F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591221E-D29D-4170-B79F-34D54C18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B449A3B-D898-4D5D-A2D2-F564A861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FBFB82-59A9-4244-BBE7-A7167E20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14ACF12-E89E-46CC-AB5E-E5992B6E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4C49E36-F864-487A-B81C-04FF710C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6D04-E6BC-45D9-B9C6-84C65D0E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657822-8336-43C4-B4C6-A42D84FD7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F507-6EC3-4F47-AFB9-C81C6C3D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8398A-392F-45E7-B9C4-5DB83EA9E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6908-8479-442A-95E9-41F47A10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EE0B-1E95-45AC-99D2-67801DF4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F763-36CB-4E9D-9544-3ADF0751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21D60-F73C-402B-8132-ADBD6E19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EAAD-2A6B-4AD2-AA28-471D48DE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CB697-2495-4943-A1E7-E3144F67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18381-CE87-410F-B6C2-16E8F9B6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63915-2CBC-4AF2-BADE-A7C10924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2F92A1-DE94-469F-8E04-E9F469DD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F40D71-236F-41EB-8BB3-99952792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61AC2-5BB7-47D2-832A-09C52A7B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E4960F-E528-442C-9824-5DDB74A9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B5C246-599A-473C-BF51-BB59D3D4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42AA5-69C7-41B4-9C97-D3C00188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91C64E-E7AE-4FC9-B1F8-27FA3A39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08BFE-DAE9-4EF5-901E-27B8AD1D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DEC67B-5951-47F3-87B6-68CC9C95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3725C9-3A41-4302-BBE2-3E74F1C32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6117BC-06C9-4886-8D4C-87980298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EE6624-EEBB-46A7-B4D6-6A6C70D7C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8B63F6-8FB8-4CC8-A2F1-25E97195F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823D-9F3B-4098-A69B-D2368270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7D33B4-A7AF-4261-B46C-6CDEDA2E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1F32C0-DBDD-402D-8351-C12CC995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88B3F-53F5-49EF-A7E9-734259CB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0BB88C-4690-4438-BDEE-1881EFE0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F4DA08-399C-4284-A469-48340C3E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5BF8E8-8A2E-4F4E-88DE-DA720950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5C5375-F841-4C53-8910-7F27C1F5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E5D858-8251-4A42-AE63-62993564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367938-B130-466D-9F41-2F6DAA42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D2A52C-8862-414B-B6E2-6EC158E99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85348-15FA-4BCD-B11B-4D8708BE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489E5F-075E-4FA5-9607-7CE7CB4C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6056B-EA66-4D85-8934-7A1AAA25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85F278-9529-4B0B-A832-EC86E92D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96BD1-CA9B-49C9-826E-40E931DF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D4391-57F5-4FB4-A0C6-EA15F2AF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51B6B-2A39-4AC0-876A-CD3ED2C9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8887A6-D388-471A-9653-DE565B3D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804B2-2612-4A46-B0D8-A03FCF61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2E4955-A3FA-467F-A0C8-221BC0C5E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71D88E-409D-4EA6-83D7-82AA01B1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F478-7725-4885-9493-F1BBE0D1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626AED-42CD-4765-B1CC-6DD96B63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365F90-DA8E-438D-A179-93FCA8E1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E5FDD3-6022-4118-A4B8-D3EBAE38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858639-C211-4F5F-9280-2DEA9B51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E7C90B-24F0-441E-8F42-105F29FF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C1FD51-0298-42B0-893D-256CBC0C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B74234-9BC7-4BA0-A8FC-1A73F6AF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F54130-6BFB-49EB-84BF-7C7EC467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854B91-CD08-47FE-A70F-77BFA1BF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6ED1C-7469-4970-9219-98242F7B3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C428E-991B-43F8-9890-7E6E4841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3C5D8A-03EA-4378-9BF3-27A7FB33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7D2A61-A07F-4884-8B7F-C2C0F891A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3DC371-DC5C-4601-A21E-B84A8638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843DF3-37F4-411F-B369-63B8F6BE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9F1110-6AC6-45BB-9BDA-7C70A9A3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D09A31-1484-421D-B4D5-0441D67B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82CE6F-8C54-472C-B551-CCABD93E7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051BE2-7D64-444D-82E1-896A1CD1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5F16CD-F946-47AA-A31D-43E4F864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2AD7E8-AFBF-447B-B294-1082067C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874D1-62B1-4EBE-8017-ED178297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3BEBDB-1CB4-45AF-AFED-03E049A1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E72640-4E6E-4E3E-9FCE-43D8357B6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233E62-71F7-41D4-8D92-357FC47B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EEE23B-A2BD-4623-B9A0-CF9B1242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675CAE-5A89-4F85-A7C6-49CCA7B37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629765-CAC7-48C4-A154-41D99AB6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CA67A0-E65F-4FF7-9BA9-CF893BBC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3F112B-2C0C-4E11-95DE-BB950EFA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78C021-5A8F-475C-8B99-3BF7431F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C4DB63-C567-4BEA-8C57-630732516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7610B-2DF1-4C93-87AD-B83339EF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65FE1B-1605-4AE0-A362-F10BFC823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E1BC0A-F2C8-4A0E-88F1-1FABAD90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1043D9-98DC-4116-81B2-CDE53626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AE747B-54E6-4127-92B9-F6565B0B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DA7B92-070E-400E-A9D1-A90FE8E73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E85DC5-B7AB-4F37-91AC-A1E8F3C2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5B1C5F-F490-404A-9546-020949DE9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0A16FE-4E64-4582-9C43-48466A53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5049D8-3FD8-4F77-A083-F286348DF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64F59F-8F1C-41B4-AE18-F60C9B1C9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C7BA-75D8-4D18-8BF3-E746CD80E03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F1F8-F0AC-4958-B5CE-81DDCB22B19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6D63-3B89-4948-8083-9CD6058DB95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4BAC4-E031-4DC6-BB2B-10D345C8F1E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B189-3E5F-44EB-AF68-E2BEC5F4466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9D0D-1BCF-4668-A3C4-9380EADC546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5334-973D-409E-8468-901B3F2DFFB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C036-006D-455D-BD57-F3C426F0BFC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1EF0D-369C-4111-BF47-09445897BE5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6CD3E-6050-4786-BE86-551DE6AA17C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FA5A-18FA-437D-AA03-309EFA38E80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3513-A2E5-4352-A1F9-F7F0CA377917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58EF-EF15-4AF8-B998-D9716C604CA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3A42-BDA7-49A7-B11D-7967D913C90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3A24-0C37-442C-89FE-76E41E9A5F3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4"/>
          <p:cNvSpPr/>
          <p:nvPr/>
        </p:nvSpPr>
        <p:spPr>
          <a:xfrm>
            <a:off x="71280" y="260280"/>
            <a:ext cx="889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Arial"/>
              </a:rPr>
              <a:t>DISTRIBUCIÓN DE MAXWELL-BOLTZMANN PARA PARTÍCULAS DISTINGU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250920" y="158760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Este tipo de distribución se aplica teniendo en cuenta los siguientes aspect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250920" y="2670120"/>
            <a:ext cx="864216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Las partículas del sistema son distingui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Se hace caso omiso del principio de exclusión de Paul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Se conserva el número de partículas del sist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La energía del sistema se conserva y puede distribuirse en </a:t>
            </a:r>
            <a:r>
              <a:rPr b="0" i="1" lang="es-CO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 nive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50920" y="62064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Definamos la entropía, como la medida del número de microestados que están o no en equilib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Object 5"/>
              <p:cNvSpPr txBox="1"/>
              <p:nvPr/>
            </p:nvSpPr>
            <p:spPr>
              <a:xfrm>
                <a:off x="3487680" y="1424160"/>
                <a:ext cx="23796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9" name="Text Box 7"/>
          <p:cNvSpPr/>
          <p:nvPr/>
        </p:nvSpPr>
        <p:spPr>
          <a:xfrm>
            <a:off x="6875640" y="1628640"/>
            <a:ext cx="10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(1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8"/>
          <p:cNvSpPr/>
          <p:nvPr/>
        </p:nvSpPr>
        <p:spPr>
          <a:xfrm>
            <a:off x="250920" y="2235240"/>
            <a:ext cx="864216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Donde k</a:t>
            </a:r>
            <a:r>
              <a:rPr b="0" lang="es-CO" sz="2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 es la constante de Boltzmann y tiene un valor de 1.3807x10</a:t>
            </a:r>
            <a:r>
              <a:rPr b="0" lang="es-CO" sz="22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J/K. Recordando la primera ley de la termodinámica para procesos irreversibl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1" name="Object 9"/>
              <p:cNvSpPr txBox="1"/>
              <p:nvPr/>
            </p:nvSpPr>
            <p:spPr>
              <a:xfrm>
                <a:off x="3060720" y="3500280"/>
                <a:ext cx="3095640" cy="13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T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2" name="Text Box 12"/>
          <p:cNvSpPr/>
          <p:nvPr/>
        </p:nvSpPr>
        <p:spPr>
          <a:xfrm>
            <a:off x="6515280" y="4226040"/>
            <a:ext cx="10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(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3"/>
          <p:cNvSpPr/>
          <p:nvPr/>
        </p:nvSpPr>
        <p:spPr>
          <a:xfrm>
            <a:off x="6516720" y="3573360"/>
            <a:ext cx="10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(1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4"/>
          <p:cNvSpPr/>
          <p:nvPr/>
        </p:nvSpPr>
        <p:spPr>
          <a:xfrm>
            <a:off x="250920" y="5140440"/>
            <a:ext cx="86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De forma que la energía total del sistema 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5" name="Object 4"/>
              <p:cNvSpPr txBox="1"/>
              <p:nvPr/>
            </p:nvSpPr>
            <p:spPr>
              <a:xfrm>
                <a:off x="1619280" y="506520"/>
                <a:ext cx="5905440" cy="19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Td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6" name="Object 10"/>
              <p:cNvSpPr txBox="1"/>
              <p:nvPr/>
            </p:nvSpPr>
            <p:spPr>
              <a:xfrm>
                <a:off x="2771640" y="3359160"/>
                <a:ext cx="410400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d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Ω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17" name="Text Box 6"/>
          <p:cNvSpPr/>
          <p:nvPr/>
        </p:nvSpPr>
        <p:spPr>
          <a:xfrm>
            <a:off x="250920" y="1346040"/>
            <a:ext cx="302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De forma qu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7"/>
          <p:cNvSpPr/>
          <p:nvPr/>
        </p:nvSpPr>
        <p:spPr>
          <a:xfrm>
            <a:off x="7956720" y="549360"/>
            <a:ext cx="72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(1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8"/>
          <p:cNvSpPr/>
          <p:nvPr/>
        </p:nvSpPr>
        <p:spPr>
          <a:xfrm>
            <a:off x="6442200" y="1849320"/>
            <a:ext cx="72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(2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9"/>
          <p:cNvSpPr/>
          <p:nvPr/>
        </p:nvSpPr>
        <p:spPr>
          <a:xfrm>
            <a:off x="250920" y="278136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Sustituyendo (16) en (20) se obtie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13"/>
          <p:cNvSpPr/>
          <p:nvPr/>
        </p:nvSpPr>
        <p:spPr>
          <a:xfrm>
            <a:off x="250920" y="443700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Lo cual, por efectos de la ecuación (11) se obtiene qu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14"/>
              <p:cNvSpPr txBox="1"/>
              <p:nvPr/>
            </p:nvSpPr>
            <p:spPr>
              <a:xfrm>
                <a:off x="2195640" y="5076720"/>
                <a:ext cx="496728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3" name="Text Box 17"/>
          <p:cNvSpPr/>
          <p:nvPr/>
        </p:nvSpPr>
        <p:spPr>
          <a:xfrm>
            <a:off x="7451640" y="5229360"/>
            <a:ext cx="72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(2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4"/>
          <p:cNvSpPr/>
          <p:nvPr/>
        </p:nvSpPr>
        <p:spPr>
          <a:xfrm>
            <a:off x="250920" y="62064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Como sabem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Object 5"/>
              <p:cNvSpPr txBox="1"/>
              <p:nvPr/>
            </p:nvSpPr>
            <p:spPr>
              <a:xfrm>
                <a:off x="1690560" y="1031760"/>
                <a:ext cx="5761080" cy="556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β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/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β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sSub>
                          <m:e>
                            <m:r>
                              <m:t xml:space="preserve">Tβ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β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26" name="Text Box 7"/>
          <p:cNvSpPr/>
          <p:nvPr/>
        </p:nvSpPr>
        <p:spPr>
          <a:xfrm>
            <a:off x="250920" y="1773360"/>
            <a:ext cx="849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De forma qu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8"/>
          <p:cNvSpPr/>
          <p:nvPr/>
        </p:nvSpPr>
        <p:spPr>
          <a:xfrm>
            <a:off x="6516720" y="5810400"/>
            <a:ext cx="72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(2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4"/>
          <p:cNvSpPr/>
          <p:nvPr/>
        </p:nvSpPr>
        <p:spPr>
          <a:xfrm>
            <a:off x="324000" y="62064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Con este resultado, podemos escribi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Object 5"/>
              <p:cNvSpPr txBox="1"/>
              <p:nvPr/>
            </p:nvSpPr>
            <p:spPr>
              <a:xfrm>
                <a:off x="3316320" y="981000"/>
                <a:ext cx="2911320" cy="32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sup>
                        </m:sSup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0" name="Text Box 7"/>
          <p:cNvSpPr/>
          <p:nvPr/>
        </p:nvSpPr>
        <p:spPr>
          <a:xfrm>
            <a:off x="6443640" y="2209680"/>
            <a:ext cx="72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(2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8"/>
          <p:cNvSpPr/>
          <p:nvPr/>
        </p:nvSpPr>
        <p:spPr>
          <a:xfrm>
            <a:off x="6443640" y="3433680"/>
            <a:ext cx="72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(2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9"/>
          <p:cNvSpPr/>
          <p:nvPr/>
        </p:nvSpPr>
        <p:spPr>
          <a:xfrm>
            <a:off x="324000" y="437040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Usando la ecuación (10), podemos definir la entropía com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10"/>
              <p:cNvSpPr txBox="1"/>
              <p:nvPr/>
            </p:nvSpPr>
            <p:spPr>
              <a:xfrm>
                <a:off x="1619280" y="4869000"/>
                <a:ext cx="612144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Text Box 4"/>
          <p:cNvSpPr/>
          <p:nvPr/>
        </p:nvSpPr>
        <p:spPr>
          <a:xfrm>
            <a:off x="250920" y="69228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Utilizando la ecuación (12) tenem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Object 5"/>
              <p:cNvSpPr txBox="1"/>
              <p:nvPr/>
            </p:nvSpPr>
            <p:spPr>
              <a:xfrm>
                <a:off x="2050920" y="1195560"/>
                <a:ext cx="5054760" cy="53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n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e>
                        </m:d>
                      </m:e>
                      <m:e/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</m:e>
                      <m:e/>
                      <m:e/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  <m:r>
                                      <m:t xml:space="preserve">T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6" name="Text Box 7"/>
          <p:cNvSpPr/>
          <p:nvPr/>
        </p:nvSpPr>
        <p:spPr>
          <a:xfrm>
            <a:off x="250920" y="3002040"/>
            <a:ext cx="871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Con la ecuación (2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8"/>
          <p:cNvSpPr/>
          <p:nvPr/>
        </p:nvSpPr>
        <p:spPr>
          <a:xfrm>
            <a:off x="250920" y="480204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Definimos la energía libre de Helmholtz como </a:t>
            </a:r>
            <a:r>
              <a:rPr b="0" i="1" lang="es-CO" sz="2200" spc="-1" strike="noStrike">
                <a:solidFill>
                  <a:srgbClr val="000000"/>
                </a:solidFill>
                <a:latin typeface="Arial"/>
              </a:rPr>
              <a:t>F = U –TS, </a:t>
            </a: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de forma qu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9"/>
          <p:cNvSpPr/>
          <p:nvPr/>
        </p:nvSpPr>
        <p:spPr>
          <a:xfrm>
            <a:off x="7308720" y="2349360"/>
            <a:ext cx="72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(2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0"/>
          <p:cNvSpPr/>
          <p:nvPr/>
        </p:nvSpPr>
        <p:spPr>
          <a:xfrm>
            <a:off x="6729480" y="3794040"/>
            <a:ext cx="72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(2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1"/>
          <p:cNvSpPr/>
          <p:nvPr/>
        </p:nvSpPr>
        <p:spPr>
          <a:xfrm>
            <a:off x="6804000" y="5738760"/>
            <a:ext cx="72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(2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7"/>
          <p:cNvSpPr/>
          <p:nvPr/>
        </p:nvSpPr>
        <p:spPr>
          <a:xfrm>
            <a:off x="395280" y="47628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Arial"/>
              </a:rPr>
              <a:t>DISTRIBUCIÓN DE MAXWELL-BOLTZMANN PARA PARTÍCULAS DISTINGU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18"/>
          <p:cNvSpPr/>
          <p:nvPr/>
        </p:nvSpPr>
        <p:spPr>
          <a:xfrm>
            <a:off x="179280" y="162864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El número de microestados para partículas distinguibles, está determinado por la ecuación (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Object 19"/>
              <p:cNvSpPr txBox="1"/>
              <p:nvPr/>
            </p:nvSpPr>
            <p:spPr>
              <a:xfrm>
                <a:off x="3630600" y="2376360"/>
                <a:ext cx="1878120" cy="14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5" name="Text Box 20"/>
          <p:cNvSpPr/>
          <p:nvPr/>
        </p:nvSpPr>
        <p:spPr>
          <a:xfrm>
            <a:off x="179280" y="389088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Además de esto, el número de partículas y la energía total del sistema permanece constante. (Ecuaciones 7 y 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1"/>
          <p:cNvSpPr/>
          <p:nvPr/>
        </p:nvSpPr>
        <p:spPr>
          <a:xfrm>
            <a:off x="179280" y="4827600"/>
            <a:ext cx="87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Para encontrar el macroestado más probable, debemos maximizar la expresión (9). Para cuestiones de cálculo, maximizaremos </a:t>
            </a:r>
            <a:r>
              <a:rPr b="0" i="1" lang="es-CO" sz="2200" spc="-1" strike="noStrike">
                <a:solidFill>
                  <a:srgbClr val="000000"/>
                </a:solidFill>
                <a:latin typeface="Arial"/>
              </a:rPr>
              <a:t>ln(</a:t>
            </a:r>
            <a:r>
              <a:rPr b="0" i="1" lang="el-GR" sz="22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i="1" lang="es-CO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47" name="Object 4"/>
              <p:cNvSpPr txBox="1"/>
              <p:nvPr/>
            </p:nvSpPr>
            <p:spPr>
              <a:xfrm>
                <a:off x="2556000" y="326880"/>
                <a:ext cx="4471920" cy="15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N</m:t>
                            </m:r>
                            <m:r>
                              <m:t xml:space="preserve">!</m:t>
                            </m:r>
                          </m:num>
                          <m:den>
                            <m:nary>
                              <m:naryPr>
                                <m:chr m:val="∏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!</m:t>
                                </m:r>
                              </m:e>
                            </m:nary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!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Object 7"/>
              <p:cNvSpPr txBox="1"/>
              <p:nvPr/>
            </p:nvSpPr>
            <p:spPr>
              <a:xfrm>
                <a:off x="1763640" y="2284560"/>
                <a:ext cx="56880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N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Object 10"/>
              <p:cNvSpPr txBox="1"/>
              <p:nvPr/>
            </p:nvSpPr>
            <p:spPr>
              <a:xfrm>
                <a:off x="2278080" y="3070080"/>
                <a:ext cx="38066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N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0" name="Text Box 6"/>
          <p:cNvSpPr/>
          <p:nvPr/>
        </p:nvSpPr>
        <p:spPr>
          <a:xfrm>
            <a:off x="179280" y="1700280"/>
            <a:ext cx="8785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Utilizando el teorema de Stirl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3"/>
          <p:cNvSpPr/>
          <p:nvPr/>
        </p:nvSpPr>
        <p:spPr>
          <a:xfrm>
            <a:off x="6373800" y="3286080"/>
            <a:ext cx="79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(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4"/>
          <p:cNvSpPr/>
          <p:nvPr/>
        </p:nvSpPr>
        <p:spPr>
          <a:xfrm>
            <a:off x="0" y="3963960"/>
            <a:ext cx="87850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Para encontrar el estado de equilibrio, debemos maximizar la ecuación (10) con respecto a </a:t>
            </a:r>
            <a:r>
              <a:rPr b="0" i="1" lang="es-CO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O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Object 15"/>
              <p:cNvSpPr txBox="1"/>
              <p:nvPr/>
            </p:nvSpPr>
            <p:spPr>
              <a:xfrm>
                <a:off x="2627280" y="4846680"/>
                <a:ext cx="388944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4"/>
          <p:cNvSpPr/>
          <p:nvPr/>
        </p:nvSpPr>
        <p:spPr>
          <a:xfrm>
            <a:off x="250920" y="620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Pero como el número de partículas permanece constante, tenemos qu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Object 8"/>
              <p:cNvSpPr txBox="1"/>
              <p:nvPr/>
            </p:nvSpPr>
            <p:spPr>
              <a:xfrm>
                <a:off x="1836720" y="1341360"/>
                <a:ext cx="468000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6" name="Object 14"/>
              <p:cNvSpPr txBox="1"/>
              <p:nvPr/>
            </p:nvSpPr>
            <p:spPr>
              <a:xfrm>
                <a:off x="324000" y="3860640"/>
                <a:ext cx="2269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7" name="Object 17"/>
              <p:cNvSpPr txBox="1"/>
              <p:nvPr/>
            </p:nvSpPr>
            <p:spPr>
              <a:xfrm>
                <a:off x="3852720" y="3886200"/>
                <a:ext cx="1440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8" name="Text Box 10"/>
          <p:cNvSpPr/>
          <p:nvPr/>
        </p:nvSpPr>
        <p:spPr>
          <a:xfrm>
            <a:off x="7020000" y="141300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(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11"/>
          <p:cNvSpPr/>
          <p:nvPr/>
        </p:nvSpPr>
        <p:spPr>
          <a:xfrm>
            <a:off x="106200" y="2496960"/>
            <a:ext cx="856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O" sz="2200" spc="-1" strike="noStrike" u="sng">
                <a:solidFill>
                  <a:srgbClr val="000000"/>
                </a:solidFill>
                <a:uFillTx/>
                <a:latin typeface="Arial"/>
              </a:rPr>
              <a:t>Método de los multiplicadores de Lagr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2"/>
          <p:cNvSpPr/>
          <p:nvPr/>
        </p:nvSpPr>
        <p:spPr>
          <a:xfrm>
            <a:off x="250920" y="314172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Para maximizar (11) debemos satisfacer tres condicion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1" name="Object 20"/>
              <p:cNvSpPr txBox="1"/>
              <p:nvPr/>
            </p:nvSpPr>
            <p:spPr>
              <a:xfrm>
                <a:off x="6877080" y="3906720"/>
                <a:ext cx="165564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62" name="Text Box 23"/>
          <p:cNvSpPr/>
          <p:nvPr/>
        </p:nvSpPr>
        <p:spPr>
          <a:xfrm>
            <a:off x="250920" y="4995720"/>
            <a:ext cx="85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Como existen tres condiciones que deben ser cero simultáneamente, podemos multiplicar a dos de ellas por constantes arbitrarías, llamadas </a:t>
            </a:r>
            <a:r>
              <a:rPr b="0" lang="es-CO" sz="22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CO" sz="2200" spc="-1" strike="noStrike">
                <a:solidFill>
                  <a:srgbClr val="000000"/>
                </a:solidFill>
                <a:latin typeface="Symbol"/>
                <a:ea typeface="Symbol"/>
              </a:rPr>
              <a:t>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3" name="Object 4"/>
              <p:cNvSpPr txBox="1"/>
              <p:nvPr/>
            </p:nvSpPr>
            <p:spPr>
              <a:xfrm>
                <a:off x="3564000" y="430200"/>
                <a:ext cx="187164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β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4" name="Object 6"/>
              <p:cNvSpPr txBox="1"/>
              <p:nvPr/>
            </p:nvSpPr>
            <p:spPr>
              <a:xfrm>
                <a:off x="2771640" y="2820960"/>
                <a:ext cx="3608640" cy="13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β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β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5" name="Object 9"/>
              <p:cNvSpPr txBox="1"/>
              <p:nvPr/>
            </p:nvSpPr>
            <p:spPr>
              <a:xfrm>
                <a:off x="3241800" y="4724280"/>
                <a:ext cx="233820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α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βε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βε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66" name="Text Box 12"/>
          <p:cNvSpPr/>
          <p:nvPr/>
        </p:nvSpPr>
        <p:spPr>
          <a:xfrm>
            <a:off x="250920" y="177336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Esas dos constantes son conocidos como los multiplicadores de Lagrange. Podemos ahora escribi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13"/>
          <p:cNvSpPr/>
          <p:nvPr/>
        </p:nvSpPr>
        <p:spPr>
          <a:xfrm>
            <a:off x="250920" y="4106880"/>
            <a:ext cx="864216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Despejando n</a:t>
            </a:r>
            <a:r>
              <a:rPr b="0" lang="es-CO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4"/>
          <p:cNvSpPr/>
          <p:nvPr/>
        </p:nvSpPr>
        <p:spPr>
          <a:xfrm>
            <a:off x="5724360" y="566568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(1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4"/>
          <p:cNvSpPr/>
          <p:nvPr/>
        </p:nvSpPr>
        <p:spPr>
          <a:xfrm>
            <a:off x="250920" y="62856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La anterior ecuación representa la distribución de Maxwell-Boltzmann: </a:t>
            </a:r>
            <a:r>
              <a:rPr b="0" i="1" lang="es-CO" sz="2200" spc="-1" strike="noStrike">
                <a:solidFill>
                  <a:srgbClr val="000000"/>
                </a:solidFill>
                <a:latin typeface="Arial"/>
              </a:rPr>
              <a:t>el número de partículas en un nivel de energía determinado disminuye exponencialmente con el aumento de la energí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250920" y="216216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Consideremos ahora dos sistemas separados por una pared térmicamente conductora como la de la figur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Group 40"/>
          <p:cNvGrpSpPr/>
          <p:nvPr/>
        </p:nvGrpSpPr>
        <p:grpSpPr>
          <a:xfrm>
            <a:off x="3276720" y="3213000"/>
            <a:ext cx="3095640" cy="2233440"/>
            <a:chOff x="3276720" y="3213000"/>
            <a:chExt cx="3095640" cy="2233440"/>
          </a:xfrm>
        </p:grpSpPr>
        <p:sp>
          <p:nvSpPr>
            <p:cNvPr id="672" name="Rectangle 7"/>
            <p:cNvSpPr/>
            <p:nvPr/>
          </p:nvSpPr>
          <p:spPr>
            <a:xfrm>
              <a:off x="4861080" y="3214440"/>
              <a:ext cx="1511280" cy="22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23"/>
            <p:cNvSpPr/>
            <p:nvPr/>
          </p:nvSpPr>
          <p:spPr>
            <a:xfrm>
              <a:off x="3276720" y="3213000"/>
              <a:ext cx="1511280" cy="22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24"/>
            <p:cNvSpPr/>
            <p:nvPr/>
          </p:nvSpPr>
          <p:spPr>
            <a:xfrm>
              <a:off x="4788000" y="3213000"/>
              <a:ext cx="71640" cy="22320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25"/>
            <p:cNvSpPr/>
            <p:nvPr/>
          </p:nvSpPr>
          <p:spPr>
            <a:xfrm>
              <a:off x="3492720" y="3500280"/>
              <a:ext cx="71280" cy="730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26"/>
            <p:cNvSpPr/>
            <p:nvPr/>
          </p:nvSpPr>
          <p:spPr>
            <a:xfrm>
              <a:off x="3780000" y="4005000"/>
              <a:ext cx="71280" cy="730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27"/>
            <p:cNvSpPr/>
            <p:nvPr/>
          </p:nvSpPr>
          <p:spPr>
            <a:xfrm>
              <a:off x="4211640" y="4365360"/>
              <a:ext cx="71640" cy="730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28"/>
            <p:cNvSpPr/>
            <p:nvPr/>
          </p:nvSpPr>
          <p:spPr>
            <a:xfrm>
              <a:off x="4572000" y="3429000"/>
              <a:ext cx="71640" cy="72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29"/>
            <p:cNvSpPr/>
            <p:nvPr/>
          </p:nvSpPr>
          <p:spPr>
            <a:xfrm>
              <a:off x="3564000" y="5084640"/>
              <a:ext cx="71640" cy="730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30"/>
            <p:cNvSpPr/>
            <p:nvPr/>
          </p:nvSpPr>
          <p:spPr>
            <a:xfrm>
              <a:off x="4356360" y="5227560"/>
              <a:ext cx="71280" cy="730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31"/>
            <p:cNvSpPr/>
            <p:nvPr/>
          </p:nvSpPr>
          <p:spPr>
            <a:xfrm>
              <a:off x="5077080" y="3357360"/>
              <a:ext cx="71280" cy="730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32"/>
            <p:cNvSpPr/>
            <p:nvPr/>
          </p:nvSpPr>
          <p:spPr>
            <a:xfrm>
              <a:off x="5364360" y="3862080"/>
              <a:ext cx="71280" cy="730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33"/>
            <p:cNvSpPr/>
            <p:nvPr/>
          </p:nvSpPr>
          <p:spPr>
            <a:xfrm>
              <a:off x="5220000" y="4222440"/>
              <a:ext cx="71280" cy="730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34"/>
            <p:cNvSpPr/>
            <p:nvPr/>
          </p:nvSpPr>
          <p:spPr>
            <a:xfrm>
              <a:off x="6156360" y="3286080"/>
              <a:ext cx="71640" cy="730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35"/>
            <p:cNvSpPr/>
            <p:nvPr/>
          </p:nvSpPr>
          <p:spPr>
            <a:xfrm>
              <a:off x="5148360" y="4941720"/>
              <a:ext cx="71640" cy="730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36"/>
            <p:cNvSpPr/>
            <p:nvPr/>
          </p:nvSpPr>
          <p:spPr>
            <a:xfrm>
              <a:off x="6085080" y="4508280"/>
              <a:ext cx="71280" cy="730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37"/>
            <p:cNvSpPr/>
            <p:nvPr/>
          </p:nvSpPr>
          <p:spPr>
            <a:xfrm>
              <a:off x="6012000" y="3931920"/>
              <a:ext cx="71280" cy="730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38"/>
            <p:cNvSpPr/>
            <p:nvPr/>
          </p:nvSpPr>
          <p:spPr>
            <a:xfrm>
              <a:off x="5940720" y="5155920"/>
              <a:ext cx="71280" cy="7308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Text Box 41"/>
          <p:cNvSpPr/>
          <p:nvPr/>
        </p:nvSpPr>
        <p:spPr>
          <a:xfrm>
            <a:off x="3276720" y="5375160"/>
            <a:ext cx="16556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O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O" sz="1500" spc="-1" strike="noStrike">
                <a:solidFill>
                  <a:srgbClr val="000000"/>
                </a:solidFill>
                <a:latin typeface="Arial"/>
              </a:rPr>
              <a:t> partículas, n</a:t>
            </a:r>
            <a:r>
              <a:rPr b="0" lang="es-CO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O" sz="1500" spc="-1" strike="noStrike">
                <a:solidFill>
                  <a:srgbClr val="000000"/>
                </a:solidFill>
                <a:latin typeface="Arial"/>
              </a:rPr>
              <a:t> en el nivel </a:t>
            </a:r>
            <a:r>
              <a:rPr b="0" lang="es-CO" sz="1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O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O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2"/>
          <p:cNvSpPr/>
          <p:nvPr/>
        </p:nvSpPr>
        <p:spPr>
          <a:xfrm>
            <a:off x="4861080" y="5375160"/>
            <a:ext cx="16556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CO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CO" sz="1500" spc="-1" strike="noStrike">
                <a:solidFill>
                  <a:srgbClr val="000000"/>
                </a:solidFill>
                <a:latin typeface="Arial"/>
              </a:rPr>
              <a:t> partículas, m</a:t>
            </a:r>
            <a:r>
              <a:rPr b="0" lang="es-CO" sz="15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O" sz="1500" spc="-1" strike="noStrike">
                <a:solidFill>
                  <a:srgbClr val="000000"/>
                </a:solidFill>
                <a:latin typeface="Arial"/>
              </a:rPr>
              <a:t> en el nivel </a:t>
            </a:r>
            <a:r>
              <a:rPr b="0" lang="es-CO" sz="15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CO" sz="15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s-CO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CO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1" name="Object 43"/>
              <p:cNvSpPr txBox="1"/>
              <p:nvPr/>
            </p:nvSpPr>
            <p:spPr>
              <a:xfrm>
                <a:off x="971640" y="3581280"/>
                <a:ext cx="189864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2" name="Object 45"/>
              <p:cNvSpPr txBox="1"/>
              <p:nvPr/>
            </p:nvSpPr>
            <p:spPr>
              <a:xfrm>
                <a:off x="6681960" y="3500280"/>
                <a:ext cx="2043000" cy="17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4"/>
          <p:cNvSpPr/>
          <p:nvPr/>
        </p:nvSpPr>
        <p:spPr>
          <a:xfrm>
            <a:off x="250920" y="620640"/>
            <a:ext cx="85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Entonces, como la probabilidad total es el producto de las probabilidades parciales, el número de microestados en un macroestado de dos sistemas juntos 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4" name="Object 5"/>
              <p:cNvSpPr txBox="1"/>
              <p:nvPr/>
            </p:nvSpPr>
            <p:spPr>
              <a:xfrm>
                <a:off x="2916360" y="1782720"/>
                <a:ext cx="280800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  <m:r>
                      <m:t xml:space="preserve">∗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5" name="Text Box 7"/>
          <p:cNvSpPr/>
          <p:nvPr/>
        </p:nvSpPr>
        <p:spPr>
          <a:xfrm>
            <a:off x="250920" y="306864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Maximizando el logaritmo natural de la ecuación anteri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8"/>
          <p:cNvSpPr/>
          <p:nvPr/>
        </p:nvSpPr>
        <p:spPr>
          <a:xfrm>
            <a:off x="5938920" y="206064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(1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7" name="Object 9"/>
              <p:cNvSpPr txBox="1"/>
              <p:nvPr/>
            </p:nvSpPr>
            <p:spPr>
              <a:xfrm>
                <a:off x="826920" y="3919680"/>
                <a:ext cx="7667640" cy="19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Ω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∂</m:t>
                        </m:r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∂</m:t>
                            </m:r>
                            <m:r>
                              <m:t xml:space="preserve">(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8" name="Text Box 12"/>
          <p:cNvSpPr/>
          <p:nvPr/>
        </p:nvSpPr>
        <p:spPr>
          <a:xfrm>
            <a:off x="7164360" y="5307120"/>
            <a:ext cx="72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(1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4"/>
          <p:cNvSpPr/>
          <p:nvPr/>
        </p:nvSpPr>
        <p:spPr>
          <a:xfrm>
            <a:off x="250920" y="620640"/>
            <a:ext cx="86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La ecuación anterior es ahora la condición de equilibrio del sistema. Como la combinación de la energía de los dos sistemas es constante, se utiliza nuevamente los operadores de Lagr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Object 5"/>
              <p:cNvSpPr txBox="1"/>
              <p:nvPr/>
            </p:nvSpPr>
            <p:spPr>
              <a:xfrm>
                <a:off x="2484360" y="1954080"/>
                <a:ext cx="3888000" cy="275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β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m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1" name="Text Box 7"/>
          <p:cNvSpPr/>
          <p:nvPr/>
        </p:nvSpPr>
        <p:spPr>
          <a:xfrm>
            <a:off x="250920" y="5013360"/>
            <a:ext cx="86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Combinando las ecuaciones (14) y (1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8"/>
          <p:cNvSpPr/>
          <p:nvPr/>
        </p:nvSpPr>
        <p:spPr>
          <a:xfrm>
            <a:off x="6875640" y="3068640"/>
            <a:ext cx="10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(1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 Box 4"/>
          <p:cNvSpPr/>
          <p:nvPr/>
        </p:nvSpPr>
        <p:spPr>
          <a:xfrm>
            <a:off x="250920" y="184932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Como no existe flujo de partículas de una cámara a otra se debe tratar cada suma de forma independiente. Obteniendo así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4" name="Object 5"/>
              <p:cNvSpPr txBox="1"/>
              <p:nvPr/>
            </p:nvSpPr>
            <p:spPr>
              <a:xfrm>
                <a:off x="179280" y="692280"/>
                <a:ext cx="8758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β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β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e>
                        </m:d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Object 7"/>
              <p:cNvSpPr txBox="1"/>
              <p:nvPr/>
            </p:nvSpPr>
            <p:spPr>
              <a:xfrm>
                <a:off x="3635280" y="2781360"/>
                <a:ext cx="2084400" cy="13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β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6" name="Text Box 10"/>
          <p:cNvSpPr/>
          <p:nvPr/>
        </p:nvSpPr>
        <p:spPr>
          <a:xfrm>
            <a:off x="250920" y="4444920"/>
            <a:ext cx="864216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La constante </a:t>
            </a:r>
            <a:r>
              <a:rPr b="0" lang="es-CO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 permanece constante para los dos sistemas y es independiente de N</a:t>
            </a:r>
            <a:r>
              <a:rPr b="0" lang="es-CO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 y E</a:t>
            </a:r>
            <a:r>
              <a:rPr b="0" lang="es-CO" sz="2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. Entonces </a:t>
            </a:r>
            <a:r>
              <a:rPr b="0" lang="es-CO" sz="2200" spc="-1" strike="noStrike">
                <a:solidFill>
                  <a:srgbClr val="000000"/>
                </a:solidFill>
                <a:latin typeface="Symbol"/>
                <a:ea typeface="Symbol"/>
              </a:rPr>
              <a:t></a:t>
            </a:r>
            <a:r>
              <a:rPr b="0" lang="es-CO" sz="2200" spc="-1" strike="noStrike">
                <a:solidFill>
                  <a:srgbClr val="000000"/>
                </a:solidFill>
                <a:latin typeface="Arial"/>
              </a:rPr>
              <a:t> Como se sabe por la termodinámica, este parámetro es el mismo para dos sistemas en contacto térmico en equilib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0T23:47:11Z</dcterms:created>
  <dc:creator>Pablo Turmero</dc:creator>
  <dc:description/>
  <dc:language>en-US</dc:language>
  <cp:lastModifiedBy>Pablo Turmero</cp:lastModifiedBy>
  <dcterms:modified xsi:type="dcterms:W3CDTF">2015-06-04T17:31:56Z</dcterms:modified>
  <cp:revision>142</cp:revision>
  <dc:subject/>
  <dc:title/>
</cp:coreProperties>
</file>