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49DB-CD1B-4AD3-9595-182AFDD03FD2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4076-56CA-4CE7-B62C-89F1398D168A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8CB6-0AC3-4973-A5C0-263123821012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826A-755C-4DB4-B092-01E13A871DDA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F598-CA77-4C0D-94AA-673B074FFACA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45A8-CFC2-432D-97F0-16F7CDDF7579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3061-4349-47E1-B0CA-B0D9276ADBB0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D056-3764-4DB6-90AA-A9891A993342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1054-9B20-4A04-94A0-9A2DD03184DC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5FF8-6501-452B-8B65-0C67616321FF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92DF-0B43-4215-BBD3-20DEAF88083E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C5EB-AE37-48C0-BC57-45EB389327BD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3086-F3BB-41B9-843F-EDB186C00ACE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8014-E3F1-4E8F-832E-FDD0209E3EED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FE6F-92C6-4164-9699-652DF5C1B8D0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F85F-A471-4EBF-903D-DC6BB4043C34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D818-A421-4078-A8BC-EDEF1AA7CFC0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68F2-DFBF-4CD1-ABCB-A6D572DB54E4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CECF-B78F-4F47-81A0-66A38F1D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5CFD-3CA4-4135-AD75-D4225F06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EDC83-79F1-4930-A5F7-3FC7CF35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2F910-9C74-4141-B564-0DF17369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DF599-EB38-4FFF-A533-A459E14C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8EC69-4900-4319-93FF-E57216E0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53ABD-D351-4A45-9A27-CAE3C01A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6D46A-AF96-4BD8-B0B0-E918B74A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88CF8-45E6-4B83-9F0E-19E6D104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66127-6225-4902-A212-E324EBB9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14434-88C9-4A40-8C33-A48B3300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E8A89-C959-4328-B745-8E4D88D7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5703-A6E6-40D9-96FC-492F383E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27504-085C-4D9A-A7F7-E2CFA64A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40597-6DBA-48F0-ADC6-AA722FF9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154E2-2DAF-4533-A265-9A1970E1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236E9-E219-47F1-A9C4-398CD211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959E7-E54B-40E1-BCB9-18E1DA0F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C3A07-AFA5-4C29-9088-AF9A12C3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FCAC3-8AB0-49D6-AFB9-606F635B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3642E-2B84-46CB-95C5-4226904F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458FC-B584-4AD9-9C7A-F391E941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23978-F733-4897-BC24-D995244E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5BC6-1262-4FBB-A2E4-C826EF12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9AA6E-919B-489C-BD86-2C8B452E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DE2F3-9897-49C8-AF72-65CA740D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0C275-66A2-49A3-9687-1A9EDE06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630DB-0DF5-4621-BF74-E7369E43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82985-BFE1-4418-9671-75F36360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65C65-FCDF-405B-B8AF-F83EBCDC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B689F-8BB7-4370-B396-4CB0BB9B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B4FD1-0FE6-4BC8-ACCE-2C24E74B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E2051-E7BF-4B47-ABE5-EB38F5A3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3C379-D676-4FBF-AD5E-401EC2B2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BC4C-FC86-4A6F-BC92-FFD946D2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09E5C-9FBD-4D2E-BCFE-911C12D0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60B38-45A0-42CC-AA27-7F9D5AA8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6394C-8DF0-443F-ACFF-5B5048D6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42594-906C-4223-915A-CE707093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411BC-E335-4F54-B6BE-5E396C81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09B81-B3B3-439D-A437-A5165475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F373D-C9B9-4DCB-963B-983F73E8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369BF-BA4C-4CDE-9012-E00DE778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A3773-DE25-4AD1-B6EE-2E70C235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5D5D7-041A-4473-BD2C-51BA0FA5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2B11-BA4C-4EC5-AF33-8D0C1A65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7020B-1FC0-4594-B6D0-14067394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2A54D-D646-41C3-B01E-F441B052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A8901-5CD6-481C-8173-2B653547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53402-8C14-44EE-AD3B-2F94107A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EBA3C-AA96-4C06-B561-F7C38A61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1683-FE4A-4AA9-911B-BBE7D518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86EE-3587-484F-B2BE-8EF50149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AEA8-49B4-4740-B60A-916C3E15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A34F-C8EB-4162-9FBC-2390B5B6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F649-0DB4-41F7-A119-60AFB060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3F20-D36E-4198-8A14-C362893F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A11C-96B1-437A-8EF4-AA5960F2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66A8-C729-4AA6-B76B-D7B55E02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E413-F52A-4C11-AEE0-2CA7BEDD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48F6-27FB-4DFE-9CA1-4149988D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1F70-7579-434D-B341-00672806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77F61-E677-47BA-870F-699700EC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01A06-B966-48D1-8AFB-0D15CC57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476D3-E02E-4EC7-A65E-9E8896D5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74546-31EF-4B52-8DC8-2AB9F63F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73AE1-8D9E-4CF6-B64D-FF9FA2A0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B263-B699-4DF8-94A1-3386446A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C0399-8228-471A-8883-ED2BD5B9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8BC3B-AF3A-4124-AB57-DCA2413F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1213C-314D-4EFA-929F-D2597B39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20A52-9EB3-491A-B5F1-F2BAD169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65F07-1F48-4998-AB7E-D0A08018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5F5AB-7BBB-427D-9F26-A18A290E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61D82-06B1-4A4F-80D9-4BB39D8D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98879-BC57-4536-B045-E063ED1B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B1635-25FD-4437-A44A-2A1C25FD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50045-C4FE-4398-9528-4BC0B113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DCDC-644C-4E4D-9ED8-26F95F69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55168-D44C-4F5D-B5E0-1B873249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60760-CE7B-4DCA-B0EB-15BA9FAD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3904A-EAB9-4965-88AF-65DA60E8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5B6A6-80D2-4036-B8EC-A95A3467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92205-4695-4CE3-B9DD-BB52A148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6CFD4-45AB-4316-9EBF-12952960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74061-A569-44F7-A79F-45D21B80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27098-68D5-4CA4-9F3D-EF87EF2E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A2908-75ED-4B54-98CE-29928D56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F3829-ACE7-4743-93D6-0C94D616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AAF-77CB-466F-88E7-EE404FED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B44C1-ED04-47E9-8021-B873EFA2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8D72A-4968-45DA-9A4A-7BD498F1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D0912-3B85-4CC0-811A-62560758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05E79-5FD2-4F94-907D-7220CCB3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933D0-3802-43D3-A44D-B05006E4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0619B-7848-4E9A-9C26-A0990D9D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93506-67EB-493B-BFE9-73233002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ED368-E689-4FDB-96A3-2854967C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79269-83B3-46DA-988D-D9027BF3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2E841-18A5-415B-9445-2DBB2DA9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755D-FF1A-4DD7-8790-D906BD12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E328F-F9FD-4898-A568-E2650A67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C8331-93D7-47BD-8BBE-F4587092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627F7-63B2-4E28-A30D-A2DE5CE2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1D130-CC87-4555-AD96-08325121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B7E5C-FC82-4158-AC10-30EC7D05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B3134-4699-4363-80A5-D1376B4E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8FC6E-82F1-4B43-9F78-7821BA7F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2F16E-87A9-4DA6-8088-F159A72D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3A24E-A33D-4A13-ADE7-7B82966E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3ED11-1EEB-446D-B0FB-9CCAA6D2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2F72-A7F8-46D7-A003-8DF8F1C8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EB7E3-2AB4-4D01-AB68-C2D9A9C2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26E9D-9653-4D97-866A-7754D92C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877E1-E269-4532-932F-31143566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BD82A-9EDF-44C5-BC69-EC754D81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80373-7F82-4C4C-B735-10187FAD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59502-06E5-4BF3-A449-7789743B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A2155-10C1-4FAF-997F-62B56AE2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1C8EE-B0CA-471B-BFBD-E4F12508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4B36D-39A9-426B-A851-2C25410F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D4151-63F0-4343-AD0C-C0AE1B2A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FBC-291A-48E1-966D-A1F5E8C0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92D22-9448-4586-8B22-13ADADD9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A26FE-F653-43CB-B9CE-8FE1550E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0B636-8F5E-4159-B570-CA30BCD6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89550-0F92-4417-9D54-5E3E370E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79572-15D3-4E23-8A01-897BA05B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5B530-8245-4257-A9EB-5AF5E7E4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BEFF1-50DE-472B-8BBF-A0A8D2AE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3B4CB-5BA2-4533-B1C3-30FD4F8C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E2ECC-6A71-412D-B567-5ECA49F0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EF45A-9D21-4696-BF88-23CA3C18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C82D-4E57-4839-98C7-2F77AB66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46908-156D-43DA-AED2-450B7717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98B1B-B696-4BB4-8919-4BF88EBE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2A8BA-C6DD-419D-87C3-54DA8BD8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010FB-6285-47F3-ADF0-AF69FBDB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892C7-0CAC-46DD-A4FE-4C702BA7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A731C-864A-4550-B53E-496C37EE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6B1DE-3F45-40DA-8873-19084FA1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F3745-BBFC-4784-B9E6-CCF7FE95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DD8AF-00A9-45E4-9636-97D1F952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8E1CC-E298-4847-AA97-5D90D3C5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1725-707D-4A00-A2F2-0B2FDE66B69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B72D-4DF2-4039-BC08-C022777BB74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259F-E367-47CA-B2E5-DB978904A47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E07A-6FAB-42CD-BCC4-4A300C52CA0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A677-808B-48CB-AEE0-D0E31F04F3B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26A2-E6AF-4C22-BE66-F254C55078A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58E8-52B2-4605-83AC-C7CCFBC9157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06AD-E193-48BC-8910-31EC8FD3D8F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A8E5-D69D-4764-A5A4-1B00E48B766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50F3-A6B0-4AD5-963B-A4F903A78B4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496F-605F-4693-95BC-067A200073D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297F-D19C-4A46-8B86-45A575B6434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hyperlink" Target="file:///d:/Franco/elecmagnet/campo_electrico/rc/rc.htm" TargetMode="External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3"/>
          <p:cNvSpPr/>
          <p:nvPr/>
        </p:nvSpPr>
        <p:spPr>
          <a:xfrm>
            <a:off x="1370160" y="158436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3480" indent="-2103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ORRIENTE ELÉCT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457200" y="228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6600"/>
                </a:solidFill>
                <a:latin typeface="Comic Sans MS"/>
              </a:rPr>
              <a:t>CIRCUITOS DE UNA SOLA M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"/>
          <p:cNvSpPr/>
          <p:nvPr/>
        </p:nvSpPr>
        <p:spPr>
          <a:xfrm>
            <a:off x="297000" y="663480"/>
            <a:ext cx="8548560" cy="4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414360" y="1290600"/>
            <a:ext cx="8251920" cy="1008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Leyes de Kirchhoff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on útiles para encontrar las corrientes que circulan por las diferentes partes de un circuito o las caídas de potencial que existen entre dos puntos determinados de dicho circu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1492200" y="3341520"/>
            <a:ext cx="25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3300"/>
                </a:solidFill>
                <a:latin typeface="Arial"/>
              </a:rPr>
              <a:t>Conceptos prev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264960" y="4168800"/>
            <a:ext cx="84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Nudo: Intersección de tres o más conduc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264960" y="4719600"/>
            <a:ext cx="84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Malla: Todo recorrido cerrado en un circu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264960" y="5272200"/>
            <a:ext cx="887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Rama: Es un elemento o grupo de elementos conectados entre dos nu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47760" y="347760"/>
            <a:ext cx="8491320" cy="1069560"/>
          </a:xfrm>
          <a:prstGeom prst="rect">
            <a:avLst/>
          </a:prstGeom>
          <a:solidFill>
            <a:srgbClr val="ff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Ley de Kirchhoff de las corrientes (LKC)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cualquier instante, la suma algebraica de todas las corrientes que concurren en un nudo es c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3"/>
          <p:cNvSpPr/>
          <p:nvPr/>
        </p:nvSpPr>
        <p:spPr>
          <a:xfrm>
            <a:off x="299880" y="2503440"/>
            <a:ext cx="101628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5"/>
          <p:cNvSpPr/>
          <p:nvPr/>
        </p:nvSpPr>
        <p:spPr>
          <a:xfrm flipV="1">
            <a:off x="1308240" y="1727280"/>
            <a:ext cx="465120" cy="80496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6"/>
          <p:cNvSpPr/>
          <p:nvPr/>
        </p:nvSpPr>
        <p:spPr>
          <a:xfrm>
            <a:off x="1322280" y="2503440"/>
            <a:ext cx="627120" cy="3621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7"/>
          <p:cNvSpPr/>
          <p:nvPr/>
        </p:nvSpPr>
        <p:spPr>
          <a:xfrm>
            <a:off x="652320" y="2481120"/>
            <a:ext cx="59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1382760" y="259092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s-ES" sz="1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9"/>
          <p:cNvSpPr/>
          <p:nvPr/>
        </p:nvSpPr>
        <p:spPr>
          <a:xfrm>
            <a:off x="1192320" y="1928880"/>
            <a:ext cx="59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s-ES" sz="18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Object 1024"/>
              <p:cNvSpPr txBox="1"/>
              <p:nvPr/>
            </p:nvSpPr>
            <p:spPr>
              <a:xfrm>
                <a:off x="2674800" y="2195640"/>
                <a:ext cx="18957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Text Box 11"/>
          <p:cNvSpPr/>
          <p:nvPr/>
        </p:nvSpPr>
        <p:spPr>
          <a:xfrm>
            <a:off x="4246560" y="3429000"/>
            <a:ext cx="4689360" cy="862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Arial"/>
              </a:rPr>
              <a:t>Corrientes que salen del nudo (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Arial"/>
              </a:rPr>
              <a:t>Corrientes que entran en el nudo (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2"/>
          <p:cNvSpPr/>
          <p:nvPr/>
        </p:nvSpPr>
        <p:spPr>
          <a:xfrm>
            <a:off x="5365800" y="2778120"/>
            <a:ext cx="17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13"/>
          <p:cNvSpPr/>
          <p:nvPr/>
        </p:nvSpPr>
        <p:spPr>
          <a:xfrm rot="4500000">
            <a:off x="7040160" y="3023280"/>
            <a:ext cx="477720" cy="333360"/>
          </a:xfrm>
          <a:custGeom>
            <a:avLst/>
            <a:gdLst>
              <a:gd name="textAreaLeft" fmla="*/ 83520 w 477720"/>
              <a:gd name="textAreaRight" fmla="*/ 346320 w 477720"/>
              <a:gd name="textAreaTop" fmla="*/ 44640 h 333360"/>
              <a:gd name="textAreaBottom" fmla="*/ 288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3366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1025"/>
              <p:cNvSpPr txBox="1"/>
              <p:nvPr/>
            </p:nvSpPr>
            <p:spPr>
              <a:xfrm>
                <a:off x="2214720" y="4843440"/>
                <a:ext cx="12999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03" name="Rectangle 18"/>
          <p:cNvSpPr/>
          <p:nvPr/>
        </p:nvSpPr>
        <p:spPr>
          <a:xfrm>
            <a:off x="1925640" y="4675320"/>
            <a:ext cx="1838160" cy="1228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325440" y="617400"/>
            <a:ext cx="8493120" cy="106956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Ley de Kirchhoff de los voltajes (LKV)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a suma algebraica de todas las caídas de tensión a lo largo de una malla debe ser nula en cualquier inst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988920" y="1963800"/>
            <a:ext cx="3060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00"/>
                </a:solidFill>
                <a:latin typeface="Arial"/>
              </a:rPr>
              <a:t>Caída de tensión V</a:t>
            </a:r>
            <a:r>
              <a:rPr b="0" lang="es-ES" sz="1800" spc="-1" strike="noStrike" baseline="-25000">
                <a:solidFill>
                  <a:srgbClr val="808000"/>
                </a:solidFill>
                <a:latin typeface="Arial"/>
              </a:rPr>
              <a:t>12</a:t>
            </a:r>
            <a:r>
              <a:rPr b="0" lang="es-ES" sz="1800" spc="-1" strike="noStrike">
                <a:solidFill>
                  <a:srgbClr val="808000"/>
                </a:solidFill>
                <a:latin typeface="Arial"/>
              </a:rPr>
              <a:t>=V</a:t>
            </a:r>
            <a:r>
              <a:rPr b="0" lang="es-ES" sz="1800" spc="-1" strike="noStrike" baseline="-25000">
                <a:solidFill>
                  <a:srgbClr val="808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808000"/>
                </a:solidFill>
                <a:latin typeface="Arial"/>
              </a:rPr>
              <a:t>-V</a:t>
            </a:r>
            <a:r>
              <a:rPr b="0" lang="es-ES" sz="1800" spc="-1" strike="noStrike" baseline="-25000">
                <a:solidFill>
                  <a:srgbClr val="808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808000"/>
                </a:solidFill>
                <a:latin typeface="Arial"/>
              </a:rPr>
              <a:t>: Energía en julios eliminada del circuito cuando una carga de +1 C pasa del punto 1 al punt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289080" y="4870440"/>
            <a:ext cx="17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99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2101680" y="4065480"/>
            <a:ext cx="193680" cy="2394000"/>
          </a:xfrm>
          <a:custGeom>
            <a:avLst/>
            <a:gdLst>
              <a:gd name="textAreaLeft" fmla="*/ 123840 w 193680"/>
              <a:gd name="textAreaRight" fmla="*/ 194040 w 193680"/>
              <a:gd name="textAreaTop" fmla="*/ 62280 h 2394000"/>
              <a:gd name="textAreaBottom" fmla="*/ 2331720 h 239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7"/>
          <p:cNvGrpSpPr/>
          <p:nvPr/>
        </p:nvGrpSpPr>
        <p:grpSpPr>
          <a:xfrm>
            <a:off x="2614680" y="4229280"/>
            <a:ext cx="1366920" cy="234720"/>
            <a:chOff x="2614680" y="4229280"/>
            <a:chExt cx="1366920" cy="234720"/>
          </a:xfrm>
        </p:grpSpPr>
        <p:sp>
          <p:nvSpPr>
            <p:cNvPr id="609" name="Line 8"/>
            <p:cNvSpPr/>
            <p:nvPr/>
          </p:nvSpPr>
          <p:spPr>
            <a:xfrm>
              <a:off x="2614680" y="4460400"/>
              <a:ext cx="23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9"/>
            <p:cNvSpPr/>
            <p:nvPr/>
          </p:nvSpPr>
          <p:spPr>
            <a:xfrm flipV="1">
              <a:off x="2852640" y="4235040"/>
              <a:ext cx="141840" cy="21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0"/>
            <p:cNvSpPr/>
            <p:nvPr/>
          </p:nvSpPr>
          <p:spPr>
            <a:xfrm>
              <a:off x="2998080" y="4241880"/>
              <a:ext cx="141840" cy="22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11"/>
            <p:cNvSpPr/>
            <p:nvPr/>
          </p:nvSpPr>
          <p:spPr>
            <a:xfrm>
              <a:off x="3749760" y="4464000"/>
              <a:ext cx="23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2"/>
            <p:cNvSpPr/>
            <p:nvPr/>
          </p:nvSpPr>
          <p:spPr>
            <a:xfrm flipV="1">
              <a:off x="3143520" y="4235400"/>
              <a:ext cx="1483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13"/>
            <p:cNvSpPr/>
            <p:nvPr/>
          </p:nvSpPr>
          <p:spPr>
            <a:xfrm>
              <a:off x="3285720" y="4229280"/>
              <a:ext cx="15120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14"/>
            <p:cNvSpPr/>
            <p:nvPr/>
          </p:nvSpPr>
          <p:spPr>
            <a:xfrm flipV="1">
              <a:off x="3446640" y="4238640"/>
              <a:ext cx="141840" cy="21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15"/>
            <p:cNvSpPr/>
            <p:nvPr/>
          </p:nvSpPr>
          <p:spPr>
            <a:xfrm>
              <a:off x="3592080" y="4229280"/>
              <a:ext cx="15444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6"/>
          <p:cNvGrpSpPr/>
          <p:nvPr/>
        </p:nvGrpSpPr>
        <p:grpSpPr>
          <a:xfrm>
            <a:off x="2614680" y="5678640"/>
            <a:ext cx="1140840" cy="479160"/>
            <a:chOff x="2614680" y="5678640"/>
            <a:chExt cx="1140840" cy="479160"/>
          </a:xfrm>
        </p:grpSpPr>
        <p:sp>
          <p:nvSpPr>
            <p:cNvPr id="618" name="Line 17"/>
            <p:cNvSpPr/>
            <p:nvPr/>
          </p:nvSpPr>
          <p:spPr>
            <a:xfrm>
              <a:off x="3107880" y="5678640"/>
              <a:ext cx="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8"/>
            <p:cNvSpPr/>
            <p:nvPr/>
          </p:nvSpPr>
          <p:spPr>
            <a:xfrm>
              <a:off x="3269880" y="5830200"/>
              <a:ext cx="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9"/>
            <p:cNvSpPr/>
            <p:nvPr/>
          </p:nvSpPr>
          <p:spPr>
            <a:xfrm flipH="1">
              <a:off x="2614680" y="5933520"/>
              <a:ext cx="49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0"/>
            <p:cNvSpPr/>
            <p:nvPr/>
          </p:nvSpPr>
          <p:spPr>
            <a:xfrm flipH="1">
              <a:off x="3262320" y="5933520"/>
              <a:ext cx="49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Line 21"/>
          <p:cNvSpPr/>
          <p:nvPr/>
        </p:nvSpPr>
        <p:spPr>
          <a:xfrm>
            <a:off x="2878200" y="4043520"/>
            <a:ext cx="73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22"/>
          <p:cNvSpPr/>
          <p:nvPr/>
        </p:nvSpPr>
        <p:spPr>
          <a:xfrm>
            <a:off x="3110040" y="3733920"/>
            <a:ext cx="62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23"/>
          <p:cNvSpPr/>
          <p:nvPr/>
        </p:nvSpPr>
        <p:spPr>
          <a:xfrm>
            <a:off x="2679840" y="4432320"/>
            <a:ext cx="568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24"/>
          <p:cNvSpPr/>
          <p:nvPr/>
        </p:nvSpPr>
        <p:spPr>
          <a:xfrm>
            <a:off x="3844800" y="443556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5"/>
          <p:cNvSpPr/>
          <p:nvPr/>
        </p:nvSpPr>
        <p:spPr>
          <a:xfrm>
            <a:off x="2701800" y="590220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6"/>
          <p:cNvSpPr/>
          <p:nvPr/>
        </p:nvSpPr>
        <p:spPr>
          <a:xfrm>
            <a:off x="3552840" y="590220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7"/>
          <p:cNvSpPr/>
          <p:nvPr/>
        </p:nvSpPr>
        <p:spPr>
          <a:xfrm>
            <a:off x="2543040" y="40989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8"/>
          <p:cNvSpPr/>
          <p:nvPr/>
        </p:nvSpPr>
        <p:spPr>
          <a:xfrm>
            <a:off x="3720960" y="413712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9"/>
          <p:cNvSpPr/>
          <p:nvPr/>
        </p:nvSpPr>
        <p:spPr>
          <a:xfrm>
            <a:off x="2562120" y="560088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30"/>
          <p:cNvSpPr/>
          <p:nvPr/>
        </p:nvSpPr>
        <p:spPr>
          <a:xfrm>
            <a:off x="3432240" y="56134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31"/>
          <p:cNvSpPr/>
          <p:nvPr/>
        </p:nvSpPr>
        <p:spPr>
          <a:xfrm>
            <a:off x="4383000" y="3992400"/>
            <a:ext cx="44848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En una resistencia hay una caída de tensión positiva en el sentido de la corriente (V</a:t>
            </a:r>
            <a:r>
              <a:rPr b="0" lang="es-ES" sz="1800" spc="-1" strike="noStrike" baseline="-25000">
                <a:solidFill>
                  <a:srgbClr val="cc6600"/>
                </a:solidFill>
                <a:latin typeface="Arial"/>
              </a:rPr>
              <a:t>12</a:t>
            </a: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&gt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32"/>
          <p:cNvSpPr/>
          <p:nvPr/>
        </p:nvSpPr>
        <p:spPr>
          <a:xfrm>
            <a:off x="4383000" y="5364000"/>
            <a:ext cx="4484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33"/>
                </a:solidFill>
                <a:latin typeface="Arial"/>
              </a:rPr>
              <a:t>En una batería hay una caída de tensión positiva en el sentido del terminal positivo al negativo, </a:t>
            </a:r>
            <a:r>
              <a:rPr b="1" lang="es-ES" sz="1800" spc="-1" strike="noStrike">
                <a:solidFill>
                  <a:srgbClr val="996633"/>
                </a:solidFill>
                <a:latin typeface="Arial"/>
              </a:rPr>
              <a:t>independientemente del sentido de la corriente </a:t>
            </a:r>
            <a:r>
              <a:rPr b="0" lang="es-ES" sz="1800" spc="-1" strike="noStrike">
                <a:solidFill>
                  <a:srgbClr val="996633"/>
                </a:solidFill>
                <a:latin typeface="Arial"/>
              </a:rPr>
              <a:t>(V</a:t>
            </a:r>
            <a:r>
              <a:rPr b="0" lang="es-ES" sz="1800" spc="-1" strike="noStrike" baseline="-25000">
                <a:solidFill>
                  <a:srgbClr val="996633"/>
                </a:solidFill>
                <a:latin typeface="Arial"/>
              </a:rPr>
              <a:t>12</a:t>
            </a:r>
            <a:r>
              <a:rPr b="0" lang="es-ES" sz="1800" spc="-1" strike="noStrike">
                <a:solidFill>
                  <a:srgbClr val="996633"/>
                </a:solidFill>
                <a:latin typeface="Arial"/>
              </a:rPr>
              <a:t>&gt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Object 1024"/>
              <p:cNvSpPr txBox="1"/>
              <p:nvPr/>
            </p:nvSpPr>
            <p:spPr>
              <a:xfrm>
                <a:off x="5495760" y="2197080"/>
                <a:ext cx="14130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35" name="Rectangle 34"/>
          <p:cNvSpPr/>
          <p:nvPr/>
        </p:nvSpPr>
        <p:spPr>
          <a:xfrm>
            <a:off x="5230800" y="1895400"/>
            <a:ext cx="1998720" cy="1451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2"/>
          <p:cNvSpPr/>
          <p:nvPr/>
        </p:nvSpPr>
        <p:spPr>
          <a:xfrm>
            <a:off x="457200" y="228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6600"/>
                </a:solidFill>
                <a:latin typeface="Comic Sans MS"/>
              </a:rPr>
              <a:t>CIRCUITO ABIERTO Y CORTOCIRCU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297000" y="663480"/>
            <a:ext cx="8548560" cy="4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406440" y="1001880"/>
            <a:ext cx="8447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93840" indent="-219384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 Narrow"/>
              </a:rPr>
              <a:t>Circuito abiert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d60093"/>
                </a:solidFill>
                <a:latin typeface="Arial"/>
              </a:rPr>
              <a:t>Es una rama de un circuito por la que no circula corr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5"/>
          <p:cNvGrpSpPr/>
          <p:nvPr/>
        </p:nvGrpSpPr>
        <p:grpSpPr>
          <a:xfrm>
            <a:off x="2411280" y="2054160"/>
            <a:ext cx="841320" cy="138240"/>
            <a:chOff x="2411280" y="2054160"/>
            <a:chExt cx="841320" cy="138240"/>
          </a:xfrm>
        </p:grpSpPr>
        <p:sp>
          <p:nvSpPr>
            <p:cNvPr id="640" name="Line 6"/>
            <p:cNvSpPr/>
            <p:nvPr/>
          </p:nvSpPr>
          <p:spPr>
            <a:xfrm>
              <a:off x="2411280" y="219060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7"/>
            <p:cNvSpPr/>
            <p:nvPr/>
          </p:nvSpPr>
          <p:spPr>
            <a:xfrm flipV="1">
              <a:off x="2557800" y="2057760"/>
              <a:ext cx="87480" cy="1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8"/>
            <p:cNvSpPr/>
            <p:nvPr/>
          </p:nvSpPr>
          <p:spPr>
            <a:xfrm>
              <a:off x="2647440" y="2061720"/>
              <a:ext cx="87480" cy="13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9"/>
            <p:cNvSpPr/>
            <p:nvPr/>
          </p:nvSpPr>
          <p:spPr>
            <a:xfrm>
              <a:off x="3110040" y="2192400"/>
              <a:ext cx="1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0"/>
            <p:cNvSpPr/>
            <p:nvPr/>
          </p:nvSpPr>
          <p:spPr>
            <a:xfrm flipV="1">
              <a:off x="2736720" y="2057760"/>
              <a:ext cx="91080" cy="13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1"/>
            <p:cNvSpPr/>
            <p:nvPr/>
          </p:nvSpPr>
          <p:spPr>
            <a:xfrm>
              <a:off x="2824560" y="2054160"/>
              <a:ext cx="93240" cy="1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2"/>
            <p:cNvSpPr/>
            <p:nvPr/>
          </p:nvSpPr>
          <p:spPr>
            <a:xfrm flipV="1">
              <a:off x="2923560" y="2059200"/>
              <a:ext cx="8748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3"/>
            <p:cNvSpPr/>
            <p:nvPr/>
          </p:nvSpPr>
          <p:spPr>
            <a:xfrm>
              <a:off x="3013200" y="2054160"/>
              <a:ext cx="9504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14"/>
          <p:cNvGrpSpPr/>
          <p:nvPr/>
        </p:nvGrpSpPr>
        <p:grpSpPr>
          <a:xfrm>
            <a:off x="3451320" y="2646360"/>
            <a:ext cx="127080" cy="704880"/>
            <a:chOff x="3451320" y="2646360"/>
            <a:chExt cx="127080" cy="704880"/>
          </a:xfrm>
        </p:grpSpPr>
        <p:sp>
          <p:nvSpPr>
            <p:cNvPr id="649" name="Line 15"/>
            <p:cNvSpPr/>
            <p:nvPr/>
          </p:nvSpPr>
          <p:spPr>
            <a:xfrm>
              <a:off x="3453120" y="2737800"/>
              <a:ext cx="12312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6"/>
            <p:cNvSpPr/>
            <p:nvPr/>
          </p:nvSpPr>
          <p:spPr>
            <a:xfrm flipH="1">
              <a:off x="3451320" y="2810160"/>
              <a:ext cx="12528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7"/>
            <p:cNvSpPr/>
            <p:nvPr/>
          </p:nvSpPr>
          <p:spPr>
            <a:xfrm>
              <a:off x="3451320" y="2910960"/>
              <a:ext cx="12312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18"/>
            <p:cNvSpPr/>
            <p:nvPr/>
          </p:nvSpPr>
          <p:spPr>
            <a:xfrm flipH="1">
              <a:off x="3453120" y="2989080"/>
              <a:ext cx="12528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19"/>
            <p:cNvSpPr/>
            <p:nvPr/>
          </p:nvSpPr>
          <p:spPr>
            <a:xfrm>
              <a:off x="3454920" y="3088080"/>
              <a:ext cx="12312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20"/>
            <p:cNvSpPr/>
            <p:nvPr/>
          </p:nvSpPr>
          <p:spPr>
            <a:xfrm flipH="1">
              <a:off x="3453120" y="3162600"/>
              <a:ext cx="12528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21"/>
            <p:cNvSpPr/>
            <p:nvPr/>
          </p:nvSpPr>
          <p:spPr>
            <a:xfrm flipV="1">
              <a:off x="3453120" y="2646360"/>
              <a:ext cx="0" cy="9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22"/>
            <p:cNvSpPr/>
            <p:nvPr/>
          </p:nvSpPr>
          <p:spPr>
            <a:xfrm flipV="1">
              <a:off x="3454920" y="3259800"/>
              <a:ext cx="0" cy="9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Group 23"/>
          <p:cNvGrpSpPr/>
          <p:nvPr/>
        </p:nvGrpSpPr>
        <p:grpSpPr>
          <a:xfrm>
            <a:off x="1835280" y="2006640"/>
            <a:ext cx="577800" cy="361800"/>
            <a:chOff x="1835280" y="2006640"/>
            <a:chExt cx="577800" cy="361800"/>
          </a:xfrm>
        </p:grpSpPr>
        <p:sp>
          <p:nvSpPr>
            <p:cNvPr id="658" name="Line 24"/>
            <p:cNvSpPr/>
            <p:nvPr/>
          </p:nvSpPr>
          <p:spPr>
            <a:xfrm flipH="1">
              <a:off x="1835280" y="2190240"/>
              <a:ext cx="24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Group 25"/>
            <p:cNvGrpSpPr/>
            <p:nvPr/>
          </p:nvGrpSpPr>
          <p:grpSpPr>
            <a:xfrm>
              <a:off x="2085120" y="2006640"/>
              <a:ext cx="327960" cy="361800"/>
              <a:chOff x="2085120" y="2006640"/>
              <a:chExt cx="327960" cy="361800"/>
            </a:xfrm>
          </p:grpSpPr>
          <p:sp>
            <p:nvSpPr>
              <p:cNvPr id="660" name="Line 26"/>
              <p:cNvSpPr/>
              <p:nvPr/>
            </p:nvSpPr>
            <p:spPr>
              <a:xfrm>
                <a:off x="2163240" y="2006640"/>
                <a:ext cx="0" cy="36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27"/>
              <p:cNvSpPr/>
              <p:nvPr/>
            </p:nvSpPr>
            <p:spPr>
              <a:xfrm>
                <a:off x="2085120" y="2113560"/>
                <a:ext cx="0" cy="17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28"/>
              <p:cNvSpPr/>
              <p:nvPr/>
            </p:nvSpPr>
            <p:spPr>
              <a:xfrm flipH="1">
                <a:off x="2163240" y="2190240"/>
                <a:ext cx="24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3" name="Line 29"/>
          <p:cNvSpPr/>
          <p:nvPr/>
        </p:nvSpPr>
        <p:spPr>
          <a:xfrm flipH="1">
            <a:off x="1436760" y="2189160"/>
            <a:ext cx="42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30"/>
          <p:cNvSpPr/>
          <p:nvPr/>
        </p:nvSpPr>
        <p:spPr>
          <a:xfrm>
            <a:off x="1436760" y="2192400"/>
            <a:ext cx="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31"/>
          <p:cNvSpPr/>
          <p:nvPr/>
        </p:nvSpPr>
        <p:spPr>
          <a:xfrm>
            <a:off x="1436760" y="3090960"/>
            <a:ext cx="0" cy="6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32"/>
          <p:cNvSpPr/>
          <p:nvPr/>
        </p:nvSpPr>
        <p:spPr>
          <a:xfrm>
            <a:off x="3251160" y="2192400"/>
            <a:ext cx="20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33"/>
          <p:cNvSpPr/>
          <p:nvPr/>
        </p:nvSpPr>
        <p:spPr>
          <a:xfrm>
            <a:off x="3454560" y="219240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4"/>
          <p:cNvSpPr/>
          <p:nvPr/>
        </p:nvSpPr>
        <p:spPr>
          <a:xfrm>
            <a:off x="1436760" y="3773520"/>
            <a:ext cx="201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5"/>
          <p:cNvSpPr/>
          <p:nvPr/>
        </p:nvSpPr>
        <p:spPr>
          <a:xfrm>
            <a:off x="3454560" y="33400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37"/>
          <p:cNvSpPr/>
          <p:nvPr/>
        </p:nvSpPr>
        <p:spPr>
          <a:xfrm flipV="1">
            <a:off x="1436760" y="2916000"/>
            <a:ext cx="17460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38"/>
          <p:cNvSpPr/>
          <p:nvPr/>
        </p:nvSpPr>
        <p:spPr>
          <a:xfrm>
            <a:off x="1663560" y="216684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39"/>
          <p:cNvSpPr/>
          <p:nvPr/>
        </p:nvSpPr>
        <p:spPr>
          <a:xfrm>
            <a:off x="3244680" y="2166840"/>
            <a:ext cx="5724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40"/>
          <p:cNvSpPr/>
          <p:nvPr/>
        </p:nvSpPr>
        <p:spPr>
          <a:xfrm>
            <a:off x="1550880" y="1870200"/>
            <a:ext cx="44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1"/>
          <p:cNvSpPr/>
          <p:nvPr/>
        </p:nvSpPr>
        <p:spPr>
          <a:xfrm>
            <a:off x="3124080" y="1847880"/>
            <a:ext cx="44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Object 1024"/>
              <p:cNvSpPr txBox="1"/>
              <p:nvPr/>
            </p:nvSpPr>
            <p:spPr>
              <a:xfrm>
                <a:off x="4379760" y="2644920"/>
                <a:ext cx="1470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6" name="Text Box 45"/>
          <p:cNvSpPr/>
          <p:nvPr/>
        </p:nvSpPr>
        <p:spPr>
          <a:xfrm>
            <a:off x="2003400" y="2278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7"/>
          <p:cNvSpPr/>
          <p:nvPr/>
        </p:nvSpPr>
        <p:spPr>
          <a:xfrm>
            <a:off x="2741760" y="2192400"/>
            <a:ext cx="49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8"/>
          <p:cNvSpPr/>
          <p:nvPr/>
        </p:nvSpPr>
        <p:spPr>
          <a:xfrm>
            <a:off x="3156120" y="2793960"/>
            <a:ext cx="49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49"/>
          <p:cNvSpPr/>
          <p:nvPr/>
        </p:nvSpPr>
        <p:spPr>
          <a:xfrm flipH="1">
            <a:off x="5486400" y="2467080"/>
            <a:ext cx="449280" cy="77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0"/>
          <p:cNvSpPr/>
          <p:nvPr/>
        </p:nvSpPr>
        <p:spPr>
          <a:xfrm>
            <a:off x="5283360" y="32068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51"/>
          <p:cNvSpPr/>
          <p:nvPr/>
        </p:nvSpPr>
        <p:spPr>
          <a:xfrm>
            <a:off x="6211800" y="2744640"/>
            <a:ext cx="406440" cy="201600"/>
          </a:xfrm>
          <a:custGeom>
            <a:avLst/>
            <a:gdLst>
              <a:gd name="textAreaLeft" fmla="*/ 63360 w 406440"/>
              <a:gd name="textAreaRight" fmla="*/ 355680 w 406440"/>
              <a:gd name="textAreaTop" fmla="*/ 50400 h 201600"/>
              <a:gd name="textAreaBottom" fmla="*/ 151200 h 201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Object 1025"/>
              <p:cNvSpPr txBox="1"/>
              <p:nvPr/>
            </p:nvSpPr>
            <p:spPr>
              <a:xfrm>
                <a:off x="7056360" y="2692440"/>
                <a:ext cx="9795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Text Box 53"/>
          <p:cNvSpPr/>
          <p:nvPr/>
        </p:nvSpPr>
        <p:spPr>
          <a:xfrm>
            <a:off x="347760" y="4076640"/>
            <a:ext cx="8447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7560" indent="-17175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 Narrow"/>
              </a:rPr>
              <a:t>Cortocircuit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d60093"/>
                </a:solidFill>
                <a:latin typeface="Arial"/>
              </a:rPr>
              <a:t>Es un recorrido de muy baja resistencia (idealmente R=0) entre dos puntos de un circu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54"/>
          <p:cNvGrpSpPr/>
          <p:nvPr/>
        </p:nvGrpSpPr>
        <p:grpSpPr>
          <a:xfrm>
            <a:off x="1336680" y="5116320"/>
            <a:ext cx="127080" cy="704160"/>
            <a:chOff x="1336680" y="5116320"/>
            <a:chExt cx="127080" cy="704160"/>
          </a:xfrm>
        </p:grpSpPr>
        <p:sp>
          <p:nvSpPr>
            <p:cNvPr id="685" name="Line 55"/>
            <p:cNvSpPr/>
            <p:nvPr/>
          </p:nvSpPr>
          <p:spPr>
            <a:xfrm>
              <a:off x="1338480" y="5207760"/>
              <a:ext cx="123120" cy="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56"/>
            <p:cNvSpPr/>
            <p:nvPr/>
          </p:nvSpPr>
          <p:spPr>
            <a:xfrm flipH="1">
              <a:off x="1336680" y="5280480"/>
              <a:ext cx="12528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57"/>
            <p:cNvSpPr/>
            <p:nvPr/>
          </p:nvSpPr>
          <p:spPr>
            <a:xfrm>
              <a:off x="1336680" y="5381280"/>
              <a:ext cx="123120" cy="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58"/>
            <p:cNvSpPr/>
            <p:nvPr/>
          </p:nvSpPr>
          <p:spPr>
            <a:xfrm flipH="1">
              <a:off x="1338480" y="5459400"/>
              <a:ext cx="12528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59"/>
            <p:cNvSpPr/>
            <p:nvPr/>
          </p:nvSpPr>
          <p:spPr>
            <a:xfrm>
              <a:off x="1340280" y="5558400"/>
              <a:ext cx="123120" cy="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60"/>
            <p:cNvSpPr/>
            <p:nvPr/>
          </p:nvSpPr>
          <p:spPr>
            <a:xfrm flipH="1">
              <a:off x="1338480" y="5632560"/>
              <a:ext cx="12528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61"/>
            <p:cNvSpPr/>
            <p:nvPr/>
          </p:nvSpPr>
          <p:spPr>
            <a:xfrm flipV="1">
              <a:off x="1338480" y="5116320"/>
              <a:ext cx="0" cy="9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62"/>
            <p:cNvSpPr/>
            <p:nvPr/>
          </p:nvSpPr>
          <p:spPr>
            <a:xfrm flipV="1">
              <a:off x="1340280" y="5729400"/>
              <a:ext cx="0" cy="9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Group 63"/>
          <p:cNvGrpSpPr/>
          <p:nvPr/>
        </p:nvGrpSpPr>
        <p:grpSpPr>
          <a:xfrm>
            <a:off x="1139760" y="5767200"/>
            <a:ext cx="397080" cy="527040"/>
            <a:chOff x="1139760" y="5767200"/>
            <a:chExt cx="397080" cy="527040"/>
          </a:xfrm>
        </p:grpSpPr>
        <p:sp>
          <p:nvSpPr>
            <p:cNvPr id="694" name="Line 64"/>
            <p:cNvSpPr/>
            <p:nvPr/>
          </p:nvSpPr>
          <p:spPr>
            <a:xfrm>
              <a:off x="1139760" y="5989680"/>
              <a:ext cx="3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65"/>
            <p:cNvSpPr/>
            <p:nvPr/>
          </p:nvSpPr>
          <p:spPr>
            <a:xfrm>
              <a:off x="1238400" y="607248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66"/>
            <p:cNvSpPr/>
            <p:nvPr/>
          </p:nvSpPr>
          <p:spPr>
            <a:xfrm flipV="1">
              <a:off x="1339200" y="5767200"/>
              <a:ext cx="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67"/>
            <p:cNvSpPr/>
            <p:nvPr/>
          </p:nvSpPr>
          <p:spPr>
            <a:xfrm flipV="1">
              <a:off x="1339200" y="6072120"/>
              <a:ext cx="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Line 68"/>
          <p:cNvSpPr/>
          <p:nvPr/>
        </p:nvSpPr>
        <p:spPr>
          <a:xfrm>
            <a:off x="1343160" y="5113440"/>
            <a:ext cx="18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Group 69"/>
          <p:cNvGrpSpPr/>
          <p:nvPr/>
        </p:nvGrpSpPr>
        <p:grpSpPr>
          <a:xfrm>
            <a:off x="3189240" y="5379840"/>
            <a:ext cx="127080" cy="704160"/>
            <a:chOff x="3189240" y="5379840"/>
            <a:chExt cx="127080" cy="704160"/>
          </a:xfrm>
        </p:grpSpPr>
        <p:sp>
          <p:nvSpPr>
            <p:cNvPr id="700" name="Line 70"/>
            <p:cNvSpPr/>
            <p:nvPr/>
          </p:nvSpPr>
          <p:spPr>
            <a:xfrm>
              <a:off x="3191040" y="5471280"/>
              <a:ext cx="123120" cy="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71"/>
            <p:cNvSpPr/>
            <p:nvPr/>
          </p:nvSpPr>
          <p:spPr>
            <a:xfrm flipH="1">
              <a:off x="3189240" y="5544000"/>
              <a:ext cx="12528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72"/>
            <p:cNvSpPr/>
            <p:nvPr/>
          </p:nvSpPr>
          <p:spPr>
            <a:xfrm>
              <a:off x="3189240" y="5644800"/>
              <a:ext cx="123120" cy="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73"/>
            <p:cNvSpPr/>
            <p:nvPr/>
          </p:nvSpPr>
          <p:spPr>
            <a:xfrm flipH="1">
              <a:off x="3191040" y="5722920"/>
              <a:ext cx="12528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74"/>
            <p:cNvSpPr/>
            <p:nvPr/>
          </p:nvSpPr>
          <p:spPr>
            <a:xfrm>
              <a:off x="3192840" y="5821920"/>
              <a:ext cx="123120" cy="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75"/>
            <p:cNvSpPr/>
            <p:nvPr/>
          </p:nvSpPr>
          <p:spPr>
            <a:xfrm flipH="1">
              <a:off x="3191040" y="5896080"/>
              <a:ext cx="12528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76"/>
            <p:cNvSpPr/>
            <p:nvPr/>
          </p:nvSpPr>
          <p:spPr>
            <a:xfrm flipV="1">
              <a:off x="3191040" y="5379840"/>
              <a:ext cx="0" cy="9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77"/>
            <p:cNvSpPr/>
            <p:nvPr/>
          </p:nvSpPr>
          <p:spPr>
            <a:xfrm flipV="1">
              <a:off x="3192840" y="5992920"/>
              <a:ext cx="0" cy="9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Line 78"/>
          <p:cNvSpPr/>
          <p:nvPr/>
        </p:nvSpPr>
        <p:spPr>
          <a:xfrm>
            <a:off x="1335240" y="6284880"/>
            <a:ext cx="18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9"/>
          <p:cNvSpPr/>
          <p:nvPr/>
        </p:nvSpPr>
        <p:spPr>
          <a:xfrm>
            <a:off x="2655720" y="5122800"/>
            <a:ext cx="0" cy="11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80"/>
          <p:cNvSpPr/>
          <p:nvPr/>
        </p:nvSpPr>
        <p:spPr>
          <a:xfrm>
            <a:off x="3191040" y="51246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81"/>
          <p:cNvSpPr/>
          <p:nvPr/>
        </p:nvSpPr>
        <p:spPr>
          <a:xfrm>
            <a:off x="3193920" y="6080040"/>
            <a:ext cx="0" cy="20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82"/>
          <p:cNvSpPr/>
          <p:nvPr/>
        </p:nvSpPr>
        <p:spPr>
          <a:xfrm>
            <a:off x="1432080" y="5264280"/>
            <a:ext cx="32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83"/>
          <p:cNvSpPr/>
          <p:nvPr/>
        </p:nvSpPr>
        <p:spPr>
          <a:xfrm>
            <a:off x="1492200" y="588960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84"/>
          <p:cNvSpPr/>
          <p:nvPr/>
        </p:nvSpPr>
        <p:spPr>
          <a:xfrm>
            <a:off x="2943360" y="5556240"/>
            <a:ext cx="32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85"/>
          <p:cNvSpPr/>
          <p:nvPr/>
        </p:nvSpPr>
        <p:spPr>
          <a:xfrm rot="16200000">
            <a:off x="1674000" y="5465880"/>
            <a:ext cx="15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RTOCIRCU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86"/>
          <p:cNvSpPr/>
          <p:nvPr/>
        </p:nvSpPr>
        <p:spPr>
          <a:xfrm>
            <a:off x="2629080" y="5083200"/>
            <a:ext cx="5688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87"/>
          <p:cNvSpPr/>
          <p:nvPr/>
        </p:nvSpPr>
        <p:spPr>
          <a:xfrm>
            <a:off x="2627280" y="6259680"/>
            <a:ext cx="5724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88"/>
          <p:cNvSpPr/>
          <p:nvPr/>
        </p:nvSpPr>
        <p:spPr>
          <a:xfrm>
            <a:off x="2505240" y="4799160"/>
            <a:ext cx="44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89"/>
          <p:cNvSpPr/>
          <p:nvPr/>
        </p:nvSpPr>
        <p:spPr>
          <a:xfrm>
            <a:off x="2519280" y="6251400"/>
            <a:ext cx="44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Object 1026"/>
              <p:cNvSpPr txBox="1"/>
              <p:nvPr/>
            </p:nvSpPr>
            <p:spPr>
              <a:xfrm>
                <a:off x="4560840" y="5508720"/>
                <a:ext cx="10033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1" name="Rectangle 91"/>
          <p:cNvSpPr/>
          <p:nvPr/>
        </p:nvSpPr>
        <p:spPr>
          <a:xfrm>
            <a:off x="6805440" y="2467080"/>
            <a:ext cx="1530360" cy="9619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92"/>
          <p:cNvSpPr/>
          <p:nvPr/>
        </p:nvSpPr>
        <p:spPr>
          <a:xfrm>
            <a:off x="4365720" y="5294160"/>
            <a:ext cx="1509480" cy="785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2"/>
          <p:cNvSpPr/>
          <p:nvPr/>
        </p:nvSpPr>
        <p:spPr>
          <a:xfrm>
            <a:off x="457200" y="228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6600"/>
                </a:solidFill>
                <a:latin typeface="Comic Sans MS"/>
              </a:rPr>
              <a:t>POTENCIA. LEY DE JO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3"/>
          <p:cNvSpPr/>
          <p:nvPr/>
        </p:nvSpPr>
        <p:spPr>
          <a:xfrm>
            <a:off x="297000" y="663480"/>
            <a:ext cx="8548560" cy="4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369720" y="1031760"/>
            <a:ext cx="78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</a:rPr>
              <a:t>1.- Energía disipada en una resis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Object 1024"/>
              <p:cNvSpPr txBox="1"/>
              <p:nvPr/>
            </p:nvSpPr>
            <p:spPr>
              <a:xfrm>
                <a:off x="4083120" y="1768320"/>
                <a:ext cx="9968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7" name="AutoShape 7"/>
          <p:cNvSpPr/>
          <p:nvPr/>
        </p:nvSpPr>
        <p:spPr>
          <a:xfrm>
            <a:off x="6399360" y="1519200"/>
            <a:ext cx="1477800" cy="609480"/>
          </a:xfr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Ley de Jo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8"/>
          <p:cNvSpPr/>
          <p:nvPr/>
        </p:nvSpPr>
        <p:spPr>
          <a:xfrm>
            <a:off x="369720" y="2514600"/>
            <a:ext cx="78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Arial Narrow"/>
              </a:rPr>
              <a:t>2.- Energía absorbida o cedida por una bat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351000" y="3220920"/>
            <a:ext cx="398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Potencia de salida: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 Rapidez con la que los portadores ganan energía eléct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4572000" y="3220920"/>
            <a:ext cx="3987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6600"/>
                </a:solidFill>
                <a:latin typeface="Arial"/>
              </a:rPr>
              <a:t>Potencia de entrada:</a:t>
            </a:r>
            <a:r>
              <a:rPr b="0" lang="es-ES" sz="2000" spc="-1" strike="noStrike">
                <a:solidFill>
                  <a:srgbClr val="996600"/>
                </a:solidFill>
                <a:latin typeface="Arial"/>
              </a:rPr>
              <a:t> Rapidez con la que los portadores pierden energía eléctrica a su paso por la bate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1025"/>
              <p:cNvSpPr txBox="1"/>
              <p:nvPr/>
            </p:nvSpPr>
            <p:spPr>
              <a:xfrm>
                <a:off x="1486080" y="4513320"/>
                <a:ext cx="13460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2" name="Object 1026"/>
              <p:cNvSpPr txBox="1"/>
              <p:nvPr/>
            </p:nvSpPr>
            <p:spPr>
              <a:xfrm>
                <a:off x="5802480" y="4614840"/>
                <a:ext cx="13460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I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3" name="Text Box 13"/>
          <p:cNvSpPr/>
          <p:nvPr/>
        </p:nvSpPr>
        <p:spPr>
          <a:xfrm>
            <a:off x="425520" y="5435640"/>
            <a:ext cx="8229600" cy="7038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ualquier caso P = V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donde V es la diferencia de potencial entre los extremos del elemento e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la corriente que lo atravi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2"/>
          <p:cNvSpPr/>
          <p:nvPr/>
        </p:nvSpPr>
        <p:spPr>
          <a:xfrm>
            <a:off x="457200" y="228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6600"/>
                </a:solidFill>
                <a:latin typeface="Comic Sans MS"/>
              </a:rPr>
              <a:t>CIRCUITOS 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3"/>
          <p:cNvSpPr/>
          <p:nvPr/>
        </p:nvSpPr>
        <p:spPr>
          <a:xfrm>
            <a:off x="297000" y="663480"/>
            <a:ext cx="8548560" cy="4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361800" y="1041480"/>
            <a:ext cx="8506080" cy="1008720"/>
          </a:xfrm>
          <a:prstGeom prst="rect">
            <a:avLst/>
          </a:prstGeom>
          <a:solidFill>
            <a:srgbClr val="ff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circuito RC está compuesto por una resistencia y un condensador. En dichos circuitos la corriente fluye en una dirección, como en un circuito de cc, pero a diferencia de éstos, la corriente varía con el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998640" y="2616120"/>
            <a:ext cx="742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CASO 1: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Proceso de carga del condensador, inicialmente descargado, cuando sus terminales se conectan en serie con un resistencia y una bate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6"/>
          <p:cNvSpPr/>
          <p:nvPr/>
        </p:nvSpPr>
        <p:spPr>
          <a:xfrm>
            <a:off x="998640" y="4130640"/>
            <a:ext cx="742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CASO 2:</a:t>
            </a:r>
            <a:r>
              <a:rPr b="0" lang="es-ES" sz="2000" spc="-1" strike="noStrike">
                <a:solidFill>
                  <a:srgbClr val="3399ff"/>
                </a:solidFill>
                <a:latin typeface="Arial"/>
              </a:rPr>
              <a:t> Proceso de descarga del condensador, inicialmente cargado, cuando sus terminales se conectan en serie con un resist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7"/>
          <p:cNvSpPr/>
          <p:nvPr/>
        </p:nvSpPr>
        <p:spPr>
          <a:xfrm>
            <a:off x="722160" y="5613480"/>
            <a:ext cx="784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00"/>
                </a:solidFill>
                <a:latin typeface="Arial"/>
              </a:rPr>
              <a:t>Ambos procesos viene definidos por un tiempo caracterí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0" name="Object 1024"/>
              <p:cNvSpPr txBox="1"/>
              <p:nvPr/>
            </p:nvSpPr>
            <p:spPr>
              <a:xfrm>
                <a:off x="7824960" y="5702400"/>
                <a:ext cx="8125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2625840" y="318960"/>
            <a:ext cx="389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CARGA DEL CONDENS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5"/>
          <p:cNvSpPr/>
          <p:nvPr/>
        </p:nvSpPr>
        <p:spPr>
          <a:xfrm>
            <a:off x="3740040" y="1165320"/>
            <a:ext cx="491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00"/>
                </a:solidFill>
                <a:latin typeface="Arial"/>
              </a:rPr>
              <a:t>En t =0 el condensador está descargado. Al cerrar el interruptor, existe una caída de potencial entre los extremos de la resistencia y el condensador empieza a carga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Object 1024"/>
              <p:cNvSpPr txBox="1"/>
              <p:nvPr/>
            </p:nvSpPr>
            <p:spPr>
              <a:xfrm>
                <a:off x="3297240" y="4170240"/>
                <a:ext cx="182880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 C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-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1025"/>
              <p:cNvSpPr txBox="1"/>
              <p:nvPr/>
            </p:nvSpPr>
            <p:spPr>
              <a:xfrm>
                <a:off x="6583320" y="5584680"/>
                <a:ext cx="1130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745" name="Picture 11" descr=""/>
          <p:cNvPicPr/>
          <p:nvPr/>
        </p:nvPicPr>
        <p:blipFill>
          <a:blip r:embed="rId1"/>
          <a:stretch/>
        </p:blipFill>
        <p:spPr>
          <a:xfrm>
            <a:off x="236520" y="3367080"/>
            <a:ext cx="3086280" cy="216216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2" descr=""/>
          <p:cNvPicPr/>
          <p:nvPr/>
        </p:nvPicPr>
        <p:blipFill>
          <a:blip r:embed="rId2"/>
          <a:stretch/>
        </p:blipFill>
        <p:spPr>
          <a:xfrm>
            <a:off x="6059520" y="3429000"/>
            <a:ext cx="2257560" cy="216216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4" descr=""/>
          <p:cNvPicPr/>
          <p:nvPr/>
        </p:nvPicPr>
        <p:blipFill>
          <a:blip r:embed="rId3"/>
          <a:stretch/>
        </p:blipFill>
        <p:spPr>
          <a:xfrm>
            <a:off x="411120" y="1019160"/>
            <a:ext cx="3143160" cy="216216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15"/>
          <p:cNvSpPr/>
          <p:nvPr/>
        </p:nvSpPr>
        <p:spPr>
          <a:xfrm>
            <a:off x="3147840" y="4062240"/>
            <a:ext cx="2211480" cy="1041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6"/>
          <p:cNvSpPr/>
          <p:nvPr/>
        </p:nvSpPr>
        <p:spPr>
          <a:xfrm>
            <a:off x="6357960" y="5592600"/>
            <a:ext cx="1573200" cy="681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7"/>
          <p:cNvSpPr/>
          <p:nvPr/>
        </p:nvSpPr>
        <p:spPr>
          <a:xfrm>
            <a:off x="426960" y="5905440"/>
            <a:ext cx="4826160" cy="39888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densador cargado 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ircuito abi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 Box 2"/>
          <p:cNvSpPr/>
          <p:nvPr/>
        </p:nvSpPr>
        <p:spPr>
          <a:xfrm>
            <a:off x="2378160" y="318960"/>
            <a:ext cx="44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DESCARGA DEL CONDENS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3"/>
          <p:cNvSpPr/>
          <p:nvPr/>
        </p:nvSpPr>
        <p:spPr>
          <a:xfrm>
            <a:off x="3740040" y="1165320"/>
            <a:ext cx="491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00"/>
                </a:solidFill>
                <a:latin typeface="Arial"/>
              </a:rPr>
              <a:t>En t =0 el condensador está cargado. Al cerrar el interruptor, existe una caída de potencial entre los extremos de la resistencia debido a la corriente inicial y el condensador empieza a descarga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4" descr="E:\Art\CH26-30\F26-37B.JPG"/>
          <p:cNvPicPr/>
          <p:nvPr/>
        </p:nvPicPr>
        <p:blipFill>
          <a:blip r:embed="rId1"/>
          <a:stretch/>
        </p:blipFill>
        <p:spPr>
          <a:xfrm>
            <a:off x="746280" y="950760"/>
            <a:ext cx="2601720" cy="2135520"/>
          </a:xfrm>
          <a:prstGeom prst="rect">
            <a:avLst/>
          </a:prstGeom>
          <a:ln w="0">
            <a:noFill/>
          </a:ln>
        </p:spPr>
      </p:pic>
      <p:sp>
        <p:nvSpPr>
          <p:cNvPr id="754" name="Rectangle 5"/>
          <p:cNvSpPr/>
          <p:nvPr/>
        </p:nvSpPr>
        <p:spPr>
          <a:xfrm>
            <a:off x="1765440" y="2763720"/>
            <a:ext cx="595080" cy="384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8" descr=""/>
          <p:cNvPicPr/>
          <p:nvPr/>
        </p:nvPicPr>
        <p:blipFill>
          <a:blip r:embed="rId3"/>
          <a:stretch/>
        </p:blipFill>
        <p:spPr>
          <a:xfrm>
            <a:off x="512640" y="3367080"/>
            <a:ext cx="3019680" cy="216216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9" descr=""/>
          <p:cNvPicPr/>
          <p:nvPr/>
        </p:nvPicPr>
        <p:blipFill>
          <a:blip r:embed="rId4"/>
          <a:stretch/>
        </p:blipFill>
        <p:spPr>
          <a:xfrm>
            <a:off x="5454720" y="3052800"/>
            <a:ext cx="3019320" cy="216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57" name="Object 0"/>
              <p:cNvSpPr txBox="1"/>
              <p:nvPr/>
            </p:nvSpPr>
            <p:spPr>
              <a:xfrm>
                <a:off x="2408400" y="3801960"/>
                <a:ext cx="12826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Object 1"/>
              <p:cNvSpPr txBox="1"/>
              <p:nvPr/>
            </p:nvSpPr>
            <p:spPr>
              <a:xfrm>
                <a:off x="6170760" y="5419800"/>
                <a:ext cx="1130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59" name="Rectangle 12"/>
          <p:cNvSpPr/>
          <p:nvPr/>
        </p:nvSpPr>
        <p:spPr>
          <a:xfrm>
            <a:off x="2190600" y="3594240"/>
            <a:ext cx="1722600" cy="9730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3"/>
          <p:cNvSpPr/>
          <p:nvPr/>
        </p:nvSpPr>
        <p:spPr>
          <a:xfrm>
            <a:off x="5911920" y="5273640"/>
            <a:ext cx="1616040" cy="93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4"/>
          <p:cNvSpPr/>
          <p:nvPr/>
        </p:nvSpPr>
        <p:spPr>
          <a:xfrm>
            <a:off x="426960" y="5905440"/>
            <a:ext cx="4826160" cy="7038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densador descargado 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rtocircu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5"/>
          <p:cNvSpPr/>
          <p:nvPr/>
        </p:nvSpPr>
        <p:spPr>
          <a:xfrm>
            <a:off x="7804080" y="6165720"/>
            <a:ext cx="10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0066"/>
                </a:solidFill>
                <a:uFillTx/>
                <a:latin typeface="Arial"/>
                <a:hlinkClick r:id="rId5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457200" y="228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6600"/>
                </a:solidFill>
                <a:latin typeface="Comic Sans MS"/>
              </a:rPr>
              <a:t>RESISTENCIA Y LEY DE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E:\Art\CH26-30\F26-03.JPG"/>
          <p:cNvPicPr/>
          <p:nvPr/>
        </p:nvPicPr>
        <p:blipFill>
          <a:blip r:embed="rId1"/>
          <a:stretch/>
        </p:blipFill>
        <p:spPr>
          <a:xfrm>
            <a:off x="558720" y="1092240"/>
            <a:ext cx="4394160" cy="233676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5"/>
          <p:cNvSpPr/>
          <p:nvPr/>
        </p:nvSpPr>
        <p:spPr>
          <a:xfrm>
            <a:off x="5638680" y="1219320"/>
            <a:ext cx="320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El campo eléctrico está dirigido de las regiones de mayor potencial a las de menor pot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1024"/>
              <p:cNvSpPr txBox="1"/>
              <p:nvPr/>
            </p:nvSpPr>
            <p:spPr>
              <a:xfrm>
                <a:off x="5791320" y="2743200"/>
                <a:ext cx="2342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Text Box 7"/>
          <p:cNvSpPr/>
          <p:nvPr/>
        </p:nvSpPr>
        <p:spPr>
          <a:xfrm>
            <a:off x="304920" y="342900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 Narrow"/>
              </a:rPr>
              <a:t>Resistencia eléctric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Es una medida de la oposición que ejerce un material al flujo de carga a través de é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1025"/>
              <p:cNvSpPr txBox="1"/>
              <p:nvPr/>
            </p:nvSpPr>
            <p:spPr>
              <a:xfrm>
                <a:off x="5486400" y="3429000"/>
                <a:ext cx="9907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6" name="AutoShape 9"/>
          <p:cNvSpPr/>
          <p:nvPr/>
        </p:nvSpPr>
        <p:spPr>
          <a:xfrm>
            <a:off x="4724280" y="3809880"/>
            <a:ext cx="609840" cy="152640"/>
          </a:xfrm>
          <a:custGeom>
            <a:avLst/>
            <a:gdLst>
              <a:gd name="textAreaLeft" fmla="*/ 95040 w 609840"/>
              <a:gd name="textAreaRight" fmla="*/ 533880 w 60984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0"/>
          <p:cNvSpPr/>
          <p:nvPr/>
        </p:nvSpPr>
        <p:spPr>
          <a:xfrm>
            <a:off x="6858000" y="3565440"/>
            <a:ext cx="1981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Unidad: Ohm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8000"/>
                </a:solidFill>
                <a:latin typeface="Symbol"/>
                <a:ea typeface="Symbol"/>
              </a:rPr>
              <a:t>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=1V/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1026"/>
              <p:cNvSpPr txBox="1"/>
              <p:nvPr/>
            </p:nvSpPr>
            <p:spPr>
              <a:xfrm>
                <a:off x="3656160" y="5334120"/>
                <a:ext cx="13730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9" name="Text Box 12"/>
          <p:cNvSpPr/>
          <p:nvPr/>
        </p:nvSpPr>
        <p:spPr>
          <a:xfrm>
            <a:off x="5562720" y="53341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Arial Narrow"/>
              </a:rPr>
              <a:t>Ley de O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3"/>
          <p:cNvSpPr/>
          <p:nvPr/>
        </p:nvSpPr>
        <p:spPr>
          <a:xfrm>
            <a:off x="4724280" y="5826240"/>
            <a:ext cx="1143000" cy="45720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297000" y="663480"/>
            <a:ext cx="8548560" cy="4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6"/>
          <p:cNvSpPr/>
          <p:nvPr/>
        </p:nvSpPr>
        <p:spPr>
          <a:xfrm>
            <a:off x="5403960" y="3305160"/>
            <a:ext cx="1233360" cy="1100160"/>
          </a:xfrm>
          <a:prstGeom prst="rect">
            <a:avLst/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7"/>
          <p:cNvSpPr/>
          <p:nvPr/>
        </p:nvSpPr>
        <p:spPr>
          <a:xfrm>
            <a:off x="3573360" y="5121360"/>
            <a:ext cx="1509840" cy="852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3"/>
          <p:cNvSpPr/>
          <p:nvPr/>
        </p:nvSpPr>
        <p:spPr>
          <a:xfrm>
            <a:off x="762120" y="4114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Materiales óh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5410080" y="41148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Materiales no óh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533520" y="510552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La resistencia no depende de la caída de potencial ni de la intens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6"/>
          <p:cNvSpPr/>
          <p:nvPr/>
        </p:nvSpPr>
        <p:spPr>
          <a:xfrm>
            <a:off x="4572000" y="510552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La resistencia depende de la corriente, siendo proporcional a </a:t>
            </a:r>
            <a:r>
              <a:rPr b="0" lang="es-ES" sz="20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7"/>
          <p:cNvSpPr/>
          <p:nvPr/>
        </p:nvSpPr>
        <p:spPr>
          <a:xfrm rot="5400000">
            <a:off x="1980720" y="4686120"/>
            <a:ext cx="457200" cy="228600"/>
          </a:xfrm>
          <a:custGeom>
            <a:avLst/>
            <a:gdLst>
              <a:gd name="textAreaLeft" fmla="*/ 0 w 457200"/>
              <a:gd name="textAreaRight" fmla="*/ 457560 w 457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ccccff"/>
              </a:gs>
            </a:gsLst>
            <a:lin ang="27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8"/>
          <p:cNvSpPr/>
          <p:nvPr/>
        </p:nvSpPr>
        <p:spPr>
          <a:xfrm rot="5400000">
            <a:off x="6666840" y="4686120"/>
            <a:ext cx="457200" cy="228600"/>
          </a:xfrm>
          <a:custGeom>
            <a:avLst/>
            <a:gdLst>
              <a:gd name="textAreaLeft" fmla="*/ 0 w 457200"/>
              <a:gd name="textAreaRight" fmla="*/ 457560 w 457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ccccff"/>
              </a:gs>
            </a:gsLst>
            <a:lin ang="27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9" descr=""/>
          <p:cNvPicPr/>
          <p:nvPr/>
        </p:nvPicPr>
        <p:blipFill>
          <a:blip r:embed="rId1"/>
          <a:stretch/>
        </p:blipFill>
        <p:spPr>
          <a:xfrm>
            <a:off x="504720" y="206280"/>
            <a:ext cx="8134560" cy="426744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10"/>
          <p:cNvSpPr/>
          <p:nvPr/>
        </p:nvSpPr>
        <p:spPr>
          <a:xfrm>
            <a:off x="2343240" y="3809880"/>
            <a:ext cx="438120" cy="371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1"/>
          <p:cNvSpPr/>
          <p:nvPr/>
        </p:nvSpPr>
        <p:spPr>
          <a:xfrm>
            <a:off x="6791400" y="3857760"/>
            <a:ext cx="409680" cy="36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380880" y="304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 Narrow"/>
              </a:rPr>
              <a:t>Resistivid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1146240" y="861840"/>
            <a:ext cx="798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Expresa la relación entre la resistencia de un conductor y su tama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1024"/>
              <p:cNvSpPr txBox="1"/>
              <p:nvPr/>
            </p:nvSpPr>
            <p:spPr>
              <a:xfrm>
                <a:off x="4062240" y="1515960"/>
                <a:ext cx="10400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ρ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Text Box 5"/>
          <p:cNvSpPr/>
          <p:nvPr/>
        </p:nvSpPr>
        <p:spPr>
          <a:xfrm>
            <a:off x="5729400" y="16956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00"/>
                </a:solidFill>
                <a:latin typeface="Arial"/>
              </a:rPr>
              <a:t>Unidades de </a:t>
            </a:r>
            <a:r>
              <a:rPr b="0" lang="es-ES" sz="2000" spc="-1" strike="noStrike">
                <a:solidFill>
                  <a:srgbClr val="993300"/>
                </a:solidFill>
                <a:latin typeface="Symbol"/>
                <a:ea typeface="Symbol"/>
              </a:rPr>
              <a:t></a:t>
            </a:r>
            <a:r>
              <a:rPr b="0" lang="es-ES" sz="2000" spc="-1" strike="noStrike">
                <a:solidFill>
                  <a:srgbClr val="993300"/>
                </a:solidFill>
                <a:latin typeface="Arial"/>
              </a:rPr>
              <a:t>: </a:t>
            </a:r>
            <a:r>
              <a:rPr b="0" lang="es-ES" sz="2000" spc="-1" strike="noStrike">
                <a:solidFill>
                  <a:srgbClr val="993300"/>
                </a:solidFill>
                <a:latin typeface="Symbol"/>
                <a:ea typeface="Symbol"/>
              </a:rPr>
              <a:t></a:t>
            </a:r>
            <a:r>
              <a:rPr b="0" lang="es-ES" sz="2000" spc="-1" strike="noStrike">
                <a:solidFill>
                  <a:srgbClr val="993300"/>
                </a:solidFill>
                <a:latin typeface="Arial"/>
              </a:rPr>
              <a:t>.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6"/>
          <p:cNvSpPr/>
          <p:nvPr/>
        </p:nvSpPr>
        <p:spPr>
          <a:xfrm>
            <a:off x="380880" y="2590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 Narrow"/>
              </a:rPr>
              <a:t>Conductivid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1517760" y="3230640"/>
            <a:ext cx="32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Times New Roman"/>
              </a:rPr>
              <a:t>Es la inversa de la resis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Object 1025"/>
              <p:cNvSpPr txBox="1"/>
              <p:nvPr/>
            </p:nvSpPr>
            <p:spPr>
              <a:xfrm>
                <a:off x="5156280" y="3051000"/>
                <a:ext cx="10922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1026"/>
              <p:cNvSpPr txBox="1"/>
              <p:nvPr/>
            </p:nvSpPr>
            <p:spPr>
              <a:xfrm>
                <a:off x="5181480" y="4343400"/>
                <a:ext cx="27432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ºC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1" name="Text Box 11"/>
          <p:cNvSpPr/>
          <p:nvPr/>
        </p:nvSpPr>
        <p:spPr>
          <a:xfrm>
            <a:off x="4572000" y="525780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6633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666633"/>
                </a:solidFill>
                <a:latin typeface="Arial"/>
              </a:rPr>
              <a:t>: coeficiente de temperatura de la resistiv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12" descr=""/>
          <p:cNvPicPr/>
          <p:nvPr/>
        </p:nvPicPr>
        <p:blipFill>
          <a:blip r:embed="rId1"/>
          <a:stretch/>
        </p:blipFill>
        <p:spPr>
          <a:xfrm>
            <a:off x="733320" y="3697200"/>
            <a:ext cx="346716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457200" y="228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6600"/>
                </a:solidFill>
                <a:latin typeface="Comic Sans MS"/>
              </a:rPr>
              <a:t>ENERGÍA EN LOS CIRCUITOS ELÉC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297000" y="663480"/>
            <a:ext cx="8548560" cy="4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369720" y="1001880"/>
            <a:ext cx="8359920" cy="16185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un conductor, el flujo de carga positiva se hace de potenciales altos a potenciales bajos, mientras que los electrones lo hacen en sentido contrario. Esto se traduce en que la carga pierde energía potencial y gana energía cinética que se transforma de inmediato en energía térm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4572000" y="2824200"/>
            <a:ext cx="35481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En A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U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=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En A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U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=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1024"/>
              <p:cNvSpPr txBox="1"/>
              <p:nvPr/>
            </p:nvSpPr>
            <p:spPr>
              <a:xfrm>
                <a:off x="3722760" y="4046400"/>
                <a:ext cx="29779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=</m:t>
                    </m:r>
                    <m:r>
                      <m:t xml:space="preserve">Δ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Δ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1025"/>
              <p:cNvSpPr txBox="1"/>
              <p:nvPr/>
            </p:nvSpPr>
            <p:spPr>
              <a:xfrm>
                <a:off x="7188120" y="4037040"/>
                <a:ext cx="14004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ΔU</m:t>
                    </m:r>
                    <m:r>
                      <m:t xml:space="preserve">=</m:t>
                    </m:r>
                    <m:r>
                      <m:t xml:space="preserve">ΔQ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9" name="Text Box 10"/>
          <p:cNvSpPr/>
          <p:nvPr/>
        </p:nvSpPr>
        <p:spPr>
          <a:xfrm>
            <a:off x="277920" y="5443560"/>
            <a:ext cx="254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Energía perdida por unidad de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1026"/>
              <p:cNvSpPr txBox="1"/>
              <p:nvPr/>
            </p:nvSpPr>
            <p:spPr>
              <a:xfrm>
                <a:off x="2849400" y="5470560"/>
                <a:ext cx="20448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ΔU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Text Box 12"/>
          <p:cNvSpPr/>
          <p:nvPr/>
        </p:nvSpPr>
        <p:spPr>
          <a:xfrm>
            <a:off x="6053040" y="4854600"/>
            <a:ext cx="23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Potencia disip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1027"/>
              <p:cNvSpPr txBox="1"/>
              <p:nvPr/>
            </p:nvSpPr>
            <p:spPr>
              <a:xfrm>
                <a:off x="6512040" y="5473800"/>
                <a:ext cx="124776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43" name="AutoShape 14"/>
          <p:cNvCxnSpPr/>
          <p:nvPr/>
        </p:nvCxnSpPr>
        <p:spPr>
          <a:xfrm flipV="1">
            <a:off x="5137200" y="5071680"/>
            <a:ext cx="784800" cy="697680"/>
          </a:xfrm>
          <a:prstGeom prst="bentConnector3">
            <a:avLst>
              <a:gd name="adj1" fmla="val 49977"/>
            </a:avLst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544" name="Text Box 15"/>
          <p:cNvSpPr/>
          <p:nvPr/>
        </p:nvSpPr>
        <p:spPr>
          <a:xfrm>
            <a:off x="5770440" y="6183360"/>
            <a:ext cx="28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66cc"/>
                </a:solidFill>
                <a:latin typeface="Arial"/>
              </a:rPr>
              <a:t>Se mide en vatios (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6" descr=""/>
          <p:cNvPicPr/>
          <p:nvPr/>
        </p:nvPicPr>
        <p:blipFill>
          <a:blip r:embed="rId1"/>
          <a:stretch/>
        </p:blipFill>
        <p:spPr>
          <a:xfrm>
            <a:off x="154080" y="2549520"/>
            <a:ext cx="4066920" cy="257184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17"/>
          <p:cNvSpPr/>
          <p:nvPr/>
        </p:nvSpPr>
        <p:spPr>
          <a:xfrm>
            <a:off x="6357960" y="5337000"/>
            <a:ext cx="1446120" cy="702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347760" y="304920"/>
            <a:ext cx="42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 Narrow"/>
              </a:rPr>
              <a:t>Fuerza electromotriz y bate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1700280" y="966960"/>
            <a:ext cx="6311880" cy="161856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dispositivo que suministra la energía eléctrica suficiente para que se produzca una corriente estacionaria en un conductor se llama fuente de fuerza electromotriz (fem). Convierte la energía química o mecánica en energía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E:\Art\CH26-30\F26-07.JPG"/>
          <p:cNvPicPr/>
          <p:nvPr/>
        </p:nvPicPr>
        <p:blipFill>
          <a:blip r:embed="rId1"/>
          <a:stretch/>
        </p:blipFill>
        <p:spPr>
          <a:xfrm>
            <a:off x="298440" y="3319560"/>
            <a:ext cx="3041640" cy="19256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5"/>
          <p:cNvSpPr/>
          <p:nvPr/>
        </p:nvSpPr>
        <p:spPr>
          <a:xfrm>
            <a:off x="3962520" y="3584520"/>
            <a:ext cx="4811760" cy="131364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fuente de fem realiza trabajo sobre la carga que la atraviesa, elevando su energía potencial en 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 Este trabajo por unidad de carga es la fem (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4"/>
          <p:cNvSpPr/>
          <p:nvPr/>
        </p:nvSpPr>
        <p:spPr>
          <a:xfrm>
            <a:off x="1293840" y="3268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Arial"/>
              </a:rPr>
              <a:t>ANALOGÍA MECÁNICA DE UN CIRCUITO SENC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" descr="E:\Art\CH26-30\F26-08A.JPG"/>
          <p:cNvPicPr/>
          <p:nvPr/>
        </p:nvPicPr>
        <p:blipFill>
          <a:blip r:embed="rId1"/>
          <a:stretch/>
        </p:blipFill>
        <p:spPr>
          <a:xfrm>
            <a:off x="2401920" y="741240"/>
            <a:ext cx="4317840" cy="32385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6" descr="E:\Art\CH26-30\F26-08B.JPG"/>
          <p:cNvPicPr/>
          <p:nvPr/>
        </p:nvPicPr>
        <p:blipFill>
          <a:blip r:embed="rId2"/>
          <a:stretch/>
        </p:blipFill>
        <p:spPr>
          <a:xfrm>
            <a:off x="2392200" y="3429000"/>
            <a:ext cx="4318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14" descr=""/>
          <p:cNvPicPr/>
          <p:nvPr/>
        </p:nvPicPr>
        <p:blipFill>
          <a:blip r:embed="rId1"/>
          <a:stretch/>
        </p:blipFill>
        <p:spPr>
          <a:xfrm>
            <a:off x="369720" y="2590920"/>
            <a:ext cx="3429000" cy="236196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2"/>
          <p:cNvSpPr/>
          <p:nvPr/>
        </p:nvSpPr>
        <p:spPr>
          <a:xfrm>
            <a:off x="392040" y="306360"/>
            <a:ext cx="801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2200" indent="-2662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Fuente de fem ideal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666633"/>
                </a:solidFill>
                <a:latin typeface="Arial"/>
              </a:rPr>
              <a:t>Mantiene constante la diferencia de potencial entre sus bornes e igual a </a:t>
            </a:r>
            <a:r>
              <a:rPr b="0" lang="es-ES" sz="2000" spc="-1" strike="noStrike">
                <a:solidFill>
                  <a:srgbClr val="666633"/>
                </a:solidFill>
                <a:latin typeface="Symbol"/>
                <a:ea typeface="Symbol"/>
              </a:rPr>
              <a:t></a:t>
            </a:r>
            <a:r>
              <a:rPr b="0" lang="es-ES" sz="2000" spc="-1" strike="noStrike">
                <a:solidFill>
                  <a:srgbClr val="666633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455760" y="1482840"/>
            <a:ext cx="801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2200" indent="-2662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Fuente de fem real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666633"/>
                </a:solidFill>
                <a:latin typeface="Arial"/>
              </a:rPr>
              <a:t>La diferencia de potencial entre sus bornes disminuye con el aumento de la corr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6"/>
          <p:cNvSpPr/>
          <p:nvPr/>
        </p:nvSpPr>
        <p:spPr>
          <a:xfrm flipV="1">
            <a:off x="2817720" y="2830320"/>
            <a:ext cx="362160" cy="399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3218040" y="261468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d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3465360" y="385596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"/>
          <p:cNvSpPr/>
          <p:nvPr/>
        </p:nvSpPr>
        <p:spPr>
          <a:xfrm>
            <a:off x="3112920" y="3625920"/>
            <a:ext cx="390600" cy="30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1024"/>
              <p:cNvSpPr txBox="1"/>
              <p:nvPr/>
            </p:nvSpPr>
            <p:spPr>
              <a:xfrm>
                <a:off x="5398920" y="2660760"/>
                <a:ext cx="1629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2" name="Text Box 11"/>
          <p:cNvSpPr/>
          <p:nvPr/>
        </p:nvSpPr>
        <p:spPr>
          <a:xfrm>
            <a:off x="4572000" y="342900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00"/>
                </a:solidFill>
                <a:latin typeface="Arial"/>
              </a:rPr>
              <a:t>r: Resistencia interna de la bat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12" descr="E:\Art\CH26-30\F26-11.JPG"/>
          <p:cNvPicPr/>
          <p:nvPr/>
        </p:nvPicPr>
        <p:blipFill>
          <a:blip r:embed="rId2"/>
          <a:stretch/>
        </p:blipFill>
        <p:spPr>
          <a:xfrm>
            <a:off x="5313240" y="3995640"/>
            <a:ext cx="2721240" cy="23814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3"/>
          <p:cNvSpPr/>
          <p:nvPr/>
        </p:nvSpPr>
        <p:spPr>
          <a:xfrm>
            <a:off x="652320" y="5291280"/>
            <a:ext cx="450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3300"/>
                </a:solidFill>
                <a:latin typeface="Arial"/>
              </a:rPr>
              <a:t>Representación de una baterí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5"/>
          <p:cNvSpPr/>
          <p:nvPr/>
        </p:nvSpPr>
        <p:spPr>
          <a:xfrm>
            <a:off x="5230800" y="2509920"/>
            <a:ext cx="2084400" cy="658800"/>
          </a:xfrm>
          <a:prstGeom prst="rect">
            <a:avLst/>
          </a:pr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457200" y="228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6600"/>
                </a:solidFill>
                <a:latin typeface="Comic Sans MS"/>
              </a:rPr>
              <a:t>ASOCIACIÓN DE RESIST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297000" y="663480"/>
            <a:ext cx="8548560" cy="4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392040" y="957240"/>
            <a:ext cx="8274240" cy="1008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resistencia equivalente de una combinación de resistencias es el valor de una única resistencia que, reemplazada por la combinación, produce el mismo efecto exte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1024"/>
              <p:cNvSpPr txBox="1"/>
              <p:nvPr/>
            </p:nvSpPr>
            <p:spPr>
              <a:xfrm>
                <a:off x="2227320" y="2243160"/>
                <a:ext cx="1035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0" name="Text Box 6"/>
          <p:cNvSpPr/>
          <p:nvPr/>
        </p:nvSpPr>
        <p:spPr>
          <a:xfrm>
            <a:off x="4176720" y="2111400"/>
            <a:ext cx="46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V: ddp entre los extremos de la aso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176720" y="2678040"/>
            <a:ext cx="46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: corriente a través de la comb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8"/>
          <p:cNvSpPr/>
          <p:nvPr/>
        </p:nvSpPr>
        <p:spPr>
          <a:xfrm flipV="1">
            <a:off x="3352680" y="2309760"/>
            <a:ext cx="762120" cy="26208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9"/>
          <p:cNvSpPr/>
          <p:nvPr/>
        </p:nvSpPr>
        <p:spPr>
          <a:xfrm>
            <a:off x="3352680" y="2581200"/>
            <a:ext cx="776520" cy="26676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871560" y="3429000"/>
            <a:ext cx="26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99"/>
                </a:solidFill>
                <a:latin typeface="Arial Narrow"/>
              </a:rPr>
              <a:t>Asociación en se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12" descr="E:\Art\CH26-30\F26-13A.JPG"/>
          <p:cNvPicPr/>
          <p:nvPr/>
        </p:nvPicPr>
        <p:blipFill>
          <a:blip r:embed="rId1"/>
          <a:stretch/>
        </p:blipFill>
        <p:spPr>
          <a:xfrm>
            <a:off x="514440" y="3940200"/>
            <a:ext cx="3454200" cy="133200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13"/>
          <p:cNvSpPr/>
          <p:nvPr/>
        </p:nvSpPr>
        <p:spPr>
          <a:xfrm>
            <a:off x="5226120" y="3429000"/>
            <a:ext cx="30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99"/>
                </a:solidFill>
                <a:latin typeface="Arial Narrow"/>
              </a:rPr>
              <a:t>Asociación en paral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1025"/>
              <p:cNvSpPr txBox="1"/>
              <p:nvPr/>
            </p:nvSpPr>
            <p:spPr>
              <a:xfrm>
                <a:off x="1709640" y="5551560"/>
                <a:ext cx="1482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1026"/>
              <p:cNvSpPr txBox="1"/>
              <p:nvPr/>
            </p:nvSpPr>
            <p:spPr>
              <a:xfrm>
                <a:off x="5735520" y="5551560"/>
                <a:ext cx="15717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579" name="Picture 17" descr="E:\Art\CH26-30\F26-14A.JPG"/>
          <p:cNvPicPr/>
          <p:nvPr/>
        </p:nvPicPr>
        <p:blipFill>
          <a:blip r:embed="rId2"/>
          <a:stretch/>
        </p:blipFill>
        <p:spPr>
          <a:xfrm>
            <a:off x="5251320" y="3843360"/>
            <a:ext cx="2617920" cy="173988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20"/>
          <p:cNvSpPr/>
          <p:nvPr/>
        </p:nvSpPr>
        <p:spPr>
          <a:xfrm>
            <a:off x="1446120" y="5294160"/>
            <a:ext cx="2062080" cy="12560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2"/>
          <p:cNvSpPr/>
          <p:nvPr/>
        </p:nvSpPr>
        <p:spPr>
          <a:xfrm>
            <a:off x="1892160" y="4911840"/>
            <a:ext cx="574920" cy="318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3"/>
          <p:cNvSpPr/>
          <p:nvPr/>
        </p:nvSpPr>
        <p:spPr>
          <a:xfrm>
            <a:off x="6337440" y="5294160"/>
            <a:ext cx="509400" cy="298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1"/>
          <p:cNvSpPr/>
          <p:nvPr/>
        </p:nvSpPr>
        <p:spPr>
          <a:xfrm>
            <a:off x="5486400" y="5423040"/>
            <a:ext cx="2147760" cy="10411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5:32:55Z</dcterms:created>
  <dc:creator>Pablo Turmero</dc:creator>
  <dc:description/>
  <dc:language>en-US</dc:language>
  <cp:lastModifiedBy>Pablo Turmero</cp:lastModifiedBy>
  <dcterms:modified xsi:type="dcterms:W3CDTF">2015-07-08T04:17:15Z</dcterms:modified>
  <cp:revision>40</cp:revision>
  <dc:subject/>
  <dc:title/>
</cp:coreProperties>
</file>