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32F0-D48B-4B35-814D-3E2568AE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2F6F-1D3B-4024-9292-24A98AA0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8F6D9-96E1-4C9A-8096-0ECD7590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C0A77-BC13-4226-99AA-24AD1B38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A0289-325D-4035-B5CD-BA7F2842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B58D9-651B-4E61-B6F2-2863D72E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7260C-080B-4989-9E72-031D943E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BD5D9-DA55-46BC-847D-31CCA0B7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511C4-9F9E-40D8-83D6-5CD3C78C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C76CB-C03B-40BD-A68E-8D11C0C4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22D34-6561-44B6-96FC-07303A579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73DA9-0BC3-4E0B-A76A-2B62F277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CAA7-4296-4AD4-9085-AEE11C70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0721D-4372-4F6C-9B7B-44608006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715E2-A381-4395-8BE1-0FF313AD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A7D57-F01A-4361-AD90-1D5779A0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403B1-A1ED-4BD4-9577-564A344A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89F67-E823-43A0-B8F6-6935D2B8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1024B-879B-42ED-9E3E-1B886B01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B1C55-3EDC-48D2-90B3-8D3B8871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B29C2-74C8-4079-8F1F-B8FF17C9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24442-C99D-4E4B-B429-D0DFDA2C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C616C-0F35-489F-85CB-3AB2ABB8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E8FA-FD6A-4170-B05E-D322D3F97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92452-BE1A-4FFE-8F2D-BD1E5B60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EA11A-B084-4832-83EF-DD0109B4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19A5E-3113-41BF-9845-FCD2205E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69E4A-99FC-4B90-BE77-2E71C4EF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92799-633A-4061-BA71-30159F00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C480E-4728-4064-93B9-89F33638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14F70-8339-4DE6-9DEE-994D7D32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344F8-B811-4CDE-857F-BE03544B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DCEA2-05A1-48B6-AFDF-01A84AC5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BCDF0-F0CD-4516-A513-C05548CA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A9F0-AECF-47EC-9275-6833A7005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21C82-E433-4C99-A04E-2D5827A7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B5120-F834-4B34-9B8C-8EF4F1F8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256B5-3741-4DDA-B7AC-A18FC5948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645A0E-8FBB-4633-AC35-C1A1B8872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F4076B-D20B-4CF2-A594-0C51477C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C5672-A881-4C14-BF10-8E75D421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29F5AA-A13E-4367-970E-C1A5650E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C22D4-B01A-4D44-9154-C93FEE37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37F92B-A672-487B-A5FE-591C9D99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81193-DF26-4AE6-AE97-D838C4E2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0F06-61EB-409A-B4E8-020C6565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BC58A-FB30-4FA8-BEE6-5CA6FA06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609B56-DA13-4B21-9DCC-C85D326E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A3F6AA-406F-445C-AFB6-7A0DAD20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1F44F9-D237-46A7-BFEA-7B5DAC92E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50CC46-E314-421C-AB54-00DC8E2DD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6F1510-E1FD-43BD-9ED0-8A250CAF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5C743A-CCFA-4AFB-8BDE-F91185CB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3DD5AF-6B21-4037-9B3D-8807170D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AE10C1-B3FC-4FDE-99C8-B5FBB4B5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8245B7-5267-4A5F-BF3F-22429367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97E2-DCEE-4852-8DAF-884C9A1A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57D30F-3A44-4E6E-A68B-39D29364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DDC9E5-37E3-4117-95EA-17E81BA5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BDC02D-7778-48BC-A442-9B152C91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5BA9E3-41C2-4C44-961E-AAA265F8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084782-CCDB-4F81-A0D4-CF861460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CEE012-5472-44AB-A379-F44E9C3F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DF19BE-2BE3-41A0-AD7C-A0A515F2A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B844-5C14-40EA-ACA0-324A52A9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A0F7-6EA7-41C4-AEF6-583567D4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5D01-66F8-4C6D-9F9F-523BA7EF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969E-3225-4315-AF98-DE01D344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1A8A-C708-454F-BE27-370C6ABB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00FE-0A10-420E-A254-2AD6F574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19A5-871C-43CF-B8AD-CA1DB4D7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0666-7999-4680-B5EF-8299E4F4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A81A-A89F-41F8-8280-BDCB1A1B0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B1AF-7794-4626-A831-C06D7B71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B6349-3607-4A2E-8872-34F8626AC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AB75F-27B8-4986-B5A8-BCE04779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6EAF8-75A3-459E-86D2-FC1C655E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73D22-3E86-4DAE-A254-7192BC7A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BC1DE-8AD7-4838-85D3-D2BE510D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156C-F417-44DD-863B-DF759520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B2DB0-520B-48BA-A404-17F9730B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6E5CD-901D-4471-9AF3-80545841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3FE38-65C2-442F-8214-2D8F3F88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80935-6347-47BA-A647-5D9A92E0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2AEA3-670A-42D4-9526-3A80F64D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97501-2B8C-4019-82D4-AA807B5B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B05CF-9D3F-4473-BF19-55F63C396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9CD07-82C4-4211-AD60-4276504C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790F7-CEF0-4948-B1BD-3B823DF5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94AA2-A4EE-45ED-B574-D658872C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73A1-2A76-47CA-938C-FEB88A7C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38230-C9C3-4CF6-B277-01C18B3E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791B7-6B20-462A-9650-C85992FC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FB662-3546-421D-B1A6-28969971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64E7B-D646-4FEC-B169-00BF1876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3FBF3-4F04-4E08-8D6D-52A5C7D7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F0017-54DE-401A-B187-4E52F198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9A385-569C-461F-A279-44170238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9C976-0507-41B9-9B42-280B2A64C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A30E5-6760-4F3D-AFA5-B14EF622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A55D7-0238-425B-BC6C-B1381218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5B2B-DAF7-4F46-8593-FF308A23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70018-A0AE-477C-A615-341DC70D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B1F45-0477-4FF5-8C5E-B24E453B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E67F0-5991-485F-9E1B-54AE5C4F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C7D56-2FAA-4C03-8C57-3B876C6C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AF24D-696D-4925-B460-31D3CBBA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0DD28-4ADB-4AC3-99DE-3A1BDCA5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FE787-E8BC-4FE0-AB60-AE5FAF7C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1F4B9-D3AC-49A3-851F-95C37D68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A8C29-A32F-4628-92DC-4DDEBB27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8AB4D-CA6A-469D-914C-E5662297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ABCB-95A8-4085-91BD-6596BA5E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3CDFB-DA0B-447F-8641-D661241C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FFA40-C72A-4F86-9A4E-D25392A95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DBDB5-E3AB-4C07-932D-2812C2D7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BCFA4-24D8-472D-8363-08B6D601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8EC83-D514-4EE5-9C07-3C390F0D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DF5B8-F4C8-4653-B917-9A5A06BA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60AB4-B935-49C8-B052-71CBBB8E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9D185-51BC-4C68-8511-5CECB17C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4DF6E-BF77-4F75-AAD2-DDEBBD73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E2DD2-2212-4154-9C62-C595204B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0BDB-F1C4-4DFE-98DF-5E9BC4B0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6F92D-B06C-4994-A2FD-5765981D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CE722-DB0C-4C54-A313-F3FB7A64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D34DE-53BD-4A81-AA53-725312CC3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82E6D-DC30-4CF1-AFB6-28A5A3E43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62923-F7EC-4B8F-9DB5-CAEBA11B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42372-2B3B-468C-B64B-ADA3996E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D9548-E145-4961-924D-815EA191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35FD9-9E06-4578-BEE0-27588EE2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5E610-8586-4A1C-AD42-1D817397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552D0-0E75-4DA7-9157-5DD4AFA9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60A2-36E3-4640-84EB-48EC9985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70235-2C1D-419A-AD35-A402EA64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9B310-27C9-4276-8B6F-BBB0CB16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54848-896E-43C3-992A-5F179790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5FB8F-B91B-41F2-BCBF-6486037A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3B1CC-757C-4AC7-9BC5-1CE8BD40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096A3-222C-4DB5-A146-282D6C2F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04185-3615-4410-B3C9-4DEC3A44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8BAE2-7AFE-4579-A3A7-3FA5F637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39646-3F31-4444-A5F8-645EBD48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E1E1A-E05C-4E3A-97AD-AC9C3733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39AC-5FE1-4EE0-8C6E-A81AAD37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07EBA-A6A2-474B-ABD9-580C3D3F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B9CA9-042B-448D-B022-182BF514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E492F-58B6-472D-9D9B-F749E830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83EC6-9A03-46C6-8559-A44C6E88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91655-381F-40AC-A95A-9668BC03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310AC-D835-4341-9D61-1E1F67BD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4E6CA-0EFA-49ED-A22F-CE63B0090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FDB14-16C7-4DAA-B867-8686455D6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B05C7-782F-4E7A-BF81-ECC8F719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1DEF7-777C-4B1E-899C-32EF788C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bfc"/>
            </a:gs>
            <a:gs pos="100000">
              <a:srgbClr val="e3e8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512B-4153-4032-BA83-B7D17070F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bfc"/>
            </a:gs>
            <a:gs pos="100000">
              <a:srgbClr val="e3e8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1F81-E375-47D0-8E9D-EDD0B27B3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bfc"/>
            </a:gs>
            <a:gs pos="100000">
              <a:srgbClr val="e3e8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A84B-C09B-4DAE-BBB7-53CADABDC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bfc"/>
            </a:gs>
            <a:gs pos="100000">
              <a:srgbClr val="e3e8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F1CA-F141-47B2-A18D-6329B2F42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bfc"/>
            </a:gs>
            <a:gs pos="100000">
              <a:srgbClr val="e3e8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C05C-40E8-4C4C-B11A-68354FCF3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bfc"/>
            </a:gs>
            <a:gs pos="100000">
              <a:srgbClr val="e3e8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F9D7-E29D-44CB-A680-0A95998D1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bfc"/>
            </a:gs>
            <a:gs pos="100000">
              <a:srgbClr val="e3e8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92AB-BAD6-45EF-98E6-08492BB3F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bfc"/>
            </a:gs>
            <a:gs pos="100000">
              <a:srgbClr val="e3e8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BD35-CE49-4748-B723-588F5F78C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bfc"/>
            </a:gs>
            <a:gs pos="100000">
              <a:srgbClr val="e3e8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8AE0-E58C-4604-ADA5-AE41A7446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bfc"/>
            </a:gs>
            <a:gs pos="100000">
              <a:srgbClr val="e3e8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D345-DD92-4875-BD14-B4D815E9F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bfc"/>
            </a:gs>
            <a:gs pos="100000">
              <a:srgbClr val="e3e8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525B-1D6A-47A9-BF17-DD20DF478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bfc"/>
            </a:gs>
            <a:gs pos="100000">
              <a:srgbClr val="e3e8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B6A6-91C8-4484-AEA5-64DB7B2F0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bfc"/>
            </a:gs>
            <a:gs pos="100000">
              <a:srgbClr val="e3e8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0327-09A9-4836-81EA-59F957752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3"/>
          <p:cNvSpPr/>
          <p:nvPr/>
        </p:nvSpPr>
        <p:spPr>
          <a:xfrm>
            <a:off x="2057400" y="533520"/>
            <a:ext cx="489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S ARMÓNIC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14"/>
          <p:cNvSpPr/>
          <p:nvPr/>
        </p:nvSpPr>
        <p:spPr>
          <a:xfrm>
            <a:off x="915480" y="1800360"/>
            <a:ext cx="746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os armónicos son las partes componentes de una nota, cuy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recuencia es un entero múltiplo de la frecuencia Fundament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15"/>
          <p:cNvSpPr/>
          <p:nvPr/>
        </p:nvSpPr>
        <p:spPr>
          <a:xfrm>
            <a:off x="593640" y="2774880"/>
            <a:ext cx="733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F =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4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Hz  - Frecuencia Fundamental, primer armóni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17"/>
          <p:cNvSpPr/>
          <p:nvPr/>
        </p:nvSpPr>
        <p:spPr>
          <a:xfrm>
            <a:off x="601560" y="3689280"/>
            <a:ext cx="709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F = 880 Hz  - Segundo armóni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18"/>
          <p:cNvSpPr/>
          <p:nvPr/>
        </p:nvSpPr>
        <p:spPr>
          <a:xfrm>
            <a:off x="573120" y="4114800"/>
            <a:ext cx="709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F = 1320 Hz - Tercer armóni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Text Box 19"/>
          <p:cNvSpPr/>
          <p:nvPr/>
        </p:nvSpPr>
        <p:spPr>
          <a:xfrm>
            <a:off x="932400" y="4800600"/>
            <a:ext cx="703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a nota es la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m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e muchas ondas sonoras de frecuencia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ferentes; dependiendo del instrumento que emita l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da sonora, los armónicos serán diferentes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4"/>
          <p:cNvSpPr/>
          <p:nvPr/>
        </p:nvSpPr>
        <p:spPr>
          <a:xfrm>
            <a:off x="2590920" y="30492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VERSION ANALOGICA - DIGIT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Text Box 5"/>
          <p:cNvSpPr/>
          <p:nvPr/>
        </p:nvSpPr>
        <p:spPr>
          <a:xfrm>
            <a:off x="881280" y="1708200"/>
            <a:ext cx="43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Desventajas de las Señales Digita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903960" y="2165400"/>
            <a:ext cx="60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quiere mayor ancho de banda para ser transmiti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Text Box 7"/>
          <p:cNvSpPr/>
          <p:nvPr/>
        </p:nvSpPr>
        <p:spPr>
          <a:xfrm>
            <a:off x="966240" y="2660760"/>
            <a:ext cx="65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requiere una conversión Analógica-Digital previa y un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versión Digital-Analógica para ser recuper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919440" y="3381480"/>
            <a:ext cx="70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s procesos de conversión pueden agregar distorsión y ru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 los circuitos utilizados son de baja 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3"/>
          <p:cNvSpPr/>
          <p:nvPr/>
        </p:nvSpPr>
        <p:spPr>
          <a:xfrm>
            <a:off x="2838600" y="324000"/>
            <a:ext cx="489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RECUENCIAS DE SAMPLE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996840" y="1847880"/>
            <a:ext cx="7367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8,000 Hz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Teléfon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adecuado para la voz humana pero no para l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roducción music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2,050 Hz Radi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2,000 Hz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Víde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igital en formato miniDV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4,100 Hz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C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también común en audio en formatos MPEG-1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VCD, SVCD, MP3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8,000 Hz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Sonido digit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utilizado en la television digital, DVD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rmato de películas, audio profesional y sistemas DA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.8224 MHz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Direct Stream Digital, desarrollado por Sony y Phili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utiliza interface SPDIF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3"/>
          <p:cNvSpPr/>
          <p:nvPr/>
        </p:nvSpPr>
        <p:spPr>
          <a:xfrm>
            <a:off x="2895480" y="533520"/>
            <a:ext cx="489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MONIC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3" name="Picture 16" descr="harmonics"/>
          <p:cNvPicPr/>
          <p:nvPr/>
        </p:nvPicPr>
        <p:blipFill>
          <a:blip r:embed="rId1"/>
          <a:stretch/>
        </p:blipFill>
        <p:spPr>
          <a:xfrm>
            <a:off x="609480" y="1752480"/>
            <a:ext cx="4038840" cy="434340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17"/>
          <p:cNvSpPr/>
          <p:nvPr/>
        </p:nvSpPr>
        <p:spPr>
          <a:xfrm>
            <a:off x="4894200" y="1828800"/>
            <a:ext cx="363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l cambiar la forma de onda, l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rmónicos definen el timbre 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un instrumento o la voz de un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erso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 Box 18"/>
          <p:cNvSpPr/>
          <p:nvPr/>
        </p:nvSpPr>
        <p:spPr>
          <a:xfrm>
            <a:off x="4798800" y="5238720"/>
            <a:ext cx="35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 totalidad de los armónico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rman el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espectro armóni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 Box 19"/>
          <p:cNvSpPr/>
          <p:nvPr/>
        </p:nvSpPr>
        <p:spPr>
          <a:xfrm>
            <a:off x="4659480" y="3124080"/>
            <a:ext cx="4019400" cy="18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s armónicos le agregan 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olor ton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 un sonid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rmonicos Par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nido má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áli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 Armónicos Impar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nido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ásper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hill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4"/>
          <p:cNvSpPr/>
          <p:nvPr/>
        </p:nvSpPr>
        <p:spPr>
          <a:xfrm>
            <a:off x="2895480" y="533520"/>
            <a:ext cx="489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MONIC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8" name="Picture 5" descr="even"/>
          <p:cNvPicPr/>
          <p:nvPr/>
        </p:nvPicPr>
        <p:blipFill>
          <a:blip r:embed="rId1"/>
          <a:stretch/>
        </p:blipFill>
        <p:spPr>
          <a:xfrm>
            <a:off x="685800" y="1681200"/>
            <a:ext cx="4343400" cy="23050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6" descr="even-odd"/>
          <p:cNvPicPr/>
          <p:nvPr/>
        </p:nvPicPr>
        <p:blipFill>
          <a:blip r:embed="rId2"/>
          <a:stretch/>
        </p:blipFill>
        <p:spPr>
          <a:xfrm>
            <a:off x="662040" y="4003560"/>
            <a:ext cx="4367160" cy="229572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7"/>
          <p:cNvSpPr/>
          <p:nvPr/>
        </p:nvSpPr>
        <p:spPr>
          <a:xfrm>
            <a:off x="5991840" y="25146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mónicos Pa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Text Box 8"/>
          <p:cNvSpPr/>
          <p:nvPr/>
        </p:nvSpPr>
        <p:spPr>
          <a:xfrm>
            <a:off x="6007320" y="4800600"/>
            <a:ext cx="22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mónicos Impa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2" name="arm_pares.wav" descr=""/>
          <p:cNvPicPr/>
          <p:nvPr/>
        </p:nvPicPr>
        <p:blipFill>
          <a:blip r:embed="rId3"/>
          <a:stretch/>
        </p:blipFill>
        <p:spPr>
          <a:xfrm>
            <a:off x="5181480" y="1828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3" name="arm_nones.wav" descr=""/>
          <p:cNvPicPr/>
          <p:nvPr/>
        </p:nvPicPr>
        <p:blipFill>
          <a:blip r:embed="rId4"/>
          <a:stretch/>
        </p:blipFill>
        <p:spPr>
          <a:xfrm>
            <a:off x="5189400" y="4062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5000" fill="hold"/>
                                        <p:tgtEl>
                                          <p:spTgt spid="5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5000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3"/>
          <p:cNvSpPr/>
          <p:nvPr/>
        </p:nvSpPr>
        <p:spPr>
          <a:xfrm>
            <a:off x="2895480" y="533520"/>
            <a:ext cx="489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ÑA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Text Box 4"/>
          <p:cNvSpPr/>
          <p:nvPr/>
        </p:nvSpPr>
        <p:spPr>
          <a:xfrm>
            <a:off x="685800" y="51055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 general, las señales transmiten información durante un tiempo dado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4481280" y="16765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Señ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631440" y="2347920"/>
            <a:ext cx="46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ujo de información a través del tiem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Text Box 7"/>
          <p:cNvSpPr/>
          <p:nvPr/>
        </p:nvSpPr>
        <p:spPr>
          <a:xfrm>
            <a:off x="629640" y="2913120"/>
            <a:ext cx="51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ento transmitido entre uno o mas proces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613440" y="3475080"/>
            <a:ext cx="50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alquier perturbación del medio ambien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Text Box 9"/>
          <p:cNvSpPr/>
          <p:nvPr/>
        </p:nvSpPr>
        <p:spPr>
          <a:xfrm>
            <a:off x="728640" y="4035600"/>
            <a:ext cx="68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riación de una corriente eléctrica o de una magnitud fís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3"/>
          <p:cNvSpPr/>
          <p:nvPr/>
        </p:nvSpPr>
        <p:spPr>
          <a:xfrm>
            <a:off x="2895480" y="533520"/>
            <a:ext cx="489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ÑA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3644280" y="1828800"/>
            <a:ext cx="20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Tipos de Seña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802800" y="270180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ALOGIC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908640" y="450540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GITA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5" name="Picture 12" descr="analoga"/>
          <p:cNvPicPr/>
          <p:nvPr/>
        </p:nvPicPr>
        <p:blipFill>
          <a:blip r:embed="rId1"/>
          <a:stretch/>
        </p:blipFill>
        <p:spPr>
          <a:xfrm>
            <a:off x="2590920" y="2441520"/>
            <a:ext cx="3828960" cy="6094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3" descr="digital"/>
          <p:cNvPicPr/>
          <p:nvPr/>
        </p:nvPicPr>
        <p:blipFill>
          <a:blip r:embed="rId2"/>
          <a:stretch/>
        </p:blipFill>
        <p:spPr>
          <a:xfrm>
            <a:off x="2514600" y="4429080"/>
            <a:ext cx="4038480" cy="60948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14"/>
          <p:cNvSpPr/>
          <p:nvPr/>
        </p:nvSpPr>
        <p:spPr>
          <a:xfrm>
            <a:off x="1812960" y="3279600"/>
            <a:ext cx="585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rían en forma contínua en el tiempo, emplea magnitud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alores contínuo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Text Box 15"/>
          <p:cNvSpPr/>
          <p:nvPr/>
        </p:nvSpPr>
        <p:spPr>
          <a:xfrm>
            <a:off x="1442160" y="5419800"/>
            <a:ext cx="662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rían en pasos o incrementos discretos. La mayoría de las señal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gitales utilizan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ódigos binario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 de dos estado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4"/>
          <p:cNvSpPr/>
          <p:nvPr/>
        </p:nvSpPr>
        <p:spPr>
          <a:xfrm>
            <a:off x="2590920" y="30492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VERSION ANALOGICA - DIGIT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822600" y="1860480"/>
            <a:ext cx="25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Términos Utilizado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1117440" y="2317680"/>
            <a:ext cx="70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DC –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nalog to Digital Convert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Circuito encargado de converti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a señal analógica en digit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1117080" y="2975040"/>
            <a:ext cx="71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AC –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Digital to Analog Convert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Circuito encargado de converti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a señal digital en analóg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993600" y="3686040"/>
            <a:ext cx="720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ampling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- Muestreo, consiste en tomar muestras periódicas d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 amplitud de ond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982440" y="4419720"/>
            <a:ext cx="69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recuencia de muestreo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- Número de muestras por segun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918000" y="48672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uantificació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- Proceso de cuantificación que mide la amplitu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 cada una de las muest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Text Box 12"/>
          <p:cNvSpPr/>
          <p:nvPr/>
        </p:nvSpPr>
        <p:spPr>
          <a:xfrm>
            <a:off x="939240" y="5546880"/>
            <a:ext cx="773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dificació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Traduce los valores obtenidos durante la cuantific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valores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i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3"/>
          <p:cNvSpPr/>
          <p:nvPr/>
        </p:nvSpPr>
        <p:spPr>
          <a:xfrm>
            <a:off x="2590920" y="30492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VERSION ANALOGICA - DIGIT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8" name="Picture 4" descr="senoidal"/>
          <p:cNvPicPr/>
          <p:nvPr/>
        </p:nvPicPr>
        <p:blipFill>
          <a:blip r:embed="rId1"/>
          <a:stretch/>
        </p:blipFill>
        <p:spPr>
          <a:xfrm>
            <a:off x="609480" y="2000160"/>
            <a:ext cx="3886200" cy="411480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  <p:pic>
        <p:nvPicPr>
          <p:cNvPr id="579" name="Picture 5" descr="digital_1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sp>
        <p:nvSpPr>
          <p:cNvPr id="580" name="Text Box 6"/>
          <p:cNvSpPr/>
          <p:nvPr/>
        </p:nvSpPr>
        <p:spPr>
          <a:xfrm>
            <a:off x="1644480" y="1619280"/>
            <a:ext cx="187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ñal Analóg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"/>
          <p:cNvSpPr/>
          <p:nvPr/>
        </p:nvSpPr>
        <p:spPr>
          <a:xfrm>
            <a:off x="5850360" y="160020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ñal Digit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8"/>
          <p:cNvSpPr/>
          <p:nvPr/>
        </p:nvSpPr>
        <p:spPr>
          <a:xfrm>
            <a:off x="4885920" y="6172200"/>
            <a:ext cx="34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1100101 10001101 010111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11" descr="senoidal"/>
          <p:cNvPicPr/>
          <p:nvPr/>
        </p:nvPicPr>
        <p:blipFill>
          <a:blip r:embed="rId1"/>
          <a:stretch/>
        </p:blipFill>
        <p:spPr>
          <a:xfrm>
            <a:off x="609480" y="2000160"/>
            <a:ext cx="3886200" cy="411480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  <p:sp>
        <p:nvSpPr>
          <p:cNvPr id="584" name="Text Box 12"/>
          <p:cNvSpPr/>
          <p:nvPr/>
        </p:nvSpPr>
        <p:spPr>
          <a:xfrm>
            <a:off x="1644480" y="1619280"/>
            <a:ext cx="187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ñal Analóg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5" name="Picture 13" descr="digital_2"/>
          <p:cNvPicPr/>
          <p:nvPr/>
        </p:nvPicPr>
        <p:blipFill>
          <a:blip r:embed="rId2"/>
          <a:stretch/>
        </p:blipFill>
        <p:spPr>
          <a:xfrm>
            <a:off x="4581360" y="1981080"/>
            <a:ext cx="4191120" cy="416736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sp>
        <p:nvSpPr>
          <p:cNvPr id="586" name="Text Box 14"/>
          <p:cNvSpPr/>
          <p:nvPr/>
        </p:nvSpPr>
        <p:spPr>
          <a:xfrm>
            <a:off x="5850360" y="160020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ñal Digit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 Box 15"/>
          <p:cNvSpPr/>
          <p:nvPr/>
        </p:nvSpPr>
        <p:spPr>
          <a:xfrm>
            <a:off x="5706000" y="612468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0101111 10111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 Box 16"/>
          <p:cNvSpPr/>
          <p:nvPr/>
        </p:nvSpPr>
        <p:spPr>
          <a:xfrm>
            <a:off x="2590920" y="30492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VERSION ANALOGICA - DIGIT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4"/>
          <p:cNvSpPr/>
          <p:nvPr/>
        </p:nvSpPr>
        <p:spPr>
          <a:xfrm>
            <a:off x="2590920" y="30492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VERSION ANALOGICA - DIGIT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854640" y="1708200"/>
            <a:ext cx="390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Ventajas de las Señales Digita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1072800" y="2241720"/>
            <a:ext cx="636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pueden almacenar en medios magnéticos sin perde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 Box 7"/>
          <p:cNvSpPr/>
          <p:nvPr/>
        </p:nvSpPr>
        <p:spPr>
          <a:xfrm>
            <a:off x="1173240" y="2933640"/>
            <a:ext cx="646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bido a que sólo se utilizan dos estados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, son má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áciles de manipul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 Box 8"/>
          <p:cNvSpPr/>
          <p:nvPr/>
        </p:nvSpPr>
        <p:spPr>
          <a:xfrm>
            <a:off x="1051920" y="3648240"/>
            <a:ext cx="75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 información se puede comprimir reduciendo considerablemen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 tamaño  (wma, mp3, ogg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1051200" y="4362480"/>
            <a:ext cx="53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 inmune al ruido, los errores son detecta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Text Box 10"/>
          <p:cNvSpPr/>
          <p:nvPr/>
        </p:nvSpPr>
        <p:spPr>
          <a:xfrm>
            <a:off x="1104120" y="4896000"/>
            <a:ext cx="65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 hay pérdida de información, esta puede ser recuper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Text Box 11"/>
          <p:cNvSpPr/>
          <p:nvPr/>
        </p:nvSpPr>
        <p:spPr>
          <a:xfrm>
            <a:off x="1098000" y="5381640"/>
            <a:ext cx="67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uede ser duplicada un infinito número de veces sin perd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05:08:31Z</dcterms:created>
  <dc:creator>Pablo Turmero</dc:creator>
  <dc:description/>
  <dc:language>en-US</dc:language>
  <cp:lastModifiedBy>Pablo Turmero</cp:lastModifiedBy>
  <dcterms:modified xsi:type="dcterms:W3CDTF">2015-07-08T22:29:03Z</dcterms:modified>
  <cp:revision>28</cp:revision>
  <dc:subject/>
  <dc:title/>
</cp:coreProperties>
</file>