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  <p:sldId id="278" r:id="rId41"/>
    <p:sldId id="279" r:id="rId42"/>
    <p:sldId id="280" r:id="rId43"/>
    <p:sldId id="281" r:id="rId44"/>
    <p:sldId id="282" r:id="rId45"/>
    <p:sldId id="283" r:id="rId46"/>
    <p:sldId id="284" r:id="rId47"/>
    <p:sldId id="285" r:id="rId48"/>
    <p:sldId id="286" r:id="rId49"/>
    <p:sldId id="287" r:id="rId50"/>
    <p:sldId id="288" r:id="rId51"/>
    <p:sldId id="289" r:id="rId52"/>
    <p:sldId id="290" r:id="rId53"/>
    <p:sldId id="291" r:id="rId54"/>
    <p:sldId id="292" r:id="rId55"/>
    <p:sldId id="293" r:id="rId56"/>
    <p:sldId id="294" r:id="rId57"/>
    <p:sldId id="295" r:id="rId58"/>
    <p:sldId id="296" r:id="rId59"/>
    <p:sldId id="297" r:id="rId60"/>
    <p:sldId id="298" r:id="rId61"/>
    <p:sldId id="299" r:id="rId62"/>
    <p:sldId id="300" r:id="rId63"/>
    <p:sldId id="301" r:id="rId64"/>
    <p:sldId id="302" r:id="rId65"/>
    <p:sldId id="303" r:id="rId66"/>
    <p:sldId id="304" r:id="rId67"/>
    <p:sldId id="305" r:id="rId68"/>
    <p:sldId id="306" r:id="rId69"/>
    <p:sldId id="307" r:id="rId70"/>
    <p:sldId id="308" r:id="rId71"/>
    <p:sldId id="309" r:id="rId72"/>
    <p:sldId id="310" r:id="rId73"/>
    <p:sldId id="311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slide" Target="slides/slide23.xml"/><Relationship Id="rId42" Type="http://schemas.openxmlformats.org/officeDocument/2006/relationships/slide" Target="slides/slide24.xml"/><Relationship Id="rId43" Type="http://schemas.openxmlformats.org/officeDocument/2006/relationships/slide" Target="slides/slide25.xml"/><Relationship Id="rId44" Type="http://schemas.openxmlformats.org/officeDocument/2006/relationships/slide" Target="slides/slide26.xml"/><Relationship Id="rId45" Type="http://schemas.openxmlformats.org/officeDocument/2006/relationships/slide" Target="slides/slide27.xml"/><Relationship Id="rId46" Type="http://schemas.openxmlformats.org/officeDocument/2006/relationships/slide" Target="slides/slide28.xml"/><Relationship Id="rId47" Type="http://schemas.openxmlformats.org/officeDocument/2006/relationships/slide" Target="slides/slide29.xml"/><Relationship Id="rId48" Type="http://schemas.openxmlformats.org/officeDocument/2006/relationships/slide" Target="slides/slide30.xml"/><Relationship Id="rId49" Type="http://schemas.openxmlformats.org/officeDocument/2006/relationships/slide" Target="slides/slide31.xml"/><Relationship Id="rId50" Type="http://schemas.openxmlformats.org/officeDocument/2006/relationships/slide" Target="slides/slide32.xml"/><Relationship Id="rId51" Type="http://schemas.openxmlformats.org/officeDocument/2006/relationships/slide" Target="slides/slide33.xml"/><Relationship Id="rId52" Type="http://schemas.openxmlformats.org/officeDocument/2006/relationships/slide" Target="slides/slide34.xml"/><Relationship Id="rId53" Type="http://schemas.openxmlformats.org/officeDocument/2006/relationships/slide" Target="slides/slide35.xml"/><Relationship Id="rId54" Type="http://schemas.openxmlformats.org/officeDocument/2006/relationships/slide" Target="slides/slide36.xml"/><Relationship Id="rId55" Type="http://schemas.openxmlformats.org/officeDocument/2006/relationships/slide" Target="slides/slide37.xml"/><Relationship Id="rId56" Type="http://schemas.openxmlformats.org/officeDocument/2006/relationships/slide" Target="slides/slide38.xml"/><Relationship Id="rId57" Type="http://schemas.openxmlformats.org/officeDocument/2006/relationships/slide" Target="slides/slide39.xml"/><Relationship Id="rId58" Type="http://schemas.openxmlformats.org/officeDocument/2006/relationships/slide" Target="slides/slide40.xml"/><Relationship Id="rId59" Type="http://schemas.openxmlformats.org/officeDocument/2006/relationships/slide" Target="slides/slide41.xml"/><Relationship Id="rId60" Type="http://schemas.openxmlformats.org/officeDocument/2006/relationships/slide" Target="slides/slide42.xml"/><Relationship Id="rId61" Type="http://schemas.openxmlformats.org/officeDocument/2006/relationships/slide" Target="slides/slide43.xml"/><Relationship Id="rId62" Type="http://schemas.openxmlformats.org/officeDocument/2006/relationships/slide" Target="slides/slide44.xml"/><Relationship Id="rId63" Type="http://schemas.openxmlformats.org/officeDocument/2006/relationships/slide" Target="slides/slide45.xml"/><Relationship Id="rId64" Type="http://schemas.openxmlformats.org/officeDocument/2006/relationships/slide" Target="slides/slide46.xml"/><Relationship Id="rId65" Type="http://schemas.openxmlformats.org/officeDocument/2006/relationships/slide" Target="slides/slide47.xml"/><Relationship Id="rId66" Type="http://schemas.openxmlformats.org/officeDocument/2006/relationships/slide" Target="slides/slide48.xml"/><Relationship Id="rId67" Type="http://schemas.openxmlformats.org/officeDocument/2006/relationships/slide" Target="slides/slide49.xml"/><Relationship Id="rId68" Type="http://schemas.openxmlformats.org/officeDocument/2006/relationships/slide" Target="slides/slide50.xml"/><Relationship Id="rId69" Type="http://schemas.openxmlformats.org/officeDocument/2006/relationships/slide" Target="slides/slide51.xml"/><Relationship Id="rId70" Type="http://schemas.openxmlformats.org/officeDocument/2006/relationships/slide" Target="slides/slide52.xml"/><Relationship Id="rId71" Type="http://schemas.openxmlformats.org/officeDocument/2006/relationships/slide" Target="slides/slide53.xml"/><Relationship Id="rId72" Type="http://schemas.openxmlformats.org/officeDocument/2006/relationships/slide" Target="slides/slide54.xml"/><Relationship Id="rId73" Type="http://schemas.openxmlformats.org/officeDocument/2006/relationships/slide" Target="slides/slide55.xml"/><Relationship Id="rId74" Type="http://schemas.openxmlformats.org/officeDocument/2006/relationships/slide" Target="slides/slide56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CC63A-E2B0-4D17-B6CE-823763CD9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56B15-5055-45C3-B128-A7B1EAAC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2B8A7C-CBD2-4CAD-9D8C-0C442048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A27304-F5AC-4ED4-AFC1-2836A846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3495250-C2A5-4691-B719-06C58DF4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921E25-1535-40BA-BF8D-AF48FC85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D9E721-EC15-43FE-842B-4B886225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1DBD1C-C0C6-4743-B602-4835FDFC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C2AFC3-1012-4667-999B-D6D7FDF7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37F41A-E9C8-4845-8908-42B6287A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3346BC-4A94-482A-9BF3-9239E7956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3CAAFC-643D-4F16-A789-B54FFFAC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AD4A4-8BA9-4B5C-B873-E9A066324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746B70-6BBD-4E69-AA41-765CF49F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22CB11-B592-494B-88D6-B4CAAEC7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C9B760-2F67-4E68-B253-59B6F721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AA94A2-C2BC-4644-970B-A0640AAF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73264F-09C5-42B7-B39B-F4B467B1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E9DC08-43C9-4647-8E5A-2F9202F3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F183F5-0EA0-41A6-9990-DEA0BC68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CCF284-2BCD-4301-8058-E22D58F2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B35C32-A59A-43CE-AD49-5C1F0EB1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4A8276-FC76-4FE5-A066-F3BEF4CA9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BCF29-7505-4503-A2A0-23F9F548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2A0578A-40EF-4F3D-B9FB-F8E4FBA7A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D441133-A94F-4F0F-AB59-B88AA582A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D994CC-80D9-49DD-A01C-5B1BFA8BE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F0AA80-B9D6-46D8-B7B3-A846BDEC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A45F80-9479-47EF-97D7-BFC47CBB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09C276-EB17-43CA-AF48-C087B5DB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8E5735-AEF2-411F-8AD9-541EF14C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785432E-C146-4342-B415-EDA5CD52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3DA7E4-F3CB-4521-853A-1CB2BE95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2A64BC-A0BE-4DC4-BF12-DCB65881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C47E-6691-4D49-A68E-807CBBA42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A661FE-19B5-462D-B565-0727A6A4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C60F30-97DB-4A9B-B933-62B80F3FC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9EB448A-0414-4ADA-9473-F99C574E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C7D951E-9FEA-4F35-AA78-42BCA7F92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59714A-3599-4339-AFA7-DF3137171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6FA683-8DF6-4A0D-B687-1EE89685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EF408B-4315-4D6B-8B2B-261C4A43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F7A7D08-4BFE-4019-97AA-77B95B04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492D3A4-5468-4232-BB27-1C91B5C9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ACC75B-FBC1-4E69-B4EF-21F356DC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82C7-E9D9-4B7C-BF2C-F167332C4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33112C-74C2-45F6-9248-C5DE3358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D6EC884-57C3-4C3C-B211-37F4049D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4FB1143-4045-43D2-A220-C171F4EF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0A0023E-D022-4F15-AC90-DE2D321C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072B457-D790-440E-B2BE-2CB7F0B6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E0D5CF-D7DA-4966-860F-1B222A47C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726FF93-2948-4F7B-BA1E-21019B1F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D9FD789-189D-495F-A239-777CE15A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D7C63B-6587-4FD9-A6A0-42DC42FD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14F47A-8425-4AAC-A78E-2CB78A5E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8C6A-EF7B-4B9E-A43F-2AAA78F13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C9E88EE-41FA-4F9D-8BF3-6CA8706E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347DC5C-9DDC-402F-B962-EE8195D6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785D5F-A24F-42AB-952E-F5A9EF69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B11971E-ACB6-45CB-8546-16861A22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25C860-9D11-43CA-B5CF-08BCDD4C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48EE7AC-89AD-4276-B0A7-C7C645585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8661DD-E6F4-49B8-86E0-5E81B72B5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F784E0F-6D33-4ECC-B65B-F56B59BD4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E13B46C-7DE3-4526-AC43-422D61A6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7E2B77B-48EC-4DF6-891D-79272C8D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058B-E505-4674-BDE4-EE168AB1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3D4B3BC-F3A8-4C3E-834C-DB00FB2A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F3433C5-1DEA-443B-ABD5-50C7FE37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94AB42F-440F-415E-89D2-A31618A9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E195EDF-8466-4C3B-A27A-18BE062D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F8AB92F-0BF9-496E-9C50-4DC62EC0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C6291EA-BC6C-494E-83DF-9284DAF0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EFCF90F-0DD0-48F4-952F-98ADF17D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DCB916D-A245-4C9B-8434-BB124DDD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06B67D3-1E0A-4666-834F-E334D3C8E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0B7A510-AAD2-4DDA-A46E-4D3E29D3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9A85-3AAA-4E90-85BF-577C59D1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BC20755-8DC2-41EE-A9CC-EE3B48F4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E3B6987-B392-403F-ACA2-5F5BDB93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401BEEB-70B9-4D27-9165-89F93561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1C50883-FC47-46F7-A73C-240247DB4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CDC3A3A-3D84-4D0B-8A60-4E3770F2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8A29446-C61E-4BC1-BC20-9224AACC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87C6916-3F90-4182-9029-09741FB1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CF2F7E6-F40E-4A2E-A4BA-C8943D6A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7CCA806-0593-488B-8296-B4470CAE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EED37A0-B23A-4B94-99F0-BA547D74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1475-74F6-49DC-8DF7-A89A0F23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E5B98E4-20A9-4C1A-9116-FE8EAC0A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3FD6860-1804-494A-B872-BC0B1C27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789DCF2-BE56-4C56-B6CA-7CBFBA7D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A2F4E0B-5655-45D5-AE0A-63DC1DC4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444BF93-3091-4E73-A18D-E5FE6000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EB320A4-F5F0-4EFB-A1B4-3A95F0AD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B2B95F3-9429-479D-B25F-4B042F6EA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929A9BA-CA7D-4BD8-9B3F-2DF36C21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D9CADEB-7FC8-4AB9-A6AC-1BEFAF30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0379E7A-AA61-4199-A8E5-5A7250D1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6512-6560-4CE8-9664-049216C4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FD40EEA-BA5A-4483-B2D1-AB74D0B6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7817126-41F4-4ED1-A031-37D3A7FCA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5DFED3B-2F1D-4691-BA9D-E9758AC7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B05228A-4411-4CA3-8A6A-BD9B4DFF8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C62FB9C-8B7C-48D6-A361-3C9079A3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A45DC99-169A-4922-9158-B77B8194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5267894-04EE-4816-ACC5-FFD73C3F5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63E2E72-49B8-4932-BC48-10A8CAEF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A38DC6F-1B60-42EE-BE6D-EC721186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A382565-6C4C-4527-9BE3-5AA9C00C3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A3846-F962-407E-B002-15869A77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38081-B3F7-45D4-94A3-20740DA5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884F151-8C65-4D6C-9E00-93ACC552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018C0F7-CE7A-4026-BD7D-90A68042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691D254-3364-469B-B059-14BBF9BE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F2CA4EF-2285-45ED-A47A-00192B8C8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DBB56E5-E503-407A-98E0-C4CE08A0B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5148-5F9C-4ED4-98BB-E969A836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F172-A0B1-45C8-912C-89BB879D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02795-6726-487D-85D3-222A44E2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B07A-4054-4681-92FC-EDB684A3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652812-FB6C-48CD-A233-F0534BE5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D7B818-B79E-43CC-88A6-B7B99CF5C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BBB23C-908A-45CD-B383-E73F2131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E22A60-9101-46E8-945E-EDD64D96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58C76D-09DD-4587-BB41-1526D3ED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456FA-2550-460A-A4B4-52DE89F8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A12683-4F7C-411C-9F7B-3D56F604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7091E1-1976-4A94-BF73-FF1A1777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95EB5B-8B91-4D77-83B1-B4027989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9B0503-5926-4FAB-B206-519B80F7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241CD1-2495-45C3-B5B2-0ACFB80B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D1B2D4-CD41-4F24-9A59-1D8928162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F3E042-6D12-4528-968B-D35DB1A53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DAB0A6-5ECA-4497-9EDD-2C6D2E111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DA9540-47CB-43AB-97FD-DA696B11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0E6A5A-AA3C-4C4F-AE02-A3ED06AF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2B1C5-EB94-4F0B-A8CF-B0CAAA67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42D15E-63F3-429B-B289-9F1DCEA1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5DCBC8-CFD1-4670-ACC3-34395250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A9E5AC-5BE6-4C69-8CF2-1F97E756A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3827E3-9586-4434-B9B7-B764B4D2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8685CE-B8A2-4A0E-8C0C-6EB59AA1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184CEC-1A32-4229-872C-DBA40745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85A0AB-1F14-4D85-9BA8-0C9FA5FC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2A2116-55D0-408A-A271-A74A0AB7D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D36122-956A-4934-A343-DD25DEF0D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3A4B99-3BD4-49E8-BC2D-BC1E95725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4F523-C1B1-4EDC-A318-F48413B91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B4A010-BF0C-4929-98CB-4E6A7D5E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DD6315-C2C2-480F-B60C-B5514990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59D783-8B32-45BF-8AE8-852DE95D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07942F-8EB0-4FDD-A62C-2B56778D2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C34F6B-F8E1-4633-B491-AF0787AB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8A4A59-514B-436D-AF90-ED651957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C62459-1C57-482D-BF2F-06EBA89E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F63690-EBE7-4BB5-813E-0375673E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90F13E-0687-4624-AAAA-4C16BACA6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F7E7FE-C1C4-42FB-AA39-7DAFCBE6B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27771-ACC3-4638-A1BF-0457BCEE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69BD11-4032-41E9-A97A-9AEA3330A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5A0D4F-BBCA-4CB6-93F7-C6DD94901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4D7D77-BAEC-4A3E-BA98-9AD48B81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AD6C00-6F31-4958-9B05-D98453D7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655CF2-C3BC-4E1F-9CDA-886A1F25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7CDD2B-E4FE-40FE-93D1-E3EE7A9A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F6C321-4FB5-4D81-AAA6-07A52531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8B1CEF-32A1-40F4-B452-4963C576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8E3F3B-8263-4033-83CA-81526B01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4E6C6E-878D-4B0E-A8CE-56038AD6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95AE1-6705-406C-BD6D-8DFA95F8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40C340-A69D-4A9E-807E-6D994764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D33D35-80D0-4E2F-9B18-8963A6CA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CDE782-66C8-4CEA-8CF6-54F7E5A47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F0D998-C3FA-4831-9E8A-AF425B24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22ECDD-9432-4F1E-8603-DB79129A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C465BD-7634-49DC-B901-4D2EC199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B97AB5-7E2E-426B-8C28-C66DEBFE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E0D17D-6BEC-488D-9AA7-607B6CDA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234326-99F1-4B37-8DF1-577ECA77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627905-CEDC-4C82-8B14-53735094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B63F9-36B1-47F8-88B9-86DDD973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9B7E56-6394-4D1B-9D11-0B81FA88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B538FA-68BB-4557-9757-003E3DD2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4002A7-27F8-4FF6-8395-3030D465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163132-9D62-4CE3-8104-029D54577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C92D15-435B-439C-843A-40AF5ECB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798F92-93AE-4ECE-83A6-99AB97BC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39BE08-C517-49DB-8E11-CA13166C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A740C6-A7B6-411F-A8EF-96B9B8F3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91C9F7-5E45-4314-A1A0-87C63942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F42576-7B0C-4F98-871F-E46E94C1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9074D-B2A4-47E2-8A86-C7133662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E7CC4B-6B88-40A6-BB1B-41BE4686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EDAD59-AC3A-4B5A-A26A-807162733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E894B0-50C0-40F4-9484-35418391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0831FE-06FB-4445-B402-E83989FB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4B0D3D-400A-4EAC-BFE3-AEE80FFF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EB892C-D92D-4D2E-8201-30591A6EA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E36E04-000B-45F8-B1A3-5AB4E7DBA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6861CD-25C0-4A85-985D-8CCFD12DD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B63175C-4C7F-49DF-A1B1-FA84FAFF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268DF7-AF5C-401F-9ED8-A5F95512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BF2C1-CBA2-46BF-9B69-FC68B5744631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7B69-DF36-4D78-AF91-97403A20A19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F76D-5A8D-41A5-B660-4A8D28C8E5DC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64DA-BCA6-4A7E-AED2-D29587FD554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64F2-6721-4329-926E-D7D4304EEC6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6BF2-8E76-4B14-8227-F09A0C2E957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533B-AFDF-4085-89DF-A156565038C2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ftr" idx="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3E7C-7715-4AF6-AF97-E6F522F39B28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ftr" idx="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5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B2DF-2847-44AF-86F1-952CE6B1E78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dt" idx="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B261-C642-44E1-A78D-B65E2579713C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EF58-DA3B-4973-A770-D2B6E6460859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7A34-74D4-4A98-BAF9-D1794AF7B25C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BDB7-DDCF-48A9-8661-5C6FC754C70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A119-8486-4C75-9593-C08EBAA50C0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793A-3A74-46D5-91A9-AD16D0B7ABD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3C92-A91E-4AE1-978B-BCDE4DE01184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6A35-75D6-4BA5-8CFA-348FD64FF426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8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9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7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7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7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7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7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69200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ffffff"/>
                </a:solidFill>
                <a:latin typeface="Arial"/>
              </a:rPr>
              <a:t>TIRISTORES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odelo basado en dio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03848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larización inve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voltaje inverso entre ánodo y compuerta,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lariza inversamente a D1 y D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ado: Bloqu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Picture 4" descr=""/>
          <p:cNvPicPr/>
          <p:nvPr/>
        </p:nvPicPr>
        <p:blipFill>
          <a:blip r:embed="rId1"/>
          <a:stretch/>
        </p:blipFill>
        <p:spPr>
          <a:xfrm>
            <a:off x="5148360" y="1413000"/>
            <a:ext cx="36399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odelo basado en transis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Picture 9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691200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odelo basado en transis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924000" y="1988640"/>
            <a:ext cx="489564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=    I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CB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C1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=   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+  I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CBO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C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=   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CBO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C1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C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A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+ I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CBO1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+ 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I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CBO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Picture 8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3576600" cy="4392360"/>
          </a:xfrm>
          <a:prstGeom prst="rect">
            <a:avLst/>
          </a:prstGeom>
          <a:ln w="0">
            <a:noFill/>
          </a:ln>
        </p:spPr>
      </p:pic>
      <p:sp>
        <p:nvSpPr>
          <p:cNvPr id="75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3" name="Object 11"/>
              <p:cNvSpPr txBox="1"/>
              <p:nvPr/>
            </p:nvSpPr>
            <p:spPr>
              <a:xfrm>
                <a:off x="4500720" y="4653000"/>
                <a:ext cx="3887640" cy="15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O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O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odelo basado en transis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5" name="Object 6"/>
              <p:cNvSpPr txBox="1"/>
              <p:nvPr/>
            </p:nvSpPr>
            <p:spPr>
              <a:xfrm>
                <a:off x="2916360" y="1700280"/>
                <a:ext cx="23065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O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BO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22960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corrientes pequeñas se tiene que la alfa diminuye a un valor cercano a cero, por lo que el denominador de la ecuación tiende a 1. Solo fluye la corriente inversa. El tiristor está bloque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o para corrientes grandes, el alfa se aproxima a la unidad por lo que ahora el denominador tenderá a infinito, lo cual indica que la corriente de ánodo solo estará limitada por la carga del circuito. El tiristor está en con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ctivación del tiristor: Tér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 la temperatura de un tiristor es alta habrá un aumento en el número de pares electrón-hueco, lo que aumentará las corrientes de fuga. Este aumento en las corrientes hará que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 y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  aumen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bido a la acción regenerativa (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1 y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2)  puede tender a la unidad y el tiristor pudiera activa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te tipo de activación se puede causar por una fuga térmica que por lo general se evi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ctivación del tiristor: Lu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se permite que la luz llegue a las uniones de un tiristor, aumentaran los pares electrón-hueco pudiéndose activar el  tiris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ctivación de tiristores por luz se logra permitiendo que ésta llegue a los discos de silic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62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ctivación del tiristor: Alto volta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el voltaje directo ánodo  a cátodo es mayor que el voltaje de ruptura directo VBO, fluirá una corriente de fuga suficiente para iniciar una activación regenera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e tipo de activación salvo en el diodo de cuatro capas, resulta destructiva por lo que se debe evit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62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Activación del tiristor: dv/d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 la velocidad de elevación del voltaje ánodo-cátodo es alta, la corriente de carga de las uniones capacitivas puede ser suficiente para activar el tiris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valor alto de corriente de carga puede dañar el tiristor por lo que el dispositivo debe protegerse contra dv/dt al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fabricantes especifican el dv/dt máximo permisible de los tiristo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62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Activación del tiristor:  Corriente en compuer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un tiristor está polarizado en directa, la inyección de una corriente de compuerta al aplicar un voltaje positivo de compuerta entre la compuerta y las terminales del cátodo activará al tiris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e es el caso del tiristor que se estudió anteriormen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C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hora se estudiará al SCR como 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CR=Silicon Controllated Rectifi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7" descr=""/>
          <p:cNvPicPr/>
          <p:nvPr/>
        </p:nvPicPr>
        <p:blipFill>
          <a:blip r:embed="rId1"/>
          <a:stretch/>
        </p:blipFill>
        <p:spPr>
          <a:xfrm>
            <a:off x="2411280" y="3716280"/>
            <a:ext cx="273528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iris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tiristor es uno de los tipos más importantes de los dispositivos semiconductores de pot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tiristores se utilizan en forma extensa en los circuitos electrónicos de pote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operan como conmutadores biestables, pasando de un estado no conductor a un estado condu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ra muchas aplicaciones se puede suponer que los tiristores son interruptores o conmutadores ideales, aunque los tiristores prácticos exhiben ciertas características y limit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C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68360" y="443664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l control de conducción es a través de un pulso de corriente en la compuerta o puerta,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MX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Picture 8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5450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C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corriente de enganche, 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, es la corriente de ánodo, 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, necesaria para que el SCR pueda entrar a condu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corriente mínima requerida, para seguir en conducción, después de haber alcanzado 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, es la llamada corriente de sostenimiento, 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C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68360" y="443700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corriente de compuerta, varía en función del voltaje ánodo cát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l voltaje máximo inverso, 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MX" sz="2800" spc="-1" strike="noStrike" baseline="-25000">
                <a:solidFill>
                  <a:srgbClr val="000000"/>
                </a:solidFill>
                <a:latin typeface="Arial"/>
              </a:rPr>
              <a:t>RWM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, es el que puede soportar el SCR sin que éste se dañ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Picture 5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504036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aracterística estática del SC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0" name="Picture 5" descr=""/>
          <p:cNvPicPr/>
          <p:nvPr/>
        </p:nvPicPr>
        <p:blipFill>
          <a:blip r:embed="rId1"/>
          <a:stretch/>
        </p:blipFill>
        <p:spPr>
          <a:xfrm>
            <a:off x="1619280" y="1892160"/>
            <a:ext cx="568944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35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aracterística dinámica del SC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4" descr=""/>
          <p:cNvPicPr/>
          <p:nvPr/>
        </p:nvPicPr>
        <p:blipFill>
          <a:blip r:embed="rId1"/>
          <a:stretch/>
        </p:blipFill>
        <p:spPr>
          <a:xfrm>
            <a:off x="2050920" y="1484280"/>
            <a:ext cx="49546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Hoja de Datos: Valores límite para el SC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RRM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nsión inversa repetitiva máxima. Valor máximo que soporta el SCR de tensión  nega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DRM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nsión directa repetitiva máxima. Valor de tensión máximo que puede soportar el SCR sin ceba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Hoja de Datos: Valores límite para el SC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DSM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Tensión directa máxima de pico no repetitivo. Valor máximo de tensión directa con circuito de puerta abierto que se puede aplicar durante un cierto tiempo sin provocar el dispa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RSM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Tensión inversa de pico no repetitiva. Tensión máxima inversa que se puede aplicar durante un cierto tiempo sin que haya avalanc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Hoja de Datos: Valores límite para el SC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B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nsión directa de basculamiento. Tensión directa que produce el cebado del SCR sin la intervención de la pue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B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nsión inversa de ruptura o avalanch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Hoja de Datos: Valores límite para el SC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Corriente directa de saturación, bloqueo o fugas. Valor máximo de la corriente del tiristor en sentido directo y estado de bloqueo directo referida a una temperatura determinada, Tj y a una tensión directa determin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Corriente inversa de bloqueo, fugas o saturación. Valor máximo de la corriente inversa del tiristor en estado de bloqueo inverso, referida a una Tj y tensión inversa determin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Hoja de Datos: Valores límite para el SC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TAVM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Corriente directa media máxima. Valor máximo de la corriente media en sentido directo bajo una Tj y factor de forma de la corriente concre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TRMSM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Valor eficaz máximo de la corriente directa máxima. Valor máximo que en valor eficaz puede alcanzar la corriente directa en unas condiciones de T determin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iris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76244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tiristor es un dispositivo semiconductor de cuatro capas de estructura pnpn con tres uniones p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ene tres terminales: ánodo cátodo y compuert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8" descr=""/>
          <p:cNvPicPr/>
          <p:nvPr/>
        </p:nvPicPr>
        <p:blipFill>
          <a:blip r:embed="rId1"/>
          <a:stretch/>
        </p:blipFill>
        <p:spPr>
          <a:xfrm>
            <a:off x="5724360" y="1916280"/>
            <a:ext cx="242100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Hoja de Datos: Valores límite para el SC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TSM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Corriente directa de choque máxima. Valor eficaz máximo de la corriente que puede soportar el SCR durante un tiempo y una Tj determin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T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 Tensión umbral. Caída de tensión mínima del SCR en sentido dir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T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Caída de tensión direc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Hoja de Datos: Valores límite para el SC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GNTM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Máxima corriente de puerta que no ceba el tiristor ni en las mejores condiciones de tensión y temperat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GNTM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Máxima tensión de puerta que no ceba el SCR ni en las mejores condiciones de tensión directa y temperatu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GT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Corriente mínima que ceba el SCR para una Tj y una tensión directa d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Hoja de Datos: Valores límite para el SC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GT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Tensión mínima que ceba el SCR para Tj d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GM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Máxima potencia instantánea que soporta el diodo puerta-ca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GAVM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Potencia media máxima que puede soportar la unión puerta-ca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Hoja de Datos: Valores límite para el SC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GFM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áxima tensión directa en la pue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GFM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áxima corriente directa en la pue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GRM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Máxima tensión inversa que es capaz de bloquear el diodo puerta-ca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Hoja de Datos: Valores límite para el SC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i/dt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lor máximo admisible de la pendiente de corriente por debajo de la cual no se producen puntos cali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v/dt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: Pendiente de establecimiento de la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" sz="2800" spc="-1" strike="noStrike" baseline="-25000">
                <a:solidFill>
                  <a:srgbClr val="000000"/>
                </a:solidFill>
                <a:latin typeface="Arial"/>
              </a:rPr>
              <a:t>AK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por debajo de la cual el SCR no se ceba sin la aplicación de un impul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ri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95280" y="47242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TRIAC (Triode AC) es capaz de bloquear tensión y conducir corriente en ambos sent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 comportamiento de bloqueo y conducción es básicamente similar al del SCR pero en ambos sent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6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5400720" cy="32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ri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structura compleja 6 capas, pero se compota como de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Baja velocidad y poca pot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o como interruptor está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Picture 4" descr=""/>
          <p:cNvPicPr/>
          <p:nvPr/>
        </p:nvPicPr>
        <p:blipFill>
          <a:blip r:embed="rId1"/>
          <a:stretch/>
        </p:blipFill>
        <p:spPr>
          <a:xfrm>
            <a:off x="4427640" y="1989000"/>
            <a:ext cx="446544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aracterística estática del Tri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Picture 5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69600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odos de dispa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Picture 5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508032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odos de dispa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4" name="Picture 4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4897440" cy="35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iris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762440" cy="40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tiristor en su forma original fue en realidad el SC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r eso en ocasiones se habla de tiristores y tri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4" descr=""/>
          <p:cNvPicPr/>
          <p:nvPr/>
        </p:nvPicPr>
        <p:blipFill>
          <a:blip r:embed="rId1"/>
          <a:stretch/>
        </p:blipFill>
        <p:spPr>
          <a:xfrm>
            <a:off x="5724360" y="1916280"/>
            <a:ext cx="242100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odos de dispa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4" descr=""/>
          <p:cNvPicPr/>
          <p:nvPr/>
        </p:nvPicPr>
        <p:blipFill>
          <a:blip r:embed="rId1"/>
          <a:stretch/>
        </p:blipFill>
        <p:spPr>
          <a:xfrm>
            <a:off x="2268360" y="1989000"/>
            <a:ext cx="4926240" cy="34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odos de dispa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" name="Picture 4" descr=""/>
          <p:cNvPicPr/>
          <p:nvPr/>
        </p:nvPicPr>
        <p:blipFill>
          <a:blip r:embed="rId1"/>
          <a:stretch/>
        </p:blipFill>
        <p:spPr>
          <a:xfrm>
            <a:off x="2050920" y="1916280"/>
            <a:ext cx="489600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odos de dispa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TRIAC se dispara en los dos cuadrantes con pulsos de corriente de puerta tanto positivos como nega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modos de disparo más sensibles son I+ y III-, después el I-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modo III+ es el menos sensible y debe evitarse en lo po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odos de dispa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2" name="Group 5"/>
          <p:cNvGrpSpPr/>
          <p:nvPr/>
        </p:nvGrpSpPr>
        <p:grpSpPr>
          <a:xfrm>
            <a:off x="1835280" y="1844640"/>
            <a:ext cx="5473080" cy="4320360"/>
            <a:chOff x="1835280" y="1844640"/>
            <a:chExt cx="5473080" cy="4320360"/>
          </a:xfrm>
        </p:grpSpPr>
        <p:sp>
          <p:nvSpPr>
            <p:cNvPr id="823" name="Line 6"/>
            <p:cNvSpPr/>
            <p:nvPr/>
          </p:nvSpPr>
          <p:spPr>
            <a:xfrm>
              <a:off x="4422600" y="2263680"/>
              <a:ext cx="5760" cy="3491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7"/>
            <p:cNvSpPr/>
            <p:nvPr/>
          </p:nvSpPr>
          <p:spPr>
            <a:xfrm>
              <a:off x="2576880" y="4106880"/>
              <a:ext cx="3916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 Box 8"/>
            <p:cNvSpPr/>
            <p:nvPr/>
          </p:nvSpPr>
          <p:spPr>
            <a:xfrm>
              <a:off x="3986640" y="5654880"/>
              <a:ext cx="1197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MT2(-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Text Box 9"/>
            <p:cNvSpPr/>
            <p:nvPr/>
          </p:nvSpPr>
          <p:spPr>
            <a:xfrm>
              <a:off x="3978360" y="1844640"/>
              <a:ext cx="1222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MT2(+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Text Box 10"/>
            <p:cNvSpPr/>
            <p:nvPr/>
          </p:nvSpPr>
          <p:spPr>
            <a:xfrm>
              <a:off x="1835280" y="3864600"/>
              <a:ext cx="815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G(-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Text Box 11"/>
            <p:cNvSpPr/>
            <p:nvPr/>
          </p:nvSpPr>
          <p:spPr>
            <a:xfrm>
              <a:off x="6415920" y="3847320"/>
              <a:ext cx="89244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G(+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Text Box 12"/>
            <p:cNvSpPr/>
            <p:nvPr/>
          </p:nvSpPr>
          <p:spPr>
            <a:xfrm>
              <a:off x="4535640" y="3086280"/>
              <a:ext cx="1792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MT2(+), G(+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Text Box 13"/>
            <p:cNvSpPr/>
            <p:nvPr/>
          </p:nvSpPr>
          <p:spPr>
            <a:xfrm>
              <a:off x="2741040" y="3086280"/>
              <a:ext cx="179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MT2(+), G(-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Text Box 14"/>
            <p:cNvSpPr/>
            <p:nvPr/>
          </p:nvSpPr>
          <p:spPr>
            <a:xfrm>
              <a:off x="2741040" y="2408040"/>
              <a:ext cx="16308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Quadrant I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Text Box 15"/>
            <p:cNvSpPr/>
            <p:nvPr/>
          </p:nvSpPr>
          <p:spPr>
            <a:xfrm>
              <a:off x="4535640" y="2408040"/>
              <a:ext cx="14670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Quadrant 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Text Box 16"/>
            <p:cNvSpPr/>
            <p:nvPr/>
          </p:nvSpPr>
          <p:spPr>
            <a:xfrm>
              <a:off x="2741040" y="4274640"/>
              <a:ext cx="1630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Quadrant II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Text Box 17"/>
            <p:cNvSpPr/>
            <p:nvPr/>
          </p:nvSpPr>
          <p:spPr>
            <a:xfrm>
              <a:off x="2741040" y="4784760"/>
              <a:ext cx="1794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MT2(-), G(-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Text Box 18"/>
            <p:cNvSpPr/>
            <p:nvPr/>
          </p:nvSpPr>
          <p:spPr>
            <a:xfrm>
              <a:off x="4535640" y="4274640"/>
              <a:ext cx="1630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Quadrant I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Text Box 19"/>
            <p:cNvSpPr/>
            <p:nvPr/>
          </p:nvSpPr>
          <p:spPr>
            <a:xfrm>
              <a:off x="4535640" y="4784760"/>
              <a:ext cx="1792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MT2(-), G(+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Text Box 6"/>
          <p:cNvSpPr/>
          <p:nvPr/>
        </p:nvSpPr>
        <p:spPr>
          <a:xfrm>
            <a:off x="1371600" y="838080"/>
            <a:ext cx="661176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MAIN ELECTRICAL PARAMETERS OF SCRs and TRIAC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Peak Repetitive Off state Voltage (VDRM&amp;VRRM)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(Vol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Peak Blocking Current (IDRM&amp;IRRM)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(µ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Gate Trigger Current (Ig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(µA, m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Gate Trigger Voltage (Vg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(Vol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Holding Current (IH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(m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Latching Current (I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(m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On-state Voltage (VTM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(Vol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MAIN DYNAMIC TEST FOR SCRs and TRIAC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On-state current RMS (IT(RMS))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(Am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Peak non-repetitive Surge Current (ITSM)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(Am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Critical Rate of Rise of off state Voltage (dV/d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(Volts/µse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Critical Rate of Rise of on-state Current (di/dt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(Amp/µse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Critical Rate of Rise of commutation Voltage (dV/dt)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(Volts/µse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MAIN THERMAL CHARACTERISTICS FOR SCRs and TRIAC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Operating Junction Temperature Range (Tj)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(°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Storage Temperature Range (Tstg)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(°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Maximum lead Temperature for soldering purposes (TL)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(°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G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acrónimo proviene de “Gate Turn-off Thyristor” o tiristor de apagado por pu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e dispositivo es similar al SCR, la única diferencia es que se puede pasar de conducción a bloqueo por medio de un impulso de corriente negativa (saliente) de puer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G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corriente de puerta necesaria para el apagado es bastante elevada, típicamente del 30% del valor de la corriente ánodo-cáto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nsión en conducción: 2-3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iempo de conmutación: 1µs - 25µ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G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Picture 5" descr=""/>
          <p:cNvPicPr/>
          <p:nvPr/>
        </p:nvPicPr>
        <p:blipFill>
          <a:blip r:embed="rId1"/>
          <a:stretch/>
        </p:blipFill>
        <p:spPr>
          <a:xfrm>
            <a:off x="0" y="1700280"/>
            <a:ext cx="860436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aracterística estática G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4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5373720" cy="46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aracterística estática G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5" descr=""/>
          <p:cNvPicPr/>
          <p:nvPr/>
        </p:nvPicPr>
        <p:blipFill>
          <a:blip r:embed="rId1"/>
          <a:stretch/>
        </p:blipFill>
        <p:spPr>
          <a:xfrm>
            <a:off x="2771640" y="1413000"/>
            <a:ext cx="3525840" cy="49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ransistor vs. Tiris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ansist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pera en la región lin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 de tres c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iris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olo conduce o no cond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 de cuatro c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FotoSC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denomina también LASCR (Ligth Activated SC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emplea radiación electromagnética para el disparo del tiri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encapsulado transparente permite que los fotones de luz incidan sobre la unión puerta cátodo generando por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uy útiles en control de potencia a alta tensión ya que el disparo por luz permite tener elevado aislamiento entre el circuito de potencia y el d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FotoSC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Picture 5" descr=""/>
          <p:cNvPicPr/>
          <p:nvPr/>
        </p:nvPicPr>
        <p:blipFill>
          <a:blip r:embed="rId1"/>
          <a:stretch/>
        </p:blipFill>
        <p:spPr>
          <a:xfrm>
            <a:off x="1763640" y="2060640"/>
            <a:ext cx="537372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Diodo de cuatro cap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Picture 4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5940360" cy="37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Característica estática del 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Diodo de cuatro cap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5" name="Picture 5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741672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Di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un dispositivo similar al TRIAC pero sin terminal de pue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entrada en conducción se produce por sobretensión entre sus termi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apagado se produce al pasar la corriente por debajo del valor de manten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emplea para el disparo de puerta de tiris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Di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Picture 5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597708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aracterística Estática del Di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Picture 5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43384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Familia de Tiris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ot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ri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G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733920" y="1773000"/>
            <a:ext cx="5410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pa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odo de cuatro cap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id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B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UJT (No es tirist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odelo del tiristor o SC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763280" y="2565360"/>
            <a:ext cx="54104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Basado en dio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Basado en transis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odelo basado en dio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03848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larización direc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1 y D3 dir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2 inve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olo corriente inversa por D2, llama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rriente de fuga,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ado: Bloque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7" descr=""/>
          <p:cNvPicPr/>
          <p:nvPr/>
        </p:nvPicPr>
        <p:blipFill>
          <a:blip r:embed="rId1"/>
          <a:stretch/>
        </p:blipFill>
        <p:spPr>
          <a:xfrm>
            <a:off x="5148360" y="1413000"/>
            <a:ext cx="36399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odelo basado en dio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403848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larización direc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i se incrementa el voltaje directo entre ánodo y compuerta,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AK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, se incrementará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</a:rPr>
              <a:t>D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hasta que D2 entra a avalanc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ado: Con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e voltaje se llama voltaje de ruptura directo,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MX" sz="2400" spc="-1" strike="noStrike" baseline="-25000">
                <a:solidFill>
                  <a:srgbClr val="000000"/>
                </a:solidFill>
                <a:latin typeface="Arial"/>
              </a:rPr>
              <a:t>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Picture 4" descr=""/>
          <p:cNvPicPr/>
          <p:nvPr/>
        </p:nvPicPr>
        <p:blipFill>
          <a:blip r:embed="rId1"/>
          <a:stretch/>
        </p:blipFill>
        <p:spPr>
          <a:xfrm>
            <a:off x="5148360" y="1413000"/>
            <a:ext cx="36399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9T16:55:23Z</dcterms:created>
  <dc:creator>Pablo Turmero</dc:creator>
  <dc:description/>
  <dc:language>en-US</dc:language>
  <cp:lastModifiedBy>Pablo Turmero</cp:lastModifiedBy>
  <dcterms:modified xsi:type="dcterms:W3CDTF">2015-04-15T17:18:56Z</dcterms:modified>
  <cp:revision>21</cp:revision>
  <dc:subject/>
  <dc:title>TIRISTORES</dc:title>
</cp:coreProperties>
</file>