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32.jpeg" ContentType="image/jpeg"/>
  <Override PartName="/ppt/media/image16.png" ContentType="image/png"/>
  <Override PartName="/ppt/media/image25.wmf" ContentType="image/x-wmf"/>
  <Override PartName="/ppt/media/image2.jpeg" ContentType="image/jpeg"/>
  <Override PartName="/ppt/media/image5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9.jpeg" ContentType="image/jpeg"/>
  <Override PartName="/ppt/media/image33.jpeg" ContentType="image/jpeg"/>
  <Override PartName="/ppt/media/image42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3.png" ContentType="image/png"/>
  <Override PartName="/ppt/media/image53.jpeg" ContentType="image/jpeg"/>
  <Override PartName="/ppt/media/image45.jpeg" ContentType="image/jpeg"/>
  <Override PartName="/ppt/media/image55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1.jpeg" ContentType="image/jpeg"/>
  <Override PartName="/ppt/media/image54.jpeg" ContentType="image/jpeg"/>
  <Override PartName="/ppt/media/image56.jpeg" ContentType="image/jpeg"/>
  <Override PartName="/ppt/media/image10.jpeg" ContentType="image/jpeg"/>
  <Override PartName="/ppt/media/image5.gif" ContentType="image/gif"/>
  <Override PartName="/ppt/media/image28.png" ContentType="image/png"/>
  <Override PartName="/ppt/media/image38.jpeg" ContentType="image/jpeg"/>
  <Override PartName="/ppt/media/image34.jpeg" ContentType="image/jpeg"/>
  <Override PartName="/ppt/media/image44.gif" ContentType="image/gif"/>
  <Override PartName="/ppt/media/image37.png" ContentType="image/pn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9D8-B54B-4E5C-9467-2EE32BDB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4EE-6543-4D10-ACB2-AED1036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625B3-8AC5-472D-AE73-6CCFE51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1A6C-B47F-40B4-86FC-E68DB46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A994-60E7-4AB9-A9BC-F2D76EFB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6153F-1315-42B9-A42E-A63A039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1FA1B-6786-4BC6-934D-AAE7DA68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1ED6A-9361-4AB8-AC68-66DA3DE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9D14-85B4-46E9-953D-4387DE0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021E2-9154-4AA1-8F36-8A7A0335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F1922-66EB-4035-A2D8-60A7D631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BB7C0-EA29-4D96-B43C-DD996044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9A7-2513-49A2-888B-0803BCD8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66CC-EA63-4B1A-B758-1F0F788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57B09-8483-4390-B5B0-D2428DB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E45C2-A523-4578-B3CC-1A696627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28DF7-E1D9-4FC9-A90B-2453F7A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AFFF8-5E84-4779-94D7-AB3A5F48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52BD-F829-4D59-BB28-AF2EEDF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D952A-FAD2-426B-B78A-7F59C455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BCC8B-8E96-4E49-8016-74D9517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EC900-FA1E-4FEF-A981-EEC74A6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9C77E-5BE3-4638-A988-8DEEC9EF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256-7736-4781-BB74-6794CBBD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491F4-DEB2-46EE-859F-565BE9FD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59210-AC21-4625-A000-9A1507C5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E5C00-E129-401A-986F-54E8C12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E09C2-DC4D-4ECA-AB39-234371FC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FFF1-3CA5-4B31-A8BB-1FFE9C7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A3630-9809-4A89-8ADA-BC097B0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B5A2-22D3-4AFD-AABA-AD140F6D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6943-478C-44E9-9884-2DF356A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2FBCE-03D0-41C3-98ED-66F7CBF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7829-F5EE-4A92-8166-8DF7D1A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52DC-3ACF-4423-91AE-B921CF12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346AC-C6CB-4BF7-B85D-786FCD3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7A57A-9AB2-47CA-8BA1-F8B9F0F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2DBBE-A5D2-423C-83B1-9603E19C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CA4EB-0E27-457A-ACFE-E77AF893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E5CE1-FE36-4303-975B-4935CEAC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7B0B7-5F6F-4494-8055-1366AE7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D533-7AF3-4659-BF5F-EA4D16F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AEEB6-3FA9-47B0-B460-3138AEC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25E80-3034-4791-9EFE-0FB99B7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A4F81-C0C3-48C0-89F7-3224590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67C-75AE-49D8-AB18-F314B87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86566-3723-48E8-BC3D-B77A666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E2994-002A-4032-94C4-87CE678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7B0FA-FD1C-4EB2-A83C-431F18C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7E2D9-8788-405A-90E9-15B9D0F9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FC275-0653-4ADE-8F96-46C321B7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DC0D-D248-45AA-9D74-685B78D2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215-E1E8-4376-8158-E515891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8FCE-A06B-43B9-88B5-47973730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CCA-A817-4BBB-8BCB-DA5C76BB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A7F-169D-4539-BB07-E96E30D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008-CCC8-4C99-8DBA-304D1D8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3E94-BEA5-433D-9E3F-2C2E345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A1C-9A40-413F-8A28-444B33D0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DC78-B0DD-4A31-A86E-3F8A255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1BCE-FEDF-40C3-8718-26F4E9E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A718-7D82-469A-9BCA-E5CF4C69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003B-6B75-40C0-A5DE-C546DC67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1D05-448B-41BB-A9DA-3357F3F8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9C66-955E-45DB-8811-3D7677E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9E1F-EE3B-4993-81C8-A81D8B9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4901-AEBD-4EE5-9C05-9E5F963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CEC-ABD1-4384-A285-B2B8DAD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BA02-B85F-476C-A663-3F3D181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0582-1A0E-422D-B86B-C9154D8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1F33-D87B-4021-9C3A-0159258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4FCA-0BEB-44DA-80A9-FF5418B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581A-5CB6-49EF-9455-7AB38031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2408-03E7-46FB-948C-2941A1A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12BA-4C48-4957-A2EA-8F513C79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B921-AD1F-447B-8608-31070013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DB0D-B9B8-409F-981C-5C37BF2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161C-62FE-4BDE-865E-72AD51F1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55B-B929-44B3-9CBF-FB20BC1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37CA-FA89-4FF2-B614-8CDAB71F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CBFE-50E4-45BE-B509-A5A786C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FF4E-016B-488E-90DD-75523250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D449-679F-4672-8982-7317444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5CEB-84AC-45A6-851E-F4146A8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D8E6-404F-4F7F-98B0-9F40FC1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3A1D-8F7F-4BF3-81A7-D8F2D75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AB47-F6CF-4761-8BC4-3548A30F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AA2D-5ACC-47D7-90BF-FACE193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6564-CADB-4003-9637-8CDB1490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26D-EC04-45B3-9D47-B18011CE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1547-9C5F-41EB-9523-96F220B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FF30-ECDC-4625-9A7B-6EA9396D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8900-55C8-48EF-8464-B9319F3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9AC3-39D2-4FB3-B513-A293F658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23D5-AB16-43B6-A404-E89CE47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C61E-DEFF-4459-9DF4-1DB6A3C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739C-B8A4-4B6F-A272-EEB6109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D0B29-9BC2-4D1E-AC22-72127EB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32BA-3899-4452-9A0D-E5566B0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756E-9143-4C52-A305-428FC240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E4D-AC2E-48D9-BFEC-E20D611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6B5F-65C4-4E13-BAD9-AD215E2D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FA31-57F7-43BB-A805-42525F1C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10ECC-BCAE-407D-A196-E5E8A2F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E3AA-1CA0-4847-9976-8CBF2D1A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DEB6-6D8F-42BA-B080-99F0A6D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B2A43-20D4-4700-8A46-5B07F5B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8DC8-5D08-4B5F-A9F4-A8632B5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3957-89ED-43AC-822F-91EAD6D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FC7B-CC16-4B9F-B74E-A72B831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F1F3-6AD2-4592-A667-C1633C4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7CA-7563-4003-AF57-5F84CB2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A986-A4D3-42AA-A9B7-9164AD22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AE11-ACBA-4F84-95CA-20F7C210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0EF9-C5D8-4E9A-B32A-F9D436DE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3911-FB6B-414B-8065-880C05E7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45C2-C86B-4CFA-85C2-3AA18A6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2D03-F3A0-4F41-8F91-7800FCA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5727-B881-40E1-9898-464CEA8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2AFFD-2D6F-40BB-B7FD-C6F4AC9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20491-CE83-4321-87FB-7D3004DC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C4A9-349B-41B7-B41F-47DFC84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696-ECDD-4B52-ACB1-167F2B8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685C-1107-4FCB-95E6-87E7377D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D237-23EF-4394-B21A-96B5FD3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7C18-4C9B-4D3E-8C6F-4604A805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F3722-51D4-4145-A8D9-8E222912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E9BDF-606A-4E45-9B6B-A1975983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FFFC-A161-4DCD-B200-FFF11D54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D7F2-7928-4926-A6C6-C872716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93997-5EA5-4FF3-94C6-CCEE392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DF87D-5475-4472-B1A4-F1DAB40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36CC-3E00-4EDF-A822-54D4E69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176-8AD1-4D6E-BCFD-AD1F907C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BC9E6-50C4-4DFE-9709-4D4C764A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37C16-5FD5-4CF8-804D-C8CF8C1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41E9-144D-42A0-8DD1-27AE2BA0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000A-C207-4293-8A07-81006A7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86B77-B2D7-4531-8780-A49A9790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AD1A-278B-44DB-87A8-9631B84E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4F2A-8631-4D6F-9E35-8AFC17FC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F450A-7691-470B-8E08-23911A3F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A7351-8881-438C-AC84-8A9D967F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155EA-B0B0-4622-BC9B-16E3022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EAD8761B-D663-4A22-AE20-FD7F86C2D3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 rot="10800000">
            <a:off x="0" y="0"/>
            <a:ext cx="83664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c0c0c0"/>
                </a:solidFill>
                <a:latin typeface="Arial"/>
              </a:rPr>
              <a:t>    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500" spc="-1" strike="noStrike">
                <a:solidFill>
                  <a:srgbClr val="ffffff"/>
                </a:solidFill>
                <a:latin typeface="Arial"/>
              </a:rPr>
              <a:t>.P.S</a:t>
            </a:r>
            <a:r>
              <a:rPr b="0" lang="es-ES" sz="2500" spc="-1" strike="noStrike">
                <a:solidFill>
                  <a:srgbClr val="ffffff"/>
                </a:solidFill>
                <a:latin typeface="Arial Narrow"/>
              </a:rPr>
              <a:t>   Ingeniería Técnica Industrial: Esp.Electrón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Narrow"/>
              </a:rPr>
              <a:t>Electrónica de Potencia: Potencia y Armónic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C:\WINDOWS\Escritorio\Pruebas web\definiti 2\unicolor.jpg"/>
          <p:cNvPicPr/>
          <p:nvPr/>
        </p:nvPicPr>
        <p:blipFill>
          <a:blip r:embed="rId2"/>
          <a:stretch/>
        </p:blipFill>
        <p:spPr>
          <a:xfrm>
            <a:off x="380880" y="0"/>
            <a:ext cx="457200" cy="44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2BE41CB5-84C3-4DFF-B04D-A31364786C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D0A18EBD-6537-4A9F-8761-AA79850175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C3CDAB85-DCB9-4164-AF3C-A7A3101D4E9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2F2AC08B-2C7F-4854-8008-48BE151C50E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22DC5B61-10AE-405C-9E94-0C9DC7210D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3CF92AB2-ADD4-4DF9-824D-FB0D3569EE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52C098C4-CCDC-433E-BD0F-9EEBAD645C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FA7DDF86-96E8-4683-80FA-5E56EBC193F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D278AE33-A4ED-45A4-9E18-015AEB5A708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6A3A372C-6921-4383-B038-DD5A871D82D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f. Aguilar P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mónicos </a:t>
            </a:r>
            <a:fld id="{F3BE4451-FC94-4A5F-9482-73D96596293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257480" y="958680"/>
            <a:ext cx="6629400" cy="19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Arial"/>
              </a:rPr>
              <a:t>POTENCIA Y ARMÓNIC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C:\WINDOWS\Escritorio\armoinicos\Image31.jpg"/>
          <p:cNvPicPr/>
          <p:nvPr/>
        </p:nvPicPr>
        <p:blipFill>
          <a:blip r:embed="rId1"/>
          <a:stretch/>
        </p:blipFill>
        <p:spPr>
          <a:xfrm>
            <a:off x="1332000" y="3355920"/>
            <a:ext cx="2789280" cy="1521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C:\WINDOWS\Escritorio\armoinicos\Image32.jpg"/>
          <p:cNvPicPr/>
          <p:nvPr/>
        </p:nvPicPr>
        <p:blipFill>
          <a:blip r:embed="rId2"/>
          <a:stretch/>
        </p:blipFill>
        <p:spPr>
          <a:xfrm>
            <a:off x="5940360" y="1413000"/>
            <a:ext cx="28195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16"/>
          <p:cNvSpPr/>
          <p:nvPr/>
        </p:nvSpPr>
        <p:spPr>
          <a:xfrm>
            <a:off x="6400800" y="15228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Series 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8" descr="C:\Mis documentos\Mis imágenes\iconos\curso_4.gif"/>
          <p:cNvPicPr/>
          <p:nvPr/>
        </p:nvPicPr>
        <p:blipFill>
          <a:blip r:embed="rId1"/>
          <a:stretch/>
        </p:blipFill>
        <p:spPr>
          <a:xfrm>
            <a:off x="1219320" y="304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9"/>
          <p:cNvSpPr/>
          <p:nvPr/>
        </p:nvSpPr>
        <p:spPr>
          <a:xfrm>
            <a:off x="2133720" y="6094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orqué es interesante en electrónica de Pote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6172200" y="990720"/>
            <a:ext cx="1371600" cy="609480"/>
          </a:xfrm>
          <a:custGeom>
            <a:avLst/>
            <a:gdLst>
              <a:gd name="textAreaLeft" fmla="*/ 0 w 1371600"/>
              <a:gd name="textAreaRight" fmla="*/ 1175760 w 1371600"/>
              <a:gd name="textAreaTop" fmla="*/ 40644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1"/>
          <p:cNvSpPr/>
          <p:nvPr/>
        </p:nvSpPr>
        <p:spPr>
          <a:xfrm>
            <a:off x="1219320" y="1752480"/>
            <a:ext cx="5181480" cy="824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forma de onda periódica no sinusoidal puede describirse mediante una serie de Fourier de señales sinus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2" descr="C:\WINDOWS\Escritorio\armoinicos\fp5.bmp"/>
          <p:cNvPicPr/>
          <p:nvPr/>
        </p:nvPicPr>
        <p:blipFill>
          <a:blip r:embed="rId2"/>
          <a:stretch/>
        </p:blipFill>
        <p:spPr>
          <a:xfrm>
            <a:off x="1143000" y="2819520"/>
            <a:ext cx="5029200" cy="3520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3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419200" cy="1355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4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89548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C:\WINDOWS\Escritorio\armoinicos\Image9.jpg"/>
          <p:cNvPicPr/>
          <p:nvPr/>
        </p:nvPicPr>
        <p:blipFill>
          <a:blip r:embed="rId1"/>
          <a:stretch/>
        </p:blipFill>
        <p:spPr>
          <a:xfrm>
            <a:off x="990720" y="1066680"/>
            <a:ext cx="7924680" cy="488340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arga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D:\armonicos\10.bmp"/>
          <p:cNvPicPr/>
          <p:nvPr/>
        </p:nvPicPr>
        <p:blipFill>
          <a:blip r:embed="rId2"/>
          <a:stretch/>
        </p:blipFill>
        <p:spPr>
          <a:xfrm>
            <a:off x="4648320" y="23623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arga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C:\WINDOWS\Escritorio\armoinicos\Image12.jpg"/>
          <p:cNvPicPr/>
          <p:nvPr/>
        </p:nvPicPr>
        <p:blipFill>
          <a:blip r:embed="rId1"/>
          <a:stretch/>
        </p:blipFill>
        <p:spPr>
          <a:xfrm>
            <a:off x="1066680" y="1295280"/>
            <a:ext cx="76964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WINDOWS\Escritorio\armoinicos\Image10.jpg"/>
          <p:cNvPicPr/>
          <p:nvPr/>
        </p:nvPicPr>
        <p:blipFill>
          <a:blip r:embed="rId1"/>
          <a:stretch/>
        </p:blipFill>
        <p:spPr>
          <a:xfrm>
            <a:off x="1981080" y="0"/>
            <a:ext cx="6705720" cy="4552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C:\WINDOWS\Escritorio\armoinicos\Image14.jpg"/>
          <p:cNvPicPr/>
          <p:nvPr/>
        </p:nvPicPr>
        <p:blipFill>
          <a:blip r:embed="rId2"/>
          <a:stretch/>
        </p:blipFill>
        <p:spPr>
          <a:xfrm>
            <a:off x="838080" y="2895480"/>
            <a:ext cx="3722760" cy="357516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4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arga no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arga no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C:\WINDOWS\Escritorio\armoinicos\filtroc.bmp"/>
          <p:cNvPicPr/>
          <p:nvPr/>
        </p:nvPicPr>
        <p:blipFill>
          <a:blip r:embed="rId1"/>
          <a:stretch/>
        </p:blipFill>
        <p:spPr>
          <a:xfrm>
            <a:off x="1219320" y="1251000"/>
            <a:ext cx="71625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2"/>
          <p:cNvSpPr/>
          <p:nvPr/>
        </p:nvSpPr>
        <p:spPr>
          <a:xfrm>
            <a:off x="2971800" y="228600"/>
            <a:ext cx="58672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vertidores estáticos:Carga no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C:\WINDOWS\Escritorio\armoinicos\fp8.bmp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4473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4297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/>
          <p:cNvSpPr/>
          <p:nvPr/>
        </p:nvSpPr>
        <p:spPr>
          <a:xfrm>
            <a:off x="2895480" y="304920"/>
            <a:ext cx="5867640" cy="685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vertidores estáticos:Carga no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C:\WINDOWS\Escritorio\armoinicos\fp9.bmp"/>
          <p:cNvPicPr/>
          <p:nvPr/>
        </p:nvPicPr>
        <p:blipFill>
          <a:blip r:embed="rId1"/>
          <a:stretch/>
        </p:blipFill>
        <p:spPr>
          <a:xfrm>
            <a:off x="514440" y="1009800"/>
            <a:ext cx="8115120" cy="4838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C:\WINDOWS\Escritorio\armoinicos\10s.bmp"/>
          <p:cNvPicPr/>
          <p:nvPr/>
        </p:nvPicPr>
        <p:blipFill>
          <a:blip r:embed="rId2"/>
          <a:stretch/>
        </p:blipFill>
        <p:spPr>
          <a:xfrm>
            <a:off x="838080" y="327672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1523880" y="228600"/>
            <a:ext cx="731520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limentación electrónica lamparas: Carga no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" descr="C:\Mis documentos\Temarios_exam\adoceneia\VARIOS_armonicos\armoinicos\nuevas\z_Image1.jpg"/>
          <p:cNvPicPr/>
          <p:nvPr/>
        </p:nvPicPr>
        <p:blipFill>
          <a:blip r:embed="rId1"/>
          <a:stretch/>
        </p:blipFill>
        <p:spPr>
          <a:xfrm>
            <a:off x="990720" y="1219320"/>
            <a:ext cx="788832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143000" y="1447920"/>
                <a:ext cx="586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572" name="Object 3"/>
          <p:cNvGraphicFramePr/>
          <p:nvPr/>
        </p:nvGraphicFramePr>
        <p:xfrm>
          <a:off x="3809880" y="1066680"/>
          <a:ext cx="489600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066680"/>
                    <a:ext cx="48960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4"/>
          <p:cNvSpPr/>
          <p:nvPr/>
        </p:nvSpPr>
        <p:spPr>
          <a:xfrm>
            <a:off x="838080" y="914400"/>
            <a:ext cx="359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 Periód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"/>
          <p:cNvSpPr/>
          <p:nvPr/>
        </p:nvSpPr>
        <p:spPr>
          <a:xfrm>
            <a:off x="6400800" y="15228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Series 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6"/>
              <p:cNvSpPr txBox="1"/>
              <p:nvPr/>
            </p:nvSpPr>
            <p:spPr>
              <a:xfrm>
                <a:off x="1447920" y="2286000"/>
                <a:ext cx="441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7"/>
              <p:cNvSpPr txBox="1"/>
              <p:nvPr/>
            </p:nvSpPr>
            <p:spPr>
              <a:xfrm>
                <a:off x="1371600" y="2971800"/>
                <a:ext cx="601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8"/>
              <p:cNvSpPr txBox="1"/>
              <p:nvPr/>
            </p:nvSpPr>
            <p:spPr>
              <a:xfrm>
                <a:off x="1371600" y="3657600"/>
                <a:ext cx="5867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9"/>
              <p:cNvSpPr txBox="1"/>
              <p:nvPr/>
            </p:nvSpPr>
            <p:spPr>
              <a:xfrm>
                <a:off x="4724280" y="4495680"/>
                <a:ext cx="3657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¹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g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0" name="Text Box 10"/>
          <p:cNvSpPr/>
          <p:nvPr/>
        </p:nvSpPr>
        <p:spPr>
          <a:xfrm>
            <a:off x="5638680" y="2286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1"/>
          <p:cNvSpPr/>
          <p:nvPr/>
        </p:nvSpPr>
        <p:spPr>
          <a:xfrm>
            <a:off x="5791320" y="2362320"/>
            <a:ext cx="304560" cy="304560"/>
          </a:xfrm>
          <a:prstGeom prst="lef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5791320" y="2362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me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1143000" y="152280"/>
            <a:ext cx="5181480" cy="824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forma de onda periódica no sinusoidal puede describirse mediante una serie de Fourier de señales sinus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4"/>
          <p:cNvSpPr/>
          <p:nvPr/>
        </p:nvSpPr>
        <p:spPr>
          <a:xfrm>
            <a:off x="914400" y="1447920"/>
            <a:ext cx="66294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12952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nción ortog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9"/>
          <p:cNvSpPr/>
          <p:nvPr/>
        </p:nvSpPr>
        <p:spPr>
          <a:xfrm>
            <a:off x="1007280" y="1447920"/>
            <a:ext cx="81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4876920" y="2209680"/>
            <a:ext cx="35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: el periodo de la  función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9"/>
          <p:cNvGrpSpPr/>
          <p:nvPr/>
        </p:nvGrpSpPr>
        <p:grpSpPr>
          <a:xfrm>
            <a:off x="1371600" y="838080"/>
            <a:ext cx="5389560" cy="1897200"/>
            <a:chOff x="1371600" y="838080"/>
            <a:chExt cx="5389560" cy="1897200"/>
          </a:xfrm>
        </p:grpSpPr>
        <p:graphicFrame>
          <p:nvGraphicFramePr>
            <p:cNvPr id="589" name="Object 17"/>
            <p:cNvGraphicFramePr/>
            <p:nvPr/>
          </p:nvGraphicFramePr>
          <p:xfrm>
            <a:off x="1371600" y="838080"/>
            <a:ext cx="4732200" cy="8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838080"/>
                      <a:ext cx="473220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Object 21"/>
            <p:cNvGraphicFramePr/>
            <p:nvPr/>
          </p:nvGraphicFramePr>
          <p:xfrm>
            <a:off x="5094360" y="1852560"/>
            <a:ext cx="1666800" cy="33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94360" y="1852560"/>
                      <a:ext cx="16668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Object 23"/>
            <p:cNvGraphicFramePr/>
            <p:nvPr/>
          </p:nvGraphicFramePr>
          <p:xfrm>
            <a:off x="2152800" y="2361960"/>
            <a:ext cx="3047760" cy="37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4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52800" y="2361960"/>
                      <a:ext cx="30477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5" name="Object 24"/>
            <p:cNvGraphicFramePr/>
            <p:nvPr/>
          </p:nvGraphicFramePr>
          <p:xfrm>
            <a:off x="2235240" y="1788840"/>
            <a:ext cx="2566800" cy="49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6" name="Object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35240" y="1788840"/>
                      <a:ext cx="25668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7" name="Group 38"/>
          <p:cNvGrpSpPr/>
          <p:nvPr/>
        </p:nvGrpSpPr>
        <p:grpSpPr>
          <a:xfrm>
            <a:off x="1219320" y="3200400"/>
            <a:ext cx="5661000" cy="2011320"/>
            <a:chOff x="1219320" y="3200400"/>
            <a:chExt cx="5661000" cy="2011320"/>
          </a:xfrm>
        </p:grpSpPr>
        <mc:AlternateContent>
          <mc:Choice xmlns:a14="http://schemas.microsoft.com/office/drawing/2010/main" Requires="a14">
            <p:sp>
              <p:nvSpPr>
                <p:cNvPr id="598" name="Object 33"/>
                <p:cNvSpPr txBox="1"/>
                <p:nvPr/>
              </p:nvSpPr>
              <p:spPr>
                <a:xfrm>
                  <a:off x="1219320" y="3200400"/>
                  <a:ext cx="52750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99" name="Object 34"/>
            <p:cNvGraphicFramePr/>
            <p:nvPr/>
          </p:nvGraphicFramePr>
          <p:xfrm>
            <a:off x="5213160" y="4216320"/>
            <a:ext cx="1667160" cy="33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0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13160" y="4216320"/>
                      <a:ext cx="1667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01" name="Object 36"/>
                <p:cNvSpPr txBox="1"/>
                <p:nvPr/>
              </p:nvSpPr>
              <p:spPr>
                <a:xfrm>
                  <a:off x="2104920" y="4765680"/>
                  <a:ext cx="36482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02" name="Object 37"/>
            <p:cNvGraphicFramePr/>
            <p:nvPr/>
          </p:nvGraphicFramePr>
          <p:xfrm>
            <a:off x="2354400" y="4152960"/>
            <a:ext cx="2566800" cy="490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03" name="Object 3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4400" y="4152960"/>
                      <a:ext cx="25668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4" name="Rectangle 41"/>
          <p:cNvSpPr/>
          <p:nvPr/>
        </p:nvSpPr>
        <p:spPr>
          <a:xfrm>
            <a:off x="1066680" y="838080"/>
            <a:ext cx="632484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6400800" y="15228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Series 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42"/>
          <p:cNvSpPr/>
          <p:nvPr/>
        </p:nvSpPr>
        <p:spPr>
          <a:xfrm>
            <a:off x="990720" y="3124080"/>
            <a:ext cx="6400800" cy="213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43"/>
          <p:cNvSpPr/>
          <p:nvPr/>
        </p:nvSpPr>
        <p:spPr>
          <a:xfrm>
            <a:off x="7620120" y="1295280"/>
            <a:ext cx="1143000" cy="25146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4"/>
          <p:cNvSpPr/>
          <p:nvPr/>
        </p:nvSpPr>
        <p:spPr>
          <a:xfrm>
            <a:off x="1295280" y="152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 fo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55"/>
          <p:cNvGrpSpPr/>
          <p:nvPr/>
        </p:nvGrpSpPr>
        <p:grpSpPr>
          <a:xfrm>
            <a:off x="1371960" y="5410080"/>
            <a:ext cx="6873840" cy="1026360"/>
            <a:chOff x="1371960" y="5410080"/>
            <a:chExt cx="6873840" cy="1026360"/>
          </a:xfrm>
        </p:grpSpPr>
        <p:grpSp>
          <p:nvGrpSpPr>
            <p:cNvPr id="610" name="Group 45"/>
            <p:cNvGrpSpPr/>
            <p:nvPr/>
          </p:nvGrpSpPr>
          <p:grpSpPr>
            <a:xfrm>
              <a:off x="1371960" y="5410080"/>
              <a:ext cx="6873840" cy="1026360"/>
              <a:chOff x="1371960" y="5410080"/>
              <a:chExt cx="6873840" cy="1026360"/>
            </a:xfrm>
          </p:grpSpPr>
          <p:graphicFrame>
            <p:nvGraphicFramePr>
              <p:cNvPr id="611" name="Object 46"/>
              <p:cNvGraphicFramePr/>
              <p:nvPr/>
            </p:nvGraphicFramePr>
            <p:xfrm>
              <a:off x="3424680" y="5414040"/>
              <a:ext cx="1842480" cy="2383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12" name="Object 4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24680" y="5414040"/>
                        <a:ext cx="1842480" cy="23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13" name="Object 47"/>
              <p:cNvGraphicFramePr/>
              <p:nvPr/>
            </p:nvGraphicFramePr>
            <p:xfrm>
              <a:off x="3220200" y="5718240"/>
              <a:ext cx="1976400" cy="2631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614" name="Object 47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220200" y="5718240"/>
                        <a:ext cx="1976400" cy="26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15" name="Object 48"/>
              <p:cNvGraphicFramePr/>
              <p:nvPr/>
            </p:nvGraphicFramePr>
            <p:xfrm>
              <a:off x="3361320" y="6113520"/>
              <a:ext cx="2854440" cy="197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616" name="Object 48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361320" y="6113520"/>
                        <a:ext cx="2854440" cy="1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7" name="Rectangle 49"/>
              <p:cNvSpPr/>
              <p:nvPr/>
            </p:nvSpPr>
            <p:spPr>
              <a:xfrm>
                <a:off x="1371960" y="5410080"/>
                <a:ext cx="1309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Función par: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50"/>
              <p:cNvSpPr/>
              <p:nvPr/>
            </p:nvSpPr>
            <p:spPr>
              <a:xfrm>
                <a:off x="1384560" y="5718240"/>
                <a:ext cx="1524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Función impar: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51"/>
              <p:cNvSpPr/>
              <p:nvPr/>
            </p:nvSpPr>
            <p:spPr>
              <a:xfrm>
                <a:off x="1385280" y="6047280"/>
                <a:ext cx="21106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Simetría media onda: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52"/>
              <p:cNvSpPr/>
              <p:nvPr/>
            </p:nvSpPr>
            <p:spPr>
              <a:xfrm>
                <a:off x="5551560" y="5718240"/>
                <a:ext cx="22006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( no términos coseno )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53"/>
              <p:cNvSpPr/>
              <p:nvPr/>
            </p:nvSpPr>
            <p:spPr>
              <a:xfrm>
                <a:off x="6185160" y="5981760"/>
                <a:ext cx="206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( no par armónicos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)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Rectangle 54"/>
            <p:cNvSpPr/>
            <p:nvPr/>
          </p:nvSpPr>
          <p:spPr>
            <a:xfrm>
              <a:off x="5641200" y="5410080"/>
              <a:ext cx="1985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( no términos seno 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371600" y="1295280"/>
            <a:ext cx="73152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t,D. Electrónica de Potencia. Prentice Hall.20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ic Felice; Perturbaciones armónicas. Paraninfo 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val,J. Marcos, J; Potencia E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rica y factor de potencia: Medida de las componentes con osciloscopios digitales. Mundo Electrónico. Mayo 20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illaga,J; Eguiluz,L.I; Armónicos en sistemas de potencia. Universidad de Cantabria. Electrica Vies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ez,A,A y otros; La amenaza de los armónicos y sus soluciones. Paraninfo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1066680" y="1219320"/>
            <a:ext cx="7315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295280" y="3886200"/>
            <a:ext cx="7086600" cy="609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229600" cy="50054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914400" y="2895480"/>
            <a:ext cx="731520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914400" y="1752480"/>
            <a:ext cx="23623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ou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914400" y="1325520"/>
            <a:ext cx="82296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3706920" y="2446200"/>
                <a:ext cx="2808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191120" cy="21160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2"/>
          <p:cNvSpPr/>
          <p:nvPr/>
        </p:nvSpPr>
        <p:spPr>
          <a:xfrm>
            <a:off x="4724280" y="76320"/>
            <a:ext cx="419112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Ondas periódicas no sinusoid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C:\Mis documentos\Mis imágenes\borrar\Image4.jpg"/>
          <p:cNvPicPr/>
          <p:nvPr/>
        </p:nvPicPr>
        <p:blipFill>
          <a:blip r:embed="rId2"/>
          <a:stretch/>
        </p:blipFill>
        <p:spPr>
          <a:xfrm>
            <a:off x="5029200" y="762120"/>
            <a:ext cx="3276720" cy="1279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C:\Mis documentos\Mis imágenes\borrar\Image5.jpg"/>
          <p:cNvPicPr/>
          <p:nvPr/>
        </p:nvPicPr>
        <p:blipFill>
          <a:blip r:embed="rId3"/>
          <a:stretch/>
        </p:blipFill>
        <p:spPr>
          <a:xfrm>
            <a:off x="3733920" y="2209680"/>
            <a:ext cx="20955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C:\Mis documentos\Mis imágenes\borrar\Image6.jpg"/>
          <p:cNvPicPr/>
          <p:nvPr/>
        </p:nvPicPr>
        <p:blipFill>
          <a:blip r:embed="rId4"/>
          <a:stretch/>
        </p:blipFill>
        <p:spPr>
          <a:xfrm>
            <a:off x="5791320" y="2209680"/>
            <a:ext cx="2771640" cy="628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3" descr="C:\Mis documentos\Mis imágenes\borrar\Image7.jpg"/>
          <p:cNvPicPr/>
          <p:nvPr/>
        </p:nvPicPr>
        <p:blipFill>
          <a:blip r:embed="rId5"/>
          <a:stretch/>
        </p:blipFill>
        <p:spPr>
          <a:xfrm>
            <a:off x="1676520" y="3124080"/>
            <a:ext cx="5467320" cy="771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C:\Mis documentos\Mis imágenes\borrar\Image8.jpg"/>
          <p:cNvPicPr/>
          <p:nvPr/>
        </p:nvPicPr>
        <p:blipFill>
          <a:blip r:embed="rId6"/>
          <a:stretch/>
        </p:blipFill>
        <p:spPr>
          <a:xfrm>
            <a:off x="1600200" y="3962520"/>
            <a:ext cx="6039000" cy="218124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6"/>
          <p:cNvSpPr/>
          <p:nvPr/>
        </p:nvSpPr>
        <p:spPr>
          <a:xfrm>
            <a:off x="1905120" y="5638680"/>
            <a:ext cx="33526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3706920" y="2446200"/>
                <a:ext cx="2808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9" name="AutoShape 4"/>
          <p:cNvSpPr/>
          <p:nvPr/>
        </p:nvSpPr>
        <p:spPr>
          <a:xfrm>
            <a:off x="4724280" y="76320"/>
            <a:ext cx="419112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Ondas periódicas no sinusoid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6705720" cy="11635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5257800" cy="111456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1295280" y="1981080"/>
            <a:ext cx="7467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presión similar para la corri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armónicos siempre incrementan el rms val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mónicos no necesariamente incrementan la potencia 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incrementan las pérdi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11" descr="C:\Mis documentos\Temarios_exam\adoceneia\VARIOS_armonicos\armoinicos\nuevas\z_Image7.jpg"/>
          <p:cNvPicPr/>
          <p:nvPr/>
        </p:nvPicPr>
        <p:blipFill>
          <a:blip r:embed="rId1"/>
          <a:stretch/>
        </p:blipFill>
        <p:spPr>
          <a:xfrm>
            <a:off x="990720" y="703440"/>
            <a:ext cx="78105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C:\Mis documentos\Temarios_exam\adoceneia\VARIOS_armonicos\armoinicos\nuevas\z_Image8.jpg"/>
          <p:cNvPicPr/>
          <p:nvPr/>
        </p:nvPicPr>
        <p:blipFill>
          <a:blip r:embed="rId1"/>
          <a:stretch/>
        </p:blipFill>
        <p:spPr>
          <a:xfrm>
            <a:off x="1066680" y="789120"/>
            <a:ext cx="78822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Mis documentos\Temarios_exam\adoceneia\VARIOS_armonicos\armoinicos\nuevas\z_Image9.jpg"/>
          <p:cNvPicPr/>
          <p:nvPr/>
        </p:nvPicPr>
        <p:blipFill>
          <a:blip r:embed="rId1"/>
          <a:stretch/>
        </p:blipFill>
        <p:spPr>
          <a:xfrm>
            <a:off x="1143000" y="380880"/>
            <a:ext cx="7391520" cy="27133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C:\WINDOWS\Escritorio\armoinicos\Image17.jpg"/>
          <p:cNvPicPr/>
          <p:nvPr/>
        </p:nvPicPr>
        <p:blipFill>
          <a:blip r:embed="rId2"/>
          <a:stretch/>
        </p:blipFill>
        <p:spPr>
          <a:xfrm>
            <a:off x="1371600" y="3200400"/>
            <a:ext cx="7010280" cy="2998800"/>
          </a:xfrm>
          <a:prstGeom prst="rect">
            <a:avLst/>
          </a:prstGeom>
          <a:ln w="0">
            <a:noFill/>
          </a:ln>
        </p:spPr>
      </p:pic>
      <p:cxnSp>
        <p:nvCxnSpPr>
          <p:cNvPr id="647" name="AutoShape 4"/>
          <p:cNvCxnSpPr/>
          <p:nvPr/>
        </p:nvCxnSpPr>
        <p:spPr>
          <a:xfrm>
            <a:off x="990360" y="3047760"/>
            <a:ext cx="75445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5"/>
          <p:cNvSpPr/>
          <p:nvPr/>
        </p:nvSpPr>
        <p:spPr>
          <a:xfrm>
            <a:off x="1219320" y="304920"/>
            <a:ext cx="754380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uente no sinusoidal y carga line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219320" y="1219320"/>
            <a:ext cx="746748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 se aplica una tensión periódica no sinusoidal a una carga que sea una combinación de elementos lineales, la potencia absorbida por la carga puede determinarse utilizando el principio de superposició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a tensión periódica no sinusoidal es equivalente a la combinación en serie de las tensiones de la correspondiente serie de Fouri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corriente la calculamos aplicando superposición y se puede aplicar la ecuación anteri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4267080" cy="717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2819520" cy="70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2" name="Object 9"/>
              <p:cNvSpPr txBox="1"/>
              <p:nvPr/>
            </p:nvSpPr>
            <p:spPr>
              <a:xfrm>
                <a:off x="2895480" y="4800600"/>
                <a:ext cx="1752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Text Box 11"/>
          <p:cNvSpPr/>
          <p:nvPr/>
        </p:nvSpPr>
        <p:spPr>
          <a:xfrm>
            <a:off x="2514600" y="56386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 página 45 H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2" descr="C:\Mis documentos\Mis imágenes\iconos\ejemplo.gif"/>
          <p:cNvPicPr/>
          <p:nvPr/>
        </p:nvPicPr>
        <p:blipFill>
          <a:blip r:embed="rId3"/>
          <a:stretch/>
        </p:blipFill>
        <p:spPr>
          <a:xfrm>
            <a:off x="1066680" y="5486400"/>
            <a:ext cx="1371600" cy="8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4495680" y="457200"/>
            <a:ext cx="4419720" cy="4572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Fuente sinusoidal y carga no lin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C:\Mis documentos\docencia\adoceneia\apuntes\armonicos\imagenes\Image10bis.jpg"/>
          <p:cNvPicPr/>
          <p:nvPr/>
        </p:nvPicPr>
        <p:blipFill>
          <a:blip r:embed="rId1"/>
          <a:stretch/>
        </p:blipFill>
        <p:spPr>
          <a:xfrm>
            <a:off x="1143000" y="380880"/>
            <a:ext cx="2514600" cy="237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7" name="Object 5"/>
              <p:cNvSpPr txBox="1"/>
              <p:nvPr/>
            </p:nvSpPr>
            <p:spPr>
              <a:xfrm>
                <a:off x="4038480" y="1143000"/>
                <a:ext cx="426744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w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rb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6"/>
              <p:cNvSpPr txBox="1"/>
              <p:nvPr/>
            </p:nvSpPr>
            <p:spPr>
              <a:xfrm>
                <a:off x="1066680" y="3733920"/>
                <a:ext cx="7400880" cy="26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d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 único término distinto de cero es el de la correspondiente a la frecuencia aplicad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rms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I</m:t>
                            </m:r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9" name="Rectangle 7"/>
          <p:cNvSpPr/>
          <p:nvPr/>
        </p:nvSpPr>
        <p:spPr>
          <a:xfrm>
            <a:off x="3886200" y="1066680"/>
            <a:ext cx="388620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4038480" y="266688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1143000" y="51814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400800" y="4724280"/>
            <a:ext cx="19051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AutoShape 4"/>
          <p:cNvSpPr/>
          <p:nvPr/>
        </p:nvSpPr>
        <p:spPr>
          <a:xfrm>
            <a:off x="4495680" y="228600"/>
            <a:ext cx="4419720" cy="4572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Fuente sinusoidal y carga no lineal 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990720" y="914400"/>
                <a:ext cx="7745400" cy="49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uando la intensidad es tambien sinusoidal  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tors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duc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ors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mónic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AT</m:t>
                        </m:r>
                        <m:r>
                          <m:t xml:space="preserve"> </m:t>
                        </m:r>
                        <m:r>
                          <m:t xml:space="preserve">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rm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nary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m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m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m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m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antifica la propiedad sinusoidal de una forma de ond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Relación entre el valor efica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 todos lo términos correspondientes a las frecuencias distintas del fundamental y el val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ficaz del término fundament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ando término continua es cero  </m:t>
                        </m:r>
                        <m:r>
                          <m:rPr>
                            <m:lit/>
                            <m:nor/>
                          </m:rPr>
                          <m:t xml:space="preserve">DAT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nary>
                              </m:e>
                            </m:rad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arent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rm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</m:e>
                        </m:rad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ed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c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5" name="Line 6"/>
          <p:cNvSpPr/>
          <p:nvPr/>
        </p:nvSpPr>
        <p:spPr>
          <a:xfrm>
            <a:off x="1066680" y="16002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990720" y="2743200"/>
            <a:ext cx="3352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914400" y="51814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4343400" y="51814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0"/>
          <p:cNvSpPr/>
          <p:nvPr/>
        </p:nvSpPr>
        <p:spPr>
          <a:xfrm>
            <a:off x="4343400" y="57913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6705720" y="579132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2" descr="C:\Mis documentos\Mis imágenes\iconos\ejemplo.gif"/>
          <p:cNvPicPr/>
          <p:nvPr/>
        </p:nvPicPr>
        <p:blipFill>
          <a:blip r:embed="rId1"/>
          <a:stretch/>
        </p:blipFill>
        <p:spPr>
          <a:xfrm>
            <a:off x="914400" y="5867280"/>
            <a:ext cx="13716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IND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tencia eléctrica y factor de po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ptos de repaso ( Four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ción de armónicos ( cargas no line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rmativa E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C:\Mis documentos\Temarios_exam\adoceneia\VARIOS_armonicos\armoinicos\10s.bmp"/>
          <p:cNvPicPr/>
          <p:nvPr/>
        </p:nvPicPr>
        <p:blipFill>
          <a:blip r:embed="rId1"/>
          <a:stretch/>
        </p:blipFill>
        <p:spPr>
          <a:xfrm>
            <a:off x="5410080" y="3048120"/>
            <a:ext cx="300204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actor 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C:\Mis documentos\Temarios_exam\adoceneia\VARIOS_armonicos\armoinicos\nuevas\z_Image2.jpg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6248520" y="2286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tretch/>
        </p:blipFill>
        <p:spPr>
          <a:xfrm>
            <a:off x="838080" y="1192320"/>
            <a:ext cx="792504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63072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5"/>
          <p:cNvSpPr/>
          <p:nvPr/>
        </p:nvSpPr>
        <p:spPr>
          <a:xfrm>
            <a:off x="6477120" y="3808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nda de tensión mas sonda de corrie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 flipH="1">
            <a:off x="5943240" y="685800"/>
            <a:ext cx="6094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705720" y="1066680"/>
            <a:ext cx="1371600" cy="218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1 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32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1 med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03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2 R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.14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>
            <a:off x="1447920" y="441972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3" descr=""/>
          <p:cNvPicPr/>
          <p:nvPr/>
        </p:nvPicPr>
        <p:blipFill>
          <a:blip r:embed="rId1"/>
          <a:stretch/>
        </p:blipFill>
        <p:spPr>
          <a:xfrm>
            <a:off x="914400" y="0"/>
            <a:ext cx="6402240" cy="66294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6705720" y="990720"/>
            <a:ext cx="2438280" cy="3803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étodo anterior empleado en cargas lineales no es válido en el caso de no lineales ( con componentes armónica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hemos disponer de un aparato que determine los armónicos en amplitud y f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5357520" cy="409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1066680" y="3276720"/>
            <a:ext cx="4446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actor 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3" descr="C:\Mis documentos\Temarios_exam\adoceneia\VARIOS_armonicos\armoinicos\Image15.jpg"/>
          <p:cNvPicPr/>
          <p:nvPr/>
        </p:nvPicPr>
        <p:blipFill>
          <a:blip r:embed="rId1"/>
          <a:stretch/>
        </p:blipFill>
        <p:spPr>
          <a:xfrm>
            <a:off x="5715000" y="1371600"/>
            <a:ext cx="3046320" cy="31258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4"/>
          <p:cNvSpPr/>
          <p:nvPr/>
        </p:nvSpPr>
        <p:spPr>
          <a:xfrm>
            <a:off x="914400" y="10666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K es un factor de desclasificación de los transformadores que indica cuanto se debe de reducir la potencia máxima de salida cuando existen armóni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"/>
          <p:cNvSpPr/>
          <p:nvPr/>
        </p:nvSpPr>
        <p:spPr>
          <a:xfrm>
            <a:off x="1143000" y="9144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6"/>
              <p:cNvSpPr txBox="1"/>
              <p:nvPr/>
            </p:nvSpPr>
            <p:spPr>
              <a:xfrm>
                <a:off x="1297080" y="3429000"/>
                <a:ext cx="13096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0" name="Text Box 7"/>
          <p:cNvSpPr/>
          <p:nvPr/>
        </p:nvSpPr>
        <p:spPr>
          <a:xfrm>
            <a:off x="1219320" y="4495680"/>
            <a:ext cx="47242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do secundario (1000KVA y K=1.2; entonces la máxima potencia a demandar es 833KVA*K=1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3048120" y="35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oxim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9"/>
          <p:cNvSpPr/>
          <p:nvPr/>
        </p:nvSpPr>
        <p:spPr>
          <a:xfrm>
            <a:off x="2819520" y="36576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1066680" y="5638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ula real viene dada por CENELEC en HD428.4 S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3276720" y="533520"/>
            <a:ext cx="5562360" cy="7617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Comic Sans MS"/>
              </a:rPr>
              <a:t>Efectos de los armónic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1447920" y="4495680"/>
            <a:ext cx="26668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8"/>
          <p:cNvSpPr/>
          <p:nvPr/>
        </p:nvSpPr>
        <p:spPr>
          <a:xfrm>
            <a:off x="990720" y="1600200"/>
            <a:ext cx="7848360" cy="36320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orrientes por el conductor neutro ( sobrecalentamiento de los cab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calentamiento de cables por efecto piel (señales de alta frecuenc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paros indeseados de interrupt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terías de condensadores ( resonancia. Amplificación armónic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oplamiento línea telefón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calentamiento transformador ( desclasificación ,aumento de 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3"/>
          <p:cNvSpPr/>
          <p:nvPr/>
        </p:nvSpPr>
        <p:spPr>
          <a:xfrm>
            <a:off x="1447920" y="4495680"/>
            <a:ext cx="26668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5" descr="C:\Mis documentos\Temarios_exam\adoceneia\VARIOS_armonicos\armoinicos\nuevas\z_Image20.jpg"/>
          <p:cNvPicPr/>
          <p:nvPr/>
        </p:nvPicPr>
        <p:blipFill>
          <a:blip r:embed="rId1"/>
          <a:stretch/>
        </p:blipFill>
        <p:spPr>
          <a:xfrm>
            <a:off x="960480" y="1371600"/>
            <a:ext cx="8183520" cy="42750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iente por el conductor neu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3"/>
          <p:cNvSpPr/>
          <p:nvPr/>
        </p:nvSpPr>
        <p:spPr>
          <a:xfrm>
            <a:off x="1447920" y="4495680"/>
            <a:ext cx="26668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4" descr="C:\Mis documentos\Temarios_exam\adoceneia\VARIOS_armonicos\armoinicos\nuevas\z_Image21.jpg"/>
          <p:cNvPicPr/>
          <p:nvPr/>
        </p:nvPicPr>
        <p:blipFill>
          <a:blip r:embed="rId1"/>
          <a:stretch/>
        </p:blipFill>
        <p:spPr>
          <a:xfrm>
            <a:off x="838080" y="609480"/>
            <a:ext cx="8305920" cy="427356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1143000" y="2057400"/>
            <a:ext cx="7620120" cy="1936080"/>
          </a:xfrm>
          <a:prstGeom prst="rect">
            <a:avLst/>
          </a:prstGeom>
          <a:solidFill>
            <a:srgbClr val="cc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 la carga es no equilibrada, queda claro la corriente circulante por el conductor neut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el caso de sistema equilibrado (intensidad por cada fase igual)  pero con carga no lineal, la corriente por el neut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6" descr=""/>
          <p:cNvPicPr/>
          <p:nvPr/>
        </p:nvPicPr>
        <p:blipFill>
          <a:blip r:embed="rId2"/>
          <a:stretch/>
        </p:blipFill>
        <p:spPr>
          <a:xfrm>
            <a:off x="2743200" y="4876920"/>
            <a:ext cx="3649680" cy="96192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7"/>
          <p:cNvSpPr/>
          <p:nvPr/>
        </p:nvSpPr>
        <p:spPr>
          <a:xfrm>
            <a:off x="2743200" y="4876920"/>
            <a:ext cx="358128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>
            <a:off x="1447920" y="4495680"/>
            <a:ext cx="26668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C:\Mis documentos\Temarios_exam\adoceneia\VARIOS_armonicos\armoinicos\Image2_2.jpg"/>
          <p:cNvPicPr/>
          <p:nvPr/>
        </p:nvPicPr>
        <p:blipFill>
          <a:blip r:embed="rId1"/>
          <a:stretch/>
        </p:blipFill>
        <p:spPr>
          <a:xfrm>
            <a:off x="762120" y="380880"/>
            <a:ext cx="83818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2"/>
          <p:cNvSpPr/>
          <p:nvPr/>
        </p:nvSpPr>
        <p:spPr>
          <a:xfrm>
            <a:off x="990720" y="1295280"/>
            <a:ext cx="81532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visamos los conceptos básicos sobre potencia prestando especial atención a los cálculos de potencia con corrientes y tensiones no sinus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tencia instantáne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a para cualquier dispositivo o circui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(t) + dispositivo que absorbe poten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(t) – dispositivo que cede poten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ergía o tra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(t) voltios, i(t) amperio, P(t) vatios, W en Jul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tencia medi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Promedio a lo largo del tiempo durante uno o mas periodos. Algunas veces también se llama potencia activa o potencia re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6172200" y="457200"/>
            <a:ext cx="22860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3124080" y="5181480"/>
            <a:ext cx="342900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4"/>
              <p:cNvSpPr txBox="1"/>
              <p:nvPr/>
            </p:nvSpPr>
            <p:spPr>
              <a:xfrm>
                <a:off x="6400800" y="2286000"/>
                <a:ext cx="117468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23"/>
              <p:cNvSpPr txBox="1"/>
              <p:nvPr/>
            </p:nvSpPr>
            <p:spPr>
              <a:xfrm>
                <a:off x="6248520" y="3657600"/>
                <a:ext cx="990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25"/>
              <p:cNvSpPr txBox="1"/>
              <p:nvPr/>
            </p:nvSpPr>
            <p:spPr>
              <a:xfrm>
                <a:off x="3733920" y="5181480"/>
                <a:ext cx="25225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0" name="Line 27"/>
          <p:cNvSpPr/>
          <p:nvPr/>
        </p:nvSpPr>
        <p:spPr>
          <a:xfrm>
            <a:off x="3962520" y="25909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8"/>
          <p:cNvSpPr/>
          <p:nvPr/>
        </p:nvSpPr>
        <p:spPr>
          <a:xfrm>
            <a:off x="4267080" y="41148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9"/>
          <p:cNvSpPr/>
          <p:nvPr/>
        </p:nvSpPr>
        <p:spPr>
          <a:xfrm>
            <a:off x="1219320" y="48006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2"/>
          <p:cNvSpPr/>
          <p:nvPr/>
        </p:nvSpPr>
        <p:spPr>
          <a:xfrm>
            <a:off x="1447920" y="4495680"/>
            <a:ext cx="26668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305920" cy="44388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C:\Mis documentos\Mis imágenes\iconos\ejemplo.gif"/>
          <p:cNvPicPr/>
          <p:nvPr/>
        </p:nvPicPr>
        <p:blipFill>
          <a:blip r:embed="rId2"/>
          <a:stretch/>
        </p:blipFill>
        <p:spPr>
          <a:xfrm>
            <a:off x="3581280" y="380880"/>
            <a:ext cx="16002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3" name="Object 5"/>
              <p:cNvSpPr txBox="1"/>
              <p:nvPr/>
            </p:nvSpPr>
            <p:spPr>
              <a:xfrm>
                <a:off x="1143000" y="1295280"/>
                <a:ext cx="7772400" cy="44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bin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nsió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iódicas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rb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bi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amien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ódico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ultiplicand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r</m:t>
                            </m:r>
                          </m:e>
                        </m:nary>
                        <m:r>
                          <m:t xml:space="preserve"> 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4" name="AutoShape 3"/>
          <p:cNvSpPr/>
          <p:nvPr/>
        </p:nvSpPr>
        <p:spPr>
          <a:xfrm>
            <a:off x="5943600" y="228600"/>
            <a:ext cx="281952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 en Bobi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990720" y="1219320"/>
            <a:ext cx="13716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7"/>
          <p:cNvSpPr/>
          <p:nvPr/>
        </p:nvSpPr>
        <p:spPr>
          <a:xfrm>
            <a:off x="4648320" y="4724280"/>
            <a:ext cx="533160" cy="381240"/>
          </a:xfrm>
          <a:prstGeom prst="leftArrow">
            <a:avLst>
              <a:gd name="adj1" fmla="val 50000"/>
              <a:gd name="adj2" fmla="val 349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1219320" y="2895480"/>
            <a:ext cx="7619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9"/>
          <p:cNvSpPr/>
          <p:nvPr/>
        </p:nvSpPr>
        <p:spPr>
          <a:xfrm>
            <a:off x="990720" y="4724280"/>
            <a:ext cx="342900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1295280" y="1447920"/>
                <a:ext cx="754380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ensado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rbid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ensad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amien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ódico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ultiplicand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r</m:t>
                            </m:r>
                          </m:e>
                        </m:nary>
                        <m:r>
                          <m:t xml:space="preserve"> 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ensad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ero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0" name="AutoShape 3"/>
          <p:cNvSpPr/>
          <p:nvPr/>
        </p:nvSpPr>
        <p:spPr>
          <a:xfrm>
            <a:off x="5562720" y="228600"/>
            <a:ext cx="320040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 Condens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1143000" y="1371600"/>
            <a:ext cx="13716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8305920" y="43434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1143000" y="4267080"/>
            <a:ext cx="281952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8"/>
          <p:cNvSpPr/>
          <p:nvPr/>
        </p:nvSpPr>
        <p:spPr>
          <a:xfrm>
            <a:off x="4191120" y="4876920"/>
            <a:ext cx="41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1027"/>
          <p:cNvSpPr/>
          <p:nvPr/>
        </p:nvSpPr>
        <p:spPr>
          <a:xfrm>
            <a:off x="6172200" y="228600"/>
            <a:ext cx="2209680" cy="762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Valor Efica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28"/>
          <p:cNvSpPr/>
          <p:nvPr/>
        </p:nvSpPr>
        <p:spPr>
          <a:xfrm>
            <a:off x="3352680" y="3429000"/>
            <a:ext cx="2743200" cy="160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30"/>
          <p:cNvSpPr/>
          <p:nvPr/>
        </p:nvSpPr>
        <p:spPr>
          <a:xfrm>
            <a:off x="914400" y="11430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bién conocido como cuadrático medio. Se basa en la potencia media entregada a una resistencia. Para una tensión periódica aplicada sobre una resistencia, la tensión eficaz se define como una tensión que proporciona la misma potencia media que la tensión continu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1031"/>
              <p:cNvSpPr txBox="1"/>
              <p:nvPr/>
            </p:nvSpPr>
            <p:spPr>
              <a:xfrm>
                <a:off x="1447920" y="1981080"/>
                <a:ext cx="662940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c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Text Box 1032"/>
          <p:cNvSpPr/>
          <p:nvPr/>
        </p:nvSpPr>
        <p:spPr>
          <a:xfrm>
            <a:off x="1066680" y="541008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olver: Valor rms de señal pulso, señal rectificada media onda, onda completa,triangul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2"/>
          <p:cNvSpPr/>
          <p:nvPr/>
        </p:nvSpPr>
        <p:spPr>
          <a:xfrm>
            <a:off x="6629400" y="228600"/>
            <a:ext cx="17524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Señales sen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5"/>
              <p:cNvSpPr txBox="1"/>
              <p:nvPr/>
            </p:nvSpPr>
            <p:spPr>
              <a:xfrm>
                <a:off x="1238400" y="1114560"/>
                <a:ext cx="7770600" cy="50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tilizan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 resultado de esta integral se puede obtener por deducció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l primer término es una función cosen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 la integral en un periodo vale cer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l segundo termino es una constan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 convenio las bobinas obsorben potencia reactiva positiva y los condensadores reactiva negativ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potencia compleja: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rms y Irms son magnitudes complejas que se expresan como fasor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magnitud y ángul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 Irms* 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 complejo conjugado de un fasor de corriente, lo que proporciona resultados coherentes con el conveni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 que la bobina absorbe potencia reactiv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Rectangle 8"/>
          <p:cNvSpPr/>
          <p:nvPr/>
        </p:nvSpPr>
        <p:spPr>
          <a:xfrm>
            <a:off x="990720" y="0"/>
            <a:ext cx="5486400" cy="94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lmente las tensiones y/o corrientes en los circuitos electrónicos de potencia no son sinusoidales. Sin embargo, una forma de onda periódica no sinusoidal puede representarse mediante una serie de Fourier de componentes sinusoidal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1066680" y="1066680"/>
            <a:ext cx="175284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>
            <a:off x="2895480" y="16765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1219320" y="25909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1143000" y="3276720"/>
            <a:ext cx="17524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>
            <a:off x="1219320" y="4038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1295280" y="464832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/>
          <p:cNvSpPr/>
          <p:nvPr/>
        </p:nvSpPr>
        <p:spPr>
          <a:xfrm>
            <a:off x="6629400" y="228600"/>
            <a:ext cx="1752480" cy="609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Potenc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Señales sen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2590920" y="5029200"/>
            <a:ext cx="594360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71600" y="1143000"/>
                <a:ext cx="7148520" cy="34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stantanea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dia o Activ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Unidad vatio 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eactiv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idad voltio-amperio reactiv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tencia Aparente 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idad voltio-amperi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potencia compleja: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otenci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tiv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otenci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parent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2" name="Picture 6" descr="C:\Mis documentos\Mis imágenes\iconos\CMCDNote.gif"/>
          <p:cNvPicPr/>
          <p:nvPr/>
        </p:nvPicPr>
        <p:blipFill>
          <a:blip r:embed="rId1"/>
          <a:stretch/>
        </p:blipFill>
        <p:spPr>
          <a:xfrm>
            <a:off x="1447920" y="4724280"/>
            <a:ext cx="1096920" cy="1143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2895480" y="502920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potencia compleja y el factor de potencia dadas aquí no es aplicable a señales no sinusoid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1295280" y="1143000"/>
            <a:ext cx="19051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21:13:06Z</dcterms:created>
  <dc:creator>Pablo Turmero</dc:creator>
  <dc:description/>
  <dc:language>en-US</dc:language>
  <cp:lastModifiedBy>Pablo Turmero</cp:lastModifiedBy>
  <dcterms:modified xsi:type="dcterms:W3CDTF">2015-02-10T21:43:09Z</dcterms:modified>
  <cp:revision>83</cp:revision>
  <dc:subject/>
  <dc:title/>
</cp:coreProperties>
</file>