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0E2D7-CD37-4A4B-B9FD-6933794E0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38260-77FA-4F55-A0E5-E01BB0970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ACC9B4-29F1-415D-828C-2287850F9E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B549D-97B9-463D-A0DF-56F35FA48B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4BE0AD-0CD8-4780-86CD-E1531ED7C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4EBEE-10E1-4EC5-9CE0-19988D588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ADA27-B546-444E-8C89-046EB3F792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3CAAB5-9B8A-457C-BF5D-829DC11BA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610DF-E83F-4EB9-BF91-FD984450E3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4804D9-A3BC-4CFE-BF64-D41BD0BAF4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63D8E9-8BE8-42C8-B21F-7DCA51C034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A8570C-B8E7-4E7E-989A-5E14210BFE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EBFF3-FA7D-49C8-8C86-6DDCBC9A1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34E8D1-BF9B-43AC-BF24-E699B4A90E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92E85C-B0A5-4DD8-A0EC-602C84735B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46E094-7EFA-47DF-8C91-105CEAA445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877D9A-46E7-4942-B2F6-F484C76352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2DC594-E9A2-4EA4-BCD0-381DF55618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ACB4E5-AA62-4F71-BD01-9E2D3FC377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0D251E-FB09-4A67-9C66-38D1505FCC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D25EE4-8501-4F68-9834-EC38F4F8D3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317083-A7BF-4867-9DA0-D00433006C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A847D2-267F-4D25-B9F5-D70488B50E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CBC68-EEF5-4E90-B69B-78B5C73FF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9579A0-2FD1-4CD3-A5B5-74F004190D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EFDF71-29C8-49CF-BE0C-0611ACDE15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FAA841-241A-4BA1-98AD-0EA71C7373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344809-4CFA-491F-BBF5-FE73BEF712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1C9BF0-0685-4652-BFA6-E6A87A535F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BA3C56-C8A9-4231-A856-B664D68CD6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917D79-D3DB-4B91-8023-F0C38D6690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2DBF03-F1DD-478F-AFA2-B241B98B50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9300D5-22F1-4CDC-9C50-63F53F3EBA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908CDE-9980-461A-B967-636D419E6B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E8653-1A95-4AAF-A5F6-2E52726CC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05210A-775C-4121-AEE3-C52B1ABA9F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344FC9-38EE-4A17-BF0A-DB95888701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22FA80-7595-44EB-BD3B-17BFF68C3F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63C390-3907-49BF-A150-D57BC885F5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120CA9-738D-49E2-B6FB-9AE3C0B337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4BB89C-F2CF-40FF-B47B-F3AFF65525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872262-FB71-41AE-8912-DDE472797F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C09135-411F-400D-84F6-6A9BB8EB11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EFB51C-5B84-4C74-A38F-8B21271502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D1AC4C-3010-40DF-B678-80DF93B2F5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3D698-27DA-4DDA-B120-B58D7E014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53F5E5-D5F6-401F-9A82-9F9958DA68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7A766D-5922-479C-9A7D-F6932E9476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81C9A8-CB81-4186-86FB-1D9516A0D4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A6E376-608D-40A7-B258-ED4E264C9C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CB1D47-6714-46FB-9807-9F9B8B8D36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404DEB-3D08-4A60-AB96-ED1D140F68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D965CE-A17F-41F5-9B3F-297F04ADA0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98E108-6978-458B-B768-8778460417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614726-E2D5-4795-A2D8-684318BA46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9D0C06-02E3-414D-82C7-384BC51243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D1597-511C-4BFC-920B-A64F43C8F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6A36E9-EA0A-4AA1-8299-09CAA5B1C5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B8DEB2-8415-4365-8EC9-99FABF4276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B71498-4C0A-4561-8AF0-755A13E7FC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AD026F-1EDC-4991-9B0A-390AA9FE53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6333D4-5C7B-4446-AF9C-4BA5FDFA2C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E4390A-6F61-46EE-A3E2-58626FC054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52C2A01-91DD-4803-BF37-731507E138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7C1A4C-C8B8-4425-BF7C-A8861F851A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00D507-6C9D-44A3-890A-8010AE87D3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665749-A611-4C27-893B-E015C44E7D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BF33B-023A-46DD-A6DF-8C1342346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E8DE39-B6EF-4636-BECF-AD6BE4EF50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EBC0CB-6F83-4085-9796-07DE017EA8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CF015E-E4CA-49B1-A1F2-8361B04710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232934-454C-4CDE-B221-FFE1A304FD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BC3FB8-7F1B-4427-9A9D-991E78322B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062BD2-B230-4A35-B70D-36EC1F8F5D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254A4A-3153-44D8-8AE9-130B5FAE63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CF5701-3914-4FFD-B591-A9BD49C5D4D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D0560A-23AC-43CD-A62A-FE320954FAF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4B94C5-6752-4467-A6EF-11B7CB6B1CC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75059-65FC-4D66-B02C-B606ED329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345484-D47B-415E-9994-EF3F4172FD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4A4216B-2EAB-410A-9682-65782CEF46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2E7BC0-01CA-4B76-9483-62A419405A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8503EB-5695-485D-8B99-BC7CC48FCD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D8938E-01FE-4808-9135-929D846490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B9C68D-7BC0-4F21-941A-2A07B12C3E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1F8892-3FD4-4402-9E5D-F2E69B6233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D267C1-DB12-4ADA-B239-AC686188CA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7FCCC5-5491-419D-B62C-40537B9F38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2A073F7-A73E-4197-8E83-EAECC1BE129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A7D6C-6A21-40BA-85E6-0BF0C38DD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B2753DE-7230-468C-B711-AA33A91F63B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58D549-2ADD-42AA-9307-28A4541479A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FB10D2-25A4-4D9D-BB46-D463643E724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AB1DED-F262-486B-A08D-DD00CE4021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BD17DF-0586-4B0C-9AC8-B8FAAC8F71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6531DF-C3E4-4894-8D81-83D4BD420B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357C8B-A503-44F9-A016-0CDF4E8E5A9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8CCA59-667B-4C80-BF3F-BC48FA9879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24B715-5F88-42DB-A9B8-0B52D35142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874B10-A831-4AA8-ADCE-97CD02AA95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542CC-71C1-4A7D-9A32-F5042690C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79A7264-9154-4AA2-9E08-8BF5C0CD93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5968B90-C7E3-4731-A380-C16835C71B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89DA1D-7C80-4757-A8B6-3D619F0D621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4B0A-DD9A-4E72-A9CD-CAEE086E1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C1259-FB33-4E44-BE4F-BDBC79A2E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3DE8-0E32-4B67-893E-709F135C2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E489D-EE64-4F17-9A7C-156DA52BD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7077E-0E40-435F-8176-E8BCE96CE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782E6-E112-4E34-B3F5-13AD77C2A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7CD8C-576C-4D75-AD15-A88A88650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A4C8C-BEDB-4DF7-91E8-82B2F723D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94E77-C6EF-4764-B2AC-04EEC8021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8C3E9-22FD-43E5-97A2-21F9C950A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6CB2F-1695-48EC-8238-1FD2FA832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E1767-0B38-4983-8612-90CBF1F5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F8CB8-FA1B-4533-8625-BB05657A3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6841D-BDF0-4B47-8D22-2A1E76B8B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FF28B-7903-41F8-83EB-6F117DD96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65D72-F415-4636-A33E-05605AD93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E0452-69E0-43CF-93DB-55184A548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155D5-96A0-4B67-8070-F7C236E4A4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EB904D-4903-4D4A-AE62-4EF104C61B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95A2E4-9840-49C3-AAAD-B8046B2379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B0CD1-233C-4ECF-8F7B-E5347EAE5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37EE7-88F1-42F8-916C-A3D362AD9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2F8A-30F9-4599-9C3B-8CCC351C7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1D37B-4CD8-4F5C-A38E-5CE7022DA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230DF-BE5F-491B-9AC2-B63CC169E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AB593A-CA6C-4845-B1D9-005BCF804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F7FAC-1384-4755-9BA8-B41CF8415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737B2-1C64-4038-82BC-D45817B7B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989D1-1271-4EFE-8972-11EB1115C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4EF3E-76EE-4094-B8BC-04231C7A2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5F777-D670-4CAE-BBE8-C6ADDB0FB0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F5A8B7-116F-44BB-8D71-55D55B67D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3D449E-54B6-4911-8E11-D1CBF458A4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44107-921F-4C40-AB7F-4F9F509C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7AB9F6-62CB-4018-9191-07ED09541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375B31-1A0B-4BD3-873E-A79231085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4D8C3-EDC7-42B2-A184-B3540A127F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679F80-4607-44D1-8564-E28858C93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3648A-2E67-4ABF-9B1A-792574DC3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F4A93-0791-40CE-9527-4CD0BE98D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0A0EF-4070-44D8-A32C-FC06DE210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10B3B-D5E1-402C-A96D-6CDDD221B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CF440-A0B8-4D06-9DF8-C8485281D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C3F12A-CD76-4369-95E9-6BA5509756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91A8-BC51-45BD-B34C-D966C2DF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7BDA0-3B0A-4BC9-9141-4BDCDE98FE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3EE13-5339-4ED2-ACD5-1C6F5CB5E5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31B02-4B9A-4CA2-A736-B660A5BC4D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603DB-6123-41AA-A8BB-72DEBFDFF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4AD57-70A9-4C1F-9EDE-3A9FE2B79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90D7B-9AAA-4134-B180-E102A64CD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5E9251-09F4-4D6A-84DB-CD8C0229E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96C17-7846-4D30-B8D4-012D23448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A45E5-03B9-44A5-97D9-D796413DE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1531D-CFFE-4E02-B177-5B8F36A31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410EA-CCB4-405E-B934-4CCCDB93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8E823-A732-42FB-A906-04F100E16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92EFD4-ACBE-4E6C-9C02-3A9B7852F0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D6A950-A268-4DC5-936A-BBFB7DD4B3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21C393-DCA0-4812-B5E8-4D3FE3DA78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B61CA-41E1-496E-9995-121FCBC86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6C744-EEE5-46BB-BE12-34C910639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A85BE-0D5C-43E1-9195-8E1C0C0E4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4128E-6AC8-4A7F-8F17-6B19ACB43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E5B2D2-91C7-4637-AB67-4C944955B6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A4852-B62B-4C78-A950-D51BDDD08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E0E5-C106-4F90-A109-FE1B1C39B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4CFAC-A8C8-466F-8608-4A951BB01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B3C02-9078-4876-8E6E-BF9BDB5D4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9EF97-5BC2-419E-B8BB-4F4DCC690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AA2C7B-0B85-445C-A7B5-B164F8B20D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5CB3F8-37DC-4B3D-8DDB-AD0AD1841D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34F188-432F-401E-B3EE-59F31C7DF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8DCE81-E410-45EE-84D5-84F13C7FA6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92522-A6B8-4C10-B2D3-71AC02BDB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5BC1F-CF2F-47EC-9629-64F4FA89B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7B274-F800-4901-9984-52917AE90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168DD-29E7-4A65-8AC5-BE1FC8AAB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90A4B8-9570-4926-BA64-564DE521A1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44330A-E417-41A0-AEEE-B00B1BED8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5AA2E-C1CF-42C4-92F1-7507B124D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5F077-1CED-40E0-80FA-E4A144776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F0A00-A75E-4468-9085-45E387075E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ECEE86-C5D4-4AA6-A587-E6F3CD1257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1887C2-4426-4330-B939-3957FFDAE2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FE02CC-413D-4EE3-B094-65175950F5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3B030-77E5-4248-8C4F-0398319AE8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1636CF-6BAF-418B-8958-99E78868F8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CFA3-02DC-42B3-AAC9-4121D63CF1E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4"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5" name="PlaceHolder 3"/>
          <p:cNvSpPr>
            <a:spLocks noGrp="1"/>
          </p:cNvSpPr>
          <p:nvPr>
            <p:ph type="dt" idx="28"/>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387"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4D10-658D-458C-BC16-9A83B1CFB142}"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5"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 name="PlaceHolder 3"/>
          <p:cNvSpPr>
            <a:spLocks noGrp="1"/>
          </p:cNvSpPr>
          <p:nvPr>
            <p:ph type="dt" idx="3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428"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523D-7FB4-4919-8B5D-643B2265985B}"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 name="PlaceHolder 3"/>
          <p:cNvSpPr>
            <a:spLocks noGrp="1"/>
          </p:cNvSpPr>
          <p:nvPr>
            <p:ph type="dt" idx="34"/>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469"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7AAD-5778-4B56-B1DE-A75C39A331A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8" name="PlaceHolder 3"/>
          <p:cNvSpPr>
            <a:spLocks noGrp="1"/>
          </p:cNvSpPr>
          <p:nvPr>
            <p:ph type="dt" idx="37"/>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10"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43B8-85E1-4C61-90A7-016509947829}"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8"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9" name="PlaceHolder 3"/>
          <p:cNvSpPr>
            <a:spLocks noGrp="1"/>
          </p:cNvSpPr>
          <p:nvPr>
            <p:ph type="dt" idx="40"/>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51" name="PlaceHolder 5"/>
          <p:cNvSpPr>
            <a:spLocks noGrp="1"/>
          </p:cNvSpPr>
          <p:nvPr>
            <p:ph type="sldNum" idx="42"/>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E716-3D6D-46FC-BF23-F8B7997A93B4}"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 name="PlaceHolder 3"/>
          <p:cNvSpPr>
            <a:spLocks noGrp="1"/>
          </p:cNvSpPr>
          <p:nvPr>
            <p:ph type="dt" idx="43"/>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92" name="PlaceHolder 5"/>
          <p:cNvSpPr>
            <a:spLocks noGrp="1"/>
          </p:cNvSpPr>
          <p:nvPr>
            <p:ph type="sldNum" idx="45"/>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E738-A3DE-4296-BB51-3E9F449F9C67}"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3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31" name="PlaceHolder 3"/>
          <p:cNvSpPr>
            <a:spLocks noGrp="1"/>
          </p:cNvSpPr>
          <p:nvPr>
            <p:ph type="dt" idx="46"/>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633" name="PlaceHolder 5"/>
          <p:cNvSpPr>
            <a:spLocks noGrp="1"/>
          </p:cNvSpPr>
          <p:nvPr>
            <p:ph type="sldNum" idx="48"/>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6FCC-1D67-4AD0-88F0-CDA078A88716}"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0645c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0645c4"/>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fd7f7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8FE8-7C5D-4D95-A3FF-70C19EAFF457}" type="slidenum">
              <a:rPr b="1"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3"/>
          <p:cNvSpPr>
            <a:spLocks noGrp="1"/>
          </p:cNvSpPr>
          <p:nvPr>
            <p:ph type="dt" idx="7"/>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F552-3667-452F-A151-BC93B7FE0CEB}"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8"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 name="PlaceHolder 3"/>
          <p:cNvSpPr>
            <a:spLocks noGrp="1"/>
          </p:cNvSpPr>
          <p:nvPr>
            <p:ph type="dt" idx="10"/>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141"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4B39-42AC-4746-889D-321E6137E945}"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 name="PlaceHolder 3"/>
          <p:cNvSpPr>
            <a:spLocks noGrp="1"/>
          </p:cNvSpPr>
          <p:nvPr>
            <p:ph type="dt" idx="13"/>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182"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F4E5-8F8D-4ED2-A069-8E4F725AD6B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223"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3BED-EECA-4BA3-BC1A-D0B7A6E31FC5}"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7149-0C4B-4847-9C9A-AFDAE98F9D1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2"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3" name="PlaceHolder 3"/>
          <p:cNvSpPr>
            <a:spLocks noGrp="1"/>
          </p:cNvSpPr>
          <p:nvPr>
            <p:ph type="dt" idx="22"/>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305"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76C9-7506-4ED9-B6C2-7F2F6390EC2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3b3b3"/>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3"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0645c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fd7f7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 name="PlaceHolder 3"/>
          <p:cNvSpPr>
            <a:spLocks noGrp="1"/>
          </p:cNvSpPr>
          <p:nvPr>
            <p:ph type="dt" idx="25"/>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NICA DIGITAL :::: RAUL BARRETO QUINTEROS</a:t>
            </a:r>
            <a:endParaRPr b="0" lang="en-US" sz="1000" spc="-1" strike="noStrike">
              <a:solidFill>
                <a:srgbClr val="000000"/>
              </a:solidFill>
              <a:latin typeface="Times New Roman"/>
            </a:endParaRPr>
          </a:p>
        </p:txBody>
      </p:sp>
      <p:sp>
        <p:nvSpPr>
          <p:cNvPr id="346"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6FCB-09E6-4FCC-A449-507ED994FAF8}"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539640" y="1658520"/>
            <a:ext cx="798984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MULTIPLEXORES Y DEMULTIPLEXOR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ED6A-421C-4992-8680-482A68B671E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PLICACIÓN DE LOS MULTIPLEXORES Y DEMULTIPLEXORES. TDM</a:t>
            </a:r>
            <a:endParaRPr b="0" lang="en-US" sz="3200" spc="-1" strike="noStrike">
              <a:solidFill>
                <a:srgbClr val="000000"/>
              </a:solidFill>
              <a:latin typeface="Times New Roman"/>
            </a:endParaRPr>
          </a:p>
        </p:txBody>
      </p:sp>
      <p:sp>
        <p:nvSpPr>
          <p:cNvPr id="711" name="PlaceHolder 2"/>
          <p:cNvSpPr>
            <a:spLocks noGrp="1"/>
          </p:cNvSpPr>
          <p:nvPr>
            <p:ph/>
          </p:nvPr>
        </p:nvSpPr>
        <p:spPr>
          <a:xfrm>
            <a:off x="457200" y="1828800"/>
            <a:ext cx="8291520" cy="4302000"/>
          </a:xfrm>
          <a:prstGeom prst="rect">
            <a:avLst/>
          </a:prstGeom>
          <a:noFill/>
          <a:ln w="0">
            <a:noFill/>
          </a:ln>
        </p:spPr>
        <p:txBody>
          <a:bodyPr anchor="t">
            <a:normAutofit/>
          </a:bodyPr>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S DEMULTIPLEXORES, POR LO GENERAL, COMPLEMENTAN O REVERSAN EL PROCESO LLEVADO A CABO POR LOS DISPOSITIVOS MULTIPLEXORES. UNA DE LAS APLICACIONES MÁS USUALES E INTERESANTES DE ESTA CLASE DE DISPOSITIVOS, ES AQUELLA EN LA CUAL EL PAR MULTIPLEXOR/DEMULTIPLEXOR SE UTILIZA PARA LA MULTICANALIZACION DE DATOSEN EL TIEMPO. EL CONCEPTO DE MULTICANALIZADION HACE REFERENCIA A LA TECNICA POR LA CUAL UN MISMO CANAL ES UTILIZADO PARA LA TRANSMICION SIMULTANEA DE DOS O MÁS SEÑALES O MENSAJES. UNA FORMA DE UTILIZACION DE UN CANALCON ESTE PROPOSITO HACE USO DE LA DENOMINADA MULTIPLEXACION POR DIVICION DE TIEMPO O TDM (TIME DIVISION MULTIPLEXING)</a:t>
            </a:r>
            <a:endParaRPr b="0" lang="en-US" sz="1800" spc="-1" strike="noStrike">
              <a:solidFill>
                <a:srgbClr val="000000"/>
              </a:solidFill>
              <a:latin typeface="Times New Roman"/>
            </a:endParaRPr>
          </a:p>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ANDO UN SISTEMA UTILIZA LA MULTIPLEXACION EN EL TIEMPO EN EL EXTREMO DE ENVÍO DE INFORMACION, DEBE COMPLEMENTAR EL PROCESO CON LA DEMULTIPLEXACIONDE LOS DATOS EN EL EXTREMO DE RECEPCION DEL CANAL DE TRANSMI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BBD6-E78D-4E34-A67B-964AE340C580}"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PRINCIPIO DE FUNCIONAMIENTO DE UN SISTEMA TDM</a:t>
            </a:r>
            <a:endParaRPr b="0" lang="en-US" sz="4000" spc="-1" strike="noStrike">
              <a:solidFill>
                <a:srgbClr val="000000"/>
              </a:solidFill>
              <a:latin typeface="Times New Roman"/>
            </a:endParaRPr>
          </a:p>
        </p:txBody>
      </p:sp>
      <p:sp>
        <p:nvSpPr>
          <p:cNvPr id="714"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USA PARA TRANSMITIR SIMULTÁNEAMENTE SEÑALES DIFERENTES A TRAVÉS DE UN MISMO CANAL.</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VIDE EL TIEMPO DE TRANSMISIÓN EN INTERVALOS QUE SON ASIGNADOS A LOS DISTINTOS CANALES DE ENTRADA.</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UTILIZA UN DEMULTIPLEXOR PARA RECUPERAR LA SEÑAL EN EL RECEPTOR.</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15" name="Picture 10" descr=""/>
          <p:cNvPicPr/>
          <p:nvPr/>
        </p:nvPicPr>
        <p:blipFill>
          <a:blip r:embed="rId1"/>
          <a:stretch/>
        </p:blipFill>
        <p:spPr>
          <a:xfrm>
            <a:off x="4648320" y="2828880"/>
            <a:ext cx="4038480" cy="23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FBA7-9370-48FE-9DA5-8E425B9E34D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CEPTO DE MULTIPLEXACION</a:t>
            </a:r>
            <a:endParaRPr b="0" lang="en-US" sz="4000" spc="-1" strike="noStrike">
              <a:solidFill>
                <a:srgbClr val="000000"/>
              </a:solidFill>
              <a:latin typeface="Times New Roman"/>
            </a:endParaRPr>
          </a:p>
        </p:txBody>
      </p:sp>
      <p:sp>
        <p:nvSpPr>
          <p:cNvPr id="673"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ULTIPLEXACION CONSISTE EN LA CANALIZACION DE VARIAS LINEAS DE ENTRADA HACIA UNA SOLA LINEA DE SALIDA</a:t>
            </a:r>
            <a:endParaRPr b="0" lang="en-US" sz="2000" spc="-1" strike="noStrike">
              <a:solidFill>
                <a:srgbClr val="000000"/>
              </a:solidFill>
              <a:latin typeface="Times New Roman"/>
            </a:endParaRPr>
          </a:p>
          <a:p>
            <a:pPr marL="469800" indent="-469800">
              <a:lnSpc>
                <a:spcPct val="90000"/>
              </a:lnSpc>
              <a:spcBef>
                <a:spcPts val="49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FIGURA, DEPENDIENDO DE LA POSICIÓN DEL INTERRUPTOR ROTAORIO LA INFORMACION DE UNO DE LOS CANALES DE ENTRADA ES TRANSFERIDA A LA LINEA DE SALIDA</a:t>
            </a:r>
            <a:endParaRPr b="0" lang="en-US" sz="2000" spc="-1" strike="noStrike">
              <a:solidFill>
                <a:srgbClr val="000000"/>
              </a:solidFill>
              <a:latin typeface="Times New Roman"/>
            </a:endParaRPr>
          </a:p>
        </p:txBody>
      </p:sp>
      <p:graphicFrame>
        <p:nvGraphicFramePr>
          <p:cNvPr id="674" name="Object 8"/>
          <p:cNvGraphicFramePr/>
          <p:nvPr/>
        </p:nvGraphicFramePr>
        <p:xfrm>
          <a:off x="4648320" y="2666880"/>
          <a:ext cx="4038480" cy="2624400"/>
        </p:xfrm>
        <a:graphic>
          <a:graphicData uri="http://schemas.openxmlformats.org/presentationml/2006/ole">
            <p:oleObj r:id="rId1" spid="">
              <p:embed/>
              <p:pic>
                <p:nvPicPr>
                  <p:cNvPr id="675" name="Object 8" descr=""/>
                  <p:cNvPicPr/>
                  <p:nvPr/>
                </p:nvPicPr>
                <p:blipFill>
                  <a:blip r:embed="rId2"/>
                  <a:stretch/>
                </p:blipFill>
                <p:spPr>
                  <a:xfrm>
                    <a:off x="4648320" y="2666880"/>
                    <a:ext cx="4038480" cy="26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BAB8-25C6-472A-85DB-CE40AD45473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ULTIPLEXORES DIGITALES</a:t>
            </a:r>
            <a:endParaRPr b="0" lang="en-US" sz="4400" spc="-1" strike="noStrike">
              <a:solidFill>
                <a:srgbClr val="000000"/>
              </a:solidFill>
              <a:latin typeface="Times New Roman"/>
            </a:endParaRPr>
          </a:p>
        </p:txBody>
      </p:sp>
      <p:sp>
        <p:nvSpPr>
          <p:cNvPr id="67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ON CONOCIDOS TAMBIEN COMO SELECTORES DE DATOS</a:t>
            </a:r>
            <a:endParaRPr b="0" lang="en-US" sz="1800" spc="-1" strike="noStrike">
              <a:solidFill>
                <a:srgbClr val="000000"/>
              </a:solidFill>
              <a:latin typeface="Times New Roman"/>
            </a:endParaRPr>
          </a:p>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LA FIGURA SE MUESTRA UN SELECTOR DE 8 A 1, TIENE OCHO ENTRADAS DE 0 A 7, Y UNA SOLA SALIDA, LAS TRES ENTRADAS SELECTORAS SON SUFICIENTES PARA GENERAR UN TOTAL DE 2</a:t>
            </a:r>
            <a:r>
              <a:rPr b="0" lang="es-ES" sz="1800" spc="-1" strike="noStrike" baseline="30000">
                <a:solidFill>
                  <a:srgbClr val="000000"/>
                </a:solidFill>
                <a:latin typeface="Times New Roman"/>
              </a:rPr>
              <a:t>N</a:t>
            </a:r>
            <a:r>
              <a:rPr b="0" lang="es-ES" sz="1800" spc="-1" strike="noStrike">
                <a:solidFill>
                  <a:srgbClr val="000000"/>
                </a:solidFill>
                <a:latin typeface="Times New Roman"/>
              </a:rPr>
              <a:t>=8 COMBINACIONES QUE CORRESPONDEN A CADA UNA DE LAS ENTRADAS DEL MULTIPLEXOR</a:t>
            </a:r>
            <a:endParaRPr b="0" lang="en-US" sz="1800" spc="-1" strike="noStrike">
              <a:solidFill>
                <a:srgbClr val="000000"/>
              </a:solidFill>
              <a:latin typeface="Times New Roman"/>
            </a:endParaRPr>
          </a:p>
          <a:p>
            <a:pPr marL="469800" indent="-469800">
              <a:lnSpc>
                <a:spcPct val="80000"/>
              </a:lnSpc>
              <a:spcBef>
                <a:spcPts val="451"/>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R EJEMPLO SI LAS ENTRADAS SELECTORAS CBA = 011 (3). SE TRANFERIRÁ A LA SALIDA EL DATO PRESENTE EN LA ENTRADA #3</a:t>
            </a:r>
            <a:endParaRPr b="0" lang="en-US" sz="1800" spc="-1" strike="noStrike">
              <a:solidFill>
                <a:srgbClr val="000000"/>
              </a:solidFill>
              <a:latin typeface="Times New Roman"/>
            </a:endParaRPr>
          </a:p>
        </p:txBody>
      </p:sp>
      <p:graphicFrame>
        <p:nvGraphicFramePr>
          <p:cNvPr id="679" name="Object 6"/>
          <p:cNvGraphicFramePr/>
          <p:nvPr/>
        </p:nvGraphicFramePr>
        <p:xfrm>
          <a:off x="4932360" y="2276640"/>
          <a:ext cx="3457440" cy="2733480"/>
        </p:xfrm>
        <a:graphic>
          <a:graphicData uri="http://schemas.openxmlformats.org/presentationml/2006/ole">
            <p:oleObj r:id="rId1" spid="">
              <p:embed/>
              <p:pic>
                <p:nvPicPr>
                  <p:cNvPr id="680" name="Object 6" descr=""/>
                  <p:cNvPicPr/>
                  <p:nvPr/>
                </p:nvPicPr>
                <p:blipFill>
                  <a:blip r:embed="rId2"/>
                  <a:stretch/>
                </p:blipFill>
                <p:spPr>
                  <a:xfrm>
                    <a:off x="4932360" y="2276640"/>
                    <a:ext cx="3457440" cy="27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3951-67DF-4383-AD57-3C35B7A9D66F}"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MULTIPLEXOR 74LS151</a:t>
            </a:r>
            <a:endParaRPr b="0" lang="en-US" sz="4400" spc="-1" strike="noStrike">
              <a:solidFill>
                <a:srgbClr val="000000"/>
              </a:solidFill>
              <a:latin typeface="Times New Roman"/>
            </a:endParaRPr>
          </a:p>
        </p:txBody>
      </p:sp>
      <p:sp>
        <p:nvSpPr>
          <p:cNvPr id="683"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4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ALVEZ EL MÁS SENCILLO DE LOS MULTIPLEXORES DISPONIBLES EN EL MERCADO SEA EL 74LS151. </a:t>
            </a:r>
            <a:endParaRPr b="0" lang="en-US" sz="1600" spc="-1" strike="noStrike">
              <a:solidFill>
                <a:srgbClr val="000000"/>
              </a:solidFill>
              <a:latin typeface="Times New Roman"/>
            </a:endParaRPr>
          </a:p>
          <a:p>
            <a:pPr marL="469800" indent="-469800">
              <a:lnSpc>
                <a:spcPct val="80000"/>
              </a:lnSpc>
              <a:spcBef>
                <a:spcPts val="4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TE ES UN MULTIPLEXOR DE 8 A 1 PRESENTADO EN UN ENCAPSIULADO DIP DE 16 PINES ADEMÁS DE SUS 8 ENTRADAS ESTE CI TIENE DOS SALIDAS </a:t>
            </a:r>
            <a:r>
              <a:rPr b="1" lang="es-ES" sz="1600" spc="-1" strike="noStrike">
                <a:solidFill>
                  <a:srgbClr val="000000"/>
                </a:solidFill>
                <a:latin typeface="Times New Roman"/>
              </a:rPr>
              <a:t>Y</a:t>
            </a:r>
            <a:r>
              <a:rPr b="0" lang="es-ES" sz="1600" spc="-1" strike="noStrike">
                <a:solidFill>
                  <a:srgbClr val="000000"/>
                </a:solidFill>
                <a:latin typeface="Times New Roman"/>
              </a:rPr>
              <a:t> y </a:t>
            </a:r>
            <a:r>
              <a:rPr b="1" lang="es-ES" sz="1600" spc="-1" strike="noStrike">
                <a:solidFill>
                  <a:srgbClr val="000000"/>
                </a:solidFill>
                <a:latin typeface="Times New Roman"/>
              </a:rPr>
              <a:t>W</a:t>
            </a:r>
            <a:r>
              <a:rPr b="0" lang="es-ES" sz="1600" spc="-1" strike="noStrike">
                <a:solidFill>
                  <a:srgbClr val="000000"/>
                </a:solidFill>
                <a:latin typeface="Times New Roman"/>
              </a:rPr>
              <a:t> (</a:t>
            </a:r>
            <a:r>
              <a:rPr b="1" lang="es-ES" sz="1600" spc="-1" strike="noStrike">
                <a:solidFill>
                  <a:srgbClr val="000000"/>
                </a:solidFill>
                <a:latin typeface="Times New Roman"/>
              </a:rPr>
              <a:t>W</a:t>
            </a:r>
            <a:r>
              <a:rPr b="0" lang="es-ES" sz="1600" spc="-1" strike="noStrike">
                <a:solidFill>
                  <a:srgbClr val="000000"/>
                </a:solidFill>
                <a:latin typeface="Times New Roman"/>
              </a:rPr>
              <a:t> ES EL COMPLEMENTO DE </a:t>
            </a:r>
            <a:r>
              <a:rPr b="1" lang="es-ES" sz="1600" spc="-1" strike="noStrike">
                <a:solidFill>
                  <a:srgbClr val="000000"/>
                </a:solidFill>
                <a:latin typeface="Times New Roman"/>
              </a:rPr>
              <a:t>Y</a:t>
            </a:r>
            <a:r>
              <a:rPr b="0" lang="es-ES" sz="1600" spc="-1" strike="noStrike">
                <a:solidFill>
                  <a:srgbClr val="000000"/>
                </a:solidFill>
                <a:latin typeface="Times New Roman"/>
              </a:rPr>
              <a:t>)</a:t>
            </a:r>
            <a:endParaRPr b="0" lang="en-US" sz="1600" spc="-1" strike="noStrike">
              <a:solidFill>
                <a:srgbClr val="000000"/>
              </a:solidFill>
              <a:latin typeface="Times New Roman"/>
            </a:endParaRPr>
          </a:p>
          <a:p>
            <a:pPr marL="469800" indent="-469800">
              <a:lnSpc>
                <a:spcPct val="80000"/>
              </a:lnSpc>
              <a:spcBef>
                <a:spcPts val="4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SEE TAMBIEN UNA ENTRADA DE HABILITACION ACTIVA A BAJO, CUANDO ESTA SE HACE ALTA, SE INHIBE EL MULTIPLEXOR LLEVANDO LA SALIDA </a:t>
            </a:r>
            <a:r>
              <a:rPr b="1" lang="es-ES" sz="1600" spc="-1" strike="noStrike">
                <a:solidFill>
                  <a:srgbClr val="000000"/>
                </a:solidFill>
                <a:latin typeface="Times New Roman"/>
              </a:rPr>
              <a:t>Y</a:t>
            </a:r>
            <a:r>
              <a:rPr b="0" lang="es-ES" sz="1600" spc="-1" strike="noStrike">
                <a:solidFill>
                  <a:srgbClr val="000000"/>
                </a:solidFill>
                <a:latin typeface="Times New Roman"/>
              </a:rPr>
              <a:t> A UN ESTADO BAJO Y LA </a:t>
            </a:r>
            <a:r>
              <a:rPr b="1" lang="es-ES" sz="1600" spc="-1" strike="noStrike">
                <a:solidFill>
                  <a:srgbClr val="000000"/>
                </a:solidFill>
                <a:latin typeface="Times New Roman"/>
              </a:rPr>
              <a:t>W </a:t>
            </a:r>
            <a:r>
              <a:rPr b="0" lang="es-ES" sz="1600" spc="-1" strike="noStrike">
                <a:solidFill>
                  <a:srgbClr val="000000"/>
                </a:solidFill>
                <a:latin typeface="Times New Roman"/>
              </a:rPr>
              <a:t>A UN ESTADO ALTO</a:t>
            </a:r>
            <a:endParaRPr b="0" lang="en-US" sz="1600" spc="-1" strike="noStrike">
              <a:solidFill>
                <a:srgbClr val="000000"/>
              </a:solidFill>
              <a:latin typeface="Times New Roman"/>
            </a:endParaRPr>
          </a:p>
        </p:txBody>
      </p:sp>
      <p:graphicFrame>
        <p:nvGraphicFramePr>
          <p:cNvPr id="684" name="Object 4"/>
          <p:cNvGraphicFramePr/>
          <p:nvPr/>
        </p:nvGraphicFramePr>
        <p:xfrm>
          <a:off x="4643280" y="2133720"/>
          <a:ext cx="4105440" cy="3035160"/>
        </p:xfrm>
        <a:graphic>
          <a:graphicData uri="http://schemas.openxmlformats.org/presentationml/2006/ole">
            <p:oleObj r:id="rId1" spid="">
              <p:embed/>
              <p:pic>
                <p:nvPicPr>
                  <p:cNvPr id="685" name="Object 4" descr=""/>
                  <p:cNvPicPr/>
                  <p:nvPr/>
                </p:nvPicPr>
                <p:blipFill>
                  <a:blip r:embed="rId2"/>
                  <a:stretch/>
                </p:blipFill>
                <p:spPr>
                  <a:xfrm>
                    <a:off x="4643280" y="2133720"/>
                    <a:ext cx="4105440" cy="303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5D78-1D13-4F45-BDC2-2126D6DAEEF2}"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OTROS MULTIPLEXORES EN CI</a:t>
            </a:r>
            <a:endParaRPr b="0" lang="en-US" sz="4000" spc="-1" strike="noStrike">
              <a:solidFill>
                <a:srgbClr val="000000"/>
              </a:solidFill>
              <a:latin typeface="Times New Roman"/>
            </a:endParaRPr>
          </a:p>
        </p:txBody>
      </p:sp>
      <p:sp>
        <p:nvSpPr>
          <p:cNvPr id="68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34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L 74LS150 ES UN MULTIPLEXOR DE 16 ENTRADAS, ADEMÁS POSEE UNA ENTRADA DE HABILITACION, CUATRO ENTRADAS DE SELECCION Y UNA SALIDA COMPLEMENTADA</a:t>
            </a:r>
            <a:endParaRPr b="0" lang="en-US" sz="1400" spc="-1" strike="noStrike">
              <a:solidFill>
                <a:srgbClr val="000000"/>
              </a:solidFill>
              <a:latin typeface="Times New Roman"/>
            </a:endParaRPr>
          </a:p>
          <a:p>
            <a:pPr marL="469800" indent="-469800">
              <a:lnSpc>
                <a:spcPct val="80000"/>
              </a:lnSpc>
              <a:spcBef>
                <a:spcPts val="34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L 74157 ES UN MULTIPLEXOR CUADRUPLE DE 2 A 1 LINEAS. EN LA FIGURA SE MUESTRA SU SIMBOLO FUNCIONAL, ESTE MULTIPLEXOR TRANSFIERE A SUS CUATRO LINEAS DE SALIDA UNO DE LOS DOS DATOS DE 4 BITS, A ó B, CONECTADOS A SUS OCHO LINEAS DE ENTRADA, SEGÚN LO ESPECIFIQUE SU LINEA DE CONTROL S; SI S=1, EL DATO TRANSFERIDO ES EL A, DE LO CONTRARIO SE TRANSFIERE EL B. LA ENTRADA G, (PIN 15) DE ACTIVACION EN BAJO, HABILITA EL FUNCIONAMIENTO DEL DISPOSITIVO</a:t>
            </a:r>
            <a:endParaRPr b="0" lang="en-US" sz="1400" spc="-1" strike="noStrike">
              <a:solidFill>
                <a:srgbClr val="000000"/>
              </a:solidFill>
              <a:latin typeface="Times New Roman"/>
            </a:endParaRPr>
          </a:p>
        </p:txBody>
      </p:sp>
      <p:graphicFrame>
        <p:nvGraphicFramePr>
          <p:cNvPr id="689" name="Object 4"/>
          <p:cNvGraphicFramePr/>
          <p:nvPr/>
        </p:nvGraphicFramePr>
        <p:xfrm>
          <a:off x="5027760" y="1976400"/>
          <a:ext cx="3278160" cy="4006800"/>
        </p:xfrm>
        <a:graphic>
          <a:graphicData uri="http://schemas.openxmlformats.org/presentationml/2006/ole">
            <p:oleObj r:id="rId1" spid="">
              <p:embed/>
              <p:pic>
                <p:nvPicPr>
                  <p:cNvPr id="690" name="Object 4" descr=""/>
                  <p:cNvPicPr/>
                  <p:nvPr/>
                </p:nvPicPr>
                <p:blipFill>
                  <a:blip r:embed="rId2"/>
                  <a:stretch/>
                </p:blipFill>
                <p:spPr>
                  <a:xfrm>
                    <a:off x="5027760" y="1976400"/>
                    <a:ext cx="3278160" cy="40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B8AE-5399-4246-9987-2710F47168A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MULTIPLEXORES COMO CIRCUITOS LÓGICOS UNIVERSALES</a:t>
            </a:r>
            <a:endParaRPr b="0" lang="en-US" sz="3600" spc="-1" strike="noStrike">
              <a:solidFill>
                <a:srgbClr val="000000"/>
              </a:solidFill>
              <a:latin typeface="Times New Roman"/>
            </a:endParaRPr>
          </a:p>
        </p:txBody>
      </p:sp>
      <p:sp>
        <p:nvSpPr>
          <p:cNvPr id="693"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4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DEMÁS DE DESEMPEÑARSE COMO SELECTORES DE DATOS LOS MULOTIPLEXORES PUEDEN LLEVAR A CABO FUNCIONES PROPIAS DE CIRCUITOS LÓGICOS CONVENCIONALES, ACTUANDO COMO CIRCUITOS LÓGICOS CONVENCIONALES.</a:t>
            </a:r>
            <a:endParaRPr b="0" lang="en-US" sz="1600" spc="-1" strike="noStrike">
              <a:solidFill>
                <a:srgbClr val="000000"/>
              </a:solidFill>
              <a:latin typeface="Times New Roman"/>
            </a:endParaRPr>
          </a:p>
          <a:p>
            <a:pPr marL="469800" indent="-469800">
              <a:lnSpc>
                <a:spcPct val="80000"/>
              </a:lnSpc>
              <a:spcBef>
                <a:spcPts val="4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LUSTRAREMOS ESTE ECHO POR VIA DE UN EJEMPLO. SUPONGA QUE SE DESEA CONSTRUIR UN CIRCUITO LÓGICO CUYA TABLA DE VERDAD SE  MUESTRA EN LA FIGURA, PARA ELLO DISPONEMOS DEL MULTIPLEXOR DE OCHO ENTRADAS 74151.</a:t>
            </a:r>
            <a:endParaRPr b="0" lang="en-US" sz="1600" spc="-1" strike="noStrike">
              <a:solidFill>
                <a:srgbClr val="000000"/>
              </a:solidFill>
              <a:latin typeface="Times New Roman"/>
            </a:endParaRPr>
          </a:p>
          <a:p>
            <a:pPr marL="469800" indent="-469800">
              <a:lnSpc>
                <a:spcPct val="80000"/>
              </a:lnSpc>
              <a:spcBef>
                <a:spcPts val="4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LA PAGINA OPUESTA SE MUESTRA LA SOLUCION:</a:t>
            </a:r>
            <a:endParaRPr b="0" lang="en-US" sz="1600" spc="-1" strike="noStrike">
              <a:solidFill>
                <a:srgbClr val="000000"/>
              </a:solidFill>
              <a:latin typeface="Times New Roman"/>
            </a:endParaRPr>
          </a:p>
        </p:txBody>
      </p:sp>
      <p:graphicFrame>
        <p:nvGraphicFramePr>
          <p:cNvPr id="694" name="Object 4"/>
          <p:cNvGraphicFramePr/>
          <p:nvPr/>
        </p:nvGraphicFramePr>
        <p:xfrm>
          <a:off x="5210280" y="1828800"/>
          <a:ext cx="2913120" cy="4302000"/>
        </p:xfrm>
        <a:graphic>
          <a:graphicData uri="http://schemas.openxmlformats.org/presentationml/2006/ole">
            <p:oleObj r:id="rId1" spid="">
              <p:embed/>
              <p:pic>
                <p:nvPicPr>
                  <p:cNvPr id="695" name="Object 4" descr=""/>
                  <p:cNvPicPr/>
                  <p:nvPr/>
                </p:nvPicPr>
                <p:blipFill>
                  <a:blip r:embed="rId2"/>
                  <a:stretch/>
                </p:blipFill>
                <p:spPr>
                  <a:xfrm>
                    <a:off x="5210280" y="1828800"/>
                    <a:ext cx="291312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B58A-177B-44AE-92E7-C3E408A67E9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PLEMENTACION DE LA TABLA DE VERDAD UTILIZANDO UN SELECTOR DE DATOS.</a:t>
            </a:r>
            <a:endParaRPr b="0" lang="en-US" sz="2800" spc="-1" strike="noStrike">
              <a:solidFill>
                <a:srgbClr val="000000"/>
              </a:solidFill>
              <a:latin typeface="Times New Roman"/>
            </a:endParaRPr>
          </a:p>
        </p:txBody>
      </p:sp>
      <p:sp>
        <p:nvSpPr>
          <p:cNvPr id="69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3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UNCIONAMIENTO DEL SISTEMA SE RESUME DE LA SIGUIENTE MANERA:</a:t>
            </a:r>
            <a:endParaRPr b="0" lang="en-US" sz="1200" spc="-1" strike="noStrike">
              <a:solidFill>
                <a:srgbClr val="000000"/>
              </a:solidFill>
              <a:latin typeface="Times New Roman"/>
            </a:endParaRPr>
          </a:p>
          <a:p>
            <a:pPr marL="469800" indent="-469800">
              <a:lnSpc>
                <a:spcPct val="80000"/>
              </a:lnSpc>
              <a:spcBef>
                <a:spcPts val="3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UMA QUE LAS VARIABLES S0, S1 Y S2 ESTÁN EN BAJO, LO QUE CORRESPONDE A LA PRIMERA COMBINACION DE ENTRADAS DE LA TABLA DE VERDAD. DE ACUERDO CON LA TABLA, ESTA COMBINACION DE ENTRADAS DEBE CAUSAR UN NIVEL LÓGICO BAJO A LA SALIDA. PUESTO QUE LA COMBINACION 000 APLICADA A LAS LINEAS DE SELECCIÓN DEL MULTIPLEXOR TRANSFIERE EL DATO PRESENTE EN I0 A LA SALIDA, LA ENTRADA I0 DEBE CONECTARSE A NIVEL LÓGICO BAJO.</a:t>
            </a:r>
            <a:endParaRPr b="0" lang="en-US" sz="1200" spc="-1" strike="noStrike">
              <a:solidFill>
                <a:srgbClr val="000000"/>
              </a:solidFill>
              <a:latin typeface="Times New Roman"/>
            </a:endParaRPr>
          </a:p>
          <a:p>
            <a:pPr marL="469800" indent="-469800">
              <a:lnSpc>
                <a:spcPct val="80000"/>
              </a:lnSpc>
              <a:spcBef>
                <a:spcPts val="3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IGUIENTE COMBINACION DE VARIABLES DE ENTRADA ES 001 POR LO CUAL EL 74151 TRANSFIERE A SU SALIDA EL VALOR CORRESPONDIENTE A LA LINEA DE ENTRADA I1. COMO EN ESTE CASO TAMBIEN SE DESEA UNA SALIDA DE 0, I1 DEBE ASÍ MISMO CONECTARSE A UN NIVEL LÓGICO BAJO.</a:t>
            </a:r>
            <a:endParaRPr b="0" lang="en-US" sz="1200" spc="-1" strike="noStrike">
              <a:solidFill>
                <a:srgbClr val="000000"/>
              </a:solidFill>
              <a:latin typeface="Times New Roman"/>
            </a:endParaRPr>
          </a:p>
          <a:p>
            <a:pPr marL="469800" indent="-469800">
              <a:lnSpc>
                <a:spcPct val="80000"/>
              </a:lnSpc>
              <a:spcBef>
                <a:spcPts val="3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A COMBINACION DE ENTRADAS, 010 REQUIERE DE UN NIVEL ALTO COMO RESPUESTA, POR LO CUAL, I2 DEBE AHORA LLEVARSE A NIVEL ALTO. EL PROCESO SE REPITE DE MANEA SIMILAR PARA LAS OTRAS.</a:t>
            </a:r>
            <a:endParaRPr b="0" lang="en-US" sz="1200" spc="-1" strike="noStrike">
              <a:solidFill>
                <a:srgbClr val="000000"/>
              </a:solidFill>
              <a:latin typeface="Times New Roman"/>
            </a:endParaRPr>
          </a:p>
        </p:txBody>
      </p:sp>
      <p:graphicFrame>
        <p:nvGraphicFramePr>
          <p:cNvPr id="699" name="Object 6"/>
          <p:cNvGraphicFramePr/>
          <p:nvPr/>
        </p:nvGraphicFramePr>
        <p:xfrm>
          <a:off x="5172120" y="1828800"/>
          <a:ext cx="2990880" cy="4302000"/>
        </p:xfrm>
        <a:graphic>
          <a:graphicData uri="http://schemas.openxmlformats.org/presentationml/2006/ole">
            <p:oleObj r:id="rId1" spid="">
              <p:embed/>
              <p:pic>
                <p:nvPicPr>
                  <p:cNvPr id="700" name="Object 6" descr=""/>
                  <p:cNvPicPr/>
                  <p:nvPr/>
                </p:nvPicPr>
                <p:blipFill>
                  <a:blip r:embed="rId2"/>
                  <a:stretch/>
                </p:blipFill>
                <p:spPr>
                  <a:xfrm>
                    <a:off x="5172120" y="1828800"/>
                    <a:ext cx="299088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Marcador de número de diapositiva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B468-4B33-4A0C-832D-E6C24D499413}"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0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MULTIPLEXORES DIGITALES</a:t>
            </a:r>
            <a:endParaRPr b="0" lang="en-US" sz="4000" spc="-1" strike="noStrike">
              <a:solidFill>
                <a:srgbClr val="000000"/>
              </a:solidFill>
              <a:latin typeface="Times New Roman"/>
            </a:endParaRPr>
          </a:p>
        </p:txBody>
      </p:sp>
      <p:sp>
        <p:nvSpPr>
          <p:cNvPr id="703"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80000"/>
              </a:lnSpc>
              <a:spcBef>
                <a:spcPts val="349"/>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LEVAN A CABO LA FUNCION OPUESTA A LOS MULTIPLEXORES, POR LO CUAL. EN OCACIONES, SE LES CONOCE COMO DISTRIBUIDORES DE DATOS, YA QUE SU FUNCION PUEDE RESUMIRSE COMO LA DISTRIBUCION DE DATOS DE UNA SOLA LINEA A VARIAS SALIDAS. EN LA FIGURA SE MUESTRA UN DEMULTIPLEXOR BÁSICO DE 1 A 4 LINEAS. LA LINEA DE ENTRADA DE DATOS SE CONECTA DIRECTAMENTE A TODAS LAS COMPUERTAS AND, MIENTRAS QUE LAS DOS LINEAS DE SELECCIÓN ACTIVAN UNA DE LAS COMPUERTAS A LA VEZ. POR CONSIGUIENTE, LOS DATOS QUE APARECEN EN LA LINEA DE ENTRADA PASAN A TRAVÉS DE LA COMPUERTA HABILITADA HASTA LA LINEA RESPECTIVA DE SALIDA DEL DISPOSITIVO DISTRIBUIDOR DE DATOS.</a:t>
            </a:r>
            <a:endParaRPr b="0" lang="en-US" sz="1400" spc="-1" strike="noStrike">
              <a:solidFill>
                <a:srgbClr val="000000"/>
              </a:solidFill>
              <a:latin typeface="Times New Roman"/>
            </a:endParaRPr>
          </a:p>
        </p:txBody>
      </p:sp>
      <p:graphicFrame>
        <p:nvGraphicFramePr>
          <p:cNvPr id="704" name="Object 4"/>
          <p:cNvGraphicFramePr/>
          <p:nvPr/>
        </p:nvGraphicFramePr>
        <p:xfrm>
          <a:off x="4716360" y="2565360"/>
          <a:ext cx="3888000" cy="1825560"/>
        </p:xfrm>
        <a:graphic>
          <a:graphicData uri="http://schemas.openxmlformats.org/presentationml/2006/ole">
            <p:oleObj r:id="rId1" spid="">
              <p:embed/>
              <p:pic>
                <p:nvPicPr>
                  <p:cNvPr id="705" name="Object 4" descr=""/>
                  <p:cNvPicPr/>
                  <p:nvPr/>
                </p:nvPicPr>
                <p:blipFill>
                  <a:blip r:embed="rId2"/>
                  <a:stretch/>
                </p:blipFill>
                <p:spPr>
                  <a:xfrm>
                    <a:off x="4716360" y="2565360"/>
                    <a:ext cx="3888000" cy="182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Marcador de número de diapositiva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1451-8580-48F2-BF0F-5806C1C39D55}"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EMULTIPLEXORES EN CI</a:t>
            </a:r>
            <a:endParaRPr b="0" lang="en-US" sz="4400" spc="-1" strike="noStrike">
              <a:solidFill>
                <a:srgbClr val="000000"/>
              </a:solidFill>
              <a:latin typeface="Times New Roman"/>
            </a:endParaRPr>
          </a:p>
        </p:txBody>
      </p:sp>
      <p:sp>
        <p:nvSpPr>
          <p:cNvPr id="7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74138 ES UN DEMULTIPLEXOR DE 1 A 8, SE COMPONE, ADEMÁS DE SUS 8 LINEAS DE SALIDA, DE 3 LINEAS DE SELECCIÓN Y 3 LINEAS DE HABILITACION. TAMBIEN PUEDE SER CONFIGURADO COMO UN DECODIFICADOR DE 3 A 8.</a:t>
            </a:r>
            <a:endParaRPr b="0" lang="en-US" sz="2800" spc="-1" strike="noStrike">
              <a:solidFill>
                <a:srgbClr val="000000"/>
              </a:solidFill>
              <a:latin typeface="Times New Roman"/>
            </a:endParaRPr>
          </a:p>
          <a:p>
            <a:pPr marL="469800" indent="-469800">
              <a:lnSpc>
                <a:spcPct val="80000"/>
              </a:lnSpc>
              <a:spcBef>
                <a:spcPts val="700"/>
              </a:spcBef>
              <a:buClr>
                <a:srgbClr val="0645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74154 ES UN DECODIFICADOR DE 4 A 16 LINEAS QUE CONFIGURADO ADECUADAMENTE TAMBIEN PUEDE SER UTILIZADO COMO UN DEMULTIPLEXOR DE 1 A 16 LINE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00:27:28Z</dcterms:created>
  <dc:creator>Pablo Turmero</dc:creator>
  <dc:description/>
  <dc:language>en-US</dc:language>
  <cp:lastModifiedBy>Pablo Turmero</cp:lastModifiedBy>
  <dcterms:modified xsi:type="dcterms:W3CDTF">2015-04-26T19:32:10Z</dcterms:modified>
  <cp:revision>34</cp:revision>
  <dc:subject/>
  <dc:title/>
</cp:coreProperties>
</file>