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8E73B8-7850-4993-97D9-8ECDBCC0D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E21DB-6D8D-43DA-BDEE-72D7E00703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DD1392-C723-410C-9A8F-2FA727DA4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78E15-5851-4677-BC91-F9645C1E9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8E52-7470-4E52-9EE2-E7D200A1CE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FD2566-ED76-418F-B558-E50A9FC87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4D6F0-CD9D-4F26-90DA-B330566406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B023E-0667-402C-BE0F-C2EF9C3C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CF0C0-33B1-4E9C-B481-B7F3D850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6260-9856-4D88-B06D-AD366FEA13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7746C-3722-4C7A-B1C6-EEB830911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01E6D-E7F3-4064-978F-F48E30749E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GT"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B59E4-842B-4A70-A171-4B32D504FBC2}" type="slidenum">
              <a:rPr b="0" lang="es-GT"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s.wikipedia.org/wiki/Tarjeta_Octopus"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92280"/>
            <a:ext cx="777240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UNIVERSIDAD GALILEO</a:t>
            </a:r>
            <a:br>
              <a:rPr sz="2000"/>
            </a:br>
            <a:r>
              <a:rPr b="0" lang="es-GT" sz="2000" spc="-1" strike="noStrike">
                <a:solidFill>
                  <a:srgbClr val="000000"/>
                </a:solidFill>
                <a:latin typeface="Calibri"/>
                <a:ea typeface="Arial"/>
              </a:rPr>
              <a:t>IDEA </a:t>
            </a:r>
            <a:br>
              <a:rPr sz="2000"/>
            </a:br>
            <a:r>
              <a:rPr b="0" lang="es-GT" sz="2000" spc="-1" strike="noStrike">
                <a:solidFill>
                  <a:srgbClr val="000000"/>
                </a:solidFill>
                <a:latin typeface="Calibri"/>
                <a:ea typeface="Arial"/>
              </a:rPr>
              <a:t>CEI: Central</a:t>
            </a:r>
            <a:br>
              <a:rPr sz="2000"/>
            </a:br>
            <a:r>
              <a:rPr b="0" lang="es-GT" sz="2000" spc="-1" strike="noStrike">
                <a:solidFill>
                  <a:srgbClr val="000000"/>
                </a:solidFill>
                <a:latin typeface="Calibri"/>
                <a:ea typeface="Arial"/>
              </a:rPr>
              <a:t>Nombre de la Carrera: LITA</a:t>
            </a:r>
            <a:br>
              <a:rPr sz="2000"/>
            </a:br>
            <a:r>
              <a:rPr b="0" lang="es-GT" sz="2000" spc="-1" strike="noStrike">
                <a:solidFill>
                  <a:srgbClr val="000000"/>
                </a:solidFill>
                <a:latin typeface="Calibri"/>
                <a:ea typeface="Arial"/>
              </a:rPr>
              <a:t>Curso: Comercio Electrónico</a:t>
            </a:r>
            <a:br>
              <a:rPr sz="4000"/>
            </a:br>
            <a:endParaRPr b="0" lang="en-US" sz="2000" spc="-1" strike="noStrike">
              <a:solidFill>
                <a:srgbClr val="000000"/>
              </a:solidFill>
              <a:latin typeface="Calibri"/>
            </a:endParaRPr>
          </a:p>
        </p:txBody>
      </p:sp>
      <p:sp>
        <p:nvSpPr>
          <p:cNvPr id="42" name="PlaceHolder 2"/>
          <p:cNvSpPr>
            <a:spLocks noGrp="1"/>
          </p:cNvSpPr>
          <p:nvPr>
            <p:ph type="subTitle"/>
          </p:nvPr>
        </p:nvSpPr>
        <p:spPr>
          <a:xfrm>
            <a:off x="1371600" y="2492280"/>
            <a:ext cx="6400800" cy="3600720"/>
          </a:xfrm>
          <a:prstGeom prst="rect">
            <a:avLst/>
          </a:prstGeom>
          <a:noFill/>
          <a:ln w="0">
            <a:noFill/>
          </a:ln>
        </p:spPr>
        <p:txBody>
          <a:bodyPr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MEDIOS DE PAGO/ DINERO ELECTRONICO O DIGITAL</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PUBLICIDAD EN INTERNET</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Arial"/>
              </a:rPr>
              <a:t>PC ZOMBIE, PHISHING, SPIM, SPEAR PHISHING, RANSOMWARE, SPAM, SCAM, PRINCIPALES ESTAFAS EN LAS REDES SOCIALES</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 </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Vasquez García, Mirna Liceth</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Carné 9710421</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	</a:t>
            </a:r>
            <a:r>
              <a:rPr b="0" lang="es-GT" sz="2000" spc="-1" strike="noStrike">
                <a:solidFill>
                  <a:srgbClr val="000000"/>
                </a:solidFill>
                <a:latin typeface="Calibri"/>
                <a:ea typeface="Arial"/>
              </a:rPr>
              <a:t>Fecha 01 de Marzo del 2015</a:t>
            </a:r>
            <a:endParaRPr b="0" lang="en-US" sz="2000" spc="-1" strike="noStrike">
              <a:solidFill>
                <a:srgbClr val="000000"/>
              </a:solidFill>
              <a:latin typeface="Calibri"/>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MECANISMOS UTILIZADOS</a:t>
            </a:r>
            <a:br>
              <a:rPr sz="4000"/>
            </a:br>
            <a:endParaRPr b="0" lang="en-US" sz="40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 elección del medio o los medios publicitarios a utilizar dependerá básicamente del tipo de producto o servicio que quieran anunciar, el perfil de nuestro público objetivo (por ejemplo, si nuestro público objetivo está conformado por un público joven, un medio adecuado serían las redes sociales) y el presupuesto publicitario.</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itios web de terceros</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MECANISMOS UTILIZADO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rogramas Publicitar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dWords de Goog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Redes Socia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itios de Anuncios Clasific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orreo Electrónic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Otros Medios: Páginas amarillas, Directorios web, Sitios de pago por clic o sitios</a:t>
            </a:r>
            <a:r>
              <a:rPr b="0" i="1" lang="es-GT"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COSTOS Y BENEFICIOS</a:t>
            </a:r>
            <a:br>
              <a:rPr sz="4000"/>
            </a:br>
            <a:endParaRPr b="0" lang="en-US" sz="40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000" spc="-1" strike="noStrike">
                <a:solidFill>
                  <a:srgbClr val="000000"/>
                </a:solidFill>
                <a:latin typeface="Calibri"/>
              </a:rPr>
              <a:t>COSTOS</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obrar el pago sólo del autor, por los vídeos de: publicidad, vídeo arte animación, vídeo arte, y vídeo musical.</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El pago se puede realizar con tarjeta de débito, de crédito y por envío.</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osto por click</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osto por pop up</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osto por adquisición</a:t>
            </a:r>
            <a:endParaRPr b="0" lang="en-US" sz="3000" spc="-1" strike="noStrike">
              <a:solidFill>
                <a:srgbClr val="000000"/>
              </a:solidFill>
              <a:latin typeface="Calibri"/>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BENEFICIO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horra tiemp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Bajos costos y mayores benefici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Mayor audienci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Determinación de necesidad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Riesgos relativamente bajo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Medición de Impacto.</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 publicidad es más flexibl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resencia continua en el mercad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PROGRAMAS AFILIADOS</a:t>
            </a:r>
            <a:br>
              <a:rPr sz="4000"/>
            </a:br>
            <a:endParaRPr b="0" lang="en-US" sz="40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os webmast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marketing de socios en Inter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ommission Jun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lickban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mazon Associ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inksh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Google Ad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PROGRAMAS AFILIADO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Bay Partner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zoogle A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lickboo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hareAS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ocios priv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SOFTWARE PARA PUBLICIDAD EN INTERNET</a:t>
            </a:r>
            <a:br>
              <a:rPr sz="4000"/>
            </a:b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Front-P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Dreamweb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Fla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Fireworks de Macromedi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1859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USANDO FACEBOOK COSTOS Y FORMAS</a:t>
            </a:r>
            <a:br>
              <a:rPr sz="4000"/>
            </a:br>
            <a:endParaRPr b="0" lang="en-US" sz="40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 publicidad en Facebook se hace a través de pequeños anuncios que se ubican en la columna lateral derecha de sus páginas. Estos anuncios constan de una imagen, un título, una breve descripción de lo anunciado y el enlace al cual irán los visitantes cuando hagan clic en dicho anunci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Costos</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pago de este tipo de publicidad se carga cuando una persona hacer clic sobre el anuncio y no antes, es decir el Pago es Por Clic (PPC) y no por exposición del anunci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s tarifas de este tipo de publicidad son variables de acuerdo al país en el cual será presenta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Forma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nunc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vent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Historias patrocinad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ost Promocional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539640" y="9079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MEDIOS DE PAGO/ DINERO ELECTRONICO O DIGITAL</a:t>
            </a:r>
            <a:br>
              <a:rPr sz="4000"/>
            </a:br>
            <a:endParaRPr b="0" lang="en-US" sz="4000" spc="-1" strike="noStrike">
              <a:solidFill>
                <a:srgbClr val="000000"/>
              </a:solidFill>
              <a:latin typeface="Calibri"/>
            </a:endParaRPr>
          </a:p>
        </p:txBody>
      </p:sp>
      <p:sp>
        <p:nvSpPr>
          <p:cNvPr id="44" name="PlaceHolder 2"/>
          <p:cNvSpPr>
            <a:spLocks noGrp="1"/>
          </p:cNvSpPr>
          <p:nvPr>
            <p:ph type="subTitle"/>
          </p:nvPr>
        </p:nvSpPr>
        <p:spPr>
          <a:xfrm>
            <a:off x="1476360" y="2565000"/>
            <a:ext cx="6400800" cy="2592360"/>
          </a:xfrm>
          <a:prstGeom prst="rect">
            <a:avLst/>
          </a:prstGeom>
          <a:noFill/>
          <a:ln w="0">
            <a:noFill/>
          </a:ln>
        </p:spPr>
        <p:txBody>
          <a:bodyPr anchor="t">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onocido como e-money, efectivo electrónico, moneda electrónica, dinero digital, efectivo digital o moneda digital) se refiere a dinero que se intercambia sólo de forma electrónica.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498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USANDO TWITTER COSTOS Y FORMAS</a:t>
            </a:r>
            <a:br>
              <a:rPr sz="4000"/>
            </a:b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ambién ha ido lanzando alternativas para monetizar su red social, debido a la exigencia de los inversionistas para lograr ganancias y así es como ha lanzado variadas opciones para conseguirla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Costos</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Realización de encuesta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ompra de objetos a través de hashta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reación de series en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Beneficio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emas del Momento Promocionad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weets Promocionad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Cuentas Promocionad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353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EO (SEARCH ENGINE OPTIMIZATION)</a:t>
            </a:r>
            <a:br>
              <a:rPr sz="4000"/>
            </a:br>
            <a:endParaRPr b="0" lang="en-US" sz="4000" spc="-1" strike="noStrike">
              <a:solidFill>
                <a:srgbClr val="000000"/>
              </a:solidFill>
              <a:latin typeface="Calibri"/>
            </a:endParaRPr>
          </a:p>
        </p:txBody>
      </p:sp>
      <p:sp>
        <p:nvSpPr>
          <p:cNvPr id="86"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ambién es común llamarlo Optimización en buscadores u Optimizador de motores de búsqueda. SEO Es el proceso de mejorar la visibilidad de un sitio web en los resultados orgánicos de los diferentes buscadore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SERVICIOS UTILES</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Revisión del contenido y la estructura del siti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Asistencia técnica en el desarrollo de sitios web: por ejemplo, alojamiento, redireccionamientos, páginas de error, uso de JavaScript, etc.</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Desarrollo de contenidos.</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Administración de campañas de desarrollo empresarial online.</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Investigación sobre palabras clave.</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Formación en SEO.</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2700" spc="-1" strike="noStrike">
                <a:solidFill>
                  <a:srgbClr val="000000"/>
                </a:solidFill>
                <a:latin typeface="Calibri"/>
              </a:rPr>
              <a:t>Experiencia en mercados y regiones geográficas específico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EM (SEARCH ENGINE MARKETING)</a:t>
            </a:r>
            <a:br>
              <a:rPr sz="4000"/>
            </a:br>
            <a:endParaRPr b="0" lang="en-US" sz="40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s una forma de Mercadotecnia en Internet que busca promover los sitios web mediante el aumento de su visibilidad en el motor de búsqueda de páginas de resultados (SERP).</a:t>
            </a:r>
            <a:endParaRPr b="0" lang="en-US" sz="3200" spc="-1" strike="noStrike">
              <a:solidFill>
                <a:srgbClr val="000000"/>
              </a:solidFill>
              <a:latin typeface="Calibri"/>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os principales buscadores ofrecen a las empresas la posibilidad de mostrar sus anuncios en los resultados de búsqueda. Google AdWords y Bing A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RSS (REALLY SIMPLE SYNDICATION)</a:t>
            </a:r>
            <a:br>
              <a:rPr sz="4000"/>
            </a:br>
            <a:endParaRPr b="0" lang="en-US" sz="40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s un formato XML para sindicar o compartir contenido en la web.</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e utiliza para difundir información actualizada frecuentemente a usuarios que se han suscrito a la fuente de contenidos.</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formato permite distribuir contenidos sin necesidad de un navegador, utilizando un software diseñado para leer estos contenidos RSS tales como Internet Explor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OTRAS OPCIONES EN LA RED</a:t>
            </a:r>
            <a:br>
              <a:rPr sz="4000"/>
            </a:br>
            <a:endParaRPr b="0" lang="en-US" sz="40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B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sk.</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AOL Search.</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Gigabla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FAS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Netscape Search.</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nap.</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PC ZOMBIE</a:t>
            </a:r>
            <a:br>
              <a:rPr sz="4000"/>
            </a:br>
            <a:endParaRPr b="0" lang="en-US" sz="40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Es la denominación asignada a computadores personales que tras haber sido infectados por algún tipo de malware, pueden ser usados por una tercera persona para ejecutar actividades hostiles. Este uso se produce sin la autorización o el conocimiento del usuario del equipo.</a:t>
            </a:r>
            <a:endParaRPr b="0" lang="en-US" sz="3000" spc="-1" strike="noStrike">
              <a:solidFill>
                <a:srgbClr val="000000"/>
              </a:solidFill>
              <a:latin typeface="Calibri"/>
            </a:endParaRPr>
          </a:p>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Son controlados a distancia sin que su usuario lo sepa, son utilizados por las redes de ciberdelito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PISHING</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uplantación de identidad es un término informático que denomina un modelo de abuso informático y que se comete mediante el uso de un tipo de ingeniería social caracterizado por intentar adquirir información confidencial de forma fraudulent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COMO SE UTILIZA</a:t>
            </a:r>
            <a:br>
              <a:rPr sz="4000"/>
            </a:b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Hasta la fecha, el uso de dinero en efectivo digital se ha efectuado relativamente a baja escala. Uno de los pocos éxitos ha sido sistema de tarjeta</a:t>
            </a:r>
            <a:r>
              <a:rPr b="0" lang="es-GT" sz="3000" spc="-1" strike="noStrike" u="sng">
                <a:solidFill>
                  <a:srgbClr val="0000ff"/>
                </a:solidFill>
                <a:uFillTx/>
                <a:latin typeface="Calibri"/>
                <a:hlinkClick r:id="rId1"/>
              </a:rPr>
              <a:t> </a:t>
            </a:r>
            <a:r>
              <a:rPr b="0" lang="es-GT" sz="3000" spc="-1" strike="noStrike">
                <a:solidFill>
                  <a:srgbClr val="000000"/>
                </a:solidFill>
                <a:latin typeface="Calibri"/>
              </a:rPr>
              <a:t>Octopus en Hong Kong, que comenzó como un Sistema de Pago de tránsito masivo y se ha utilizado ampliamente como un sistema de dinero electrónico. Singapur también ha implementado un sistema de dinero electrónico para su sistema de transporte público (tren, autobús, etc).</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PISHING</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cibercriminal, conocido como phisher, se hace pasar por una persona o empresa de confianza en una aparente comunicación oficial electrónica, por lo común un correo electrónico o algún sistema de mensajería instantánea o incluso utilizando también llamadas telefónica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PIM</a:t>
            </a:r>
            <a:br>
              <a:rPr sz="4000"/>
            </a:b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e trata de una forma de correo basura que llega a las computadoras a través de los servicios de mensajería instantánea, como el Messenger. Utiliza programas robot para rastrear direcciones de agendas de los usuarios para luego enviarles propaganda no deseada en forma de popup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PEAR PHISHING</a:t>
            </a:r>
            <a:br>
              <a:rPr sz="4000"/>
            </a:b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s una estafa focalizada por correo electrónico cuyo único propósito es obtener acceso no autorizado a datos confidenciales. A diferencia de las estafas por phishing, que pueden lanzar ataques amplios y dispersos, el spear phishing se centra en un grupo u organización específicos. La intención es robar propiedad intelectual, datos financieros, secretos comerciales o militares y otros datos confidencial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RANSOMWARE</a:t>
            </a:r>
            <a:br>
              <a:rPr sz="4000"/>
            </a:br>
            <a:endParaRPr b="0" lang="en-US" sz="40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s un tipo de malware (software malintencionado) que los criminales instalan en su PC sin su consentimiento. Ransomware les da a los criminales la capacidad de bloquear su equipo desde una ubicación remota. Luego presentará una ventana emergente con un aviso que dice que su ordenador está bloqueado y afirma que no podrá acceder al mismo a no ser que pague.</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SPAM</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on los mensajes no solicitados, habitualmente de tipo publicitario, enviados en forma masiva. La vía más utilizada es la basada en el correo electrónico pero puede presentarse por programas de mensajería instantánea o por teléfono celular.</a:t>
            </a:r>
            <a:endParaRPr b="0" lang="en-US" sz="32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Spam es el correo electrónico no solicitado, normalmente con contenido publicitario, que se envía de forma masiva.</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CAM</a:t>
            </a:r>
            <a:br>
              <a:rPr sz="4000"/>
            </a:br>
            <a:endParaRPr b="0" lang="en-US" sz="40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s un término anglosajón que se emplea familiarmente para referirse a una red de corrupción. Hoy también se usa para definir los intentos de estafa a través de un correo electrónico fraudulento o páginas web fraudulenta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PRINCIPALES ESTAFAS EN LAS REDES SOCIALES</a:t>
            </a:r>
            <a:br>
              <a:rPr sz="4400"/>
            </a:b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wit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Facebook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OFTWARE</a:t>
            </a:r>
            <a:br>
              <a:rPr sz="4000"/>
            </a:br>
            <a:endParaRPr b="0" lang="en-US" sz="4000" spc="-1" strike="noStrike">
              <a:solidFill>
                <a:srgbClr val="000000"/>
              </a:solidFill>
              <a:latin typeface="Calibri"/>
            </a:endParaRPr>
          </a:p>
        </p:txBody>
      </p:sp>
      <p:sp>
        <p:nvSpPr>
          <p:cNvPr id="11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Instalar el software de seguridad más reciente y manténgalo actualizado.</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os firewalls, programas antivirus y programas anti malware son fundamentales para proteger su información.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os parches de software o las actualizaciones generalmente solucionan los problemas o vulnerabilidades de un progra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SOFTWARE</a:t>
            </a:r>
            <a:br>
              <a:rPr sz="4000"/>
            </a:b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s compañías de software lanzan una versión nueva de su softwar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GetNetWis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ophos Threatsarus</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La alianza de seguridad cibernética.</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McAfee.</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riveaz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El dinero electrónico o digital es una representación o un sistema de débitos y créditos, destinado (pero no limitado a esto) al intercambio de valores en el marco de un sistema, o como un sistema independiente, pudiendo ser en línea o no.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400" spc="-1" strike="noStrike">
                <a:solidFill>
                  <a:srgbClr val="000000"/>
                </a:solidFill>
                <a:latin typeface="Calibri"/>
              </a:rPr>
              <a:t>PROVEEDOR EN INTERNE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ervicios Bancarios, incluidas las tarjetas de crédito Visa, MasterCharge, American Express, Optima, Discover, Diners Club, Carte Blanch, JCB, EuroCard.</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ayPal</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Kagi</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4000" spc="-1" strike="noStrike">
                <a:solidFill>
                  <a:srgbClr val="000000"/>
                </a:solidFill>
                <a:latin typeface="Calibri"/>
              </a:rPr>
              <a:t>OPCIONES DISPONIBLES EN GUATEMALA</a:t>
            </a:r>
            <a:br>
              <a:rPr sz="4000"/>
            </a:br>
            <a:endParaRPr b="0" lang="en-US" sz="40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arjetas de Crédit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arjetas de Débito</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aypa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krill</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Western Unio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Pagos Seguro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Saldo en cuenta</a:t>
            </a:r>
            <a:endParaRPr b="0" lang="en-US" sz="3200" spc="-1" strike="noStrike">
              <a:solidFill>
                <a:srgbClr val="000000"/>
              </a:solidFill>
              <a:latin typeface="Calibri"/>
            </a:endParaRPr>
          </a:p>
          <a:p>
            <a:pPr marL="514440" indent="-514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282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800" spc="-1" strike="noStrike">
                <a:solidFill>
                  <a:srgbClr val="000000"/>
                </a:solidFill>
                <a:latin typeface="Calibri"/>
              </a:rPr>
              <a:t>MODALIDAD O DENOMINACION DEL FORMATO</a:t>
            </a:r>
            <a:br>
              <a:rPr sz="3800"/>
            </a:br>
            <a:endParaRPr b="0" lang="en-US" sz="38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GT" sz="3000" spc="-1" strike="noStrike">
                <a:solidFill>
                  <a:srgbClr val="000000"/>
                </a:solidFill>
                <a:latin typeface="Calibri"/>
              </a:rPr>
              <a:t>Dinero Plástico</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Es una modalidad de dinero electrónico. Consiste en una tarjeta de plástico, emitida por un banco o una entidad financiera especializada, que autoriza a su portador para pagar con ella el precio de los bienes y servicios que compra y a veces también para obtener anticipos de dinero en efectivo en cantidades limitadas.</a:t>
            </a:r>
            <a:endParaRPr b="0" lang="en-US" sz="3000" spc="-1" strike="noStrike">
              <a:solidFill>
                <a:srgbClr val="000000"/>
              </a:solidFill>
              <a:latin typeface="Calibri"/>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El dinero</a:t>
            </a:r>
            <a:r>
              <a:rPr b="0" i="1" lang="es-GT" sz="3000" spc="-1" strike="noStrike">
                <a:solidFill>
                  <a:srgbClr val="000000"/>
                </a:solidFill>
                <a:latin typeface="Calibri"/>
              </a:rPr>
              <a:t> </a:t>
            </a:r>
            <a:r>
              <a:rPr b="0" lang="es-GT" sz="3000" spc="-1" strike="noStrike">
                <a:solidFill>
                  <a:srgbClr val="000000"/>
                </a:solidFill>
                <a:latin typeface="Calibri"/>
              </a:rPr>
              <a:t>plástico tiene dos modalidades: la tarjeta</a:t>
            </a:r>
            <a:r>
              <a:rPr b="0" i="1" lang="es-GT" sz="3000" spc="-1" strike="noStrike">
                <a:solidFill>
                  <a:srgbClr val="000000"/>
                </a:solidFill>
                <a:latin typeface="Calibri"/>
              </a:rPr>
              <a:t> </a:t>
            </a:r>
            <a:r>
              <a:rPr b="0" lang="es-GT" sz="3000" spc="-1" strike="noStrike">
                <a:solidFill>
                  <a:srgbClr val="000000"/>
                </a:solidFill>
                <a:latin typeface="Calibri"/>
              </a:rPr>
              <a:t>de</a:t>
            </a:r>
            <a:r>
              <a:rPr b="0" i="1" lang="es-GT" sz="3000" spc="-1" strike="noStrike">
                <a:solidFill>
                  <a:srgbClr val="000000"/>
                </a:solidFill>
                <a:latin typeface="Calibri"/>
              </a:rPr>
              <a:t> </a:t>
            </a:r>
            <a:r>
              <a:rPr b="0" lang="es-GT" sz="3000" spc="-1" strike="noStrike">
                <a:solidFill>
                  <a:srgbClr val="000000"/>
                </a:solidFill>
                <a:latin typeface="Calibri"/>
              </a:rPr>
              <a:t>crédito y la tarjeta</a:t>
            </a:r>
            <a:r>
              <a:rPr b="0" i="1" lang="es-GT" sz="3000" spc="-1" strike="noStrike">
                <a:solidFill>
                  <a:srgbClr val="000000"/>
                </a:solidFill>
                <a:latin typeface="Calibri"/>
              </a:rPr>
              <a:t> </a:t>
            </a:r>
            <a:r>
              <a:rPr b="0" lang="es-GT" sz="3000" spc="-1" strike="noStrike">
                <a:solidFill>
                  <a:srgbClr val="000000"/>
                </a:solidFill>
                <a:latin typeface="Calibri"/>
              </a:rPr>
              <a:t>de</a:t>
            </a:r>
            <a:r>
              <a:rPr b="0" i="1" lang="es-GT" sz="3000" spc="-1" strike="noStrike">
                <a:solidFill>
                  <a:srgbClr val="000000"/>
                </a:solidFill>
                <a:latin typeface="Calibri"/>
              </a:rPr>
              <a:t> </a:t>
            </a:r>
            <a:r>
              <a:rPr b="0" lang="es-GT" sz="3000" spc="-1" strike="noStrike">
                <a:solidFill>
                  <a:srgbClr val="000000"/>
                </a:solidFill>
                <a:latin typeface="Calibri"/>
              </a:rPr>
              <a:t>débito</a:t>
            </a:r>
            <a:r>
              <a:rPr b="0" i="1" lang="es-GT" sz="3000" spc="-1" strike="noStrike">
                <a:solidFill>
                  <a:srgbClr val="000000"/>
                </a:solidFill>
                <a:latin typeface="Calibri"/>
              </a:rPr>
              <a:t>.</a:t>
            </a:r>
            <a:r>
              <a:rPr b="0" lang="es-GT"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PUBLICIDAD EN INTERNET</a:t>
            </a:r>
            <a:br>
              <a:rPr sz="4000"/>
            </a:b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GT" sz="3200" spc="-1" strike="noStrike">
                <a:solidFill>
                  <a:srgbClr val="000000"/>
                </a:solidFill>
                <a:latin typeface="Calibri"/>
              </a:rPr>
              <a:t>Tiene como principal herramienta la página web y su contenido, para desarrollar este tipo de publcidad, que incluye los elementos de texto, enlace, banner, web, weblog, blog, logo, anuncio, audio, video y aninación teniendo como finalidad dar a conocer el productos al usuario que está en línea, por medio de estos formato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GT" sz="4000" spc="-1" strike="noStrike">
                <a:solidFill>
                  <a:srgbClr val="000000"/>
                </a:solidFill>
                <a:latin typeface="Calibri"/>
              </a:rPr>
              <a:t>TIPOS DE PUBLICIDAD EN INTERNET</a:t>
            </a:r>
            <a:br>
              <a:rPr sz="4000"/>
            </a:b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A través del messenger, correos electrónicos, acceso a cuentas bancarias, entretenimiento y toda la información necesari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La web</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Blog</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Publicidad en Banners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Publicidad Pop Up</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Lector R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GT" sz="3000" spc="-1" strike="noStrike">
                <a:solidFill>
                  <a:srgbClr val="000000"/>
                </a:solidFill>
                <a:latin typeface="Calibri"/>
              </a:rPr>
              <a:t>Código HTM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3-01T17:48:57Z</dcterms:created>
  <dc:creator>Mirna</dc:creator>
  <dc:description/>
  <dc:language>en-US</dc:language>
  <cp:lastModifiedBy>Fernanda</cp:lastModifiedBy>
  <dcterms:modified xsi:type="dcterms:W3CDTF">2015-03-02T13:25:29Z</dcterms:modified>
  <cp:revision>23</cp:revision>
  <dc:subject/>
  <dc:title>UNIVERSIDAD GALILEO IDEA  CEI: Central Nombre de la Carrera: LITA Curso: Comercio Electrónico </dc:title>
</cp:coreProperties>
</file>