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7E542-FC9D-4F2E-9075-0F083397F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7184-6A8B-4E6A-AF08-B155F38A0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B2E3A4-D176-4852-9B6B-CD62A41318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60266-DFB4-4983-89B4-DE2108AE7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C7077-A272-4B91-BFE1-D41B70093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1F4CD9-C0DB-457C-8344-26B53221B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C7F5F5-7232-4A12-9CB8-0371AC05B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44A82-6101-466A-9981-6E587397C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C0F72F-08B7-407C-B3B9-C0281E579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C1CCB9-9544-4555-80D7-24364C31C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D93BE2-0872-4B6E-8B89-B3207D2365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CB4B54-028D-4EEB-B29A-69C9A081D8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E35C5-C136-4EBC-BE9E-C0BB831F4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0C3947-AFAD-4EC2-9ED8-23DDB18090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C7967A-B245-4062-AA3F-C32A4D5ED0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DF9B59-1B87-4D7D-AE9F-F8040CA4DF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6257A8-E724-4DB6-B382-ED1345132C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786152-99D4-4EDD-BDF2-0586D85816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1F557-CC1F-402D-BF3F-ED509593D8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3DBB8-81A7-48AD-BCB8-E613889706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B042A-174B-401B-ABB0-4BE14BEF29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7659E5-FA84-4665-AE23-B00CEA7778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279C7B-AFD0-4D68-A11E-FCA6B1428D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1D61E-0ACC-4005-BFF1-CE5583FEB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F35BAF-C0AF-489E-B622-71381066DC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F011C2-D99E-41C4-B39D-AD024342C2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B4357A-4BB6-4E50-B15D-4A55F7072F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0FBFFA-9914-41F9-B002-5A486B6034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CB35AD-6F40-4E2B-AFF5-0AED03679B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29348F-D0C7-499A-AB05-24BFCA794F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8BBE17-995D-4704-9182-E40A6FF6B6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829812-509B-4794-B796-B9AF9A5847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23D1BC-2069-4142-94CE-A672A42E12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0BEB87-1CDA-4B7C-ACEE-671E0AABF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5F375-4816-4CFB-AA53-8A7F8609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E7FDF-1C59-474D-A3EB-8114709B27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62D1E0-B75A-4D3E-A697-26C83E16CF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F94E86-7463-43A7-BC30-140AE8C141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150363-907C-4013-9FB2-B6AE65A712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88AD8D-6C5C-44A9-8213-FE1C3C2A21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6DD404-99FA-400E-9E66-5A9B25892C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066190-40DB-4094-873C-2CB8AF4059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4881FB-33CF-46F7-9108-562A96FD0C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0D8558-1CCB-492D-9166-C9A56D96F8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F053E-13F3-46E2-BFAF-AF8FFEE396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CB48E-0A01-4862-92E8-9BD84764B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4BC337-F597-48FE-8C1F-0639640FE9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A9DF3E-225E-4D2C-8F1E-0EC2225040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88E533-6435-466C-A860-D06C90DEEB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CD34D7-AAC4-47C4-B652-B2F2523CE8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CA7B16-3021-4DAA-AB40-0FC45B1469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53AF2B-894C-4DDE-812B-585C2FA4BE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01BE69-EB10-485B-9388-FC47223046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630996-44D3-49B0-820D-E6A76B8675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A80370-6F81-4C7F-9506-3E60A3BDAD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5D16F2-C0DE-4E80-B67B-310FB34834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49194-4002-4070-9099-47D4C6737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EB644F-B7E7-4AC0-BF9D-1F8052E5F8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AB7896-2098-4D8D-94DF-D1FCE3F00D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211E1F-296C-40EE-BEFB-031360A06F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B163E6-3448-4CE0-A40C-D68321179E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D5317F-486A-46DA-AEF8-BF22A795EC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9306A0-051C-4308-B68A-A3B1273500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C8BF7C-81A9-40CE-A080-98968D4643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E963991-2426-41DB-8618-21129DCEC2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FF4767-0E21-4188-8970-699B3EF929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85908F-8783-44BC-8E36-564AD20F08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57501-BA66-4FD0-AFF2-7A32EB558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2025AF-88DB-4778-BEC3-0A2BDEC878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CF2656-B71C-4933-AA9A-67E92459D4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5ACD40-DD96-40F7-BEC8-B9C937EEE5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436FCB-A1FF-41B7-B206-E29F8198A8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081D68-A439-4298-A918-D76B964C6E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FE705E-F2C1-4502-BF88-A1AE1BAFA8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C1967C-886C-49D0-85B8-3B6A4F4937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AEC2144-294D-4FE0-8125-B2CD19CF237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13A386-4C48-4B3C-95C5-6E3F9C4093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213E4A5-467B-48EB-B254-5101F06955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12D9-F6B4-4BEB-80D9-F1D6CC16C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875E9D-5B78-485A-B80C-1BEECE16D1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0D161A-33BA-42A5-B0AB-89C5045B5B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EA3BDD-8337-4F97-A364-C7A4ABD477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A042A6-419F-4620-ACAC-92CC71F111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EF729D-60F7-4417-8637-6014315521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07FC9A-A75A-4787-A32D-7DB4FC9674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F63395-829B-4F5A-9E10-02F31B04D7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7BFC0D-F00C-466A-84BA-D3CE0AD127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3E0CB9-DB81-48AE-85C8-C92B62E756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41DE12-D4CC-4277-A18F-840B35C0430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84B70-0289-486F-8F8D-FC654A6B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6CC9630-41C3-4DC4-9E92-9DE45BE4760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621F6C-DA43-4007-B73A-44B7219709C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259692-06CE-4006-BA4F-6472AC6F0F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5527A6-0BA4-405A-9DDA-633A46277E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797127-C562-4240-9E73-2D2015142B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1B249C-A99A-46FB-8B25-0F494774A1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A5DC2F-B09D-4320-97FB-7695F68289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AC389E-6D9C-4E1A-878B-F27111E3C2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B7F36E-AA59-4E46-AB52-791DB01509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A1CC7D-63F7-413C-8F2E-33370A9E2F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0F21C-37D8-4D5E-8E19-A0FF717BA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78C4D1-A241-456A-BE16-D307F65E40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6B44EA-6C24-4C42-994E-5CB06ABB857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311725-7C5B-40CB-B5E6-0580E37E4D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22778-29AA-439C-880B-CCA46316F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67C34-BAEF-4B39-A2BF-8A49FDFBA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A6F5-B969-4F5E-B0E4-EB2CAFC38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2D650-BF0B-4A90-8703-5BFE46246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55FED-8FFB-424F-BDD8-5E20FE677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09C86-D514-4017-8602-037490EC7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4EA838-30D5-452B-87E9-7B5B686D3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D8BFB-78E7-44F0-AD67-96EFB328E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14225-F93D-4CB3-ACA6-E4D67D2CD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923CA-CDA0-4ECB-A461-535B0577D8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AA1B5-7CB0-4369-946E-7E101D45A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32CB5-69EC-4F72-8793-ED23FBA6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23255-C00A-416C-8B8B-EEBAF477E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6B422-0E3A-4C89-85F7-8799A9B0A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F5F23-F42B-4C5F-9D36-E7184D376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09D3C-9117-4672-9CD4-0B5F16B1E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ED827-098B-4E7B-A73B-E0DFCBA09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1D18E-260A-4D76-963F-26BB1E0F7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F5C88-0C67-4321-A72C-34ECE0D98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B914D1-C2E3-4FCB-942B-214FB29E6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33A3F-E13E-4C97-8A04-18D99E7D2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B4D31-8E2B-4DA4-9A34-2333711D7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773E4-2555-44EE-91D6-17447846F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A3CE4-B3A4-470D-B124-5EDD35575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85775-C496-428E-B3BF-3BCAC474B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5B1CA-5BF6-4B3D-AED9-0EEFC0D6A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35159-4F80-4CCA-8F5A-E48C157C2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FF2BB-8C9A-460B-91D1-05A630010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0E9C2-E417-4513-B366-3702601EF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3F015-4554-4F09-BEF0-A81215820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C07EF-5F52-4DBD-ADD8-5AAB38749C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240501-9A98-41E7-A811-BED14A9F7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272B0-5395-47CE-8FCA-08CB86C6CB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AF97-FA3C-43FD-99F8-106385AA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67432-4A00-4F46-A2B7-5538FEFA3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769A7-F9EA-4401-A437-A645E79EC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7280A-559F-4B2A-9798-7380A02F3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F455B-386B-4A25-B3B0-0F5C17141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3B513-A1AE-44F4-906A-B99F7CF97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00126-313F-426C-9372-0CFF7B6E4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D97A3-4ACC-4E3F-93C6-97EF7ECB9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374BF-EA20-4874-8BB7-D91405AF7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370B2-30D3-4677-B548-72354DA47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277F9-433B-41AE-B26C-02CF6D654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EF11-2FDF-4DAA-8641-45EF8049D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6D74D6-EFE0-449E-9457-68676D7CF1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066392-FFCA-4374-A30E-191C9C22EF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DE3E6-7767-4122-83E6-22B66DC63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30448-A75A-49D2-89CA-9B740896C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AADC5-D9E2-4DCC-A3B3-2C42329AD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A56BC-2E57-41F2-9B1F-B5484940DC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20946-24DC-4FDA-8A04-4817667F42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6C14D-AC6B-4497-B19F-89EED8E8D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D87A6-CCBE-47C3-BAC8-9C55E500F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EED0E-77C5-4691-8A3F-6F1BCC1DB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3BCF-3981-4576-870E-5D6E5C1D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66591-C5E9-473F-93F5-CE278DC4C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9A6F66-2178-4B29-BC3C-BA6ED1EC9D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43A2BC-3227-4E0D-898A-C4438524FF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D2F8C1-D510-4F4B-8886-20B4834411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40D3B-70F0-4B16-ADCD-9EF893EC1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EAFF9-86B0-46E9-9B2E-4E0AF6333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58C4A4-41AA-4218-B94A-46A4DEA8E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804F6-0622-4A91-B8B9-2611838F3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5B93D-F02F-46B2-B3D9-2B651FD51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2B4F9-A2C2-436E-AD97-A40629DDA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1798-C18D-451D-8E0E-89B6AADA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AB832-2830-474B-A5DE-F922273AC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4C708-4B64-4899-A1D7-EE8AB749E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81287-4BBC-45B7-817C-47E2E19685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8A68E-E50F-492D-8BF4-94BBFFF8F7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D673E-5367-4508-B0FD-D58D0DE04B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97BCA2-BA98-4B0F-B424-1502B4FC4B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39B160-6251-4FC4-8D07-0BE9679232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859D0-F5F4-418F-8BAB-FBA1917E04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51C9A-4E1D-44C3-9B79-7E787F526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BA8950-5261-418B-8756-2371FF321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FB37C-854A-48DA-B562-724DCC9F8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BA4C1-2951-4C78-B690-2104A33E67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C5B8F-400F-4C8E-9DD4-7CEFC5532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070CA-3B2F-4876-BC44-7C5CFD19C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72386-1BC8-4D6D-A5C9-88353F778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EBA8B-DEE0-4841-A94B-341BCBDE3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6E2D28-A814-46B9-A761-61CBD6C4A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482FE4-E10E-48DD-993F-113D9607AA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AE9521-7B7F-4646-B18B-44E3D83019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DFA46B-207E-432F-809C-2A005FD86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A4D523-70DC-4C30-B03E-FF6D41D3BF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FD16-7A0F-4259-AFAF-9B9992280FA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4"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 name="PlaceHolder 3"/>
          <p:cNvSpPr>
            <a:spLocks noGrp="1"/>
          </p:cNvSpPr>
          <p:nvPr>
            <p:ph type="dt" idx="28"/>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87"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6DF8-FB5B-4B6D-9A3A-33D7CC4028B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5"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 name="PlaceHolder 3"/>
          <p:cNvSpPr>
            <a:spLocks noGrp="1"/>
          </p:cNvSpPr>
          <p:nvPr>
            <p:ph type="dt" idx="3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28"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07F8-A792-4EEE-A21B-566ED2B88FA7}"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 name="PlaceHolder 3"/>
          <p:cNvSpPr>
            <a:spLocks noGrp="1"/>
          </p:cNvSpPr>
          <p:nvPr>
            <p:ph type="dt" idx="34"/>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69"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6BE1-9F1E-4E12-B89A-4E4C2EA3C41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 name="PlaceHolder 3"/>
          <p:cNvSpPr>
            <a:spLocks noGrp="1"/>
          </p:cNvSpPr>
          <p:nvPr>
            <p:ph type="dt" idx="37"/>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10"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A6CE-B2A1-4085-92D3-D1459672DAB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8"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51" name="PlaceHolder 5"/>
          <p:cNvSpPr>
            <a:spLocks noGrp="1"/>
          </p:cNvSpPr>
          <p:nvPr>
            <p:ph type="sldNum" idx="42"/>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5CA3-6EBC-4673-A8E1-5CD8D4BACE92}"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92" name="PlaceHolder 5"/>
          <p:cNvSpPr>
            <a:spLocks noGrp="1"/>
          </p:cNvSpPr>
          <p:nvPr>
            <p:ph type="sldNum" idx="4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1DD8-5648-4289-86FD-72911CB7EA27}"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1" name="PlaceHolder 3"/>
          <p:cNvSpPr>
            <a:spLocks noGrp="1"/>
          </p:cNvSpPr>
          <p:nvPr>
            <p:ph type="dt" idx="46"/>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633" name="PlaceHolder 5"/>
          <p:cNvSpPr>
            <a:spLocks noGrp="1"/>
          </p:cNvSpPr>
          <p:nvPr>
            <p:ph type="sldNum" idx="48"/>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A098-80D2-4AE4-9452-000268EC005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0645c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359A-EA65-46DB-8240-D14D4C6DA612}" type="slidenum">
              <a:rPr b="1"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4565-EAB3-44CE-A114-ACA8C43651F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8"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 name="PlaceHolder 3"/>
          <p:cNvSpPr>
            <a:spLocks noGrp="1"/>
          </p:cNvSpPr>
          <p:nvPr>
            <p:ph type="dt" idx="10"/>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41"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3751-3412-43AB-8654-135C4DA69420}"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 name="PlaceHolder 3"/>
          <p:cNvSpPr>
            <a:spLocks noGrp="1"/>
          </p:cNvSpPr>
          <p:nvPr>
            <p:ph type="dt" idx="13"/>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82"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0025-13CE-4064-A5E6-76878F5928AF}"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223"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B5E9-3A23-4A1E-B499-131861F1CB0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0571-43C6-4723-B91E-32D9FF1AE34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2"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 name="PlaceHolder 3"/>
          <p:cNvSpPr>
            <a:spLocks noGrp="1"/>
          </p:cNvSpPr>
          <p:nvPr>
            <p:ph type="dt" idx="22"/>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05"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95F0-00FD-4758-A28A-8650FB942AEB}"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3"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 name="PlaceHolder 3"/>
          <p:cNvSpPr>
            <a:spLocks noGrp="1"/>
          </p:cNvSpPr>
          <p:nvPr>
            <p:ph type="dt" idx="25"/>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46"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5D95-3B74-4B4F-8A59-56B6CBD22B16}"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LOS FLIP-FLOP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Marcador de número de diapositiva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CBE1-2B02-4DF1-AF7E-ADF0C6CF1EA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TRADAS ASINCRONAS EN LOS FLIP-FLOPS</a:t>
            </a:r>
            <a:endParaRPr b="0" lang="en-US" sz="4000" spc="-1" strike="noStrike">
              <a:solidFill>
                <a:srgbClr val="000000"/>
              </a:solidFill>
              <a:latin typeface="Times New Roman"/>
            </a:endParaRPr>
          </a:p>
        </p:txBody>
      </p:sp>
      <p:sp>
        <p:nvSpPr>
          <p:cNvPr id="71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TRADAS ASINCRONAS SE PUEDEN UTILIZAR PARA FIJAR AL FF EN EL ESTADO  “UNO” O EN EL ESTADO “CERO”, EN CUALQUIER INSTANTE, SIN IMPORTAR LAS CONDICIONES PRESENTES EN LAS OTRAS ENTRADAS. DICHO DE OTRA MANERA, LAS ENTRADAS ASINCRONAS SON ENTRADAS DOMINANTES QUE PUEDEN SERVIR PARA IGNORAR TODAS LAS OTRAS ENTRADAS A FIN DE COLOCAR AL FF EN UN ESTADO O EN EL OT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D627-4AE3-4CF0-8398-29A2AC215203}"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FLIP-FLOP J-K CON ENTRADAS ASINCRONAS</a:t>
            </a:r>
            <a:endParaRPr b="0" lang="en-US" sz="4000" spc="-1" strike="noStrike">
              <a:solidFill>
                <a:srgbClr val="000000"/>
              </a:solidFill>
              <a:latin typeface="Times New Roman"/>
            </a:endParaRPr>
          </a:p>
        </p:txBody>
      </p:sp>
      <p:sp>
        <p:nvSpPr>
          <p:cNvPr id="714" name="PlaceHolder 2"/>
          <p:cNvSpPr>
            <a:spLocks noGrp="1"/>
          </p:cNvSpPr>
          <p:nvPr>
            <p:ph/>
          </p:nvPr>
        </p:nvSpPr>
        <p:spPr>
          <a:xfrm>
            <a:off x="457200" y="1828440"/>
            <a:ext cx="8291520" cy="2320920"/>
          </a:xfrm>
          <a:prstGeom prst="rect">
            <a:avLst/>
          </a:prstGeom>
          <a:noFill/>
          <a:ln w="0">
            <a:noFill/>
          </a:ln>
        </p:spPr>
        <p:txBody>
          <a:bodyPr anchor="t">
            <a:normAutofit/>
          </a:bodyPr>
          <a:p>
            <a:pPr marL="469800" indent="-469800">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TRADAS ASINCRONAS SE DESIGNAN COMO PRESTABLECER Y RESTABLECER, ESTAS SON ACTIVAS A BAJO COMO LO INDICAN LAS PEQUEÑAS BURBUJAS EN EL SIMBOLO DEL FF.</a:t>
            </a:r>
            <a:endParaRPr b="0" lang="en-US" sz="2800" spc="-1" strike="noStrike">
              <a:solidFill>
                <a:srgbClr val="000000"/>
              </a:solidFill>
              <a:latin typeface="Times New Roman"/>
            </a:endParaRPr>
          </a:p>
        </p:txBody>
      </p:sp>
      <p:graphicFrame>
        <p:nvGraphicFramePr>
          <p:cNvPr id="715" name="Object 4"/>
          <p:cNvGraphicFramePr/>
          <p:nvPr/>
        </p:nvGraphicFramePr>
        <p:xfrm>
          <a:off x="1258920" y="4221000"/>
          <a:ext cx="6408720" cy="1955880"/>
        </p:xfrm>
        <a:graphic>
          <a:graphicData uri="http://schemas.openxmlformats.org/presentationml/2006/ole">
            <p:oleObj r:id="rId1" spid="">
              <p:embed/>
              <p:pic>
                <p:nvPicPr>
                  <p:cNvPr id="716" name="Object 4" descr=""/>
                  <p:cNvPicPr/>
                  <p:nvPr/>
                </p:nvPicPr>
                <p:blipFill>
                  <a:blip r:embed="rId2"/>
                  <a:stretch/>
                </p:blipFill>
                <p:spPr>
                  <a:xfrm>
                    <a:off x="1258920" y="4221000"/>
                    <a:ext cx="640872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Marcador de número de diapositiva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25D0-8A82-431F-9E28-F26912CCCE7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LIP-FLOPS EN CI</a:t>
            </a:r>
            <a:endParaRPr b="0" lang="en-US" sz="4400" spc="-1" strike="noStrike">
              <a:solidFill>
                <a:srgbClr val="000000"/>
              </a:solidFill>
              <a:latin typeface="Times New Roman"/>
            </a:endParaRPr>
          </a:p>
        </p:txBody>
      </p:sp>
      <p:sp>
        <p:nvSpPr>
          <p:cNvPr id="71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MERCADO SE ENCUAENTRAN DISTINTOS ENCAPSULADOS PARA FLIP-FLOPS J-K, TIPO DE, S-C. POR LO GENERAL EN CADA CAPSULA VIENE MÁS DE UN FLIP-FLOP. A CONTINUACION SE MENCIONAN ALGUNOS CI DISPONIBLES:</a:t>
            </a: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74107 CONTIENE DOS FF J-K  CON CLK Y CLEAR ACTIVOS A BAJO</a:t>
            </a: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74LS76 CONTIENE DOS FF J-K CON CLK PRESTABLECER Y CLEAR ACTIVOS A BAJO</a:t>
            </a: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74LS74 CONTIENE DOS FF TIPO D CON CLK, PRESTABLECER Y CLEAR ACTIVOS A BAJO</a:t>
            </a: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74LS75 CONTIENE CUATRO FLIP-FLOPS TIPO D SIMPLES CON CLK ACTIVO A NIVEL LÓGICO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Marcador de número de diapositiva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AFBC-F545-4988-999A-CB6F5567D08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67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STA AHORA SE HAN ANALIZADO CIRCUITOS CUYA SALIDA DEPENDE DEL ESTADO ACTUAL DE SUS ENTRADAS. ES DECIR QUE; SI LAS ENTRADAS CAMBIAN, LA SALIDA TAMBIEN CAMBIA.</a:t>
            </a:r>
            <a:endParaRPr b="0" lang="en-US" sz="2800" spc="-1" strike="noStrike">
              <a:solidFill>
                <a:srgbClr val="000000"/>
              </a:solidFill>
              <a:latin typeface="Times New Roman"/>
            </a:endParaRPr>
          </a:p>
          <a:p>
            <a:pPr marL="469800" indent="-469800">
              <a:lnSpc>
                <a:spcPct val="8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STA SECCIÓN SE VA A ESTUDIAR CIRCUITOS CAPACES DE ALMACENAR INFORMACIÓN, ES DECIR DISPOSITIVOS CON LA CAPACIDAD DE MEMORIZAR UN ESTADO. (LA SALIDA PERMANECE EN UN ESTADO, AUNQUE LA ENTRADA YA HAYA CAMBI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7CEC-B1DD-4547-AB1A-198C038A77F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GISTRO BASICO NAND</a:t>
            </a:r>
            <a:endParaRPr b="0" lang="en-US" sz="4400" spc="-1" strike="noStrike">
              <a:solidFill>
                <a:srgbClr val="000000"/>
              </a:solidFill>
              <a:latin typeface="Times New Roman"/>
            </a:endParaRPr>
          </a:p>
        </p:txBody>
      </p:sp>
      <p:sp>
        <p:nvSpPr>
          <p:cNvPr id="67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TEAR: COLOCAR UN NIVEL LOGICO ALTO EN LA SALIDA Q</a:t>
            </a:r>
            <a:endParaRPr b="0" lang="en-US" sz="2800" spc="-1" strike="noStrike">
              <a:solidFill>
                <a:srgbClr val="000000"/>
              </a:solidFill>
              <a:latin typeface="Times New Roman"/>
            </a:endParaRPr>
          </a:p>
          <a:p>
            <a:pPr marL="469800" indent="-469800">
              <a:lnSpc>
                <a:spcPct val="9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ETEAR: LIMPIAR (PONER EN CERO) LA SALIDA Q</a:t>
            </a:r>
            <a:endParaRPr b="0" lang="en-US" sz="2800" spc="-1" strike="noStrike">
              <a:solidFill>
                <a:srgbClr val="000000"/>
              </a:solidFill>
              <a:latin typeface="Times New Roman"/>
            </a:endParaRPr>
          </a:p>
          <a:p>
            <a:pPr marL="469800" indent="-469800">
              <a:lnSpc>
                <a:spcPct val="9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T=0 Q=1</a:t>
            </a:r>
            <a:endParaRPr b="0" lang="en-US" sz="2800" spc="-1" strike="noStrike">
              <a:solidFill>
                <a:srgbClr val="000000"/>
              </a:solidFill>
              <a:latin typeface="Times New Roman"/>
            </a:endParaRPr>
          </a:p>
          <a:p>
            <a:pPr marL="469800" indent="-469800">
              <a:lnSpc>
                <a:spcPct val="9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ET=0 Q=0</a:t>
            </a:r>
            <a:endParaRPr b="0" lang="en-US" sz="2800" spc="-1" strike="noStrike">
              <a:solidFill>
                <a:srgbClr val="000000"/>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77" name="Object 4"/>
          <p:cNvGraphicFramePr/>
          <p:nvPr/>
        </p:nvGraphicFramePr>
        <p:xfrm>
          <a:off x="5419800" y="2173320"/>
          <a:ext cx="2495520" cy="3611520"/>
        </p:xfrm>
        <a:graphic>
          <a:graphicData uri="http://schemas.openxmlformats.org/presentationml/2006/ole">
            <p:oleObj r:id="rId1" spid="">
              <p:embed/>
              <p:pic>
                <p:nvPicPr>
                  <p:cNvPr id="678" name="Object 4" descr=""/>
                  <p:cNvPicPr/>
                  <p:nvPr/>
                </p:nvPicPr>
                <p:blipFill>
                  <a:blip r:embed="rId2"/>
                  <a:stretch/>
                </p:blipFill>
                <p:spPr>
                  <a:xfrm>
                    <a:off x="5419800" y="2173320"/>
                    <a:ext cx="2495520" cy="36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3CC1-B643-42A7-9ACF-4377BB906AC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GISTRO BASICO NOR</a:t>
            </a:r>
            <a:endParaRPr b="0" lang="en-US" sz="4400" spc="-1" strike="noStrike">
              <a:solidFill>
                <a:srgbClr val="000000"/>
              </a:solidFill>
              <a:latin typeface="Times New Roman"/>
            </a:endParaRPr>
          </a:p>
        </p:txBody>
      </p:sp>
      <p:sp>
        <p:nvSpPr>
          <p:cNvPr id="681"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T=1 Q=1</a:t>
            </a: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ET=1 Q=0</a:t>
            </a:r>
            <a:endParaRPr b="0" lang="en-US" sz="2000" spc="-1" strike="noStrike">
              <a:solidFill>
                <a:srgbClr val="000000"/>
              </a:solidFill>
              <a:latin typeface="Times New Roman"/>
            </a:endParaRPr>
          </a:p>
          <a:p>
            <a:pPr marL="469800" indent="-469800">
              <a:lnSpc>
                <a:spcPct val="8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OTE QUE EL REGISTRO BASICO NOR ES ACTIVO A NIVELES LOGICOS ALTOS, ES DECIR SI COLOCAMOS “UNO” EN SET Q=1; SI COLOCAMOS “UNO” EN RESET Q=0. POR EL CONTRARIO EL REGISTRO BASICO NAND ES ACTIVO CON NIVELES LÓGICOS BAJOS. SI COLOCAMOS “CERO” EN SET Q=1 Y SI COLOCAMOS “CERO” EN RESET Q=0.</a:t>
            </a:r>
            <a:endParaRPr b="0" lang="en-US" sz="2000" spc="-1" strike="noStrike">
              <a:solidFill>
                <a:srgbClr val="000000"/>
              </a:solidFill>
              <a:latin typeface="Times New Roman"/>
            </a:endParaRPr>
          </a:p>
        </p:txBody>
      </p:sp>
      <p:graphicFrame>
        <p:nvGraphicFramePr>
          <p:cNvPr id="682" name="Object 4"/>
          <p:cNvGraphicFramePr/>
          <p:nvPr/>
        </p:nvGraphicFramePr>
        <p:xfrm>
          <a:off x="5419800" y="2173320"/>
          <a:ext cx="2495520" cy="3611520"/>
        </p:xfrm>
        <a:graphic>
          <a:graphicData uri="http://schemas.openxmlformats.org/presentationml/2006/ole">
            <p:oleObj r:id="rId1" spid="">
              <p:embed/>
              <p:pic>
                <p:nvPicPr>
                  <p:cNvPr id="683" name="Object 4" descr=""/>
                  <p:cNvPicPr/>
                  <p:nvPr/>
                </p:nvPicPr>
                <p:blipFill>
                  <a:blip r:embed="rId2"/>
                  <a:stretch/>
                </p:blipFill>
                <p:spPr>
                  <a:xfrm>
                    <a:off x="5419800" y="2173320"/>
                    <a:ext cx="2495520" cy="36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935F-AACC-41A3-9D35-AE2A6E703559}"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SEÑAL DE RELOJ Y FLIP-FLOPS SINCRONIZADOS POR RELOJ</a:t>
            </a:r>
            <a:endParaRPr b="0" lang="en-US" sz="4000" spc="-1" strike="noStrike">
              <a:solidFill>
                <a:srgbClr val="000000"/>
              </a:solidFill>
              <a:latin typeface="Times New Roman"/>
            </a:endParaRPr>
          </a:p>
        </p:txBody>
      </p:sp>
      <p:sp>
        <p:nvSpPr>
          <p:cNvPr id="68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ÑAL DE RELOJ (CLOCK) ES UNA ONDA CUADRADA QUE SIRVE PARA SINCRONIZAR EVENTOS</a:t>
            </a:r>
            <a:endParaRPr b="0" lang="en-US" sz="2000" spc="-1" strike="noStrike">
              <a:solidFill>
                <a:srgbClr val="000000"/>
              </a:solidFill>
              <a:latin typeface="Times New Roman"/>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PN: TRANSICION CON PENDIENTE NEGATIVA CUANDO LA ONDA PASA DE “UNO” A “CERO”</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PP: TRANSICION CON PENDIENTE POSITIVA CUANDO LA ONDA PASA DE “CERO” A “UNO”</a:t>
            </a:r>
            <a:endParaRPr b="0" lang="en-US" sz="2000" spc="-1" strike="noStrike">
              <a:solidFill>
                <a:srgbClr val="000000"/>
              </a:solidFill>
              <a:latin typeface="Times New Roman"/>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87" name="Object 6"/>
          <p:cNvGraphicFramePr/>
          <p:nvPr/>
        </p:nvGraphicFramePr>
        <p:xfrm>
          <a:off x="4648320" y="1960560"/>
          <a:ext cx="4038480" cy="4038480"/>
        </p:xfrm>
        <a:graphic>
          <a:graphicData uri="http://schemas.openxmlformats.org/presentationml/2006/ole">
            <p:oleObj r:id="rId1" spid="">
              <p:embed/>
              <p:pic>
                <p:nvPicPr>
                  <p:cNvPr id="688" name="Object 6" descr=""/>
                  <p:cNvPicPr/>
                  <p:nvPr/>
                </p:nvPicPr>
                <p:blipFill>
                  <a:blip r:embed="rId2"/>
                  <a:stretch/>
                </p:blipFill>
                <p:spPr>
                  <a:xfrm>
                    <a:off x="4648320" y="1960560"/>
                    <a:ext cx="4038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439D-E7A8-477F-A28B-F23B276E6DF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FLIP-FLOP S-R SINCRONIZADO POR RELOJ</a:t>
            </a:r>
            <a:endParaRPr b="0" lang="en-US" sz="4000" spc="-1" strike="noStrike">
              <a:solidFill>
                <a:srgbClr val="000000"/>
              </a:solidFill>
              <a:latin typeface="Times New Roman"/>
            </a:endParaRPr>
          </a:p>
        </p:txBody>
      </p:sp>
      <p:sp>
        <p:nvSpPr>
          <p:cNvPr id="691"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FIGURA SE MUESTRA UN FF QUE FUNCIONA COMO UN REGISTRO BASICO NOR, PERO ADEMAS NECESITA DE UNA TPP PARA CAMBIAR DE ESTADO LA SALIDA</a:t>
            </a:r>
            <a:endParaRPr b="0" lang="en-US" sz="2800" spc="-1" strike="noStrike">
              <a:solidFill>
                <a:srgbClr val="000000"/>
              </a:solidFill>
              <a:latin typeface="Times New Roman"/>
            </a:endParaRPr>
          </a:p>
        </p:txBody>
      </p:sp>
      <p:graphicFrame>
        <p:nvGraphicFramePr>
          <p:cNvPr id="692" name="Object 4"/>
          <p:cNvGraphicFramePr/>
          <p:nvPr/>
        </p:nvGraphicFramePr>
        <p:xfrm>
          <a:off x="5216400" y="2276640"/>
          <a:ext cx="2882880" cy="3384360"/>
        </p:xfrm>
        <a:graphic>
          <a:graphicData uri="http://schemas.openxmlformats.org/presentationml/2006/ole">
            <p:oleObj r:id="rId1" spid="">
              <p:embed/>
              <p:pic>
                <p:nvPicPr>
                  <p:cNvPr id="693" name="Object 4" descr=""/>
                  <p:cNvPicPr/>
                  <p:nvPr/>
                </p:nvPicPr>
                <p:blipFill>
                  <a:blip r:embed="rId2"/>
                  <a:stretch/>
                </p:blipFill>
                <p:spPr>
                  <a:xfrm>
                    <a:off x="5216400" y="2276640"/>
                    <a:ext cx="2882880" cy="33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F528-A14D-4FB3-8E38-D223730DC1B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FLIP-FLOP J-K SICRONIZADO POR RELOJ</a:t>
            </a:r>
            <a:endParaRPr b="0" lang="en-US" sz="4000" spc="-1" strike="noStrike">
              <a:solidFill>
                <a:srgbClr val="000000"/>
              </a:solidFill>
              <a:latin typeface="Times New Roman"/>
            </a:endParaRPr>
          </a:p>
        </p:txBody>
      </p:sp>
      <p:sp>
        <p:nvSpPr>
          <p:cNvPr id="69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UN FF QUE FUNCIONA COMO EL FF S-R, PERO CON UNA VENTAJA, SE ELIMINA LA POSIBILIDAD DE UNA SALIDA INVALIDA, CUANDO LAS ENTRADAS J=1 y K=1 Q SE COMPLEMENTA; ES DECIR SI Q=0 PASA A Q=1; Ó SI Q=1 PASA Q=0.</a:t>
            </a:r>
            <a:endParaRPr b="0" lang="en-US" sz="2000" spc="-1" strike="noStrike">
              <a:solidFill>
                <a:srgbClr val="000000"/>
              </a:solidFill>
              <a:latin typeface="Times New Roman"/>
            </a:endParaRPr>
          </a:p>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FIGURA SE MUESTRA UN FF J-K CON TPN</a:t>
            </a:r>
            <a:endParaRPr b="0" lang="en-US" sz="2000" spc="-1" strike="noStrike">
              <a:solidFill>
                <a:srgbClr val="000000"/>
              </a:solidFill>
              <a:latin typeface="Times New Roman"/>
            </a:endParaRPr>
          </a:p>
        </p:txBody>
      </p:sp>
      <p:graphicFrame>
        <p:nvGraphicFramePr>
          <p:cNvPr id="697" name="Object 4"/>
          <p:cNvGraphicFramePr/>
          <p:nvPr/>
        </p:nvGraphicFramePr>
        <p:xfrm>
          <a:off x="5019840" y="2060640"/>
          <a:ext cx="3709800" cy="4321080"/>
        </p:xfrm>
        <a:graphic>
          <a:graphicData uri="http://schemas.openxmlformats.org/presentationml/2006/ole">
            <p:oleObj r:id="rId1" spid="">
              <p:embed/>
              <p:pic>
                <p:nvPicPr>
                  <p:cNvPr id="698" name="Object 4" descr=""/>
                  <p:cNvPicPr/>
                  <p:nvPr/>
                </p:nvPicPr>
                <p:blipFill>
                  <a:blip r:embed="rId2"/>
                  <a:stretch/>
                </p:blipFill>
                <p:spPr>
                  <a:xfrm>
                    <a:off x="5019840" y="2060640"/>
                    <a:ext cx="370980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711B-5B4C-48CD-B5FF-6AD8BFDDAC76}"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FLIP-FLOP TIPO D SINCRONIZADO POR RELOJ</a:t>
            </a:r>
            <a:endParaRPr b="0" lang="en-US" sz="4000" spc="-1" strike="noStrike">
              <a:solidFill>
                <a:srgbClr val="000000"/>
              </a:solidFill>
              <a:latin typeface="Times New Roman"/>
            </a:endParaRPr>
          </a:p>
        </p:txBody>
      </p:sp>
      <p:sp>
        <p:nvSpPr>
          <p:cNvPr id="701"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60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AMBIEN SE LE CONOCE COMO REGISTRO TRANSPARENTE, PORQUE EN SU SALIDA APARECE LO MISMO QUE ENTRA, ES DECIR SI ENTRA “UNO” Y ADEMAS EXISTE UN TRANSICION (TPP O TPN) SALE “UNO”, Ó SI ENTRA “CERO”, SALE “CERO”</a:t>
            </a:r>
            <a:endParaRPr b="0" lang="en-US" sz="2400" spc="-1" strike="noStrike">
              <a:solidFill>
                <a:srgbClr val="000000"/>
              </a:solidFill>
              <a:latin typeface="Times New Roman"/>
            </a:endParaRPr>
          </a:p>
        </p:txBody>
      </p:sp>
      <p:graphicFrame>
        <p:nvGraphicFramePr>
          <p:cNvPr id="702" name="Object 4"/>
          <p:cNvGraphicFramePr/>
          <p:nvPr/>
        </p:nvGraphicFramePr>
        <p:xfrm>
          <a:off x="4859280" y="2238480"/>
          <a:ext cx="3600360" cy="3470040"/>
        </p:xfrm>
        <a:graphic>
          <a:graphicData uri="http://schemas.openxmlformats.org/presentationml/2006/ole">
            <p:oleObj r:id="rId1" spid="">
              <p:embed/>
              <p:pic>
                <p:nvPicPr>
                  <p:cNvPr id="703" name="Object 4" descr=""/>
                  <p:cNvPicPr/>
                  <p:nvPr/>
                </p:nvPicPr>
                <p:blipFill>
                  <a:blip r:embed="rId2"/>
                  <a:stretch/>
                </p:blipFill>
                <p:spPr>
                  <a:xfrm>
                    <a:off x="4859280" y="2238480"/>
                    <a:ext cx="3600360" cy="34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AF39-5A6B-456F-9269-1A63A19EECFC}"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FLIP-FLOP TIPO D NO SINCRONO</a:t>
            </a:r>
            <a:endParaRPr b="0" lang="en-US" sz="4000" spc="-1" strike="noStrike">
              <a:solidFill>
                <a:srgbClr val="000000"/>
              </a:solidFill>
              <a:latin typeface="Times New Roman"/>
            </a:endParaRPr>
          </a:p>
        </p:txBody>
      </p:sp>
      <p:sp>
        <p:nvSpPr>
          <p:cNvPr id="70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60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GUAL QUE EN EL CASO ANTERIOR, LO QUE ENTRA ES LO QUE SALE, PERO ESTA VEZ NO ESTA SINCRONIZADO POR UN RELOJ, SINO QUE TIENE UNA ENTRADA DE HABILITACION (ENABLE) SI ESA ENTRADA ESTA HABILITADA LO QUE ESTA EN D PASA A Q, CASO CONTRARIO NO.</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7" name="Object 6"/>
          <p:cNvGraphicFramePr/>
          <p:nvPr/>
        </p:nvGraphicFramePr>
        <p:xfrm>
          <a:off x="5219640" y="2205000"/>
          <a:ext cx="2720880" cy="3726000"/>
        </p:xfrm>
        <a:graphic>
          <a:graphicData uri="http://schemas.openxmlformats.org/presentationml/2006/ole">
            <p:oleObj r:id="rId1" spid="">
              <p:embed/>
              <p:pic>
                <p:nvPicPr>
                  <p:cNvPr id="708" name="Object 6" descr=""/>
                  <p:cNvPicPr/>
                  <p:nvPr/>
                </p:nvPicPr>
                <p:blipFill>
                  <a:blip r:embed="rId2"/>
                  <a:stretch/>
                </p:blipFill>
                <p:spPr>
                  <a:xfrm>
                    <a:off x="5219640" y="2205000"/>
                    <a:ext cx="2720880" cy="37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00:27:28Z</dcterms:created>
  <dc:creator>Pablo Turmero</dc:creator>
  <dc:description/>
  <dc:language>en-US</dc:language>
  <cp:lastModifiedBy>Pablo Turmero</cp:lastModifiedBy>
  <dcterms:modified xsi:type="dcterms:W3CDTF">2015-04-26T19:26:15Z</dcterms:modified>
  <cp:revision>34</cp:revision>
  <dc:subject/>
  <dc:title/>
</cp:coreProperties>
</file>