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970FB-C627-4843-8060-925A56613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7492-0223-4878-9525-AF6088883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7E3A9-9C73-4F09-A662-EC4FCC6121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092AB-28D5-41D7-A17B-000AD2383C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97C5F-217D-4A2D-A8BD-4905EEEC4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87168-5563-47CE-AD07-E8B486230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096F09-5600-449F-9F43-337EA59E8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A1F80-66AB-490D-8A1A-991FA23F5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418CC-8BC2-48B8-B1E4-A5B41F023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859C83-5EE4-4AD3-BC80-6FF4079304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7B11A2-B3EA-4CDE-824E-B0CB581C8B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2CFE45-DBE3-4840-A970-AA8B5AB727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F3AAC-C8F7-476E-B2E9-40AF79331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C04E69-7DEA-4EBA-9B72-9CC6593250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B20766-8B8A-447E-83DD-18D34270C8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75F33D-EF3E-4767-B788-27C93E9F51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4ED637-0873-4E4E-BD0B-5E4BEA0666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7E5501-BABA-412E-B246-095CF06CE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1E3718-9AEE-4178-9E28-E9FD61C3FB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BDAD3A-47E4-41F4-9BC9-22C4EB1DC1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BCC91A-30BB-4FB0-853B-12C6174286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3E2251-8A97-415F-B34A-21E8DAFE03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5DAC7B-3F6D-4887-9C32-8E610CAA83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4B7AD-40EF-4D9E-918E-810E8227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AB3C51-7402-4B43-A16B-CB670AF29E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A10300-A2B5-43B9-A2C2-25FBF36044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4831FE-B057-4D7B-9351-30B934893E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475089-BF47-4314-BE05-F9C3D96AD6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549325-E496-4ED7-9B61-44C1AAC11C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B8E21F-D754-4E21-8099-32EEB0FBE1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537713-43D7-42EA-947C-34C1F32BF5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870B3D-2CE1-4595-A363-89F46AB9A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56B90B-FFAB-402D-90C9-A386C0B3FF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1171FD-B2D2-45AA-AA9B-01C60ECE0F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183E7-DB8A-45AE-8270-0E30EBE30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821954-499C-47B3-AC6B-D4375E7249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64E4F1-4CC2-4CEB-ABF2-A1CD0E9105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005FD0-EDA7-41EA-A95D-29E3306B14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799071-3907-44F2-B40A-A980254E01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8A8A74-48B3-44BE-A442-D4BA8259BC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E1292B-6F0E-4A80-8BA7-91BB402F44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00E64A-DAD1-4BAF-BCCE-892F88DF7C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080C31-D10F-4C75-B4B6-F1B41244D5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B75514-7762-4CFD-B227-2769AC36DF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923AE-C4D5-405F-A3C8-4378D5E45A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13AA7-40D7-447F-AB0C-747DA91B8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232644-C79B-428A-9536-F6DB447E8B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72BF7C-01C3-4EA7-AF39-650EEE15A0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616245-13A8-4D0C-9909-2A6F807E5C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2250F9-8E92-46D9-A53D-2377CB8C2A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CF8560-BE8D-474D-9532-4069158D4E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A605-B61D-469E-B182-F437A665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75DC6-6339-4183-ADF4-EBAC30677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7A5CC-E670-459D-98D0-D7B3E4A75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99187-8B43-4BCA-8C72-02E8112A7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90246-C662-4FFF-85CB-4FBB79A46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E2C55-4CD1-42DF-AB53-816B4774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2060C-4CD0-42F0-9033-4C52E7036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5563B-7507-40E5-988B-18FF4AC2E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58C7D-3EF7-4488-BF1E-6DD68CB55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37778-9780-42AD-9D4E-3E03941EB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4802F-D793-4EAF-B42F-DC36C2CFE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5B617-F49F-4C7A-9FA0-42DA2E2C3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BC042-C1EC-4709-9B50-C2DB03EFC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7A74F-1D99-42AE-893A-C8D658AE0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5CF4F-4FBA-431A-8685-D60FBCE9F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85553-D8E8-48A7-AD06-FB07C038C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DAFE5-DE79-4791-B095-73EC01A9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50B84-1F45-4A9F-95E3-3B2DFDD89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70280-FF62-4E62-9CF1-06C0F6D5A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5FA09-1DEF-4325-90DA-D2C4A8D44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EB7D7-8F30-4EFC-91F5-20039CCBC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8BFDB-B22B-40D7-838E-0E55293AB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37BA2B-B2F0-4B50-8438-CA7363327E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2EB566-7294-46D5-BBB2-176BEAD16D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8078C-DF90-464B-8B44-6E926E3F9E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CCCAA-148E-4FE7-98A3-9036D050E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86601-489C-4007-BBE5-6D5F80622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D3AD-C188-4B4C-B3CA-FB8C6E6C3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5031A6-C1BA-41A1-BE5F-BC633DBEB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EE7A1-D284-4F45-B62A-FA80BE503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606F8-9B2D-4225-9D55-18C2A7E02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A2691-9ADD-4C36-AF7B-D1BD8EFC0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A601D-5709-4490-AA2E-DE266E53D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03FEC-B157-4CE3-9C3C-0469EA7A0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E1864D-48F1-42CC-A9E5-F0D8FEBF2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C3E858-21F8-4430-983D-BD36F558C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28896-C9D9-403C-8230-6EC0C5B6C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3E8EB9-8A03-4033-8581-2F55F6A64A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200A5-62C8-4CAF-884B-174EA107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85639-0094-44E4-A1F6-2C9237865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686AB-A8BE-48ED-A6A9-40699025B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3987B-A4B2-4A98-BD3C-E32E6E990F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2B9035-6337-4B5C-AD78-AD61BC0A6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C1F6C-F3B9-460A-A313-639E040C9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D6CF8-C616-44F8-8AB4-F820216DD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B7DD8-DFE9-4E89-AD2C-68F3C06A2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08B3B-C023-4978-A597-EDD2F63D0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BB66B-E81D-4C69-B8AA-5E258F344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D81435-4250-4496-9605-1217305C08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BC2E-2748-49B6-B32A-38372434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0A49E1-3E6C-4446-AB0C-3788C7D09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8FD89B-67E5-43AF-A027-53D043D54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82B7C-52FE-4113-8BD5-86F421C1E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A745AA-F8E1-4FDE-9AD2-2801694B0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13E67-4B5D-4800-B99E-7DBD5C85C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6AF03-5F0A-4860-A9FD-FC50FF64B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C73DD-1810-4218-BEE5-D365541BA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3765E-0D6F-445E-9FBA-241DEC1BF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FFF11-73B2-4926-9F25-56136E255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66B6A-4DD6-4540-A217-CE5FB5BC6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AA32-2095-4DF1-92A9-D956A0C3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82C3F-9411-48E3-B2BA-2F94DE7D1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44D670-B444-4ED8-B5F2-7AAE8969DD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32BB3F-1BFE-4D01-ADBE-B9AC5D0D4C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E0EF09-A09B-4885-A5B8-E9F7A1EE19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EC847-8E17-4480-B379-4FCBCCCD1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D28E7-1D51-4F93-8C2F-8A9FE3402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685D9-92E0-4F08-A343-62DA985D8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6DF9D-C7AC-4663-97A5-FEB7881ED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C2C5A-25BC-4AE8-8638-8DE5787C7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2E350-17C8-4B4F-9DD8-A63C791D5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C4643-AD94-42C6-B7CE-259E0EC4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E5C61-683B-4587-9B60-158F9D8F8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82DCA-5009-4AF7-8E6F-40194882C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71BB2-7930-4B85-8DFC-403A4106E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41B1A-463D-425A-A7C1-0DEA570C2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00725-C01D-45BC-9D6F-C50ECF908F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6F4A97-F7FE-4382-A609-70E32234CD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BED47-DDE7-41EE-BF33-AAFAB0A6B1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FC713-C73C-41C9-A3A7-6B8DAED29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9BD92-AA92-46F9-9628-AFAEC68762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64802-FA25-493D-B003-0C556C0A9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17DA-35F3-4746-8F36-5D0D0C04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8FC65-F403-4B70-ADA7-1B9784FC9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FB1F6-8344-4D3C-9E12-EBE65911A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20F7E-3975-49EC-B8B8-CF244B059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5490D1-7305-4B6C-ADE2-654D23663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A0CCE-D987-457C-8740-E54158F8DA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84637-E7F5-4AA4-8AFA-754212A5C2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B712AF-C770-4C87-800F-AFD3D336E1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6F5767-30CC-4A47-8E60-9F711444CB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1CF19-FD8E-4F13-873A-839B72F1B0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D77F1-0095-4618-810C-6D49A01D87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4E7-3D84-48B5-8F62-C2D8773970B4}"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10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11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12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E7A3-4817-412B-AC84-2EE8D7C1E801}"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B6CE-713C-4472-A3C1-BB9F7D72FDC9}"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5"/>
          <p:cNvSpPr>
            <a:spLocks noGrp="1"/>
          </p:cNvSpPr>
          <p:nvPr>
            <p:ph type="sldNum" idx="3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73EB-DCFA-4236-A2B7-3118EFF7B4E5}"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11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12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6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9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10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E313-D08C-4DBE-887A-DB502FC7E25E}"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2335-529E-4A02-805B-979327D01CAD}"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10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9 Rectángulo redondeado"/>
          <p:cNvGrpSpPr/>
          <p:nvPr/>
        </p:nvGrpSpPr>
        <p:grpSpPr>
          <a:xfrm>
            <a:off x="66600" y="66600"/>
            <a:ext cx="9016920" cy="6699240"/>
            <a:chOff x="66600" y="66600"/>
            <a:chExt cx="9016920" cy="6699240"/>
          </a:xfrm>
        </p:grpSpPr>
        <p:pic>
          <p:nvPicPr>
            <p:cNvPr id="132" name="9 Rectángulo redondeado" descr=""/>
            <p:cNvPicPr/>
            <p:nvPr/>
          </p:nvPicPr>
          <p:blipFill>
            <a:blip r:embed="rId3"/>
            <a:stretch/>
          </p:blipFill>
          <p:spPr>
            <a:xfrm>
              <a:off x="66600" y="66600"/>
              <a:ext cx="9016920" cy="66992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6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7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8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853D-CD7B-4C08-AF2A-5CE3CFB3D04A}"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05E6-2F29-4C84-8763-51A51A55B0A5}"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5"/>
          <p:cNvSpPr>
            <a:spLocks noGrp="1"/>
          </p:cNvSpPr>
          <p:nvPr>
            <p:ph type="sldNum" idx="18"/>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2973-67BF-4A64-9A49-DEE864476333}"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5"/>
          <p:cNvSpPr>
            <a:spLocks noGrp="1"/>
          </p:cNvSpPr>
          <p:nvPr>
            <p:ph type="sldNum" idx="2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27FB-1C32-4A37-8247-66E50D935B47}"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997F-F9AA-4757-B620-4627E3D6C651}"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7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8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lick to edit the title text format</a:t>
            </a:r>
            <a:endParaRPr b="0" lang="en-US" sz="4000" spc="-1" strike="noStrike">
              <a:solidFill>
                <a:srgbClr val="b13f9a"/>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de6c36"/>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5"/>
          <p:cNvSpPr>
            <a:spLocks noGrp="1"/>
          </p:cNvSpPr>
          <p:nvPr>
            <p:ph type="sldNum" idx="2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2356-1A37-4060-BA7B-234BDCC0B378}"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es.wikipedia.org/wiki/Electr&#243;nica_digital" TargetMode="External"/><Relationship Id="rId2" Type="http://schemas.openxmlformats.org/officeDocument/2006/relationships/hyperlink" Target="http://es.wikipedia.org/wiki/Circuito_combinacional" TargetMode="External"/><Relationship Id="rId3" Type="http://schemas.openxmlformats.org/officeDocument/2006/relationships/hyperlink" Target="http://es.wikipedia.org/wiki/C&#243;digo_binario" TargetMode="External"/><Relationship Id="rId4" Type="http://schemas.openxmlformats.org/officeDocument/2006/relationships/hyperlink" Target="http://es.wikipedia.org/wiki/Telecomunicaciones"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Demultiplexor y Chip 74LS154</a:t>
            </a:r>
            <a:endParaRPr b="0" lang="en-US" sz="4000" spc="-1" strike="noStrike">
              <a:solidFill>
                <a:srgbClr val="b13f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Ejemplo de aplicación</a:t>
            </a:r>
            <a:endParaRPr b="0" lang="en-US" sz="4000" spc="-1" strike="noStrike">
              <a:solidFill>
                <a:srgbClr val="b13f9a"/>
              </a:solidFill>
              <a:latin typeface="Calibri"/>
            </a:endParaRPr>
          </a:p>
        </p:txBody>
      </p:sp>
      <p:sp>
        <p:nvSpPr>
          <p:cNvPr id="52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74LS154 (Decodificador de 4 líneas a 16 líneas)</a:t>
            </a:r>
            <a:br>
              <a:rPr sz="2400"/>
            </a:br>
            <a:r>
              <a:rPr b="0" lang="es-MX" sz="2400" spc="-1" strike="noStrike">
                <a:solidFill>
                  <a:srgbClr val="000000"/>
                </a:solidFill>
                <a:latin typeface="Calibri"/>
              </a:rPr>
              <a:t>Este componente es capaz de decodificar 4 entradas proporcionando 16 distintas salidas. Está compuesto de dos decodificadores octales unidos en Paralelo. Siendo A, B, C, D las cuatro entradas.</a:t>
            </a:r>
            <a:br>
              <a:rPr sz="2400"/>
            </a:br>
            <a:r>
              <a:rPr b="0" lang="es-MX" sz="2400" spc="-1" strike="noStrike">
                <a:solidFill>
                  <a:srgbClr val="000000"/>
                </a:solidFill>
                <a:latin typeface="Calibri"/>
              </a:rPr>
              <a:t> </a:t>
            </a:r>
            <a:endParaRPr b="0" lang="en-US" sz="2400" spc="-1" strike="noStrike">
              <a:solidFill>
                <a:srgbClr val="000000"/>
              </a:solidFill>
              <a:latin typeface="Calibri"/>
            </a:endParaRPr>
          </a:p>
        </p:txBody>
      </p:sp>
      <p:pic>
        <p:nvPicPr>
          <p:cNvPr id="530" name="3 Imagen" descr=""/>
          <p:cNvPicPr/>
          <p:nvPr/>
        </p:nvPicPr>
        <p:blipFill>
          <a:blip r:embed="rId1"/>
          <a:stretch/>
        </p:blipFill>
        <p:spPr>
          <a:xfrm>
            <a:off x="2987640" y="3645000"/>
            <a:ext cx="3540240" cy="30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Procedimiento</a:t>
            </a:r>
            <a:endParaRPr b="0" lang="en-US" sz="4000" spc="-1" strike="noStrike">
              <a:solidFill>
                <a:srgbClr val="b13f9a"/>
              </a:solidFill>
              <a:latin typeface="Calibri"/>
            </a:endParaRPr>
          </a:p>
        </p:txBody>
      </p:sp>
      <p:sp>
        <p:nvSpPr>
          <p:cNvPr id="53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OCEDIMIENTO:</a:t>
            </a:r>
            <a:endParaRPr b="0" lang="en-US" sz="16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Al realizar las simulaciones de cada circuito además de entender la tabla lógica de las diferentes compuertas, con la simulación funcionando preparar el circuito en el protoboard y probarlo, conectar a una fuente continua de 5v ya que las resistencias q usamos y los leds no soportarían los 120v proporcionados por la empresa eléctrica a demás que a nivel de laboratorio se debe usar voltajes bajos, una vez funcionando el circuito probarlo con las diferentes combinaciones y tomar fotos.</a:t>
            </a:r>
            <a:endParaRPr b="0" lang="en-US" sz="16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codificador 74LS154.- este decodificador de 4 a 16 tiene dos "Enables" que deben estar corto cortocircuitados a tierra y sus salidas conectadas a un NAND de 4 entradas.</a:t>
            </a:r>
            <a:endParaRPr b="0" lang="en-US" sz="16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codificadores 74LS138.- se necesitan 2 decodificadores de 3 a 8 que al conectarlos en cascada se convierten en uno solo de 4 a 16. Las entradas (A0, A1, A2) se cortocircuitan entre sí, y para formar la cuarta entrada se pasa un NOT  a los 2 primeros Enables previamente conectados entre sí y se conectan los otros 2 Enables antes de este NOT y después del switch, Las salidas que se necesitan (5, 7, 11,13) van conectadas a una NAND de 4 entradas.</a:t>
            </a:r>
            <a:endParaRPr b="0" lang="en-US" sz="16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ultiplexores 74ls151.- Se necesitan 2 multiplexores que se utilizan como selectores porque sus entradas en sí son las respuestas conectadas a sus respectivas fuentes (1L o 0L) y sus selectores (S0, S1, S2) van cortocircuitados y para crear el 4 selector se niega el primer Enable y al segundo se lo conecta con este pero antes de la negación NOT. Sus salidas "Y" van conectadas a una OR de 2 entradas y este al LED.</a:t>
            </a:r>
            <a:endParaRPr b="0" lang="en-US" sz="16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
          <p:cNvSpPr txBox="1"/>
          <p:nvPr/>
        </p:nvSpPr>
        <p:spPr>
          <a:xfrm>
            <a:off x="468360" y="404280"/>
            <a:ext cx="8229600" cy="547236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esta práctica tomaremos los decodificadores 74ls154 y 74ls138 y el mux 74ls151 para realizar con cada uno un circuito combinacional que tenga una entrada de 4 bits (O al 15) y cuya salida debe encender un LED cuando la entrada sea un numero primo del mayor al 4.</a:t>
            </a:r>
            <a:endParaRPr b="0" lang="en-US" sz="24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asi llegando al final se muestran los datos obtenidos experimentalmente y las tablas de verdad de cada circuito armado y de cada compuerta, junto con las fotos de los circuitos reales. A continuación se muestran las fotos de las simulaciones hechas en Circuit Maker para poder comparar en el siguiente paso los resultados y corrobar que no hay errores. Finalmente se en listan conclusiones, referencias y anexos. Entre los anexos esta la hoja de datos realizada en el momento de la práctica.</a:t>
            </a:r>
            <a:endParaRPr b="0" lang="en-US" sz="24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2" descr=""/>
          <p:cNvPicPr/>
          <p:nvPr/>
        </p:nvPicPr>
        <p:blipFill>
          <a:blip r:embed="rId1"/>
          <a:stretch/>
        </p:blipFill>
        <p:spPr>
          <a:xfrm>
            <a:off x="2124000" y="333360"/>
            <a:ext cx="4248360" cy="4056120"/>
          </a:xfrm>
          <a:prstGeom prst="rect">
            <a:avLst/>
          </a:prstGeom>
          <a:ln w="0">
            <a:noFill/>
          </a:ln>
        </p:spPr>
      </p:pic>
      <p:pic>
        <p:nvPicPr>
          <p:cNvPr id="535" name="Picture 3" descr=""/>
          <p:cNvPicPr/>
          <p:nvPr/>
        </p:nvPicPr>
        <p:blipFill>
          <a:blip r:embed="rId2"/>
          <a:stretch/>
        </p:blipFill>
        <p:spPr>
          <a:xfrm>
            <a:off x="2124000" y="4365720"/>
            <a:ext cx="4248360" cy="21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
          <p:cNvSpPr txBox="1"/>
          <p:nvPr/>
        </p:nvSpPr>
        <p:spPr>
          <a:xfrm>
            <a:off x="468360" y="764640"/>
            <a:ext cx="8229600" cy="5185080"/>
          </a:xfrm>
          <a:prstGeom prst="rect">
            <a:avLst/>
          </a:prstGeom>
          <a:noFill/>
          <a:ln w="0">
            <a:noFill/>
          </a:ln>
        </p:spPr>
        <p:txBody>
          <a:bodyPr lIns="90000" rIns="90000" tIns="46800" bIns="46800"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En </a:t>
            </a:r>
            <a:r>
              <a:rPr b="0" lang="es-MX" sz="2200" spc="-1" strike="noStrike" u="sng">
                <a:solidFill>
                  <a:srgbClr val="ffde66"/>
                </a:solidFill>
                <a:uFillTx/>
                <a:latin typeface="Calibri"/>
                <a:hlinkClick r:id="rId1"/>
              </a:rPr>
              <a:t>electrónica digital</a:t>
            </a:r>
            <a:r>
              <a:rPr b="0" lang="es-MX" sz="2200" spc="-1" strike="noStrike">
                <a:solidFill>
                  <a:srgbClr val="000000"/>
                </a:solidFill>
                <a:latin typeface="Calibri"/>
              </a:rPr>
              <a:t>, un demultiplexor es un </a:t>
            </a:r>
            <a:r>
              <a:rPr b="0" lang="es-MX" sz="2200" spc="-1" strike="noStrike" u="sng">
                <a:solidFill>
                  <a:srgbClr val="ffde66"/>
                </a:solidFill>
                <a:uFillTx/>
                <a:latin typeface="Calibri"/>
                <a:hlinkClick r:id="rId2"/>
              </a:rPr>
              <a:t>circuito combinacional</a:t>
            </a:r>
            <a:r>
              <a:rPr b="0" lang="es-MX" sz="2200" spc="-1" strike="noStrike">
                <a:solidFill>
                  <a:srgbClr val="000000"/>
                </a:solidFill>
                <a:latin typeface="Calibri"/>
              </a:rPr>
              <a:t> que tiene una entrada de información de datos </a:t>
            </a:r>
            <a:r>
              <a:rPr b="0" i="1" lang="es-MX" sz="2200" spc="-1" strike="noStrike">
                <a:solidFill>
                  <a:srgbClr val="000000"/>
                </a:solidFill>
                <a:latin typeface="Calibri"/>
              </a:rPr>
              <a:t>d</a:t>
            </a:r>
            <a:r>
              <a:rPr b="0" lang="es-MX" sz="2200" spc="-1" strike="noStrike">
                <a:solidFill>
                  <a:srgbClr val="000000"/>
                </a:solidFill>
                <a:latin typeface="Calibri"/>
              </a:rPr>
              <a:t> y </a:t>
            </a:r>
            <a:r>
              <a:rPr b="0" i="1" lang="es-MX" sz="2200" spc="-1" strike="noStrike">
                <a:solidFill>
                  <a:srgbClr val="000000"/>
                </a:solidFill>
                <a:latin typeface="Calibri"/>
              </a:rPr>
              <a:t>n</a:t>
            </a:r>
            <a:r>
              <a:rPr b="0" lang="es-MX" sz="2200" spc="-1" strike="noStrike">
                <a:solidFill>
                  <a:srgbClr val="000000"/>
                </a:solidFill>
                <a:latin typeface="Calibri"/>
              </a:rPr>
              <a:t> entradas de control que sirven para seleccionar una de las 2</a:t>
            </a:r>
            <a:r>
              <a:rPr b="0" lang="es-MX" sz="2200" spc="-1" strike="noStrike" baseline="30000">
                <a:solidFill>
                  <a:srgbClr val="000000"/>
                </a:solidFill>
                <a:latin typeface="Calibri"/>
              </a:rPr>
              <a:t>n</a:t>
            </a:r>
            <a:r>
              <a:rPr b="0" lang="es-MX" sz="2200" spc="-1" strike="noStrike">
                <a:solidFill>
                  <a:srgbClr val="000000"/>
                </a:solidFill>
                <a:latin typeface="Calibri"/>
              </a:rPr>
              <a:t> salidas, por la que ha de salir el dato que presente en la entrada. Esto se consigue aplicando a las entradas de control la combinación </a:t>
            </a:r>
            <a:r>
              <a:rPr b="0" lang="es-MX" sz="2200" spc="-1" strike="noStrike" u="sng">
                <a:solidFill>
                  <a:srgbClr val="ffde66"/>
                </a:solidFill>
                <a:uFillTx/>
                <a:latin typeface="Calibri"/>
                <a:hlinkClick r:id="rId3"/>
              </a:rPr>
              <a:t>binaria</a:t>
            </a:r>
            <a:r>
              <a:rPr b="0" lang="es-MX" sz="2200" spc="-1" strike="noStrike">
                <a:solidFill>
                  <a:srgbClr val="000000"/>
                </a:solidFill>
                <a:latin typeface="Calibri"/>
              </a:rPr>
              <a:t> correspondiente a la salida que se desea seleccionar. Por ejemplo, si queremos que la información que tenemos en la entrada </a:t>
            </a:r>
            <a:r>
              <a:rPr b="0" i="1" lang="es-MX" sz="2200" spc="-1" strike="noStrike">
                <a:solidFill>
                  <a:srgbClr val="000000"/>
                </a:solidFill>
                <a:latin typeface="Calibri"/>
              </a:rPr>
              <a:t>d</a:t>
            </a:r>
            <a:r>
              <a:rPr b="0" lang="es-MX" sz="2200" spc="-1" strike="noStrike">
                <a:solidFill>
                  <a:srgbClr val="000000"/>
                </a:solidFill>
                <a:latin typeface="Calibri"/>
              </a:rPr>
              <a:t>, salga por la salida </a:t>
            </a:r>
            <a:r>
              <a:rPr b="0" i="1" lang="es-MX" sz="2200" spc="-1" strike="noStrike">
                <a:solidFill>
                  <a:srgbClr val="000000"/>
                </a:solidFill>
                <a:latin typeface="Calibri"/>
              </a:rPr>
              <a:t>S4</a:t>
            </a:r>
            <a:r>
              <a:rPr b="0" lang="es-MX" sz="2200" spc="-1" strike="noStrike">
                <a:solidFill>
                  <a:srgbClr val="000000"/>
                </a:solidFill>
                <a:latin typeface="Calibri"/>
              </a:rPr>
              <a:t>, en la entrada de control se ha de poner, de acuerdo con el peso de la misma, el valor </a:t>
            </a:r>
            <a:r>
              <a:rPr b="0" i="1" lang="es-MX" sz="2200" spc="-1" strike="noStrike">
                <a:solidFill>
                  <a:srgbClr val="000000"/>
                </a:solidFill>
                <a:latin typeface="Calibri"/>
              </a:rPr>
              <a:t>100</a:t>
            </a:r>
            <a:r>
              <a:rPr b="0" lang="es-MX" sz="2200" spc="-1" strike="noStrike">
                <a:solidFill>
                  <a:srgbClr val="000000"/>
                </a:solidFill>
                <a:latin typeface="Calibri"/>
              </a:rPr>
              <a:t>, que es el 4 en binario.</a:t>
            </a:r>
            <a:endParaRPr b="0" lang="en-US" sz="22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En el campo de las </a:t>
            </a:r>
            <a:r>
              <a:rPr b="0" lang="es-MX" sz="2200" spc="-1" strike="noStrike" u="sng">
                <a:solidFill>
                  <a:srgbClr val="ffde66"/>
                </a:solidFill>
                <a:uFillTx/>
                <a:latin typeface="Calibri"/>
                <a:hlinkClick r:id="rId4"/>
              </a:rPr>
              <a:t>telecomunicaciones</a:t>
            </a:r>
            <a:r>
              <a:rPr b="0" lang="es-MX" sz="2200" spc="-1" strike="noStrike">
                <a:solidFill>
                  <a:srgbClr val="000000"/>
                </a:solidFill>
                <a:latin typeface="Calibri"/>
              </a:rPr>
              <a:t> el demultiplexor es un dispositivo que puede recibir a través de un transmisión compartido una señal compleja multiplexada y separar las distintas señales integrantes de la misma encaminándolas a las salidas correspondientes.</a:t>
            </a:r>
            <a:endParaRPr b="0" lang="en-US" sz="22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señal compleja puede ser tanto analógica como digital y estar multiplexada en cualquiera de las distintas formas posibles para cada una de ellas.</a:t>
            </a:r>
            <a:endParaRPr b="0" lang="en-US" sz="22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620280"/>
            <a:ext cx="82296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b13f9a"/>
                </a:solidFill>
                <a:latin typeface="Calibri"/>
              </a:rPr>
              <a:t>Diagrama lógico de un demultiplexor 1 a 4</a:t>
            </a:r>
            <a:br>
              <a:rPr sz="3600"/>
            </a:br>
            <a:endParaRPr b="0" lang="en-US" sz="3600" spc="-1" strike="noStrike">
              <a:solidFill>
                <a:srgbClr val="b13f9a"/>
              </a:solidFill>
              <a:latin typeface="Calibri"/>
            </a:endParaRPr>
          </a:p>
        </p:txBody>
      </p:sp>
      <p:pic>
        <p:nvPicPr>
          <p:cNvPr id="514" name="6 Imagen" descr="http://upload.wikimedia.org/wikipedia/commons/thumb/1/15/Demultiplexer_Example01.svg/350px-Demultiplexer_Example01.svg.png"/>
          <p:cNvPicPr/>
          <p:nvPr/>
        </p:nvPicPr>
        <p:blipFill>
          <a:blip r:embed="rId1"/>
          <a:stretch/>
        </p:blipFill>
        <p:spPr>
          <a:xfrm>
            <a:off x="1835280" y="1916280"/>
            <a:ext cx="5113080" cy="42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Aplicaciones</a:t>
            </a:r>
            <a:endParaRPr b="0" lang="en-US" sz="4000" spc="-1" strike="noStrike">
              <a:solidFill>
                <a:srgbClr val="b13f9a"/>
              </a:solidFill>
              <a:latin typeface="Calibri"/>
            </a:endParaRPr>
          </a:p>
        </p:txBody>
      </p:sp>
      <p:sp>
        <p:nvSpPr>
          <p:cNvPr id="51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El demultiplexor, es un circuito combinacional que aunque la función básica es la que hemos explicado, puede utilizarse en muchos casos como decodificador y adopta cualquiera de las funciones que un decodificador realiza.</a:t>
            </a:r>
            <a:endParaRPr b="0" lang="en-US" sz="26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Un demultiplexor decodifica la señal y la separa en varias salida. Un ejemplo de ello es el aparato utilizado para pasar el cable a varias televisiones. Dicho de otra manera, el demultiplexor es una entrada de información y varias salidas.</a:t>
            </a:r>
            <a:endParaRPr b="0" lang="en-US" sz="26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
          <p:cNvSpPr txBox="1"/>
          <p:nvPr/>
        </p:nvSpPr>
        <p:spPr>
          <a:xfrm>
            <a:off x="468360" y="404280"/>
            <a:ext cx="8229600" cy="452628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Una aplicación muy práctica de los demultiplexores utilizados como decodificadores, si lo combinamos con una puerta NO-YNAND, es la generación de funciones lógicas, de modo, que si nos dan la función lógica F=S3(2,4,5,7), las salidas correspondientes a los unos lógicos se conectarían a la puerta NO-Y. En este caso la entrada de información se puede utilizar como </a:t>
            </a:r>
            <a:r>
              <a:rPr b="1" lang="es-MX" sz="2000" spc="-1" strike="noStrike">
                <a:solidFill>
                  <a:srgbClr val="000000"/>
                </a:solidFill>
                <a:latin typeface="Calibri"/>
              </a:rPr>
              <a:t>entrada inhibidora</a:t>
            </a:r>
            <a:r>
              <a:rPr b="0" lang="es-MX" sz="2000" spc="-1" strike="noStrike">
                <a:solidFill>
                  <a:srgbClr val="000000"/>
                </a:solidFill>
                <a:latin typeface="Calibri"/>
              </a:rPr>
              <a:t> si mantenemos a cero lógico, y subiéndola a uno, cuando queremos inhibir la generación de la función.</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quema de un demultiplexor 1 a 2. Puede ser comparado a un conmutador controlado.</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8" name="3 Imagen" descr="http://upload.wikimedia.org/wikipedia/commons/4/48/Demultiplexer.png"/>
          <p:cNvPicPr/>
          <p:nvPr/>
        </p:nvPicPr>
        <p:blipFill>
          <a:blip r:embed="rId1"/>
          <a:stretch/>
        </p:blipFill>
        <p:spPr>
          <a:xfrm>
            <a:off x="1763640" y="3573360"/>
            <a:ext cx="5616720" cy="232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Chip 74LS154</a:t>
            </a:r>
            <a:endParaRPr b="0" lang="en-US" sz="4000" spc="-1" strike="noStrike">
              <a:solidFill>
                <a:srgbClr val="b13f9a"/>
              </a:solidFill>
              <a:latin typeface="Calibri"/>
            </a:endParaRPr>
          </a:p>
        </p:txBody>
      </p:sp>
      <p:sp>
        <p:nvSpPr>
          <p:cNvPr id="52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ada uno de estos decodificadores de 4 líneas a 16 líneas utiliza circuitos TTL para decodificar 4 códigos binarios (entradas) en uno de 16 mutuamente exclusivas (salidas) cuando ambas luces de entrada, G1 y G2, son BAJOS. La función de demultiplexor esta presentada usando las 4 líneas de entrada para dirigir la línea de salida, pasando datos desde una de las luces de salida con otra de luz de entrada baja. Cuando cualquiera de las dos luces de entrada son ALTAS. Estos demultiplexores son piezas ideales para implementar memoria decodifica de función alta Todas las estradas son frenadas y los diodos de entrada sujetados son previstos para minimizar efectos de línea de transmisión y de ese modo simplificar el sistema de diseño.</a:t>
            </a:r>
            <a:endParaRPr b="0" lang="en-US" sz="2400" spc="-1" strike="noStrike">
              <a:solidFill>
                <a:srgbClr val="000000"/>
              </a:solidFill>
              <a:latin typeface="Calibri"/>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Características</a:t>
            </a:r>
            <a:endParaRPr b="0" lang="en-US" sz="4000" spc="-1" strike="noStrike">
              <a:solidFill>
                <a:srgbClr val="b13f9a"/>
              </a:solidFill>
              <a:latin typeface="Calibri"/>
            </a:endParaRPr>
          </a:p>
        </p:txBody>
      </p:sp>
      <p:sp>
        <p:nvSpPr>
          <p:cNvPr id="52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ecodifica 4 códigos binarios de entrada en una de 16 salidas exclusivas  mutuas</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umple la función de demultiplexor para distribuir datos hacia una línea de entrada a alguna de las 16 salidas</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tradas sujetan diodos simplificados del sistema de diseño</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ta temperaturas, impedancia baja, salida tótem</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Retrasado típico de propagación: </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3 niveles lógicos 23 n</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luz 19 n</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der de disipación típica 45 mW</a:t>
            </a:r>
            <a:endParaRPr b="0" lang="en-US" sz="2000" spc="-1" strike="noStrike">
              <a:solidFill>
                <a:srgbClr val="000000"/>
              </a:solidFill>
              <a:latin typeface="Calibri"/>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3" name="3 Imagen" descr=""/>
          <p:cNvPicPr/>
          <p:nvPr/>
        </p:nvPicPr>
        <p:blipFill>
          <a:blip r:embed="rId1"/>
          <a:stretch/>
        </p:blipFill>
        <p:spPr>
          <a:xfrm>
            <a:off x="5219640" y="3716280"/>
            <a:ext cx="341964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Diagrama Lógico</a:t>
            </a:r>
            <a:endParaRPr b="0" lang="en-US" sz="4000" spc="-1" strike="noStrike">
              <a:solidFill>
                <a:srgbClr val="b13f9a"/>
              </a:solidFill>
              <a:latin typeface="Calibri"/>
            </a:endParaRPr>
          </a:p>
        </p:txBody>
      </p:sp>
      <p:pic>
        <p:nvPicPr>
          <p:cNvPr id="525" name="3 Marcador de contenido" descr=""/>
          <p:cNvPicPr/>
          <p:nvPr/>
        </p:nvPicPr>
        <p:blipFill>
          <a:blip r:embed="rId1"/>
          <a:stretch/>
        </p:blipFill>
        <p:spPr>
          <a:xfrm>
            <a:off x="3249720" y="1447920"/>
            <a:ext cx="3101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b13f9a"/>
                </a:solidFill>
                <a:latin typeface="Calibri"/>
              </a:rPr>
              <a:t>Tabla de funciones</a:t>
            </a:r>
            <a:endParaRPr b="0" lang="en-US" sz="4000" spc="-1" strike="noStrike">
              <a:solidFill>
                <a:srgbClr val="b13f9a"/>
              </a:solidFill>
              <a:latin typeface="Calibri"/>
            </a:endParaRPr>
          </a:p>
        </p:txBody>
      </p:sp>
      <p:pic>
        <p:nvPicPr>
          <p:cNvPr id="527" name="3 Marcador de contenido" descr=""/>
          <p:cNvPicPr/>
          <p:nvPr/>
        </p:nvPicPr>
        <p:blipFill>
          <a:blip r:embed="rId1"/>
          <a:stretch/>
        </p:blipFill>
        <p:spPr>
          <a:xfrm>
            <a:off x="1446120" y="1447920"/>
            <a:ext cx="670896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8T05:19:29Z</dcterms:created>
  <dc:creator>Pablo Turmero</dc:creator>
  <dc:description/>
  <dc:language>en-US</dc:language>
  <cp:lastModifiedBy>Pablo Turmero</cp:lastModifiedBy>
  <dcterms:modified xsi:type="dcterms:W3CDTF">2015-05-05T17:13:57Z</dcterms:modified>
  <cp:revision>2</cp:revision>
  <dc:subject/>
  <dc:title/>
</cp:coreProperties>
</file>