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2FE-79BF-4B96-8448-0A93E1CB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C54-D2FC-4DF2-AD62-359AE594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2D7-6F29-4A72-9065-EEEFFE63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873-18BC-4AC5-A216-101C12CD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4C96-D083-4E20-9E26-AB613E4B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EFA9-9DE1-49B1-A1D4-4863661D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F37-FBF7-4C3F-B280-0D0B781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CCC-4A7E-4D5D-B0CF-0EBF0267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17C2-58BC-4EA4-BB30-E385608B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997D-A2C3-4420-8CEE-C4975B23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0D97-4F26-4217-8B8C-3E6014B8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3E3-7361-4502-A078-3EC1907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69D-B615-4993-A296-C16A7E2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2EEC-2D49-4776-A325-3E70569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81A7-3C60-4F3B-95B2-A5FE3BF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EF3-2C19-4291-ABDF-91CBF42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60C7-73CC-4E66-8DB9-32C8B3E8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9E8-4B8E-4449-99D3-DC28EF6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3A2-2456-4503-870F-E647E5CD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822-9278-402D-A276-C6D4BF7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E8C-9F8B-4455-B734-7DC90CDB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7BE-2A47-480E-A894-D36B0294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12B-928E-4D77-91B5-B0B227F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BB5-A2B4-4142-92A2-3CB78AF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1370-7D27-4A5D-9722-D2A7A5E2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1A3-014F-4928-8103-800820740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nvertidores AC/AC</a:t>
            </a:r>
            <a:br>
              <a:rPr sz="2900"/>
            </a:b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imitaciones del PWM-VSI con rectificador a dio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3. Polucion armonica en la red electr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Debido a sus caracteristicas operacionales no controladas el rectificador a diodos produce corrientes de entrada distorsionadas con factores de potencia pobr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a polucion armonica hacia la red se debe a las corrientes armonicas en el rectificador a diodos. Las corrientes armonicas en la red conducen 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Uso ineficiente de la energi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Sobrecalentamiento de los equip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l funcionamiento de los equipos de estado solid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terferencia con los sistemas de comunicació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Degradacion de la calidad del sistema de distribucion de potenci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Problemas y soluciones para el PWM-VSI con rectificador a dio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928800" y="1828800"/>
            <a:ext cx="7910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52480" y="2666880"/>
            <a:ext cx="73915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2e05"/>
                </a:solidFill>
                <a:latin typeface="Verdana"/>
              </a:rPr>
              <a:t>Convertidores AC/AC moderno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nvertidores AC/AC</a:t>
            </a:r>
            <a:br>
              <a:rPr sz="2900"/>
            </a:b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vertidores AC/AC moder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nvertidor directo: convertidor matric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nvertidor alimentado por corriente a six-step basado en tiristo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nvertidor controlado tipo interfaz con la 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ctificador como fuente de voltaje PWM (PWM-VS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on filtro de potencia activo (APF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Convertidor alimentado por corriente six-step basado en tiristo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96840" y="1824120"/>
            <a:ext cx="7150320" cy="3209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04920" y="5410080"/>
            <a:ext cx="85341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n el inversor los tiristores se conmutan ON y OFF solo una vez por cicl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lo tanto el inversor opera en el modo de seis pa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Convertidor controlado tipo interfaz con la r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257480" y="2238480"/>
            <a:ext cx="6629400" cy="2379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709280" y="518148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pologia Rectificador como fuente de voltaje PW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Convertidor controlado tipo interfaz con la r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057320" y="1449360"/>
            <a:ext cx="7029360" cy="4189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129400" y="58672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pologia con filtro de potencia activo (APF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752480" y="2666880"/>
            <a:ext cx="739152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2e05"/>
                </a:solidFill>
                <a:latin typeface="Verdana"/>
              </a:rPr>
              <a:t>El Convertidor matricial: caracteristica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nvertidores AC/AC</a:t>
            </a:r>
            <a:br>
              <a:rPr sz="2900"/>
            </a:b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l convertidor matrici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onvertidor matricial convierte directamente la potencia AC de la red a potencia AC en la carga (un motor de induccio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Basado integramente en sili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onvertidor matricial resulta de tamaño y volumen reducido comparado con basados en acoplo de D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vertidor matricial: aplicac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4109760" cy="1949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132520" y="4378320"/>
            <a:ext cx="3630600" cy="2479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5349960" cy="277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4"/>
          <a:stretch/>
        </p:blipFill>
        <p:spPr>
          <a:xfrm>
            <a:off x="1295280" y="1523880"/>
            <a:ext cx="2176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752480" y="2666880"/>
            <a:ext cx="73915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2e05"/>
                </a:solidFill>
                <a:latin typeface="Verdana"/>
              </a:rPr>
              <a:t>Conversion AC/AC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nvertidores AC/AC</a:t>
            </a:r>
            <a:br>
              <a:rPr sz="2900"/>
            </a:b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l convertidor matrici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convertidor matricial conecta la red a la carga de AC directamente a traves de conmutadores bidirecc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salida puede ser ajustada en frecuencia y amplitu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vertidor matricial trifasic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015920" y="1676520"/>
            <a:ext cx="7110360" cy="371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33520" y="5607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estrategias de modulacion en los switches sintetizan la salida deseada basada en trozos de señales de voltaje senoida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Ventajas del convertidor matrici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ducido tamaño, peso y coste. Modula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Sin condensador de acople de D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lidad: ondas senoidales entrada/sali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trol del Factor de Potencia de entra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lujo de potencia bidireccion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energia en la carga puede volver a la fuen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obusto a altas 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ran periodo de vi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Desventajas del convertidor matrici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lejidad de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todo de Venturini (198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ulacion del vector espacial (SV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atio de transferencia de ten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mparacion de caracteristic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898560" y="1589040"/>
            <a:ext cx="78645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52480" y="2666880"/>
            <a:ext cx="739152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92e05"/>
                </a:solidFill>
                <a:latin typeface="Verdana"/>
              </a:rPr>
              <a:t>El Convertidor matricial: funcionamient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nvertidores AC/AC</a:t>
            </a:r>
            <a:br>
              <a:rPr sz="2900"/>
            </a:b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Metodo de modulacion de Ventur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voltajes de salida del convertidor se determinan por uno de los voltajes de entrada de acuerdo con el estado de la conexión de los switches bidirec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r lo tanto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voltajes instantaneos de salida se sintetizan por el muestreo de trozos de los voltajes de entrada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al que el valor medio promediado durante el periodo de conmutacion puede seguir los voltajes dese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Metodo de modulacion de Ventur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Matriz de la funcion de transferenc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4398840" cy="1373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685800" y="4724280"/>
            <a:ext cx="78487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nota el ciclo de trabajo del switch correpondiente bi-direccional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Verdana"/>
              </a:rPr>
              <a:t>ij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0145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Metodo de modulacion de Ventur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 manera similar las corrientes de entrada del convertidor se construyen de las corrientes de salida, las cuales dependen de los voltajes de salida y las condiciones de carg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l balance de potencia, (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in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Pout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), las componentes de baja frecuencia de las corrientes de entrada se hallan a partir de las corrientes de salida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657600" y="5029200"/>
            <a:ext cx="18795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Metodo de modulacion de Ventur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convertidor se alimenta con una fuente de voltaje y se conecta una carga inductiva. Por lo tanto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ara evitar un corto circuito en el lado de entrada y un circuito abierto en el terminal inductivo de salida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 cualquier instante solo puede estar cerrado un switch bi-direccional en una pata de salid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53337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version de potencia AC/A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os convertidores de potencia transforman la frecuencia y amplitud de la señal AC (la re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 acuerdo con los requerimientos del siste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Voltajes y corrien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e asume como voltajes de entrada trifasicos balance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y  que el convertidor regula las corrientes de salida co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813120" cy="1293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224160" y="4943520"/>
            <a:ext cx="363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Voltajes y corrien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4038480" cy="1390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426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Solucion de Venturin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sumiendo q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038480" cy="1390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2666880" y="4149720"/>
            <a:ext cx="42674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Solucion de Venturin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xisten dos soluciones basicas derivadas por Venturini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47800" y="3124080"/>
            <a:ext cx="79153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ngshin Kwak, Design and Analysis of Modern Three-phase AC/AC Power Converters for AC Drives and Utility Interface. Texas A&amp;M University. PHD Thesis. May 200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Wheeler </a:t>
            </a:r>
            <a:r>
              <a:rPr b="0" i="1" lang="es-ES" sz="1900" spc="-1" strike="noStrike">
                <a:solidFill>
                  <a:srgbClr val="000000"/>
                </a:solidFill>
                <a:latin typeface="Verdana"/>
              </a:rPr>
              <a:t>et al.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, Matrix Converters: The Technology and Potential Explota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. Venturini, “A new sine wave in, sine wave out, conversion techniqu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iminates reactive elements”, in </a:t>
            </a:r>
            <a:r>
              <a:rPr b="0" i="1" lang="es-ES" sz="1900" spc="-1" strike="noStrike">
                <a:solidFill>
                  <a:srgbClr val="000000"/>
                </a:solidFill>
                <a:latin typeface="Verdana"/>
              </a:rPr>
              <a:t>Proc. POWERCON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7, 1980, pp. E3-1-E3-15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. Alesina and M. Venturini, "Analysis and design of optimum-amplitude nineswit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direct AC-AC converters," </a:t>
            </a:r>
            <a:r>
              <a:rPr b="0" i="1" lang="es-ES" sz="1900" spc="-1" strike="noStrike">
                <a:solidFill>
                  <a:srgbClr val="000000"/>
                </a:solidFill>
                <a:latin typeface="Verdana"/>
              </a:rPr>
              <a:t>IEEE Trans. on Power Electronics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, vol. 4, n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1, pp. 101-112, Jan. 1989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figuracion tradici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5320" y="2073240"/>
            <a:ext cx="5551560" cy="2709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04920" y="521028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versor con fuente de voltaje modulada por ancho de pulso (PWM-VS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 rectificador a diodos en la entrada y capacitor para acople de D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Configuracion tradici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 configuracion se basa en una </a:t>
            </a:r>
            <a:r>
              <a:rPr b="0" lang="es-ES" sz="2500" spc="-1" strike="noStrike">
                <a:solidFill>
                  <a:srgbClr val="f92e05"/>
                </a:solidFill>
                <a:latin typeface="Verdana"/>
              </a:rPr>
              <a:t>conversion de potencia indirec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orque la conversion se hace a traves de una conversion intermedia de D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l capacitor de DC desacopla las dos etapas de conversion y asegura el control independiente de las dos etap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Tendencias de los convertidores AC/AC modern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os avances 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ecnologia de los dispositivos semiconductores de potenc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adores de alta velocidad y bajo co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Nuevos algoritmos PW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 conducido a nuevas topologias de convertidores AC/A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Tendencias de los convertidores AC/AC modern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tas tendencias se dirigen 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ejorar la interfaz con la red electrica con factores de potencia unitari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Flujo de potencia bidireccion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amaño compact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yor integracion hacia una estructura de silicio con pocos componentes pas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yor capacidad de manejo de potenc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yor eficiencia y alta frecuencia de conmut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imitaciones del PWM-VSI con rectificador a dio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1. Gran volumen y tamañ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 la conversion indirecta son inevitables muchos componentes re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l tamaño del capacitor electrolitico para el acople de DC (entre el 30% y el 50% del tamaño del convertid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dicionalmente, la presencia del condensador limita significativamente al convertidor a aplicaciones de hasta 300°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imitaciones del PWM-VSI con rectificador a dio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2. Limitaciones de pot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a potencia de salida se ve limitada por los limites de potencia de conmutadores electronicos (MOSFETS e IGBTs) disponi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 como por las perdidas de conmutacion asociadas a la conmutacion dando como resultado calentamien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dicionalmente, se presentan problemas de interferencia electromagnetica debido a pendientes altas </a:t>
            </a:r>
            <a:r>
              <a:rPr b="0" i="1" lang="es-ES" sz="2100" spc="-1" strike="noStrike">
                <a:solidFill>
                  <a:srgbClr val="000000"/>
                </a:solidFill>
                <a:latin typeface="Verdana"/>
              </a:rPr>
              <a:t>dv/dt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que se agravan en aplicaciones de alta potenc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1:49:55Z</dcterms:created>
  <dc:creator>Pablo Turmero</dc:creator>
  <dc:description/>
  <dc:language>en-US</dc:language>
  <cp:lastModifiedBy>Pablo Turmero</cp:lastModifiedBy>
  <cp:lastPrinted>2004-01-13T15:25:20Z</cp:lastPrinted>
  <dcterms:modified xsi:type="dcterms:W3CDTF">2015-03-02T02:15:16Z</dcterms:modified>
  <cp:revision>213</cp:revision>
  <dc:subject/>
  <dc:title/>
</cp:coreProperties>
</file>