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296-F6B8-484B-9075-F192C314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AD5-58CF-45AD-A4FD-86AD282C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0962E-B1D4-4983-A5EF-6C2C4A94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F2E8E-97D4-42B3-B2EE-07526D8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E50F-EBD8-4C89-9246-1ACEF1B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61C71-0982-4E8F-BDF4-FBA5FF1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BA67E-381F-4ED5-A747-DF088EF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D507-A188-4D8F-A074-126D5D2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0EE27-3987-41C1-8AC4-8959727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47787-E78F-438E-871D-F0AE69CF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231A5-63BA-49E5-89E8-9A0E766E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34A95-BC35-49B7-987F-46557838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179-C99F-4537-8DA0-0DD3F26A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13075-B890-452D-A4B1-98390E6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4BE44-2633-44D0-8B71-FC396EC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4E576-6C42-4472-87DE-188CAC8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34610-B697-4641-90D7-46172F2D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AD565-0EC4-42F3-9781-1E63BE3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4ABE2-37A5-4FCF-8BEF-EE504B8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C1953-3C9C-436A-A4C4-044FD64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AEE85-64A6-4E56-9BDB-CDB21F3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C13D2-AB39-4448-94BF-7AF1555A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AA693-A600-4026-A712-FA3B71E8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FB2-FFF5-4772-B162-5E7DD953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3308-9B71-4240-AA98-E7D9B2E1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73694-7F19-42F2-95CC-AF23E6A0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57A00-A29F-4C6C-867A-A2165D3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57F0-391C-4806-B5C1-4FC04106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B1513-E3B2-44A7-AC2A-2E3C2DE4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9AE28-1A51-4707-9086-848F7B6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C981F-4A8C-4BC3-91F4-940152FE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57518-8606-4486-823C-2CD0877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A2F4A-AEF6-4220-B5A1-627AFEB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1F9D7-DF98-4C3F-A701-D2F86AC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D451-06E5-4A1A-90DD-F6746D3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8F802-8F26-4BF1-AAD8-9E672BD9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C2B7-CA4D-475E-8663-2BDDED06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C4FF6-E94B-4240-8BF7-F59F1DA7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3499F-D421-47DC-9A9F-E2CB6D7D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2DF38-5895-42E5-B5C8-CC6ACEE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C5C97-A820-47EA-AC1D-ABE243EB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C8A9C-07C8-46F2-9AB8-45C6E9E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1388-9D7F-4588-9543-59C3C8D1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3FB6D-A17F-426F-BB42-B01AC65D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31B5F-FC31-4CD3-BB0A-1AE6429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AFD-8AEA-4E58-AA73-DA6D2ACC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1AC26-A91A-4F96-93FD-7F4093C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A92C6-0E4E-4023-A5DE-89CC5E9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0F71-64EC-4C79-B203-C01D85E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AAB5E-BCC4-479B-808A-7981A36D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1B881-54D8-49E7-9C9E-44DA091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4ECC0-0220-4B60-B58E-F0363ED4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26827-6932-49A6-AC70-0F3E74C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C8FEC-6763-4DA6-8343-6B05CE4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10146-341A-4C29-A67C-13B01F3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350C3-FFDA-4269-8BD3-57448580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8FA7-C015-4FE2-AA03-F0C09C38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50204-FA37-4685-AE5B-CC60E9DE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A40E8-FA33-41FB-BB97-8768E99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D033F-2BF5-40E5-9AB4-1967FBA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D45DB-548B-4BF7-8F5B-20A5262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FF0D7-811C-429D-A2F7-6B5ED67C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FA3C3-5F0B-47D2-B514-499F7042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7A527-BA6E-4ACB-A137-09DBD4AB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1F87A-00CC-4CAE-B45D-F72A4AD1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BC15F-C9CC-420C-9808-16515AB6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5BBFB-6ED9-4A15-9BD1-D7E85575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3712-B914-4138-A667-20004DEC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B6837-F610-444D-8116-6B3EAE5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82710-E083-4952-A22B-7DC293B9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94CBD-161B-408F-AFC2-9F0578F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9F1C7-1507-436F-8CCC-FE42D9C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79A40-C49E-4FEB-8194-63F2DDD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6CF43-97A2-4945-BBE2-53627A17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A4DAF-33E3-4BF2-8322-8297138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06DF4-AC4C-4345-AE38-C349C211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03171-8D0B-4C70-A4C6-0F2A2CF8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D36F0-610D-4F41-AA8C-ECC2EE95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6D0A-B76B-4B14-A68F-FB84EE1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713E9-BD2D-431C-B226-E4FCD16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7CD23-D04C-4B7F-94EB-49E9924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C9F8B-8539-44DF-A293-41E981AD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B75BE-A63B-40F3-A8EE-FFD4529F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59693-A8E9-4321-8272-049CCE4B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3849C-C590-4AB5-B7B0-6131137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F88B3-EAD4-4509-8F4F-4F70E77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A52D8-823B-4F83-BEE6-FF75000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9B6D9-FB5F-4ECC-841A-B485F76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C2100-B175-4DDE-8907-4A4AAA9A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5F1-B55C-4BCF-B3DA-06F0AED0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1DAF8-ABD0-4F37-9EEF-D2F0B967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2E2F2-26ED-4504-9711-474E9B8B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B3A18-6F8B-48A8-8DCA-805EBE67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2223A-2A72-4BC6-8BA0-04A675F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BD3C4-7CD8-4B1C-BC15-ACF2543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F639F-729B-4EFC-AE41-968C7D3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02949-23AE-4595-BDB7-BA98C98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1A44C-C3C5-4CF4-915E-9CE9259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A1B18-F5BF-4897-A01B-EC9207A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6613E-A508-4965-90DB-0D4CE63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8C17-A28D-4B4D-BA9D-B0765D9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FC0D7-8404-46AB-B33B-CC2398AC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7FCFF-A607-4CAE-9B1E-5DEEC0EA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8B5F2-7C11-4FC6-9D9D-A1CBCF9A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07F-CB3E-4C72-AB47-92D31A4E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C41D-E33D-4B51-AAFB-70B61CC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BB0-2826-4A98-9E9A-53C4890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B793-16F0-4878-8675-E475B02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74EB-171C-4606-A8C7-3F023008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02E2-5A3D-49DC-BD7A-D843D4A1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E9D7-8C5A-459C-83AC-1798AC8D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7E76-9092-4790-9B29-FC58CB27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72C1-37CB-4652-A1EF-D19BFFD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A33A-3867-4F42-A197-3DD1A5C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FAD5-F2E0-46C1-85A2-359D312D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1BA-A64B-4652-8784-11B17892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284D-4AEF-450B-8284-416DA9F0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1C0B-19B1-40C4-89C4-DF56D0C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17CF-2D64-4888-8A9D-73223B2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FBA1-0F32-4014-B5A9-B6B8C24F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7871-061C-4D93-A909-EACE2E9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A40D-08A0-4F78-A94A-C2D7971D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A131-27D9-41ED-ABFD-CA6FB403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80EE-14FD-46B5-89B1-1D24B4E5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7C19-8FB7-4A3A-A687-C4467AA1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EC35-A262-4A1B-BFB9-F9EA979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B01-9F21-4489-936F-4A8AA552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A132-0887-4BA6-AEC0-6081FE8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43A0-140D-41AB-B5A9-B74739B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39F8-BA2B-44C5-80CF-B70549B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435E-783D-401B-AD52-561EED6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307D-4EB8-4B7B-9D7A-CC931BE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5BFE-9009-42A0-B4F9-29E5424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ED66-CF0D-46E7-88B5-DE8B96B2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FEBB-CFE9-4439-9077-AE17C949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0EF4-F912-41F6-B192-42F3F0B5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1FCF-DD22-4E5B-B246-5C0FC56F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106-F853-46F1-988A-BD710CA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04CC-D6F8-4B57-A328-AB488C6A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3129-71E7-417C-92E2-C7B4F4D6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36BE-9117-4797-AE38-E84CA033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2C196-FAEF-4709-B40E-75AAA96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9FC4-F2BE-4552-85C0-2A21488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4CF8-A0C8-44C0-88C0-BC7E0D6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38C4-C157-4999-A513-4402770C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F6CD-817E-4658-B1B7-96292B97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7D73-9C40-40E9-ACF0-CB28327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5A99-E0E7-4E7E-9578-F1885321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285-6EA6-4D0B-B633-2113D586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D4F5-5E38-456E-8B85-143A2A29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D83A-A354-4C5A-AED2-08C64131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97A3-FC77-4488-87AF-E18BDECD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ED47-CAE2-4C5D-AC37-B6FD229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B6CC-C6E8-4EAF-9FFA-6E28770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4457-53E3-49BB-A6D4-2ABFDBB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FD6D-5874-4060-8B68-8D7CF442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DE4A-91CB-42ED-A20E-2296A46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C5AD-CF3F-47AE-B381-B74F729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98DA-752E-4EB6-8FFD-8DD490F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70D-3E47-449E-AEA1-8D08C7C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CE6C-0E45-4777-BB97-7F3C003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7852-01E3-4870-B49F-70E7716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24FA-B131-4F7B-9F86-82ECDDCB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77E01-94D6-488E-BCD8-850B8B30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5E58F-C93F-4BD7-B642-6B58C9E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18BB-DB93-43CB-9E54-CA045424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EEEFE-4454-4820-A3EC-05CA1DE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30D3-A337-4A98-9E9B-938578FC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B2DB-A032-4B5F-867F-B1D444F0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D621-C87F-43EB-9503-13329D8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7EA-418C-4CD9-86D8-9A862F3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6EDB-0935-4ABB-8C18-184E8E4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05AFF-AD2B-4BA6-98BC-C1AD0A6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6EE3-5FA2-4973-923B-919374F8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E85B-0F09-4342-9B5F-325DAE33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5D64-4442-4877-9DF6-3003DA36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99469-2558-4076-AADF-385A8EB3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E9F27-87BF-4617-9314-6EF0C7CF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6ACA-170A-470E-8E32-B2C1F02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B029-786C-458A-9E32-8C8A256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B949F-7138-47F8-B124-10BD8855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23C-A621-4115-BA3F-52026B0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1A19-6238-4ED8-B4D2-87EB16B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DEFD5-2DD0-4126-8A4A-670872D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F0A9-A3E4-4010-8C07-482F734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6C20-49E9-460E-9617-2A3D663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0DC70-580D-4339-B2C9-039344BB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F9A0-3AF7-47FB-88EE-238D02A7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752A2-2BC8-423C-90CB-2B81C58B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714F5-1C7C-4E13-A9EF-DEADB2D4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4FC4-872C-4205-918A-6E35F074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85EA4-45F8-47F1-B01E-6D60559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5DB-3317-478B-BEE2-E95D32E014E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0645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d7f7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0645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d7f7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D8E1-1E65-4014-B79C-DD014837DA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44EA-54E0-4769-8AC6-C5C0EDB7FB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155-5911-4152-9466-AC0C6FC50EC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1EEC-79B3-4168-8FDC-D54784AD14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DF6-D522-4314-9F3D-4D4DD2705E3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612B-2A74-48E8-B752-75728351B1C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3C2-B3DF-48E5-9DFF-93C349D3435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064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0645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fd7f7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0645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fd7f7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432-04C6-471F-B8C4-64617B4E3898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DC8-AB9D-4D91-8F3A-2622CF961E1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643E-9AA5-4DBF-8C18-B0DC1FC8399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FFA3-7921-497B-A606-9A3E9053519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E835-407E-4890-9614-7CFB75DCB42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8A9-D537-4ECB-B76B-555D183BB0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8B07-2467-4465-A9B4-FC9048AD598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645c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fd7f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ECTRONICA DIGITAL :::: RAUL BARRETO QUINT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A6E-833E-4239-8CBB-76197DE761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762120" y="201888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OMPUERTAS LÓGICAS Y TABLAS DE 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B21-94D0-4B5F-BF06-93258E241EF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OLUC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Object 3"/>
          <p:cNvGraphicFramePr/>
          <p:nvPr/>
        </p:nvGraphicFramePr>
        <p:xfrm>
          <a:off x="971640" y="2576520"/>
          <a:ext cx="7488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76520"/>
                    <a:ext cx="7488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5519-C508-490B-950A-F28274D382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S DE VER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ABLA DE VERDAD PERMITE CONOCER TODOS LOS NIVELES DE SALIDA QUE CORRESPONDEN A CADA UNO DE LOS POSIBLES NIVELES DE ENTRADA QUE SE PUEDEN PRESENTAR EN UN CIRCUITO 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572-4520-4CEF-89C6-AE26A95DC1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MO CONSTRUIR UNA TABLA DE VER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ONSTRUIR UNA TABLA DE VERDAD HAY QUE TENER PRESENTE QUE LAS ENTRADAS CAMBIAN SEGÚN EL SISTEMA DE NUMERACION BINARIO (EJEMPLO PARA UN CIRCUITO DE TRES ENTRADAS: 000 001 010 011 100 … 1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OMPUERTA AND REPRESENTA UNA MULTIPLICACION B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OMPUERTA OR REPRESENTA UNA SUMA B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ND Y NOR SON LAS NEGACIONES DE AND Y OR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1AA7-F0AB-4C08-80C5-802499E5A5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BLAS DE VERDAD DE LAS COMPUERTAS LÓG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2" name="Object 5"/>
          <p:cNvGraphicFramePr/>
          <p:nvPr/>
        </p:nvGraphicFramePr>
        <p:xfrm>
          <a:off x="2119320" y="1828800"/>
          <a:ext cx="4905360" cy="43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828800"/>
                    <a:ext cx="490536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Marcador de número de diapositiva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9D0-22CF-4C37-9989-005D7CBF8E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IRCUITO DE EJEMPLO No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91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TENER LA TABLA DE VERDAD PARA EL SIGUIENTE CIRCUITO MOSTRADO EN LA FIGU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7" name="Object 4"/>
          <p:cNvGraphicFramePr/>
          <p:nvPr/>
        </p:nvGraphicFramePr>
        <p:xfrm>
          <a:off x="1116000" y="3716280"/>
          <a:ext cx="698328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716280"/>
                    <a:ext cx="698328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Marcador de número de diapositiva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5AC1-4C86-4E8A-9C95-6DABEDF5B7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OLUC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PUES DE HABER DETERMINADO LA ECUACION DE SALIDA (A+B)*C ESTAMOS LISTOS PARA CONSTRUIR LA TABLA DE VERDAD DEL CIRCU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Object 4"/>
          <p:cNvGraphicFramePr/>
          <p:nvPr/>
        </p:nvGraphicFramePr>
        <p:xfrm>
          <a:off x="4643280" y="2281320"/>
          <a:ext cx="4105440" cy="34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281320"/>
                    <a:ext cx="410544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9E77-4D21-4C31-86FA-96B62FDAB90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 No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E UN CIRCUITO LÓGICO CUYA ECUACION DE SALIDA ES (A+B)*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LUCION: VEMOS UNA SUMA NEGADA DE A+B, POR LO QUE NOS CONVENDRIA UTILIZAR UNA COMPUERTA NOR. Y SU SALIDA MULTIPLICARLA POR C (CON UNA COMPUERTA 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OCES NUESTRO CIRCUITO TIENE TRES ENTRADAS: A, B 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>
            <a:off x="5651640" y="234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2C61-853F-4AF7-9EFF-7DE67EA4236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RTAS LÓGICAS EN 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AS COMPUERTAS ESTAN ENCAPSULADAS Y DISPONIBLES EN EL MERCADO. A CONTINUACION SE MENSIONAN LOS CI* MÁS COMU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I 7404 CONTIENE SEIS INVEROR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I 7400 CONTIENE CUATRO COMPUERTAS NAND DE DO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7408 CONTIENE CUATRO COMPUERTAS AND DE DO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7432 CONTIENE CUATRO COMPUERTAS NOR DE DO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7402 CONTIENE CUATRO COMPUERTAS OR DE DOS ENTRAD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971640" y="5877000"/>
            <a:ext cx="73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* CI SIGLAS QUE HACEN REFERENCIA A CIRCUITO INTEGR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9022-8481-46C1-A675-F0CDF335759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RTA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ESPAÑOL “Y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A y B y C y D y …. SON UNO, LA SALIDA ES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QUIVALE A COLOCAR VARIOS CONTACTORES EN S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E8D8-9400-44E2-A7E0-FBDA4CBCC21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IMBOLO Y CIRCUITO EQUIVAL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Object 7"/>
          <p:cNvGraphicFramePr/>
          <p:nvPr/>
        </p:nvGraphicFramePr>
        <p:xfrm>
          <a:off x="1994040" y="1828800"/>
          <a:ext cx="5154480" cy="43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1828800"/>
                    <a:ext cx="515448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F54A-0796-49A8-B259-CDFDACA048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RTA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ESPAÑOL “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A ó B ó C ó D … SON UNO, LA SALIDA ES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EQUIVALENTE A VARIOS CONTACTORES CONECTADOS EN PARA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DD79-461B-4C78-A402-26F82E8378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IMBOLO Y CIRCUITO EQUIVAL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Object 3"/>
          <p:cNvGraphicFramePr/>
          <p:nvPr/>
        </p:nvGraphicFramePr>
        <p:xfrm>
          <a:off x="2298600" y="2606760"/>
          <a:ext cx="454680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8600" y="2606760"/>
                    <a:ext cx="45468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Marcador de número de diapositiva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94C0-54FA-4CF3-9F0E-E84F114017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RTA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PAÑOL “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QIVALE A UNA NEG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ENTRA UNO SALE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ENTRA CERO SALE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LINEA ARRIBA DE LA LETRA INDICA NEG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Object 4"/>
          <p:cNvGraphicFramePr/>
          <p:nvPr/>
        </p:nvGraphicFramePr>
        <p:xfrm>
          <a:off x="4427640" y="3244680"/>
          <a:ext cx="4321080" cy="14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244680"/>
                    <a:ext cx="432108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DEA-36D0-49B2-AF92-7871A31CAA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RTAS NAND Y 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COMPUERTA NAND ES LA NEGACION DE LA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A y B y C y D y … SON UNO LA SALIDA ES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COMPUERTA NOR ES LA NEGACION DE LA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 A ó B ó C ó D ó … ES UNO LA SALIDA ES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459-ADC9-4290-BE16-A4C6ED4102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IMBOLOS DE LAS COMPUERTAS NAND Y 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Object 3"/>
          <p:cNvGraphicFramePr/>
          <p:nvPr/>
        </p:nvGraphicFramePr>
        <p:xfrm>
          <a:off x="3557520" y="2325600"/>
          <a:ext cx="202716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7520" y="2325600"/>
                    <a:ext cx="20271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Marcador de número de diapositiva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5F76-7F8A-443F-ADD9-ED88ADEF5A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 No1 DE APLIC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645c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AR UN CIRCUITO LÓGICO QUE ACTIVE UNA ALARMA CUANDO UN SENSOR DE TEMPERATURA ENVIE UN NIVEL LÓGICO ALTO Ó CUANDO UN SENSOR DE PRESION ENVIE UN NIVEL LÓGICO ALTO Ó CUANDO AMBOS SENSORES ENVIEN UN NIVEL LÓGICO ALTO. ESTE CIRCUITO ADEMAS DEBE DISPONER DE UN SWITCH DE ENCENDIDO Y APAGADO ON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27:28Z</dcterms:created>
  <dc:creator>Pablo Turmero</dc:creator>
  <dc:description/>
  <dc:language>en-US</dc:language>
  <cp:lastModifiedBy>Pablo Turmero</cp:lastModifiedBy>
  <dcterms:modified xsi:type="dcterms:W3CDTF">2015-04-26T19:22:12Z</dcterms:modified>
  <cp:revision>34</cp:revision>
  <dc:subject/>
  <dc:title/>
</cp:coreProperties>
</file>