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D6FB-6CD5-431A-A0D3-51C82E744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64DA-E4D8-4FE1-A472-3F922C57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058A-E273-4B08-B3BA-4C6F2101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B679-219E-4662-A3F3-9CC1331FF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E90A-BEBD-4E32-BB99-0248B9A5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D7ED-45F3-4929-AD1C-A80A394A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C57F-6B61-479B-BF16-1B166CF4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E8D3-213C-4BAB-9953-F6FF9FD2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3BAD-C6BC-4758-B09D-81DABEF2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2DDB-7A9D-4BDB-BFC3-71715B43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5237-DA68-4A77-962F-62D02811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BBB1-745B-432C-920C-C3C70EF9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F131-98DE-4A7C-AEB2-D2F98D87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0B6D-E1B9-41C5-940F-CA3179F5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FBF7-A695-4943-83B2-AD717B8F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907D-6896-41BA-A12D-DB38C2595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3EF5-25ED-486F-BD41-7ADF03F4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B29B8-99C8-4FF9-AC19-031FEE51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17157-6B55-4765-820B-88F644DB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22EEB-DD8D-4586-8A94-179749C2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C3BDE-6E4F-4A84-88BC-338BCCD1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16DF7-AD61-44DE-AA20-35DD5603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B612-F4DB-4967-A656-2CFA4440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6D670-3437-43A3-8116-F35BDEE4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CFF8C-63CA-44C1-9D8D-9D3358E5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26C81-C814-4CD0-AEBE-AAA52AE7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3388C-0FAD-4885-8B19-3213F35B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0D81A-C5C6-43CC-8940-15DEDFD9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B8C6E-477F-43CB-B660-EF7042059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3A5D1-BD47-4F8A-A2AC-D939055E1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5E4BF-042F-42FE-A643-B0A9A41DD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3ED4B-BC51-42F2-924F-B8FC4CD0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A1E5A-9D72-4352-B708-8C4B0197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0D42-9327-47D6-B4E9-337BF045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46AF1-B1DF-46A9-8A66-48808A63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0D7EE-E9C0-4420-9528-5B4F32CB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D53AC-BEB7-4592-9DD5-ECEF629E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BFC36-1F4D-4F30-ABDB-026B07D9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1938A-F290-4667-9E0E-AD3A720E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8D22D-B672-48D1-B14F-94A14AB2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CF185-0432-499F-B727-49796420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80882-68DB-460F-A803-385F2B7F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F5C28-A510-4CFE-8560-03535BAB6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C0916-09ED-4E24-9DD9-7778CEB49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BB8D-6AAA-4A4C-B3E9-F2518702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04236-9748-4CED-A778-1B8023B3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A2492-9637-4361-AD7B-B46D2F62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52B56-CE89-434D-A5D1-C231E9CE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E8D9C-CD2E-4FA2-84C4-61A9274F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35475-096B-43D2-ABA7-91BA2FD0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06B8E-7491-4019-8F95-CDEFE01F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B9BA8-31BB-4507-AC3C-DC87EDE7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9CC1A-116C-4FFD-9D97-19A939BF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E8B73-6993-48BE-91BF-96E04B83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19EA0-0EDA-4D82-90C8-AF7AE592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8FB0-26DC-4125-82C3-016F0A33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40A2F-EC10-4EAD-8920-D5E943DB0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E1223-5E12-402F-9E03-412D95387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672C6-C122-406B-9E9E-20A44533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A992C-E63B-4ADC-8429-93D34B58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368D6-4F38-446F-89F1-EC72C78D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327A8-4519-41F5-B40A-1B761AD1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B15A8-0720-4E1D-BAD3-F7904B5B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5CCAB-517B-4BA4-989A-133F8DCA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E7432-3009-4785-9299-C854C181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06D86-46E6-4CF7-8D88-9EF26382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EFCF-4E37-4AB2-9350-30C9FC09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5D3AC-D0D8-4875-8312-01EC08B5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9D913-64BB-4E46-B987-7EE9F415F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C0CAF-FC08-46B9-8989-734DAACC3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CDD3A-8307-4872-8BA8-8F9BCA5A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98DE2-2C48-4C18-A8E1-4E16AD87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9EE59-392D-43E0-B7E4-CF94BAEE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44623-8AA0-4196-A1A6-B1EB0EAF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8EB07-D07B-4FE0-9682-6399918D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F4696-FE66-4E14-B696-A04E3A33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7AEB5-5E89-45AB-B1F9-DBC097FB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F55C-9585-4AA5-ADBE-68DD5A64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8904E-FF05-4408-AB0E-BCDB8CA1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FB575-7EAE-44BE-975D-35961758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F9488-F571-4575-AAC9-91C97377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1F720-B201-489C-A7C0-79A38E1C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60518-34DF-4888-925C-A0BCAC1B4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6A0F-1DEE-4682-A8BF-180DE3E2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470A-40F2-4A18-BE94-D26FA0C97001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D77D-B404-49FE-9641-74DAD5144739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7EBE-C76D-4E78-B66B-889937BD68ED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12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14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27FD-0DCF-445D-868A-25D769C8A508}" type="slidenum">
              <a:rPr b="0" lang="es-E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F403-FA84-4244-810C-83434B1DB01C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AB34-DD3A-49B4-88C4-0FA2B4D9C9A4}" type="slidenum">
              <a:rPr b="0" lang="es-E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65CA-6576-410A-9975-D05C64F260EC}" type="slidenum">
              <a:rPr b="0" lang="es-E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3 Título" descr=""/>
          <p:cNvPicPr/>
          <p:nvPr/>
        </p:nvPicPr>
        <p:blipFill>
          <a:blip r:embed="rId1"/>
          <a:stretch/>
        </p:blipFill>
        <p:spPr>
          <a:xfrm>
            <a:off x="426960" y="0"/>
            <a:ext cx="8229600" cy="14018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" descr=""/>
          <p:cNvPicPr/>
          <p:nvPr/>
        </p:nvPicPr>
        <p:blipFill>
          <a:blip r:embed="rId2"/>
          <a:stretch/>
        </p:blipFill>
        <p:spPr>
          <a:xfrm>
            <a:off x="465120" y="1428840"/>
            <a:ext cx="8247240" cy="13572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"/>
          <p:cNvPicPr/>
          <p:nvPr/>
        </p:nvPicPr>
        <p:blipFill>
          <a:blip r:embed="rId3"/>
          <a:stretch/>
        </p:blipFill>
        <p:spPr>
          <a:xfrm>
            <a:off x="500040" y="4643280"/>
            <a:ext cx="8185320" cy="17146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4"/>
          <a:stretch/>
        </p:blipFill>
        <p:spPr>
          <a:xfrm>
            <a:off x="1857240" y="2714760"/>
            <a:ext cx="2073240" cy="2000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5"/>
          <a:stretch/>
        </p:blipFill>
        <p:spPr>
          <a:xfrm>
            <a:off x="5500800" y="2714760"/>
            <a:ext cx="2073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1 Título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017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357120" y="1285920"/>
            <a:ext cx="8445600" cy="9288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4" descr=""/>
          <p:cNvPicPr/>
          <p:nvPr/>
        </p:nvPicPr>
        <p:blipFill>
          <a:blip r:embed="rId3"/>
          <a:stretch/>
        </p:blipFill>
        <p:spPr>
          <a:xfrm>
            <a:off x="1285920" y="2222640"/>
            <a:ext cx="591984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1 Título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0908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"/>
          <p:cNvPicPr/>
          <p:nvPr/>
        </p:nvPicPr>
        <p:blipFill>
          <a:blip r:embed="rId2"/>
          <a:stretch/>
        </p:blipFill>
        <p:spPr>
          <a:xfrm>
            <a:off x="214200" y="1243080"/>
            <a:ext cx="3071880" cy="31669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3"/>
          <a:stretch/>
        </p:blipFill>
        <p:spPr>
          <a:xfrm>
            <a:off x="5786280" y="1285920"/>
            <a:ext cx="3071880" cy="31669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"/>
          <p:cNvPicPr/>
          <p:nvPr/>
        </p:nvPicPr>
        <p:blipFill>
          <a:blip r:embed="rId4"/>
          <a:stretch/>
        </p:blipFill>
        <p:spPr>
          <a:xfrm>
            <a:off x="2000160" y="4500720"/>
            <a:ext cx="4699080" cy="2006280"/>
          </a:xfrm>
          <a:prstGeom prst="rect">
            <a:avLst/>
          </a:prstGeom>
          <a:ln w="0">
            <a:noFill/>
          </a:ln>
        </p:spPr>
      </p:pic>
      <p:sp>
        <p:nvSpPr>
          <p:cNvPr id="341" name="5 CuadroTexto"/>
          <p:cNvSpPr/>
          <p:nvPr/>
        </p:nvSpPr>
        <p:spPr>
          <a:xfrm>
            <a:off x="928800" y="648828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PROCESAMIENTO DE OPERACIONES CODIFICADAS EN BIN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1 Título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073160"/>
          </a:xfrm>
          <a:prstGeom prst="rect">
            <a:avLst/>
          </a:prstGeom>
          <a:ln w="0">
            <a:noFill/>
          </a:ln>
        </p:spPr>
      </p:pic>
      <p:sp>
        <p:nvSpPr>
          <p:cNvPr id="343" name="2 CuadroTexto"/>
          <p:cNvSpPr/>
          <p:nvPr/>
        </p:nvSpPr>
        <p:spPr>
          <a:xfrm>
            <a:off x="0" y="857160"/>
            <a:ext cx="5643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CONCEPTO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Circuitos capaces de memorizar el estado de las entradas y convertirlos en estado intern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salida en t depende de las entradas  y  también del estado int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BIESTABL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: Circuito que almacena indefinidamente el estado int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SINCRON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: Cambia al estar presentes las entradas ADECUA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ASÍNCRON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: Cambia al estar presente las entradas y la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señal de reloj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2"/>
          <a:stretch/>
        </p:blipFill>
        <p:spPr>
          <a:xfrm>
            <a:off x="0" y="5072040"/>
            <a:ext cx="9150480" cy="11905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" descr=""/>
          <p:cNvPicPr/>
          <p:nvPr/>
        </p:nvPicPr>
        <p:blipFill>
          <a:blip r:embed="rId3"/>
          <a:stretch/>
        </p:blipFill>
        <p:spPr>
          <a:xfrm>
            <a:off x="5643720" y="1285920"/>
            <a:ext cx="35002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1 Título" descr=""/>
          <p:cNvPicPr/>
          <p:nvPr/>
        </p:nvPicPr>
        <p:blipFill>
          <a:blip r:embed="rId1"/>
          <a:stretch/>
        </p:blipFill>
        <p:spPr>
          <a:xfrm>
            <a:off x="500040" y="0"/>
            <a:ext cx="8229600" cy="9446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"/>
          <p:cNvPicPr/>
          <p:nvPr/>
        </p:nvPicPr>
        <p:blipFill>
          <a:blip r:embed="rId2"/>
          <a:stretch/>
        </p:blipFill>
        <p:spPr>
          <a:xfrm>
            <a:off x="428760" y="1285920"/>
            <a:ext cx="8375400" cy="3500280"/>
          </a:xfrm>
          <a:prstGeom prst="rect">
            <a:avLst/>
          </a:prstGeom>
          <a:ln w="0">
            <a:noFill/>
          </a:ln>
        </p:spPr>
      </p:pic>
      <p:sp>
        <p:nvSpPr>
          <p:cNvPr id="348" name="3 CuadroTexto"/>
          <p:cNvSpPr/>
          <p:nvPr/>
        </p:nvSpPr>
        <p:spPr>
          <a:xfrm>
            <a:off x="1143000" y="5357880"/>
            <a:ext cx="72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Arial"/>
              </a:rPr>
              <a:t>FLANCO ACTIVO DE RELOJ: DE SUBIDA O DE BAJ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1 Títul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  <p:sp>
        <p:nvSpPr>
          <p:cNvPr id="350" name="2 CuadroTexto"/>
          <p:cNvSpPr/>
          <p:nvPr/>
        </p:nvSpPr>
        <p:spPr>
          <a:xfrm>
            <a:off x="214200" y="1214280"/>
            <a:ext cx="8572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Arial"/>
              </a:rPr>
              <a:t>DEFINICIÓN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: Circuitos lógicos que permanecen indefinidamente en uno de sus dos estados estables aunque hayan desaparecido las señales de entrada que lo llevaron a ese estad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Arial"/>
              </a:rPr>
              <a:t>TIPOS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: Síncronos y asíncron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(R-S; EDGE-TIGGERED;MASTER-SLAVE;T;LATCH; 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Arial"/>
              </a:rPr>
              <a:t>BIESTABLE ASÍNCRONO R-S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:  R=reset , salida Q=0  S= set, salida Q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R=0 y S=0, salida conserva el último valor indefinidam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R=1 y S=1, salida conserva el último valor indefinidam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R=1 y S=1, DEPENDE.: INSCRIPCIÓN PRIORITARIA, BORRADO PRIORIT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EJEMP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2"/>
          <a:stretch/>
        </p:blipFill>
        <p:spPr>
          <a:xfrm>
            <a:off x="214200" y="4586400"/>
            <a:ext cx="3175200" cy="2271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"/>
          <p:cNvPicPr/>
          <p:nvPr/>
        </p:nvPicPr>
        <p:blipFill>
          <a:blip r:embed="rId3"/>
          <a:stretch/>
        </p:blipFill>
        <p:spPr>
          <a:xfrm>
            <a:off x="3770280" y="4519440"/>
            <a:ext cx="5373720" cy="2338560"/>
          </a:xfrm>
          <a:prstGeom prst="rect">
            <a:avLst/>
          </a:prstGeom>
          <a:ln w="0">
            <a:noFill/>
          </a:ln>
        </p:spPr>
      </p:pic>
      <p:sp>
        <p:nvSpPr>
          <p:cNvPr id="353" name="5 Flecha derecha"/>
          <p:cNvSpPr/>
          <p:nvPr/>
        </p:nvSpPr>
        <p:spPr>
          <a:xfrm>
            <a:off x="1643040" y="4357800"/>
            <a:ext cx="1143000" cy="71280"/>
          </a:xfrm>
          <a:prstGeom prst="rightArrow">
            <a:avLst>
              <a:gd name="adj1" fmla="val 50000"/>
              <a:gd name="adj2" fmla="val 50110"/>
            </a:avLst>
          </a:prstGeom>
          <a:solidFill>
            <a:srgbClr val="f07f09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1 Título" descr=""/>
          <p:cNvPicPr/>
          <p:nvPr/>
        </p:nvPicPr>
        <p:blipFill>
          <a:blip r:embed="rId1"/>
          <a:stretch/>
        </p:blipFill>
        <p:spPr>
          <a:xfrm>
            <a:off x="426960" y="0"/>
            <a:ext cx="8229600" cy="10177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"/>
          <p:cNvPicPr/>
          <p:nvPr/>
        </p:nvPicPr>
        <p:blipFill>
          <a:blip r:embed="rId2"/>
          <a:stretch/>
        </p:blipFill>
        <p:spPr>
          <a:xfrm>
            <a:off x="3078000" y="857160"/>
            <a:ext cx="6066000" cy="37958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"/>
          <p:cNvPicPr/>
          <p:nvPr/>
        </p:nvPicPr>
        <p:blipFill>
          <a:blip r:embed="rId3"/>
          <a:stretch/>
        </p:blipFill>
        <p:spPr>
          <a:xfrm>
            <a:off x="0" y="4071960"/>
            <a:ext cx="3929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1 Título" descr=""/>
          <p:cNvPicPr/>
          <p:nvPr/>
        </p:nvPicPr>
        <p:blipFill>
          <a:blip r:embed="rId1"/>
          <a:stretch/>
        </p:blipFill>
        <p:spPr>
          <a:xfrm>
            <a:off x="426960" y="0"/>
            <a:ext cx="8229600" cy="858960"/>
          </a:xfrm>
          <a:prstGeom prst="rect">
            <a:avLst/>
          </a:prstGeom>
          <a:ln w="0">
            <a:noFill/>
          </a:ln>
        </p:spPr>
      </p:pic>
      <p:sp>
        <p:nvSpPr>
          <p:cNvPr id="358" name="2 CuadroTexto"/>
          <p:cNvSpPr/>
          <p:nvPr/>
        </p:nvSpPr>
        <p:spPr>
          <a:xfrm>
            <a:off x="714240" y="107172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Arial"/>
              </a:rPr>
              <a:t>BIESTABLE SÍNCRONO R-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4946400" cy="1795320"/>
          </a:xfrm>
          <a:prstGeom prst="rect">
            <a:avLst/>
          </a:prstGeom>
          <a:ln w="0">
            <a:noFill/>
          </a:ln>
        </p:spPr>
      </p:pic>
      <p:sp>
        <p:nvSpPr>
          <p:cNvPr id="360" name="4 CuadroTexto"/>
          <p:cNvSpPr/>
          <p:nvPr/>
        </p:nvSpPr>
        <p:spPr>
          <a:xfrm>
            <a:off x="785880" y="342900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Arial"/>
              </a:rPr>
              <a:t>BIESTABLE EDGE-TIGGERED  O DE DISPARO POR FLAN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3" descr=""/>
          <p:cNvPicPr/>
          <p:nvPr/>
        </p:nvPicPr>
        <p:blipFill>
          <a:blip r:embed="rId3"/>
          <a:stretch/>
        </p:blipFill>
        <p:spPr>
          <a:xfrm>
            <a:off x="236520" y="4071960"/>
            <a:ext cx="86551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1 Título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285840" y="2857680"/>
            <a:ext cx="8512200" cy="3690720"/>
          </a:xfrm>
          <a:prstGeom prst="rect">
            <a:avLst/>
          </a:prstGeom>
          <a:ln w="0">
            <a:noFill/>
          </a:ln>
        </p:spPr>
      </p:pic>
      <p:sp>
        <p:nvSpPr>
          <p:cNvPr id="364" name="4 CuadroTexto"/>
          <p:cNvSpPr/>
          <p:nvPr/>
        </p:nvSpPr>
        <p:spPr>
          <a:xfrm>
            <a:off x="642960" y="150012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MASTER-SLAVE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1 Título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6" name="2 CuadroTexto"/>
          <p:cNvSpPr/>
          <p:nvPr/>
        </p:nvSpPr>
        <p:spPr>
          <a:xfrm>
            <a:off x="500040" y="1571760"/>
            <a:ext cx="8143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También denominados de conmutación. Cambian el estado en su salida siempre que en su entrada se alcance el valor 1 (con un flanco ascendente). La frecuencia de salida es la mitad de la entrada. Se forman a partir de biestables tipo 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2"/>
          <a:stretch/>
        </p:blipFill>
        <p:spPr>
          <a:xfrm>
            <a:off x="714240" y="4214880"/>
            <a:ext cx="4038840" cy="21621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"/>
          <p:cNvPicPr/>
          <p:nvPr/>
        </p:nvPicPr>
        <p:blipFill>
          <a:blip r:embed="rId3"/>
          <a:stretch/>
        </p:blipFill>
        <p:spPr>
          <a:xfrm>
            <a:off x="4857840" y="4214880"/>
            <a:ext cx="321444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1 Título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"/>
          <p:cNvPicPr/>
          <p:nvPr/>
        </p:nvPicPr>
        <p:blipFill>
          <a:blip r:embed="rId2"/>
          <a:stretch/>
        </p:blipFill>
        <p:spPr>
          <a:xfrm>
            <a:off x="642960" y="1500120"/>
            <a:ext cx="78804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1 Título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SON FUNCIONES LÓGICA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REPRESENTADAS POR TABLAS DE VERDA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SIMPLIFICABLES POR LÓGICA BOOLEAN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SIMPLIFICABLES POR KARNAUG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APLICACIONES: funciones lógicas y realización de sistemas de magnitudes numérica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1 Título" descr=""/>
          <p:cNvPicPr/>
          <p:nvPr/>
        </p:nvPicPr>
        <p:blipFill>
          <a:blip r:embed="rId1"/>
          <a:stretch/>
        </p:blipFill>
        <p:spPr>
          <a:xfrm>
            <a:off x="426960" y="285840"/>
            <a:ext cx="8229600" cy="1396800"/>
          </a:xfrm>
          <a:prstGeom prst="rect">
            <a:avLst/>
          </a:prstGeom>
          <a:ln w="0">
            <a:noFill/>
          </a:ln>
        </p:spPr>
      </p:pic>
      <p:sp>
        <p:nvSpPr>
          <p:cNvPr id="372" name="2 CuadroTexto"/>
          <p:cNvSpPr/>
          <p:nvPr/>
        </p:nvSpPr>
        <p:spPr>
          <a:xfrm>
            <a:off x="928800" y="2071800"/>
            <a:ext cx="778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La salida Q sigue a la entrada D mientras está activa la señal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2786040" y="3571920"/>
            <a:ext cx="432756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1 Título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5" name="2 CuadroTexto"/>
          <p:cNvSpPr/>
          <p:nvPr/>
        </p:nvSpPr>
        <p:spPr>
          <a:xfrm>
            <a:off x="714240" y="15001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La señal de entrada se transmite a la salida Q, manteniendo dicho valor aunque se desactive la señal de control C. Realiza la función memor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2"/>
          <a:stretch/>
        </p:blipFill>
        <p:spPr>
          <a:xfrm>
            <a:off x="1285920" y="3071880"/>
            <a:ext cx="60530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1 Título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8" name="2 CuadroTexto"/>
          <p:cNvSpPr/>
          <p:nvPr/>
        </p:nvSpPr>
        <p:spPr>
          <a:xfrm>
            <a:off x="642960" y="1643040"/>
            <a:ext cx="8215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CONTADORES: Cadena de biestables cuya salida representa, en un código adecuado, el número de impulsos que aparecen en la entr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REGISTROS DE DESPLAZAMIENTO: Cadena de biestables en los que cada uno de ellos , en cada impulso de señal, cede su estado al siguiente y toma el estado del biestable que le prece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MEMORIA: circuitos secuenciales capaces de  almacenar inform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1 Título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Para funciones sencillas: puertas lógica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Para funciones complejas: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Decodificado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Codificado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Demultiplexado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Multiplexado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Convertidores de código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1 Título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4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NIVEL ACTIVO ALTO: LINEA ACTIVA A 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NIEL ACTIVO BAJO: LINEA ACTIVA A O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2"/>
          <a:stretch/>
        </p:blipFill>
        <p:spPr>
          <a:xfrm>
            <a:off x="388800" y="785880"/>
            <a:ext cx="8437680" cy="12859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"/>
          <p:cNvPicPr/>
          <p:nvPr/>
        </p:nvPicPr>
        <p:blipFill>
          <a:blip r:embed="rId3"/>
          <a:stretch/>
        </p:blipFill>
        <p:spPr>
          <a:xfrm>
            <a:off x="1714680" y="2643120"/>
            <a:ext cx="5114880" cy="15717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"/>
          <p:cNvPicPr/>
          <p:nvPr/>
        </p:nvPicPr>
        <p:blipFill>
          <a:blip r:embed="rId4"/>
          <a:stretch/>
        </p:blipFill>
        <p:spPr>
          <a:xfrm>
            <a:off x="1785960" y="5143680"/>
            <a:ext cx="510552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1 Título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"/>
          <p:cNvPicPr/>
          <p:nvPr/>
        </p:nvPicPr>
        <p:blipFill>
          <a:blip r:embed="rId2"/>
          <a:stretch/>
        </p:blipFill>
        <p:spPr>
          <a:xfrm>
            <a:off x="1357200" y="1643040"/>
            <a:ext cx="6204240" cy="2214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"/>
          <p:cNvPicPr/>
          <p:nvPr/>
        </p:nvPicPr>
        <p:blipFill>
          <a:blip r:embed="rId3"/>
          <a:stretch/>
        </p:blipFill>
        <p:spPr>
          <a:xfrm>
            <a:off x="96840" y="4071960"/>
            <a:ext cx="4773600" cy="22147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"/>
          <p:cNvPicPr/>
          <p:nvPr/>
        </p:nvPicPr>
        <p:blipFill>
          <a:blip r:embed="rId4"/>
          <a:stretch/>
        </p:blipFill>
        <p:spPr>
          <a:xfrm>
            <a:off x="4632480" y="4071960"/>
            <a:ext cx="4511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1 Título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4161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"/>
          <p:cNvPicPr/>
          <p:nvPr/>
        </p:nvPicPr>
        <p:blipFill>
          <a:blip r:embed="rId2"/>
          <a:stretch/>
        </p:blipFill>
        <p:spPr>
          <a:xfrm>
            <a:off x="428760" y="785880"/>
            <a:ext cx="8291520" cy="12859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00"/>
            </a:outerShdw>
          </a:effectLst>
        </p:spPr>
      </p:pic>
      <p:pic>
        <p:nvPicPr>
          <p:cNvPr id="321" name="Picture 3" descr=""/>
          <p:cNvPicPr/>
          <p:nvPr/>
        </p:nvPicPr>
        <p:blipFill>
          <a:blip r:embed="rId3"/>
          <a:stretch/>
        </p:blipFill>
        <p:spPr>
          <a:xfrm>
            <a:off x="142920" y="3357720"/>
            <a:ext cx="4194000" cy="25002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"/>
          <p:cNvPicPr/>
          <p:nvPr/>
        </p:nvPicPr>
        <p:blipFill>
          <a:blip r:embed="rId4"/>
          <a:stretch/>
        </p:blipFill>
        <p:spPr>
          <a:xfrm>
            <a:off x="4500720" y="2857680"/>
            <a:ext cx="42814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1 Título" descr=""/>
          <p:cNvPicPr/>
          <p:nvPr/>
        </p:nvPicPr>
        <p:blipFill>
          <a:blip r:embed="rId1"/>
          <a:stretch/>
        </p:blipFill>
        <p:spPr>
          <a:xfrm>
            <a:off x="457200" y="55440"/>
            <a:ext cx="8229600" cy="2187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" descr=""/>
          <p:cNvPicPr/>
          <p:nvPr/>
        </p:nvPicPr>
        <p:blipFill>
          <a:blip r:embed="rId2"/>
          <a:stretch/>
        </p:blipFill>
        <p:spPr>
          <a:xfrm>
            <a:off x="2428920" y="2000160"/>
            <a:ext cx="4533840" cy="22766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"/>
          <p:cNvPicPr/>
          <p:nvPr/>
        </p:nvPicPr>
        <p:blipFill>
          <a:blip r:embed="rId3"/>
          <a:stretch/>
        </p:blipFill>
        <p:spPr>
          <a:xfrm>
            <a:off x="1955880" y="4357800"/>
            <a:ext cx="51163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1 Título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"/>
          <p:cNvPicPr/>
          <p:nvPr/>
        </p:nvPicPr>
        <p:blipFill>
          <a:blip r:embed="rId2"/>
          <a:stretch/>
        </p:blipFill>
        <p:spPr>
          <a:xfrm>
            <a:off x="142920" y="1714680"/>
            <a:ext cx="9001080" cy="14554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"/>
          <p:cNvPicPr/>
          <p:nvPr/>
        </p:nvPicPr>
        <p:blipFill>
          <a:blip r:embed="rId3"/>
          <a:stretch/>
        </p:blipFill>
        <p:spPr>
          <a:xfrm>
            <a:off x="0" y="3857760"/>
            <a:ext cx="914400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1 Título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927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"/>
          <p:cNvPicPr/>
          <p:nvPr/>
        </p:nvPicPr>
        <p:blipFill>
          <a:blip r:embed="rId2"/>
          <a:stretch/>
        </p:blipFill>
        <p:spPr>
          <a:xfrm>
            <a:off x="357120" y="785880"/>
            <a:ext cx="8572680" cy="13032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"/>
          <p:cNvPicPr/>
          <p:nvPr/>
        </p:nvPicPr>
        <p:blipFill>
          <a:blip r:embed="rId3"/>
          <a:stretch/>
        </p:blipFill>
        <p:spPr>
          <a:xfrm>
            <a:off x="642960" y="2214720"/>
            <a:ext cx="7929720" cy="3948120"/>
          </a:xfrm>
          <a:prstGeom prst="rect">
            <a:avLst/>
          </a:prstGeom>
          <a:ln w="0">
            <a:noFill/>
          </a:ln>
        </p:spPr>
      </p:pic>
      <p:sp>
        <p:nvSpPr>
          <p:cNvPr id="332" name="4 CuadroTexto"/>
          <p:cNvSpPr/>
          <p:nvPr/>
        </p:nvSpPr>
        <p:spPr>
          <a:xfrm>
            <a:off x="857160" y="635796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S=Do.mo+D1m1+D2m2+D3m3             ejemp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3" name="6 Conector recto de flecha"/>
          <p:cNvCxnSpPr/>
          <p:nvPr/>
        </p:nvCxnSpPr>
        <p:spPr>
          <a:xfrm>
            <a:off x="7357680" y="6571800"/>
            <a:ext cx="786600" cy="2520"/>
          </a:xfrm>
          <a:prstGeom prst="straightConnector1">
            <a:avLst/>
          </a:prstGeom>
          <a:ln w="25560">
            <a:solidFill>
              <a:srgbClr val="f07f0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21:17:52Z</dcterms:created>
  <dc:creator>Pablo Turmero</dc:creator>
  <dc:description/>
  <dc:language>en-US</dc:language>
  <cp:lastModifiedBy>Pablo Turmero</cp:lastModifiedBy>
  <dcterms:modified xsi:type="dcterms:W3CDTF">2015-04-28T18:20:09Z</dcterms:modified>
  <cp:revision>53</cp:revision>
  <dc:subject/>
  <dc:title/>
</cp:coreProperties>
</file>