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  <p:custShowLst>
    <p:custShow name="Presentación personalizada 1" id="0">
      <p:sldLst>
        <p:sld r:id="rId18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C350-7CCB-47F0-9071-77CFBE0DE8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0EE8-370A-47E8-8261-9A1AB7D1AFA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1EF2-EF70-4517-9492-00A3A74DE3D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DA1F-8D1C-4B12-BA6F-2D00BF14783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369F-4411-4EB3-849C-C65603F0B15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9737-71B0-4551-9158-DB4E4C8357F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71B8-FE84-495B-8CAF-8B40B53CA60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9398-FDD0-4DF7-9ED7-D704B2F5882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2FDD-FCB8-401D-8AA8-42784A8441C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45E4-423B-449F-A52D-742393539A2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42D4-50AA-428F-BEB3-B3198AD771A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518F-7602-4228-8F18-DB480A24F2D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5821-593E-4FAD-A5D4-D7ACD96D9A4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B93-EF12-4E8C-876D-12594351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36D-6A9B-49CF-A9FA-0A95D570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36AC7-8462-48F6-8A3B-77374376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05F06-EC9B-4C24-8963-844C447A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BB3E3-B60F-479F-A885-0BF9AD92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71E1C-D39E-4D00-89E3-24E77DE5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FDFBF-5D59-4776-AF70-F8BAFA2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51EE4-84BD-4291-8286-6D81FA51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4D9D8-7671-4071-8E84-EBE25771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9A8DB-6F23-4AE4-A49C-25D0EB9D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2C988-3EA0-469C-90FB-A56F1721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43D51-7D20-49BC-831D-5D571FF3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BAF-34A9-4010-AB5D-F4567125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D6A4E-0614-4478-B403-06AE6000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D0D09-FDDA-43B7-A1E4-196BA124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8A8FA-2884-40B2-9656-E28B05C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F0793-34D1-4F6C-B20C-4D9145F1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49245-D4D2-433C-8292-E0631B8B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04D7D-BA6F-4BE5-85C1-06707BB7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9A5A4-5699-4AE0-938F-4F7DE71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6B5F0-30C0-4566-9C9B-7C2F40DA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6D140-CA33-4EEB-AA5F-A9C4B1D0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81D88-80C3-4694-8423-33B5DEE0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4CD-83A2-4D6F-940D-2CFD893F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39DF3-2C74-4B6D-B10E-24BB7949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21794-2275-4697-A1CD-C41C3C59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D1BB8-3B61-44C9-B18F-BAA75EF5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0D456-F77E-4CB0-852B-D87A5B94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CC55E-3065-4E67-AA2A-4817AA44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B63FB-00B4-429A-B119-991340DD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E8AE7-A35C-4F7E-B898-BA762ACC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9C5BA-4498-4B12-AEF7-F1C665BF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CE600-5384-4E45-A82A-069B0313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D37AB-2056-4978-8A7F-53E07E11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5597-E35C-4F54-8215-52481E1E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0545E-26AF-4203-936E-4EEC4C2B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AD3BB-ABDD-43B3-97AB-4D3E4962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E8B63-F589-4A86-BBF4-23AC4620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7E784-2F3A-4413-880B-C20347E2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EC0D5-E1E6-4C3B-A064-74BF90B4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24133-4CD0-4B08-B1EE-35CF7648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4DD52-4463-4B59-8420-7E1B7DAF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E76B3-0085-4299-9D71-A2E561CB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25061-86F2-4E98-B3D8-F60068E9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17385-0296-47BA-B367-23FE5395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89C9-6DA9-4788-A3F2-722F7AF4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46FDB-2B6F-46CF-B620-3532B512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03104-89DB-4676-8DE2-B033F7B2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5715E-8838-4419-BEC3-71A82883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39421-AF4D-4890-BB72-FDBFF47F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F4D4E-AC14-4CBD-9075-9151C75D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88992-34CA-414C-BF30-5E60E053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6E0A1-DF59-4BE7-8D56-6940C80C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B8728-8D95-4630-8518-E88AB840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50F6C-75F8-4B5C-8A7B-8C04F5D9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31446-E42D-4B1D-ABF5-49D8FD87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54ED-6005-4BC8-B7FE-FEB0A057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27593-A82F-4543-9F17-9D3046F9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89727-40F6-469F-84BB-D7734B4A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0E21A-B032-41C0-A08D-A29ADEF8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8530F-8984-49B5-8920-EEBDEA5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EFB25-BC6D-47F7-9EC7-2655F3B4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9448E-C544-4FA8-89C2-73D9D16A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DFDD9-11F9-4193-9C7D-3485A522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FBD66-FAA1-4E35-A3C6-B8CB9514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23587-610F-42D7-B804-70F317F4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2A4E3-9628-4F1B-A970-6A2EF9A0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703D-4C54-4009-9A1C-9A340EF3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6AC2B-FFB0-4296-BAA4-53AA83AA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4D43D-D492-4E0A-8A96-B81E15B4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92ECD-5534-465B-A318-15238CD2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F9FA0-2962-4AE6-83C5-55EC9942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E5C9E-1DAD-4493-A4D2-A151E8DC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AED02-07C5-4908-895F-61C3A4B3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E0B5BA-5908-4146-8F0F-EB5AEEAA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AB06B-1E59-4B47-ADD7-2AC73288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DF242-7096-428E-AF90-7D46ACF1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56ED0-8628-4627-8B04-D016F2FB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BF5B-A606-444D-8A8B-61786279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686BC-21A7-4D05-8791-D1F5C5DE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B6E55-5264-4334-89A5-CC1BFF78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6BE05-F4A1-4316-86AF-D09F477E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A807E-5B4D-470E-913A-0ABAEA4A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AE966-7DBB-4730-9EC3-F2DFF9EA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3DB5C-795C-4FA1-A707-E46C2FEA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2EE72-BBA0-486A-9A67-6B2D91C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DDBCD-CF93-472C-B28F-A112C2D5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F3941-BC7F-4221-9BBF-EA753EF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35A90-C907-42CB-B9F7-BA24B46A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D9FA-2C8C-446F-9FF3-BF46D420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F72FD-0EE1-4ACB-AE18-7A97CB4F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8839-B4DF-4CFC-BD41-64C70CB1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0AB-55C5-48ED-9766-F5788B1F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DBA6-6027-48E8-9AE4-EB1B054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7647-B427-4A0B-8062-5E98ED93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F8B4-AEDE-42ED-8702-8B58000D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6472-BC69-46DE-B754-DEA7084E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6C4E-C721-4239-A57C-1D8F020D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EA241-76D3-45A3-9452-4B8400FC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95C9-787B-4899-9177-9C5B69E2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BDE4-DA6B-4C16-B43F-789D18CB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60B74-51ED-4A11-8EE3-1BD3B2AE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EE2A-BC2F-4153-9CD1-F356DE88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7E3-F7CE-4CE7-89AA-5E4EC39B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31449-B62D-407F-93A2-D3E0173A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5AA0-DBFA-411B-96C6-F89E38D0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B8E90-41B2-4608-A1FF-93396382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802A2-2962-4AE5-93DC-48077981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23AE7-47F6-477E-BF5E-CF166961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3F6E-BF20-467D-B1C3-5D8D6007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34224-E19E-4D14-A3CC-D239A860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3EB7-2EC9-4392-B6CD-F04772E5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FD70-5F31-4617-AEDB-A4F08E37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AEB7-A580-4211-B4E9-F6DF522D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F05-F4C4-4BFF-94C1-BB418807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92147-2101-4623-9321-C4FD18EF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7C38-4AE4-48DA-B0C9-229333DA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478E-68B5-4D83-B599-5C797CAD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C2D2-5A05-4314-9D6E-AD3BEB99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D1DA-A2CD-47D4-B23B-B68BAD22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20ABD-FA0C-4D1B-9A92-062A0C3C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B350-8597-487F-8FA7-53C8D7B9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2817D-0537-4769-9268-02B5C052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7542B-D338-45CF-BF5F-CAB5DEE9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DE401-5D3A-48EE-8C98-DF3C626A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A13-EBFC-437C-A679-082E946A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25AC6-DD41-4B46-BD34-E8E039CA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619D-F217-49DC-A6A8-E967BD58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ADBB-3E86-4A41-839A-22442FE5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41C1-3B37-4135-8420-2DC66EB5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F609A-03A2-4D90-A1CB-70B31798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5F163-5387-43B9-8CC3-4186248E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35CC-250B-4BD8-8A16-61E87B4B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817AD-DD5E-48CD-B89F-EDACD68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EEC8A-0776-4C2C-B01C-89D51D67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57BE3-D2A4-4243-A8B6-5C555F4F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CB5-CDB7-443F-8993-4AA8C761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9D439-B728-4B9A-A4CE-73AAFDC1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24498-0345-449E-8F65-3983307F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92D9D-7E1E-44AC-886D-BF208208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B4A2E-562E-4903-8074-E0447113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4BFC7-0AF8-446A-AA14-45170D91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09597-67C7-4C99-91A9-FCDDCBC9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1E9E9-0D5A-475E-B461-411514F6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88E9D-D053-4717-B891-C67B3726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6D642-C1E8-4172-BBDC-EBF998C2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F0130-C939-47D7-A308-81ABAE41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B58-7BB9-4595-BEDB-17B374CC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33676-648A-41B7-8C4C-C42CD842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D5F7D-328C-4E29-8F11-1BD9BBA5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4E801-F459-4497-8BD4-0D83122B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78EE7-D78A-4D7E-AA2D-0344565C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659D1-8F0B-4411-BF62-3BE24A8E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F2F2D-E02C-4DEB-AC56-8CDDF3CC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008FE-41C0-4EC6-AA59-5C6A7A6B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EE7A5-D893-42D3-8BCD-B4FBAD7C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C0A95-7DE4-46F4-96F0-74DF5316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D35CA-F2F9-4CED-A949-4FE19766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B11-03E5-4868-892C-86BD3C24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D8FF1-D0D3-45CC-B640-AA597275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A0D4E-0651-4775-B153-0EAE614C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0469D-038A-4F76-A23D-63275430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C53D4-8977-4FC0-AF1B-FEDFC301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3E4B3-B147-4392-BE29-D9DDAC15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BBF3-1C19-4173-9FAB-4F0E3C05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37248-53F9-4182-80CE-BB225732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D1C3A-21A6-41CF-BB87-9C15D713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DD09C-ABC7-412F-9148-38869223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0CD7A-D3FE-499E-9300-3B5F4504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A03-8011-4E3A-9ECD-4AD3DA3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F1011-8911-477E-B53C-87BFF64E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EE420-82DB-4966-B425-8ABDDD8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B6392-F22C-4041-84F1-D5E052B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A5D77-5D0A-4382-BF75-EFE66BF3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B095F-88F2-4BF8-8D28-B047EF4E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D638C-FE93-4938-95FE-3395F4C3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E9924-65B5-4A61-BCCB-7B54678F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AB800-3EA0-4A8F-BAAA-50560CC3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84259-668E-4C8E-8815-74E88946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39B58-A934-48D8-9602-EF08009B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F484-7A59-4432-8089-DFEC1ED82C3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1AB5-413D-47A1-BC7C-52DB2256B0E9}" type="slidenum"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B3B8-E563-415B-B9D4-B5212A849BE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2BC7-77B5-4983-AA57-6AD4E136AB4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CCA7-9587-4E78-88EA-5EF94F724AB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6873-83CB-44C4-80B0-47DBB8705F4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2C68-7096-41A3-8479-602EA7D50C2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D37F-72E3-4E03-8935-0C38E5AE7EBE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B473-B82C-4A16-A32C-10626E0ED56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78A8-2DE5-4A76-B2E6-435EC161EBA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A6A2-88F1-4800-B109-EA4347853C6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589E-246A-4A85-B8BB-FFC12D30480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8871-0376-4F9D-A832-CD1315EFE9E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A87E-9FD1-4CF9-8FBC-FEFFC657644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jjjj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3E58-03DC-4789-A6C9-EF17D32D496A}" type="slidenum"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Rectangle 2" descr=""/>
          <p:cNvPicPr/>
          <p:nvPr/>
        </p:nvPicPr>
        <p:blipFill>
          <a:blip r:embed="rId1"/>
          <a:stretch/>
        </p:blipFill>
        <p:spPr>
          <a:xfrm>
            <a:off x="542880" y="1670040"/>
            <a:ext cx="80582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Rectangle 2" descr=""/>
          <p:cNvPicPr/>
          <p:nvPr/>
        </p:nvPicPr>
        <p:blipFill>
          <a:blip r:embed="rId1"/>
          <a:stretch/>
        </p:blipFill>
        <p:spPr>
          <a:xfrm>
            <a:off x="762120" y="536400"/>
            <a:ext cx="7699320" cy="114012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7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spcAft>
                <a:spcPts val="901"/>
              </a:spcAft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SEMISUMADOR: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Es un circuito digital que efectúa la suma binaria de los dos dígitos de entrada, proporcionando en su salida el resultado de la suma y el posible acarreo producid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SUMADOR TOTAL: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Es lo mismo que el semisumador, con la diferencia de que tiene una entrada más, que corresponde al acarreo de la etapa anterior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71" name="Object 2"/>
          <p:cNvGraphicFramePr/>
          <p:nvPr/>
        </p:nvGraphicFramePr>
        <p:xfrm>
          <a:off x="755640" y="4292640"/>
          <a:ext cx="194328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4292640"/>
                    <a:ext cx="19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7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165-5BA2-4A35-96B4-69027CF0CFF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4" name="Object 6"/>
          <p:cNvGraphicFramePr/>
          <p:nvPr/>
        </p:nvGraphicFramePr>
        <p:xfrm>
          <a:off x="3132000" y="4221000"/>
          <a:ext cx="1695600" cy="122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4221000"/>
                    <a:ext cx="1695600" cy="12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Line 8"/>
          <p:cNvSpPr/>
          <p:nvPr/>
        </p:nvSpPr>
        <p:spPr>
          <a:xfrm>
            <a:off x="2411280" y="5157720"/>
            <a:ext cx="1008360" cy="71640"/>
          </a:xfrm>
          <a:prstGeom prst="line">
            <a:avLst/>
          </a:prstGeom>
          <a:ln w="28440">
            <a:solidFill>
              <a:srgbClr val="43434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11"/>
          <p:cNvSpPr/>
          <p:nvPr/>
        </p:nvSpPr>
        <p:spPr>
          <a:xfrm>
            <a:off x="2987640" y="522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8" name="Object 23"/>
          <p:cNvGraphicFramePr/>
          <p:nvPr/>
        </p:nvGraphicFramePr>
        <p:xfrm>
          <a:off x="5867280" y="3789360"/>
          <a:ext cx="2044800" cy="172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9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67280" y="3789360"/>
                    <a:ext cx="204480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14"/>
          <p:cNvGraphicFramePr/>
          <p:nvPr/>
        </p:nvGraphicFramePr>
        <p:xfrm>
          <a:off x="5867280" y="3789360"/>
          <a:ext cx="2054520" cy="2268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1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3789360"/>
                    <a:ext cx="205452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Rectangle 2" descr=""/>
          <p:cNvPicPr/>
          <p:nvPr/>
        </p:nvPicPr>
        <p:blipFill>
          <a:blip r:embed="rId1"/>
          <a:stretch/>
        </p:blipFill>
        <p:spPr>
          <a:xfrm>
            <a:off x="762120" y="536400"/>
            <a:ext cx="7699320" cy="114012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RESTADOR: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Es muy similar al sumador, con la diferencia de que éste realiza la resta binaria entre los dígitos de entrada, y el </a:t>
            </a:r>
            <a:r>
              <a:rPr b="0" i="1" lang="es-ES" sz="1800" spc="-1" strike="noStrike">
                <a:solidFill>
                  <a:srgbClr val="ffffff"/>
                </a:solidFill>
                <a:latin typeface="Century Gothic"/>
              </a:rPr>
              <a:t>acarreo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recibe el nombre de </a:t>
            </a:r>
            <a:r>
              <a:rPr b="0" i="1" lang="es-ES" sz="1800" spc="-1" strike="noStrike">
                <a:solidFill>
                  <a:srgbClr val="ffffff"/>
                </a:solidFill>
                <a:latin typeface="Century Gothic"/>
              </a:rPr>
              <a:t>préstamo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 la práctica, los circuitos restadores suelen hacerse con sumadores, empleando la resta por complementació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84" name="Object 9"/>
          <p:cNvGraphicFramePr/>
          <p:nvPr/>
        </p:nvGraphicFramePr>
        <p:xfrm>
          <a:off x="5421240" y="2043000"/>
          <a:ext cx="2390760" cy="13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1240" y="2043000"/>
                    <a:ext cx="239076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11"/>
          <p:cNvGraphicFramePr/>
          <p:nvPr/>
        </p:nvGraphicFramePr>
        <p:xfrm>
          <a:off x="5508720" y="3716280"/>
          <a:ext cx="2098440" cy="237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7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08720" y="3716280"/>
                    <a:ext cx="209844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7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CB0A-E217-48C5-A255-A6C418263CC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Rectangle 2" descr=""/>
          <p:cNvPicPr/>
          <p:nvPr/>
        </p:nvPicPr>
        <p:blipFill>
          <a:blip r:embed="rId1"/>
          <a:stretch/>
        </p:blipFill>
        <p:spPr>
          <a:xfrm>
            <a:off x="762120" y="536400"/>
            <a:ext cx="7699320" cy="114012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752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COMPARADORES: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Son circuitos combinacionales que indican la igualdad o desigualdad de dos números binarios </a:t>
            </a:r>
            <a:r>
              <a:rPr b="0" i="1" lang="es-ES" sz="18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y </a:t>
            </a:r>
            <a:r>
              <a:rPr b="0" i="1" lang="es-ES" sz="18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de n bits cada un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uelen disponer de entradas de acoplamiento en cascada, para poder comparar palabras con mayor número de bits de los permitidos por el comparador que usamo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1" name="Object 4"/>
          <p:cNvGraphicFramePr/>
          <p:nvPr/>
        </p:nvGraphicFramePr>
        <p:xfrm>
          <a:off x="3708360" y="3933720"/>
          <a:ext cx="4032360" cy="20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3933720"/>
                    <a:ext cx="403236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7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3609-432A-4BFC-9713-28199304B9B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AutoShape 9"/>
          <p:cNvSpPr/>
          <p:nvPr/>
        </p:nvSpPr>
        <p:spPr>
          <a:xfrm rot="5400000">
            <a:off x="1619280" y="3933720"/>
            <a:ext cx="1296720" cy="1440000"/>
          </a:xfrm>
          <a:custGeom>
            <a:avLst/>
            <a:gdLst>
              <a:gd name="textAreaLeft" fmla="*/ 0 w 1296720"/>
              <a:gd name="textAreaRight" fmla="*/ 1127160 w 1296720"/>
              <a:gd name="textAreaTop" fmla="*/ 124740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17515" y="0"/>
                </a:moveTo>
                <a:lnTo>
                  <a:pt x="13430" y="7454"/>
                </a:lnTo>
                <a:lnTo>
                  <a:pt x="16259" y="7454"/>
                </a:lnTo>
                <a:lnTo>
                  <a:pt x="16259" y="18709"/>
                </a:lnTo>
                <a:lnTo>
                  <a:pt x="0" y="18709"/>
                </a:lnTo>
                <a:lnTo>
                  <a:pt x="0" y="21600"/>
                </a:lnTo>
                <a:lnTo>
                  <a:pt x="18771" y="21600"/>
                </a:lnTo>
                <a:lnTo>
                  <a:pt x="18771" y="7454"/>
                </a:lnTo>
                <a:lnTo>
                  <a:pt x="21600" y="7454"/>
                </a:lnTo>
                <a:lnTo>
                  <a:pt x="17515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11"/>
          <p:cNvSpPr/>
          <p:nvPr/>
        </p:nvSpPr>
        <p:spPr>
          <a:xfrm>
            <a:off x="1042920" y="5445000"/>
            <a:ext cx="24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jemplo: Comparador de 4 b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Rectangle 3" descr=""/>
          <p:cNvPicPr/>
          <p:nvPr/>
        </p:nvPicPr>
        <p:blipFill>
          <a:blip r:embed="rId1"/>
          <a:stretch/>
        </p:blipFill>
        <p:spPr>
          <a:xfrm>
            <a:off x="762120" y="536400"/>
            <a:ext cx="7699320" cy="114012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7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Un circuito combinacional es un circuito digital cuyas salidas en un instante concreto vienen dadas por las entradas del circuito en ese mismo momento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secuencia: Un circuito combinacional no puede tener bucles cerrados o realimentaciones (porque si hay bucles, la entrada se realimenta o cambia durante el circuito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Representación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3" name="Picture 7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634" name="6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D01B-EA23-4B3F-A3BE-25222DC1599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AutoShape 16"/>
          <p:cNvSpPr/>
          <p:nvPr/>
        </p:nvSpPr>
        <p:spPr>
          <a:xfrm rot="5400000">
            <a:off x="1979280" y="4221000"/>
            <a:ext cx="1297080" cy="1440000"/>
          </a:xfrm>
          <a:custGeom>
            <a:avLst/>
            <a:gdLst>
              <a:gd name="textAreaLeft" fmla="*/ 0 w 1297080"/>
              <a:gd name="textAreaRight" fmla="*/ 1127160 w 1297080"/>
              <a:gd name="textAreaTop" fmla="*/ 124740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17515" y="0"/>
                </a:moveTo>
                <a:lnTo>
                  <a:pt x="13430" y="7454"/>
                </a:lnTo>
                <a:lnTo>
                  <a:pt x="16259" y="7454"/>
                </a:lnTo>
                <a:lnTo>
                  <a:pt x="16259" y="18709"/>
                </a:lnTo>
                <a:lnTo>
                  <a:pt x="0" y="18709"/>
                </a:lnTo>
                <a:lnTo>
                  <a:pt x="0" y="21600"/>
                </a:lnTo>
                <a:lnTo>
                  <a:pt x="18771" y="21600"/>
                </a:lnTo>
                <a:lnTo>
                  <a:pt x="18771" y="7454"/>
                </a:lnTo>
                <a:lnTo>
                  <a:pt x="21600" y="7454"/>
                </a:lnTo>
                <a:lnTo>
                  <a:pt x="17515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Rectangle 2" descr=""/>
          <p:cNvPicPr/>
          <p:nvPr/>
        </p:nvPicPr>
        <p:blipFill>
          <a:blip r:embed="rId1"/>
          <a:stretch/>
        </p:blipFill>
        <p:spPr>
          <a:xfrm>
            <a:off x="762120" y="536400"/>
            <a:ext cx="7699320" cy="114012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ANÁLISIS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: Se realiza de izquierda a derecha, partiendo de la entrada hasta la salida. Principalmente se tiene en cuenta el retardo de operación. Dependiendo de éste, encontramos dos zonas temporales de operación: estado estacionario y estado transitori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Transitorio es el tiempo que va desde el cambio de las entradas hasta que la salida se estabiliza </a:t>
            </a:r>
            <a:r>
              <a:rPr b="0" i="1" lang="es-ES" sz="1600" spc="-1" strike="noStrike">
                <a:solidFill>
                  <a:srgbClr val="ffffff"/>
                </a:solidFill>
                <a:latin typeface="Century Gothic"/>
              </a:rPr>
              <a:t>(tanto las señales internas como las de salida pueden sufrir cambios )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Estacionario es el tiempo que va desde la estabilización del circuito lógico hasta que las entradas vuelven a cambiar </a:t>
            </a:r>
            <a:r>
              <a:rPr b="0" i="1" lang="es-ES" sz="1600" spc="-1" strike="noStrike">
                <a:solidFill>
                  <a:srgbClr val="ffffff"/>
                </a:solidFill>
                <a:latin typeface="Century Gothic"/>
              </a:rPr>
              <a:t>(sólo las señales de entrada pueden sufrir algún cambio)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8" name="6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E815-4372-4C11-98D9-11A9AB6B245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Rectangle 2" descr=""/>
          <p:cNvPicPr/>
          <p:nvPr/>
        </p:nvPicPr>
        <p:blipFill>
          <a:blip r:embed="rId1"/>
          <a:stretch/>
        </p:blipFill>
        <p:spPr>
          <a:xfrm>
            <a:off x="762120" y="536400"/>
            <a:ext cx="7699320" cy="114012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Hay varios tipos de circuitos combinacionales, atendiendo a su “densidad de integración”; esto es, a su número de transistores o de puertas lógica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Circuitos SSI: Son circuitos de baja escala de integración, y contienen hasta 10 puertas lógicas o 100 transistor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Circuitos MSI: Son los de media escala de integración, y contienen entre 10 y 100 puertas lógicas, o de 100 a 1.000 transistor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Circuitos LSI: Son circuitos de alta escala de integración, y tienen entre 100 y 1.000 puertas lógicas, o de 1.000 a 10.000 transistor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Circuitos VLSI: Son los de más alta escala de integración, y tienen más de 1.000 puertas lógicas o más de 10.000 transistor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Vamos a estudiar los circuitos de tipo MSI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1" name="6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EDFF-29E9-4E58-8178-B832C398248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Rectangle 2" descr=""/>
          <p:cNvPicPr/>
          <p:nvPr/>
        </p:nvPicPr>
        <p:blipFill>
          <a:blip r:embed="rId1"/>
          <a:stretch/>
        </p:blipFill>
        <p:spPr>
          <a:xfrm>
            <a:off x="762120" y="536400"/>
            <a:ext cx="7699320" cy="11401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5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Los circuitos MSI se clasifican de la siguiente forma según la función que desempeñan en los sistemas digitales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5000"/>
              </a:lnSpc>
              <a:spcBef>
                <a:spcPts val="451"/>
              </a:spcBef>
              <a:spcAft>
                <a:spcPts val="788"/>
              </a:spcAft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DE COMUNICACIÓN: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Transmiten y modifican informació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5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Codificadores: Con prioridad o sin prioridad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5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Decodificadores: Excitadores y no excitador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5000"/>
              </a:lnSpc>
              <a:spcBef>
                <a:spcPts val="400"/>
              </a:spcBef>
              <a:spcAft>
                <a:spcPts val="601"/>
              </a:spcAft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Multiplexores y demultiplexor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5000"/>
              </a:lnSpc>
              <a:spcBef>
                <a:spcPts val="451"/>
              </a:spcBef>
              <a:spcAft>
                <a:spcPts val="788"/>
              </a:spcAft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ARITMÉTICOS: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Operan con los datos binarios que procesa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5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Sumadores y semisumador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5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Comparador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5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Restador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4" name="6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0A95-EFD2-46B4-A237-17536E75192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Rectangle 2" descr=""/>
          <p:cNvPicPr/>
          <p:nvPr/>
        </p:nvPicPr>
        <p:blipFill>
          <a:blip r:embed="rId1"/>
          <a:stretch/>
        </p:blipFill>
        <p:spPr>
          <a:xfrm>
            <a:off x="762120" y="536400"/>
            <a:ext cx="7699320" cy="11401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4530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CODIFICADOR:</a:t>
            </a: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 Es un dispositivo que transforma una señal expresada en un código humano a un código binari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Se denomina completo si las entradas son 2</a:t>
            </a:r>
            <a:r>
              <a:rPr b="0" lang="es-ES_tradnl" sz="1800" spc="-1" strike="noStrike" baseline="50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, e incompleto si éstas son menores que 2</a:t>
            </a:r>
            <a:r>
              <a:rPr b="0" lang="es-ES_tradnl" sz="1800" spc="-1" strike="noStrike" baseline="50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El codificador con prioridad es capaz de atender a varias entradas simultáneas y determinar el criterio que da prioridad a una señal u otra, mientras que el sin prioridad solo acepta una entrada cada vez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7" name="6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8C54-1FE8-4132-81B6-03B2BEA00C8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Group 2048"/>
          <p:cNvGrpSpPr/>
          <p:nvPr/>
        </p:nvGrpSpPr>
        <p:grpSpPr>
          <a:xfrm>
            <a:off x="4859280" y="2276640"/>
            <a:ext cx="3960720" cy="3322440"/>
            <a:chOff x="4859280" y="2276640"/>
            <a:chExt cx="3960720" cy="3322440"/>
          </a:xfrm>
        </p:grpSpPr>
        <p:pic>
          <p:nvPicPr>
            <p:cNvPr id="649" name="Picture 8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3024000" cy="33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Text Box 10"/>
            <p:cNvSpPr/>
            <p:nvPr/>
          </p:nvSpPr>
          <p:spPr>
            <a:xfrm>
              <a:off x="4859280" y="3500280"/>
              <a:ext cx="107964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34343"/>
                  </a:solidFill>
                  <a:latin typeface="Arial"/>
                </a:rPr>
                <a:t>2</a:t>
              </a:r>
              <a:r>
                <a:rPr b="1" lang="es-ES_tradnl" sz="1600" spc="-1" strike="noStrike" baseline="50000">
                  <a:solidFill>
                    <a:srgbClr val="434343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baseline="50000">
                  <a:solidFill>
                    <a:srgbClr val="434343"/>
                  </a:solidFill>
                  <a:latin typeface="Arial"/>
                </a:rPr>
                <a:t>ENTRAD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024"/>
            <p:cNvSpPr/>
            <p:nvPr/>
          </p:nvSpPr>
          <p:spPr>
            <a:xfrm>
              <a:off x="7740720" y="3213000"/>
              <a:ext cx="10792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baseline="50000">
                  <a:solidFill>
                    <a:srgbClr val="434343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baseline="50000">
                  <a:solidFill>
                    <a:srgbClr val="434343"/>
                  </a:solidFill>
                  <a:latin typeface="Arial"/>
                </a:rPr>
                <a:t>SALID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Rectangle 2" descr=""/>
          <p:cNvPicPr/>
          <p:nvPr/>
        </p:nvPicPr>
        <p:blipFill>
          <a:blip r:embed="rId1"/>
          <a:stretch/>
        </p:blipFill>
        <p:spPr>
          <a:xfrm>
            <a:off x="762120" y="536400"/>
            <a:ext cx="7699320" cy="114012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Un </a:t>
            </a: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DECODIFICADOR</a:t>
            </a: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 podría definirse como la función inversa del anterior. Dispone de n entradas y 2n salida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Atendiendo a su salida, el decodificador puede ser activo a nivel alto (‘1’) o a nivel bajo (‘0’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La mayoría integran un dispositivo de control mediante una entrada </a:t>
            </a:r>
            <a:r>
              <a:rPr b="0" i="1" lang="es-ES_tradnl" sz="1800" spc="-1" strike="noStrike">
                <a:solidFill>
                  <a:srgbClr val="ffffff"/>
                </a:solidFill>
                <a:latin typeface="Century Gothic"/>
              </a:rPr>
              <a:t>Enable,</a:t>
            </a: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 (que puede ser activa a niveles alto o bajo) tal que si no se da, el decodificador no se activa. También puede requerirse una combinación de ellos, a modo de clave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También existen decodificadores para los que a partir de las diferentes entradas posibles se active más de una salida. Estos son los llamados </a:t>
            </a: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‘decodificadores-excitadores’</a:t>
            </a: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4" name="6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8454-066A-41AB-BB09-289B1A6DAC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Rectangle 2" descr=""/>
          <p:cNvPicPr/>
          <p:nvPr/>
        </p:nvPicPr>
        <p:blipFill>
          <a:blip r:embed="rId1"/>
          <a:stretch/>
        </p:blipFill>
        <p:spPr>
          <a:xfrm>
            <a:off x="762120" y="536400"/>
            <a:ext cx="7699320" cy="114012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3954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9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Hay otros tipos de decodificadores para propósitos específicos, como podría ser un decodificador-excitador de siete segmentos, destinado a excitar los segmentos de un display, a partir del código BCD o binari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Son capaces de proporcionar corriente (salidas activas a nivel alto) o absorberla (salidas activas a nivel bajo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Así, las salidas activas se combinan para encender determinados LED, que representarán el dígito pedid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57" name="Picture 12" descr=""/>
          <p:cNvPicPr/>
          <p:nvPr/>
        </p:nvPicPr>
        <p:blipFill>
          <a:blip r:embed="rId2"/>
          <a:stretch/>
        </p:blipFill>
        <p:spPr>
          <a:xfrm>
            <a:off x="4716360" y="1905120"/>
            <a:ext cx="2880000" cy="15951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3" descr=""/>
          <p:cNvPicPr/>
          <p:nvPr/>
        </p:nvPicPr>
        <p:blipFill>
          <a:blip r:embed="rId3"/>
          <a:stretch/>
        </p:blipFill>
        <p:spPr>
          <a:xfrm>
            <a:off x="7574040" y="2060640"/>
            <a:ext cx="1030320" cy="1373040"/>
          </a:xfrm>
          <a:prstGeom prst="rect">
            <a:avLst/>
          </a:prstGeom>
          <a:ln w="19080">
            <a:solidFill>
              <a:srgbClr val="292929"/>
            </a:solidFill>
            <a:miter/>
          </a:ln>
        </p:spPr>
      </p:pic>
      <p:sp>
        <p:nvSpPr>
          <p:cNvPr id="659" name="7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402D-90CF-4120-AB69-65EBC61FA73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0" name="Object 0"/>
          <p:cNvGraphicFramePr/>
          <p:nvPr/>
        </p:nvGraphicFramePr>
        <p:xfrm>
          <a:off x="4643280" y="3525840"/>
          <a:ext cx="4057920" cy="267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1" name="Object 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3525840"/>
                    <a:ext cx="405792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Rectangle 2" descr=""/>
          <p:cNvPicPr/>
          <p:nvPr/>
        </p:nvPicPr>
        <p:blipFill>
          <a:blip r:embed="rId1"/>
          <a:stretch/>
        </p:blipFill>
        <p:spPr>
          <a:xfrm>
            <a:off x="762120" y="536400"/>
            <a:ext cx="7699320" cy="114012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761760" y="1904760"/>
            <a:ext cx="373860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Un </a:t>
            </a: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MULTIPLEXOR</a:t>
            </a: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 es un distribuidor con varias</a:t>
            </a:r>
            <a:r>
              <a:rPr b="0" lang="es-ES_tradnl" sz="1800" spc="-1" strike="noStrike" baseline="30000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entradas de datos y única salid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Un multiplexor 2</a:t>
            </a:r>
            <a:r>
              <a:rPr b="0" lang="es-ES_tradnl" sz="1800" spc="-1" strike="noStrike" baseline="30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:1 es un dispositivo con 2</a:t>
            </a:r>
            <a:r>
              <a:rPr b="0" lang="es-ES_tradnl" sz="1800" spc="-1" strike="noStrike" baseline="30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 entradas y una salida. El contenido de una de las entradas pasa a  la salida según el valor de las n entradas de control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4" name="7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B104-E34E-434E-9116-4ED108C62CB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Group 0"/>
          <p:cNvGrpSpPr/>
          <p:nvPr/>
        </p:nvGrpSpPr>
        <p:grpSpPr>
          <a:xfrm>
            <a:off x="4572000" y="2057400"/>
            <a:ext cx="4103640" cy="2347920"/>
            <a:chOff x="4572000" y="2057400"/>
            <a:chExt cx="4103640" cy="2347920"/>
          </a:xfrm>
        </p:grpSpPr>
        <p:pic>
          <p:nvPicPr>
            <p:cNvPr id="666" name="Picture 0" descr=""/>
            <p:cNvPicPr/>
            <p:nvPr/>
          </p:nvPicPr>
          <p:blipFill>
            <a:blip r:embed="rId2"/>
            <a:stretch/>
          </p:blipFill>
          <p:spPr>
            <a:xfrm>
              <a:off x="5099040" y="2057400"/>
              <a:ext cx="357660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3" descr=""/>
            <p:cNvPicPr/>
            <p:nvPr/>
          </p:nvPicPr>
          <p:blipFill>
            <a:blip r:embed="rId3"/>
            <a:stretch/>
          </p:blipFill>
          <p:spPr>
            <a:xfrm>
              <a:off x="4572000" y="2924280"/>
              <a:ext cx="1079640" cy="85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8" name="Text Box 0"/>
          <p:cNvSpPr/>
          <p:nvPr/>
        </p:nvSpPr>
        <p:spPr>
          <a:xfrm>
            <a:off x="755640" y="4508640"/>
            <a:ext cx="8064360" cy="17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451"/>
              </a:spcBef>
              <a:spcAft>
                <a:spcPts val="901"/>
              </a:spcAft>
              <a:buClr>
                <a:srgbClr val="66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MULTIPLEXOR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es la inversa del multiplexor, con una entrada, 2</a:t>
            </a:r>
            <a:r>
              <a:rPr b="0" lang="es-ES_tradnl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salidas y n entradas de control, siendo la salida aplicada por el código igual a la entrada, quedando el resto de salidas en rep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spcBef>
                <a:spcPts val="451"/>
              </a:spcBef>
              <a:buClr>
                <a:srgbClr val="66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Un demultiplexor es lo mismo que un decodificador con entrada 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En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4:36:09Z</dcterms:created>
  <dc:creator>Pablo Turmero</dc:creator>
  <dc:description/>
  <dc:language>en-US</dc:language>
  <cp:lastModifiedBy>Pablo Turmero</cp:lastModifiedBy>
  <dcterms:modified xsi:type="dcterms:W3CDTF">2015-04-28T18:15:33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