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8DB-07BD-4F54-B16A-5A3790FE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9E8-9297-41B8-B367-4364EDE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3ABA7-3121-444B-96E4-268E444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9EF95-47B6-4EF0-8BC3-B8B037EB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C9533-32B0-4F62-B258-11F88D05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9F023-2C9E-4218-B66B-22011541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89089-16D2-4315-92C6-C6A4884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55991-FA87-4C0D-971D-529E6A1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5217-7E88-4FC8-B7AA-C8A20E54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AEEA7-1C87-4118-A1CE-0B497235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23D2F-2D89-4DD7-9D0F-A97E8B30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E6C71-2695-40F6-8E50-BC750266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901-0D38-4401-BD36-BFC0E06A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2DC9E-37C7-43EE-B437-8E35999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3B603-D2AD-4DCA-BD21-87ED3AD4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7DD10-D2BA-4BBC-B960-CEBD60CE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75435-181B-45AA-8353-97610DBA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F2CF4-0C35-4B59-A99C-52625639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D536C-AFFA-46A8-8767-FB2FB584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6999D-4A69-4FAD-8573-D0642F1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B766E-DAC3-4F94-BF74-43E5E54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EADEF-F1B2-43A2-9C47-A5EEFE69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5E697-772B-44D2-A1DE-63A11521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448-33C4-47BA-821E-9EF0985B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C4D7-6B05-4634-9A84-E2F049EC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8B7AC-EE53-4151-90B9-33C3F929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E0E20-E471-45A5-85B1-5DF6E3FD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3800D-E04D-4708-9308-C8A5E2FD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26326-7E8F-4ECD-B666-D44381D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4AA0-A95D-47BB-85F0-DE7E3349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49F3-16F6-4524-B682-80D58288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DF6EB-B512-4AB1-B428-53E5CAF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F3EF7-8644-4BA2-8D24-69294C6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C21BA-1EA6-4BE6-BAC8-80ED44A8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A4D9-9111-42DC-B6F6-03C73CA9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8EA7E-3E28-4C78-89ED-C4E42DA2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3C995-4365-40E9-9984-A12841BC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71C4B-F1F4-4B48-AF1F-4D2D34C3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28E4D-D7B7-40E7-8974-831FD319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BFA15-90A0-42AF-BC80-65055A4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F2CF5-ED4D-4702-A5D6-403A3079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92010-0A1C-446F-9220-3CCDF215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F4B28-CEA2-4B19-A0ED-30397B8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4C280-CBA1-4A6C-A5A6-62FBA700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61C39-A9C6-4B52-A886-55EC51C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7216-68D7-488F-888D-EEF6B9DA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D2D67-72CC-49BB-9130-1330FC9F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96817-4136-4C71-BBAC-AB16E2D2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75DE8-6EAA-4EC1-84AB-7A72AF90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FBBFD-A5FB-449D-A835-B7AE9A2E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1F795-89FB-45E9-9745-B5C2EC22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5B0-8374-4B31-B02C-E5FF8F4C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163-0BC2-47C7-9916-36B00008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339B-4882-45EF-880D-9A8630A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28AC-5D3D-4F69-A472-515F6FD4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0FB3-91AB-4E14-9C75-67776B7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7A9-34EB-41F5-B60F-13F9736D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7651-C1C0-4866-9473-5CA7553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28A-80AD-4B40-B3BC-4A6FC37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A2E3-3EDE-480C-81B5-F9ABAA7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3956-DE1F-4C84-86F7-E241324F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9DE-760B-445E-A764-AE7FEDFB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A3766-96AB-4039-9A77-AE446408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EABEA-02F7-45C4-8701-12FBF466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909F-1076-478D-AF82-A8CB71E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2E6E-EA98-4747-B288-4662C76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DC27-AD89-4CCF-B29D-0D5A47D8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761-2EAB-4B9C-88B2-059CF6B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F78E-561F-442A-9C7A-50993176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CDCFF-0E98-47B9-97C5-93CD840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EA62-E3F5-4665-8D44-80C9F852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132B-5A17-4604-8604-F0135400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6E6A-F2CD-4096-9877-60BFEDF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75A1-A118-439D-8AEA-8EFA09BB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906E-41F9-40C9-94A1-34A8FDB7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7504-EDC6-4164-A98F-467DE6B0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384D-D5EB-4AB3-97D4-D8CE139A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5F70-5BC0-45D5-A50C-B75748C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C34-1F82-473B-89A0-C9A61387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E12E2-C397-4461-8146-043D8A6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5BAA7-544F-4968-AD64-BE9505FF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350D-0D30-4DEB-B0D3-5659A013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DBB1-C0E7-45EF-AB80-F965180C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9A10-F909-44BA-A81A-795B07FB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7B9C-1C37-4BAC-99AE-17758DD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7D38-AFC4-45FC-A060-651ABD34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2FED-9E33-43FB-B9C1-B34407C5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9015-5D24-487D-907E-666BEDCE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351D1-0987-4FDE-AE3A-82B2E8D7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CD9-09AF-4ACA-AB3F-0B9F4F3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C487-09A4-4410-87F5-9A6C9E07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299E-F845-4836-A35A-66DD581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2872-F7DE-4021-B83D-5B8BBCA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569EF-0C80-4149-8A75-31D166F5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7D6A-958D-4825-BAB0-C61B3A83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7A297-37C9-4A4C-BDDC-9D08E1F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C2F3-3502-4D3D-A442-4FD094B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F296-9BCD-4A99-80B8-3361A61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B40E-4182-42FE-8A84-E6C36A0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AF344-A056-41F3-BE48-ECB18A11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C14-CC5F-41A7-97A5-D0C591B4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B7E1-B088-4C47-AD79-6D3BFAEE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F43F8-C631-4D38-B255-B01A2396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AEF2-156F-4CC6-9CDB-9E6962E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33A1-E665-48FC-9818-115CAD0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7BFA9-1792-4628-84C0-7355226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28A1-FA14-4E4E-9BA0-B3D692F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424B8-DA17-4849-B2D9-AC57C0D6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8C955-0DFE-401F-BF7E-F520FD8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5838-FAC5-4568-B15E-BA7797F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874E6-A048-4665-B57B-53DC55A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D98-28DF-4CCD-BFD9-68494BB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7EEC-EA1F-4AAA-96E2-29BB1EE9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9093-8A0C-4267-8D4B-B37477E6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F57DE-98F5-4F50-A277-CE3D239D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E55CB-C67C-49A8-B7A5-7D395F18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89D86-5B33-47A8-9C6D-032518AA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236D-7506-4643-A526-E2A072DB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922BC-4A5D-4FC4-A54F-A2057C1A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A814-0709-4C1D-A7E9-7B46B3EB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3DDC8-4946-4B91-B0DC-42352C69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F64A6-F39E-4AC8-BA94-F9C96FED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46A-2200-4291-B73A-4BFBCFE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CCD56-368B-47D7-8D57-A341B6D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C0D4C-CCE9-4E24-A29E-FF81FCA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0342-3362-48B1-B3D4-81003AAE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84657-5BBA-45FA-8C4C-632B1CDD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349B0-3CB8-47A2-ACF9-638FCFD7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BE8C2-A930-41D1-9F20-DC0C42D1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8DD51-EBEC-4717-A2D1-209FEED0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403D4-D3D3-4ABA-BEC0-85A0ECA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AE3FC-DBB0-41DF-9E5E-01EA8B49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54705-5593-4DD0-9FCD-B58F96A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FBD-F83A-43E6-8914-4CA3B4E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87699-83FB-45D5-8DA8-441D2C0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0FC6B-3B46-46C2-A905-1A58207C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D101E-3F10-499B-A81B-47EC2C9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8C995-0DD3-4ACA-94D0-5DCD62BD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57DA-8A5C-4C56-BBC9-638A9E79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E08D-2B7D-43B7-8650-923063B7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A234B-46E3-4B90-8DA0-8FFE7D9A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50099-227E-4A06-B303-CD048AF9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8FA5-0E25-42C4-9CB6-D1FD3AD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AF667-31E1-424B-8C4D-67D81F8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BE21-7B13-4953-8E80-1869DA97A678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0CC4-B153-4C61-91E3-2285A697C1C8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8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11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9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10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F3E7-7BFE-4E17-9D9D-E43ECD2BF31B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A37B-67CC-4701-81AC-8E15F389518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A1B5-16B3-43C2-9045-8FE529B5026D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1C1-8DE5-4E8D-854A-E094533B483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D87A-942D-4D44-B375-C30948302D21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DB2D-0BEE-4D3C-81EA-10E88C8750D1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AD0-8C8E-4C9A-8318-B05592D40E54}" type="datetime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1449-EA10-4539-B85D-DFDAD8668C48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1EFB-85D8-42D4-ACEB-E11CB9EDCCAA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364-D5B4-4E06-BF2E-2D67026E5D7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94B7-1050-4F02-8B75-0451BB74B0D8}" type="datetime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89A-2A85-4E97-8251-A71A105FF2B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8FD-C59E-46FA-BBA6-D65BB8ED6388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4658-5D4E-4AC3-B61D-C1FD714AD3D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FE7-E2CF-409A-BFBA-0CAE5FA34688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130D-5D5A-46FA-A2DD-9D92DD43868C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B54-87C2-4664-B77C-627E94D24F31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F371-6548-4240-8900-6C2452F10B1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70D5-EF1C-4670-887A-0860A7C1A661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085-538E-4292-9226-331029566788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E31-CE3D-4FA3-97D6-46AA54318347}" type="datetime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EIQ_301                             Andrea F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68EB-FBCF-4B55-B2D7-4D3CA1F784BF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1 Título" descr=""/>
          <p:cNvPicPr/>
          <p:nvPr/>
        </p:nvPicPr>
        <p:blipFill>
          <a:blip r:embed="rId1"/>
          <a:stretch/>
        </p:blipFill>
        <p:spPr>
          <a:xfrm>
            <a:off x="74916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24000" y="836640"/>
            <a:ext cx="86868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reversible: Trayectoria 1-2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irreversible (real): Trayectoria 1-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ficiencia de las turbinas diseñadas  apropiadamente van de 0.7 a 0.8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D09-DA73-4642-8D99-FDCA9EF20C5A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696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Calibri"/>
              </a:rPr>
              <a:t>Eficiencia de las Bomb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557360"/>
            <a:ext cx="86868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.E: despreciando la energía potencial y la energía ciné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una bomba que opera reversible y adiabáticamen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roceso de compresión, el trabajo isentrópico es el trabajo de eje mínimo requerido para comprimir desde el estado inicial hasta el estado fin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ficiencia se defin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0C15-A5C6-42E6-A41D-43357D5D7CAD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2952720" cy="576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3528720" cy="7207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4427640" y="5661000"/>
            <a:ext cx="2376360" cy="647640"/>
          </a:xfrm>
          <a:prstGeom prst="rect">
            <a:avLst/>
          </a:prstGeom>
          <a:ln w="0">
            <a:noFill/>
          </a:ln>
        </p:spPr>
      </p:pic>
      <p:sp>
        <p:nvSpPr>
          <p:cNvPr id="546" name="8 Rectángulo"/>
          <p:cNvSpPr/>
          <p:nvPr/>
        </p:nvSpPr>
        <p:spPr>
          <a:xfrm>
            <a:off x="1835280" y="2060640"/>
            <a:ext cx="3024000" cy="431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9 Rectángulo"/>
          <p:cNvSpPr/>
          <p:nvPr/>
        </p:nvSpPr>
        <p:spPr>
          <a:xfrm>
            <a:off x="1835280" y="3645000"/>
            <a:ext cx="3528720" cy="504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10 Rectángulo"/>
          <p:cNvSpPr/>
          <p:nvPr/>
        </p:nvSpPr>
        <p:spPr>
          <a:xfrm>
            <a:off x="4211640" y="5661000"/>
            <a:ext cx="3024360" cy="6476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4"/>
          <a:stretch/>
        </p:blipFill>
        <p:spPr>
          <a:xfrm>
            <a:off x="6913440" y="800280"/>
            <a:ext cx="2230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ADF-7404-4C5C-A8FD-016ABD7150B5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4365360"/>
            <a:ext cx="82296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ceso reversible: Trayectoria 1-2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ceso irreversible (real): Trayectoria 1-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ficiencia de una bomba, está en el rango de 0.7 a 0.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2590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ejercicio 1.-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turbina con una capacidad de 56400 kW trabaja con vapor. Las condiciones de entrada del vapor son 8600 kPa y 500 ºC, y la descarga se hace en un  condensador a una presión de 10 kPa. Si la eficiencia de la turbina es 0.75, determine el flujo másico y el estado del vapor en el punto de descar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AEBA-5EB8-4545-9167-609AD5D2B656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900000" y="4076640"/>
            <a:ext cx="5112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 vapor a la entrada de la turbina con 8600 kPa y 500 ºC de la tabla de vapor sobrecalentado (SVN)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h1 = 3391.6 [kJ/kg]   s1= 6.6858 [kJ/kg K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9EF-DC68-49E3-AAAD-056851761457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826920" y="2232000"/>
            <a:ext cx="7993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 vapor a la salida con 10 kPa interpolando de la tabla de vapor saturado (SVN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hl= 191.8 [kJ/kg]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hg= 2584.8 [kJ/kg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sl= 0.6493 [kJ/kg K]  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sg= 8.1511[kJ/kg K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DCC1-660B-4DE5-8606-EDA0133C8145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76327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566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D7C8-4CDA-46D4-A6E8-F516A4AADBE8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280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7B7-12F2-4787-BCB7-66080FC72979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ceso real e irreversible, produce un aumento en la entrop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204-63EF-470A-8FB2-55B5CDE0DCBF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518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DBC1-4EC3-40CB-B8FD-CC59CF63E1C7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424720" cy="58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ciclos de potencia de gas o dispositivos cíclicos generadores de potencia revisten gran importancia en el estudio de la termodinámica, ya que varios sistemas y máquinas se basan en su funcionamiento (motores, centrales termoeléctricas, etc,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D6B5-2F29-4900-A13E-2E074A7D4BED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FD6F-A45D-4891-A797-3B580E00799F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129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ejercicio 2.-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por generado en una planta de energía a una presión de 8600 kPa y a una temperatura de 500 ºC se alimenta a una turbina. La descarga de la turbina entra al condensador a 10 kPa, en donde es condensada a líquido saturado, que luego se bombea a la calde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) Determine la eficiencia térmica de un ciclo de Rankine que opera en estas condi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82E2-CCE7-403F-8A7E-F7598E27ED79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E81-9554-44CE-89FD-19FAF8A8E3D2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4842000" cy="360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1403280" y="5013360"/>
            <a:ext cx="2952720" cy="1079640"/>
          </a:xfrm>
          <a:prstGeom prst="rect">
            <a:avLst/>
          </a:prstGeom>
          <a:ln w="0">
            <a:noFill/>
          </a:ln>
        </p:spPr>
      </p:pic>
      <p:sp>
        <p:nvSpPr>
          <p:cNvPr id="583" name="7 Rectángulo"/>
          <p:cNvSpPr/>
          <p:nvPr/>
        </p:nvSpPr>
        <p:spPr>
          <a:xfrm>
            <a:off x="1332000" y="4941720"/>
            <a:ext cx="3024000" cy="1151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C00-7E3E-4F9F-B541-13565D01CB0F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E62-641E-4C38-93E0-5480B0E177D9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5545080"/>
          </a:xfrm>
          <a:prstGeom prst="rect">
            <a:avLst/>
          </a:prstGeom>
          <a:ln w="0">
            <a:noFill/>
          </a:ln>
        </p:spPr>
      </p:pic>
      <p:sp>
        <p:nvSpPr>
          <p:cNvPr id="588" name="6 Rectángulo"/>
          <p:cNvSpPr/>
          <p:nvPr/>
        </p:nvSpPr>
        <p:spPr>
          <a:xfrm>
            <a:off x="7956720" y="6021360"/>
            <a:ext cx="647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977E-EFB1-4194-B31E-E76EAA899B0A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BD2C-3D67-45E4-ABBD-FA4DB300D426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056720" cy="23763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539640" y="3141720"/>
            <a:ext cx="8064720" cy="1942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4" descr=""/>
          <p:cNvPicPr/>
          <p:nvPr/>
        </p:nvPicPr>
        <p:blipFill>
          <a:blip r:embed="rId3"/>
          <a:stretch/>
        </p:blipFill>
        <p:spPr>
          <a:xfrm>
            <a:off x="755640" y="5300640"/>
            <a:ext cx="74883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D274-2123-43AC-A83F-66896EF641FE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07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BED7-BE2D-47E8-9059-C460604E5C3C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8317080" cy="4548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395280" y="5516640"/>
            <a:ext cx="7632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586-A7B0-4FC5-9493-11BBF6EA31C6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iclo de Carnot tiene serias dificultades prácticas para ser comparado con plantas verdader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2-3: De la turbina sale un alto contenido de líquido lo que produce problemas de desgastes por corro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4-1: Es muy difícil el diseño de una bomba que recibe una mezcla líquido vap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stas razones se toma un modelo estándar de comparación diferente, llamado el ciclo de Ranki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5D56-D4E4-42C2-8A06-01C725A26FBB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3635280" y="1700280"/>
            <a:ext cx="2266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F6B1-2AF2-4081-9428-6B55F12D1F02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 de Rank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D43D-A7D9-4FA9-8DBF-CC35DC4D2227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532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iclo de Rankine difiere del ciclo de Carnot en dos aspectos fundamental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ceso 1-2 se lleva más allá de la vaporización hasta producir vapor sobrecalent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ceso 3-4 se lleva a cabo una condensación completa hasta producir líquido saturado para ser bombeado a la calde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E7BF-ABD1-4527-9526-6FFD8D90C7CB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2987640" y="3860640"/>
            <a:ext cx="3672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ceso 1-2, es un proceso de calentamiento a presión constante en la caldera, en tres etap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1-ls   Calentamiento del agua líquida subenfriada, hasta la temperatura de satur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s-vs Vaporización a temperatura y presión consta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s-2  Sobrecalentamiento del vap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D0BA-0543-428A-B4DC-4F7F1DC1659C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0240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ceso 2-3, es la expansión reversible y adiabática del vapor en la turbina hasta la presión del condensad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3-4, proceso de condensación hasta producir líquido satur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ceso 4-1, es el bombeo reversible y adiabático del líquido saturado hasta la presión de saturación de 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72E9-867E-47EB-AE13-F024509FDFE3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384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fecto de la Irrevers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fecto de la irreversibilidad en los procesos 2-3 y 4-1 es aumentar la entropí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líneas ya no son verticales sino, tienden al aumento de la entrop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0741-A2F3-4F6D-93C9-60977BF96B6C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527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Calibri"/>
              </a:rPr>
              <a:t>Eficiencia de las Turbin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.E: despreciando la energía potencial y la energía cinét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a turbina experimenta un proceso reversible y adiabático, que es el máximo trabajo que se puede obtener  de ella, podemos escribi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fine la eficiencia de la turbina co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4 Marcador de número de diapositiva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438-0E3C-4BF8-A043-E17EDF6D38FB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024360" cy="576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"/>
          <p:cNvPicPr/>
          <p:nvPr/>
        </p:nvPicPr>
        <p:blipFill>
          <a:blip r:embed="rId2"/>
          <a:stretch/>
        </p:blipFill>
        <p:spPr>
          <a:xfrm>
            <a:off x="2484360" y="4581360"/>
            <a:ext cx="2664000" cy="465480"/>
          </a:xfrm>
          <a:prstGeom prst="rect">
            <a:avLst/>
          </a:prstGeom>
          <a:ln w="0">
            <a:noFill/>
          </a:ln>
        </p:spPr>
      </p:pic>
      <p:sp>
        <p:nvSpPr>
          <p:cNvPr id="532" name="7 Rectángulo"/>
          <p:cNvSpPr/>
          <p:nvPr/>
        </p:nvSpPr>
        <p:spPr>
          <a:xfrm>
            <a:off x="6732720" y="5589720"/>
            <a:ext cx="2232000" cy="934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9 Rectángulo"/>
          <p:cNvSpPr/>
          <p:nvPr/>
        </p:nvSpPr>
        <p:spPr>
          <a:xfrm>
            <a:off x="2340000" y="2565360"/>
            <a:ext cx="3024000" cy="432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3"/>
          <a:stretch/>
        </p:blipFill>
        <p:spPr>
          <a:xfrm>
            <a:off x="6804000" y="5661000"/>
            <a:ext cx="2016000" cy="863640"/>
          </a:xfrm>
          <a:prstGeom prst="rect">
            <a:avLst/>
          </a:prstGeom>
          <a:ln w="0">
            <a:noFill/>
          </a:ln>
        </p:spPr>
      </p:pic>
      <p:sp>
        <p:nvSpPr>
          <p:cNvPr id="535" name="11 Rectángulo"/>
          <p:cNvSpPr/>
          <p:nvPr/>
        </p:nvSpPr>
        <p:spPr>
          <a:xfrm>
            <a:off x="2411280" y="4581360"/>
            <a:ext cx="3024360" cy="432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6" name="Picture 5" descr=""/>
          <p:cNvPicPr/>
          <p:nvPr/>
        </p:nvPicPr>
        <p:blipFill>
          <a:blip r:embed="rId4"/>
          <a:stretch/>
        </p:blipFill>
        <p:spPr>
          <a:xfrm>
            <a:off x="7236000" y="765000"/>
            <a:ext cx="165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21:34:38Z</dcterms:created>
  <dc:creator>Pablo Turmero</dc:creator>
  <dc:description/>
  <dc:language>en-US</dc:language>
  <cp:lastModifiedBy>Pablo Turmero</cp:lastModifiedBy>
  <dcterms:modified xsi:type="dcterms:W3CDTF">2015-04-12T22:40:57Z</dcterms:modified>
  <cp:revision>48</cp:revision>
  <dc:subject/>
  <dc:title/>
</cp:coreProperties>
</file>