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14.png" ContentType="image/png"/>
  <Override PartName="/ppt/media/image52.png" ContentType="image/png"/>
  <Override PartName="/ppt/media/image16.jpeg" ContentType="image/jpeg"/>
  <Override PartName="/ppt/media/image10.jpeg" ContentType="image/jpeg"/>
  <Override PartName="/ppt/media/image27.jpeg" ContentType="image/jpeg"/>
  <Override PartName="/ppt/media/image5.wmf" ContentType="image/x-wmf"/>
  <Override PartName="/ppt/media/image17.wmf" ContentType="image/x-wmf"/>
  <Override PartName="/ppt/media/image38.jpeg" ContentType="image/jpeg"/>
  <Override PartName="/ppt/media/image7.jpeg" ContentType="image/jpeg"/>
  <Override PartName="/ppt/media/image25.jpeg" ContentType="image/jpeg"/>
  <Override PartName="/ppt/media/image8.wmf" ContentType="image/x-wmf"/>
  <Override PartName="/ppt/media/image37.jpeg" ContentType="image/jpeg"/>
  <Override PartName="/ppt/media/image3.jpeg" ContentType="image/jpeg"/>
  <Override PartName="/ppt/media/image23.jpeg" ContentType="image/jpeg"/>
  <Override PartName="/ppt/media/image49.png" ContentType="image/png"/>
  <Override PartName="/ppt/media/image59.png" ContentType="image/png"/>
  <Override PartName="/ppt/media/image24.jpeg" ContentType="image/jpeg"/>
  <Override PartName="/ppt/media/image61.png" ContentType="image/png"/>
  <Override PartName="/ppt/media/image20.jpeg" ContentType="image/jpeg"/>
  <Override PartName="/ppt/media/image60.png" ContentType="image/png"/>
  <Override PartName="/ppt/media/image6.jpeg" ContentType="image/jpeg"/>
  <Override PartName="/ppt/media/image26.jpeg" ContentType="image/jpeg"/>
  <Override PartName="/ppt/media/image21.jpeg" ContentType="image/jpeg"/>
  <Override PartName="/ppt/media/image47.png" ContentType="image/png"/>
  <Override PartName="/ppt/media/image1.jpeg" ContentType="image/jpeg"/>
  <Override PartName="/ppt/media/image19.jpeg" ContentType="image/jpeg"/>
  <Override PartName="/ppt/media/image42.jpeg" ContentType="image/jpeg"/>
  <Override PartName="/ppt/media/image22.jpeg" ContentType="image/jpeg"/>
  <Override PartName="/ppt/media/image18.jpeg" ContentType="image/jpeg"/>
  <Override PartName="/ppt/media/image15.png" ContentType="image/png"/>
  <Override PartName="/ppt/media/image34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56.png" ContentType="image/pn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png" ContentType="image/png"/>
  <Override PartName="/ppt/media/image43.jpeg" ContentType="image/jpeg"/>
  <Override PartName="/ppt/media/image36.jpeg" ContentType="image/jpeg"/>
  <Override PartName="/ppt/media/image2.wmf" ContentType="image/x-wmf"/>
  <Override PartName="/ppt/media/image57.png" ContentType="image/png"/>
  <Override PartName="/ppt/media/image39.jpeg" ContentType="image/jpeg"/>
  <Override PartName="/ppt/media/image41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50.png" ContentType="image/png"/>
  <Override PartName="/ppt/media/image4.jpeg" ContentType="image/jpeg"/>
  <Override PartName="/ppt/media/image51.png" ContentType="image/png"/>
  <Override PartName="/ppt/media/image53.png" ContentType="image/png"/>
  <Override PartName="/ppt/media/image54.jpeg" ContentType="image/jpeg"/>
  <Override PartName="/ppt/media/image55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</p:sldIdLst>
  <p:sldSz cx="9144000" cy="6858000"/>
  <p:notesSz cx="7105650" cy="10237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0"/>
            <a:ext cx="7106400" cy="102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25"/>
          </p:nvPr>
        </p:nvSpPr>
        <p:spPr>
          <a:xfrm>
            <a:off x="4025520" y="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body"/>
          </p:nvPr>
        </p:nvSpPr>
        <p:spPr>
          <a:xfrm>
            <a:off x="947880" y="486360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26"/>
          </p:nvPr>
        </p:nvSpPr>
        <p:spPr>
          <a:xfrm>
            <a:off x="-360" y="9726120"/>
            <a:ext cx="3079800" cy="513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 type="sldNum" idx="27"/>
          </p:nvPr>
        </p:nvSpPr>
        <p:spPr>
          <a:xfrm>
            <a:off x="4025520" y="9726120"/>
            <a:ext cx="3079800" cy="513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CF98136-9CE5-44EE-96F7-35317413A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6"/>
          <p:cNvSpPr/>
          <p:nvPr/>
        </p:nvSpPr>
        <p:spPr>
          <a:xfrm>
            <a:off x="0" y="9726480"/>
            <a:ext cx="3079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7"/>
          <p:cNvSpPr/>
          <p:nvPr/>
        </p:nvSpPr>
        <p:spPr>
          <a:xfrm>
            <a:off x="4025880" y="9726480"/>
            <a:ext cx="3079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735050C-D8A1-49B0-8E34-46847C32F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47880" y="486360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6"/>
          <p:cNvSpPr/>
          <p:nvPr/>
        </p:nvSpPr>
        <p:spPr>
          <a:xfrm>
            <a:off x="0" y="9726480"/>
            <a:ext cx="3079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Rectangle 7"/>
          <p:cNvSpPr/>
          <p:nvPr/>
        </p:nvSpPr>
        <p:spPr>
          <a:xfrm>
            <a:off x="4025880" y="9726480"/>
            <a:ext cx="3079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086E597-25C6-4727-96BC-E04B8EAEE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47880" y="486360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6"/>
          <p:cNvSpPr/>
          <p:nvPr/>
        </p:nvSpPr>
        <p:spPr>
          <a:xfrm>
            <a:off x="0" y="9726480"/>
            <a:ext cx="3079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Rectangle 7"/>
          <p:cNvSpPr/>
          <p:nvPr/>
        </p:nvSpPr>
        <p:spPr>
          <a:xfrm>
            <a:off x="4025880" y="9726480"/>
            <a:ext cx="3079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0F8DBCF-9394-4CB2-BC7A-82B0D090E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47880" y="486360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6"/>
          <p:cNvSpPr/>
          <p:nvPr/>
        </p:nvSpPr>
        <p:spPr>
          <a:xfrm>
            <a:off x="0" y="9726480"/>
            <a:ext cx="3079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025880" y="9726480"/>
            <a:ext cx="3079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148B4C7-450B-458E-AC2F-3AAB9C9BF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47880" y="486360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6"/>
          <p:cNvSpPr/>
          <p:nvPr/>
        </p:nvSpPr>
        <p:spPr>
          <a:xfrm>
            <a:off x="0" y="9726480"/>
            <a:ext cx="3079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7"/>
          <p:cNvSpPr/>
          <p:nvPr/>
        </p:nvSpPr>
        <p:spPr>
          <a:xfrm>
            <a:off x="4025880" y="9726480"/>
            <a:ext cx="3079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CC66B16-C2C5-4F68-8D36-3CF6A4957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47880" y="486360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6"/>
          <p:cNvSpPr/>
          <p:nvPr/>
        </p:nvSpPr>
        <p:spPr>
          <a:xfrm>
            <a:off x="0" y="9726480"/>
            <a:ext cx="3079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7"/>
          <p:cNvSpPr/>
          <p:nvPr/>
        </p:nvSpPr>
        <p:spPr>
          <a:xfrm>
            <a:off x="4025880" y="9726480"/>
            <a:ext cx="3079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EC2AEDB-B65E-4CCF-95C0-45EC9BDCD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47880" y="486360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6"/>
          <p:cNvSpPr/>
          <p:nvPr/>
        </p:nvSpPr>
        <p:spPr>
          <a:xfrm>
            <a:off x="0" y="9726480"/>
            <a:ext cx="3079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7"/>
          <p:cNvSpPr/>
          <p:nvPr/>
        </p:nvSpPr>
        <p:spPr>
          <a:xfrm>
            <a:off x="4025880" y="9726480"/>
            <a:ext cx="3079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6F10DF9-EB72-47DD-9209-7035DC43F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47880" y="486360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0" y="9726480"/>
            <a:ext cx="3079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4025880" y="9726480"/>
            <a:ext cx="3079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B213320-1749-4A1C-9519-530CA8054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47880" y="486360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6"/>
          <p:cNvSpPr/>
          <p:nvPr/>
        </p:nvSpPr>
        <p:spPr>
          <a:xfrm>
            <a:off x="0" y="9726480"/>
            <a:ext cx="3079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7"/>
          <p:cNvSpPr/>
          <p:nvPr/>
        </p:nvSpPr>
        <p:spPr>
          <a:xfrm>
            <a:off x="4025880" y="9726480"/>
            <a:ext cx="3079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790E29D-42B6-4E8F-A724-6EFB026E4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47880" y="486360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53CD1-2D81-4C19-A4C5-970279C571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85D7E-0570-4F0B-A199-3FD9A246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CDA3E-55F5-4D22-BF08-49CC46F7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5F34B-2B62-4A7F-9221-0680CD73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0E8C9-C57D-4212-A4B8-8FE88A24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D0EA2-6312-4930-A696-4268D960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4AEE4-FCB1-407D-9217-1A1BE1EB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304D4-ABA4-46F4-AFF7-AD5025B8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FB0D5-33BB-44EE-B295-0C060AB8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9425D-C87A-4CE9-847E-F9551EBB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762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390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1776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82811-661D-4ACC-9DA3-694C3DE549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82D318-B139-4112-888E-55ACF08652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9822-E7E5-4C7A-B60B-82152ED0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C81AAF-5CF4-4F3F-A782-921B9158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EA7C68-4B76-434C-87DB-BD17AC31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BFD4C9-EA22-4319-B682-DBA55BAB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03A6F0-2506-42A4-A7D7-531B00F8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B97368-5339-4CB5-9FEB-CCD93BE9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631465-808F-4023-89DB-FBA196F3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234AD5-5E9B-4203-A80E-6F94EAE6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C9177A-A93B-445B-A5D5-E36A2C2F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345237-A70B-4018-8DDB-033AA826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5CB791-74D3-4A02-806B-947373E3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F2485-6D5A-4F27-9465-6849E0B84D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762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390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1776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ECF6F-64F5-4365-B75B-C4BF62AD4A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D79546-5C65-44B9-9AF5-B0D3D6F9A8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897B6A-5159-4C28-9F42-7DD0937C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AEBC5D-723C-4B92-B621-ED453E14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981918-652C-412D-9F50-86D35E90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C14974-F728-40D3-88DF-126229CE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BB601A-A3EA-4CE2-826A-83D062B3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B356CE-2380-4144-AEF8-032E4A74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1A03BB-1C76-4E2C-B571-CAFC8792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61A73B-324F-4BF6-8441-64D83511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5776F-82EF-4093-9128-121E5B1B91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C6D5E4-AD04-4219-B178-33DDCD38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50184E-11C7-4D0F-B2B7-B3579663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762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390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1776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D96176-8718-4FBE-8987-29A5C69565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8495C-3316-44B3-9259-1306D7F793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B13E7-154B-4804-B0ED-23B1AF5B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321D7-8F14-4C62-B18B-81F34673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E2768-7530-475F-8E18-81691815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D637D-2E8C-4B1D-A33E-DF200452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B871B-A95F-49F7-A88A-91916738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2472D-CF72-468C-AB41-CE8B0574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529F6-E8FD-45F6-8843-DD5D75D6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C949D-1E58-4992-9633-C1BE8E6F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AEE23-DF60-4EB4-B3F7-70C5E0A2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82991-FB34-4EDF-B4F6-63DB1167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870BB-022A-4A43-AF5F-BBFFB33E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762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90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1776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9FDBC-F38E-4962-AE92-8B2BA6567E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1CE6E-ED2C-4657-B1BD-37411FB4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212E3-B0A9-4D6E-9B3A-70203228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C5591-73A3-47F3-8CC9-EDD643A7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98D1E-76B3-47CD-8179-8AA608B4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E0C47-91E8-4AC1-BD5A-FEC8ADDA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8BE51-B5B2-44BD-931F-C64AFED2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8C2DA-A592-4956-9AD4-01F0F125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F2133-E7E4-49B3-B407-2568CB4A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37C60-E46B-4EC5-876E-510518C6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99AF6-DC3A-44CA-A215-6D26ED75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90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776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3210A-D446-443B-80E4-740F3FCE3F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2F5F-BFC1-4740-A092-A4557EC2C1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027E-D442-4D65-AD3C-E76513BB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ADC1-748B-4CA4-9820-60C68FF8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3322-BCEC-435D-A557-458427AE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2C08-ACB7-481B-963F-DD80E129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82C79-274E-4164-89D5-679634AD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A320-4631-42F4-9A58-D06BF1AB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D0C8-FF43-44F5-8BA0-002F1659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236D-3CE7-4211-9DD0-3A190EC4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61A7-551A-4F7C-90E1-9540B9BB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80E0-492B-4309-90BA-07935EA2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BF49-9E76-4BE8-B9F9-801A3F8E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90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776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1C97-AD70-4F12-B59B-52011E57D4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89963-2EF1-4A6C-88DC-B455F7929C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F8E27-B2DB-4834-AC45-1C4299BB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59BE3-DBA4-4A0B-92BA-00363A1D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ADC0F-0750-4902-A886-73B484EA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1DA0CD-F248-466B-A1A7-AC1D440F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A0280-8027-4B1C-9CA2-890107E1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FE94E-5B52-44B6-B65F-C8E363B9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39A4F-4F36-4F9A-949F-B9E1E7E0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C93E3D-F82E-492E-8AF8-29BAACC2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AC30A-1C91-4D5C-A8D6-43D971C8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F2040-A195-4577-93BB-842E96D8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142D8-379E-48D0-9B90-17C7D47B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62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90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1776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2185B-5112-4B3C-87D3-029788B3EB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7308D2-DC1C-400D-BDC6-F592EE2E28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50D09-4822-4114-B075-2A54A23A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C89B14-EA58-4D4C-A42A-25008C60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67C884-97E4-49A2-A43E-8A0F0B33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16939C-E107-4E82-9716-B6DDCF15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0DD2AD-A70A-4BEF-AC7E-0F80AEA0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4F0F96-7C39-4759-9865-7BB75A15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E5FBC7-C63F-47C1-8F7C-BC02A695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883E03-D04F-4B4B-BC87-6D937F2C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8F5191-0AA7-4557-844F-F9F25165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CBD81D-4720-4920-AF96-3385C111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B5637E-F436-4CAD-B5F2-DAAB0DF4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657FD-9F62-4A8B-9E83-D30B3E4B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2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90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1776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16CB10-8B4D-4F47-94B3-461FFD382B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A755F-1949-4185-867F-5C711765F1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45864-ECAD-46B8-BC1F-F2EB32CC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89609-5FFC-463D-92A1-A01AE698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09CA5-2098-4BA2-96A0-B1B1CB21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23C5C-C23B-4799-9CBE-A892FDC5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A8049-D442-4EA6-8089-C19B26C9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25833-1DD4-4633-977A-62C5F7EF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D1A58-E643-48A9-A9B8-37104764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CB9C5-C90F-4826-A6E3-B5AB4588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979B5-3398-4CD7-94F6-B2FB5193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68CD9-C514-4137-8E9D-2189F69C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595C9-CD62-4B94-B65F-F53C5F21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62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90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1776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5CDE1-52F3-480F-A250-6DDB0AADEF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A5D653-5476-47D5-877B-DEC0B60D09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29BDF4-2C56-4216-9916-CF0CD823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8CEF6D-A93E-4D2E-8CFA-0410B8B4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988D00-CBEE-47E3-8AB0-2F1BBB98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68096C-F22F-4447-92B2-3D411C1E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A43CD-6356-44C8-AE79-7CD2E3C2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AF15E-5025-4F5D-B982-290BFDCA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D36EF-68C8-4C19-82DE-84294C6F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8F937-7B96-4288-8255-CEAEF93C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FABAEA-85A1-45E8-AD84-712D481F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2F4591-D7C4-4F9B-8DBF-E7A9F0CD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CFA5DD-8C64-4DC8-BF19-5CE8E0BE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762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90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1776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160CF-7D7C-46AF-83DB-DE96976589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628AA7-2E1B-498F-8C23-C96B21D1AF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6E87C4-9249-438C-A2C1-B9480018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3D09A2-8D95-4317-93B8-48ECB75D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911866-902C-4A00-9FF4-B9C66FE8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4F1909-0684-4EE1-B0CF-35531D16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E6162-7DBE-4CA3-862B-8EBE629A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3D7252-8387-420D-93C4-E9857992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C6E3AD-9486-4B45-9C53-98CAC3D3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7DC2C9-BFA9-446D-8A00-F6D56E59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C24884-22A5-47AA-990D-3BE11409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762120" y="33944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E172B3-79CF-43A0-85D9-AC0992CD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6212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744800" y="33944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662FA9-9DBF-4CA8-A21D-04A95111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762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39012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17760" y="33944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FC14AE-2552-46D8-867F-79EA0DDF0A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C9A4A-0C46-454F-B9A1-08F71FBDE1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5099A-2233-4142-963E-4CAAA9A7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F9304-9453-4F47-9AF7-B0F54F18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80E6-290E-43E0-9B7F-8D4439F5B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36576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41911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3276720" y="65530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19"/>
          </p:nvPr>
        </p:nvSpPr>
        <p:spPr>
          <a:xfrm>
            <a:off x="3808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20"/>
          </p:nvPr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0262-35EE-40A4-B567-04B067E74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1"/>
          </p:nvPr>
        </p:nvSpPr>
        <p:spPr>
          <a:xfrm>
            <a:off x="3808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2"/>
          </p:nvPr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A39D-9641-4989-ACB0-9E14BBBF6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3"/>
          </p:nvPr>
        </p:nvSpPr>
        <p:spPr>
          <a:xfrm>
            <a:off x="3808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4"/>
          </p:nvPr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D7A5-CEEA-4465-BEB1-83C8DE08E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3808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0976-A7FF-4242-8744-1C5D0E49C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3808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6C6D-A3A9-4407-8A77-08B7418E3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3808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8"/>
          </p:nvPr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3873-E879-4094-BB90-7CA2AFE4F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9"/>
          </p:nvPr>
        </p:nvSpPr>
        <p:spPr>
          <a:xfrm>
            <a:off x="3808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0"/>
          </p:nvPr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22E9-C438-4BA8-849A-130B8B71B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1"/>
          </p:nvPr>
        </p:nvSpPr>
        <p:spPr>
          <a:xfrm>
            <a:off x="3808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2"/>
          </p:nvPr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8D5A-F92F-4185-917C-6261B5535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3"/>
          </p:nvPr>
        </p:nvSpPr>
        <p:spPr>
          <a:xfrm>
            <a:off x="3808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4"/>
          </p:nvPr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B99A-E5BA-4848-A088-A9831C8E8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5"/>
          </p:nvPr>
        </p:nvSpPr>
        <p:spPr>
          <a:xfrm>
            <a:off x="3808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16"/>
          </p:nvPr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7511-83BB-45D3-AD1C-2E15C747F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7"/>
          </p:nvPr>
        </p:nvSpPr>
        <p:spPr>
          <a:xfrm>
            <a:off x="3808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sldNum" idx="18"/>
          </p:nvPr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CA3E-DEF4-4A12-986F-853BD280D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7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7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17.wmf"/><Relationship Id="rId10" Type="http://schemas.openxmlformats.org/officeDocument/2006/relationships/package" Target="../embeddings/oleObject5.docx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7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7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7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7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7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7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7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7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7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7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7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7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7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Marcador de número de diapositiva 4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E0D9-2B03-4199-A3E5-BC7CB342E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371600" y="1820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Introducción a la Electró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1600200" y="380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A834-7253-4224-BD04-C61ACE305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VERSIÓN SE SEÑALES ANALÓGICAS A DIGITALES Y VICE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035"/>
          <p:cNvSpPr/>
          <p:nvPr/>
        </p:nvSpPr>
        <p:spPr>
          <a:xfrm>
            <a:off x="0" y="1143000"/>
            <a:ext cx="891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vertidor analógico digital: (ADC Analog to digital conver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vierte señales analógicas al formato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°) Se realice un muestreo, es decir una medición en instantes de tiempo periódicos  (frecuencia de muestr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°) A la citada medición se le asigna una palabra de código de longitud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vertidor digital – analógico (DAC digital to analog conver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vierte señales en formato digital a señales analóg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036"/>
          <p:cNvSpPr/>
          <p:nvPr/>
        </p:nvSpPr>
        <p:spPr>
          <a:xfrm>
            <a:off x="365040" y="529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037"/>
          <p:cNvSpPr/>
          <p:nvPr/>
        </p:nvSpPr>
        <p:spPr>
          <a:xfrm>
            <a:off x="585000" y="4917960"/>
            <a:ext cx="806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sistemas analógicos son los que procesan señales analó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sistemas digitales son los que procesan señales dig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038"/>
          <p:cNvSpPr/>
          <p:nvPr/>
        </p:nvSpPr>
        <p:spPr>
          <a:xfrm>
            <a:off x="506160" y="5756400"/>
            <a:ext cx="80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sistemas modernos incluyen elementos analógico y dig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B852-7E5C-4B3F-AEFB-77734DEA2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1447920" y="5562720"/>
            <a:ext cx="708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3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Conversión de una señal analógica en un equivalente digita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roximad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diante muestre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Cada valor de muestra vien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resentado por  un código de 3 bits. Los convertidore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tilizan palabras de código más larg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4" descr="_x000c_AAAZYNP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304920" y="685800"/>
            <a:ext cx="6630840" cy="482616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5"/>
          <p:cNvSpPr/>
          <p:nvPr/>
        </p:nvSpPr>
        <p:spPr>
          <a:xfrm>
            <a:off x="685800" y="5335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mplit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2209680" y="12952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Valores de mues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4495680" y="1905120"/>
            <a:ext cx="838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eñ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na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0" y="914400"/>
            <a:ext cx="1295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alabras de códi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 tres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9"/>
          <p:cNvSpPr/>
          <p:nvPr/>
        </p:nvSpPr>
        <p:spPr>
          <a:xfrm>
            <a:off x="1752480" y="5334120"/>
            <a:ext cx="3276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eñal digital que representa bits de código suces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4" name="Object 10"/>
          <p:cNvGraphicFramePr/>
          <p:nvPr/>
        </p:nvGraphicFramePr>
        <p:xfrm>
          <a:off x="7110360" y="1320840"/>
          <a:ext cx="433440" cy="27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7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10360" y="1320840"/>
                    <a:ext cx="4334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NVERSIÓN SE SEÑALES ANALÓGICAS A DIGITALES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6A28-243D-4227-810E-EAA11645D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"/>
          <p:cNvSpPr/>
          <p:nvPr/>
        </p:nvSpPr>
        <p:spPr>
          <a:xfrm>
            <a:off x="1413360" y="5613480"/>
            <a:ext cx="629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4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Aparece un error de cuantificación cuando se reconstruye u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ñal analógica a partir de su equivalente digit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4" descr="_x000c_AAAZYNQ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990720"/>
            <a:ext cx="7367760" cy="384804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5"/>
          <p:cNvSpPr/>
          <p:nvPr/>
        </p:nvSpPr>
        <p:spPr>
          <a:xfrm>
            <a:off x="2438280" y="99072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Erro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uant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5486400" y="251460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Reconstr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6019920" y="20574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ccff"/>
                </a:solidFill>
                <a:latin typeface="Times New Roman"/>
              </a:rPr>
              <a:t>Señal analógica orig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RROR DE CUA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1671480" y="4648320"/>
            <a:ext cx="648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anto mayor es El n° de zonas menor es el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mayor n°de zonas, palabras de código mas l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A29B-6844-461E-A3C1-6D8655F5F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"/>
          <p:cNvSpPr/>
          <p:nvPr/>
        </p:nvSpPr>
        <p:spPr>
          <a:xfrm>
            <a:off x="762120" y="5791320"/>
            <a:ext cx="785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5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Es posible determinar las amplitudes originales de una señal digital después d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añadir ruido. Esto no es posible para una señal analógica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4" descr="_x000c_AAAZYNR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914400" y="990720"/>
            <a:ext cx="7367760" cy="476244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5"/>
          <p:cNvSpPr/>
          <p:nvPr/>
        </p:nvSpPr>
        <p:spPr>
          <a:xfrm>
            <a:off x="1981080" y="27432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a) Señal ana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5638680" y="2743200"/>
            <a:ext cx="1905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b) Señal dig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1752480" y="5410080"/>
            <a:ext cx="2133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c) Señal analógica con r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8"/>
          <p:cNvSpPr/>
          <p:nvPr/>
        </p:nvSpPr>
        <p:spPr>
          <a:xfrm>
            <a:off x="5562720" y="5486400"/>
            <a:ext cx="228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d) Señal digital con r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ENTAJAS RELATIVAS DE LOS SISTEMAS ANALÓGICOS Y DIGI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B0E4-CCF9-4008-883A-14ADF28CB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Object 1033"/>
          <p:cNvGraphicFramePr/>
          <p:nvPr/>
        </p:nvGraphicFramePr>
        <p:xfrm>
          <a:off x="196920" y="1860480"/>
          <a:ext cx="8745480" cy="33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Object 10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1860480"/>
                    <a:ext cx="8745480" cy="33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ENTAJAS RELATIVAS DE LOS SISTEMAS ANALÓGICOS Y DIGITALES (CO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3F67-8315-4CAE-B659-B9374AA00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2"/>
          <p:cNvSpPr/>
          <p:nvPr/>
        </p:nvSpPr>
        <p:spPr>
          <a:xfrm>
            <a:off x="1527120" y="5994360"/>
            <a:ext cx="650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6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Diagrama de flujo típico para el diseño de sistemas electrónic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4" descr="_x000c_AAAZYNS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1052640" y="812880"/>
            <a:ext cx="6872040" cy="482580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6"/>
          <p:cNvSpPr/>
          <p:nvPr/>
        </p:nvSpPr>
        <p:spPr>
          <a:xfrm>
            <a:off x="2057400" y="762120"/>
            <a:ext cx="1371600" cy="8827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108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arrollo de 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pecif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l sist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3657600" y="762120"/>
            <a:ext cx="1371600" cy="8827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108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ener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 plante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 solu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5334120" y="781200"/>
            <a:ext cx="1981080" cy="97776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1080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o de diagramas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loques del sistem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cluyendo las especificacio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l documento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9"/>
          <p:cNvSpPr/>
          <p:nvPr/>
        </p:nvSpPr>
        <p:spPr>
          <a:xfrm>
            <a:off x="2127240" y="2832120"/>
            <a:ext cx="1530360" cy="8827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108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o de 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ircuitos inter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 cada blo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3886200" y="2832120"/>
            <a:ext cx="1371600" cy="8827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108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stru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 circ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totip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5486400" y="2819520"/>
            <a:ext cx="1371600" cy="9907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216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2133720" y="4184640"/>
            <a:ext cx="1447560" cy="8827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108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ontaje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tot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3"/>
          <p:cNvSpPr/>
          <p:nvPr/>
        </p:nvSpPr>
        <p:spPr>
          <a:xfrm>
            <a:off x="3886200" y="4191120"/>
            <a:ext cx="1447920" cy="8827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108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ueba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in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l diseñ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4"/>
          <p:cNvSpPr/>
          <p:nvPr/>
        </p:nvSpPr>
        <p:spPr>
          <a:xfrm>
            <a:off x="5600880" y="4191120"/>
            <a:ext cx="1333440" cy="9187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36000" bIns="144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15"/>
          <p:cNvSpPr/>
          <p:nvPr/>
        </p:nvSpPr>
        <p:spPr>
          <a:xfrm>
            <a:off x="838080" y="99072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unc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l probl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16"/>
          <p:cNvSpPr/>
          <p:nvPr/>
        </p:nvSpPr>
        <p:spPr>
          <a:xfrm>
            <a:off x="2914560" y="1828800"/>
            <a:ext cx="2133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arte de los plante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 solución que no sean práct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7"/>
          <p:cNvSpPr/>
          <p:nvPr/>
        </p:nvSpPr>
        <p:spPr>
          <a:xfrm>
            <a:off x="1981080" y="5257800"/>
            <a:ext cx="1981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 este libro se estudiar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incipalmente esta 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8"/>
          <p:cNvSpPr/>
          <p:nvPr/>
        </p:nvSpPr>
        <p:spPr>
          <a:xfrm>
            <a:off x="7238880" y="4343400"/>
            <a:ext cx="990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stema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DISEÑO DE 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7A87-CBF4-4EBE-B512-ED3CE5ED2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"/>
          <p:cNvSpPr/>
          <p:nvPr/>
        </p:nvSpPr>
        <p:spPr>
          <a:xfrm>
            <a:off x="1764000" y="5613480"/>
            <a:ext cx="55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7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Diagrama de flujo del proceso de diseño de circuit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4" descr="_x000c_AAAZYNT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1657440"/>
            <a:ext cx="7367760" cy="354312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5"/>
          <p:cNvSpPr/>
          <p:nvPr/>
        </p:nvSpPr>
        <p:spPr>
          <a:xfrm>
            <a:off x="990720" y="2133720"/>
            <a:ext cx="9903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pecif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l blo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n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7696080" y="4191120"/>
            <a:ext cx="533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7"/>
          <p:cNvSpPr/>
          <p:nvPr/>
        </p:nvSpPr>
        <p:spPr>
          <a:xfrm>
            <a:off x="762120" y="5029200"/>
            <a:ext cx="67816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*Utilizando el análisis teórico, una simulación por computador, o pruebas reales con los circu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2666880" y="2038320"/>
            <a:ext cx="1676520" cy="8827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108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lección d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figu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l circu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4572000" y="2038320"/>
            <a:ext cx="1523880" cy="8827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108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lección de 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valores de 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0"/>
          <p:cNvSpPr/>
          <p:nvPr/>
        </p:nvSpPr>
        <p:spPr>
          <a:xfrm>
            <a:off x="6400800" y="2009880"/>
            <a:ext cx="1523880" cy="10166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imación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s prestaciones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1"/>
          <p:cNvSpPr/>
          <p:nvPr/>
        </p:nvSpPr>
        <p:spPr>
          <a:xfrm>
            <a:off x="3105000" y="3886200"/>
            <a:ext cx="1600200" cy="9547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180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l protot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12"/>
          <p:cNvSpPr/>
          <p:nvPr/>
        </p:nvSpPr>
        <p:spPr>
          <a:xfrm>
            <a:off x="5029200" y="3886200"/>
            <a:ext cx="1600200" cy="10267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252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ISEÑO DE CIRCU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CF0C-ABF3-48E6-B9B2-2C9DC5D74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"/>
          <p:cNvSpPr/>
          <p:nvPr/>
        </p:nvSpPr>
        <p:spPr>
          <a:xfrm>
            <a:off x="2876400" y="6146640"/>
            <a:ext cx="34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15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plificador electrón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5" descr="_x000c_AAAZYOB0.EPS                                                   00056AF1_x0013_Hard Drive-Seat One            B36702C6:"/>
          <p:cNvPicPr/>
          <p:nvPr/>
        </p:nvPicPr>
        <p:blipFill>
          <a:blip r:embed="rId1"/>
          <a:stretch/>
        </p:blipFill>
        <p:spPr>
          <a:xfrm>
            <a:off x="1752480" y="990720"/>
            <a:ext cx="5691240" cy="482580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6"/>
          <p:cNvSpPr/>
          <p:nvPr/>
        </p:nvSpPr>
        <p:spPr>
          <a:xfrm>
            <a:off x="2637000" y="984240"/>
            <a:ext cx="1143000" cy="46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ermi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e 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4960800" y="965160"/>
            <a:ext cx="1295640" cy="46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ermi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e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1322280" y="1944720"/>
            <a:ext cx="914400" cy="6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440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e señ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3075120" y="3022560"/>
            <a:ext cx="838080" cy="6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ímbo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e m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0"/>
          <p:cNvSpPr/>
          <p:nvPr/>
        </p:nvSpPr>
        <p:spPr>
          <a:xfrm>
            <a:off x="7037280" y="1981080"/>
            <a:ext cx="533520" cy="6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3989520" y="2013120"/>
            <a:ext cx="914400" cy="343800"/>
          </a:xfrm>
          <a:prstGeom prst="rect">
            <a:avLst/>
          </a:prstGeom>
          <a:solidFill>
            <a:srgbClr val="c3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mplific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2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4 CONCEPTOS BÁSICOS SOBRE AMPLIFIC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4"/>
          <p:cNvSpPr/>
          <p:nvPr/>
        </p:nvSpPr>
        <p:spPr>
          <a:xfrm>
            <a:off x="5620320" y="3089160"/>
            <a:ext cx="267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istencia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nancia en ten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5E33-43BD-4BD8-9F20-45D90BEB1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2"/>
          <p:cNvSpPr/>
          <p:nvPr/>
        </p:nvSpPr>
        <p:spPr>
          <a:xfrm>
            <a:off x="822240" y="5613480"/>
            <a:ext cx="74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16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 de onda de entrada y sus correspondientes formas de onda de salid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6" descr="_x000c_AAAZYOC0.EPS                                                   00056AF1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1917720"/>
            <a:ext cx="7367760" cy="302256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7"/>
          <p:cNvSpPr/>
          <p:nvPr/>
        </p:nvSpPr>
        <p:spPr>
          <a:xfrm>
            <a:off x="838080" y="3352680"/>
            <a:ext cx="2057400" cy="4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a) Forma de onda de 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8"/>
          <p:cNvSpPr/>
          <p:nvPr/>
        </p:nvSpPr>
        <p:spPr>
          <a:xfrm>
            <a:off x="2971800" y="3886200"/>
            <a:ext cx="2743200" cy="46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b) Forma de onda de salida de un amplificador no inver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9"/>
          <p:cNvSpPr/>
          <p:nvPr/>
        </p:nvSpPr>
        <p:spPr>
          <a:xfrm>
            <a:off x="5791320" y="3886200"/>
            <a:ext cx="2514600" cy="46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c) Forma de onda de salida de un amplificador inver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0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4 CONCEPTOS BÁSICOS SOBRE AMPLIFICADORES (C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2"/>
          <p:cNvSpPr/>
          <p:nvPr/>
        </p:nvSpPr>
        <p:spPr>
          <a:xfrm>
            <a:off x="2664360" y="4495680"/>
            <a:ext cx="32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mplificador no inver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mplificador inver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4C3B-5F44-4CC4-98F7-46CA08404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2"/>
          <p:cNvSpPr/>
          <p:nvPr/>
        </p:nvSpPr>
        <p:spPr>
          <a:xfrm>
            <a:off x="1614960" y="5613480"/>
            <a:ext cx="588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17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Modelo de un amplificador electrónico, que incluye u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istencia de entrad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y una resistencia de salid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 baseline="-4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5" descr="_x000c_AAAZYOD0.EPS                                                   00056AF1_x0013_Hard Drive-Seat One            B36702C6:"/>
          <p:cNvPicPr/>
          <p:nvPr/>
        </p:nvPicPr>
        <p:blipFill>
          <a:blip r:embed="rId1"/>
          <a:stretch/>
        </p:blipFill>
        <p:spPr>
          <a:xfrm>
            <a:off x="762120" y="1600200"/>
            <a:ext cx="7367400" cy="332748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6"/>
          <p:cNvSpPr/>
          <p:nvPr/>
        </p:nvSpPr>
        <p:spPr>
          <a:xfrm>
            <a:off x="5029200" y="1523880"/>
            <a:ext cx="2133720" cy="8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 de t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ntrolada por t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7"/>
          <p:cNvSpPr/>
          <p:nvPr/>
        </p:nvSpPr>
        <p:spPr>
          <a:xfrm>
            <a:off x="3505320" y="4495680"/>
            <a:ext cx="2514600" cy="4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odelo de amplificador de t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odelo del amplificador de t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1200240" y="491796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10"/>
          <p:cNvSpPr/>
          <p:nvPr/>
        </p:nvSpPr>
        <p:spPr>
          <a:xfrm>
            <a:off x="4949640" y="487692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mpedancia 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13"/>
          <p:cNvSpPr/>
          <p:nvPr/>
        </p:nvSpPr>
        <p:spPr>
          <a:xfrm flipV="1">
            <a:off x="2514600" y="3657600"/>
            <a:ext cx="990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14"/>
          <p:cNvSpPr/>
          <p:nvPr/>
        </p:nvSpPr>
        <p:spPr>
          <a:xfrm flipH="1" flipV="1">
            <a:off x="6400800" y="3047760"/>
            <a:ext cx="763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6EE1-693D-48AF-A9A2-E5DAE7311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que es un sistema electrón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aber discernir entre un sistema electrónico de procesamiento de información y un sistema electrónico de pot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las ventajas y desventajas de los sistemas digitales y analóg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render la necesidad de interrelación de los s. digitales con los ana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DA43-CA73-41B0-ADF4-C8ED291C9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NCEPTO DE IMPEDANCIA DE ENTRADA E IMPEDANCIA DE SA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9" name="Object 4"/>
          <p:cNvGraphicFramePr/>
          <p:nvPr/>
        </p:nvGraphicFramePr>
        <p:xfrm>
          <a:off x="1066680" y="1295280"/>
          <a:ext cx="7010640" cy="22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701064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Text Box 5"/>
          <p:cNvSpPr/>
          <p:nvPr/>
        </p:nvSpPr>
        <p:spPr>
          <a:xfrm>
            <a:off x="304920" y="3505320"/>
            <a:ext cx="82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mpedancia de entrada es el cociente entre la tensión de entrada y la corriente de entr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mpedancia de salida es el cociente entre la tensión en vacío y la corriente de cortocircu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457200" y="541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4F3D-F7AB-4F86-978B-9A8B5E3C6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NCEPTO DE IMPEDANCIA DE ENTRADA E IMPEDANCIA DE SA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5"/>
          <p:cNvSpPr/>
          <p:nvPr/>
        </p:nvSpPr>
        <p:spPr>
          <a:xfrm>
            <a:off x="457200" y="541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6"/>
          <p:cNvSpPr/>
          <p:nvPr/>
        </p:nvSpPr>
        <p:spPr>
          <a:xfrm>
            <a:off x="152280" y="3581280"/>
            <a:ext cx="861084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circuitos lineales, otra forma de calcular la impedancia de salida es como se indica en la figura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°) Anulamos todos los generadores. (f. tensión c.c. f corriente c.a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°) Aplicamos a la salida una tensión de prueb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°) La impedancia de salida será el cociente entre la tensión de prueba y la corriente de prue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7" name="Object 7"/>
          <p:cNvGraphicFramePr/>
          <p:nvPr/>
        </p:nvGraphicFramePr>
        <p:xfrm>
          <a:off x="1143000" y="1371600"/>
          <a:ext cx="6400800" cy="20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6400800" cy="20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A986-DF45-4349-A3CB-040156715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2"/>
          <p:cNvSpPr/>
          <p:nvPr/>
        </p:nvSpPr>
        <p:spPr>
          <a:xfrm>
            <a:off x="1431360" y="5613480"/>
            <a:ext cx="624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18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ente, modelo de amplificador y carga para el Ejemplo 1.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Picture 5" descr="_x000c_AAAZYOE0.EPS                                                   00056AF1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2349360"/>
            <a:ext cx="7367760" cy="21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2" name="Object 6"/>
          <p:cNvGraphicFramePr/>
          <p:nvPr/>
        </p:nvGraphicFramePr>
        <p:xfrm>
          <a:off x="2133720" y="2997360"/>
          <a:ext cx="188640" cy="306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7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997360"/>
                    <a:ext cx="1886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Object 7"/>
          <p:cNvGraphicFramePr/>
          <p:nvPr/>
        </p:nvGraphicFramePr>
        <p:xfrm>
          <a:off x="4103640" y="3543480"/>
          <a:ext cx="189000" cy="306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75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03640" y="3543480"/>
                    <a:ext cx="1890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Object 8"/>
          <p:cNvGraphicFramePr/>
          <p:nvPr/>
        </p:nvGraphicFramePr>
        <p:xfrm>
          <a:off x="6211800" y="2984400"/>
          <a:ext cx="189000" cy="306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77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11800" y="2984400"/>
                    <a:ext cx="1890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Object 9"/>
          <p:cNvGraphicFramePr/>
          <p:nvPr/>
        </p:nvGraphicFramePr>
        <p:xfrm>
          <a:off x="8066160" y="3594240"/>
          <a:ext cx="189000" cy="306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679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066160" y="3594240"/>
                    <a:ext cx="1890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EMPLO 1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0C0A-4A47-41BB-A579-5776E4D28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2"/>
          <p:cNvSpPr/>
          <p:nvPr/>
        </p:nvSpPr>
        <p:spPr>
          <a:xfrm>
            <a:off x="1845360" y="5613480"/>
            <a:ext cx="54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19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exión en cascada de estos dos amplificado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Picture 5" descr="_x000c_AAAZYOF0.EPS                                                   00056AF1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2400480"/>
            <a:ext cx="7367760" cy="205740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6"/>
          <p:cNvSpPr/>
          <p:nvPr/>
        </p:nvSpPr>
        <p:spPr>
          <a:xfrm>
            <a:off x="2057400" y="3378240"/>
            <a:ext cx="1600200" cy="278640"/>
          </a:xfrm>
          <a:prstGeom prst="rect">
            <a:avLst/>
          </a:prstGeom>
          <a:solidFill>
            <a:srgbClr val="c3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mplific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5562720" y="3378240"/>
            <a:ext cx="1600200" cy="278640"/>
          </a:xfrm>
          <a:prstGeom prst="rect">
            <a:avLst/>
          </a:prstGeom>
          <a:solidFill>
            <a:srgbClr val="c3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mplific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5.- AMPLIFICADORES EN CAS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B01E-4B68-4517-9377-1A0C39D0E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"/>
          <p:cNvSpPr/>
          <p:nvPr/>
        </p:nvSpPr>
        <p:spPr>
          <a:xfrm>
            <a:off x="2104200" y="5613480"/>
            <a:ext cx="490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20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plificadores en cascada del Ejemplo 1.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Picture 5" descr="_x000c_AAAZYOG0.EPS                                                   00056AF1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2038320"/>
            <a:ext cx="7367760" cy="278136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6"/>
          <p:cNvSpPr/>
          <p:nvPr/>
        </p:nvSpPr>
        <p:spPr>
          <a:xfrm>
            <a:off x="1676520" y="4572000"/>
            <a:ext cx="1600200" cy="27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rimera eta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7"/>
          <p:cNvSpPr/>
          <p:nvPr/>
        </p:nvSpPr>
        <p:spPr>
          <a:xfrm>
            <a:off x="4800600" y="4572000"/>
            <a:ext cx="1600200" cy="27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egunda eta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8"/>
          <p:cNvSpPr/>
          <p:nvPr/>
        </p:nvSpPr>
        <p:spPr>
          <a:xfrm>
            <a:off x="7238880" y="4572000"/>
            <a:ext cx="914400" cy="27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3" name="Object 9"/>
          <p:cNvGraphicFramePr/>
          <p:nvPr/>
        </p:nvGraphicFramePr>
        <p:xfrm>
          <a:off x="2031840" y="3619440"/>
          <a:ext cx="165240" cy="268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31840" y="3619440"/>
                    <a:ext cx="16524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11"/>
          <p:cNvGraphicFramePr/>
          <p:nvPr/>
        </p:nvGraphicFramePr>
        <p:xfrm>
          <a:off x="3568680" y="3186000"/>
          <a:ext cx="165240" cy="268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96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68680" y="3186000"/>
                    <a:ext cx="165240" cy="2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12"/>
          <p:cNvGraphicFramePr/>
          <p:nvPr/>
        </p:nvGraphicFramePr>
        <p:xfrm>
          <a:off x="5143680" y="3632040"/>
          <a:ext cx="164880" cy="268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98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43680" y="3632040"/>
                    <a:ext cx="164880" cy="2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Object 13"/>
          <p:cNvGraphicFramePr/>
          <p:nvPr/>
        </p:nvGraphicFramePr>
        <p:xfrm>
          <a:off x="6730920" y="3187800"/>
          <a:ext cx="165240" cy="2682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700" name="Object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30920" y="3187800"/>
                    <a:ext cx="16524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Object 14"/>
          <p:cNvGraphicFramePr/>
          <p:nvPr/>
        </p:nvGraphicFramePr>
        <p:xfrm>
          <a:off x="8115480" y="3606840"/>
          <a:ext cx="164880" cy="2682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702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115480" y="3606840"/>
                    <a:ext cx="16488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EMPLO 1.2 (Amplificadores en casca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0AEE-FDA6-4756-B1C7-379C3D6CA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"/>
          <p:cNvSpPr/>
          <p:nvPr/>
        </p:nvSpPr>
        <p:spPr>
          <a:xfrm>
            <a:off x="1692720" y="5613480"/>
            <a:ext cx="572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e 1.21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elo simplificado de los amplificadores en cas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 la Figura 1.20. Consulte el Ejemplo 1.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Picture 5" descr="_x000c_AAAZYOH0.EPS                                                   00056B50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2082960"/>
            <a:ext cx="7367760" cy="269208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mplificadores en cascada: Circuito equival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959D-649B-411A-B901-BD66E7EDC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1284480" y="5613480"/>
            <a:ext cx="65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22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fuente de alimentación proporciona potencia al amplifica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partir de varias fuentes de tensión consta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Picture 5" descr="_x000c_AAAZYOI0.EPS                                                   00056B50_x0013_Hard Drive-Seat One            B36702C6:"/>
          <p:cNvPicPr/>
          <p:nvPr/>
        </p:nvPicPr>
        <p:blipFill>
          <a:blip r:embed="rId1"/>
          <a:stretch/>
        </p:blipFill>
        <p:spPr>
          <a:xfrm>
            <a:off x="1103400" y="533520"/>
            <a:ext cx="6935760" cy="482580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6"/>
          <p:cNvSpPr/>
          <p:nvPr/>
        </p:nvSpPr>
        <p:spPr>
          <a:xfrm>
            <a:off x="6324480" y="2567160"/>
            <a:ext cx="2438640" cy="143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nectado a varios pu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e los circuitos 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que no se muestr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8"/>
          <p:cNvSpPr/>
          <p:nvPr/>
        </p:nvSpPr>
        <p:spPr>
          <a:xfrm>
            <a:off x="3581280" y="5105520"/>
            <a:ext cx="2210040" cy="5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 de 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.- FUENTES DE ALIMENTACIÓN Y RD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9D1C-80E1-472E-9739-2DBBFDFD6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2"/>
          <p:cNvSpPr/>
          <p:nvPr/>
        </p:nvSpPr>
        <p:spPr>
          <a:xfrm>
            <a:off x="2556360" y="5613480"/>
            <a:ext cx="400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23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lustración del flujo de potenc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_x000c_AAAZYOJ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2514600"/>
            <a:ext cx="7367760" cy="182880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5"/>
          <p:cNvSpPr/>
          <p:nvPr/>
        </p:nvSpPr>
        <p:spPr>
          <a:xfrm>
            <a:off x="380880" y="2895480"/>
            <a:ext cx="1676520" cy="6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ntrada de la fu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e 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6"/>
          <p:cNvSpPr/>
          <p:nvPr/>
        </p:nvSpPr>
        <p:spPr>
          <a:xfrm>
            <a:off x="304920" y="3886200"/>
            <a:ext cx="1828800" cy="6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ntrada de la fu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e señ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7"/>
          <p:cNvSpPr/>
          <p:nvPr/>
        </p:nvSpPr>
        <p:spPr>
          <a:xfrm>
            <a:off x="6858000" y="2590920"/>
            <a:ext cx="1981080" cy="6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otencia de la señ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e salida hacia la car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8"/>
          <p:cNvSpPr/>
          <p:nvPr/>
        </p:nvSpPr>
        <p:spPr>
          <a:xfrm>
            <a:off x="6858000" y="3581280"/>
            <a:ext cx="1523880" cy="6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otencia disip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n el amplific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LUJO DE POTENCIA EN UN CIRCUITO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4CA8-CF4E-4A57-BF36-84B366589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2"/>
          <p:cNvSpPr/>
          <p:nvPr/>
        </p:nvSpPr>
        <p:spPr>
          <a:xfrm>
            <a:off x="2654640" y="5613480"/>
            <a:ext cx="380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24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plificador del Ejemplo 1.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Picture 4" descr="_x000c_AAAZYOK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1066680" y="1371600"/>
            <a:ext cx="6669360" cy="482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5" name="Object 5"/>
          <p:cNvGraphicFramePr/>
          <p:nvPr/>
        </p:nvGraphicFramePr>
        <p:xfrm>
          <a:off x="4083120" y="2671920"/>
          <a:ext cx="164880" cy="268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83120" y="2671920"/>
                    <a:ext cx="16488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7" name="Object 6"/>
          <p:cNvGraphicFramePr/>
          <p:nvPr/>
        </p:nvGraphicFramePr>
        <p:xfrm>
          <a:off x="5864400" y="2424240"/>
          <a:ext cx="164880" cy="268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28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4400" y="2424240"/>
                    <a:ext cx="16488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9" name="Object 7"/>
          <p:cNvGraphicFramePr/>
          <p:nvPr/>
        </p:nvGraphicFramePr>
        <p:xfrm>
          <a:off x="7731000" y="2652840"/>
          <a:ext cx="165240" cy="2682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30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31000" y="2652840"/>
                    <a:ext cx="16524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emplo del cálculo  del rdto de un amplificad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603E-0615-4BA2-A736-5B3F30A1E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"/>
          <p:cNvSpPr/>
          <p:nvPr/>
        </p:nvSpPr>
        <p:spPr>
          <a:xfrm>
            <a:off x="2386440" y="5613480"/>
            <a:ext cx="435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25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elo de amplificador de corri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5" descr="_x000c_AAAZYOL0.EPS                                                   00056B50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1536840"/>
            <a:ext cx="7367760" cy="378432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6"/>
          <p:cNvSpPr/>
          <p:nvPr/>
        </p:nvSpPr>
        <p:spPr>
          <a:xfrm>
            <a:off x="4495680" y="4537080"/>
            <a:ext cx="3505320" cy="105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odelo de amplificador de corr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mplificador de corr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E7C8-744E-4036-A504-661E930FE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BJETIVOS (co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los conceptos básicos sobre amplificadores y sus diferentes tip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mplificadores de t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mplificadores de corr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mplificadores de transresis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mplificadores de transconducta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813A-3266-413E-86DF-001AE7635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2"/>
          <p:cNvSpPr/>
          <p:nvPr/>
        </p:nvSpPr>
        <p:spPr>
          <a:xfrm>
            <a:off x="1590120" y="5613480"/>
            <a:ext cx="59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e 1.26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plificador de corriente de los Ejemplos 1.5, 1.6 y 1.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Picture 5" descr="_x000c_AAAZYOM0.EPS                                                   00056B50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2521080"/>
            <a:ext cx="7367760" cy="181584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6"/>
          <p:cNvSpPr/>
          <p:nvPr/>
        </p:nvSpPr>
        <p:spPr>
          <a:xfrm>
            <a:off x="7086600" y="3314880"/>
            <a:ext cx="1371600" cy="58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arga en cortocircu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versión de un amplificador de corriente  en amplificador de t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8"/>
          <p:cNvSpPr/>
          <p:nvPr/>
        </p:nvSpPr>
        <p:spPr>
          <a:xfrm>
            <a:off x="106668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9"/>
          <p:cNvSpPr/>
          <p:nvPr/>
        </p:nvSpPr>
        <p:spPr>
          <a:xfrm>
            <a:off x="657720" y="1717560"/>
            <a:ext cx="81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conversión es inmediata aplicando la dualidad de los teor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hevenin-Nor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3700-C441-4113-90E4-5CD72596A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2"/>
          <p:cNvSpPr/>
          <p:nvPr/>
        </p:nvSpPr>
        <p:spPr>
          <a:xfrm>
            <a:off x="818640" y="5613480"/>
            <a:ext cx="747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27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elo de amplificador de corriente equivalente al modelo de amplific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 tensión de la Figura 1.26.  Consulte el Ejemplo 1.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5" descr="_x000c_AAAZYON0.EPS                                                   00056B50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2305080"/>
            <a:ext cx="73677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E5D0-A8A6-4DF4-A360-B57CCD21F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2"/>
          <p:cNvSpPr/>
          <p:nvPr/>
        </p:nvSpPr>
        <p:spPr>
          <a:xfrm>
            <a:off x="2005200" y="5613480"/>
            <a:ext cx="50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28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elo de amplificador de transconducta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4" descr="_x000c_AAAZYOO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1670040"/>
            <a:ext cx="7367760" cy="351792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5"/>
          <p:cNvSpPr/>
          <p:nvPr/>
        </p:nvSpPr>
        <p:spPr>
          <a:xfrm>
            <a:off x="4552920" y="4495680"/>
            <a:ext cx="2743200" cy="90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 de corr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ntrolada por t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7"/>
          <p:cNvSpPr/>
          <p:nvPr/>
        </p:nvSpPr>
        <p:spPr>
          <a:xfrm>
            <a:off x="1974600" y="1371600"/>
            <a:ext cx="54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ente de corriente dependiente de ten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11AE-5548-4702-930E-224E11CF9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2"/>
          <p:cNvSpPr/>
          <p:nvPr/>
        </p:nvSpPr>
        <p:spPr>
          <a:xfrm>
            <a:off x="1306440" y="5613480"/>
            <a:ext cx="649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29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plificador de transconductancia equivalente al amplifica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 tensión de la Figura 1.26. Consulte el Ejempl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4" descr="_x000c_AAAZYOP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2216160"/>
            <a:ext cx="7367760" cy="24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6" name="Object 5"/>
          <p:cNvGraphicFramePr/>
          <p:nvPr/>
        </p:nvGraphicFramePr>
        <p:xfrm>
          <a:off x="2749680" y="3333600"/>
          <a:ext cx="234720" cy="381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5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9680" y="3333600"/>
                    <a:ext cx="2347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8" name="Object 6"/>
          <p:cNvGraphicFramePr/>
          <p:nvPr/>
        </p:nvGraphicFramePr>
        <p:xfrm>
          <a:off x="6927840" y="3295800"/>
          <a:ext cx="235080" cy="380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5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27840" y="3295800"/>
                    <a:ext cx="2350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E9AB-D4C9-41D5-8674-493271C09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2"/>
          <p:cNvSpPr/>
          <p:nvPr/>
        </p:nvSpPr>
        <p:spPr>
          <a:xfrm>
            <a:off x="2094480" y="5613480"/>
            <a:ext cx="493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30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elo de amplificador de transresistenc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4" descr="_x000c_AAAZYOQ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1644480"/>
            <a:ext cx="7367760" cy="356904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5"/>
          <p:cNvSpPr/>
          <p:nvPr/>
        </p:nvSpPr>
        <p:spPr>
          <a:xfrm>
            <a:off x="4629240" y="4495680"/>
            <a:ext cx="2743200" cy="90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in de t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ntrolada por corr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mplificador de transresis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7"/>
          <p:cNvSpPr/>
          <p:nvPr/>
        </p:nvSpPr>
        <p:spPr>
          <a:xfrm>
            <a:off x="1746000" y="1066680"/>
            <a:ext cx="54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ente de tensión dependiente de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268E-0732-41B4-8B7B-D8BAD4D6D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2"/>
          <p:cNvSpPr/>
          <p:nvPr/>
        </p:nvSpPr>
        <p:spPr>
          <a:xfrm>
            <a:off x="1430640" y="5613480"/>
            <a:ext cx="62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31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plificador de transresistencia equivalente al amplifica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 tensión de la Figura 1.26.  Consulte el ejemplo 1.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4" descr="_x000c_AAAZYOR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2241720"/>
            <a:ext cx="7367760" cy="23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9" name="Object 5"/>
          <p:cNvGraphicFramePr/>
          <p:nvPr/>
        </p:nvGraphicFramePr>
        <p:xfrm>
          <a:off x="2927520" y="3524400"/>
          <a:ext cx="269640" cy="43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27520" y="3524400"/>
                    <a:ext cx="2696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1" name="Object 6"/>
          <p:cNvGraphicFramePr/>
          <p:nvPr/>
        </p:nvGraphicFramePr>
        <p:xfrm>
          <a:off x="6054840" y="3124080"/>
          <a:ext cx="26964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72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54840" y="3124080"/>
                    <a:ext cx="2696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920D-21C5-464B-8771-B9A59B403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"/>
          <p:cNvSpPr/>
          <p:nvPr/>
        </p:nvSpPr>
        <p:spPr>
          <a:xfrm>
            <a:off x="628200" y="4876920"/>
            <a:ext cx="7628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32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 se desea medir la tensión en circuito abierto de una fuente, el amplifica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berá presentar una resistencia de entrada alta, como se muestra en (a). P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r la corriente en cortocircuito se requiere una resistencia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ada baja, como se muestra en (b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Picture 5" descr="_x000c_AAAZYOS0.EPS                                                   00056B50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2292480"/>
            <a:ext cx="7367760" cy="2273040"/>
          </a:xfrm>
          <a:prstGeom prst="rect">
            <a:avLst/>
          </a:prstGeom>
          <a:ln w="0">
            <a:noFill/>
          </a:ln>
        </p:spPr>
      </p:pic>
      <p:sp>
        <p:nvSpPr>
          <p:cNvPr id="776" name="Text Box 6"/>
          <p:cNvSpPr/>
          <p:nvPr/>
        </p:nvSpPr>
        <p:spPr>
          <a:xfrm>
            <a:off x="838080" y="4191120"/>
            <a:ext cx="3829320" cy="6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a) Si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&gt;&gt;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, entonces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8"/>
          <p:cNvSpPr/>
          <p:nvPr/>
        </p:nvSpPr>
        <p:spPr>
          <a:xfrm>
            <a:off x="4476600" y="4200480"/>
            <a:ext cx="3829320" cy="6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b) Si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&lt;&lt;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, entonces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plicaciones que requieren una impedancia de entrada alta o b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12F8-1CA5-4D6F-ACE8-4A0012C03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2"/>
          <p:cNvSpPr/>
          <p:nvPr/>
        </p:nvSpPr>
        <p:spPr>
          <a:xfrm>
            <a:off x="228600" y="419112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alquier fuente de señal puede sustituirse por su circuito equivalente Thevenin o Nor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gunas fuentes de señal se asemejan físicamente mas bien a un circuito equivalente Thevenin, y otras mas bien a un circuito equivalente Nort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1" name="Picture 3" descr="_x000c_AAAZYOS0.EPS                                                   00056B50_x0013_Hard Drive-Seat One            B36702C6:"/>
          <p:cNvPicPr/>
          <p:nvPr/>
        </p:nvPicPr>
        <p:blipFill>
          <a:blip r:embed="rId1"/>
          <a:stretch/>
        </p:blipFill>
        <p:spPr>
          <a:xfrm>
            <a:off x="838080" y="1447920"/>
            <a:ext cx="7367760" cy="2273040"/>
          </a:xfrm>
          <a:prstGeom prst="rect">
            <a:avLst/>
          </a:prstGeom>
          <a:ln w="0">
            <a:noFill/>
          </a:ln>
        </p:spPr>
      </p:pic>
      <p:sp>
        <p:nvSpPr>
          <p:cNvPr id="782" name="Text Box 4"/>
          <p:cNvSpPr/>
          <p:nvPr/>
        </p:nvSpPr>
        <p:spPr>
          <a:xfrm>
            <a:off x="609480" y="3276720"/>
            <a:ext cx="3829320" cy="6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a) Si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&gt;&gt;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, entonces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5"/>
          <p:cNvSpPr/>
          <p:nvPr/>
        </p:nvSpPr>
        <p:spPr>
          <a:xfrm>
            <a:off x="4419720" y="3276720"/>
            <a:ext cx="3828960" cy="6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b) Si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&lt;&lt;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, entonces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entes de señal. Modelos equivalentes Thevenin y Nor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D665-F8D3-4A29-A32D-9DD0B9336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2"/>
          <p:cNvSpPr/>
          <p:nvPr/>
        </p:nvSpPr>
        <p:spPr>
          <a:xfrm>
            <a:off x="758160" y="5613480"/>
            <a:ext cx="761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33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 la impedancia de salid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 baseline="-4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el amplificador es mucho menor que la men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 las resistencias de carga, la tensión es prácticamente independiente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úmero de interruptores cerra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7" name="Picture 4" descr="_x000c_AAAZYOT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2514600"/>
            <a:ext cx="7367760" cy="1828800"/>
          </a:xfrm>
          <a:prstGeom prst="rect">
            <a:avLst/>
          </a:prstGeom>
          <a:ln w="0">
            <a:noFill/>
          </a:ln>
        </p:spPr>
      </p:pic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plicaciones que requieren una impedancia de entrada alta o baja (Co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6940-C3D8-475A-9E64-4354244A4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2"/>
          <p:cNvSpPr/>
          <p:nvPr/>
        </p:nvSpPr>
        <p:spPr>
          <a:xfrm>
            <a:off x="859680" y="5613480"/>
            <a:ext cx="74257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34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 evitar reflexiones, la resistencia de entrada del amplificad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 baseline="-2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eber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 igual a la resistencia característica Z</a:t>
            </a:r>
            <a:r>
              <a:rPr b="0" lang="en-US" sz="1600" spc="-1" strike="noStrike" baseline="-2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e la línea de transmis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Picture 4" descr="_x000c_AAAZYOU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990720" y="2438280"/>
            <a:ext cx="7367400" cy="3225960"/>
          </a:xfrm>
          <a:prstGeom prst="rect">
            <a:avLst/>
          </a:prstGeom>
          <a:ln w="0">
            <a:noFill/>
          </a:ln>
        </p:spPr>
      </p:pic>
      <p:sp>
        <p:nvSpPr>
          <p:cNvPr id="792" name="Text Box 5"/>
          <p:cNvSpPr/>
          <p:nvPr/>
        </p:nvSpPr>
        <p:spPr>
          <a:xfrm>
            <a:off x="3151080" y="2451240"/>
            <a:ext cx="2743200" cy="6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eñal que se despla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hacia el amplific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3124080" y="4800600"/>
            <a:ext cx="2971800" cy="95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ínea de transmisi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impedancia característica Z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7"/>
          <p:cNvSpPr/>
          <p:nvPr/>
        </p:nvSpPr>
        <p:spPr>
          <a:xfrm>
            <a:off x="3456000" y="4113360"/>
            <a:ext cx="2743200" cy="48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1080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flexión si 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plicaciones que requieren una impedancia determi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9"/>
          <p:cNvSpPr/>
          <p:nvPr/>
        </p:nvSpPr>
        <p:spPr>
          <a:xfrm>
            <a:off x="746280" y="1260360"/>
            <a:ext cx="80928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alta frecuencia y con señales de frentes abruptos, es necesario que 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(Impedancia característica de la línea de transmis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sean iguales. (Ejemplo: 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52 ohmios, 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75 ohm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BF71-056E-4D40-A76E-213135BED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BJETIVOS (co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las característica  mas importantes de los Amplificado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anancia, impedancia de entrada e impedancia de sal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ocer las limitaciones de los amplificadores respecto a su respuesta frecuencial, y los conceptos claves al respecto: ganancia compleja, frecuencia de corte y ancho de band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spuesta a un escaló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EE9A-57AE-463B-9996-71E9CBA7A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MPLIFICADORES IDE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9" name="Object 3"/>
          <p:cNvGraphicFramePr/>
          <p:nvPr/>
        </p:nvGraphicFramePr>
        <p:xfrm>
          <a:off x="533520" y="1523880"/>
          <a:ext cx="25398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25398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4"/>
          <p:cNvSpPr/>
          <p:nvPr/>
        </p:nvSpPr>
        <p:spPr>
          <a:xfrm>
            <a:off x="3657600" y="1600200"/>
            <a:ext cx="495288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mplificador ideal de tensión Fuente de tensión controlada por ten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infinita 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0 [µ]= adimen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5"/>
          <p:cNvSpPr/>
          <p:nvPr/>
        </p:nvSpPr>
        <p:spPr>
          <a:xfrm>
            <a:off x="3200400" y="3733920"/>
            <a:ext cx="541008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 Amplificador ideal de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uente de corriente controlada por corri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0 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infinita  [β]= adimen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885B-49A7-4D56-B53B-7EF18529E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MPLIFICADORES IDEALES (CO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4"/>
          <p:cNvSpPr/>
          <p:nvPr/>
        </p:nvSpPr>
        <p:spPr>
          <a:xfrm>
            <a:off x="3429000" y="1600200"/>
            <a:ext cx="571500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 Amplificador ideal de transconducta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uente de corriente controlada por ten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infinita 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infinit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[g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]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admitancia (transconducta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3200400" y="3886200"/>
            <a:ext cx="59436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 Amplificador ideal de trans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uente de tensión controlada por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0 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0  [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= 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7" name="Object 6"/>
          <p:cNvGraphicFramePr/>
          <p:nvPr/>
        </p:nvGraphicFramePr>
        <p:xfrm>
          <a:off x="152280" y="1676520"/>
          <a:ext cx="27655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27655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D7A7-BAE0-4D2B-AF4B-73CFFFB8B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MPLIFICADORES RE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736640" y="1641600"/>
            <a:ext cx="6492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mpedancias de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nsión de desviación con entradas n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orsione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puesta frecu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ganancia de los amplificadores no es una constante, sino que depende de la frecuencia. Es una función comple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orsión en ampl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orsión de 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7ACD-C927-4724-8BD3-70E6ED019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SPUESTA FRECUENCIAL DE LOS AMPLIFIC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838080" y="1371600"/>
            <a:ext cx="7925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señales procesadas por los dispositivos electrónicos, casi nunca son senoid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son periódicas, aplicando Fourier pueden tratarse como sumas de componentes senoidales de varias frecu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el sistema es lineal puede aplicarse el principio de superposi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amplificadores reales no tienen la misma ganancia a las diferentes frecu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necesario diseñarlos para que respondan adecuadamente a las frecuencias que se van a ut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00B9-9607-4255-BEBF-3C0E6CFAC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SPUESTA FRECUENCIAL DE LOS AMPLIFICADORES (CO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3"/>
          <p:cNvSpPr/>
          <p:nvPr/>
        </p:nvSpPr>
        <p:spPr>
          <a:xfrm>
            <a:off x="380880" y="1371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CEPTO DE GANANCIA  COMO FUNCIÓN DE TRANSFERENCIA.- GANANCIA COMPLE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4"/>
          <p:cNvSpPr/>
          <p:nvPr/>
        </p:nvSpPr>
        <p:spPr>
          <a:xfrm>
            <a:off x="685800" y="2286000"/>
            <a:ext cx="8093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ganancia de un amplificador real no es una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as bien depende de la frecuencia de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 aplicamos a un amplificador una señal de entrada senoidal de amplitud constante y frecuencia variable, comprobaremos que la salida, tiene una amplitud  y un desfase respecto de la señal de entrada diferente, según el barrido de frecuencia que hagamos, por tanto en régimen periódico y funcionamiento lineal del A.O, podemos decir que la ganancia es una “función compleja” de la frecu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9" name="Object 5"/>
              <p:cNvSpPr txBox="1"/>
              <p:nvPr/>
            </p:nvSpPr>
            <p:spPr>
              <a:xfrm>
                <a:off x="3505320" y="4998960"/>
                <a:ext cx="16761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8B97-EA1D-42D3-956E-8F2FDFDED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"/>
          <p:cNvSpPr/>
          <p:nvPr/>
        </p:nvSpPr>
        <p:spPr>
          <a:xfrm>
            <a:off x="2144520" y="5943600"/>
            <a:ext cx="55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35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da cuadrada periódica y la suma de los primer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nco términos de su serie de Four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_x000c_AAAZYOV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2743200" y="914400"/>
            <a:ext cx="3479760" cy="4826160"/>
          </a:xfrm>
          <a:prstGeom prst="rect">
            <a:avLst/>
          </a:prstGeom>
          <a:ln w="0">
            <a:noFill/>
          </a:ln>
        </p:spPr>
      </p:pic>
      <p:sp>
        <p:nvSpPr>
          <p:cNvPr id="823" name="Rectangle 4"/>
          <p:cNvSpPr/>
          <p:nvPr/>
        </p:nvSpPr>
        <p:spPr>
          <a:xfrm>
            <a:off x="4267080" y="2743200"/>
            <a:ext cx="1981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a) Onda cuad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2819520" y="5562720"/>
            <a:ext cx="4647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b) Serie de Fourier (normalizada a la amplitud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F5F1-9858-44E2-8C2A-CE9B2920D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"/>
          <p:cNvSpPr/>
          <p:nvPr/>
        </p:nvSpPr>
        <p:spPr>
          <a:xfrm>
            <a:off x="2815200" y="5621400"/>
            <a:ext cx="444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36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nancia en función de la frecuenc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Picture 4" descr="_x000c_AAAZYOW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914400"/>
            <a:ext cx="7367760" cy="4508640"/>
          </a:xfrm>
          <a:prstGeom prst="rect">
            <a:avLst/>
          </a:prstGeom>
          <a:ln w="0">
            <a:noFill/>
          </a:ln>
        </p:spPr>
      </p:pic>
      <p:sp>
        <p:nvSpPr>
          <p:cNvPr id="828" name="Rectangle 5"/>
          <p:cNvSpPr/>
          <p:nvPr/>
        </p:nvSpPr>
        <p:spPr>
          <a:xfrm>
            <a:off x="1905120" y="1143000"/>
            <a:ext cx="121896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gión de ba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6"/>
          <p:cNvSpPr/>
          <p:nvPr/>
        </p:nvSpPr>
        <p:spPr>
          <a:xfrm>
            <a:off x="4343400" y="106668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recuen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d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6705720" y="1066680"/>
            <a:ext cx="121896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gión de a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8"/>
          <p:cNvSpPr/>
          <p:nvPr/>
        </p:nvSpPr>
        <p:spPr>
          <a:xfrm>
            <a:off x="3352680" y="34290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recuenci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d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9"/>
          <p:cNvSpPr/>
          <p:nvPr/>
        </p:nvSpPr>
        <p:spPr>
          <a:xfrm>
            <a:off x="6705720" y="3429000"/>
            <a:ext cx="121896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gión de a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10"/>
          <p:cNvSpPr/>
          <p:nvPr/>
        </p:nvSpPr>
        <p:spPr>
          <a:xfrm>
            <a:off x="3581280" y="2819520"/>
            <a:ext cx="33530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a) Amplificador acoplado en alte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11"/>
          <p:cNvSpPr/>
          <p:nvPr/>
        </p:nvSpPr>
        <p:spPr>
          <a:xfrm>
            <a:off x="3581280" y="5075280"/>
            <a:ext cx="3581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b) Amplificador acoplado en contin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mplificadores acoplados en continua y en alterna.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spuesta frecu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6D24-3784-40AC-A93F-B60862774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7" name="Picture 3" descr="_x000c_AAAZYOW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2438280" y="838080"/>
            <a:ext cx="3886200" cy="2378160"/>
          </a:xfrm>
          <a:prstGeom prst="rect">
            <a:avLst/>
          </a:prstGeom>
          <a:ln w="0">
            <a:noFill/>
          </a:ln>
        </p:spPr>
      </p:pic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mplificadores acoplados en continua y en alterna.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spuesta frecu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3"/>
          <p:cNvSpPr/>
          <p:nvPr/>
        </p:nvSpPr>
        <p:spPr>
          <a:xfrm>
            <a:off x="66996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14"/>
          <p:cNvSpPr/>
          <p:nvPr/>
        </p:nvSpPr>
        <p:spPr>
          <a:xfrm>
            <a:off x="2585880" y="3352680"/>
            <a:ext cx="392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recuencia inferior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recuencia superior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chura de b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15"/>
          <p:cNvSpPr/>
          <p:nvPr/>
        </p:nvSpPr>
        <p:spPr>
          <a:xfrm>
            <a:off x="0" y="4648320"/>
            <a:ext cx="8686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anchura de banda de los amplificadores es una de las causas de la distorsión de la señal de salida respecto de la de la entr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(Imagine una señal cuadrada de 15 Khz, aplicada a un amplificador con anchura de banda de 20 K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A20E-8F00-4C5A-B48D-192295315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2"/>
          <p:cNvSpPr/>
          <p:nvPr/>
        </p:nvSpPr>
        <p:spPr>
          <a:xfrm>
            <a:off x="704160" y="5181480"/>
            <a:ext cx="716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37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 acoplamiento capacitivo previene que una componente continua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ada afecte a la primera etapa, que las tensiones continuas de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mera etapa alcancen la segunda etapa, y que las tensiones continu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 la segunda etapa alcancen la carga.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4" name="Picture 4" descr="_x000c_AAAZYOX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2317680"/>
            <a:ext cx="7367760" cy="2222640"/>
          </a:xfrm>
          <a:prstGeom prst="rect">
            <a:avLst/>
          </a:prstGeom>
          <a:ln w="0">
            <a:noFill/>
          </a:ln>
        </p:spPr>
      </p:pic>
      <p:sp>
        <p:nvSpPr>
          <p:cNvPr id="845" name="Rectangle 5"/>
          <p:cNvSpPr/>
          <p:nvPr/>
        </p:nvSpPr>
        <p:spPr>
          <a:xfrm>
            <a:off x="2438280" y="2286000"/>
            <a:ext cx="1295640" cy="7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densador de acoplamiento de 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"/>
          <p:cNvSpPr/>
          <p:nvPr/>
        </p:nvSpPr>
        <p:spPr>
          <a:xfrm>
            <a:off x="4648320" y="2362320"/>
            <a:ext cx="1295280" cy="7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densador de acoplamiento entre eta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7010280" y="2362320"/>
            <a:ext cx="1295640" cy="7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densador de acoplamiento de 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8"/>
          <p:cNvSpPr/>
          <p:nvPr/>
        </p:nvSpPr>
        <p:spPr>
          <a:xfrm>
            <a:off x="457200" y="3429000"/>
            <a:ext cx="1676520" cy="8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fuente de señal puede incluir una componente contin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9"/>
          <p:cNvSpPr/>
          <p:nvPr/>
        </p:nvSpPr>
        <p:spPr>
          <a:xfrm>
            <a:off x="3581280" y="3429000"/>
            <a:ext cx="1067040" cy="896040"/>
          </a:xfrm>
          <a:prstGeom prst="rect">
            <a:avLst/>
          </a:prstGeom>
          <a:solidFill>
            <a:srgbClr val="c3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ime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del amplific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10"/>
          <p:cNvSpPr/>
          <p:nvPr/>
        </p:nvSpPr>
        <p:spPr>
          <a:xfrm>
            <a:off x="5867280" y="3429000"/>
            <a:ext cx="1067040" cy="896040"/>
          </a:xfrm>
          <a:prstGeom prst="rect">
            <a:avLst/>
          </a:prstGeom>
          <a:solidFill>
            <a:srgbClr val="c3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gun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del amplific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oplamiento en alterna y acoplamiento en contin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2"/>
          <p:cNvSpPr/>
          <p:nvPr/>
        </p:nvSpPr>
        <p:spPr>
          <a:xfrm>
            <a:off x="304920" y="12952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ntajas e inconvenientes: El acoplamiento en alterna no permite procesar señales que varían muy lent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012A-29A0-4EE0-9B8A-74E9970B2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2"/>
          <p:cNvSpPr/>
          <p:nvPr/>
        </p:nvSpPr>
        <p:spPr>
          <a:xfrm>
            <a:off x="993960" y="5613480"/>
            <a:ext cx="7116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38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 condensador en paralelo con la trayectoria de la señal y una bob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 serie con la trayectoria de la señal, reducen la ganancia en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ión de alta frecuencia.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5" name="Picture 4" descr="_x000c_AAAZYOY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2368440"/>
            <a:ext cx="7367760" cy="2121120"/>
          </a:xfrm>
          <a:prstGeom prst="rect">
            <a:avLst/>
          </a:prstGeom>
          <a:ln w="0">
            <a:noFill/>
          </a:ln>
        </p:spPr>
      </p:pic>
      <p:sp>
        <p:nvSpPr>
          <p:cNvPr id="856" name="Rectangle 5"/>
          <p:cNvSpPr/>
          <p:nvPr/>
        </p:nvSpPr>
        <p:spPr>
          <a:xfrm>
            <a:off x="2590920" y="2133720"/>
            <a:ext cx="1066680" cy="7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ducta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rás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l cable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6"/>
          <p:cNvSpPr/>
          <p:nvPr/>
        </p:nvSpPr>
        <p:spPr>
          <a:xfrm>
            <a:off x="5486400" y="2057400"/>
            <a:ext cx="1752480" cy="7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apacidades parási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 los c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 los disposi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3429000" y="4191120"/>
            <a:ext cx="1371600" cy="53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ircuitos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mplific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spuesta frecuencial de amplificadores (cont):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 región de alta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D57E-DABC-47DE-A182-B29C34B11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BJETIVOS (co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las  características  mas importantes de los Amplificadores diferenciales y sus 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render los conceptos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anancia en modo común y en modo difer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ñal en modo común y en modo difer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mpedancia de entrada en modo común y en modo difer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azón de rechazo en modo comú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4A23-9321-4E30-8359-C96E07985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2"/>
          <p:cNvSpPr/>
          <p:nvPr/>
        </p:nvSpPr>
        <p:spPr>
          <a:xfrm>
            <a:off x="1216080" y="5613480"/>
            <a:ext cx="670068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39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Ganancia en función de la frecuencia para un amplificador típic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 muestran las frecuencias de corte superior e inferior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 baseline="-2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 baseline="-2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-dB), y el ancho de band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Picture 4" descr="_x000c_AAAZYOZ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2000160"/>
            <a:ext cx="7367760" cy="2857680"/>
          </a:xfrm>
          <a:prstGeom prst="rect">
            <a:avLst/>
          </a:prstGeom>
          <a:ln w="0">
            <a:noFill/>
          </a:ln>
        </p:spPr>
      </p:pic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spuesta frecuencial de amplificadores (cont):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recuencias de corte inferior y sup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7"/>
          <p:cNvSpPr/>
          <p:nvPr/>
        </p:nvSpPr>
        <p:spPr>
          <a:xfrm>
            <a:off x="1899720" y="1219320"/>
            <a:ext cx="614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mplificadores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mplificadores de banda estrecha o pasab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mplificadores sinton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936A-0895-4C0B-B62F-CD090A7A0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2"/>
          <p:cNvSpPr/>
          <p:nvPr/>
        </p:nvSpPr>
        <p:spPr>
          <a:xfrm>
            <a:off x="1742400" y="5613480"/>
            <a:ext cx="562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40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gnitud de la ganancia en función de la frecuen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 un amplificador típico de banda estrech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Picture 4" descr="_x000c_AAAZYPA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2038320"/>
            <a:ext cx="7367760" cy="2781360"/>
          </a:xfrm>
          <a:prstGeom prst="rect">
            <a:avLst/>
          </a:prstGeom>
          <a:ln w="0">
            <a:noFill/>
          </a:ln>
        </p:spPr>
      </p:pic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spuesta frecuencial de amplificadores (cont):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mplificadores pasa-b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1447920" y="1295280"/>
            <a:ext cx="687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Interesa limitar la anchura de banda de los amplificadores a la estrictamente necesaria, par evitar amplificar señales parásitas (ruido...problemas de inestabilidad y de auto-oscilac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DDCE-DA15-45B6-B5C5-6A57CA069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"/>
          <p:cNvSpPr/>
          <p:nvPr/>
        </p:nvSpPr>
        <p:spPr>
          <a:xfrm>
            <a:off x="1729440" y="5613480"/>
            <a:ext cx="561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41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calón de entrada y salida típica de un amplific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 banda ancha acoplado en alterna.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Group 14"/>
          <p:cNvGrpSpPr/>
          <p:nvPr/>
        </p:nvGrpSpPr>
        <p:grpSpPr>
          <a:xfrm>
            <a:off x="914400" y="1143000"/>
            <a:ext cx="7723080" cy="4552560"/>
            <a:chOff x="914400" y="1143000"/>
            <a:chExt cx="7723080" cy="4552560"/>
          </a:xfrm>
        </p:grpSpPr>
        <p:pic>
          <p:nvPicPr>
            <p:cNvPr id="873" name="Picture 4" descr="_x000c_AAAZYPB0.EPS                                                   0004302B_x0013_Hard Drive-Seat One            B36702C6:"/>
            <p:cNvPicPr/>
            <p:nvPr/>
          </p:nvPicPr>
          <p:blipFill>
            <a:blip r:embed="rId1"/>
            <a:stretch/>
          </p:blipFill>
          <p:spPr>
            <a:xfrm>
              <a:off x="914400" y="1143000"/>
              <a:ext cx="7367760" cy="452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4" name="Group 13"/>
            <p:cNvGrpSpPr/>
            <p:nvPr/>
          </p:nvGrpSpPr>
          <p:grpSpPr>
            <a:xfrm>
              <a:off x="1569960" y="1244520"/>
              <a:ext cx="6534360" cy="4451040"/>
              <a:chOff x="1569960" y="1244520"/>
              <a:chExt cx="6534360" cy="4451040"/>
            </a:xfrm>
          </p:grpSpPr>
          <p:sp>
            <p:nvSpPr>
              <p:cNvPr id="875" name="Rectangle 6"/>
              <p:cNvSpPr/>
              <p:nvPr/>
            </p:nvSpPr>
            <p:spPr>
              <a:xfrm>
                <a:off x="1569960" y="5286240"/>
                <a:ext cx="1752840" cy="40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(a) Entrad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Rectangle 7"/>
              <p:cNvSpPr/>
              <p:nvPr/>
            </p:nvSpPr>
            <p:spPr>
              <a:xfrm>
                <a:off x="5513400" y="5283000"/>
                <a:ext cx="1066680" cy="40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(b) Salid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Rectangle 8"/>
              <p:cNvSpPr/>
              <p:nvPr/>
            </p:nvSpPr>
            <p:spPr>
              <a:xfrm>
                <a:off x="5437080" y="1244520"/>
                <a:ext cx="838440" cy="59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Pico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Rectangle 9"/>
              <p:cNvSpPr/>
              <p:nvPr/>
            </p:nvSpPr>
            <p:spPr>
              <a:xfrm>
                <a:off x="5742000" y="1552320"/>
                <a:ext cx="2362320" cy="37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Oscilaciones transitori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Rectangle 10"/>
              <p:cNvSpPr/>
              <p:nvPr/>
            </p:nvSpPr>
            <p:spPr>
              <a:xfrm>
                <a:off x="6427800" y="1854000"/>
                <a:ext cx="1600200" cy="59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Parte superior del escalón inclinad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Rectangle 11"/>
            <p:cNvSpPr/>
            <p:nvPr/>
          </p:nvSpPr>
          <p:spPr>
            <a:xfrm>
              <a:off x="6732720" y="2844720"/>
              <a:ext cx="1904760" cy="123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s flancos anteri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y posterior no son instantáne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spuesta frecuencial de amplificadores (cont):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spuesta a un escal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834D-AF47-4855-9F7C-302C46FFD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2"/>
          <p:cNvSpPr/>
          <p:nvPr/>
        </p:nvSpPr>
        <p:spPr>
          <a:xfrm>
            <a:off x="1197000" y="5613480"/>
            <a:ext cx="669276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42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empo de subida de la salida.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No se muestra ningu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inación en la parte superior del escalón. Cuando se pres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a inclinación, es preciso un cierto análisis adicional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imar la amplitud 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600" spc="-1" strike="noStrike" baseline="-2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Group 8"/>
          <p:cNvGrpSpPr/>
          <p:nvPr/>
        </p:nvGrpSpPr>
        <p:grpSpPr>
          <a:xfrm>
            <a:off x="1447920" y="838080"/>
            <a:ext cx="6402240" cy="4826160"/>
            <a:chOff x="1447920" y="838080"/>
            <a:chExt cx="6402240" cy="4826160"/>
          </a:xfrm>
        </p:grpSpPr>
        <p:pic>
          <p:nvPicPr>
            <p:cNvPr id="885" name="Picture 4" descr="_x000c_AAAZYPC0.EPS                                                   0004302B_x0013_Hard Drive-Seat One            B36702C6:"/>
            <p:cNvPicPr/>
            <p:nvPr/>
          </p:nvPicPr>
          <p:blipFill>
            <a:blip r:embed="rId1"/>
            <a:stretch/>
          </p:blipFill>
          <p:spPr>
            <a:xfrm>
              <a:off x="1447920" y="838080"/>
              <a:ext cx="6402240" cy="482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Rectangle 6"/>
            <p:cNvSpPr/>
            <p:nvPr/>
          </p:nvSpPr>
          <p:spPr>
            <a:xfrm>
              <a:off x="5564160" y="1527120"/>
              <a:ext cx="22860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La amplitud final es V</a:t>
              </a:r>
              <a:r>
                <a:rPr b="0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spuesta a un escalón de un filtro pasa-bajos de 2° o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9"/>
          <p:cNvSpPr/>
          <p:nvPr/>
        </p:nvSpPr>
        <p:spPr>
          <a:xfrm>
            <a:off x="4625640" y="2403360"/>
            <a:ext cx="376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empo de su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empo de establ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áximo sobre-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6457-8D36-46B3-A493-DFF3737BC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"/>
          <p:cNvSpPr/>
          <p:nvPr/>
        </p:nvSpPr>
        <p:spPr>
          <a:xfrm>
            <a:off x="1764720" y="5943600"/>
            <a:ext cx="556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43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plificador diferencial con sus señales de entr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Picture 4" descr="_x000c_AAAZYPD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1879560"/>
            <a:ext cx="7367760" cy="3098880"/>
          </a:xfrm>
          <a:prstGeom prst="rect">
            <a:avLst/>
          </a:prstGeom>
          <a:ln w="0">
            <a:noFill/>
          </a:ln>
        </p:spPr>
      </p:pic>
      <p:sp>
        <p:nvSpPr>
          <p:cNvPr id="892" name="Rectangle 6"/>
          <p:cNvSpPr/>
          <p:nvPr/>
        </p:nvSpPr>
        <p:spPr>
          <a:xfrm>
            <a:off x="3962520" y="1847880"/>
            <a:ext cx="1904760" cy="6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erminal de 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no inver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7"/>
          <p:cNvSpPr/>
          <p:nvPr/>
        </p:nvSpPr>
        <p:spPr>
          <a:xfrm>
            <a:off x="3962520" y="3886200"/>
            <a:ext cx="1904760" cy="6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erminal de 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inver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8"/>
          <p:cNvSpPr/>
          <p:nvPr/>
        </p:nvSpPr>
        <p:spPr>
          <a:xfrm>
            <a:off x="4267080" y="2762280"/>
            <a:ext cx="1295640" cy="652680"/>
          </a:xfrm>
          <a:prstGeom prst="rect">
            <a:avLst/>
          </a:prstGeom>
          <a:solidFill>
            <a:srgbClr val="c3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mplific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ifer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10"/>
          <p:cNvSpPr/>
          <p:nvPr/>
        </p:nvSpPr>
        <p:spPr>
          <a:xfrm>
            <a:off x="2741760" y="11430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s entradas y una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11"/>
          <p:cNvSpPr/>
          <p:nvPr/>
        </p:nvSpPr>
        <p:spPr>
          <a:xfrm>
            <a:off x="746280" y="507060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En el A.D. Ideal, la salida nada mas depende de la diferencia de las dos ent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0A97-59BD-483A-B69B-A208F3089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8"/>
          <p:cNvSpPr/>
          <p:nvPr/>
        </p:nvSpPr>
        <p:spPr>
          <a:xfrm>
            <a:off x="2818080" y="99072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s entradas y una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9"/>
          <p:cNvSpPr/>
          <p:nvPr/>
        </p:nvSpPr>
        <p:spPr>
          <a:xfrm>
            <a:off x="685800" y="1371600"/>
            <a:ext cx="7711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TEAMIENTO DEL PROBL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POR QUÉ DOS ENTRAD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CESIDAD DE AMPLIFICAR SEÑALES DE AMPLITUD MUY PEQUEÑA EN PRESENCIA DE DE FUENTES DE RU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en la entrada del amplificador de una única entrada tenemos superpuesta una señal indeseable (ruido), la única forma posible de minimizar el efecto es mediante filt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tenemos una “fuente de señal diferencial “y un amplificador diferencial (con dos entradas), algunas fuentes de ruido pueden eliminarse complet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1CB5-CFBD-4E79-8A6D-7264E7DCA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MPLIFICADORES DIFERENCIALES (CO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3"/>
          <p:cNvSpPr/>
          <p:nvPr/>
        </p:nvSpPr>
        <p:spPr>
          <a:xfrm>
            <a:off x="2818080" y="99072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s entradas y una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4"/>
          <p:cNvSpPr/>
          <p:nvPr/>
        </p:nvSpPr>
        <p:spPr>
          <a:xfrm>
            <a:off x="685800" y="1752480"/>
            <a:ext cx="7711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TEAMIENTO DEL PROBLEMA (CO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POR QUÉ DOS ENTRAD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CESIDAD DE AMPLIFICAR SEÑALES DE AMPLITUD MUY PEQUEÑA  Y VARIACIONES MUY L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mplos típic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nsductores para medir dilataciones en vigas, puentes, transductores para medir varaciones de temperatura respecto a una de refer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ibraciones  mecánicas de baja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9C9D-A8ED-474B-8960-363D55DFF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2"/>
          <p:cNvSpPr/>
          <p:nvPr/>
        </p:nvSpPr>
        <p:spPr>
          <a:xfrm>
            <a:off x="1753920" y="5613480"/>
            <a:ext cx="55850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44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 pueden reemplazar las fuentes de entrad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600" spc="-1" strike="noStrike" baseline="-2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600" spc="-1" strike="noStrike" baseline="-2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 las fuentes equivalente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600" spc="-1" strike="noStrike" baseline="-2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0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600" spc="-1" strike="noStrike" baseline="-20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8" name="Picture 7" descr="_x000c_AAAZYPE0.EPS                                                   00056B50_x0013_Hard Drive-Seat One            B36702C6:"/>
          <p:cNvPicPr/>
          <p:nvPr/>
        </p:nvPicPr>
        <p:blipFill>
          <a:blip r:embed="rId1"/>
          <a:stretch/>
        </p:blipFill>
        <p:spPr>
          <a:xfrm>
            <a:off x="785880" y="914400"/>
            <a:ext cx="7367400" cy="445788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ÑAL DE ENTRADA EN MODO COMÚN Y SEÑAL D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RADA EN MODO DIFERENCI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9A20-84D9-4A0F-BDF6-DE75F6534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1" name="Picture 3" descr="_x000c_AAAZYPE0.EPS                                                   00056B50_x0013_Hard Drive-Seat One            B36702C6:"/>
          <p:cNvPicPr/>
          <p:nvPr/>
        </p:nvPicPr>
        <p:blipFill>
          <a:blip r:embed="rId1"/>
          <a:stretch/>
        </p:blipFill>
        <p:spPr>
          <a:xfrm>
            <a:off x="1828800" y="1295280"/>
            <a:ext cx="5614920" cy="3399120"/>
          </a:xfrm>
          <a:prstGeom prst="rect">
            <a:avLst/>
          </a:prstGeom>
          <a:ln w="0">
            <a:noFill/>
          </a:ln>
        </p:spPr>
      </p:pic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ÑAL DE ENTRADA EN MODO COMÚN Y SEÑAL D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RADA EN MODO DIFERENCIAL (CONT)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Object 6"/>
              <p:cNvSpPr txBox="1"/>
              <p:nvPr/>
            </p:nvSpPr>
            <p:spPr>
              <a:xfrm>
                <a:off x="1828800" y="4800600"/>
                <a:ext cx="44323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m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m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3839-E175-4387-A832-791A871AB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2"/>
          <p:cNvSpPr/>
          <p:nvPr/>
        </p:nvSpPr>
        <p:spPr>
          <a:xfrm>
            <a:off x="1534680" y="6019920"/>
            <a:ext cx="607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45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 electrocardiógrafos se encuentran con grandes señ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 modo común de 50-H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4" descr="_x000c_AAAZYPF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838080" y="1523880"/>
            <a:ext cx="7367760" cy="4483080"/>
          </a:xfrm>
          <a:prstGeom prst="rect">
            <a:avLst/>
          </a:prstGeom>
          <a:ln w="0">
            <a:noFill/>
          </a:ln>
        </p:spPr>
      </p:pic>
      <p:sp>
        <p:nvSpPr>
          <p:cNvPr id="917" name="Rectangle 6"/>
          <p:cNvSpPr/>
          <p:nvPr/>
        </p:nvSpPr>
        <p:spPr>
          <a:xfrm>
            <a:off x="4114800" y="1371600"/>
            <a:ext cx="190512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lectrodo de EC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7"/>
          <p:cNvSpPr/>
          <p:nvPr/>
        </p:nvSpPr>
        <p:spPr>
          <a:xfrm>
            <a:off x="990720" y="1447920"/>
            <a:ext cx="91440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ám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Group 12"/>
          <p:cNvGrpSpPr/>
          <p:nvPr/>
        </p:nvGrpSpPr>
        <p:grpSpPr>
          <a:xfrm>
            <a:off x="457200" y="1828800"/>
            <a:ext cx="8153280" cy="4202280"/>
            <a:chOff x="457200" y="1828800"/>
            <a:chExt cx="8153280" cy="4202280"/>
          </a:xfrm>
        </p:grpSpPr>
        <p:sp>
          <p:nvSpPr>
            <p:cNvPr id="920" name="Rectangle 8"/>
            <p:cNvSpPr/>
            <p:nvPr/>
          </p:nvSpPr>
          <p:spPr>
            <a:xfrm>
              <a:off x="457200" y="1828800"/>
              <a:ext cx="1295280" cy="65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Cable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Rectangle 9"/>
            <p:cNvSpPr/>
            <p:nvPr/>
          </p:nvSpPr>
          <p:spPr>
            <a:xfrm>
              <a:off x="6705720" y="4648320"/>
              <a:ext cx="1904760" cy="13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Capacidad ent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el paciente y tierr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SEÑAL EN MODO COMÚN ELEV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Rectangle 10"/>
            <p:cNvSpPr/>
            <p:nvPr/>
          </p:nvSpPr>
          <p:spPr>
            <a:xfrm>
              <a:off x="1371600" y="4267080"/>
              <a:ext cx="2438280" cy="162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Capacidad no dese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entre la línea de corr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alterna y el pac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SEÑAL EN MODO COMÚN ELEV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ÑALES DIFERECIALES Y SEÑALES EN MOD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70A4-62A6-4AF5-A53E-2EE4866A4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2" descr="_x000c_AAAZYNN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2514600"/>
            <a:ext cx="7367760" cy="259092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3"/>
          <p:cNvSpPr/>
          <p:nvPr/>
        </p:nvSpPr>
        <p:spPr>
          <a:xfrm>
            <a:off x="838080" y="563868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a 1.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Diagrama de bloques de un sistema electrónico si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 radio 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851040" y="3200400"/>
            <a:ext cx="761760" cy="562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2160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adio de frecu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1905120" y="3287880"/>
            <a:ext cx="685800" cy="483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720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Amplificador de radio-frecu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2895480" y="3352680"/>
            <a:ext cx="609840" cy="188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ezcl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3886200" y="3240000"/>
            <a:ext cx="685800" cy="447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0" bIns="360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Filtro de frecuencia intermed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1828800" y="3195720"/>
            <a:ext cx="762120" cy="5918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1080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Amplificador  de radio- frecu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3"/>
          <p:cNvSpPr/>
          <p:nvPr/>
        </p:nvSpPr>
        <p:spPr>
          <a:xfrm>
            <a:off x="2819520" y="3200400"/>
            <a:ext cx="761760" cy="59796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1800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Mezcl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3809880" y="3159000"/>
            <a:ext cx="762120" cy="6278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1440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Filtro de  frecuencia intermed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5"/>
          <p:cNvSpPr/>
          <p:nvPr/>
        </p:nvSpPr>
        <p:spPr>
          <a:xfrm>
            <a:off x="5791320" y="3166920"/>
            <a:ext cx="761760" cy="6264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Detect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de p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7"/>
          <p:cNvSpPr/>
          <p:nvPr/>
        </p:nvSpPr>
        <p:spPr>
          <a:xfrm>
            <a:off x="6781680" y="3200400"/>
            <a:ext cx="762120" cy="562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2160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Amplificador de son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8"/>
          <p:cNvSpPr/>
          <p:nvPr/>
        </p:nvSpPr>
        <p:spPr>
          <a:xfrm>
            <a:off x="1511280" y="4038480"/>
            <a:ext cx="838080" cy="41796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Oscil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9"/>
          <p:cNvSpPr/>
          <p:nvPr/>
        </p:nvSpPr>
        <p:spPr>
          <a:xfrm>
            <a:off x="2790720" y="4038480"/>
            <a:ext cx="838440" cy="41796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intetizad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de frecuenc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20"/>
          <p:cNvSpPr/>
          <p:nvPr/>
        </p:nvSpPr>
        <p:spPr>
          <a:xfrm>
            <a:off x="4800600" y="4038480"/>
            <a:ext cx="914400" cy="41796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Dig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1"/>
          <p:cNvSpPr/>
          <p:nvPr/>
        </p:nvSpPr>
        <p:spPr>
          <a:xfrm>
            <a:off x="5943600" y="4038480"/>
            <a:ext cx="914400" cy="41796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Memori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dig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22"/>
          <p:cNvSpPr/>
          <p:nvPr/>
        </p:nvSpPr>
        <p:spPr>
          <a:xfrm>
            <a:off x="4343400" y="4648320"/>
            <a:ext cx="838080" cy="41796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Tecl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23"/>
          <p:cNvSpPr/>
          <p:nvPr/>
        </p:nvSpPr>
        <p:spPr>
          <a:xfrm>
            <a:off x="5334120" y="4648320"/>
            <a:ext cx="838080" cy="41796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Pantal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5"/>
          <p:cNvSpPr/>
          <p:nvPr/>
        </p:nvSpPr>
        <p:spPr>
          <a:xfrm>
            <a:off x="1523880" y="25909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Ante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6"/>
          <p:cNvSpPr/>
          <p:nvPr/>
        </p:nvSpPr>
        <p:spPr>
          <a:xfrm>
            <a:off x="7543800" y="380988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Altavo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809960" y="3159000"/>
            <a:ext cx="762120" cy="6278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1440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Amplificador de frecuencia intermed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1. SISTEMAS ELECTRÓNICO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29"/>
          <p:cNvSpPr/>
          <p:nvPr/>
        </p:nvSpPr>
        <p:spPr>
          <a:xfrm>
            <a:off x="304920" y="13716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stemas E.: radio AM, GPS, Encendido electrónico automó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bsistemas o bloques funcionales: Amplificador, filtro, osci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BFA8-B4E4-4AD5-B71A-5403FDF7D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MO LLEVAR EL RUIDO DE ENTRADA A MOD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6" name="Object 3"/>
          <p:cNvGraphicFramePr/>
          <p:nvPr/>
        </p:nvGraphicFramePr>
        <p:xfrm>
          <a:off x="457200" y="1371600"/>
          <a:ext cx="429732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42973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8" name="Object 4"/>
          <p:cNvGraphicFramePr/>
          <p:nvPr/>
        </p:nvGraphicFramePr>
        <p:xfrm>
          <a:off x="762120" y="3733920"/>
          <a:ext cx="4114800" cy="272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33920"/>
                    <a:ext cx="4114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0" name="Text Box 5"/>
          <p:cNvSpPr/>
          <p:nvPr/>
        </p:nvSpPr>
        <p:spPr>
          <a:xfrm>
            <a:off x="4952880" y="144792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 Fuente de ruido invisible entre la fuente de señal y elamplific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6"/>
          <p:cNvSpPr/>
          <p:nvPr/>
        </p:nvSpPr>
        <p:spPr>
          <a:xfrm>
            <a:off x="5027040" y="525780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 Ruido de bucle de 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7"/>
          <p:cNvSpPr/>
          <p:nvPr/>
        </p:nvSpPr>
        <p:spPr>
          <a:xfrm>
            <a:off x="5029200" y="2666880"/>
            <a:ext cx="34448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=Resistencia del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=Resistencia de salida de la fuente de sñ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= Resistencia de salida de la fuente de ruido (muy gran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FB28-57AA-4FB2-8F70-2076E718F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MO LLEVAR EL RUIDO DE ENTRADA A MODO COMÚN (CO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5" name="Object 1032"/>
          <p:cNvGraphicFramePr/>
          <p:nvPr/>
        </p:nvGraphicFramePr>
        <p:xfrm>
          <a:off x="533520" y="1447920"/>
          <a:ext cx="7543800" cy="25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54380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Text Box 1033"/>
          <p:cNvSpPr/>
          <p:nvPr/>
        </p:nvSpPr>
        <p:spPr>
          <a:xfrm>
            <a:off x="152280" y="434340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 Ruido del bucle de masa como componente de entrada en el Amp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034"/>
          <p:cNvSpPr/>
          <p:nvPr/>
        </p:nvSpPr>
        <p:spPr>
          <a:xfrm>
            <a:off x="4267080" y="44197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 Circuito de entrada que utiliza  amplificador diferen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23BB-E15A-4C73-8488-7F498A708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UIDO POR ACOPLAMIENTO MAGNÉTICO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cedimientos para disminui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1" name="Object 3"/>
          <p:cNvGraphicFramePr/>
          <p:nvPr/>
        </p:nvGraphicFramePr>
        <p:xfrm>
          <a:off x="609480" y="1600200"/>
          <a:ext cx="7543800" cy="16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75438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Text Box 4"/>
          <p:cNvSpPr/>
          <p:nvPr/>
        </p:nvSpPr>
        <p:spPr>
          <a:xfrm>
            <a:off x="746280" y="3470400"/>
            <a:ext cx="29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 Amplificador de una entrada con ruido por acoplamiento magn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4648320" y="3505320"/>
            <a:ext cx="367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 Amplificador diferencial configurado para disminuir el ruido por acoplamiento magnético. (Pasa a ser una señal de ruido en modo comú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06FF-1F94-49C0-B631-C35FBD055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UIDO POR ACOPLAMIENTO CAPACITIVO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cedimientos para disminui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4"/>
          <p:cNvSpPr/>
          <p:nvPr/>
        </p:nvSpPr>
        <p:spPr>
          <a:xfrm>
            <a:off x="457200" y="3733920"/>
            <a:ext cx="29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 Amplificador de una entrada con ruido por acoplamiento capac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5"/>
          <p:cNvSpPr/>
          <p:nvPr/>
        </p:nvSpPr>
        <p:spPr>
          <a:xfrm>
            <a:off x="3505320" y="373392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) Amplificador diferencial configurado para disminuir el ruido por acoplamiento capacitivo e inductivo. Cable doble  apantallado con la pantalla conductora conectada solo en el lado de la fuente de señ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9" name="Object 6"/>
          <p:cNvGraphicFramePr/>
          <p:nvPr/>
        </p:nvGraphicFramePr>
        <p:xfrm>
          <a:off x="304920" y="1219320"/>
          <a:ext cx="3733560" cy="22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373356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1" name="Object 7"/>
          <p:cNvGraphicFramePr/>
          <p:nvPr/>
        </p:nvGraphicFramePr>
        <p:xfrm>
          <a:off x="3809880" y="1224000"/>
          <a:ext cx="4496040" cy="21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1224000"/>
                    <a:ext cx="44960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0347-6BEB-4A46-A50E-6BC26C33B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MPLIFICADORES DIFERENCIALES RE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"/>
          <p:cNvSpPr/>
          <p:nvPr/>
        </p:nvSpPr>
        <p:spPr>
          <a:xfrm>
            <a:off x="746280" y="126036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afortunadamente los A.D. reales tienen también respuesta a la señal en modo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6" name="Object 5"/>
              <p:cNvSpPr txBox="1"/>
              <p:nvPr/>
            </p:nvSpPr>
            <p:spPr>
              <a:xfrm>
                <a:off x="3962520" y="2438280"/>
                <a:ext cx="4038480" cy="361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57" name="Object 10"/>
          <p:cNvGraphicFramePr/>
          <p:nvPr/>
        </p:nvGraphicFramePr>
        <p:xfrm>
          <a:off x="304920" y="2211480"/>
          <a:ext cx="3047760" cy="28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11480"/>
                    <a:ext cx="304776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D304-0F86-48C6-8D0F-16D5025F7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"/>
          <p:cNvSpPr/>
          <p:nvPr/>
        </p:nvSpPr>
        <p:spPr>
          <a:xfrm>
            <a:off x="1402920" y="6146640"/>
            <a:ext cx="6292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47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iguración para medir la ganancia diferencial. A</a:t>
            </a:r>
            <a:r>
              <a:rPr b="0" i="1" lang="en-US" sz="1600" spc="-1" strike="noStrike" baseline="-2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lang="en-US" sz="1600" spc="-1" strike="noStrike" baseline="-2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1600" spc="-1" strike="noStrike" baseline="-20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1" name="Picture 4" descr="_x000c_AAAZYPH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1857240" y="838080"/>
            <a:ext cx="5437440" cy="482616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7"/>
          <p:cNvSpPr/>
          <p:nvPr/>
        </p:nvSpPr>
        <p:spPr>
          <a:xfrm>
            <a:off x="1833480" y="2743200"/>
            <a:ext cx="609624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a) Fuentes requeridas teóricamente para medir la ganancia difer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8"/>
          <p:cNvSpPr/>
          <p:nvPr/>
        </p:nvSpPr>
        <p:spPr>
          <a:xfrm>
            <a:off x="2062080" y="5413320"/>
            <a:ext cx="5486400" cy="4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b) Equivalente práctico A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&gt;&gt;A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cm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9"/>
          <p:cNvSpPr/>
          <p:nvPr/>
        </p:nvSpPr>
        <p:spPr>
          <a:xfrm>
            <a:off x="4272120" y="3886200"/>
            <a:ext cx="1295280" cy="805320"/>
          </a:xfrm>
          <a:prstGeom prst="rect">
            <a:avLst/>
          </a:prstGeom>
          <a:solidFill>
            <a:srgbClr val="c3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mplific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en prueb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10"/>
          <p:cNvSpPr/>
          <p:nvPr/>
        </p:nvSpPr>
        <p:spPr>
          <a:xfrm>
            <a:off x="4805280" y="914400"/>
            <a:ext cx="1219320" cy="592200"/>
          </a:xfrm>
          <a:prstGeom prst="rect">
            <a:avLst/>
          </a:prstGeom>
          <a:solidFill>
            <a:srgbClr val="c3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mplific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en prueb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figuración para medir la ganancia difer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51BD-9617-4759-946D-8A911F076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2"/>
          <p:cNvSpPr/>
          <p:nvPr/>
        </p:nvSpPr>
        <p:spPr>
          <a:xfrm>
            <a:off x="1361520" y="5613480"/>
            <a:ext cx="63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ura 1.46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iguración para la medida de la ganancia de modo comú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9" name="Picture 4" descr="_x000c_AAAZYPG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2139840"/>
            <a:ext cx="7367760" cy="2578320"/>
          </a:xfrm>
          <a:prstGeom prst="rect">
            <a:avLst/>
          </a:prstGeom>
          <a:ln w="0">
            <a:noFill/>
          </a:ln>
        </p:spPr>
      </p:pic>
      <p:sp>
        <p:nvSpPr>
          <p:cNvPr id="970" name="Rectangle 6"/>
          <p:cNvSpPr/>
          <p:nvPr/>
        </p:nvSpPr>
        <p:spPr>
          <a:xfrm>
            <a:off x="7315200" y="2590920"/>
            <a:ext cx="129528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Voltíme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7"/>
          <p:cNvSpPr/>
          <p:nvPr/>
        </p:nvSpPr>
        <p:spPr>
          <a:xfrm>
            <a:off x="1981080" y="3581280"/>
            <a:ext cx="914400" cy="6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 de señ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8"/>
          <p:cNvSpPr/>
          <p:nvPr/>
        </p:nvSpPr>
        <p:spPr>
          <a:xfrm>
            <a:off x="3809880" y="2362320"/>
            <a:ext cx="1295640" cy="896040"/>
          </a:xfrm>
          <a:prstGeom prst="rect">
            <a:avLst/>
          </a:prstGeom>
          <a:solidFill>
            <a:srgbClr val="c3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mplifica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n prue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MPLIFICADOR DIFERENCIAL REAL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ANANCIA EN MOD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10"/>
          <p:cNvSpPr/>
          <p:nvPr/>
        </p:nvSpPr>
        <p:spPr>
          <a:xfrm>
            <a:off x="762120" y="144792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11"/>
          <p:cNvSpPr/>
          <p:nvPr/>
        </p:nvSpPr>
        <p:spPr>
          <a:xfrm>
            <a:off x="762120" y="129528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A.D. Reales, tienen una respuesta a señales en modo común, que normalmente aunque pequeña, no es n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2"/>
          <p:cNvSpPr/>
          <p:nvPr/>
        </p:nvSpPr>
        <p:spPr>
          <a:xfrm>
            <a:off x="533520" y="472428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señales en modo común son a veces muy grandes, con lo que el efecto de la respuesta del A.D. Puede ser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8C00-F331-4B0E-A322-CA9A0374B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ODELO MAS COMPLETO DEL AMPLIFICADOR DIFER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3"/>
          <p:cNvSpPr/>
          <p:nvPr/>
        </p:nvSpPr>
        <p:spPr>
          <a:xfrm>
            <a:off x="746280" y="126036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mpedancia de de entrada en modo difer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mpedancia de entrada en modo común. Impedancia 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0" name="Object 9"/>
              <p:cNvSpPr txBox="1"/>
              <p:nvPr/>
            </p:nvSpPr>
            <p:spPr>
              <a:xfrm>
                <a:off x="6172200" y="5181480"/>
                <a:ext cx="1074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1" name="Text Box 10"/>
          <p:cNvSpPr/>
          <p:nvPr/>
        </p:nvSpPr>
        <p:spPr>
          <a:xfrm>
            <a:off x="531720" y="5334120"/>
            <a:ext cx="51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Resistencia de entrada en modo comú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11"/>
          <p:cNvSpPr/>
          <p:nvPr/>
        </p:nvSpPr>
        <p:spPr>
          <a:xfrm>
            <a:off x="-5400" y="586728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Resistencia de entrada en modo dif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3" name="Object 13"/>
          <p:cNvGraphicFramePr/>
          <p:nvPr/>
        </p:nvGraphicFramePr>
        <p:xfrm>
          <a:off x="1911240" y="2131920"/>
          <a:ext cx="4718160" cy="29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1240" y="2131920"/>
                    <a:ext cx="4718160" cy="29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3958-E805-4D3E-8A24-B79796DC9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ODELO MAS COMPLETO DEL AMPLIFICADOR DIFERENCIAL (Co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3"/>
          <p:cNvSpPr/>
          <p:nvPr/>
        </p:nvSpPr>
        <p:spPr>
          <a:xfrm>
            <a:off x="746280" y="1260360"/>
            <a:ext cx="77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mplo de especificaciones de una amplificador difer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8" name="Object 8"/>
          <p:cNvGraphicFramePr/>
          <p:nvPr/>
        </p:nvGraphicFramePr>
        <p:xfrm>
          <a:off x="990720" y="2438280"/>
          <a:ext cx="636876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636876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0" name="Object 10"/>
              <p:cNvSpPr txBox="1"/>
              <p:nvPr/>
            </p:nvSpPr>
            <p:spPr>
              <a:xfrm>
                <a:off x="2438280" y="5181480"/>
                <a:ext cx="370836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RM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1" name="Text Box 11"/>
          <p:cNvSpPr/>
          <p:nvPr/>
        </p:nvSpPr>
        <p:spPr>
          <a:xfrm>
            <a:off x="1523880" y="46483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zón de rechazo de modo comú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B045-DE51-488B-B453-27548E2F6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ODELO MAS COMPLETO DEL AMPLIFICADOR DIFERENCIAL (Co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3"/>
          <p:cNvSpPr/>
          <p:nvPr/>
        </p:nvSpPr>
        <p:spPr>
          <a:xfrm>
            <a:off x="0" y="12952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tensión de salida puede calcularse aplicando super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°)  Se encuentra la respuesta debida a la señal en modo difer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41911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 Circuito equivalente para encontrar la respuesta a la señal en modo difer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6" name="Object 7"/>
          <p:cNvGraphicFramePr/>
          <p:nvPr/>
        </p:nvGraphicFramePr>
        <p:xfrm>
          <a:off x="990720" y="2133720"/>
          <a:ext cx="296532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296532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8" name="Object 8"/>
          <p:cNvGraphicFramePr/>
          <p:nvPr/>
        </p:nvGraphicFramePr>
        <p:xfrm>
          <a:off x="4191120" y="2514600"/>
          <a:ext cx="4419360" cy="18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514600"/>
                    <a:ext cx="441936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0" name="Text Box 9"/>
          <p:cNvSpPr/>
          <p:nvPr/>
        </p:nvSpPr>
        <p:spPr>
          <a:xfrm>
            <a:off x="380880" y="480060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 Circuito equivalente para el amplificador difer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96F8-F0C8-4191-821A-109D6380E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L PROCESAMIENTO DE LA INFORMACIÓN Y LA ELECTRÓNICA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Object 4"/>
          <p:cNvGraphicFramePr/>
          <p:nvPr/>
        </p:nvGraphicFramePr>
        <p:xfrm>
          <a:off x="200160" y="1771560"/>
          <a:ext cx="8742240" cy="39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1771560"/>
                    <a:ext cx="874224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FF8F-7AB5-4539-A73A-67A0CFDAD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ODELO MAS COMPLETO DEL AMPLIFICADOR DIFERENCIAL (Co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304920" y="1295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tensión de salida puede calcularse aplicando super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°)  Se encuentra la respuesta debida a la señal en modo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4114800" y="46483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 Circuito equivalente para encontrar la respuesta a la señal en modo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5" name="Object 5"/>
          <p:cNvGraphicFramePr/>
          <p:nvPr/>
        </p:nvGraphicFramePr>
        <p:xfrm>
          <a:off x="990720" y="2133720"/>
          <a:ext cx="296532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296532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7" name="Text Box 7"/>
          <p:cNvSpPr/>
          <p:nvPr/>
        </p:nvSpPr>
        <p:spPr>
          <a:xfrm>
            <a:off x="380880" y="48006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 Circuito equivalente para el amplificador difer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8" name="Object 8"/>
          <p:cNvGraphicFramePr/>
          <p:nvPr/>
        </p:nvGraphicFramePr>
        <p:xfrm>
          <a:off x="4343400" y="2438280"/>
          <a:ext cx="4114800" cy="16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438280"/>
                    <a:ext cx="41148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0" name="Text Box 9"/>
          <p:cNvSpPr/>
          <p:nvPr/>
        </p:nvSpPr>
        <p:spPr>
          <a:xfrm>
            <a:off x="1822680" y="579132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respuesta total es la suma de am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B684-57D7-4CCE-9C07-CF51779CE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ENTES DE SEÑAL DIFER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3" name="Object 3"/>
          <p:cNvGraphicFramePr/>
          <p:nvPr/>
        </p:nvGraphicFramePr>
        <p:xfrm>
          <a:off x="990720" y="1376280"/>
          <a:ext cx="6400800" cy="49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6280"/>
                    <a:ext cx="640080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5" name="Text Box 4"/>
          <p:cNvSpPr/>
          <p:nvPr/>
        </p:nvSpPr>
        <p:spPr>
          <a:xfrm>
            <a:off x="533520" y="3470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muchos transductores se utiliza el puente de Wheatst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mplo: Puente de galgas extensiométricas sujetas a una v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FFF8-35C5-4302-B5D3-C2FD2B711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Picture 2" descr="_x000c_AAAZYNO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887400" y="2254320"/>
            <a:ext cx="7367760" cy="234936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304920" y="50292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a 1.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señales analógicas toman valores continuos de amplitu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señales digitales toman unas pocas amplitudes discre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838080" y="2209680"/>
            <a:ext cx="838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mplit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4419720" y="220968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mplit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7238880" y="2666880"/>
            <a:ext cx="8384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óg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3429000" y="32767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8"/>
          <p:cNvSpPr/>
          <p:nvPr/>
        </p:nvSpPr>
        <p:spPr>
          <a:xfrm>
            <a:off x="7772400" y="3276720"/>
            <a:ext cx="6094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9"/>
          <p:cNvSpPr/>
          <p:nvPr/>
        </p:nvSpPr>
        <p:spPr>
          <a:xfrm>
            <a:off x="1447920" y="434340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a) Señal ana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5410080" y="434340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b) Señal dig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1"/>
          <p:cNvSpPr/>
          <p:nvPr/>
        </p:nvSpPr>
        <p:spPr>
          <a:xfrm>
            <a:off x="4508640" y="383544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4464000" y="2730600"/>
            <a:ext cx="304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+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ISTEMAS ANALÓGICOS Y S. DIGI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Marcador de número de diapositiva 3"/>
          <p:cNvSpPr/>
          <p:nvPr/>
        </p:nvSpPr>
        <p:spPr>
          <a:xfrm>
            <a:off x="6781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A99F-34B0-4F14-B9A4-90A60517C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2" descr="_x000c_AAAZYNO0.EPS                                                   0004302B_x0013_Hard Drive-Seat One            B36702C6:"/>
          <p:cNvPicPr/>
          <p:nvPr/>
        </p:nvPicPr>
        <p:blipFill>
          <a:blip r:embed="rId1"/>
          <a:stretch/>
        </p:blipFill>
        <p:spPr>
          <a:xfrm>
            <a:off x="762120" y="1447920"/>
            <a:ext cx="7367400" cy="234936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304920" y="50292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712800" y="140328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mplit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4294080" y="1403280"/>
            <a:ext cx="838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mplit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7113600" y="1860480"/>
            <a:ext cx="838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óg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3303720" y="24703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8"/>
          <p:cNvSpPr/>
          <p:nvPr/>
        </p:nvSpPr>
        <p:spPr>
          <a:xfrm>
            <a:off x="7647120" y="2470320"/>
            <a:ext cx="6094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9"/>
          <p:cNvSpPr/>
          <p:nvPr/>
        </p:nvSpPr>
        <p:spPr>
          <a:xfrm>
            <a:off x="1322280" y="353700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a) Señal ana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10"/>
          <p:cNvSpPr/>
          <p:nvPr/>
        </p:nvSpPr>
        <p:spPr>
          <a:xfrm>
            <a:off x="5284800" y="353700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b) Señal dig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11"/>
          <p:cNvSpPr/>
          <p:nvPr/>
        </p:nvSpPr>
        <p:spPr>
          <a:xfrm>
            <a:off x="4383000" y="3029040"/>
            <a:ext cx="304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12"/>
          <p:cNvSpPr/>
          <p:nvPr/>
        </p:nvSpPr>
        <p:spPr>
          <a:xfrm>
            <a:off x="4338720" y="192420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+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ISTEMAS ANALÓGICOS Y S. DIGITALES (CO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0" y="3809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El mundo real es ana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(Aunque a nivel de la mecánica cuántica tampo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152280" y="4572000"/>
            <a:ext cx="877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transductores son dispositivos que convierten cualquier magnitud física en una señal eléc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formato de la señal eléctrica que proporcionan los transductores es normalmente ana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teclado proporciona señales en formato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0T05:20:24Z</dcterms:created>
  <dc:creator>Pablo Turmero</dc:creator>
  <dc:description/>
  <dc:language>en-US</dc:language>
  <cp:lastModifiedBy>Pablo Turmero</cp:lastModifiedBy>
  <dcterms:modified xsi:type="dcterms:W3CDTF">2014-12-28T22:39:57Z</dcterms:modified>
  <cp:revision>261</cp:revision>
  <dc:subject/>
  <dc:title/>
</cp:coreProperties>
</file>