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7.jpeg" ContentType="image/jpeg"/>
  <Override PartName="/ppt/media/image24.wmf" ContentType="image/x-wmf"/>
  <Override PartName="/ppt/media/image22.wmf" ContentType="image/x-wmf"/>
  <Override PartName="/ppt/media/image17.wmf" ContentType="image/x-wmf"/>
  <Override PartName="/ppt/media/image26.jpeg" ContentType="image/jpeg"/>
  <Override PartName="/ppt/media/image20.wmf" ContentType="image/x-wmf"/>
  <Override PartName="/ppt/media/image5.jpeg" ContentType="image/jpeg"/>
  <Override PartName="/ppt/media/image9.wmf" ContentType="image/x-wmf"/>
  <Override PartName="/ppt/media/image13.gif" ContentType="image/gif"/>
  <Override PartName="/ppt/media/image8.wmf" ContentType="image/x-wmf"/>
  <Override PartName="/ppt/media/image4.jpeg" ContentType="image/jpeg"/>
  <Override PartName="/ppt/media/image11.jpeg" ContentType="image/jpeg"/>
  <Override PartName="/ppt/media/image12.wmf" ContentType="image/x-wmf"/>
  <Override PartName="/ppt/media/image30.jpeg" ContentType="image/jpeg"/>
  <Override PartName="/ppt/media/image31.wmf" ContentType="image/x-wmf"/>
  <Override PartName="/ppt/media/image19.jpeg" ContentType="image/jpeg"/>
  <Override PartName="/ppt/media/image33.wmf" ContentType="image/x-wmf"/>
  <Override PartName="/ppt/media/image7.gif" ContentType="image/gif"/>
  <Override PartName="/ppt/media/image3.wmf" ContentType="image/x-wmf"/>
  <Override PartName="/ppt/media/image18.wmf" ContentType="image/x-wmf"/>
  <Override PartName="/ppt/media/image2.jpeg" ContentType="image/jpeg"/>
  <Override PartName="/ppt/media/image23.jpeg" ContentType="image/jpeg"/>
  <Override PartName="/ppt/media/image29.gif" ContentType="image/gif"/>
  <Override PartName="/ppt/media/image25.wmf" ContentType="image/x-wmf"/>
  <Override PartName="/ppt/media/image1.jpeg" ContentType="image/jpeg"/>
  <Override PartName="/ppt/media/image15.wmf" ContentType="image/x-wmf"/>
  <Override PartName="/ppt/media/image10.wmf" ContentType="image/x-wmf"/>
  <Override PartName="/ppt/media/image14.gif" ContentType="image/gif"/>
  <Override PartName="/ppt/media/image16.wmf" ContentType="image/x-wmf"/>
  <Override PartName="/ppt/media/image6.gif" ContentType="image/gif"/>
  <Override PartName="/ppt/media/image32.wmf" ContentType="image/x-wmf"/>
  <Override PartName="/ppt/media/image21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2AFB-AB11-4494-AAB1-BA3592AD9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285C-E5D1-4277-9342-38251354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5E4F-27F9-4690-8FF3-2176CA8A6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A17D-E2C6-4F92-854B-3A8B62CDE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AE78-B883-456E-88C2-C387C3CF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C95D-DC94-44BB-9CBF-B3F1573F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87DF-CC63-4F56-B2EF-AF89BD66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FAB2-6204-4036-AE10-B442FB02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E94C-D3CA-4672-9597-EAE894B3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C966-CB77-4ED6-B8EF-02AC6250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A317-9F6F-4552-AE74-3B4A3B37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786F-26A7-4CBA-B6B3-19695A3F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EC5C-BC4F-4165-9888-9C0191EB893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2.wmf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Evaluación de Desemp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Evaluación de Desemp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Object 3"/>
          <p:cNvGraphicFramePr/>
          <p:nvPr/>
        </p:nvGraphicFramePr>
        <p:xfrm>
          <a:off x="250920" y="1600200"/>
          <a:ext cx="8569080" cy="52578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600200"/>
                    <a:ext cx="85690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Cloud"/>
          <p:cNvSpPr/>
          <p:nvPr/>
        </p:nvSpPr>
        <p:spPr>
          <a:xfrm>
            <a:off x="5508720" y="1557360"/>
            <a:ext cx="2743200" cy="18381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6230160" y="198900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PERM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MEJO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Evaluación de Desemp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3"/>
          <p:cNvGraphicFramePr/>
          <p:nvPr/>
        </p:nvGraphicFramePr>
        <p:xfrm>
          <a:off x="395280" y="1600200"/>
          <a:ext cx="8280360" cy="52578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600200"/>
                    <a:ext cx="82803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Cloud"/>
          <p:cNvSpPr/>
          <p:nvPr/>
        </p:nvSpPr>
        <p:spPr>
          <a:xfrm>
            <a:off x="6012000" y="1341360"/>
            <a:ext cx="2743200" cy="18385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6444720" y="1989000"/>
            <a:ext cx="174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VENTA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COMPETI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Evaluación de Desemp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Formatos de Valo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900000" y="3141720"/>
            <a:ext cx="8064720" cy="29512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1258920" y="3933720"/>
            <a:ext cx="7489800" cy="20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900000" y="3141720"/>
            <a:ext cx="8064720" cy="503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Formato de Valo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1187280" y="3933720"/>
            <a:ext cx="7667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4d4d4d"/>
                </a:solidFill>
                <a:latin typeface="Arial"/>
              </a:rPr>
              <a:t>Clasificado por                                    Ej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99"/>
                </a:solidFill>
                <a:latin typeface="Arial"/>
              </a:rPr>
              <a:t>El tipo de juicio que se requiere        Relativo o absol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99"/>
                </a:solidFill>
                <a:latin typeface="Arial"/>
              </a:rPr>
              <a:t>En que se centra la medición            Característica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</a:t>
            </a:r>
            <a:r>
              <a:rPr b="1" lang="es-MX" sz="1800" spc="-1" strike="noStrike">
                <a:solidFill>
                  <a:srgbClr val="000099"/>
                </a:solidFill>
                <a:latin typeface="Arial"/>
              </a:rPr>
              <a:t>Comportamientos,  o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Evaluación de Desemp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751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Medición del rendimi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a medición del rendimiento del empleado implica asignar una cifra o etiquetas (por ejemplo, excelente) que reflejen el rendimiento de un emplea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j0177743"/>
          <p:cNvPicPr/>
          <p:nvPr/>
        </p:nvPicPr>
        <p:blipFill>
          <a:blip r:embed="rId1"/>
          <a:stretch/>
        </p:blipFill>
        <p:spPr>
          <a:xfrm>
            <a:off x="5076720" y="1484280"/>
            <a:ext cx="40672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Evaluación de Desemp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535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Instrumentos de medi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o existe un formato de valoración mejor que los demás. Cada uno cuenta con aspectos positivos y negativos en función de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la administración, del desarrollo y de la defensa jurídi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elección del sistema debería depender en gran medida del principal objetivo de la valo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4"/>
          <p:cNvSpPr txBox="1"/>
          <p:nvPr/>
        </p:nvSpPr>
        <p:spPr>
          <a:xfrm>
            <a:off x="5076720" y="2060640"/>
            <a:ext cx="3672000" cy="41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ESULTAD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Evaluación de Desemp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57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Instrumentos de medi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os formatos más habituales, más defendibles jurídicamente y más prometedores pueden clasificarse de dos maner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a) por el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ipo de juicio que se requier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b) por el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objeto de la medición</a:t>
            </a: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j0281716"/>
          <p:cNvPicPr/>
          <p:nvPr/>
        </p:nvPicPr>
        <p:blipFill>
          <a:blip r:embed="rId1"/>
          <a:stretch/>
        </p:blipFill>
        <p:spPr>
          <a:xfrm>
            <a:off x="5364000" y="1268280"/>
            <a:ext cx="360072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Evaluación de Desemp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619520" cy="586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Instrumentos de medi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n primer lugar, los sistemas de valoración que parten de 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un juicio relativ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piden a los supervisores que comparen el rendimiento de los empleados con el de otros empleados que realizan las mismas tare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Los juicios absolut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piden a los supervisores que hagan juicios sobre el rendimiento de un empleado a partir, únicamente, de estándares de rendimien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j0283544"/>
          <p:cNvPicPr/>
          <p:nvPr/>
        </p:nvPicPr>
        <p:blipFill>
          <a:blip r:embed="rId1"/>
          <a:stretch/>
        </p:blipFill>
        <p:spPr>
          <a:xfrm>
            <a:off x="4932360" y="2060640"/>
            <a:ext cx="421164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Evaluación de Desemp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Ventajas y Desventajas de los métodos de Ju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547640" y="2781360"/>
            <a:ext cx="7056720" cy="2016000"/>
          </a:xfrm>
          <a:prstGeom prst="rect">
            <a:avLst/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547640" y="4986360"/>
            <a:ext cx="7056720" cy="1682640"/>
          </a:xfrm>
          <a:prstGeom prst="rect">
            <a:avLst/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763640" y="2781360"/>
            <a:ext cx="6985080" cy="37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Desventajas                                      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MX" sz="1200" spc="-1" strike="noStrike">
                <a:solidFill>
                  <a:srgbClr val="ff0000"/>
                </a:solidFill>
                <a:latin typeface="Arial"/>
              </a:rPr>
              <a:t>NO DEJAN CLARO LA AMPLITUD                  OBLIGA A DISTINGU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MX" sz="1200" spc="-1" strike="noStrike">
                <a:solidFill>
                  <a:srgbClr val="ff0000"/>
                </a:solidFill>
                <a:latin typeface="Arial"/>
              </a:rPr>
              <a:t>DE LAS DIFERENCIAS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MX" sz="1200" spc="-1" strike="noStrike">
                <a:solidFill>
                  <a:srgbClr val="ff0000"/>
                </a:solidFill>
                <a:latin typeface="Arial"/>
              </a:rPr>
              <a:t>NO ENTREGAN INFORMACION DE                OBLIGA A CLASIFICAR (B, R, 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MX" sz="1200" spc="-1" strike="noStrike">
                <a:solidFill>
                  <a:srgbClr val="ff0000"/>
                </a:solidFill>
                <a:latin typeface="Arial"/>
              </a:rPr>
              <a:t>LO MALO O LO BUE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MX" sz="1200" spc="-1" strike="noStrike">
                <a:solidFill>
                  <a:srgbClr val="ff0000"/>
                </a:solidFill>
                <a:latin typeface="Arial"/>
              </a:rPr>
              <a:t>OBLIGAN A HACER DIFER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MX" sz="1200" spc="-1" strike="noStrike">
                <a:solidFill>
                  <a:srgbClr val="ff0000"/>
                </a:solidFill>
                <a:latin typeface="Arial"/>
              </a:rPr>
              <a:t>SON GENERALES, CONFLICTI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MX" sz="1200" spc="-1" strike="noStrike">
                <a:solidFill>
                  <a:srgbClr val="ff0000"/>
                </a:solidFill>
                <a:latin typeface="Arial"/>
              </a:rPr>
              <a:t>TODOS PUEDEN RECIBIR UNA                   EVITA CONFLICTOS ENT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MX" sz="1200" spc="-1" strike="noStrike">
                <a:solidFill>
                  <a:srgbClr val="ff0000"/>
                </a:solidFill>
                <a:latin typeface="Arial"/>
              </a:rPr>
              <a:t>CALIFICACION EXCELENTE                        EMPLEADOS (USA NOT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MX" sz="1200" spc="-1" strike="noStrike">
                <a:solidFill>
                  <a:srgbClr val="ff0000"/>
                </a:solidFill>
                <a:latin typeface="Arial"/>
              </a:rPr>
              <a:t>ESTANDARES DE EVALUACION                 LAS EVALUACIONES USAN DIFER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MX" sz="1200" spc="-1" strike="noStrike">
                <a:solidFill>
                  <a:srgbClr val="ff0000"/>
                </a:solidFill>
                <a:latin typeface="Arial"/>
              </a:rPr>
              <a:t>DIFERENTES                                                 DIMENCIONES DEL RENDIMIENTO, LO Q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</a:t>
            </a:r>
            <a:r>
              <a:rPr b="1" lang="es-MX" sz="1200" spc="-1" strike="noStrike">
                <a:solidFill>
                  <a:srgbClr val="ff0000"/>
                </a:solidFill>
                <a:latin typeface="Arial"/>
              </a:rPr>
              <a:t>PERMITE AL TRABAJADOR MAS INFORMAC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1974240" y="5013360"/>
            <a:ext cx="47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Desventajas                                    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180720" y="3357720"/>
            <a:ext cx="1463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REL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ABSOL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2"/>
          <p:cNvSpPr/>
          <p:nvPr/>
        </p:nvSpPr>
        <p:spPr>
          <a:xfrm>
            <a:off x="611280" y="3716280"/>
            <a:ext cx="720720" cy="865080"/>
          </a:xfrm>
          <a:custGeom>
            <a:avLst/>
            <a:gdLst>
              <a:gd name="textAreaLeft" fmla="*/ 96480 w 720720"/>
              <a:gd name="textAreaRight" fmla="*/ 624240 w 720720"/>
              <a:gd name="textAreaTop" fmla="*/ 151200 h 865080"/>
              <a:gd name="textAreaBottom" fmla="*/ 62712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15876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684360" y="5373720"/>
            <a:ext cx="733320" cy="863640"/>
          </a:xfrm>
          <a:custGeom>
            <a:avLst/>
            <a:gdLst>
              <a:gd name="textAreaLeft" fmla="*/ 98280 w 733320"/>
              <a:gd name="textAreaRight" fmla="*/ 635040 w 733320"/>
              <a:gd name="textAreaTop" fmla="*/ 151200 h 863640"/>
              <a:gd name="textAreaBottom" fmla="*/ 62640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Evaluación de Desemp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704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Instrumentos de medi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 segundo lugar,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los sistemas de medición de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rendimiento pueden clasificarse según el tipo de datos de rendimiento sobre los que se centran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atos de características, datos de comportamiento y datos de resul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5"/>
          <p:cNvSpPr txBox="1"/>
          <p:nvPr/>
        </p:nvSpPr>
        <p:spPr>
          <a:xfrm>
            <a:off x="5724360" y="2492280"/>
            <a:ext cx="15336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ORM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7" name="WordArt 6"/>
          <p:cNvSpPr txBox="1"/>
          <p:nvPr/>
        </p:nvSpPr>
        <p:spPr>
          <a:xfrm>
            <a:off x="5580000" y="3933720"/>
            <a:ext cx="21909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NDUCT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5580000" y="5229360"/>
            <a:ext cx="293364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RODUCTIVIDA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Evaluación de Desemp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691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Identificación de las dimensiones del rendimient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primer paso del proceso de valoración del rendimiento consiste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en identificar qué es lo que hay que med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directivos deben identificar los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aspectos/criterios o dimensiones de rendimiento que determinan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el rendimiento laboral eficaz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. El procedimiento parece sencillo, pero puede ser bastante complica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j0284140"/>
          <p:cNvPicPr/>
          <p:nvPr/>
        </p:nvPicPr>
        <p:blipFill>
          <a:blip r:embed="rId1"/>
          <a:stretch/>
        </p:blipFill>
        <p:spPr>
          <a:xfrm>
            <a:off x="4859280" y="1773360"/>
            <a:ext cx="3662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113517"/>
          <p:cNvPicPr/>
          <p:nvPr/>
        </p:nvPicPr>
        <p:blipFill>
          <a:blip r:embed="rId1"/>
          <a:stretch/>
        </p:blipFill>
        <p:spPr>
          <a:xfrm>
            <a:off x="380880" y="457200"/>
            <a:ext cx="2590920" cy="2273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2005"/>
          <p:cNvPicPr/>
          <p:nvPr/>
        </p:nvPicPr>
        <p:blipFill>
          <a:blip r:embed="rId2"/>
          <a:stretch/>
        </p:blipFill>
        <p:spPr>
          <a:xfrm>
            <a:off x="3124080" y="838080"/>
            <a:ext cx="2819520" cy="3654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"/>
          <p:cNvSpPr/>
          <p:nvPr/>
        </p:nvSpPr>
        <p:spPr>
          <a:xfrm>
            <a:off x="0" y="4578120"/>
            <a:ext cx="929628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omic"/>
                <a:ea typeface="Calibri"/>
              </a:rPr>
              <a:t>Ing. +LIC. Yunior Andrés Castillo 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Calibri"/>
              </a:rPr>
              <a:t>yuniorandrescastillo.galeo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Calibri"/>
              </a:rPr>
              <a:t>yuniorcastillo@yahoo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000" spc="-1" strike="noStrike">
                <a:solidFill>
                  <a:srgbClr val="ffffff"/>
                </a:solidFill>
                <a:latin typeface="Arial"/>
                <a:ea typeface="Calibri"/>
              </a:rPr>
              <a:t>Celular: 1-829-725-85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113517"/>
          <p:cNvPicPr/>
          <p:nvPr/>
        </p:nvPicPr>
        <p:blipFill>
          <a:blip r:embed="rId3"/>
          <a:stretch/>
        </p:blipFill>
        <p:spPr>
          <a:xfrm>
            <a:off x="6095880" y="457200"/>
            <a:ext cx="259092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Evaluación de Desemp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684360" y="1600200"/>
          <a:ext cx="7920000" cy="50688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600200"/>
                    <a:ext cx="7920000" cy="50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Evaluación de Desemp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Object 3"/>
          <p:cNvGraphicFramePr/>
          <p:nvPr/>
        </p:nvGraphicFramePr>
        <p:xfrm>
          <a:off x="179280" y="1600200"/>
          <a:ext cx="6121440" cy="52578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600200"/>
                    <a:ext cx="61214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AutoShape 4"/>
          <p:cNvSpPr/>
          <p:nvPr/>
        </p:nvSpPr>
        <p:spPr>
          <a:xfrm>
            <a:off x="6372360" y="3573360"/>
            <a:ext cx="647640" cy="486000"/>
          </a:xfrm>
          <a:prstGeom prst="rightArrow">
            <a:avLst>
              <a:gd name="adj1" fmla="val 50000"/>
              <a:gd name="adj2" fmla="val 333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6372360" y="4653000"/>
            <a:ext cx="720720" cy="485640"/>
          </a:xfrm>
          <a:prstGeom prst="rightArrow">
            <a:avLst>
              <a:gd name="adj1" fmla="val 50000"/>
              <a:gd name="adj2" fmla="val 371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6372360" y="5805360"/>
            <a:ext cx="720720" cy="486000"/>
          </a:xfrm>
          <a:prstGeom prst="rightArrow">
            <a:avLst>
              <a:gd name="adj1" fmla="val 50000"/>
              <a:gd name="adj2" fmla="val 370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7057440" y="3573360"/>
            <a:ext cx="2084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NORM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ESTAND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CONDU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PRODU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Evaluación de Desemp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4762440" cy="60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Medición del desempeño con base en esas normas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medición del desempeño con base a normas se debe realizar idealmente  con fundamento en la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previsión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, a fin que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las desviaciones puedan detectarse antes que ocurran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y evitarse mediante las acciones apropia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 ciertos niveles la medición es fácil de realizar  por lo cual la evaluación del desempeño se simplifi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5219640" y="3068640"/>
            <a:ext cx="36417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ormas ISO 900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Evaluación de Desemp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835520" cy="57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Medición del desempeño con base en esas normas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MX" sz="1800" spc="-1" strike="noStrike" u="sng">
                <a:solidFill>
                  <a:srgbClr val="ffffff"/>
                </a:solidFill>
                <a:uFillTx/>
                <a:latin typeface="Arial"/>
              </a:rPr>
              <a:t>Las normas son puntos de referencia para la medición del desempeño real o espe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l condiciones operativas  simples  un administrador podría evaluar el desempeño mediante una </a:t>
            </a:r>
            <a:r>
              <a:rPr b="0" lang="es-MX" sz="1800" spc="-1" strike="noStrike" u="sng">
                <a:solidFill>
                  <a:srgbClr val="ffffff"/>
                </a:solidFill>
                <a:uFillTx/>
                <a:latin typeface="Arial"/>
              </a:rPr>
              <a:t>cuidadosa observación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del personal. Sin embargo , en la mayoría de los casos esto no es po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MX" sz="1800" spc="-1" strike="noStrike" u="sng">
                <a:solidFill>
                  <a:srgbClr val="ffffff"/>
                </a:solidFill>
                <a:uFillTx/>
                <a:latin typeface="Arial"/>
              </a:rPr>
              <a:t>Se deben elegir puntos que requieren especial atención y vigilarlos después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para cerciorarse de que las operaciones  marchan de acuerdo con lo plane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5292720" y="1746360"/>
            <a:ext cx="3851280" cy="511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j0078829"/>
          <p:cNvPicPr/>
          <p:nvPr/>
        </p:nvPicPr>
        <p:blipFill>
          <a:blip r:embed="rId1"/>
          <a:stretch/>
        </p:blipFill>
        <p:spPr>
          <a:xfrm>
            <a:off x="5364000" y="1700280"/>
            <a:ext cx="3780000" cy="4103640"/>
          </a:xfrm>
          <a:prstGeom prst="rect">
            <a:avLst/>
          </a:prstGeom>
          <a:ln w="0">
            <a:noFill/>
          </a:ln>
        </p:spPr>
      </p:pic>
      <p:sp>
        <p:nvSpPr>
          <p:cNvPr id="139" name="WordArt 7"/>
          <p:cNvSpPr txBox="1"/>
          <p:nvPr/>
        </p:nvSpPr>
        <p:spPr>
          <a:xfrm>
            <a:off x="5796000" y="2637000"/>
            <a:ext cx="184140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IEMPO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0" name="WordArt 8"/>
          <p:cNvSpPr txBox="1"/>
          <p:nvPr/>
        </p:nvSpPr>
        <p:spPr>
          <a:xfrm>
            <a:off x="6659640" y="3573360"/>
            <a:ext cx="4474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1" name="WordArt 9"/>
          <p:cNvSpPr txBox="1"/>
          <p:nvPr/>
        </p:nvSpPr>
        <p:spPr>
          <a:xfrm>
            <a:off x="6156360" y="4653000"/>
            <a:ext cx="17622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TENC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Evaluación de Desemp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3"/>
          <p:cNvGraphicFramePr/>
          <p:nvPr/>
        </p:nvGraphicFramePr>
        <p:xfrm>
          <a:off x="395280" y="1628640"/>
          <a:ext cx="8424720" cy="5040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628640"/>
                    <a:ext cx="8424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Evaluación de Desemp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751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Instrumentos de medi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étodo de las escalas Graf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étodo de elección for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étodo de investigación de ca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étodo de incidentes crí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étodos mix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j0289340"/>
          <p:cNvPicPr/>
          <p:nvPr/>
        </p:nvPicPr>
        <p:blipFill>
          <a:blip r:embed="rId1"/>
          <a:stretch/>
        </p:blipFill>
        <p:spPr>
          <a:xfrm>
            <a:off x="5003640" y="1268280"/>
            <a:ext cx="3961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Evaluación de Desemp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Instrumentos de medición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éto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étodo de las escalas Graf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 el mas usado y divulgado, este método evalúa el desempeño de las personas mediante factores de evaluación previamente definidos y gradu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esempeño en la fu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aracterísticas individu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4592520" y="2133720"/>
            <a:ext cx="455148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Escala de grafica Contin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insuficiente                              exce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Escalas graficas Semi-Continu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insuficiente                               exce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Escalas de graficas Discontinu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"/>
          <p:cNvSpPr/>
          <p:nvPr/>
        </p:nvSpPr>
        <p:spPr>
          <a:xfrm>
            <a:off x="5219640" y="2997360"/>
            <a:ext cx="3313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5148360" y="4508640"/>
            <a:ext cx="3527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5148360" y="6237360"/>
            <a:ext cx="3456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4935600" y="981000"/>
            <a:ext cx="369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bbe0e3"/>
                </a:solidFill>
                <a:latin typeface="Arial"/>
              </a:rPr>
              <a:t>SOBRE CANTIDAD PRODUC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bbe0e3"/>
                </a:solidFill>
                <a:latin typeface="Arial"/>
              </a:rPr>
              <a:t>              </a:t>
            </a:r>
            <a:r>
              <a:rPr b="1" lang="es-MX" sz="1800" spc="-1" strike="noStrike">
                <a:solidFill>
                  <a:srgbClr val="bbe0e3"/>
                </a:solidFill>
                <a:latin typeface="Arial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bbe0e3"/>
                </a:solidFill>
                <a:latin typeface="Arial"/>
              </a:rPr>
              <a:t>              </a:t>
            </a:r>
            <a:r>
              <a:rPr b="1" lang="es-MX" sz="1800" spc="-1" strike="noStrike">
                <a:solidFill>
                  <a:srgbClr val="bbe0e3"/>
                </a:solidFill>
                <a:latin typeface="Arial"/>
              </a:rPr>
              <a:t>CONO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bbe0e3"/>
                </a:solidFill>
                <a:latin typeface="Arial"/>
              </a:rPr>
              <a:t>              </a:t>
            </a:r>
            <a:r>
              <a:rPr b="1" lang="es-MX" sz="1800" spc="-1" strike="noStrike">
                <a:solidFill>
                  <a:srgbClr val="bbe0e3"/>
                </a:solidFill>
                <a:latin typeface="Arial"/>
              </a:rPr>
              <a:t>COOPERAC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9"/>
          <p:cNvSpPr/>
          <p:nvPr/>
        </p:nvSpPr>
        <p:spPr>
          <a:xfrm>
            <a:off x="5148360" y="4221000"/>
            <a:ext cx="0" cy="432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6156360" y="4221000"/>
            <a:ext cx="0" cy="503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1"/>
          <p:cNvSpPr/>
          <p:nvPr/>
        </p:nvSpPr>
        <p:spPr>
          <a:xfrm>
            <a:off x="7451640" y="4221000"/>
            <a:ext cx="0" cy="503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2"/>
          <p:cNvSpPr/>
          <p:nvPr/>
        </p:nvSpPr>
        <p:spPr>
          <a:xfrm>
            <a:off x="8675640" y="4221000"/>
            <a:ext cx="0" cy="432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4975200" y="3808440"/>
            <a:ext cx="38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1             2                   3      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4374720" y="6308640"/>
            <a:ext cx="47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Insuficiente  Regular    Buena     Exce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5"/>
          <p:cNvSpPr/>
          <p:nvPr/>
        </p:nvSpPr>
        <p:spPr>
          <a:xfrm>
            <a:off x="5148360" y="5950080"/>
            <a:ext cx="0" cy="431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6"/>
          <p:cNvSpPr/>
          <p:nvPr/>
        </p:nvSpPr>
        <p:spPr>
          <a:xfrm>
            <a:off x="6156360" y="5950080"/>
            <a:ext cx="0" cy="431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7"/>
          <p:cNvSpPr/>
          <p:nvPr/>
        </p:nvSpPr>
        <p:spPr>
          <a:xfrm>
            <a:off x="7451640" y="5950080"/>
            <a:ext cx="0" cy="431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8"/>
          <p:cNvSpPr/>
          <p:nvPr/>
        </p:nvSpPr>
        <p:spPr>
          <a:xfrm>
            <a:off x="8604360" y="5950080"/>
            <a:ext cx="0" cy="431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9"/>
          <p:cNvSpPr/>
          <p:nvPr/>
        </p:nvSpPr>
        <p:spPr>
          <a:xfrm>
            <a:off x="4975560" y="5537160"/>
            <a:ext cx="37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1              2                  3     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Evaluación de Desemp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3"/>
          <p:cNvGraphicFramePr/>
          <p:nvPr/>
        </p:nvGraphicFramePr>
        <p:xfrm>
          <a:off x="468360" y="1600200"/>
          <a:ext cx="8207280" cy="50688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00200"/>
                    <a:ext cx="8207280" cy="50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Evaluación de Desemp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Ventajas y Desventajas de las escalas graf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684360" y="2276640"/>
            <a:ext cx="3816360" cy="4392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4716360" y="2276640"/>
            <a:ext cx="3816360" cy="4392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959760" y="2349360"/>
            <a:ext cx="3346200" cy="40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Brinda a los evaluadores u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instrumento de evaluación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ffffff"/>
                </a:solidFill>
                <a:uFillTx/>
                <a:latin typeface="Arial"/>
              </a:rPr>
              <a:t>fácil comprensión y de apli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ffffff"/>
                </a:solidFill>
                <a:uFillTx/>
                <a:latin typeface="Arial"/>
              </a:rPr>
              <a:t>sencill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Posibilita una </a:t>
            </a:r>
            <a:r>
              <a:rPr b="1" lang="es-MX" sz="1400" spc="-1" strike="noStrike" u="sng">
                <a:solidFill>
                  <a:srgbClr val="ffffff"/>
                </a:solidFill>
                <a:uFillTx/>
                <a:latin typeface="Arial"/>
              </a:rPr>
              <a:t>visión integrada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ffffff"/>
                </a:solidFill>
                <a:uFillTx/>
                <a:latin typeface="Arial"/>
              </a:rPr>
              <a:t>resumida de los factores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ffffff"/>
                </a:solidFill>
                <a:uFillTx/>
                <a:latin typeface="Arial"/>
              </a:rPr>
              <a:t>evaluación</a:t>
            </a: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, es decir, de l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características de desemp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mas destacadas por la empres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y la situación de cada emplea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ante ell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ffffff"/>
                </a:solidFill>
                <a:uFillTx/>
                <a:latin typeface="Arial"/>
              </a:rPr>
              <a:t>Exige poco trabajo al evaluador</a:t>
            </a: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 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el registro de la evaluación, ya que 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simplifica enormem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4716360" y="2276640"/>
            <a:ext cx="3816360" cy="43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ffffff"/>
                </a:solidFill>
                <a:uFillTx/>
                <a:latin typeface="Arial"/>
              </a:rPr>
              <a:t>No permite mucha flexibilidad al evaluador</a:t>
            </a: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, en consecuencia este debe ajustarse al instrumento y no a las características del evalu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ffffff"/>
                </a:solidFill>
                <a:uFillTx/>
                <a:latin typeface="Arial"/>
              </a:rPr>
              <a:t>Tiende a rutinizar y generalizar los resultados de las evaluaciones ( Toleran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ffffff"/>
                </a:solidFill>
                <a:uFillTx/>
                <a:latin typeface="Arial"/>
              </a:rPr>
              <a:t>Requiere procedimientos matemáticos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ffffff"/>
                </a:solidFill>
                <a:uFillTx/>
                <a:latin typeface="Arial"/>
              </a:rPr>
              <a:t>estadísticos para corregir las distors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y la influencia personal de los evalua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ffffff"/>
                </a:solidFill>
                <a:uFillTx/>
                <a:latin typeface="Arial"/>
              </a:rPr>
              <a:t>Esta sujeto a distorsiones e interfere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ffffff"/>
                </a:solidFill>
                <a:uFillTx/>
                <a:latin typeface="Arial"/>
              </a:rPr>
              <a:t>personales de los evaluadores</a:t>
            </a: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, cada persona percibe e interpreta las situaciones según su “campo psicologico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971640" y="2781360"/>
            <a:ext cx="3384360" cy="367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4788000" y="2781360"/>
            <a:ext cx="3671640" cy="367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Evaluación de Desemp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170000"/>
            <a:ext cx="4680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Método de Elección Forz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siste en evaluar el desempeño de los individuos mediante frase descriptivas de alternativas de tipos de desempeño individu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n cada bloque hay dos, cuatro frases en donde el evaluador debe elegir por fuerza una sola, la que mas se aplique al desempeño del empleado evaluado “eleccion forzada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A cada elección se le asigna un puntaje previ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219640" y="836640"/>
            <a:ext cx="392436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00"/>
                </a:solidFill>
                <a:latin typeface="Arial"/>
              </a:rPr>
              <a:t>Grupo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00"/>
                </a:solidFill>
                <a:latin typeface="Arial"/>
              </a:rPr>
              <a:t>Desempeño obje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0000"/>
                </a:solidFill>
                <a:latin typeface="Arial"/>
              </a:rPr>
              <a:t>Cantidad de trabaj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0000"/>
                </a:solidFill>
                <a:latin typeface="Arial"/>
              </a:rPr>
              <a:t>Calidad de trabaj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00"/>
                </a:solidFill>
                <a:latin typeface="Arial"/>
              </a:rPr>
              <a:t>Grupo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00"/>
                </a:solidFill>
                <a:latin typeface="Arial"/>
              </a:rPr>
              <a:t>Conocimiento y Desempeño en el Car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0000"/>
                </a:solidFill>
                <a:latin typeface="Arial"/>
              </a:rPr>
              <a:t>Conocimien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0000"/>
                </a:solidFill>
                <a:latin typeface="Arial"/>
              </a:rPr>
              <a:t>Frecu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0000"/>
                </a:solidFill>
                <a:latin typeface="Arial"/>
              </a:rPr>
              <a:t>Puntu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0000"/>
                </a:solidFill>
                <a:latin typeface="Arial"/>
              </a:rPr>
              <a:t>Hábitos de segur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0000"/>
                </a:solidFill>
                <a:latin typeface="Arial"/>
              </a:rPr>
              <a:t>Buena Adm. del car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00"/>
                </a:solidFill>
                <a:latin typeface="Arial"/>
              </a:rPr>
              <a:t>Grupo 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00"/>
                </a:solidFill>
                <a:latin typeface="Arial"/>
              </a:rPr>
              <a:t>Características del Individu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0000"/>
                </a:solidFill>
                <a:latin typeface="Arial"/>
              </a:rPr>
              <a:t>Espíritu de coope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0000"/>
                </a:solidFill>
                <a:latin typeface="Arial"/>
              </a:rPr>
              <a:t>Inicia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0000"/>
                </a:solidFill>
                <a:latin typeface="Arial"/>
              </a:rPr>
              <a:t>Confi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0000"/>
                </a:solidFill>
                <a:latin typeface="Arial"/>
              </a:rPr>
              <a:t>Intelig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0000"/>
                </a:solidFill>
                <a:latin typeface="Arial"/>
              </a:rPr>
              <a:t>Exactit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0000"/>
                </a:solidFill>
                <a:latin typeface="Arial"/>
              </a:rPr>
              <a:t>Dilig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0000"/>
                </a:solidFill>
                <a:latin typeface="Arial"/>
              </a:rPr>
              <a:t>Adapta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0000"/>
                </a:solidFill>
                <a:latin typeface="Arial"/>
              </a:rPr>
              <a:t>Actit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0000"/>
                </a:solidFill>
                <a:latin typeface="Arial"/>
              </a:rPr>
              <a:t>Person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0000"/>
                </a:solidFill>
                <a:latin typeface="Arial"/>
              </a:rPr>
              <a:t>Lideraz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0000"/>
                </a:solidFill>
                <a:latin typeface="Arial"/>
              </a:rPr>
              <a:t>Tal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0000"/>
                </a:solidFill>
                <a:latin typeface="Arial"/>
              </a:rPr>
              <a:t>Sal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0000"/>
                </a:solidFill>
                <a:latin typeface="Arial"/>
              </a:rPr>
              <a:t>As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0000"/>
                </a:solidFill>
                <a:latin typeface="Arial"/>
              </a:rPr>
              <a:t>Apari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0000"/>
                </a:solidFill>
                <a:latin typeface="Arial"/>
              </a:rPr>
              <a:t>Entusia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Evaluación de Desemp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3"/>
          <p:cNvGraphicFramePr/>
          <p:nvPr/>
        </p:nvGraphicFramePr>
        <p:xfrm>
          <a:off x="468360" y="1413000"/>
          <a:ext cx="8280360" cy="424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13000"/>
                    <a:ext cx="828036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Line 4"/>
          <p:cNvSpPr/>
          <p:nvPr/>
        </p:nvSpPr>
        <p:spPr>
          <a:xfrm>
            <a:off x="2843280" y="4653000"/>
            <a:ext cx="0" cy="1728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877120" y="5667480"/>
            <a:ext cx="626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Diseño de Cargos. Descripción y Análisis de los Car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Orientación y Ubicación (Socialización Organizac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Evaluación del Desempeño Hum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124000" y="3429000"/>
            <a:ext cx="1584360" cy="1224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UBSISTE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PLIC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3635280" y="2133720"/>
            <a:ext cx="23050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ADMINISTRAC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RECURSOS HUMA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Evaluación de Desemp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75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Método de Investigación de Ca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e desarrolla en base a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entrevistas de un especialista en evaluación, con el superior inmediato,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mediante las cuales se evalúa el desempeño de sus subordinados, buscando causas, los orígenes, y los motivos de tal desempeño, mediante el análisis de hechos o situ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5076720" y="1052640"/>
            <a:ext cx="3232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CONSID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1.-Evaluación In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DESEMPEÑO +, +/-,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2.-Análisis Complemen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PREGUNTAS EN      PROFUND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3.-Plane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PLAN DE AC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acces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capaci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desvinc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promo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readap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4.-Segu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VERIFICACION O COMPROB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DEL DESEMP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6" descr="j0316809"/>
          <p:cNvPicPr/>
          <p:nvPr/>
        </p:nvPicPr>
        <p:blipFill>
          <a:blip r:embed="rId1"/>
          <a:stretch/>
        </p:blipFill>
        <p:spPr>
          <a:xfrm>
            <a:off x="4932360" y="1125360"/>
            <a:ext cx="4017960" cy="547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3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Evaluación de Desemp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8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Método de Incidentes Crí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 basa en excepciones con respecto al desempeño de los subordinados (aspectos muy positivos o aspectos muy negativos) son inventariados para evalu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s positivas deben realzarse y ponerse en practica y las negativas corregirse o elimina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"/>
          <p:cNvSpPr/>
          <p:nvPr/>
        </p:nvSpPr>
        <p:spPr>
          <a:xfrm>
            <a:off x="4643280" y="5445000"/>
            <a:ext cx="43214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5"/>
          <p:cNvSpPr/>
          <p:nvPr/>
        </p:nvSpPr>
        <p:spPr>
          <a:xfrm>
            <a:off x="4932360" y="2421000"/>
            <a:ext cx="0" cy="3960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8"/>
          <p:cNvSpPr/>
          <p:nvPr/>
        </p:nvSpPr>
        <p:spPr>
          <a:xfrm>
            <a:off x="5003640" y="2708280"/>
            <a:ext cx="3816360" cy="2449440"/>
          </a:xfrm>
          <a:prstGeom prst="pie">
            <a:avLst/>
          </a:pr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9"/>
          <p:cNvSpPr/>
          <p:nvPr/>
        </p:nvSpPr>
        <p:spPr>
          <a:xfrm>
            <a:off x="5796000" y="3429000"/>
            <a:ext cx="0" cy="244800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0"/>
          <p:cNvSpPr/>
          <p:nvPr/>
        </p:nvSpPr>
        <p:spPr>
          <a:xfrm>
            <a:off x="7812000" y="3357720"/>
            <a:ext cx="73080" cy="251928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995080" y="488952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NORM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5122440" y="5824440"/>
            <a:ext cx="419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Excepción                           Excep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Negativa                              Posi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"/>
          <p:cNvSpPr/>
          <p:nvPr/>
        </p:nvSpPr>
        <p:spPr>
          <a:xfrm flipV="1">
            <a:off x="5435640" y="5084280"/>
            <a:ext cx="0" cy="792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4"/>
          <p:cNvSpPr/>
          <p:nvPr/>
        </p:nvSpPr>
        <p:spPr>
          <a:xfrm flipV="1">
            <a:off x="8244000" y="5013360"/>
            <a:ext cx="0" cy="79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15"/>
          <p:cNvSpPr/>
          <p:nvPr/>
        </p:nvSpPr>
        <p:spPr>
          <a:xfrm>
            <a:off x="5103720" y="4284720"/>
            <a:ext cx="657360" cy="1119240"/>
          </a:xfrm>
          <a:prstGeom prst="pie">
            <a:avLst/>
          </a:prstGeom>
          <a:noFill/>
          <a:ln w="763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17"/>
          <p:cNvSpPr/>
          <p:nvPr/>
        </p:nvSpPr>
        <p:spPr>
          <a:xfrm>
            <a:off x="7834320" y="3740040"/>
            <a:ext cx="873000" cy="1649520"/>
          </a:xfrm>
          <a:prstGeom prst="pie">
            <a:avLst/>
          </a:prstGeom>
          <a:noFill/>
          <a:ln w="763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5" dur="250" autoRev="1" fill="hold"/>
                                        <p:tgtEl>
                                          <p:spTgt spid="1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6" dur="250" autoRev="1" fill="hold"/>
                                        <p:tgtEl>
                                          <p:spTgt spid="1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Evaluación de Desemp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3"/>
          <p:cNvGraphicFramePr/>
          <p:nvPr/>
        </p:nvGraphicFramePr>
        <p:xfrm>
          <a:off x="0" y="1197000"/>
          <a:ext cx="9144000" cy="5661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914400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0" name="Picture 4" descr="j0289525"/>
          <p:cNvPicPr/>
          <p:nvPr/>
        </p:nvPicPr>
        <p:blipFill>
          <a:blip r:embed="rId3"/>
          <a:stretch/>
        </p:blipFill>
        <p:spPr>
          <a:xfrm>
            <a:off x="4572000" y="2205000"/>
            <a:ext cx="4572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Evaluación de Desemp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Object 3"/>
          <p:cNvGraphicFramePr/>
          <p:nvPr/>
        </p:nvGraphicFramePr>
        <p:xfrm>
          <a:off x="0" y="1197000"/>
          <a:ext cx="9144000" cy="5661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914400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Evaluación de Desemp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dministración por 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250920" y="2637000"/>
            <a:ext cx="864216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G E R E N T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1547640" y="3645000"/>
            <a:ext cx="1584360" cy="287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ompromi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ersonal 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uanto a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onsec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de 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ij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onjuntam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3203640" y="3645000"/>
            <a:ext cx="1439640" cy="287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Actuación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negoc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on 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gerente en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de med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y recur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neces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ara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onsec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de 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4716360" y="3645000"/>
            <a:ext cx="1368360" cy="287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Desempeñ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omporta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mi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alcanz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l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ij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6156360" y="3645000"/>
            <a:ext cx="1440000" cy="287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Medi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onsta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de l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resultados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ompa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on 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ij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7667640" y="3645000"/>
            <a:ext cx="1476360" cy="287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Retro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alimen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intensiva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onjunta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ontinu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d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0" y="3645000"/>
            <a:ext cx="1403280" cy="287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ormul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onjunta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objetivos p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onsen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7"/>
          <p:cNvSpPr/>
          <p:nvPr/>
        </p:nvSpPr>
        <p:spPr>
          <a:xfrm flipV="1">
            <a:off x="539640" y="3284280"/>
            <a:ext cx="0" cy="360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8"/>
          <p:cNvSpPr/>
          <p:nvPr/>
        </p:nvSpPr>
        <p:spPr>
          <a:xfrm flipV="1">
            <a:off x="8101080" y="3284280"/>
            <a:ext cx="0" cy="360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 flipV="1">
            <a:off x="5076720" y="3284280"/>
            <a:ext cx="0" cy="360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0"/>
          <p:cNvSpPr/>
          <p:nvPr/>
        </p:nvSpPr>
        <p:spPr>
          <a:xfrm flipV="1">
            <a:off x="3635280" y="3284280"/>
            <a:ext cx="0" cy="360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1"/>
          <p:cNvSpPr/>
          <p:nvPr/>
        </p:nvSpPr>
        <p:spPr>
          <a:xfrm flipV="1">
            <a:off x="2050920" y="3284280"/>
            <a:ext cx="0" cy="360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2"/>
          <p:cNvSpPr/>
          <p:nvPr/>
        </p:nvSpPr>
        <p:spPr>
          <a:xfrm flipV="1">
            <a:off x="6588000" y="3284280"/>
            <a:ext cx="0" cy="360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3"/>
          <p:cNvSpPr/>
          <p:nvPr/>
        </p:nvSpPr>
        <p:spPr>
          <a:xfrm>
            <a:off x="900000" y="3284640"/>
            <a:ext cx="0" cy="360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4"/>
          <p:cNvSpPr/>
          <p:nvPr/>
        </p:nvSpPr>
        <p:spPr>
          <a:xfrm>
            <a:off x="2556000" y="3284640"/>
            <a:ext cx="0" cy="360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5"/>
          <p:cNvSpPr/>
          <p:nvPr/>
        </p:nvSpPr>
        <p:spPr>
          <a:xfrm>
            <a:off x="3995640" y="3284640"/>
            <a:ext cx="0" cy="360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6"/>
          <p:cNvSpPr/>
          <p:nvPr/>
        </p:nvSpPr>
        <p:spPr>
          <a:xfrm>
            <a:off x="5508720" y="3284640"/>
            <a:ext cx="0" cy="360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7"/>
          <p:cNvSpPr/>
          <p:nvPr/>
        </p:nvSpPr>
        <p:spPr>
          <a:xfrm>
            <a:off x="7020000" y="3284640"/>
            <a:ext cx="0" cy="360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8"/>
          <p:cNvSpPr/>
          <p:nvPr/>
        </p:nvSpPr>
        <p:spPr>
          <a:xfrm>
            <a:off x="8388360" y="3284640"/>
            <a:ext cx="0" cy="360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4"/>
          <p:cNvSpPr/>
          <p:nvPr/>
        </p:nvSpPr>
        <p:spPr>
          <a:xfrm>
            <a:off x="3132000" y="5445000"/>
            <a:ext cx="1447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5"/>
          <p:cNvSpPr/>
          <p:nvPr/>
        </p:nvSpPr>
        <p:spPr>
          <a:xfrm>
            <a:off x="6084720" y="5445000"/>
            <a:ext cx="1447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6"/>
          <p:cNvSpPr/>
          <p:nvPr/>
        </p:nvSpPr>
        <p:spPr>
          <a:xfrm>
            <a:off x="7596360" y="5445000"/>
            <a:ext cx="2142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7"/>
          <p:cNvSpPr/>
          <p:nvPr/>
        </p:nvSpPr>
        <p:spPr>
          <a:xfrm>
            <a:off x="4643280" y="5445000"/>
            <a:ext cx="1447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8"/>
          <p:cNvSpPr/>
          <p:nvPr/>
        </p:nvSpPr>
        <p:spPr>
          <a:xfrm>
            <a:off x="1332000" y="5516640"/>
            <a:ext cx="2142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Evaluación de Desemp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3"/>
          <p:cNvGraphicFramePr/>
          <p:nvPr/>
        </p:nvGraphicFramePr>
        <p:xfrm>
          <a:off x="-5365800" y="4076640"/>
          <a:ext cx="9144000" cy="5732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365800" y="4076640"/>
                    <a:ext cx="914400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969 -0.00833 L 0.61042 -0.41783 E">
                                      <p:cBhvr>
                                        <p:cTn id="559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Evaluación de Desemp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47624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Indicadores para la Evaluación del Desempeño (Adm. por Objetiv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Arial"/>
              </a:rPr>
              <a:t>Indicadores Financieros: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(flujo de caja; utilidades; retorno sobre la inversión; relación costo/benefici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Arial"/>
              </a:rPr>
              <a:t>Indicadores relacionados con el Cliente: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(Satisfacción del cliente externo o interno; tiempo de entrega de los pedidos; competitividad en precios o calidad; franja cubierta del mercad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Arial"/>
              </a:rPr>
              <a:t>Indicadores internos: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(Tiempos de proceso; índices de seguridad; índices de reproceso; ciclos del proces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Arial"/>
              </a:rPr>
              <a:t>Indicadores de Innovación: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(Desarrollo de nuevos procesos y productos; proyectos de mejoramiento; calidad total; investigación y desarroll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j0316812"/>
          <p:cNvPicPr/>
          <p:nvPr/>
        </p:nvPicPr>
        <p:blipFill>
          <a:blip r:embed="rId1"/>
          <a:stretch/>
        </p:blipFill>
        <p:spPr>
          <a:xfrm>
            <a:off x="5219640" y="1628640"/>
            <a:ext cx="3924360" cy="5040360"/>
          </a:xfrm>
          <a:prstGeom prst="rect">
            <a:avLst/>
          </a:prstGeom>
          <a:ln w="0">
            <a:noFill/>
          </a:ln>
        </p:spPr>
      </p:pic>
      <p:sp>
        <p:nvSpPr>
          <p:cNvPr id="236" name="WordArt 5"/>
          <p:cNvSpPr txBox="1"/>
          <p:nvPr/>
        </p:nvSpPr>
        <p:spPr>
          <a:xfrm>
            <a:off x="5867280" y="1989000"/>
            <a:ext cx="21862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LOBA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7" name="WordArt 6"/>
          <p:cNvSpPr txBox="1"/>
          <p:nvPr/>
        </p:nvSpPr>
        <p:spPr>
          <a:xfrm>
            <a:off x="5867280" y="3573360"/>
            <a:ext cx="21099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QUIP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8" name="WordArt 7"/>
          <p:cNvSpPr txBox="1"/>
          <p:nvPr/>
        </p:nvSpPr>
        <p:spPr>
          <a:xfrm>
            <a:off x="5940360" y="4941720"/>
            <a:ext cx="22273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ERSON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Evaluación de Desemp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330800" cy="55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Gestión del rend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proceso de valoración completo incluye relaciones cotidianas informales entre los directivos y los trabajadores, así como entrevistas formales cara a cara. Aunque las calificaciones son de por sí importantes, es incluso más importante lo que hacen los directivos con el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j0178867"/>
          <p:cNvPicPr/>
          <p:nvPr/>
        </p:nvPicPr>
        <p:blipFill>
          <a:blip r:embed="rId1"/>
          <a:stretch/>
        </p:blipFill>
        <p:spPr>
          <a:xfrm>
            <a:off x="4788000" y="1484280"/>
            <a:ext cx="41767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Evaluación de Desemp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Factores que afectan el desempeño del Car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611280" y="2349360"/>
            <a:ext cx="1728720" cy="986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 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Recompen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539640" y="5589720"/>
            <a:ext cx="172872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ercep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 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Recompen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1763640" y="3933720"/>
            <a:ext cx="14400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sfuer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3924360" y="2421000"/>
            <a:ext cx="158436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apac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l Individ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3995640" y="5589720"/>
            <a:ext cx="158436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ercep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l pap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sempeñ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6372360" y="3789360"/>
            <a:ext cx="151272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semp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ar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0"/>
          <p:cNvSpPr/>
          <p:nvPr/>
        </p:nvSpPr>
        <p:spPr>
          <a:xfrm flipV="1">
            <a:off x="1332000" y="4941720"/>
            <a:ext cx="1008000" cy="648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1"/>
          <p:cNvSpPr/>
          <p:nvPr/>
        </p:nvSpPr>
        <p:spPr>
          <a:xfrm>
            <a:off x="1547640" y="3357720"/>
            <a:ext cx="720720" cy="502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2"/>
          <p:cNvSpPr/>
          <p:nvPr/>
        </p:nvSpPr>
        <p:spPr>
          <a:xfrm flipV="1">
            <a:off x="3276720" y="4363560"/>
            <a:ext cx="1296720" cy="1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3"/>
          <p:cNvSpPr/>
          <p:nvPr/>
        </p:nvSpPr>
        <p:spPr>
          <a:xfrm>
            <a:off x="4643280" y="3284640"/>
            <a:ext cx="0" cy="1008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4"/>
          <p:cNvSpPr/>
          <p:nvPr/>
        </p:nvSpPr>
        <p:spPr>
          <a:xfrm flipV="1">
            <a:off x="4643280" y="4365720"/>
            <a:ext cx="0" cy="1224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5"/>
          <p:cNvSpPr/>
          <p:nvPr/>
        </p:nvSpPr>
        <p:spPr>
          <a:xfrm>
            <a:off x="4716360" y="4365720"/>
            <a:ext cx="15843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Evaluación de Desemp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4186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Responsabilidad por la evaluación del desemp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e puede atribuir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Ge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L departamento de  Recursos Hum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l equipo de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 un comité de 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Emple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valuación de 360 g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6156360" y="5734080"/>
            <a:ext cx="11523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qu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6156360" y="4365720"/>
            <a:ext cx="1224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Individ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6227640" y="2781360"/>
            <a:ext cx="1152720" cy="985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Ge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4500720" y="2781360"/>
            <a:ext cx="122364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p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7667640" y="2781360"/>
            <a:ext cx="12603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m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9"/>
          <p:cNvSpPr/>
          <p:nvPr/>
        </p:nvSpPr>
        <p:spPr>
          <a:xfrm>
            <a:off x="6732720" y="3716280"/>
            <a:ext cx="0" cy="576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0"/>
          <p:cNvSpPr/>
          <p:nvPr/>
        </p:nvSpPr>
        <p:spPr>
          <a:xfrm>
            <a:off x="5076720" y="3789360"/>
            <a:ext cx="1008000" cy="79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1"/>
          <p:cNvSpPr/>
          <p:nvPr/>
        </p:nvSpPr>
        <p:spPr>
          <a:xfrm flipH="1">
            <a:off x="7524360" y="3716280"/>
            <a:ext cx="934920" cy="792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2"/>
          <p:cNvSpPr/>
          <p:nvPr/>
        </p:nvSpPr>
        <p:spPr>
          <a:xfrm flipV="1">
            <a:off x="6732720" y="5300640"/>
            <a:ext cx="0" cy="50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8"/>
          <p:cNvSpPr/>
          <p:nvPr/>
        </p:nvSpPr>
        <p:spPr>
          <a:xfrm>
            <a:off x="5079240" y="1557360"/>
            <a:ext cx="35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EVALUACION DE 360 G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9"/>
          <p:cNvSpPr/>
          <p:nvPr/>
        </p:nvSpPr>
        <p:spPr>
          <a:xfrm>
            <a:off x="5003640" y="1989000"/>
            <a:ext cx="3600720" cy="719280"/>
          </a:xfrm>
          <a:prstGeom prst="downArrowCallout">
            <a:avLst>
              <a:gd name="adj1" fmla="val 125162"/>
              <a:gd name="adj2" fmla="val 125150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Evaluación de Desemp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75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Obje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Evaluación del desempeño debe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proporcionar una descripción exacta y confiable de la manera como el empleado realiza sus labores y cumple con sus responsabilidades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Para cumplir este objetivo los sistemas de evaluación de desempeño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debe estar directamente relacionados con el cargo/puesto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y ser prácticos y conf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4716360" y="2421000"/>
            <a:ext cx="37911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IVELES DE MEDIC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6" name="WordArt 6"/>
          <p:cNvSpPr txBox="1"/>
          <p:nvPr/>
        </p:nvSpPr>
        <p:spPr>
          <a:xfrm>
            <a:off x="4932360" y="4292640"/>
            <a:ext cx="3816360" cy="13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STANDARES VERIFICAB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7" name="WordArt 7"/>
          <p:cNvSpPr txBox="1"/>
          <p:nvPr/>
        </p:nvSpPr>
        <p:spPr>
          <a:xfrm>
            <a:off x="6588000" y="3429000"/>
            <a:ext cx="2476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Evaluación de Desemp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Object 3"/>
          <p:cNvGraphicFramePr/>
          <p:nvPr/>
        </p:nvGraphicFramePr>
        <p:xfrm>
          <a:off x="468360" y="1600200"/>
          <a:ext cx="8207280" cy="52578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00200"/>
                    <a:ext cx="82072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3" dur="5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Evaluación de Desemp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02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Obstáculos para medir eficazmente el rendimiento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¿Cómo pueden los directivos garantizar una medida precisa del rendimiento de un trabajado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l medio más importante consiste en entender los obstáculos que hay que superar. Los directivos se enfrentan al menos a cinco desafíos en este sentid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Los errores y el sesgo de la persona que realiza la evalu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La influencia de los gus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La política de la organiz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l enfoque hacia el individuo o hacia el gru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Las cuestiones legales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4" descr="j0186495"/>
          <p:cNvPicPr/>
          <p:nvPr/>
        </p:nvPicPr>
        <p:blipFill>
          <a:blip r:embed="rId1"/>
          <a:stretch/>
        </p:blipFill>
        <p:spPr>
          <a:xfrm>
            <a:off x="4572000" y="1916280"/>
            <a:ext cx="525636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Evaluación de Desemp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19520" cy="55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La Entrevista de valoración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uchos directivos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teme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valorar el rendimiento, sobre todo cuando no tienen buenas noticias que comunicar. Además, se crea frustración a través del hecho de que muchas organizaciones combinan las valoraciones de rendimiento y las revisiones sala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j0316790"/>
          <p:cNvPicPr/>
          <p:nvPr/>
        </p:nvPicPr>
        <p:blipFill>
          <a:blip r:embed="rId1"/>
          <a:stretch/>
        </p:blipFill>
        <p:spPr>
          <a:xfrm>
            <a:off x="5076720" y="1125360"/>
            <a:ext cx="406728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Evaluación de Desemp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53528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Mejora del rendimiento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uesto que las entrevistas formales de valoración suelen realizarse una vez al año, es posible que no siempre tengan un efecto significativo y duradero sobre el rendimiento del trabajador. Por ello, los supervisores que gestionan eficazmente el rendimiento suelen compartir cuatro característi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nálisis de las causas de los problemas de rend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restar atención a las causas de los probl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sarrollo de un plan de acción para facilitar que los trabajadores alcancen una so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omunicación directa sobre el rendimi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4" descr="j0288976"/>
          <p:cNvPicPr/>
          <p:nvPr/>
        </p:nvPicPr>
        <p:blipFill>
          <a:blip r:embed="rId1"/>
          <a:stretch/>
        </p:blipFill>
        <p:spPr>
          <a:xfrm>
            <a:off x="4535640" y="1557360"/>
            <a:ext cx="46083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Evaluación de Desemp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Object 3"/>
          <p:cNvGraphicFramePr/>
          <p:nvPr/>
        </p:nvGraphicFramePr>
        <p:xfrm>
          <a:off x="395280" y="1600200"/>
          <a:ext cx="8353440" cy="52578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8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600200"/>
                    <a:ext cx="83534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Rectangle 4"/>
          <p:cNvSpPr/>
          <p:nvPr/>
        </p:nvSpPr>
        <p:spPr>
          <a:xfrm>
            <a:off x="611280" y="2997360"/>
            <a:ext cx="7921440" cy="35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6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0" dur="5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Evaluación de Desemp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75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Nuevas Tend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dicadores (Grupales, Equipos e Individu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encill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e común acue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Retroalimentador y Orien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Énfasis en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esburocratizacion (auto evaluación, evaluación hacia arrib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WordArt 4"/>
          <p:cNvSpPr txBox="1"/>
          <p:nvPr/>
        </p:nvSpPr>
        <p:spPr>
          <a:xfrm>
            <a:off x="5148360" y="1341360"/>
            <a:ext cx="23335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 el pasado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88" name="WordArt 5"/>
          <p:cNvSpPr txBox="1"/>
          <p:nvPr/>
        </p:nvSpPr>
        <p:spPr>
          <a:xfrm>
            <a:off x="5580000" y="3573360"/>
            <a:ext cx="22384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urocratic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89" name="WordArt 6"/>
          <p:cNvSpPr txBox="1"/>
          <p:nvPr/>
        </p:nvSpPr>
        <p:spPr>
          <a:xfrm>
            <a:off x="5940360" y="4724280"/>
            <a:ext cx="17337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utinar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90" name="WordArt 7"/>
          <p:cNvSpPr txBox="1"/>
          <p:nvPr/>
        </p:nvSpPr>
        <p:spPr>
          <a:xfrm>
            <a:off x="6084720" y="5805360"/>
            <a:ext cx="19242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epetitiv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91" name="WordArt 8"/>
          <p:cNvSpPr txBox="1"/>
          <p:nvPr/>
        </p:nvSpPr>
        <p:spPr>
          <a:xfrm>
            <a:off x="5292720" y="2492280"/>
            <a:ext cx="26478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mplacien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3"/>
          <p:cNvSpPr/>
          <p:nvPr/>
        </p:nvSpPr>
        <p:spPr>
          <a:xfrm>
            <a:off x="2133720" y="1219320"/>
            <a:ext cx="67816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GRACIAS POR SU ATENC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3" descr="D:\Datos Importantes\Generalidad De Fotos\Detalles\AMIDEA.WMF"/>
          <p:cNvPicPr/>
          <p:nvPr/>
        </p:nvPicPr>
        <p:blipFill>
          <a:blip r:embed="rId1"/>
          <a:stretch/>
        </p:blipFill>
        <p:spPr>
          <a:xfrm>
            <a:off x="990720" y="1143000"/>
            <a:ext cx="1295280" cy="393372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1"/>
          <p:cNvSpPr/>
          <p:nvPr/>
        </p:nvSpPr>
        <p:spPr>
          <a:xfrm>
            <a:off x="2286000" y="3741120"/>
            <a:ext cx="6629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utor: </a:t>
            </a:r>
            <a:r>
              <a:rPr b="1" lang="es-DO" sz="2000" spc="-1" strike="noStrike">
                <a:solidFill>
                  <a:srgbClr val="ffffff"/>
                </a:solidFill>
                <a:latin typeface="Arial"/>
              </a:rPr>
              <a:t>Ing.+Lic. Yunior Andrés Castillo 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Arial"/>
              </a:rPr>
              <a:t>Página Web: yuniorandrescastillo.galeo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Arial"/>
              </a:rPr>
              <a:t>Correo: yuniorcastillo@yahoo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Arial"/>
              </a:rPr>
              <a:t>Celular:1-829-725-85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antiago de los Caballeros, República Dominic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Arial"/>
              </a:rPr>
              <a:t>201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Evaluación de Desemp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680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Objetivos de la Evaluación del Desempeñ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Visión del empleado pas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sí como la selección es una especie de control de calidad en  la recepción de las  materias primas,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la evaluación del desempeño es una especie de inspección de calidad en la línea de monta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j0285142"/>
          <p:cNvPicPr/>
          <p:nvPr/>
        </p:nvPicPr>
        <p:blipFill>
          <a:blip r:embed="rId1"/>
          <a:stretch/>
        </p:blipFill>
        <p:spPr>
          <a:xfrm>
            <a:off x="5219640" y="1628640"/>
            <a:ext cx="3657600" cy="4537080"/>
          </a:xfrm>
          <a:prstGeom prst="rect">
            <a:avLst/>
          </a:prstGeom>
          <a:ln w="0">
            <a:noFill/>
          </a:ln>
        </p:spPr>
      </p:pic>
      <p:sp>
        <p:nvSpPr>
          <p:cNvPr id="61" name="WordArt 5"/>
          <p:cNvSpPr txBox="1"/>
          <p:nvPr/>
        </p:nvSpPr>
        <p:spPr>
          <a:xfrm>
            <a:off x="5580000" y="2492280"/>
            <a:ext cx="2160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ntr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2" name="WordArt 7"/>
          <p:cNvSpPr txBox="1"/>
          <p:nvPr/>
        </p:nvSpPr>
        <p:spPr>
          <a:xfrm>
            <a:off x="5435640" y="4365720"/>
            <a:ext cx="30240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ncurren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Evaluación de Desemp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46083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Objetivos de la Evaluación del Desemp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Visión del empleado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MX" sz="1800" spc="-1" strike="noStrike" u="sng">
                <a:solidFill>
                  <a:srgbClr val="ffffff"/>
                </a:solidFill>
                <a:uFillTx/>
                <a:latin typeface="Arial"/>
              </a:rPr>
              <a:t>El empleado debe saber no solo acerca del cambio planeado, sino saber también por que y como deberá implementarse este,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debe recibir retroalimentación adecuada y reducir discrepancias con respecto a su actuación en la organ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La evaluación de desempeño no puede reducirse al simple juicio superficial y unilateral del jefe con respecto al comportamiento funcional del subordinado, sino que </a:t>
            </a:r>
            <a:r>
              <a:rPr b="0" lang="es-MX" sz="1800" spc="-1" strike="noStrike" u="sng">
                <a:solidFill>
                  <a:srgbClr val="ffffff"/>
                </a:solidFill>
                <a:uFillTx/>
                <a:latin typeface="Arial"/>
              </a:rPr>
              <a:t>es necesario profundizar un poco mas , ubicar las causas y establecer perspectivas de común acuerdo con el evalu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j0316823"/>
          <p:cNvPicPr/>
          <p:nvPr/>
        </p:nvPicPr>
        <p:blipFill>
          <a:blip r:embed="rId1"/>
          <a:stretch/>
        </p:blipFill>
        <p:spPr>
          <a:xfrm>
            <a:off x="5076720" y="1484280"/>
            <a:ext cx="4067280" cy="5113440"/>
          </a:xfrm>
          <a:prstGeom prst="rect">
            <a:avLst/>
          </a:prstGeom>
          <a:ln w="0">
            <a:noFill/>
          </a:ln>
        </p:spPr>
      </p:pic>
      <p:sp>
        <p:nvSpPr>
          <p:cNvPr id="66" name="WordArt 8"/>
          <p:cNvSpPr txBox="1"/>
          <p:nvPr/>
        </p:nvSpPr>
        <p:spPr>
          <a:xfrm>
            <a:off x="5796000" y="4338720"/>
            <a:ext cx="237636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rienta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Evaluación de Desemp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56840"/>
            <a:ext cx="4535280" cy="60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Objetivos de la Evaluación del Desemp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LA EVALUACION DE DESEMPEÑO NO ES UN FIN EN SI MISMO, SINO UN INSTRUMENTO , UN MEDIO, UNA HERRAMIENTA PARA </a:t>
            </a:r>
            <a:r>
              <a:rPr b="0" lang="es-MX" sz="1600" spc="-1" strike="noStrike" u="sng">
                <a:solidFill>
                  <a:srgbClr val="ffffff"/>
                </a:solidFill>
                <a:uFillTx/>
                <a:latin typeface="Arial"/>
              </a:rPr>
              <a:t>MEJORAR LOS RESULTADOS DE LOS RECURSOS HUMANOS DE LA EMPRE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Objetivos Intermed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Adaptación del individuo al car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Capaci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Promo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Incentivo salarial por buen desemp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Mejoramiento de las relaciones huma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Auto-perfeccionamiento del emple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Estimulo a la mayor produc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Conocimiento de los estándares de desempeño de la empre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Retroalimentación de información al individu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j0282838"/>
          <p:cNvPicPr/>
          <p:nvPr/>
        </p:nvPicPr>
        <p:blipFill>
          <a:blip r:embed="rId1"/>
          <a:stretch/>
        </p:blipFill>
        <p:spPr>
          <a:xfrm>
            <a:off x="5076720" y="1413000"/>
            <a:ext cx="40672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Evaluación de Desemp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608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¿Qué es la valoración del rendimiento?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a valoración del rendimiento implica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identificar, medir y gestionar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el rendimiento de las personas de una organiza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Las organizaciones suelen realizar una valoración del rendimiento con fi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dministrativo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(decisiones sobre las condiciones laborales de un empleado, teniendo en cuenta las promociones y las recompensa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Desarrollo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(decisiones sobre el fortalecimiento de las capacidades laborales del empleado sin olvidar los consejos y la formació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j0283651"/>
          <p:cNvPicPr/>
          <p:nvPr/>
        </p:nvPicPr>
        <p:blipFill>
          <a:blip r:embed="rId1"/>
          <a:stretch/>
        </p:blipFill>
        <p:spPr>
          <a:xfrm>
            <a:off x="5076720" y="1484280"/>
            <a:ext cx="343404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Evaluación de Desemp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3"/>
          <p:cNvGraphicFramePr/>
          <p:nvPr/>
        </p:nvGraphicFramePr>
        <p:xfrm>
          <a:off x="684360" y="1197000"/>
          <a:ext cx="7775280" cy="5661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97000"/>
                    <a:ext cx="777528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9T07:40:06Z</dcterms:created>
  <dc:creator>Ing.+ Lic. Yunior Andres Castillo S.</dc:creator>
  <dc:description>Ingeniero Industrial+Licenciado en Derecho: Ingeniero en Derecho
Celular: 1-829-725-8571</dc:description>
  <cp:keywords>yuniorcastillo@yahoo.com</cp:keywords>
  <dc:language>en-US</dc:language>
  <cp:lastModifiedBy>Illusion V2</cp:lastModifiedBy>
  <dcterms:modified xsi:type="dcterms:W3CDTF">2014-07-16T21:00:08Z</dcterms:modified>
  <cp:revision>131</cp:revision>
  <dc:subject>Derecho de Saber para Pensar</dc:subject>
  <dc:title>Evaluacion del Desenpeño Laboral</dc:title>
</cp:coreProperties>
</file>