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31A-9EF0-426F-8EA4-07CE1C4A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C09-82E9-428A-9C98-0FB2E455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7DB-4C9C-45F9-BCDA-AC5E7EBE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8A9-E1C7-437E-AC02-81F3CD61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FB8-097D-45D3-887C-1D84B8B3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D7C-825F-46FE-8EA0-9B47B125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E98-9F75-4CD3-8BBC-7DA01DC1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37E-BE28-42C1-84DF-483A861D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6E7-A356-4BA1-870E-D082C41B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32D-B636-486C-B662-72D8070D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841-B834-4C8F-813D-AC1C585A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04D-84BE-429B-93CC-4294C8C6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A028-B584-43CE-B714-0F6AC3A2ED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116000" y="1341360"/>
            <a:ext cx="741672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1.- 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2.- Ondas E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3.- Energía de una onda E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4.- Espectro de la radiación E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txp_fig"/>
          <p:cNvPicPr/>
          <p:nvPr/>
        </p:nvPicPr>
        <p:blipFill>
          <a:blip r:embed="rId1"/>
          <a:stretch/>
        </p:blipFill>
        <p:spPr>
          <a:xfrm>
            <a:off x="563400" y="2658960"/>
            <a:ext cx="7969320" cy="3938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39640" y="22986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Aplicaciones de algunas ondas de radiofrecuencia y microo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09120" y="1125360"/>
            <a:ext cx="59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Ondas de radio 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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0,3 m   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</a:t>
            </a:r>
            <a:r>
              <a:rPr b="0" lang="es-ES" sz="1800" spc="-1" strike="noStrike">
                <a:solidFill>
                  <a:srgbClr val="cc3300"/>
                </a:solidFill>
                <a:latin typeface="Times New Roman"/>
              </a:rPr>
              <a:t>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Microondas 1 mm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 &lt; 0,3 m     1 GHz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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&lt; 300 G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11280" y="1125360"/>
            <a:ext cx="63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Infrarrojo  780 nm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 &lt; 1 mm     300 GHz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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&lt; 385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Luz visible 390 nm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 &lt; 780 nm     385 THz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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&lt; 769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txp_fig"/>
          <p:cNvPicPr/>
          <p:nvPr/>
        </p:nvPicPr>
        <p:blipFill>
          <a:blip r:embed="rId1"/>
          <a:stretch/>
        </p:blipFill>
        <p:spPr>
          <a:xfrm>
            <a:off x="1332000" y="3213000"/>
            <a:ext cx="6192720" cy="2428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1332000" y="2492280"/>
            <a:ext cx="62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Frecuencia aproximada y rangos de longitud de onda en el vacío para los distintos colores de la luz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04680" y="1628640"/>
            <a:ext cx="70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Rayos ultravioleta  1 nm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 &lt; 390 nm     769 GHz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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&lt; 3·10</a:t>
            </a:r>
            <a:r>
              <a:rPr b="0" lang="es-ES" sz="1800" spc="-1" strike="noStrike" baseline="30000">
                <a:solidFill>
                  <a:srgbClr val="cc3300"/>
                </a:solidFill>
                <a:latin typeface="Arial"/>
              </a:rPr>
              <a:t>17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Rayos X       6 pm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 &lt; 1 nm         3·10</a:t>
            </a:r>
            <a:r>
              <a:rPr b="0" lang="es-ES" sz="1800" spc="-1" strike="noStrike" baseline="30000">
                <a:solidFill>
                  <a:srgbClr val="cc3300"/>
                </a:solidFill>
                <a:latin typeface="Arial"/>
              </a:rPr>
              <a:t>17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Hz &lt;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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&lt; 5·10</a:t>
            </a:r>
            <a:r>
              <a:rPr b="0" lang="es-ES" sz="1800" spc="-1" strike="noStrike" baseline="30000">
                <a:solidFill>
                  <a:srgbClr val="cc3300"/>
                </a:solidFill>
                <a:latin typeface="Arial"/>
              </a:rPr>
              <a:t>19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Rayos gamma 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 &lt; 6 pm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Symbol"/>
                <a:ea typeface="Symbol"/>
              </a:rPr>
              <a:t>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&gt; 5·10</a:t>
            </a:r>
            <a:r>
              <a:rPr b="0" lang="es-ES" sz="1800" spc="-1" strike="noStrike" baseline="30000">
                <a:solidFill>
                  <a:srgbClr val="cc3300"/>
                </a:solidFill>
                <a:latin typeface="Arial"/>
              </a:rPr>
              <a:t>19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04292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900000" y="1197000"/>
            <a:ext cx="7417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Controversia sobre la naturaleza de la lu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¿onda o corpúscu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Hasta finales del S. XIX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Corpús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Maxwell – Hertz (1860 – 1887) 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Onda Electromag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Einstein, Planck, de Broglie,…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Ni una cosa ni o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cc3300"/>
                </a:solidFill>
                <a:latin typeface="Arial"/>
              </a:rPr>
              <a:t>(Foton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63640" y="494172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Para muchas aplicaciones prácticas la teoría electromagnética es más que su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8"/>
          <p:cNvSpPr/>
          <p:nvPr/>
        </p:nvSpPr>
        <p:spPr>
          <a:xfrm>
            <a:off x="1042920" y="4508640"/>
            <a:ext cx="7058160" cy="187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6416640" y="1844640"/>
            <a:ext cx="2016000" cy="208908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395280" y="1125360"/>
            <a:ext cx="5977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Ecuaciones de Max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4 ecuaciones que resumen todo el electromagnetismo cl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33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Para un medio homogéneo, isótropo y dieléc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Los campos eléctrico y magnético verifican la ecuación de 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2" descr="txp_fig"/>
          <p:cNvPicPr/>
          <p:nvPr/>
        </p:nvPicPr>
        <p:blipFill>
          <a:blip r:embed="rId1"/>
          <a:stretch/>
        </p:blipFill>
        <p:spPr>
          <a:xfrm>
            <a:off x="6659640" y="2065320"/>
            <a:ext cx="160020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txp_fig"/>
          <p:cNvPicPr/>
          <p:nvPr/>
        </p:nvPicPr>
        <p:blipFill>
          <a:blip r:embed="rId2"/>
          <a:stretch/>
        </p:blipFill>
        <p:spPr>
          <a:xfrm>
            <a:off x="1258920" y="4724280"/>
            <a:ext cx="6603840" cy="14986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7"/>
          <p:cNvSpPr/>
          <p:nvPr/>
        </p:nvSpPr>
        <p:spPr>
          <a:xfrm rot="5400000">
            <a:off x="2741760" y="295344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9"/>
          <p:cNvSpPr/>
          <p:nvPr/>
        </p:nvSpPr>
        <p:spPr>
          <a:xfrm>
            <a:off x="4500720" y="5661000"/>
            <a:ext cx="3166920" cy="86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txp_fig"/>
          <p:cNvPicPr/>
          <p:nvPr/>
        </p:nvPicPr>
        <p:blipFill>
          <a:blip r:embed="rId1"/>
          <a:stretch/>
        </p:blipFill>
        <p:spPr>
          <a:xfrm>
            <a:off x="2484360" y="1773360"/>
            <a:ext cx="3251160" cy="635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806760" y="117144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Índice de ref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txp_fig"/>
          <p:cNvPicPr/>
          <p:nvPr/>
        </p:nvPicPr>
        <p:blipFill>
          <a:blip r:embed="rId2"/>
          <a:stretch/>
        </p:blipFill>
        <p:spPr>
          <a:xfrm>
            <a:off x="3276720" y="5877000"/>
            <a:ext cx="2260440" cy="228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1103760" y="2637000"/>
            <a:ext cx="646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La velocidad de propagación depende del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La frecuencia se mantiene 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La longitud de onda y número de ondas dependen del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txp_fig"/>
          <p:cNvPicPr/>
          <p:nvPr/>
        </p:nvPicPr>
        <p:blipFill>
          <a:blip r:embed="rId3"/>
          <a:stretch/>
        </p:blipFill>
        <p:spPr>
          <a:xfrm>
            <a:off x="2124000" y="3645000"/>
            <a:ext cx="4680000" cy="982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6"/>
          <p:cNvSpPr/>
          <p:nvPr/>
        </p:nvSpPr>
        <p:spPr>
          <a:xfrm>
            <a:off x="4718160" y="4005360"/>
            <a:ext cx="2303280" cy="71892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173240" y="53211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La diferencia del aire con el vacío es muy peque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971640" y="1125360"/>
            <a:ext cx="7129440" cy="518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50920" y="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xp_fig"/>
          <p:cNvPicPr/>
          <p:nvPr/>
        </p:nvPicPr>
        <p:blipFill>
          <a:blip r:embed="rId1"/>
          <a:stretch/>
        </p:blipFill>
        <p:spPr>
          <a:xfrm>
            <a:off x="1258920" y="1268280"/>
            <a:ext cx="65469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9"/>
          <p:cNvSpPr/>
          <p:nvPr/>
        </p:nvSpPr>
        <p:spPr>
          <a:xfrm>
            <a:off x="2268360" y="4005360"/>
            <a:ext cx="4967640" cy="23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219640" y="1197000"/>
            <a:ext cx="3600360" cy="30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50920" y="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39640" y="981000"/>
            <a:ext cx="77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Transversalidad de las ondas E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riedro"/>
          <p:cNvPicPr/>
          <p:nvPr/>
        </p:nvPicPr>
        <p:blipFill>
          <a:blip r:embed="rId1"/>
          <a:stretch/>
        </p:blipFill>
        <p:spPr>
          <a:xfrm>
            <a:off x="5308560" y="1341360"/>
            <a:ext cx="3440160" cy="244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coplamiento"/>
          <p:cNvPicPr/>
          <p:nvPr/>
        </p:nvPicPr>
        <p:blipFill>
          <a:blip r:embed="rId2"/>
          <a:stretch/>
        </p:blipFill>
        <p:spPr>
          <a:xfrm>
            <a:off x="2411280" y="4221000"/>
            <a:ext cx="4535640" cy="187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txp_fig"/>
          <p:cNvPicPr/>
          <p:nvPr/>
        </p:nvPicPr>
        <p:blipFill>
          <a:blip r:embed="rId3"/>
          <a:stretch/>
        </p:blipFill>
        <p:spPr>
          <a:xfrm>
            <a:off x="755640" y="1592280"/>
            <a:ext cx="41371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826920" y="3284640"/>
            <a:ext cx="3167280" cy="295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energia"/>
          <p:cNvPicPr/>
          <p:nvPr/>
        </p:nvPicPr>
        <p:blipFill>
          <a:blip r:embed="rId1"/>
          <a:stretch/>
        </p:blipFill>
        <p:spPr>
          <a:xfrm>
            <a:off x="969840" y="3427560"/>
            <a:ext cx="2880000" cy="266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txp_fig"/>
          <p:cNvPicPr/>
          <p:nvPr/>
        </p:nvPicPr>
        <p:blipFill>
          <a:blip r:embed="rId2"/>
          <a:stretch/>
        </p:blipFill>
        <p:spPr>
          <a:xfrm>
            <a:off x="1332000" y="1397160"/>
            <a:ext cx="6408720" cy="1635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610920" y="98100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nsidad de energía E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445080" y="2565360"/>
            <a:ext cx="1079640" cy="50328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425480" y="335772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nergía transportada por la 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5219640" y="4294080"/>
            <a:ext cx="2665440" cy="93528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txp_fig"/>
          <p:cNvPicPr/>
          <p:nvPr/>
        </p:nvPicPr>
        <p:blipFill>
          <a:blip r:embed="rId3"/>
          <a:stretch/>
        </p:blipFill>
        <p:spPr>
          <a:xfrm>
            <a:off x="5295960" y="3808440"/>
            <a:ext cx="2665440" cy="120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6"/>
          <p:cNvSpPr/>
          <p:nvPr/>
        </p:nvSpPr>
        <p:spPr>
          <a:xfrm>
            <a:off x="4140360" y="544500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Energía que por unidad de tiempo y superficie comunica la onda a una superficie 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normal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 a su dirección de propa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8200" y="90792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Arial"/>
              </a:rPr>
              <a:t>Intensidad o flujo energét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55640" y="26352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6633"/>
                </a:solidFill>
                <a:latin typeface="Arial"/>
              </a:rPr>
              <a:t>Energía que por unidad de tiempo y superficie comunica, </a:t>
            </a: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en promedio</a:t>
            </a:r>
            <a:r>
              <a:rPr b="0" lang="es-ES" sz="1600" spc="-1" strike="noStrike">
                <a:solidFill>
                  <a:srgbClr val="666633"/>
                </a:solidFill>
                <a:latin typeface="Arial"/>
              </a:rPr>
              <a:t>, la onda a una superficie </a:t>
            </a: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normal</a:t>
            </a:r>
            <a:r>
              <a:rPr b="0" lang="es-ES" sz="1600" spc="-1" strike="noStrike">
                <a:solidFill>
                  <a:srgbClr val="666633"/>
                </a:solidFill>
                <a:latin typeface="Arial"/>
              </a:rPr>
              <a:t> a su dirección de propa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flipV="1">
            <a:off x="2050920" y="1483560"/>
            <a:ext cx="2233800" cy="86220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084720" y="1270080"/>
            <a:ext cx="2664000" cy="1739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La intensidad de una onda ELM es proporcional al cuadrado de la amplitud del campo eléctrico (o magnético) de la 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8200" y="350028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Arial"/>
              </a:rPr>
              <a:t>Irradiancia o iluminación energ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71640" y="4005360"/>
            <a:ext cx="2879640" cy="230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irradiancia"/>
          <p:cNvPicPr/>
          <p:nvPr/>
        </p:nvPicPr>
        <p:blipFill>
          <a:blip r:embed="rId1"/>
          <a:stretch/>
        </p:blipFill>
        <p:spPr>
          <a:xfrm>
            <a:off x="1042920" y="4078440"/>
            <a:ext cx="2793960" cy="20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txp_fig"/>
          <p:cNvPicPr/>
          <p:nvPr/>
        </p:nvPicPr>
        <p:blipFill>
          <a:blip r:embed="rId2"/>
          <a:stretch/>
        </p:blipFill>
        <p:spPr>
          <a:xfrm>
            <a:off x="4037040" y="4076640"/>
            <a:ext cx="4638600" cy="1960560"/>
          </a:xfrm>
          <a:prstGeom prst="rect">
            <a:avLst/>
          </a:prstGeom>
          <a:ln w="0">
            <a:noFill/>
          </a:ln>
        </p:spPr>
      </p:pic>
      <p:sp>
        <p:nvSpPr>
          <p:cNvPr id="100" name="Line 23"/>
          <p:cNvSpPr/>
          <p:nvPr/>
        </p:nvSpPr>
        <p:spPr>
          <a:xfrm>
            <a:off x="6588000" y="4869000"/>
            <a:ext cx="28908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4" descr="txp_fig"/>
          <p:cNvPicPr/>
          <p:nvPr/>
        </p:nvPicPr>
        <p:blipFill>
          <a:blip r:embed="rId3"/>
          <a:stretch/>
        </p:blipFill>
        <p:spPr>
          <a:xfrm>
            <a:off x="2340000" y="1557360"/>
            <a:ext cx="16556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3300"/>
                </a:solidFill>
                <a:latin typeface="Futura Md BT"/>
              </a:rPr>
              <a:t>Teoría Electromagnética de la lu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611280" y="907920"/>
            <a:ext cx="7993080" cy="0"/>
          </a:xfrm>
          <a:prstGeom prst="line">
            <a:avLst/>
          </a:prstGeom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538200" y="141300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Arial"/>
              </a:rPr>
              <a:t>Potencia recibida por un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9" descr="txp_fig"/>
          <p:cNvPicPr/>
          <p:nvPr/>
        </p:nvPicPr>
        <p:blipFill>
          <a:blip r:embed="rId1"/>
          <a:stretch/>
        </p:blipFill>
        <p:spPr>
          <a:xfrm>
            <a:off x="1544760" y="2205000"/>
            <a:ext cx="6254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08:28:50Z</dcterms:created>
  <dc:creator>Pablo Turmero</dc:creator>
  <dc:description/>
  <dc:language>en-US</dc:language>
  <cp:lastModifiedBy>Pablo Turmero</cp:lastModifiedBy>
  <dcterms:modified xsi:type="dcterms:W3CDTF">2014-08-09T20:15:33Z</dcterms:modified>
  <cp:revision>93</cp:revision>
  <dc:subject/>
  <dc:title>ELECTROMAGNETISMO</dc:title>
</cp:coreProperties>
</file>