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0931-CB99-4A55-A2DA-99A8AFF399A4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E79E-EB31-4EAE-9924-7FE839C57F43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5DA8-A1A1-4D96-8505-FEAD9A0D3396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8337-CE29-42CE-AF26-2AC496B6AFCE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FA72-FE8B-42DB-A27C-4D124B0A62C0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10F3-5E4D-410A-99E5-31812934013F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D64E-D8C9-4B75-A18B-FD4ED36EF13E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066-EA6E-4A3E-B3CF-5E7F0544F218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2BA0-E544-4073-9E55-4E2BD822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3667-82A9-449C-909D-070D9055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43D4-2B43-480A-927C-9BDCCFE9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4EB3-D3DE-4D6E-8560-33FB8F4D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CF80-6DC0-4D0D-9A9C-52D08707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DE3B-A8AF-41D0-ACB1-5EE98978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7684-D0DE-48B2-87AC-4780A093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38B8-42F5-4DB6-9BCD-ADA4E0F7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28F8-D61B-4F5B-80BF-BEECCD87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B202-D5B5-4F39-BE31-83558686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09FF-5D6D-4F3F-8B65-5AF37D6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524C-F38B-45C3-AB2C-08E0F826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70E3-3018-4CC0-8D5F-EB47E68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0FAF-1EBA-47B1-B1D0-5349E2F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4D5E-526F-4C68-8EB6-5628B22C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F4E0-8C90-4C66-BBC5-068F31FE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FA7D-BFD4-4836-8BC6-5C404BEE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59A4-4CC9-4F16-A215-8E9E8AE6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5692-B7DD-48F4-BC4B-021ECD76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A08E-6EBA-4CBA-992F-2C52229E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A70C-AFAA-4F1E-A535-43C02BD9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3A8B-E47A-485A-BFF3-28D95198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A6E3-B1C0-4F91-B8EC-209F2603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DA51-3151-463C-9F74-0C7E394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8CE1-C7D3-47FE-A51B-ADC760D0F050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E91-6431-41E1-A37F-D18AFDB7FB75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214280"/>
            <a:ext cx="8610840" cy="44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6000" spc="-1" strike="noStrike">
                <a:solidFill>
                  <a:srgbClr val="ffff00"/>
                </a:solidFill>
                <a:latin typeface="Monotype Corsiva"/>
              </a:rPr>
              <a:t>CONFERENCIA SOBRE:  </a:t>
            </a:r>
            <a:r>
              <a:rPr b="1" lang="es-AR" sz="5900" spc="-1" strike="noStrike">
                <a:solidFill>
                  <a:srgbClr val="ffff00"/>
                </a:solidFill>
                <a:latin typeface="Monotype Corsiva"/>
              </a:rPr>
              <a:t>CARACTERIZACIÓN DEL FENÓMENO </a:t>
            </a:r>
            <a:br>
              <a:rPr sz="5900"/>
            </a:br>
            <a:r>
              <a:rPr b="1" lang="es-AR" sz="5900" spc="-1" strike="noStrike">
                <a:solidFill>
                  <a:srgbClr val="ffff00"/>
                </a:solidFill>
                <a:latin typeface="Monotype Corsiva"/>
              </a:rPr>
              <a:t>DE LAVADO DE ACTIVOS</a:t>
            </a:r>
            <a:endParaRPr b="1" lang="en-US" sz="59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12193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GRACIAS POR SU ATEN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D:\Datos Importantes\Generalidad De Fotos\Detalles\AMIDEA.WMF"/>
          <p:cNvPicPr/>
          <p:nvPr/>
        </p:nvPicPr>
        <p:blipFill>
          <a:blip r:embed="rId1"/>
          <a:stretch/>
        </p:blipFill>
        <p:spPr>
          <a:xfrm>
            <a:off x="990720" y="25146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2057400" y="313164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ffffff"/>
                </a:solidFill>
                <a:latin typeface="Arial"/>
              </a:rPr>
              <a:t>Ing.+Lic. Yunior Andrés Castillo 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Arial"/>
              </a:rPr>
              <a:t>Página Web: yuniorandrescastillo.galeon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Arial"/>
              </a:rPr>
              <a:t>Correo: yuniorcastillo@yahoo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Arial"/>
              </a:rPr>
              <a:t>Celular:1-829-725-85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antiago de los Caballeros, República Dominic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Arial"/>
              </a:rPr>
              <a:t>201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13517"/>
          <p:cNvPicPr/>
          <p:nvPr/>
        </p:nvPicPr>
        <p:blipFill>
          <a:blip r:embed="rId1"/>
          <a:stretch/>
        </p:blipFill>
        <p:spPr>
          <a:xfrm>
            <a:off x="380880" y="457200"/>
            <a:ext cx="2590920" cy="227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2005"/>
          <p:cNvPicPr/>
          <p:nvPr/>
        </p:nvPicPr>
        <p:blipFill>
          <a:blip r:embed="rId2"/>
          <a:stretch/>
        </p:blipFill>
        <p:spPr>
          <a:xfrm>
            <a:off x="3124080" y="838080"/>
            <a:ext cx="2819520" cy="3654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0" y="4578120"/>
            <a:ext cx="92962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"/>
                <a:ea typeface="Calibri"/>
              </a:rPr>
              <a:t>Ing. +LIC. Yunior Andrés Castillo 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yuniorandrescastillo.galeon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Calibri"/>
              </a:rPr>
              <a:t>yuniorcastillo@yahoo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ffffff"/>
                </a:solidFill>
                <a:latin typeface="Arial"/>
                <a:ea typeface="Calibri"/>
              </a:rPr>
              <a:t>Celular: 1-829-725-85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113517"/>
          <p:cNvPicPr/>
          <p:nvPr/>
        </p:nvPicPr>
        <p:blipFill>
          <a:blip r:embed="rId3"/>
          <a:stretch/>
        </p:blipFill>
        <p:spPr>
          <a:xfrm>
            <a:off x="6095880" y="457200"/>
            <a:ext cx="25909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5e5ff"/>
                </a:solidFill>
                <a:latin typeface="Garamond"/>
              </a:rPr>
              <a:t>Cambio de paradigma en la investigación crimin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Garamond"/>
              </a:rPr>
              <a:t>Estrategia tradicional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Derecho penal centrado en la persecución del infractor – privación de la libert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Garamond"/>
              </a:rPr>
              <a:t>Nuevo paradigm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Derecho penal orientado a la persecución de bienes    –confiscación de act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s-AR" sz="3200" spc="-1" strike="noStrike">
                <a:solidFill>
                  <a:srgbClr val="e5e5ff"/>
                </a:solidFill>
                <a:latin typeface="바탕"/>
              </a:rPr>
              <a:t>Razones de la Nueva Estrategi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66"/>
                </a:solidFill>
                <a:latin typeface="Garamond"/>
              </a:rPr>
              <a:t>Preocupación por el fracaso de la investigación criminal tradi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Imposibilidad de sentenciar jefes de organizacion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Cuando es posible, sólo produce reorganizaci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66"/>
                </a:solidFill>
                <a:latin typeface="Garamond"/>
              </a:rPr>
              <a:t>Impactos de la acumulación de riquezas “criminales” en la economía leg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Introducción de métodos del crimen organizado en el mundo corporativo </a:t>
            </a: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(intimidación, corrupción, violenc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Nuevo mercado del sector servici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19920" indent="-217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Bancos, abogados, contadores, escribanos que ofrecen servicios para disfrutar el dinero obtenido ilícitamen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66"/>
                </a:solidFill>
                <a:latin typeface="Garamond"/>
              </a:rPr>
              <a:t>Contexto Estadouniden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Garamond"/>
              </a:rPr>
              <a:t>Política de restricción fisc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La confiscación de activos podría balancear el presupues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Garamond"/>
              </a:rPr>
              <a:t>Privatización o “autofinanciamiento” de servicios públic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Escuelas, Hospitales, Control del crimen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Garamond"/>
              </a:rPr>
              <a:t>Criminología “neopositivista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Lógica binaria: buenos y malo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5e5ff"/>
                </a:solidFill>
                <a:latin typeface="Garamond"/>
              </a:rPr>
              <a:t>Implicancias Económicas </a:t>
            </a:r>
            <a:br>
              <a:rPr sz="4000"/>
            </a:br>
            <a:r>
              <a:rPr b="1" lang="es-AR" sz="4000" spc="-1" strike="noStrike">
                <a:solidFill>
                  <a:srgbClr val="e5e5ff"/>
                </a:solidFill>
                <a:latin typeface="Garamond"/>
              </a:rPr>
              <a:t>del lavado de activ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Garamond"/>
              </a:rPr>
              <a:t>1. Distorsión económ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Inversiones ineficien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Productos a precios inferiores al cos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Garamond"/>
              </a:rPr>
              <a:t>2. Riesgos para la integridad del sistema financiero y bancar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Iliquidez repentina </a:t>
            </a: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    corridas </a:t>
            </a: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quiebr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Reputación del sistema / confian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96252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48640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5e5ff"/>
                </a:solidFill>
                <a:latin typeface="Garamond"/>
              </a:rPr>
              <a:t>Implicancias Económicas </a:t>
            </a:r>
            <a:br>
              <a:rPr sz="4000"/>
            </a:br>
            <a:r>
              <a:rPr b="1" lang="es-AR" sz="4000" spc="-1" strike="noStrike">
                <a:solidFill>
                  <a:srgbClr val="e5e5ff"/>
                </a:solidFill>
                <a:latin typeface="Garamond"/>
              </a:rPr>
              <a:t>del lavado de activ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Garamond"/>
              </a:rPr>
              <a:t>3. Afectación de los recursos del Es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Aumento de la economía inform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Distorsión tributaria no sostenida por actividades productiv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Perjudica la adopción de políticas públ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Garamond"/>
              </a:rPr>
              <a:t>4. Repercusiones socioeconómic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Aumento de actividades ilícit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Obstáculos al desarrollo económic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Aumento de la pobre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5e5ff"/>
                </a:solidFill>
                <a:latin typeface="Garamond"/>
              </a:rPr>
              <a:t>Delitos de mer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305920" cy="701640"/>
        </p:xfrm>
        <a:graphic>
          <a:graphicData uri="http://schemas.openxmlformats.org/drawingml/2006/table">
            <a:tbl>
              <a:tblPr/>
              <a:tblGrid>
                <a:gridCol w="2133720"/>
                <a:gridCol w="2971800"/>
                <a:gridCol w="3200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elitos </a:t>
                      </a:r>
                      <a:r>
                        <a:rPr b="1" lang="es-AR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“contra la propiedad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elitos de mercad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57200" y="2286000"/>
          <a:ext cx="8305920" cy="1006560"/>
        </p:xfrm>
        <a:graphic>
          <a:graphicData uri="http://schemas.openxmlformats.org/drawingml/2006/table">
            <a:tbl>
              <a:tblPr/>
              <a:tblGrid>
                <a:gridCol w="2133720"/>
                <a:gridCol w="2971800"/>
                <a:gridCol w="3200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Tipo de Transac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istribución de riqueza exist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roducción y distribución de nuevos bienes y servic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7200" y="3048120"/>
          <a:ext cx="8305920" cy="701640"/>
        </p:xfrm>
        <a:graphic>
          <a:graphicData uri="http://schemas.openxmlformats.org/drawingml/2006/table">
            <a:tbl>
              <a:tblPr/>
              <a:tblGrid>
                <a:gridCol w="2133720"/>
                <a:gridCol w="2971800"/>
                <a:gridCol w="3200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Rel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ater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Multilateral (Intercambios de mercad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" y="3733920"/>
          <a:ext cx="8305920" cy="685800"/>
        </p:xfrm>
        <a:graphic>
          <a:graphicData uri="http://schemas.openxmlformats.org/drawingml/2006/table">
            <a:tbl>
              <a:tblPr/>
              <a:tblGrid>
                <a:gridCol w="2133720"/>
                <a:gridCol w="2971800"/>
                <a:gridCol w="3200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Intercamb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oluntar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nsensu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57200" y="4419720"/>
          <a:ext cx="8305920" cy="701640"/>
        </p:xfrm>
        <a:graphic>
          <a:graphicData uri="http://schemas.openxmlformats.org/drawingml/2006/table">
            <a:tbl>
              <a:tblPr/>
              <a:tblGrid>
                <a:gridCol w="2133720"/>
                <a:gridCol w="2971800"/>
                <a:gridCol w="3200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ícti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s físicas o juríd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“</a:t>
                      </a:r>
                      <a:r>
                        <a:rPr b="0" lang="es-AR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a sociedad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57200" y="5181480"/>
          <a:ext cx="8305920" cy="1006560"/>
        </p:xfrm>
        <a:graphic>
          <a:graphicData uri="http://schemas.openxmlformats.org/drawingml/2006/table">
            <a:tbl>
              <a:tblPr/>
              <a:tblGrid>
                <a:gridCol w="2133720"/>
                <a:gridCol w="2971800"/>
                <a:gridCol w="3200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Estrateg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olítico-crimi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ción penal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itución de propie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4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     </a:t>
                      </a:r>
                      <a:r>
                        <a:rPr b="1" lang="es-AR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57200" y="4800600"/>
          <a:ext cx="8305920" cy="396720"/>
        </p:xfrm>
        <a:graphic>
          <a:graphicData uri="http://schemas.openxmlformats.org/drawingml/2006/table">
            <a:tbl>
              <a:tblPr/>
              <a:tblGrid>
                <a:gridCol w="2133720"/>
                <a:gridCol w="2971800"/>
                <a:gridCol w="3200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M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nso repres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a469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bigu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5e5ff"/>
                </a:solidFill>
                <a:latin typeface="Garamond"/>
              </a:rPr>
              <a:t>Solución: confiscación de activ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Garamond"/>
              </a:rPr>
              <a:t>Atacar el “producto del delito” elimin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El motivo  (lucr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El capital necesario para otros delitos (destruye la organizació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Los riesgos de “contaminación” –de métodos- con la economía legíti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Competencia limpia en los merca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Redefine el rol social de los profesion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Garamond"/>
              </a:rPr>
              <a:t>Moralidad compartida: “el crimen no paga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23:46:45Z</dcterms:created>
  <dc:creator/>
  <dc:description>Ingeniero Industrial+Licenciado en Derecho: Ingeniero en Derecho
Celular: 1-829-725-8571</dc:description>
  <cp:keywords>yuniorcastillo@yahoo.com</cp:keywords>
  <dc:language>en-US</dc:language>
  <cp:lastModifiedBy/>
  <dcterms:modified xsi:type="dcterms:W3CDTF">2014-07-16T19:48:31Z</dcterms:modified>
  <cp:revision>3</cp:revision>
  <dc:subject>Derecho de Saber para Pensar</dc:subject>
  <dc:title>Caracterización del fenómeno  de lavado de activos       ENMP, Santo Domingo    Guillermo Jorge         20 de Marzo de 2006</dc:title>
</cp:coreProperties>
</file>