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6B53-DB20-4366-A742-A64B89A0F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C17-AAF2-4E73-95CD-E2FD9426CC8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61A5-469D-4D4B-BDF1-57289E20555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103-7795-499B-AB9B-8F343BA8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86E-BA65-4667-B8E8-592590F7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FFC-131E-4775-BC8B-1C9A0925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E4CD-0B08-4A68-AB1A-654C326E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850-F0DE-4007-BA77-066E9F1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12E-7345-4568-B5FD-4787B3CD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31C-6E5B-42B8-BE83-E220D43E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628-9D91-453C-965B-F45DDBA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C38-53CF-48BD-A84C-2D9B238A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D10-0B2A-4D19-BE3B-91CFE530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19E-281B-4EEC-B21C-9E4C3D98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95DF-F7BD-4C11-8FA3-C5C0020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69DE-97AA-41FB-B05A-4BB2CC1D6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resentación de un caso leiomiosarcoma de partes blandas estudio imagenológic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sin Ayala P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tsinayalapons@y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62385-Presentacin De Un Caso leiomiosarcoma_Página_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62385-Presentacin De Un Caso leiomiosarcoma_Página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62385-Presentacin De Un Caso leiomiosarcoma_Página_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62385-Presentacin De Un Caso leiomiosarcoma_Página_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62385-Presentacin De Un Caso leiomiosarcoma_Página_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162385-Presentacin De Un Caso leiomiosarcoma_Página_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62385-Presentacin De Un Caso leiomiosarcoma_Página_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62385-Presentacin De Un Caso leiomiosarcoma_Página_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62385-Presentacin De Un Caso leiomiosarcoma_Página_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62385-Presentacin De Un Caso leiomiosarcoma_Página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62385-Presentacin De Un Caso leiomiosarcoma_Página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62385-Presentacin De Un Caso leiomiosarcoma_Página_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162385-Presentacin De Un Caso leiomiosarcoma_Página_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62385-Presentacin De Un Caso leiomiosarcoma_Página_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162385-Presentacin De Un Caso leiomiosarcoma_Página_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62385-Presentacin De Un Caso leiomiosarcoma_Página_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162385-Presentacin De Un Caso leiomiosarcoma_Página_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76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62385-Presentacin De Un Caso leiomiosarcoma_Página_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62385-Presentacin De Un Caso leiomiosarcoma_Página_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62385-Presentacin De Un Caso leiomiosarcoma_Página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62385-Presentacin De Un Caso leiomiosarcoma_Página_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2385-Presentacin De Un Caso leiomiosarcoma_Página_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62385-Presentacin De Un Caso leiomiosarcoma_Página_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62385-Presentacin De Un Caso leiomiosarcoma_Página_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11:46:19Z</dcterms:created>
  <dc:creator>Patricio</dc:creator>
  <dc:description/>
  <dc:language>en-US</dc:language>
  <cp:lastModifiedBy>Patricio</cp:lastModifiedBy>
  <dcterms:modified xsi:type="dcterms:W3CDTF">2011-07-06T15:43:33Z</dcterms:modified>
  <cp:revision>2</cp:revision>
  <dc:subject/>
  <dc:title>Presentación de un caso leiomiosarcoma de partes blandas estudio imagenológico: </dc:title>
</cp:coreProperties>
</file>