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DA9E-A739-4036-AB9C-2E5424BBFD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E393-9FDD-4608-B5CC-10ABF0826A8D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F61A-EE9D-49DC-B318-BE6D4D501A75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15B-E952-4362-9801-A73D5D23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837-A35B-45AB-BCB4-3D357C69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04C-4D31-4A8C-9618-77572F6D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D74-200D-42FF-9E3F-66AF91F8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BFC7-A91C-474C-A801-C7346E17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1258-564E-4979-9F2E-598A8C6F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7EBB-452D-4868-8494-11BC2EBB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8DFA-EA49-4D06-9D21-51F392AF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6F8D-0FB8-4882-9D47-859F4ED4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247F-AFC3-4F00-B04A-AFCBE5D6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FF1F-624C-4AC0-8D28-2C2F52A6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0FE-D176-4553-83D2-A574818D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7928-37D5-44EA-85CB-4B03EFDE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D5F3-AA2A-49FD-AC3E-AB58C309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8CE9-3BD1-482F-8BB1-037CB614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9D22-7F14-4085-8DC5-09ADCFC6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F380-D065-4DA1-8BE5-E10B9D93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016-BB69-4298-8FEF-36D2D960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432-A8D1-41C3-A99B-34A7DA9D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490-E96E-4C93-9127-BE3BDDA7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DFA-768B-40CF-9EBB-A8B970D6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EBB-A9C5-4D93-89B5-CE9110F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820-F028-4C99-BC8A-B86246C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978-F62A-47A4-96DE-DDFCB2C4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6EF7-E268-43DC-AA9A-093444FCB11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9190-B12F-47E7-9F79-CFDABEB9F79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Espectrometría atóm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001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u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osé Cruz Feo Man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cfeom@unileon.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714840" y="714240"/>
            <a:ext cx="16477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4"/>
          <p:cNvSpPr/>
          <p:nvPr/>
        </p:nvSpPr>
        <p:spPr>
          <a:xfrm rot="16200000">
            <a:off x="3634560" y="1832760"/>
            <a:ext cx="1440000" cy="4317840"/>
          </a:xfrm>
          <a:prstGeom prst="can">
            <a:avLst>
              <a:gd name="adj" fmla="val 606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"/>
          <p:cNvSpPr/>
          <p:nvPr/>
        </p:nvSpPr>
        <p:spPr>
          <a:xfrm>
            <a:off x="1041480" y="3403440"/>
            <a:ext cx="647856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1093680" y="4589640"/>
            <a:ext cx="64785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1692360" y="1890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INTERFERENCIAS ESPECT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2484360" y="523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persión de la luz por partíc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6757920" y="3544920"/>
            <a:ext cx="406440" cy="900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1044720" y="4265640"/>
            <a:ext cx="57578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1046160" y="3986280"/>
            <a:ext cx="57578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1050840" y="3710160"/>
            <a:ext cx="57578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 rot="16200000">
            <a:off x="6511320" y="38149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1042920" y="3706920"/>
            <a:ext cx="431820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6"/>
          <p:cNvSpPr/>
          <p:nvPr/>
        </p:nvSpPr>
        <p:spPr>
          <a:xfrm>
            <a:off x="5329080" y="3606840"/>
            <a:ext cx="179640" cy="179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7"/>
          <p:cNvSpPr/>
          <p:nvPr/>
        </p:nvSpPr>
        <p:spPr>
          <a:xfrm>
            <a:off x="4089240" y="4183200"/>
            <a:ext cx="179640" cy="179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1042920" y="4272120"/>
            <a:ext cx="30592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9"/>
          <p:cNvSpPr/>
          <p:nvPr/>
        </p:nvSpPr>
        <p:spPr>
          <a:xfrm>
            <a:off x="3201840" y="3889440"/>
            <a:ext cx="179640" cy="179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1042920" y="3979800"/>
            <a:ext cx="215892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21"/>
          <p:cNvSpPr/>
          <p:nvPr/>
        </p:nvSpPr>
        <p:spPr>
          <a:xfrm>
            <a:off x="5724360" y="4494240"/>
            <a:ext cx="179640" cy="1792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2"/>
          <p:cNvSpPr/>
          <p:nvPr/>
        </p:nvSpPr>
        <p:spPr>
          <a:xfrm>
            <a:off x="1052640" y="4581360"/>
            <a:ext cx="467820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723600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4"/>
          <p:cNvGrpSpPr/>
          <p:nvPr/>
        </p:nvGrpSpPr>
        <p:grpSpPr>
          <a:xfrm>
            <a:off x="77760" y="996840"/>
            <a:ext cx="9066240" cy="1711440"/>
            <a:chOff x="77760" y="996840"/>
            <a:chExt cx="9066240" cy="1711440"/>
          </a:xfrm>
        </p:grpSpPr>
        <p:sp>
          <p:nvSpPr>
            <p:cNvPr id="373" name="AutoShape 25"/>
            <p:cNvSpPr/>
            <p:nvPr/>
          </p:nvSpPr>
          <p:spPr>
            <a:xfrm rot="16200000">
              <a:off x="3632760" y="-345240"/>
              <a:ext cx="1440000" cy="4318200"/>
            </a:xfrm>
            <a:prstGeom prst="can">
              <a:avLst>
                <a:gd name="adj" fmla="val 6069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2627280" y="1106640"/>
              <a:ext cx="108000" cy="10764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7"/>
            <p:cNvSpPr/>
            <p:nvPr/>
          </p:nvSpPr>
          <p:spPr>
            <a:xfrm>
              <a:off x="4346640" y="1316160"/>
              <a:ext cx="10800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"/>
            <p:cNvSpPr/>
            <p:nvPr/>
          </p:nvSpPr>
          <p:spPr>
            <a:xfrm>
              <a:off x="6084720" y="1773360"/>
              <a:ext cx="10800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9"/>
            <p:cNvSpPr/>
            <p:nvPr/>
          </p:nvSpPr>
          <p:spPr>
            <a:xfrm>
              <a:off x="2978280" y="2251080"/>
              <a:ext cx="10800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0"/>
            <p:cNvSpPr/>
            <p:nvPr/>
          </p:nvSpPr>
          <p:spPr>
            <a:xfrm>
              <a:off x="5003640" y="1700280"/>
              <a:ext cx="10800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"/>
            <p:cNvSpPr/>
            <p:nvPr/>
          </p:nvSpPr>
          <p:spPr>
            <a:xfrm>
              <a:off x="3924360" y="1773360"/>
              <a:ext cx="10800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2"/>
            <p:cNvSpPr/>
            <p:nvPr/>
          </p:nvSpPr>
          <p:spPr>
            <a:xfrm>
              <a:off x="2916360" y="1341360"/>
              <a:ext cx="10800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3"/>
            <p:cNvSpPr/>
            <p:nvPr/>
          </p:nvSpPr>
          <p:spPr>
            <a:xfrm>
              <a:off x="5857920" y="1119240"/>
              <a:ext cx="10800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4"/>
            <p:cNvSpPr/>
            <p:nvPr/>
          </p:nvSpPr>
          <p:spPr>
            <a:xfrm>
              <a:off x="4530600" y="2154240"/>
              <a:ext cx="10800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5"/>
            <p:cNvSpPr/>
            <p:nvPr/>
          </p:nvSpPr>
          <p:spPr>
            <a:xfrm>
              <a:off x="5435640" y="1881360"/>
              <a:ext cx="108000" cy="10764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6"/>
            <p:cNvSpPr/>
            <p:nvPr/>
          </p:nvSpPr>
          <p:spPr>
            <a:xfrm>
              <a:off x="5796000" y="2133720"/>
              <a:ext cx="10800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7"/>
            <p:cNvSpPr/>
            <p:nvPr/>
          </p:nvSpPr>
          <p:spPr>
            <a:xfrm>
              <a:off x="4356000" y="1881360"/>
              <a:ext cx="108000" cy="10764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8"/>
            <p:cNvSpPr/>
            <p:nvPr/>
          </p:nvSpPr>
          <p:spPr>
            <a:xfrm>
              <a:off x="7343640" y="1628640"/>
              <a:ext cx="180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Arial"/>
                </a:rPr>
                <a:t>Disminución de lu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39"/>
            <p:cNvSpPr/>
            <p:nvPr/>
          </p:nvSpPr>
          <p:spPr>
            <a:xfrm>
              <a:off x="1103400" y="1257480"/>
              <a:ext cx="6478560" cy="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0"/>
            <p:cNvSpPr/>
            <p:nvPr/>
          </p:nvSpPr>
          <p:spPr>
            <a:xfrm>
              <a:off x="1092240" y="2424240"/>
              <a:ext cx="64785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41"/>
            <p:cNvSpPr/>
            <p:nvPr/>
          </p:nvSpPr>
          <p:spPr>
            <a:xfrm>
              <a:off x="6756480" y="1392120"/>
              <a:ext cx="406440" cy="900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>
              <a:off x="1049400" y="1563840"/>
              <a:ext cx="57578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3"/>
            <p:cNvSpPr/>
            <p:nvPr/>
          </p:nvSpPr>
          <p:spPr>
            <a:xfrm>
              <a:off x="1042920" y="1844640"/>
              <a:ext cx="2016360" cy="863640"/>
            </a:xfrm>
            <a:custGeom>
              <a:avLst/>
              <a:gdLst/>
              <a:ahLst/>
              <a:rect l="l" t="t" r="r" b="b"/>
              <a:pathLst>
                <a:path w="1588" h="544">
                  <a:moveTo>
                    <a:pt x="0" y="0"/>
                  </a:moveTo>
                  <a:lnTo>
                    <a:pt x="1588" y="0"/>
                  </a:lnTo>
                  <a:lnTo>
                    <a:pt x="46" y="544"/>
                  </a:lnTo>
                </a:path>
              </a:pathLst>
            </a:custGeom>
            <a:noFill/>
            <a:ln w="63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4"/>
            <p:cNvSpPr/>
            <p:nvPr/>
          </p:nvSpPr>
          <p:spPr>
            <a:xfrm>
              <a:off x="1036800" y="996840"/>
              <a:ext cx="6049800" cy="1152720"/>
            </a:xfrm>
            <a:custGeom>
              <a:avLst/>
              <a:gdLst/>
              <a:ahLst/>
              <a:rect l="l" t="t" r="r" b="b"/>
              <a:pathLst>
                <a:path w="3811" h="726">
                  <a:moveTo>
                    <a:pt x="0" y="726"/>
                  </a:moveTo>
                  <a:lnTo>
                    <a:pt x="2223" y="726"/>
                  </a:lnTo>
                  <a:lnTo>
                    <a:pt x="3811" y="0"/>
                  </a:lnTo>
                </a:path>
              </a:pathLst>
            </a:custGeom>
            <a:noFill/>
            <a:ln w="255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5"/>
            <p:cNvSpPr/>
            <p:nvPr/>
          </p:nvSpPr>
          <p:spPr>
            <a:xfrm rot="16200000">
              <a:off x="6489000" y="165600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t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6"/>
            <p:cNvSpPr/>
            <p:nvPr/>
          </p:nvSpPr>
          <p:spPr>
            <a:xfrm>
              <a:off x="7184880" y="1598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7"/>
            <p:cNvSpPr/>
            <p:nvPr/>
          </p:nvSpPr>
          <p:spPr>
            <a:xfrm>
              <a:off x="4992840" y="1473120"/>
              <a:ext cx="179280" cy="1796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8"/>
            <p:cNvSpPr/>
            <p:nvPr/>
          </p:nvSpPr>
          <p:spPr>
            <a:xfrm>
              <a:off x="4164120" y="2055960"/>
              <a:ext cx="17928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49"/>
            <p:cNvSpPr/>
            <p:nvPr/>
          </p:nvSpPr>
          <p:spPr>
            <a:xfrm>
              <a:off x="5726160" y="2316240"/>
              <a:ext cx="17928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0"/>
            <p:cNvSpPr/>
            <p:nvPr/>
          </p:nvSpPr>
          <p:spPr>
            <a:xfrm>
              <a:off x="1046160" y="1560600"/>
              <a:ext cx="3959280" cy="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51"/>
            <p:cNvSpPr/>
            <p:nvPr/>
          </p:nvSpPr>
          <p:spPr>
            <a:xfrm>
              <a:off x="3456000" y="1738440"/>
              <a:ext cx="17928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2"/>
            <p:cNvSpPr/>
            <p:nvPr/>
          </p:nvSpPr>
          <p:spPr>
            <a:xfrm>
              <a:off x="3084480" y="1781280"/>
              <a:ext cx="10800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3"/>
            <p:cNvSpPr/>
            <p:nvPr/>
          </p:nvSpPr>
          <p:spPr>
            <a:xfrm>
              <a:off x="1052640" y="2408400"/>
              <a:ext cx="4678200" cy="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4"/>
            <p:cNvSpPr/>
            <p:nvPr/>
          </p:nvSpPr>
          <p:spPr>
            <a:xfrm>
              <a:off x="1036800" y="2146320"/>
              <a:ext cx="3130560" cy="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5"/>
            <p:cNvSpPr/>
            <p:nvPr/>
          </p:nvSpPr>
          <p:spPr>
            <a:xfrm>
              <a:off x="77760" y="103968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6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1" lang="es-ES_tradnl" sz="28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56"/>
          <p:cNvSpPr/>
          <p:nvPr/>
        </p:nvSpPr>
        <p:spPr>
          <a:xfrm>
            <a:off x="50760" y="318276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7"/>
          <p:cNvGrpSpPr/>
          <p:nvPr/>
        </p:nvGrpSpPr>
        <p:grpSpPr>
          <a:xfrm>
            <a:off x="0" y="5300640"/>
            <a:ext cx="9005760" cy="1557000"/>
            <a:chOff x="0" y="5300640"/>
            <a:chExt cx="9005760" cy="1557000"/>
          </a:xfrm>
        </p:grpSpPr>
        <p:sp>
          <p:nvSpPr>
            <p:cNvPr id="406" name="Text Box 58"/>
            <p:cNvSpPr/>
            <p:nvPr/>
          </p:nvSpPr>
          <p:spPr>
            <a:xfrm>
              <a:off x="7494480" y="587700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Arial"/>
                </a:rPr>
                <a:t>Aumento de lu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59"/>
            <p:cNvSpPr/>
            <p:nvPr/>
          </p:nvSpPr>
          <p:spPr>
            <a:xfrm rot="16200000">
              <a:off x="3489840" y="3862800"/>
              <a:ext cx="1440000" cy="4318200"/>
            </a:xfrm>
            <a:prstGeom prst="can">
              <a:avLst>
                <a:gd name="adj" fmla="val 6069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60"/>
            <p:cNvSpPr/>
            <p:nvPr/>
          </p:nvSpPr>
          <p:spPr>
            <a:xfrm>
              <a:off x="6613560" y="5511960"/>
              <a:ext cx="406440" cy="1008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1"/>
            <p:cNvSpPr/>
            <p:nvPr/>
          </p:nvSpPr>
          <p:spPr>
            <a:xfrm>
              <a:off x="900000" y="6296040"/>
              <a:ext cx="57578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62"/>
            <p:cNvSpPr/>
            <p:nvPr/>
          </p:nvSpPr>
          <p:spPr>
            <a:xfrm>
              <a:off x="901800" y="6016680"/>
              <a:ext cx="57578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63"/>
            <p:cNvSpPr/>
            <p:nvPr/>
          </p:nvSpPr>
          <p:spPr>
            <a:xfrm>
              <a:off x="906480" y="5740560"/>
              <a:ext cx="57578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4"/>
            <p:cNvSpPr/>
            <p:nvPr/>
          </p:nvSpPr>
          <p:spPr>
            <a:xfrm>
              <a:off x="3335400" y="5810400"/>
              <a:ext cx="144360" cy="10764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5"/>
            <p:cNvSpPr/>
            <p:nvPr/>
          </p:nvSpPr>
          <p:spPr>
            <a:xfrm>
              <a:off x="4203720" y="554184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6"/>
            <p:cNvSpPr/>
            <p:nvPr/>
          </p:nvSpPr>
          <p:spPr>
            <a:xfrm>
              <a:off x="4861080" y="581184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"/>
            <p:cNvSpPr/>
            <p:nvPr/>
          </p:nvSpPr>
          <p:spPr>
            <a:xfrm>
              <a:off x="2484360" y="6141960"/>
              <a:ext cx="14472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8"/>
            <p:cNvSpPr/>
            <p:nvPr/>
          </p:nvSpPr>
          <p:spPr>
            <a:xfrm>
              <a:off x="2773440" y="556740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9"/>
            <p:cNvSpPr/>
            <p:nvPr/>
          </p:nvSpPr>
          <p:spPr>
            <a:xfrm>
              <a:off x="3348000" y="638172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0"/>
            <p:cNvSpPr/>
            <p:nvPr/>
          </p:nvSpPr>
          <p:spPr>
            <a:xfrm>
              <a:off x="5292720" y="610704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1"/>
            <p:cNvSpPr/>
            <p:nvPr/>
          </p:nvSpPr>
          <p:spPr>
            <a:xfrm>
              <a:off x="4932360" y="638172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2"/>
            <p:cNvSpPr/>
            <p:nvPr/>
          </p:nvSpPr>
          <p:spPr>
            <a:xfrm>
              <a:off x="3995640" y="6093000"/>
              <a:ext cx="144720" cy="10764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3"/>
            <p:cNvSpPr/>
            <p:nvPr/>
          </p:nvSpPr>
          <p:spPr>
            <a:xfrm>
              <a:off x="880920" y="5457960"/>
              <a:ext cx="5688000" cy="720720"/>
            </a:xfrm>
            <a:custGeom>
              <a:avLst/>
              <a:gdLst/>
              <a:ahLst/>
              <a:rect l="l" t="t" r="r" b="b"/>
              <a:pathLst>
                <a:path w="3583" h="454">
                  <a:moveTo>
                    <a:pt x="0" y="0"/>
                  </a:moveTo>
                  <a:lnTo>
                    <a:pt x="3039" y="0"/>
                  </a:lnTo>
                  <a:lnTo>
                    <a:pt x="3583" y="454"/>
                  </a:lnTo>
                </a:path>
              </a:pathLst>
            </a:custGeom>
            <a:noFill/>
            <a:ln w="63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74"/>
            <p:cNvSpPr/>
            <p:nvPr/>
          </p:nvSpPr>
          <p:spPr>
            <a:xfrm>
              <a:off x="900000" y="6597720"/>
              <a:ext cx="64785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75"/>
            <p:cNvSpPr/>
            <p:nvPr/>
          </p:nvSpPr>
          <p:spPr>
            <a:xfrm rot="16200000">
              <a:off x="6345000" y="5904000"/>
              <a:ext cx="93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t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76"/>
            <p:cNvSpPr/>
            <p:nvPr/>
          </p:nvSpPr>
          <p:spPr>
            <a:xfrm>
              <a:off x="5216400" y="5643720"/>
              <a:ext cx="17964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7"/>
            <p:cNvSpPr/>
            <p:nvPr/>
          </p:nvSpPr>
          <p:spPr>
            <a:xfrm>
              <a:off x="4122720" y="6207120"/>
              <a:ext cx="17928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78"/>
            <p:cNvSpPr/>
            <p:nvPr/>
          </p:nvSpPr>
          <p:spPr>
            <a:xfrm>
              <a:off x="3241800" y="5925960"/>
              <a:ext cx="179280" cy="1796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79"/>
            <p:cNvSpPr/>
            <p:nvPr/>
          </p:nvSpPr>
          <p:spPr>
            <a:xfrm>
              <a:off x="5567400" y="6505560"/>
              <a:ext cx="17928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0"/>
            <p:cNvSpPr/>
            <p:nvPr/>
          </p:nvSpPr>
          <p:spPr>
            <a:xfrm>
              <a:off x="5683320" y="533232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0" y="31"/>
                  </a:moveTo>
                  <a:cubicBezTo>
                    <a:pt x="9" y="25"/>
                    <a:pt x="6" y="9"/>
                    <a:pt x="21" y="8"/>
                  </a:cubicBezTo>
                  <a:cubicBezTo>
                    <a:pt x="31" y="7"/>
                    <a:pt x="40" y="7"/>
                    <a:pt x="50" y="7"/>
                  </a:cubicBezTo>
                  <a:cubicBezTo>
                    <a:pt x="65" y="0"/>
                    <a:pt x="56" y="26"/>
                    <a:pt x="71" y="35"/>
                  </a:cubicBezTo>
                  <a:cubicBezTo>
                    <a:pt x="91" y="68"/>
                    <a:pt x="39" y="60"/>
                    <a:pt x="23" y="61"/>
                  </a:cubicBezTo>
                  <a:cubicBezTo>
                    <a:pt x="19" y="60"/>
                    <a:pt x="15" y="61"/>
                    <a:pt x="12" y="59"/>
                  </a:cubicBezTo>
                  <a:cubicBezTo>
                    <a:pt x="4" y="54"/>
                    <a:pt x="14" y="48"/>
                    <a:pt x="3" y="46"/>
                  </a:cubicBezTo>
                  <a:cubicBezTo>
                    <a:pt x="2" y="43"/>
                    <a:pt x="0" y="40"/>
                    <a:pt x="0" y="37"/>
                  </a:cubicBezTo>
                  <a:cubicBezTo>
                    <a:pt x="0" y="35"/>
                    <a:pt x="1" y="33"/>
                    <a:pt x="2" y="31"/>
                  </a:cubicBezTo>
                  <a:cubicBezTo>
                    <a:pt x="3" y="30"/>
                    <a:pt x="7" y="29"/>
                    <a:pt x="6" y="29"/>
                  </a:cubicBezTo>
                  <a:cubicBezTo>
                    <a:pt x="4" y="29"/>
                    <a:pt x="2" y="30"/>
                    <a:pt x="0" y="31"/>
                  </a:cubicBez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81"/>
            <p:cNvSpPr/>
            <p:nvPr/>
          </p:nvSpPr>
          <p:spPr>
            <a:xfrm>
              <a:off x="900000" y="6021360"/>
              <a:ext cx="2340000" cy="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82"/>
            <p:cNvSpPr/>
            <p:nvPr/>
          </p:nvSpPr>
          <p:spPr>
            <a:xfrm>
              <a:off x="887400" y="6302520"/>
              <a:ext cx="3238560" cy="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83"/>
            <p:cNvSpPr/>
            <p:nvPr/>
          </p:nvSpPr>
          <p:spPr>
            <a:xfrm>
              <a:off x="900000" y="6597720"/>
              <a:ext cx="4678560" cy="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84"/>
            <p:cNvSpPr/>
            <p:nvPr/>
          </p:nvSpPr>
          <p:spPr>
            <a:xfrm>
              <a:off x="903240" y="5737320"/>
              <a:ext cx="4318200" cy="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85"/>
            <p:cNvSpPr/>
            <p:nvPr/>
          </p:nvSpPr>
          <p:spPr>
            <a:xfrm>
              <a:off x="7016760" y="5475240"/>
              <a:ext cx="36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86"/>
            <p:cNvSpPr/>
            <p:nvPr/>
          </p:nvSpPr>
          <p:spPr>
            <a:xfrm>
              <a:off x="0" y="530064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6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1" lang="es-ES_tradnl" sz="28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87"/>
          <p:cNvSpPr/>
          <p:nvPr/>
        </p:nvSpPr>
        <p:spPr>
          <a:xfrm>
            <a:off x="683100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0" y="4148280"/>
            <a:ext cx="792000" cy="14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3500280"/>
            <a:ext cx="792000" cy="14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2924280"/>
            <a:ext cx="792000" cy="14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1182600" y="2852640"/>
            <a:ext cx="4613400" cy="158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651640" y="3213000"/>
            <a:ext cx="1368360" cy="935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9"/>
          <p:cNvSpPr/>
          <p:nvPr/>
        </p:nvSpPr>
        <p:spPr>
          <a:xfrm>
            <a:off x="1182600" y="3227400"/>
            <a:ext cx="4105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0"/>
          <p:cNvGrpSpPr/>
          <p:nvPr/>
        </p:nvGrpSpPr>
        <p:grpSpPr>
          <a:xfrm>
            <a:off x="5092200" y="3185640"/>
            <a:ext cx="360720" cy="936360"/>
            <a:chOff x="5092200" y="3185640"/>
            <a:chExt cx="360720" cy="936360"/>
          </a:xfrm>
        </p:grpSpPr>
        <p:sp>
          <p:nvSpPr>
            <p:cNvPr id="443" name="AutoShape 11"/>
            <p:cNvSpPr/>
            <p:nvPr/>
          </p:nvSpPr>
          <p:spPr>
            <a:xfrm>
              <a:off x="5092560" y="3197880"/>
              <a:ext cx="360360" cy="9241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924120"/>
                <a:gd name="textAreaBottom" fmla="*/ 32976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2"/>
            <p:cNvSpPr/>
            <p:nvPr/>
          </p:nvSpPr>
          <p:spPr>
            <a:xfrm rot="10800000">
              <a:off x="5092200" y="3185640"/>
              <a:ext cx="360360" cy="9241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924120"/>
                <a:gd name="textAreaBottom" fmla="*/ 32976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Oval 13"/>
          <p:cNvSpPr/>
          <p:nvPr/>
        </p:nvSpPr>
        <p:spPr>
          <a:xfrm>
            <a:off x="2840040" y="3427560"/>
            <a:ext cx="539640" cy="5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2881440" y="3573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5"/>
          <p:cNvSpPr/>
          <p:nvPr/>
        </p:nvSpPr>
        <p:spPr>
          <a:xfrm>
            <a:off x="4148280" y="3571920"/>
            <a:ext cx="21564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6"/>
          <p:cNvSpPr/>
          <p:nvPr/>
        </p:nvSpPr>
        <p:spPr>
          <a:xfrm>
            <a:off x="4267080" y="3297240"/>
            <a:ext cx="23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7"/>
          <p:cNvSpPr/>
          <p:nvPr/>
        </p:nvSpPr>
        <p:spPr>
          <a:xfrm rot="416400">
            <a:off x="4341600" y="3471840"/>
            <a:ext cx="441000" cy="7164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1173240" y="3327480"/>
            <a:ext cx="2232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608040" y="2637000"/>
            <a:ext cx="574560" cy="19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0"/>
          <p:cNvSpPr/>
          <p:nvPr/>
        </p:nvSpPr>
        <p:spPr>
          <a:xfrm>
            <a:off x="1268280" y="3500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átodo de Pl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1"/>
          <p:cNvSpPr/>
          <p:nvPr/>
        </p:nvSpPr>
        <p:spPr>
          <a:xfrm>
            <a:off x="4795920" y="2852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n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2"/>
          <p:cNvSpPr/>
          <p:nvPr/>
        </p:nvSpPr>
        <p:spPr>
          <a:xfrm>
            <a:off x="7446960" y="2892600"/>
            <a:ext cx="0" cy="1439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23"/>
          <p:cNvGrpSpPr/>
          <p:nvPr/>
        </p:nvGrpSpPr>
        <p:grpSpPr>
          <a:xfrm>
            <a:off x="6983280" y="3236760"/>
            <a:ext cx="511200" cy="422280"/>
            <a:chOff x="6983280" y="3236760"/>
            <a:chExt cx="511200" cy="422280"/>
          </a:xfrm>
        </p:grpSpPr>
        <p:sp>
          <p:nvSpPr>
            <p:cNvPr id="456" name="Text Box 24"/>
            <p:cNvSpPr/>
            <p:nvPr/>
          </p:nvSpPr>
          <p:spPr>
            <a:xfrm>
              <a:off x="6983280" y="32367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99ff"/>
                  </a:solidFill>
                  <a:latin typeface="Symbol"/>
                  <a:ea typeface="Symbol"/>
                </a:rPr>
                <a:t>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25"/>
            <p:cNvSpPr/>
            <p:nvPr/>
          </p:nvSpPr>
          <p:spPr>
            <a:xfrm>
              <a:off x="7134120" y="34128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99ff"/>
                  </a:solidFill>
                  <a:latin typeface="Arial"/>
                </a:rPr>
                <a:t>P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26"/>
          <p:cNvSpPr/>
          <p:nvPr/>
        </p:nvSpPr>
        <p:spPr>
          <a:xfrm>
            <a:off x="7236000" y="1484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EFECTO ZE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7"/>
          <p:cNvSpPr/>
          <p:nvPr/>
        </p:nvSpPr>
        <p:spPr>
          <a:xfrm>
            <a:off x="7494480" y="3021120"/>
            <a:ext cx="1382760" cy="1224000"/>
          </a:xfrm>
          <a:custGeom>
            <a:avLst/>
            <a:gdLst/>
            <a:ahLst/>
            <a:rect l="l" t="t" r="r" b="b"/>
            <a:pathLst>
              <a:path w="779" h="544">
                <a:moveTo>
                  <a:pt x="46" y="0"/>
                </a:moveTo>
                <a:cubicBezTo>
                  <a:pt x="31" y="49"/>
                  <a:pt x="16" y="98"/>
                  <a:pt x="137" y="136"/>
                </a:cubicBezTo>
                <a:cubicBezTo>
                  <a:pt x="258" y="174"/>
                  <a:pt x="765" y="196"/>
                  <a:pt x="772" y="226"/>
                </a:cubicBezTo>
                <a:cubicBezTo>
                  <a:pt x="779" y="256"/>
                  <a:pt x="303" y="287"/>
                  <a:pt x="182" y="317"/>
                </a:cubicBezTo>
                <a:cubicBezTo>
                  <a:pt x="61" y="347"/>
                  <a:pt x="76" y="370"/>
                  <a:pt x="46" y="408"/>
                </a:cubicBezTo>
                <a:cubicBezTo>
                  <a:pt x="16" y="446"/>
                  <a:pt x="8" y="495"/>
                  <a:pt x="0" y="5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8"/>
          <p:cNvSpPr/>
          <p:nvPr/>
        </p:nvSpPr>
        <p:spPr>
          <a:xfrm>
            <a:off x="7491240" y="3025800"/>
            <a:ext cx="1382760" cy="1224000"/>
          </a:xfrm>
          <a:custGeom>
            <a:avLst/>
            <a:gdLst/>
            <a:ahLst/>
            <a:rect l="l" t="t" r="r" b="b"/>
            <a:pathLst>
              <a:path w="779" h="544">
                <a:moveTo>
                  <a:pt x="46" y="0"/>
                </a:moveTo>
                <a:cubicBezTo>
                  <a:pt x="31" y="49"/>
                  <a:pt x="16" y="98"/>
                  <a:pt x="137" y="136"/>
                </a:cubicBezTo>
                <a:cubicBezTo>
                  <a:pt x="258" y="174"/>
                  <a:pt x="765" y="196"/>
                  <a:pt x="772" y="226"/>
                </a:cubicBezTo>
                <a:cubicBezTo>
                  <a:pt x="779" y="256"/>
                  <a:pt x="303" y="287"/>
                  <a:pt x="182" y="317"/>
                </a:cubicBezTo>
                <a:cubicBezTo>
                  <a:pt x="61" y="347"/>
                  <a:pt x="76" y="370"/>
                  <a:pt x="46" y="408"/>
                </a:cubicBezTo>
                <a:cubicBezTo>
                  <a:pt x="16" y="446"/>
                  <a:pt x="8" y="495"/>
                  <a:pt x="0" y="544"/>
                </a:cubicBezTo>
              </a:path>
            </a:pathLst>
          </a:custGeom>
          <a:noFill/>
          <a:ln w="255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29"/>
          <p:cNvGrpSpPr/>
          <p:nvPr/>
        </p:nvGrpSpPr>
        <p:grpSpPr>
          <a:xfrm>
            <a:off x="7740720" y="1916280"/>
            <a:ext cx="576360" cy="870840"/>
            <a:chOff x="7740720" y="1916280"/>
            <a:chExt cx="576360" cy="870840"/>
          </a:xfrm>
        </p:grpSpPr>
        <p:sp>
          <p:nvSpPr>
            <p:cNvPr id="462" name="Line 30"/>
            <p:cNvSpPr/>
            <p:nvPr/>
          </p:nvSpPr>
          <p:spPr>
            <a:xfrm>
              <a:off x="8020080" y="2284200"/>
              <a:ext cx="0" cy="502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31"/>
            <p:cNvSpPr/>
            <p:nvPr/>
          </p:nvSpPr>
          <p:spPr>
            <a:xfrm>
              <a:off x="7740720" y="19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ff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32"/>
          <p:cNvGrpSpPr/>
          <p:nvPr/>
        </p:nvGrpSpPr>
        <p:grpSpPr>
          <a:xfrm>
            <a:off x="3946680" y="5043600"/>
            <a:ext cx="2176200" cy="555480"/>
            <a:chOff x="3946680" y="5043600"/>
            <a:chExt cx="2176200" cy="555480"/>
          </a:xfrm>
        </p:grpSpPr>
        <p:grpSp>
          <p:nvGrpSpPr>
            <p:cNvPr id="465" name="Group 33"/>
            <p:cNvGrpSpPr/>
            <p:nvPr/>
          </p:nvGrpSpPr>
          <p:grpSpPr>
            <a:xfrm>
              <a:off x="3946680" y="5059440"/>
              <a:ext cx="539640" cy="539640"/>
              <a:chOff x="3946680" y="5059440"/>
              <a:chExt cx="539640" cy="539640"/>
            </a:xfrm>
          </p:grpSpPr>
          <p:sp>
            <p:nvSpPr>
              <p:cNvPr id="466" name="Oval 34"/>
              <p:cNvSpPr/>
              <p:nvPr/>
            </p:nvSpPr>
            <p:spPr>
              <a:xfrm>
                <a:off x="3946680" y="5059440"/>
                <a:ext cx="539640" cy="539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35"/>
              <p:cNvSpPr/>
              <p:nvPr/>
            </p:nvSpPr>
            <p:spPr>
              <a:xfrm>
                <a:off x="4035240" y="5153040"/>
                <a:ext cx="360000" cy="360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36"/>
            <p:cNvGrpSpPr/>
            <p:nvPr/>
          </p:nvGrpSpPr>
          <p:grpSpPr>
            <a:xfrm>
              <a:off x="4491000" y="5043600"/>
              <a:ext cx="540000" cy="539640"/>
              <a:chOff x="4491000" y="5043600"/>
              <a:chExt cx="540000" cy="539640"/>
            </a:xfrm>
          </p:grpSpPr>
          <p:sp>
            <p:nvSpPr>
              <p:cNvPr id="469" name="Oval 37"/>
              <p:cNvSpPr/>
              <p:nvPr/>
            </p:nvSpPr>
            <p:spPr>
              <a:xfrm>
                <a:off x="4491000" y="5043600"/>
                <a:ext cx="540000" cy="539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38"/>
              <p:cNvSpPr/>
              <p:nvPr/>
            </p:nvSpPr>
            <p:spPr>
              <a:xfrm>
                <a:off x="4579920" y="5137200"/>
                <a:ext cx="360360" cy="360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39"/>
            <p:cNvGrpSpPr/>
            <p:nvPr/>
          </p:nvGrpSpPr>
          <p:grpSpPr>
            <a:xfrm>
              <a:off x="5043600" y="5045040"/>
              <a:ext cx="539640" cy="539640"/>
              <a:chOff x="5043600" y="5045040"/>
              <a:chExt cx="539640" cy="539640"/>
            </a:xfrm>
          </p:grpSpPr>
          <p:sp>
            <p:nvSpPr>
              <p:cNvPr id="472" name="Oval 40"/>
              <p:cNvSpPr/>
              <p:nvPr/>
            </p:nvSpPr>
            <p:spPr>
              <a:xfrm>
                <a:off x="5043600" y="5045040"/>
                <a:ext cx="539640" cy="539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41"/>
              <p:cNvSpPr/>
              <p:nvPr/>
            </p:nvSpPr>
            <p:spPr>
              <a:xfrm>
                <a:off x="5132160" y="5138640"/>
                <a:ext cx="360000" cy="360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42"/>
            <p:cNvGrpSpPr/>
            <p:nvPr/>
          </p:nvGrpSpPr>
          <p:grpSpPr>
            <a:xfrm>
              <a:off x="5583240" y="5056200"/>
              <a:ext cx="539640" cy="539640"/>
              <a:chOff x="5583240" y="5056200"/>
              <a:chExt cx="539640" cy="539640"/>
            </a:xfrm>
          </p:grpSpPr>
          <p:sp>
            <p:nvSpPr>
              <p:cNvPr id="475" name="Oval 43"/>
              <p:cNvSpPr/>
              <p:nvPr/>
            </p:nvSpPr>
            <p:spPr>
              <a:xfrm>
                <a:off x="5583240" y="5056200"/>
                <a:ext cx="539640" cy="539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4"/>
              <p:cNvSpPr/>
              <p:nvPr/>
            </p:nvSpPr>
            <p:spPr>
              <a:xfrm>
                <a:off x="5671800" y="5149800"/>
                <a:ext cx="360000" cy="360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45"/>
          <p:cNvGrpSpPr/>
          <p:nvPr/>
        </p:nvGrpSpPr>
        <p:grpSpPr>
          <a:xfrm>
            <a:off x="3878280" y="1407960"/>
            <a:ext cx="2176200" cy="555480"/>
            <a:chOff x="3878280" y="1407960"/>
            <a:chExt cx="2176200" cy="555480"/>
          </a:xfrm>
        </p:grpSpPr>
        <p:grpSp>
          <p:nvGrpSpPr>
            <p:cNvPr id="478" name="Group 46"/>
            <p:cNvGrpSpPr/>
            <p:nvPr/>
          </p:nvGrpSpPr>
          <p:grpSpPr>
            <a:xfrm>
              <a:off x="3878280" y="1423800"/>
              <a:ext cx="539640" cy="539640"/>
              <a:chOff x="3878280" y="1423800"/>
              <a:chExt cx="539640" cy="539640"/>
            </a:xfrm>
          </p:grpSpPr>
          <p:sp>
            <p:nvSpPr>
              <p:cNvPr id="479" name="Oval 47"/>
              <p:cNvSpPr/>
              <p:nvPr/>
            </p:nvSpPr>
            <p:spPr>
              <a:xfrm>
                <a:off x="3878280" y="1423800"/>
                <a:ext cx="539640" cy="539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48"/>
              <p:cNvSpPr/>
              <p:nvPr/>
            </p:nvSpPr>
            <p:spPr>
              <a:xfrm>
                <a:off x="3966840" y="1517400"/>
                <a:ext cx="360000" cy="360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49"/>
            <p:cNvGrpSpPr/>
            <p:nvPr/>
          </p:nvGrpSpPr>
          <p:grpSpPr>
            <a:xfrm>
              <a:off x="4422600" y="1407960"/>
              <a:ext cx="540000" cy="539640"/>
              <a:chOff x="4422600" y="1407960"/>
              <a:chExt cx="540000" cy="539640"/>
            </a:xfrm>
          </p:grpSpPr>
          <p:sp>
            <p:nvSpPr>
              <p:cNvPr id="482" name="Oval 50"/>
              <p:cNvSpPr/>
              <p:nvPr/>
            </p:nvSpPr>
            <p:spPr>
              <a:xfrm>
                <a:off x="4422600" y="1407960"/>
                <a:ext cx="540000" cy="539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51"/>
              <p:cNvSpPr/>
              <p:nvPr/>
            </p:nvSpPr>
            <p:spPr>
              <a:xfrm>
                <a:off x="4511520" y="1501560"/>
                <a:ext cx="360360" cy="360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52"/>
            <p:cNvGrpSpPr/>
            <p:nvPr/>
          </p:nvGrpSpPr>
          <p:grpSpPr>
            <a:xfrm>
              <a:off x="4975200" y="1409400"/>
              <a:ext cx="539640" cy="539640"/>
              <a:chOff x="4975200" y="1409400"/>
              <a:chExt cx="539640" cy="539640"/>
            </a:xfrm>
          </p:grpSpPr>
          <p:sp>
            <p:nvSpPr>
              <p:cNvPr id="485" name="Oval 53"/>
              <p:cNvSpPr/>
              <p:nvPr/>
            </p:nvSpPr>
            <p:spPr>
              <a:xfrm>
                <a:off x="4975200" y="1409400"/>
                <a:ext cx="539640" cy="539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4"/>
              <p:cNvSpPr/>
              <p:nvPr/>
            </p:nvSpPr>
            <p:spPr>
              <a:xfrm>
                <a:off x="5063760" y="1503000"/>
                <a:ext cx="360000" cy="360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5"/>
            <p:cNvGrpSpPr/>
            <p:nvPr/>
          </p:nvGrpSpPr>
          <p:grpSpPr>
            <a:xfrm>
              <a:off x="5514840" y="1420560"/>
              <a:ext cx="539640" cy="539640"/>
              <a:chOff x="5514840" y="1420560"/>
              <a:chExt cx="539640" cy="539640"/>
            </a:xfrm>
          </p:grpSpPr>
          <p:sp>
            <p:nvSpPr>
              <p:cNvPr id="488" name="Oval 56"/>
              <p:cNvSpPr/>
              <p:nvPr/>
            </p:nvSpPr>
            <p:spPr>
              <a:xfrm>
                <a:off x="5514840" y="1420560"/>
                <a:ext cx="539640" cy="539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57"/>
              <p:cNvSpPr/>
              <p:nvPr/>
            </p:nvSpPr>
            <p:spPr>
              <a:xfrm>
                <a:off x="5603400" y="1514160"/>
                <a:ext cx="360000" cy="360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Text Box 58"/>
          <p:cNvSpPr/>
          <p:nvPr/>
        </p:nvSpPr>
        <p:spPr>
          <a:xfrm>
            <a:off x="179280" y="47628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CORRECCION DE INTERFERENCIAS ESPECTRALES POR EFECTO ZE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0"/>
          <p:cNvSpPr/>
          <p:nvPr/>
        </p:nvSpPr>
        <p:spPr>
          <a:xfrm>
            <a:off x="4067280" y="57340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Bobina Magn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1"/>
          <p:cNvSpPr/>
          <p:nvPr/>
        </p:nvSpPr>
        <p:spPr>
          <a:xfrm>
            <a:off x="683100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0.00139 0.00469 0.00324 0.00729 0.00417 C 0.00937 0.00648 0.01285 0.00718 0.01545 0.00764 C 0.02344 0.01111 0.03212 0.01412 0.04045 0.01458 C 0.0467 0.01597 0.05312 0.01528 0.05937 0.01574 C 0.06823 0.01551 0.07708 0.01667 0.08576 0.01505 C 0.09496 0.01319 0.10399 0.00741 0.11302 0.00532 C 0.1158 0.00324 0.1191 0.00231 0.12222 0.00116 C 0.12396 -0.00023 0.12621 -0.00139 0.12812 -0.00231 E">
                                      <p:cBhvr>
                                        <p:cTn id="392" dur="5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0.00139 0.00469 0.00324 0.00729 0.00417 C 0.00937 0.00648 0.01285 0.00718 0.01545 0.00764 C 0.02344 0.01111 0.03212 0.01412 0.04045 0.01458 C 0.0467 0.01597 0.05312 0.01528 0.05937 0.01574 C 0.06823 0.01551 0.07708 0.01667 0.08576 0.01505 C 0.09496 0.01319 0.10399 0.00741 0.11302 0.00532 C 0.1158 0.00324 0.1191 0.00231 0.12222 0.00116 C 0.12396 -0.00023 0.12621 -0.00139 0.12812 -0.00231 E">
                                      <p:cBhvr>
                                        <p:cTn id="394" dur="5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209 C -0.00312 0.00255 -0.00451 0.00463 -0.00642 0.00509 C -0.00833 0.00741 -0.01094 0.00857 -0.01302 0.01088 C -0.01354 0.01273 -0.01302 0.01088 -0.01406 0.0125 C -0.01493 0.01389 -0.0151 0.01621 -0.0158 0.01783 C -0.0158 0.01852 -0.01597 0.01898 -0.01615 0.01968 C -0.01615 0.02014 -0.01667 0.02153 -0.01667 0.02176 C -0.01684 0.02361 -0.01701 0.02431 -0.01701 0.02685 E">
                                      <p:cBhvr>
                                        <p:cTn id="405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L 0.46476 0.00533 E">
                                      <p:cBhvr>
                                        <p:cTn id="411" dur="5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812 -0.00231 C 0.125 0.00047 0.12222 0.00324 0.11875 0.00533 C 0.11475 0.00764 0.11024 0.00834 0.10625 0.01019 C 0.08645 0.00972 0.06753 0.00787 0.04791 0.00602 C 0.03593 0.00371 0.02395 0.00209 0.01197 -0.00023 C 0.00781 -2.59258999999999E-006 -0.00053 0.00047 -0.00053 0.0007 E">
                                      <p:cBhvr>
                                        <p:cTn id="415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0.00277 -0.00591 0.00555 -0.00938 0.00764 C -0.01337 0.00995 -0.01789 0.01064 -0.02188 0.0125 C -0.04167 0.01203 -0.06059 0.01018 -0.08021 0.00833 C -0.09219 0.00602 -0.10417 0.00439 -0.11615 0.00208 C -0.12032 0.00231 -0.12865 0.00277 -0.12865 0.00277 E">
                                      <p:cBhvr>
                                        <p:cTn id="417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67362E-019 L -2.5E-006 -0.04213 E">
                                      <p:cBhvr>
                                        <p:cTn id="438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5.55556E-006 L -5.27778E-006 0.03147 E">
                                      <p:cBhvr>
                                        <p:cTn id="440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4"/>
          <p:cNvSpPr/>
          <p:nvPr/>
        </p:nvSpPr>
        <p:spPr>
          <a:xfrm rot="16200000">
            <a:off x="3456720" y="8640"/>
            <a:ext cx="3527280" cy="7056360"/>
          </a:xfrm>
          <a:prstGeom prst="can">
            <a:avLst>
              <a:gd name="adj" fmla="val 4115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5"/>
          <p:cNvSpPr/>
          <p:nvPr/>
        </p:nvSpPr>
        <p:spPr>
          <a:xfrm>
            <a:off x="220680" y="2489040"/>
            <a:ext cx="1571760" cy="1584360"/>
          </a:xfrm>
          <a:custGeom>
            <a:avLst/>
            <a:gdLst/>
            <a:ahLst/>
            <a:rect l="l" t="t" r="r" b="b"/>
            <a:pathLst>
              <a:path w="862" h="817">
                <a:moveTo>
                  <a:pt x="83" y="0"/>
                </a:moveTo>
                <a:cubicBezTo>
                  <a:pt x="41" y="49"/>
                  <a:pt x="0" y="98"/>
                  <a:pt x="128" y="136"/>
                </a:cubicBezTo>
                <a:cubicBezTo>
                  <a:pt x="256" y="174"/>
                  <a:pt x="854" y="189"/>
                  <a:pt x="854" y="227"/>
                </a:cubicBezTo>
                <a:cubicBezTo>
                  <a:pt x="854" y="265"/>
                  <a:pt x="128" y="333"/>
                  <a:pt x="128" y="363"/>
                </a:cubicBezTo>
                <a:cubicBezTo>
                  <a:pt x="128" y="393"/>
                  <a:pt x="846" y="379"/>
                  <a:pt x="854" y="409"/>
                </a:cubicBezTo>
                <a:cubicBezTo>
                  <a:pt x="862" y="439"/>
                  <a:pt x="310" y="477"/>
                  <a:pt x="174" y="545"/>
                </a:cubicBezTo>
                <a:cubicBezTo>
                  <a:pt x="38" y="613"/>
                  <a:pt x="38" y="715"/>
                  <a:pt x="38" y="817"/>
                </a:cubicBezTo>
              </a:path>
            </a:pathLst>
          </a:custGeom>
          <a:noFill/>
          <a:ln w="255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6"/>
          <p:cNvSpPr/>
          <p:nvPr/>
        </p:nvSpPr>
        <p:spPr>
          <a:xfrm>
            <a:off x="414360" y="2637000"/>
            <a:ext cx="1382760" cy="1223640"/>
          </a:xfrm>
          <a:custGeom>
            <a:avLst/>
            <a:gdLst/>
            <a:ahLst/>
            <a:rect l="l" t="t" r="r" b="b"/>
            <a:pathLst>
              <a:path w="779" h="544">
                <a:moveTo>
                  <a:pt x="46" y="0"/>
                </a:moveTo>
                <a:cubicBezTo>
                  <a:pt x="31" y="49"/>
                  <a:pt x="16" y="98"/>
                  <a:pt x="137" y="136"/>
                </a:cubicBezTo>
                <a:cubicBezTo>
                  <a:pt x="258" y="174"/>
                  <a:pt x="765" y="196"/>
                  <a:pt x="772" y="226"/>
                </a:cubicBezTo>
                <a:cubicBezTo>
                  <a:pt x="779" y="256"/>
                  <a:pt x="303" y="287"/>
                  <a:pt x="182" y="317"/>
                </a:cubicBezTo>
                <a:cubicBezTo>
                  <a:pt x="61" y="347"/>
                  <a:pt x="76" y="370"/>
                  <a:pt x="46" y="408"/>
                </a:cubicBezTo>
                <a:cubicBezTo>
                  <a:pt x="16" y="446"/>
                  <a:pt x="8" y="495"/>
                  <a:pt x="0" y="544"/>
                </a:cubicBezTo>
              </a:path>
            </a:pathLst>
          </a:custGeom>
          <a:noFill/>
          <a:ln w="255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5076720" y="3087720"/>
            <a:ext cx="1684440" cy="187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8"/>
          <p:cNvSpPr/>
          <p:nvPr/>
        </p:nvSpPr>
        <p:spPr>
          <a:xfrm>
            <a:off x="4992840" y="2157480"/>
            <a:ext cx="36036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6659640" y="2421000"/>
            <a:ext cx="1944720" cy="877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2195640" y="3214800"/>
            <a:ext cx="6337080" cy="877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1"/>
          <p:cNvSpPr/>
          <p:nvPr/>
        </p:nvSpPr>
        <p:spPr>
          <a:xfrm>
            <a:off x="5046840" y="2813040"/>
            <a:ext cx="539640" cy="5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2"/>
          <p:cNvSpPr/>
          <p:nvPr/>
        </p:nvSpPr>
        <p:spPr>
          <a:xfrm>
            <a:off x="4356000" y="4884840"/>
            <a:ext cx="292320" cy="2998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5205240" y="4925880"/>
            <a:ext cx="23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14"/>
          <p:cNvSpPr/>
          <p:nvPr/>
        </p:nvSpPr>
        <p:spPr>
          <a:xfrm>
            <a:off x="5978520" y="4884840"/>
            <a:ext cx="291960" cy="299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5"/>
          <p:cNvGrpSpPr/>
          <p:nvPr/>
        </p:nvGrpSpPr>
        <p:grpSpPr>
          <a:xfrm>
            <a:off x="5040360" y="5032440"/>
            <a:ext cx="574560" cy="246240"/>
            <a:chOff x="5040360" y="5032440"/>
            <a:chExt cx="574560" cy="246240"/>
          </a:xfrm>
        </p:grpSpPr>
        <p:sp>
          <p:nvSpPr>
            <p:cNvPr id="505" name="Oval 16"/>
            <p:cNvSpPr/>
            <p:nvPr/>
          </p:nvSpPr>
          <p:spPr>
            <a:xfrm>
              <a:off x="5217840" y="5051520"/>
              <a:ext cx="216000" cy="21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7"/>
            <p:cNvSpPr/>
            <p:nvPr/>
          </p:nvSpPr>
          <p:spPr>
            <a:xfrm>
              <a:off x="5040360" y="503244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ahoma"/>
                </a:rPr>
                <a:t>P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Text Box 19"/>
          <p:cNvSpPr/>
          <p:nvPr/>
        </p:nvSpPr>
        <p:spPr>
          <a:xfrm>
            <a:off x="971640" y="40464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CORRECCION DE INTERFERENCIAS ESPECT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0"/>
          <p:cNvSpPr/>
          <p:nvPr/>
        </p:nvSpPr>
        <p:spPr>
          <a:xfrm>
            <a:off x="1042920" y="1125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EFECTO ZE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"/>
          <p:cNvSpPr/>
          <p:nvPr/>
        </p:nvSpPr>
        <p:spPr>
          <a:xfrm>
            <a:off x="683100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47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5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53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56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-0.00278 0.00417 -0.00417 0.00625 -0.00694 C 0.0066 -0.0088 0.00695 -0.01065 0.0073 -0.0125 C 0.00747 -0.01342 0.00782 -0.01528 0.00782 -0.01528 C 0.00695 -0.03148 0.0007 -0.04282 -0.00781 -0.05417 C -0.0092 -0.06134 -0.00677 -0.05116 -0.01198 -0.0618 C -0.01666 -0.07176 -0.01423 -0.06713 -0.01927 -0.07569 C -0.02482 -0.08518 -0.02812 -0.09676 -0.03281 -0.10694 C -0.03402 -0.11319 -0.03559 -0.11944 -0.03698 -0.12569 C -0.03767 -0.14467 -0.03767 -0.16319 -0.03177 -0.18055 C -0.02569 -0.19861 -0.01493 -0.2125 -0.00833 -0.22986 C -0.00468 -0.23958 -0.00295 -0.24768 -0.00104 -0.25833 C -0.00156 -0.29722 -0.00156 -0.28333 -0.00156 -0.3 E">
                                      <p:cBhvr>
                                        <p:cTn id="46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-0.00278 0.00417 -0.00417 0.00625 -0.00694 C 0.0066 -0.0088 0.00695 -0.01065 0.0073 -0.0125 C 0.00747 -0.01342 0.00782 -0.01528 0.00782 -0.01528 C 0.00695 -0.03148 0.0007 -0.04282 -0.00781 -0.05417 C -0.0092 -0.06134 -0.00677 -0.05116 -0.01198 -0.0618 C -0.01666 -0.07176 -0.01423 -0.06713 -0.01927 -0.07569 C -0.02482 -0.08518 -0.02812 -0.09676 -0.03281 -0.10694 C -0.03402 -0.11319 -0.03559 -0.11944 -0.03698 -0.12569 C -0.03767 -0.14467 -0.03767 -0.16319 -0.03177 -0.18055 C -0.02569 -0.19861 -0.01493 -0.2125 -0.00833 -0.22986 C -0.00468 -0.23958 -0.00295 -0.24768 -0.00104 -0.25833 C -0.00156 -0.29722 -0.00156 -0.28333 -0.00156 -0.3 E">
                                      <p:cBhvr>
                                        <p:cTn id="470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2.22222E-006 C 0.00399 -0.00695 0.0059 -0.00417 0.01128 -0.01875 C 0.01632 -0.05 0.0052 -0.09213 -0.00573 -0.11435 C -0.00747 -0.12523 -0.01042 -0.13658 -0.01337 -0.14607 C -0.01285 -0.15232 -0.01355 -0.15926 -0.01216 -0.16459 C -0.00625 -0.18403 0.02118 -0.18681 0.02968 -0.18843 C 0.0335 -0.18912 0.03732 -0.19028 0.04114 -0.19121 C 0.05382 -0.19977 0.06441 -0.21343 0.07517 -0.22824 C 0.07569 -0.23009 0.08142 -0.24352 0.08177 -0.24422 C 0.08507 -0.2544 0.08941 -0.27361 0.09236 -0.28403 C 0.09427 -0.29097 0.09236 -0.3 0.09236 -0.30764 E">
                                      <p:cBhvr>
                                        <p:cTn id="472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2.22222E-006 C 0.0059 -0.00903 0.00799 -0.01505 0.01094 -0.03033 C 0.00799 -0.04167 0.00504 -0.05509 -0.00121 -0.06389 C -0.0092 -0.07454 -0.01875 -0.07639 -0.02812 -0.08403 C -0.06892 -0.11621 -0.12361 -0.1132 -0.16892 -0.11736 C -0.18385 -0.12176 -0.19548 -0.13264 -0.21024 -0.1375 C -0.21962 -0.14722 -0.2276 -0.1581 -0.2368 -0.16759 C -0.24427 -0.19954 -0.2368 -0.21088 -0.2368 -0.24445 E">
                                      <p:cBhvr>
                                        <p:cTn id="474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0.74098 -3.33333E-006 E">
                                      <p:cBhvr>
                                        <p:cTn id="478" dur="5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0.68212 -0.00371 E">
                                      <p:cBhvr>
                                        <p:cTn id="486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-0.30046 C -0.00191 -0.30278 -0.00261 -0.3044 -0.00191 -0.30671 C -0.00139 -0.31065 0.00173 -0.31597 0.00451 -0.31667 C 0.00503 -0.31759 0.00555 -0.31783 0.00625 -0.31829 C 0.00694 -0.31898 0.00764 -0.31898 0.00833 -0.31945 C 0.00868 -0.31968 0.0092 -0.31968 0.0092 -0.31945 E">
                                      <p:cBhvr>
                                        <p:cTn id="488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4"/>
          <p:cNvSpPr/>
          <p:nvPr/>
        </p:nvSpPr>
        <p:spPr>
          <a:xfrm rot="16200000">
            <a:off x="3456720" y="8640"/>
            <a:ext cx="3527280" cy="7056360"/>
          </a:xfrm>
          <a:prstGeom prst="can">
            <a:avLst>
              <a:gd name="adj" fmla="val 4115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1258920" y="40464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CORRECCION DE INTERFERENCIAS QUI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7"/>
          <p:cNvSpPr/>
          <p:nvPr/>
        </p:nvSpPr>
        <p:spPr>
          <a:xfrm>
            <a:off x="4992840" y="2157480"/>
            <a:ext cx="36036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"/>
          <p:cNvSpPr/>
          <p:nvPr/>
        </p:nvSpPr>
        <p:spPr>
          <a:xfrm>
            <a:off x="3203640" y="4941720"/>
            <a:ext cx="252360" cy="252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9"/>
          <p:cNvSpPr/>
          <p:nvPr/>
        </p:nvSpPr>
        <p:spPr>
          <a:xfrm>
            <a:off x="1042920" y="1125360"/>
            <a:ext cx="216000" cy="216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10"/>
          <p:cNvGrpSpPr/>
          <p:nvPr/>
        </p:nvGrpSpPr>
        <p:grpSpPr>
          <a:xfrm>
            <a:off x="3276720" y="4941720"/>
            <a:ext cx="574560" cy="246240"/>
            <a:chOff x="3276720" y="4941720"/>
            <a:chExt cx="574560" cy="246240"/>
          </a:xfrm>
        </p:grpSpPr>
        <p:sp>
          <p:nvSpPr>
            <p:cNvPr id="516" name="Oval 11"/>
            <p:cNvSpPr/>
            <p:nvPr/>
          </p:nvSpPr>
          <p:spPr>
            <a:xfrm>
              <a:off x="3454200" y="4960800"/>
              <a:ext cx="216000" cy="21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2"/>
            <p:cNvSpPr/>
            <p:nvPr/>
          </p:nvSpPr>
          <p:spPr>
            <a:xfrm>
              <a:off x="3276720" y="494172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ahoma"/>
                </a:rPr>
                <a:t>P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Oval 13"/>
          <p:cNvSpPr/>
          <p:nvPr/>
        </p:nvSpPr>
        <p:spPr>
          <a:xfrm>
            <a:off x="6372360" y="4941720"/>
            <a:ext cx="252360" cy="25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4"/>
          <p:cNvGrpSpPr/>
          <p:nvPr/>
        </p:nvGrpSpPr>
        <p:grpSpPr>
          <a:xfrm>
            <a:off x="6445080" y="4941720"/>
            <a:ext cx="574560" cy="246240"/>
            <a:chOff x="6445080" y="4941720"/>
            <a:chExt cx="574560" cy="246240"/>
          </a:xfrm>
        </p:grpSpPr>
        <p:sp>
          <p:nvSpPr>
            <p:cNvPr id="520" name="Oval 15"/>
            <p:cNvSpPr/>
            <p:nvPr/>
          </p:nvSpPr>
          <p:spPr>
            <a:xfrm>
              <a:off x="6622560" y="4960800"/>
              <a:ext cx="216000" cy="21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6"/>
            <p:cNvSpPr/>
            <p:nvPr/>
          </p:nvSpPr>
          <p:spPr>
            <a:xfrm>
              <a:off x="6445080" y="494172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ahoma"/>
                </a:rPr>
                <a:t>P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Oval 17"/>
          <p:cNvSpPr/>
          <p:nvPr/>
        </p:nvSpPr>
        <p:spPr>
          <a:xfrm>
            <a:off x="8400960" y="849240"/>
            <a:ext cx="216000" cy="216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8"/>
          <p:cNvSpPr/>
          <p:nvPr/>
        </p:nvSpPr>
        <p:spPr>
          <a:xfrm>
            <a:off x="6516720" y="4951440"/>
            <a:ext cx="25236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9"/>
          <p:cNvGrpSpPr/>
          <p:nvPr/>
        </p:nvGrpSpPr>
        <p:grpSpPr>
          <a:xfrm>
            <a:off x="6589800" y="4951440"/>
            <a:ext cx="574560" cy="246240"/>
            <a:chOff x="6589800" y="4951440"/>
            <a:chExt cx="574560" cy="246240"/>
          </a:xfrm>
        </p:grpSpPr>
        <p:sp>
          <p:nvSpPr>
            <p:cNvPr id="525" name="Oval 20"/>
            <p:cNvSpPr/>
            <p:nvPr/>
          </p:nvSpPr>
          <p:spPr>
            <a:xfrm>
              <a:off x="6767280" y="4970520"/>
              <a:ext cx="216000" cy="21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6589800" y="495144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ahoma"/>
                </a:rPr>
                <a:t>P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22"/>
          <p:cNvSpPr/>
          <p:nvPr/>
        </p:nvSpPr>
        <p:spPr>
          <a:xfrm>
            <a:off x="683100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9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148E-006 L 0.43611 0.01667 L 0.44445 0.15741 L 0.21667 0.5537 E">
                                      <p:cBhvr>
                                        <p:cTn id="505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893 -0.00926 -0.03802 -0.0125 -0.05417 -0.02963 C -0.0566 -0.03588 -0.05955 -0.04213 -0.05834 -0.05 C -0.05712 -0.05764 -0.05243 -0.06319 -0.05 -0.07037 C -0.04896 -0.07338 -0.04914 -0.07755 -0.04723 -0.07963 C -0.04549 -0.08171 -0.04254 -0.08079 -0.04028 -0.08148 C -0.0349 -0.08611 -0.02986 -0.08866 -0.02361 -0.09074 C -0.01545 -0.11273 -0.01927 -0.09884 -0.02639 -0.14815 C -0.02726 -0.15394 -0.03056 -0.16482 -0.03056 -0.16482 C -0.01979 -0.17616 -0.00712 -0.18264 0.00416 -0.19259 C 0.01267 -0.20949 0.00694 -0.19583 0.00694 -0.23889 E">
                                      <p:cBhvr>
                                        <p:cTn id="509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441 0.55509 C 0.19548 0.54583 0.17639 0.54259 0.16024 0.52546 C 0.15781 0.51921 0.15486 0.51296 0.15607 0.50509 C 0.15729 0.49745 0.16198 0.4919 0.16441 0.48472 C 0.16545 0.48171 0.16528 0.47755 0.16719 0.47546 C 0.16892 0.47338 0.17187 0.47431 0.17413 0.47361 C 0.17951 0.46898 0.18455 0.46644 0.1908 0.46435 C 0.19896 0.44236 0.19514 0.45625 0.18802 0.40695 C 0.18715 0.40116 0.18385 0.39028 0.18385 0.39051 C 0.19462 0.37894 0.20729 0.37245 0.21857 0.3625 C 0.22708 0.3456 0.22135 0.35926 0.22135 0.3162 E">
                                      <p:cBhvr>
                                        <p:cTn id="511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C 0.01493 -0.01991 0.03229 -0.03218 0.05 -0.0463 C 0.05764 -0.05232 0.05469 -0.05255 0.0625 -0.06112 C 0.06788 -0.06713 0.07969 -0.07431 0.08333 -0.08149 C 0.08524 -0.08519 0.08889 -0.0926 0.08889 -0.0926 C 0.09062 -0.10163 0.09236 -0.10649 0.09722 -0.11297 C 0.09774 -0.11667 0.09844 -0.12038 0.09861 -0.12408 C 0.09948 -0.14514 0.09792 -0.16621 0.1 -0.18704 C 0.10017 -0.18843 0.11424 -0.19422 0.11944 -0.19815 C 0.13021 -0.20625 0.15868 -0.21528 0.16111 -0.23519 C 0.1618 -0.24075 0.16111 -0.2463 0.16111 -0.25186 E">
                                      <p:cBhvr>
                                        <p:cTn id="51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6 -0.0037 0.00504 -0.00695 0.00695 -0.01111 C 0.01059 -0.01921 0.00764 -0.02801 0.00278 -0.03333 C -0.00295 -0.03958 -0.01007 -0.04236 -0.01666 -0.0463 C -0.02344 -0.05023 -0.02864 -0.05579 -0.03472 -0.06111 C -0.0342 -0.06551 -0.03472 -0.07014 -0.03333 -0.07408 C -0.03264 -0.07616 -0.03073 -0.07685 -0.02916 -0.07778 C -0.02465 -0.08056 -0.01996 -0.08264 -0.01528 -0.08519 C 0.00295 -0.09491 0.02292 -0.09908 0.04167 -0.10741 C 0.04254 -0.10857 0.04861 -0.11597 0.04861 -0.11852 C 0.04861 -0.13079 0.04184 -0.14028 0.03472 -0.1463 C 0.02014 -0.1588 0.00226 -0.16019 -0.01389 -0.16667 C -0.03906 -0.17685 -0.02222 -0.17176 -0.0375 -0.17593 C -0.04618 -0.1838 -0.04566 -0.18773 -0.04305 -0.2037 C -0.04271 -0.20648 -0.04184 -0.20949 -0.04028 -0.21111 C -0.0375 -0.21389 -0.01753 -0.22546 -0.01528 -0.22593 C -0.0059 -0.22778 0.00313 -0.22986 0.0125 -0.23148 C 0.01893 -0.23264 0.03195 -0.22639 0.03195 -0.23519 C 0.03195 -0.2419 0.03195 -0.24884 0.03195 -0.25556 E">
                                      <p:cBhvr>
                                        <p:cTn id="519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6 -0.0037 0.00504 -0.00695 0.00695 -0.01111 C 0.01059 -0.01921 0.00764 -0.02801 0.00278 -0.03333 C -0.00295 -0.03958 -0.01007 -0.04236 -0.01666 -0.0463 C -0.02344 -0.05023 -0.02864 -0.05579 -0.03472 -0.06111 C -0.0342 -0.06551 -0.03472 -0.07014 -0.03333 -0.07408 C -0.03264 -0.07616 -0.03073 -0.07685 -0.02916 -0.07778 C -0.02465 -0.08056 -0.01996 -0.08264 -0.01528 -0.08519 C 0.00295 -0.09491 0.02292 -0.09908 0.04167 -0.10741 C 0.04254 -0.10857 0.04861 -0.11597 0.04861 -0.11852 C 0.04861 -0.13079 0.04184 -0.14028 0.03472 -0.1463 C 0.02014 -0.1588 0.00226 -0.16019 -0.01389 -0.16667 C -0.03906 -0.17685 -0.02222 -0.17176 -0.0375 -0.17593 C -0.04618 -0.1838 -0.04566 -0.18773 -0.04305 -0.2037 C -0.04271 -0.20648 -0.04184 -0.20949 -0.04028 -0.21111 C -0.0375 -0.21389 -0.01753 -0.22546 -0.01528 -0.22593 C -0.0059 -0.22778 0.00313 -0.22986 0.0125 -0.23148 C 0.01893 -0.23264 0.03195 -0.22639 0.03195 -0.23519 C 0.03195 -0.2419 0.03195 -0.24884 0.03195 -0.25556 E">
                                      <p:cBhvr>
                                        <p:cTn id="521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6 -3.33333E-006 L -0.33421 0.05903 L -0.354 0.20162 L -0.15608 0.60023 E">
                                      <p:cBhvr>
                                        <p:cTn id="535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C 0.00348 -0.02824 -0.01389 -0.03773 -0.03055 -0.04815 C -0.0408 -0.05463 -0.05798 -0.0676 -0.06805 -0.07037 C -0.07691 -0.07269 -0.08437 -0.0757 -0.09305 -0.07963 C -0.09705 -0.08148 -0.10034 -0.08496 -0.10416 -0.08704 C -0.1092 -0.08982 -0.11458 -0.09121 -0.11944 -0.09445 C -0.12395 -0.09746 -0.13194 -0.10556 -0.13194 -0.10556 C -0.14409 -0.13148 -0.1401 -0.11667 -0.1375 -0.16297 C -0.13732 -0.16551 -0.13698 -0.16806 -0.13611 -0.17037 C -0.13437 -0.17523 -0.13107 -0.17871 -0.12916 -0.18334 C -0.12586 -0.19144 -0.1243 -0.20093 -0.11944 -0.20741 C -0.1033 -0.22894 -0.08854 -0.25232 -0.07222 -0.27408 C -0.06232 -0.28727 -0.0559 -0.29977 -0.04722 -0.31482 C -0.04392 -0.3206 -0.04184 -0.32732 -0.03889 -0.33334 C -0.03767 -0.33565 -0.03333 -0.33704 -0.03333 -0.33704 E">
                                      <p:cBhvr>
                                        <p:cTn id="539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Oval 4"/>
          <p:cNvSpPr/>
          <p:nvPr/>
        </p:nvSpPr>
        <p:spPr>
          <a:xfrm>
            <a:off x="981000" y="1692360"/>
            <a:ext cx="3438720" cy="4565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5"/>
          <p:cNvSpPr/>
          <p:nvPr/>
        </p:nvSpPr>
        <p:spPr>
          <a:xfrm>
            <a:off x="1979640" y="3637080"/>
            <a:ext cx="1440000" cy="2816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6"/>
          <p:cNvSpPr/>
          <p:nvPr/>
        </p:nvSpPr>
        <p:spPr>
          <a:xfrm>
            <a:off x="2239920" y="3879720"/>
            <a:ext cx="539640" cy="54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2290680" y="40258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2390760" y="4043520"/>
            <a:ext cx="216000" cy="21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2390760" y="3767040"/>
            <a:ext cx="23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0"/>
          <p:cNvSpPr/>
          <p:nvPr/>
        </p:nvSpPr>
        <p:spPr>
          <a:xfrm rot="416400">
            <a:off x="2606400" y="3995640"/>
            <a:ext cx="441360" cy="7164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1"/>
          <p:cNvGrpSpPr/>
          <p:nvPr/>
        </p:nvGrpSpPr>
        <p:grpSpPr>
          <a:xfrm>
            <a:off x="3943440" y="4040280"/>
            <a:ext cx="431640" cy="246240"/>
            <a:chOff x="3943440" y="4040280"/>
            <a:chExt cx="431640" cy="246240"/>
          </a:xfrm>
        </p:grpSpPr>
        <p:sp>
          <p:nvSpPr>
            <p:cNvPr id="536" name="Oval 12"/>
            <p:cNvSpPr/>
            <p:nvPr/>
          </p:nvSpPr>
          <p:spPr>
            <a:xfrm>
              <a:off x="4044960" y="4050000"/>
              <a:ext cx="215280" cy="21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3943440" y="40402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ahoma"/>
                </a:rPr>
                <a:t>P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14"/>
          <p:cNvSpPr/>
          <p:nvPr/>
        </p:nvSpPr>
        <p:spPr>
          <a:xfrm>
            <a:off x="4067280" y="3924360"/>
            <a:ext cx="23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5"/>
          <p:cNvSpPr/>
          <p:nvPr/>
        </p:nvSpPr>
        <p:spPr>
          <a:xfrm>
            <a:off x="3886200" y="3871800"/>
            <a:ext cx="539640" cy="54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1192320" y="645804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ZONA CALIENTE DE LA LL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2700360" y="549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AUTOABSOR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4284720" y="28526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ZONA FRÍA DE LA LL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0"/>
          <p:cNvSpPr/>
          <p:nvPr/>
        </p:nvSpPr>
        <p:spPr>
          <a:xfrm>
            <a:off x="8172360" y="3213000"/>
            <a:ext cx="503280" cy="19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1"/>
          <p:cNvSpPr/>
          <p:nvPr/>
        </p:nvSpPr>
        <p:spPr>
          <a:xfrm rot="16200000">
            <a:off x="7289640" y="3987720"/>
            <a:ext cx="22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7118280" y="0"/>
            <a:ext cx="2025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4140360" y="1484280"/>
            <a:ext cx="46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Fenómeno importante a elevadas concent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4.07407E-006 C 0.00347 0.00231 0.00816 0.00694 0.00677 0.01319 C 0.00747 0.01805 0.00469 0.02361 0.0033 0.02731 E">
                                      <p:cBhvr>
                                        <p:cTn id="545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0231 L 0.14115 0.00787 E">
                                      <p:cBhvr>
                                        <p:cTn id="551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44 C -0.0033 0.00093 -0.00695 -0.00509 -0.00451 -0.01042 C -0.00417 -0.01574 -0.00052 -0.01991 0.00139 -0.02315 E">
                                      <p:cBhvr>
                                        <p:cTn id="558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4"/>
          <p:cNvSpPr/>
          <p:nvPr/>
        </p:nvSpPr>
        <p:spPr>
          <a:xfrm>
            <a:off x="7118280" y="0"/>
            <a:ext cx="2025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6"/>
          <p:cNvSpPr/>
          <p:nvPr/>
        </p:nvSpPr>
        <p:spPr>
          <a:xfrm>
            <a:off x="1233360" y="5103720"/>
            <a:ext cx="3024360" cy="331920"/>
          </a:xfrm>
          <a:custGeom>
            <a:avLst/>
            <a:gdLst/>
            <a:ahLst/>
            <a:rect l="l" t="t" r="r" b="b"/>
            <a:pathLst>
              <a:path w="4603" h="209">
                <a:moveTo>
                  <a:pt x="0" y="113"/>
                </a:moveTo>
                <a:cubicBezTo>
                  <a:pt x="8" y="110"/>
                  <a:pt x="17" y="109"/>
                  <a:pt x="24" y="105"/>
                </a:cubicBezTo>
                <a:cubicBezTo>
                  <a:pt x="41" y="96"/>
                  <a:pt x="53" y="73"/>
                  <a:pt x="72" y="73"/>
                </a:cubicBezTo>
                <a:cubicBezTo>
                  <a:pt x="285" y="70"/>
                  <a:pt x="499" y="68"/>
                  <a:pt x="712" y="65"/>
                </a:cubicBezTo>
                <a:cubicBezTo>
                  <a:pt x="931" y="82"/>
                  <a:pt x="943" y="79"/>
                  <a:pt x="1256" y="73"/>
                </a:cubicBezTo>
                <a:cubicBezTo>
                  <a:pt x="1328" y="67"/>
                  <a:pt x="1361" y="62"/>
                  <a:pt x="1424" y="49"/>
                </a:cubicBezTo>
                <a:cubicBezTo>
                  <a:pt x="1550" y="62"/>
                  <a:pt x="1567" y="65"/>
                  <a:pt x="1664" y="97"/>
                </a:cubicBezTo>
                <a:cubicBezTo>
                  <a:pt x="1763" y="77"/>
                  <a:pt x="1685" y="91"/>
                  <a:pt x="1880" y="73"/>
                </a:cubicBezTo>
                <a:cubicBezTo>
                  <a:pt x="1907" y="70"/>
                  <a:pt x="1960" y="65"/>
                  <a:pt x="1960" y="65"/>
                </a:cubicBezTo>
                <a:cubicBezTo>
                  <a:pt x="2219" y="0"/>
                  <a:pt x="2482" y="38"/>
                  <a:pt x="2736" y="89"/>
                </a:cubicBezTo>
                <a:cubicBezTo>
                  <a:pt x="2829" y="86"/>
                  <a:pt x="2923" y="86"/>
                  <a:pt x="3016" y="81"/>
                </a:cubicBezTo>
                <a:cubicBezTo>
                  <a:pt x="3080" y="78"/>
                  <a:pt x="3019" y="73"/>
                  <a:pt x="3072" y="49"/>
                </a:cubicBezTo>
                <a:cubicBezTo>
                  <a:pt x="3092" y="40"/>
                  <a:pt x="3115" y="38"/>
                  <a:pt x="3136" y="33"/>
                </a:cubicBezTo>
                <a:cubicBezTo>
                  <a:pt x="3147" y="30"/>
                  <a:pt x="3168" y="25"/>
                  <a:pt x="3168" y="25"/>
                </a:cubicBezTo>
                <a:cubicBezTo>
                  <a:pt x="3622" y="90"/>
                  <a:pt x="4077" y="80"/>
                  <a:pt x="4536" y="89"/>
                </a:cubicBezTo>
                <a:cubicBezTo>
                  <a:pt x="4544" y="94"/>
                  <a:pt x="4551" y="101"/>
                  <a:pt x="4560" y="105"/>
                </a:cubicBezTo>
                <a:cubicBezTo>
                  <a:pt x="4570" y="109"/>
                  <a:pt x="4603" y="113"/>
                  <a:pt x="4592" y="113"/>
                </a:cubicBezTo>
                <a:cubicBezTo>
                  <a:pt x="4413" y="119"/>
                  <a:pt x="4235" y="118"/>
                  <a:pt x="4056" y="121"/>
                </a:cubicBezTo>
                <a:cubicBezTo>
                  <a:pt x="3888" y="127"/>
                  <a:pt x="3758" y="139"/>
                  <a:pt x="3592" y="145"/>
                </a:cubicBezTo>
                <a:cubicBezTo>
                  <a:pt x="3244" y="177"/>
                  <a:pt x="3642" y="143"/>
                  <a:pt x="2760" y="161"/>
                </a:cubicBezTo>
                <a:cubicBezTo>
                  <a:pt x="2716" y="162"/>
                  <a:pt x="2658" y="191"/>
                  <a:pt x="2616" y="201"/>
                </a:cubicBezTo>
                <a:cubicBezTo>
                  <a:pt x="2605" y="204"/>
                  <a:pt x="2584" y="209"/>
                  <a:pt x="2584" y="209"/>
                </a:cubicBezTo>
                <a:cubicBezTo>
                  <a:pt x="2104" y="195"/>
                  <a:pt x="1624" y="185"/>
                  <a:pt x="1144" y="169"/>
                </a:cubicBezTo>
                <a:cubicBezTo>
                  <a:pt x="831" y="102"/>
                  <a:pt x="233" y="146"/>
                  <a:pt x="80" y="145"/>
                </a:cubicBezTo>
                <a:cubicBezTo>
                  <a:pt x="78" y="144"/>
                  <a:pt x="29" y="133"/>
                  <a:pt x="24" y="129"/>
                </a:cubicBezTo>
                <a:cubicBezTo>
                  <a:pt x="16" y="123"/>
                  <a:pt x="16" y="110"/>
                  <a:pt x="8" y="105"/>
                </a:cubicBezTo>
                <a:cubicBezTo>
                  <a:pt x="5" y="103"/>
                  <a:pt x="3" y="110"/>
                  <a:pt x="0" y="113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611280" y="5300640"/>
            <a:ext cx="3717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8"/>
          <p:cNvGrpSpPr/>
          <p:nvPr/>
        </p:nvGrpSpPr>
        <p:grpSpPr>
          <a:xfrm>
            <a:off x="1809720" y="4365720"/>
            <a:ext cx="647640" cy="792000"/>
            <a:chOff x="1809720" y="4365720"/>
            <a:chExt cx="647640" cy="792000"/>
          </a:xfrm>
        </p:grpSpPr>
        <p:sp>
          <p:nvSpPr>
            <p:cNvPr id="551" name="Oval 9"/>
            <p:cNvSpPr/>
            <p:nvPr/>
          </p:nvSpPr>
          <p:spPr>
            <a:xfrm>
              <a:off x="2025720" y="494172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0"/>
            <p:cNvSpPr/>
            <p:nvPr/>
          </p:nvSpPr>
          <p:spPr>
            <a:xfrm>
              <a:off x="1881360" y="472428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1"/>
            <p:cNvSpPr/>
            <p:nvPr/>
          </p:nvSpPr>
          <p:spPr>
            <a:xfrm>
              <a:off x="2241720" y="465300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2"/>
            <p:cNvSpPr/>
            <p:nvPr/>
          </p:nvSpPr>
          <p:spPr>
            <a:xfrm>
              <a:off x="1954080" y="4508640"/>
              <a:ext cx="71640" cy="72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3"/>
            <p:cNvSpPr/>
            <p:nvPr/>
          </p:nvSpPr>
          <p:spPr>
            <a:xfrm>
              <a:off x="2170080" y="4437000"/>
              <a:ext cx="7164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4"/>
            <p:cNvSpPr/>
            <p:nvPr/>
          </p:nvSpPr>
          <p:spPr>
            <a:xfrm>
              <a:off x="2097000" y="4724280"/>
              <a:ext cx="7164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5"/>
            <p:cNvSpPr/>
            <p:nvPr/>
          </p:nvSpPr>
          <p:spPr>
            <a:xfrm>
              <a:off x="2241720" y="494172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6"/>
            <p:cNvSpPr/>
            <p:nvPr/>
          </p:nvSpPr>
          <p:spPr>
            <a:xfrm>
              <a:off x="2386080" y="479736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7"/>
            <p:cNvSpPr/>
            <p:nvPr/>
          </p:nvSpPr>
          <p:spPr>
            <a:xfrm>
              <a:off x="1809720" y="4437000"/>
              <a:ext cx="7164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18"/>
            <p:cNvSpPr/>
            <p:nvPr/>
          </p:nvSpPr>
          <p:spPr>
            <a:xfrm>
              <a:off x="2386080" y="4508640"/>
              <a:ext cx="71280" cy="72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9"/>
            <p:cNvSpPr/>
            <p:nvPr/>
          </p:nvSpPr>
          <p:spPr>
            <a:xfrm>
              <a:off x="2025720" y="436572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20"/>
            <p:cNvSpPr/>
            <p:nvPr/>
          </p:nvSpPr>
          <p:spPr>
            <a:xfrm>
              <a:off x="2025720" y="508464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Text Box 21"/>
          <p:cNvSpPr/>
          <p:nvPr/>
        </p:nvSpPr>
        <p:spPr>
          <a:xfrm>
            <a:off x="2700360" y="692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DESCARGA LUMINIS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1206360" y="1484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184640" y="2492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R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4"/>
          <p:cNvSpPr/>
          <p:nvPr/>
        </p:nvSpPr>
        <p:spPr>
          <a:xfrm>
            <a:off x="1592280" y="3289320"/>
            <a:ext cx="3240000" cy="3168720"/>
          </a:xfrm>
          <a:custGeom>
            <a:avLst/>
            <a:gdLst/>
            <a:ahLst/>
            <a:rect l="l" t="t" r="r" b="b"/>
            <a:pathLst>
              <a:path w="2041" h="1996">
                <a:moveTo>
                  <a:pt x="0" y="1179"/>
                </a:moveTo>
                <a:lnTo>
                  <a:pt x="0" y="0"/>
                </a:lnTo>
                <a:lnTo>
                  <a:pt x="2041" y="0"/>
                </a:lnTo>
                <a:lnTo>
                  <a:pt x="2041" y="1996"/>
                </a:lnTo>
                <a:lnTo>
                  <a:pt x="0" y="1996"/>
                </a:lnTo>
                <a:lnTo>
                  <a:pt x="0" y="1497"/>
                </a:lnTo>
              </a:path>
            </a:pathLst>
          </a:custGeom>
          <a:noFill/>
          <a:ln w="190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4545000" y="3030480"/>
            <a:ext cx="108000" cy="360360"/>
          </a:xfrm>
          <a:prstGeom prst="rec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6"/>
          <p:cNvSpPr/>
          <p:nvPr/>
        </p:nvSpPr>
        <p:spPr>
          <a:xfrm>
            <a:off x="4591080" y="2784600"/>
            <a:ext cx="0" cy="8650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7"/>
          <p:cNvSpPr/>
          <p:nvPr/>
        </p:nvSpPr>
        <p:spPr>
          <a:xfrm>
            <a:off x="4735440" y="4737240"/>
            <a:ext cx="719280" cy="107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8"/>
          <p:cNvSpPr/>
          <p:nvPr/>
        </p:nvSpPr>
        <p:spPr>
          <a:xfrm>
            <a:off x="655560" y="1844640"/>
            <a:ext cx="720720" cy="3529080"/>
          </a:xfrm>
          <a:custGeom>
            <a:avLst/>
            <a:gdLst/>
            <a:ahLst/>
            <a:rect l="l" t="t" r="r" b="b"/>
            <a:pathLst>
              <a:path w="454" h="2223">
                <a:moveTo>
                  <a:pt x="0" y="2223"/>
                </a:moveTo>
                <a:lnTo>
                  <a:pt x="0" y="318"/>
                </a:lnTo>
                <a:lnTo>
                  <a:pt x="454" y="318"/>
                </a:lnTo>
                <a:lnTo>
                  <a:pt x="454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9"/>
          <p:cNvSpPr/>
          <p:nvPr/>
        </p:nvSpPr>
        <p:spPr>
          <a:xfrm>
            <a:off x="1665360" y="1916280"/>
            <a:ext cx="503280" cy="1368360"/>
          </a:xfrm>
          <a:custGeom>
            <a:avLst/>
            <a:gdLst/>
            <a:ahLst/>
            <a:rect l="l" t="t" r="r" b="b"/>
            <a:pathLst>
              <a:path w="317" h="862">
                <a:moveTo>
                  <a:pt x="317" y="862"/>
                </a:moveTo>
                <a:lnTo>
                  <a:pt x="317" y="273"/>
                </a:lnTo>
                <a:lnTo>
                  <a:pt x="0" y="27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30"/>
          <p:cNvGrpSpPr/>
          <p:nvPr/>
        </p:nvGrpSpPr>
        <p:grpSpPr>
          <a:xfrm>
            <a:off x="2816280" y="4221000"/>
            <a:ext cx="533520" cy="367200"/>
            <a:chOff x="2816280" y="4221000"/>
            <a:chExt cx="533520" cy="367200"/>
          </a:xfrm>
        </p:grpSpPr>
        <p:sp>
          <p:nvSpPr>
            <p:cNvPr id="573" name="Text Box 31"/>
            <p:cNvSpPr/>
            <p:nvPr/>
          </p:nvSpPr>
          <p:spPr>
            <a:xfrm>
              <a:off x="2816280" y="4281120"/>
              <a:ext cx="5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66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2"/>
            <p:cNvSpPr/>
            <p:nvPr/>
          </p:nvSpPr>
          <p:spPr>
            <a:xfrm>
              <a:off x="3043440" y="4221000"/>
              <a:ext cx="30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66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33"/>
          <p:cNvGrpSpPr/>
          <p:nvPr/>
        </p:nvGrpSpPr>
        <p:grpSpPr>
          <a:xfrm>
            <a:off x="3897360" y="3645000"/>
            <a:ext cx="533520" cy="367200"/>
            <a:chOff x="3897360" y="3645000"/>
            <a:chExt cx="533520" cy="367200"/>
          </a:xfrm>
        </p:grpSpPr>
        <p:sp>
          <p:nvSpPr>
            <p:cNvPr id="576" name="Text Box 34"/>
            <p:cNvSpPr/>
            <p:nvPr/>
          </p:nvSpPr>
          <p:spPr>
            <a:xfrm>
              <a:off x="3897360" y="3705120"/>
              <a:ext cx="5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66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5"/>
            <p:cNvSpPr/>
            <p:nvPr/>
          </p:nvSpPr>
          <p:spPr>
            <a:xfrm>
              <a:off x="4124520" y="3645000"/>
              <a:ext cx="30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66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36"/>
          <p:cNvGrpSpPr/>
          <p:nvPr/>
        </p:nvGrpSpPr>
        <p:grpSpPr>
          <a:xfrm>
            <a:off x="2023920" y="3789360"/>
            <a:ext cx="533520" cy="367200"/>
            <a:chOff x="2023920" y="3789360"/>
            <a:chExt cx="533520" cy="367200"/>
          </a:xfrm>
        </p:grpSpPr>
        <p:sp>
          <p:nvSpPr>
            <p:cNvPr id="579" name="Text Box 37"/>
            <p:cNvSpPr/>
            <p:nvPr/>
          </p:nvSpPr>
          <p:spPr>
            <a:xfrm>
              <a:off x="2023920" y="3849480"/>
              <a:ext cx="5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66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38"/>
            <p:cNvSpPr/>
            <p:nvPr/>
          </p:nvSpPr>
          <p:spPr>
            <a:xfrm>
              <a:off x="2251080" y="3789360"/>
              <a:ext cx="30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66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39"/>
          <p:cNvSpPr/>
          <p:nvPr/>
        </p:nvSpPr>
        <p:spPr>
          <a:xfrm>
            <a:off x="1536840" y="1494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0"/>
          <p:cNvSpPr/>
          <p:nvPr/>
        </p:nvSpPr>
        <p:spPr>
          <a:xfrm>
            <a:off x="1808280" y="573408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HISPORROT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1"/>
          <p:cNvSpPr/>
          <p:nvPr/>
        </p:nvSpPr>
        <p:spPr>
          <a:xfrm>
            <a:off x="4113360" y="479736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42"/>
          <p:cNvGrpSpPr/>
          <p:nvPr/>
        </p:nvGrpSpPr>
        <p:grpSpPr>
          <a:xfrm>
            <a:off x="6288480" y="4339440"/>
            <a:ext cx="1022760" cy="916560"/>
            <a:chOff x="6288480" y="4339440"/>
            <a:chExt cx="1022760" cy="916560"/>
          </a:xfrm>
        </p:grpSpPr>
        <p:sp>
          <p:nvSpPr>
            <p:cNvPr id="585" name="Freeform 43"/>
            <p:cNvSpPr/>
            <p:nvPr/>
          </p:nvSpPr>
          <p:spPr>
            <a:xfrm rot="416400">
              <a:off x="6435360" y="4365720"/>
              <a:ext cx="441360" cy="71280"/>
            </a:xfrm>
            <a:custGeom>
              <a:avLst/>
              <a:gdLst/>
              <a:ahLst/>
              <a:rect l="l" t="t" r="r" b="b"/>
              <a:pathLst>
                <a:path w="817" h="136">
                  <a:moveTo>
                    <a:pt x="0" y="136"/>
                  </a:moveTo>
                  <a:cubicBezTo>
                    <a:pt x="64" y="91"/>
                    <a:pt x="129" y="46"/>
                    <a:pt x="182" y="46"/>
                  </a:cubicBezTo>
                  <a:cubicBezTo>
                    <a:pt x="235" y="46"/>
                    <a:pt x="273" y="136"/>
                    <a:pt x="318" y="136"/>
                  </a:cubicBezTo>
                  <a:cubicBezTo>
                    <a:pt x="363" y="136"/>
                    <a:pt x="409" y="46"/>
                    <a:pt x="454" y="46"/>
                  </a:cubicBezTo>
                  <a:cubicBezTo>
                    <a:pt x="499" y="46"/>
                    <a:pt x="552" y="136"/>
                    <a:pt x="590" y="136"/>
                  </a:cubicBezTo>
                  <a:cubicBezTo>
                    <a:pt x="628" y="136"/>
                    <a:pt x="642" y="69"/>
                    <a:pt x="680" y="46"/>
                  </a:cubicBezTo>
                  <a:cubicBezTo>
                    <a:pt x="718" y="23"/>
                    <a:pt x="767" y="11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4"/>
            <p:cNvSpPr/>
            <p:nvPr/>
          </p:nvSpPr>
          <p:spPr>
            <a:xfrm rot="416400">
              <a:off x="6291000" y="4797360"/>
              <a:ext cx="441360" cy="71640"/>
            </a:xfrm>
            <a:custGeom>
              <a:avLst/>
              <a:gdLst/>
              <a:ahLst/>
              <a:rect l="l" t="t" r="r" b="b"/>
              <a:pathLst>
                <a:path w="817" h="136">
                  <a:moveTo>
                    <a:pt x="0" y="136"/>
                  </a:moveTo>
                  <a:cubicBezTo>
                    <a:pt x="64" y="91"/>
                    <a:pt x="129" y="46"/>
                    <a:pt x="182" y="46"/>
                  </a:cubicBezTo>
                  <a:cubicBezTo>
                    <a:pt x="235" y="46"/>
                    <a:pt x="273" y="136"/>
                    <a:pt x="318" y="136"/>
                  </a:cubicBezTo>
                  <a:cubicBezTo>
                    <a:pt x="363" y="136"/>
                    <a:pt x="409" y="46"/>
                    <a:pt x="454" y="46"/>
                  </a:cubicBezTo>
                  <a:cubicBezTo>
                    <a:pt x="499" y="46"/>
                    <a:pt x="552" y="136"/>
                    <a:pt x="590" y="136"/>
                  </a:cubicBezTo>
                  <a:cubicBezTo>
                    <a:pt x="628" y="136"/>
                    <a:pt x="642" y="69"/>
                    <a:pt x="680" y="46"/>
                  </a:cubicBezTo>
                  <a:cubicBezTo>
                    <a:pt x="718" y="23"/>
                    <a:pt x="767" y="11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5"/>
            <p:cNvSpPr/>
            <p:nvPr/>
          </p:nvSpPr>
          <p:spPr>
            <a:xfrm rot="416400">
              <a:off x="6579720" y="5157720"/>
              <a:ext cx="441360" cy="71640"/>
            </a:xfrm>
            <a:custGeom>
              <a:avLst/>
              <a:gdLst/>
              <a:ahLst/>
              <a:rect l="l" t="t" r="r" b="b"/>
              <a:pathLst>
                <a:path w="817" h="136">
                  <a:moveTo>
                    <a:pt x="0" y="136"/>
                  </a:moveTo>
                  <a:cubicBezTo>
                    <a:pt x="64" y="91"/>
                    <a:pt x="129" y="46"/>
                    <a:pt x="182" y="46"/>
                  </a:cubicBezTo>
                  <a:cubicBezTo>
                    <a:pt x="235" y="46"/>
                    <a:pt x="273" y="136"/>
                    <a:pt x="318" y="136"/>
                  </a:cubicBezTo>
                  <a:cubicBezTo>
                    <a:pt x="363" y="136"/>
                    <a:pt x="409" y="46"/>
                    <a:pt x="454" y="46"/>
                  </a:cubicBezTo>
                  <a:cubicBezTo>
                    <a:pt x="499" y="46"/>
                    <a:pt x="552" y="136"/>
                    <a:pt x="590" y="136"/>
                  </a:cubicBezTo>
                  <a:cubicBezTo>
                    <a:pt x="628" y="136"/>
                    <a:pt x="642" y="69"/>
                    <a:pt x="680" y="46"/>
                  </a:cubicBezTo>
                  <a:cubicBezTo>
                    <a:pt x="718" y="23"/>
                    <a:pt x="767" y="11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6"/>
            <p:cNvSpPr/>
            <p:nvPr/>
          </p:nvSpPr>
          <p:spPr>
            <a:xfrm rot="416400">
              <a:off x="6867360" y="4653000"/>
              <a:ext cx="441000" cy="71280"/>
            </a:xfrm>
            <a:custGeom>
              <a:avLst/>
              <a:gdLst/>
              <a:ahLst/>
              <a:rect l="l" t="t" r="r" b="b"/>
              <a:pathLst>
                <a:path w="817" h="136">
                  <a:moveTo>
                    <a:pt x="0" y="136"/>
                  </a:moveTo>
                  <a:cubicBezTo>
                    <a:pt x="64" y="91"/>
                    <a:pt x="129" y="46"/>
                    <a:pt x="182" y="46"/>
                  </a:cubicBezTo>
                  <a:cubicBezTo>
                    <a:pt x="235" y="46"/>
                    <a:pt x="273" y="136"/>
                    <a:pt x="318" y="136"/>
                  </a:cubicBezTo>
                  <a:cubicBezTo>
                    <a:pt x="363" y="136"/>
                    <a:pt x="409" y="46"/>
                    <a:pt x="454" y="46"/>
                  </a:cubicBezTo>
                  <a:cubicBezTo>
                    <a:pt x="499" y="46"/>
                    <a:pt x="552" y="136"/>
                    <a:pt x="590" y="136"/>
                  </a:cubicBezTo>
                  <a:cubicBezTo>
                    <a:pt x="628" y="136"/>
                    <a:pt x="642" y="69"/>
                    <a:pt x="680" y="46"/>
                  </a:cubicBezTo>
                  <a:cubicBezTo>
                    <a:pt x="718" y="23"/>
                    <a:pt x="767" y="11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47"/>
          <p:cNvSpPr/>
          <p:nvPr/>
        </p:nvSpPr>
        <p:spPr>
          <a:xfrm>
            <a:off x="8459640" y="3716280"/>
            <a:ext cx="503280" cy="19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8"/>
          <p:cNvSpPr/>
          <p:nvPr/>
        </p:nvSpPr>
        <p:spPr>
          <a:xfrm rot="16200000">
            <a:off x="7577280" y="4490640"/>
            <a:ext cx="22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4.07407E-006 C -0.01093 0.01459 -0.02499 0.03704 -0.03889 0.04815 C -0.04218 0.05695 -0.04653 0.06019 -0.05139 0.06667 C -0.05295 0.06875 -0.05382 0.07199 -0.05555 0.07408 C -0.0611 0.08056 -0.06284 0.07547 -0.06944 0.08149 C -0.07899 0.09005 -0.08871 0.0963 -0.09999 0.1 C -0.09722 0.08866 -0.09739 0.08658 -0.09999 0.07593 C -0.10122 0.0632 -0.10278 0.05556 -0.10695 0.04445 C -0.10938 0.02824 -0.1165 0.01366 -0.12084 -0.00185 C -0.12414 -0.01342 -0.12813 -0.03194 -0.13334 -0.04259 C -0.13577 -0.05532 -0.14236 -0.06342 -0.14723 -0.07407 C -0.14896 -0.07777 -0.15278 -0.08518 -0.15278 -0.08518 C -0.13959 -0.0993 -0.12587 -0.10949 -0.10973 -0.11481 C -0.10365 -0.12291 -0.09583 -0.12523 -0.08888 -0.13148 C -0.08472 -0.13518 -0.08038 -0.14074 -0.07499 -0.14074 E">
                                      <p:cBhvr>
                                        <p:cTn id="568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22222E-006 C -0.00746 0.00509 -0.02395 0.02268 -0.02916 0.03148 C -0.03333 0.03866 -0.0368 0.04907 -0.04166 0.05555 C -0.04287 0.05717 -0.04461 0.05764 -0.04583 0.05926 C -0.05346 0.06944 -0.04617 0.06505 -0.05416 0.06852 C -0.05763 0.07755 -0.06041 0.08518 -0.06666 0.09074 C -0.07221 0.10185 -0.06683 0.09977 -0.0611 0.10741 C -0.05954 0.10949 -0.0585 0.11273 -0.05694 0.11481 C -0.05051 0.12338 -0.04079 0.13032 -0.03333 0.13704 C -0.02916 0.14074 -0.02499 0.14444 -0.02083 0.14815 C -0.01944 0.1493 -0.01666 0.15185 -0.01666 0.15185 C -0.01371 0.15787 -0.00989 0.1625 -0.00694 0.16852 C 0.00417 0.16736 0.01529 0.16643 0.0264 0.16481 C 0.03629 0.16342 0.04428 0.15555 0.05417 0.1537 C 0.06286 0.14792 0.07258 0.14282 0.08195 0.13889 C 0.08733 0.1368 0.09341 0.13611 0.09862 0.13333 C 0.10695 0.1287 0.11685 0.12222 0.12501 0.11667 C 0.1323 0.1118 0.13959 0.10625 0.14723 0.10185 C 0.15174 0.09907 0.15695 0.09815 0.16112 0.09444 C 0.16963 0.08704 0.179 0.07917 0.1889 0.07592 C 0.19463 0.07083 0.1974 0.06528 0.20417 0.06296 C 0.20643 0.06111 0.20886 0.05926 0.21112 0.05741 C 0.21251 0.05625 0.21529 0.0537 0.21529 0.0537 E">
                                      <p:cBhvr>
                                        <p:cTn id="570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92593E-006 L 0.44879 5.92593E-006 E">
                                      <p:cBhvr>
                                        <p:cTn id="578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96296E-006 L 0.16598 2.96296E-006 E">
                                      <p:cBhvr>
                                        <p:cTn id="586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Line 4"/>
          <p:cNvSpPr/>
          <p:nvPr/>
        </p:nvSpPr>
        <p:spPr>
          <a:xfrm>
            <a:off x="1332000" y="3429000"/>
            <a:ext cx="1225440" cy="180036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7164360" y="0"/>
            <a:ext cx="2025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6"/>
          <p:cNvSpPr/>
          <p:nvPr/>
        </p:nvSpPr>
        <p:spPr>
          <a:xfrm>
            <a:off x="1836720" y="5103720"/>
            <a:ext cx="3024360" cy="331920"/>
          </a:xfrm>
          <a:custGeom>
            <a:avLst/>
            <a:gdLst/>
            <a:ahLst/>
            <a:rect l="l" t="t" r="r" b="b"/>
            <a:pathLst>
              <a:path w="4603" h="209">
                <a:moveTo>
                  <a:pt x="0" y="113"/>
                </a:moveTo>
                <a:cubicBezTo>
                  <a:pt x="8" y="110"/>
                  <a:pt x="17" y="109"/>
                  <a:pt x="24" y="105"/>
                </a:cubicBezTo>
                <a:cubicBezTo>
                  <a:pt x="41" y="96"/>
                  <a:pt x="53" y="73"/>
                  <a:pt x="72" y="73"/>
                </a:cubicBezTo>
                <a:cubicBezTo>
                  <a:pt x="285" y="70"/>
                  <a:pt x="499" y="68"/>
                  <a:pt x="712" y="65"/>
                </a:cubicBezTo>
                <a:cubicBezTo>
                  <a:pt x="931" y="82"/>
                  <a:pt x="943" y="79"/>
                  <a:pt x="1256" y="73"/>
                </a:cubicBezTo>
                <a:cubicBezTo>
                  <a:pt x="1328" y="67"/>
                  <a:pt x="1361" y="62"/>
                  <a:pt x="1424" y="49"/>
                </a:cubicBezTo>
                <a:cubicBezTo>
                  <a:pt x="1550" y="62"/>
                  <a:pt x="1567" y="65"/>
                  <a:pt x="1664" y="97"/>
                </a:cubicBezTo>
                <a:cubicBezTo>
                  <a:pt x="1763" y="77"/>
                  <a:pt x="1685" y="91"/>
                  <a:pt x="1880" y="73"/>
                </a:cubicBezTo>
                <a:cubicBezTo>
                  <a:pt x="1907" y="70"/>
                  <a:pt x="1960" y="65"/>
                  <a:pt x="1960" y="65"/>
                </a:cubicBezTo>
                <a:cubicBezTo>
                  <a:pt x="2219" y="0"/>
                  <a:pt x="2482" y="38"/>
                  <a:pt x="2736" y="89"/>
                </a:cubicBezTo>
                <a:cubicBezTo>
                  <a:pt x="2829" y="86"/>
                  <a:pt x="2923" y="86"/>
                  <a:pt x="3016" y="81"/>
                </a:cubicBezTo>
                <a:cubicBezTo>
                  <a:pt x="3080" y="78"/>
                  <a:pt x="3019" y="73"/>
                  <a:pt x="3072" y="49"/>
                </a:cubicBezTo>
                <a:cubicBezTo>
                  <a:pt x="3092" y="40"/>
                  <a:pt x="3115" y="38"/>
                  <a:pt x="3136" y="33"/>
                </a:cubicBezTo>
                <a:cubicBezTo>
                  <a:pt x="3147" y="30"/>
                  <a:pt x="3168" y="25"/>
                  <a:pt x="3168" y="25"/>
                </a:cubicBezTo>
                <a:cubicBezTo>
                  <a:pt x="3622" y="90"/>
                  <a:pt x="4077" y="80"/>
                  <a:pt x="4536" y="89"/>
                </a:cubicBezTo>
                <a:cubicBezTo>
                  <a:pt x="4544" y="94"/>
                  <a:pt x="4551" y="101"/>
                  <a:pt x="4560" y="105"/>
                </a:cubicBezTo>
                <a:cubicBezTo>
                  <a:pt x="4570" y="109"/>
                  <a:pt x="4603" y="113"/>
                  <a:pt x="4592" y="113"/>
                </a:cubicBezTo>
                <a:cubicBezTo>
                  <a:pt x="4413" y="119"/>
                  <a:pt x="4235" y="118"/>
                  <a:pt x="4056" y="121"/>
                </a:cubicBezTo>
                <a:cubicBezTo>
                  <a:pt x="3888" y="127"/>
                  <a:pt x="3758" y="139"/>
                  <a:pt x="3592" y="145"/>
                </a:cubicBezTo>
                <a:cubicBezTo>
                  <a:pt x="3244" y="177"/>
                  <a:pt x="3642" y="143"/>
                  <a:pt x="2760" y="161"/>
                </a:cubicBezTo>
                <a:cubicBezTo>
                  <a:pt x="2716" y="162"/>
                  <a:pt x="2658" y="191"/>
                  <a:pt x="2616" y="201"/>
                </a:cubicBezTo>
                <a:cubicBezTo>
                  <a:pt x="2605" y="204"/>
                  <a:pt x="2584" y="209"/>
                  <a:pt x="2584" y="209"/>
                </a:cubicBezTo>
                <a:cubicBezTo>
                  <a:pt x="2104" y="195"/>
                  <a:pt x="1624" y="185"/>
                  <a:pt x="1144" y="169"/>
                </a:cubicBezTo>
                <a:cubicBezTo>
                  <a:pt x="831" y="102"/>
                  <a:pt x="233" y="146"/>
                  <a:pt x="80" y="145"/>
                </a:cubicBezTo>
                <a:cubicBezTo>
                  <a:pt x="78" y="144"/>
                  <a:pt x="29" y="133"/>
                  <a:pt x="24" y="129"/>
                </a:cubicBezTo>
                <a:cubicBezTo>
                  <a:pt x="16" y="123"/>
                  <a:pt x="16" y="110"/>
                  <a:pt x="8" y="105"/>
                </a:cubicBezTo>
                <a:cubicBezTo>
                  <a:pt x="5" y="103"/>
                  <a:pt x="3" y="110"/>
                  <a:pt x="0" y="113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7"/>
          <p:cNvGrpSpPr/>
          <p:nvPr/>
        </p:nvGrpSpPr>
        <p:grpSpPr>
          <a:xfrm>
            <a:off x="2413080" y="4365720"/>
            <a:ext cx="647640" cy="792000"/>
            <a:chOff x="2413080" y="4365720"/>
            <a:chExt cx="647640" cy="792000"/>
          </a:xfrm>
        </p:grpSpPr>
        <p:sp>
          <p:nvSpPr>
            <p:cNvPr id="595" name="Oval 8"/>
            <p:cNvSpPr/>
            <p:nvPr/>
          </p:nvSpPr>
          <p:spPr>
            <a:xfrm>
              <a:off x="2629080" y="494172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9"/>
            <p:cNvSpPr/>
            <p:nvPr/>
          </p:nvSpPr>
          <p:spPr>
            <a:xfrm>
              <a:off x="2484720" y="472428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0"/>
            <p:cNvSpPr/>
            <p:nvPr/>
          </p:nvSpPr>
          <p:spPr>
            <a:xfrm>
              <a:off x="2845080" y="465300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1"/>
            <p:cNvSpPr/>
            <p:nvPr/>
          </p:nvSpPr>
          <p:spPr>
            <a:xfrm>
              <a:off x="2557440" y="4508640"/>
              <a:ext cx="71640" cy="72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2"/>
            <p:cNvSpPr/>
            <p:nvPr/>
          </p:nvSpPr>
          <p:spPr>
            <a:xfrm>
              <a:off x="2773440" y="4437000"/>
              <a:ext cx="7164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3"/>
            <p:cNvSpPr/>
            <p:nvPr/>
          </p:nvSpPr>
          <p:spPr>
            <a:xfrm>
              <a:off x="2700360" y="4724280"/>
              <a:ext cx="7164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4"/>
            <p:cNvSpPr/>
            <p:nvPr/>
          </p:nvSpPr>
          <p:spPr>
            <a:xfrm>
              <a:off x="2845080" y="494172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"/>
            <p:cNvSpPr/>
            <p:nvPr/>
          </p:nvSpPr>
          <p:spPr>
            <a:xfrm>
              <a:off x="2989440" y="479736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6"/>
            <p:cNvSpPr/>
            <p:nvPr/>
          </p:nvSpPr>
          <p:spPr>
            <a:xfrm>
              <a:off x="2413080" y="4437000"/>
              <a:ext cx="7164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7"/>
            <p:cNvSpPr/>
            <p:nvPr/>
          </p:nvSpPr>
          <p:spPr>
            <a:xfrm>
              <a:off x="2989440" y="4508640"/>
              <a:ext cx="71280" cy="72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8"/>
            <p:cNvSpPr/>
            <p:nvPr/>
          </p:nvSpPr>
          <p:spPr>
            <a:xfrm>
              <a:off x="2629080" y="436572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9"/>
            <p:cNvSpPr/>
            <p:nvPr/>
          </p:nvSpPr>
          <p:spPr>
            <a:xfrm>
              <a:off x="2629080" y="5084640"/>
              <a:ext cx="712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Text Box 20"/>
          <p:cNvSpPr/>
          <p:nvPr/>
        </p:nvSpPr>
        <p:spPr>
          <a:xfrm>
            <a:off x="2700360" y="765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ABLACIÓN POR LÁ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1"/>
          <p:cNvSpPr/>
          <p:nvPr/>
        </p:nvSpPr>
        <p:spPr>
          <a:xfrm>
            <a:off x="395280" y="2421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2"/>
          <p:cNvSpPr/>
          <p:nvPr/>
        </p:nvSpPr>
        <p:spPr>
          <a:xfrm>
            <a:off x="65160" y="46656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ff"/>
                </a:solidFill>
                <a:latin typeface="Arial"/>
              </a:rPr>
              <a:t>AR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23"/>
          <p:cNvSpPr/>
          <p:nvPr/>
        </p:nvSpPr>
        <p:spPr>
          <a:xfrm>
            <a:off x="1403280" y="3645000"/>
            <a:ext cx="3745080" cy="1728720"/>
          </a:xfrm>
          <a:custGeom>
            <a:avLst/>
            <a:gdLst/>
            <a:ahLst/>
            <a:rect l="l" t="t" r="r" b="b"/>
            <a:pathLst>
              <a:path w="2359" h="1089">
                <a:moveTo>
                  <a:pt x="0" y="1043"/>
                </a:moveTo>
                <a:lnTo>
                  <a:pt x="0" y="0"/>
                </a:lnTo>
                <a:lnTo>
                  <a:pt x="2359" y="0"/>
                </a:lnTo>
                <a:lnTo>
                  <a:pt x="2359" y="1089"/>
                </a:lnTo>
              </a:path>
            </a:pathLst>
          </a:custGeom>
          <a:noFill/>
          <a:ln w="177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5049720" y="4737240"/>
            <a:ext cx="719280" cy="107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5"/>
          <p:cNvSpPr/>
          <p:nvPr/>
        </p:nvSpPr>
        <p:spPr>
          <a:xfrm>
            <a:off x="4643280" y="4797360"/>
            <a:ext cx="18003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6"/>
          <p:cNvSpPr/>
          <p:nvPr/>
        </p:nvSpPr>
        <p:spPr>
          <a:xfrm>
            <a:off x="1144440" y="4745160"/>
            <a:ext cx="360360" cy="1080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27"/>
          <p:cNvSpPr/>
          <p:nvPr/>
        </p:nvSpPr>
        <p:spPr>
          <a:xfrm>
            <a:off x="973080" y="4805280"/>
            <a:ext cx="900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8"/>
          <p:cNvSpPr/>
          <p:nvPr/>
        </p:nvSpPr>
        <p:spPr>
          <a:xfrm rot="3456600">
            <a:off x="831240" y="3114360"/>
            <a:ext cx="93672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9"/>
          <p:cNvSpPr/>
          <p:nvPr/>
        </p:nvSpPr>
        <p:spPr>
          <a:xfrm>
            <a:off x="1214280" y="5300640"/>
            <a:ext cx="4005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0"/>
          <p:cNvSpPr/>
          <p:nvPr/>
        </p:nvSpPr>
        <p:spPr>
          <a:xfrm>
            <a:off x="7308720" y="52293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31"/>
          <p:cNvGrpSpPr/>
          <p:nvPr/>
        </p:nvGrpSpPr>
        <p:grpSpPr>
          <a:xfrm>
            <a:off x="7007400" y="3716280"/>
            <a:ext cx="1536840" cy="1374120"/>
            <a:chOff x="7007400" y="3716280"/>
            <a:chExt cx="1536840" cy="1374120"/>
          </a:xfrm>
        </p:grpSpPr>
        <p:sp>
          <p:nvSpPr>
            <p:cNvPr id="619" name="AutoShape 32"/>
            <p:cNvSpPr/>
            <p:nvPr/>
          </p:nvSpPr>
          <p:spPr>
            <a:xfrm>
              <a:off x="7043400" y="4616280"/>
              <a:ext cx="1469520" cy="271080"/>
            </a:xfrm>
            <a:custGeom>
              <a:avLst/>
              <a:gdLst>
                <a:gd name="textAreaLeft" fmla="*/ 215280 w 1469520"/>
                <a:gd name="textAreaRight" fmla="*/ 1254240 w 1469520"/>
                <a:gd name="textAreaTop" fmla="*/ 39240 h 271080"/>
                <a:gd name="textAreaBottom" fmla="*/ 231840 h 27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9575" y="10800"/>
                  </a:moveTo>
                  <a:cubicBezTo>
                    <a:pt x="9575" y="11477"/>
                    <a:pt x="10123" y="12025"/>
                    <a:pt x="10800" y="12025"/>
                  </a:cubicBezTo>
                  <a:cubicBezTo>
                    <a:pt x="11477" y="12025"/>
                    <a:pt x="12025" y="11477"/>
                    <a:pt x="12025" y="10800"/>
                  </a:cubicBezTo>
                  <a:cubicBezTo>
                    <a:pt x="12025" y="10123"/>
                    <a:pt x="11477" y="9575"/>
                    <a:pt x="10800" y="9575"/>
                  </a:cubicBezTo>
                  <a:cubicBezTo>
                    <a:pt x="10123" y="9575"/>
                    <a:pt x="9575" y="10123"/>
                    <a:pt x="9575" y="1080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33"/>
            <p:cNvSpPr/>
            <p:nvPr/>
          </p:nvSpPr>
          <p:spPr>
            <a:xfrm>
              <a:off x="7056000" y="3725640"/>
              <a:ext cx="1447200" cy="10159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7781040" y="3716280"/>
              <a:ext cx="0" cy="921600"/>
            </a:xfrm>
            <a:prstGeom prst="line">
              <a:avLst/>
            </a:prstGeom>
            <a:ln w="889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35"/>
            <p:cNvSpPr/>
            <p:nvPr/>
          </p:nvSpPr>
          <p:spPr>
            <a:xfrm rot="15619200">
              <a:off x="8058600" y="4558320"/>
              <a:ext cx="216720" cy="72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411" y="3090"/>
                    <a:pt x="17222" y="5080"/>
                    <a:pt x="17222" y="10800"/>
                  </a:cubicBezTo>
                  <a:cubicBezTo>
                    <a:pt x="17222" y="16520"/>
                    <a:pt x="19411" y="1851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36"/>
            <p:cNvSpPr/>
            <p:nvPr/>
          </p:nvSpPr>
          <p:spPr>
            <a:xfrm rot="16758000">
              <a:off x="7292880" y="4538880"/>
              <a:ext cx="217800" cy="76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411" y="3090"/>
                    <a:pt x="17222" y="5080"/>
                    <a:pt x="17222" y="10800"/>
                  </a:cubicBezTo>
                  <a:cubicBezTo>
                    <a:pt x="17222" y="16520"/>
                    <a:pt x="19411" y="1851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Text Box 37"/>
          <p:cNvSpPr/>
          <p:nvPr/>
        </p:nvSpPr>
        <p:spPr>
          <a:xfrm>
            <a:off x="7118280" y="0"/>
            <a:ext cx="2025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92593E-006 L 0.44879 5.92593E-006 E">
                                      <p:cBhvr>
                                        <p:cTn id="600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7093080" y="28440"/>
            <a:ext cx="2025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4707000" y="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I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6"/>
          <p:cNvSpPr/>
          <p:nvPr/>
        </p:nvSpPr>
        <p:spPr>
          <a:xfrm>
            <a:off x="1517760" y="2212920"/>
            <a:ext cx="0" cy="388800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7"/>
          <p:cNvSpPr/>
          <p:nvPr/>
        </p:nvSpPr>
        <p:spPr>
          <a:xfrm>
            <a:off x="4846680" y="2208240"/>
            <a:ext cx="0" cy="35989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8"/>
          <p:cNvSpPr/>
          <p:nvPr/>
        </p:nvSpPr>
        <p:spPr>
          <a:xfrm>
            <a:off x="4533840" y="2957400"/>
            <a:ext cx="0" cy="32385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9"/>
          <p:cNvSpPr/>
          <p:nvPr/>
        </p:nvSpPr>
        <p:spPr>
          <a:xfrm>
            <a:off x="1851120" y="2924280"/>
            <a:ext cx="0" cy="32385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0"/>
          <p:cNvSpPr/>
          <p:nvPr/>
        </p:nvSpPr>
        <p:spPr>
          <a:xfrm>
            <a:off x="3483000" y="3137040"/>
            <a:ext cx="0" cy="32382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1"/>
          <p:cNvSpPr/>
          <p:nvPr/>
        </p:nvSpPr>
        <p:spPr>
          <a:xfrm>
            <a:off x="2906640" y="3137040"/>
            <a:ext cx="0" cy="32382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2"/>
          <p:cNvSpPr/>
          <p:nvPr/>
        </p:nvSpPr>
        <p:spPr>
          <a:xfrm flipV="1">
            <a:off x="2906640" y="2840040"/>
            <a:ext cx="216000" cy="3016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3"/>
          <p:cNvSpPr/>
          <p:nvPr/>
        </p:nvSpPr>
        <p:spPr>
          <a:xfrm flipH="1" flipV="1">
            <a:off x="3267000" y="2840040"/>
            <a:ext cx="216000" cy="3016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935600" y="22716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935600" y="2546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1251000" y="22716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1251000" y="255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8"/>
          <p:cNvSpPr/>
          <p:nvPr/>
        </p:nvSpPr>
        <p:spPr>
          <a:xfrm flipH="1" rot="460800">
            <a:off x="1863360" y="2860200"/>
            <a:ext cx="998640" cy="3431160"/>
          </a:xfrm>
          <a:custGeom>
            <a:avLst/>
            <a:gdLst/>
            <a:ahLst/>
            <a:rect l="l" t="t" r="r" b="b"/>
            <a:pathLst>
              <a:path w="325" h="2631">
                <a:moveTo>
                  <a:pt x="0" y="2631"/>
                </a:moveTo>
                <a:cubicBezTo>
                  <a:pt x="83" y="2551"/>
                  <a:pt x="166" y="2472"/>
                  <a:pt x="181" y="2359"/>
                </a:cubicBezTo>
                <a:cubicBezTo>
                  <a:pt x="196" y="2246"/>
                  <a:pt x="76" y="2110"/>
                  <a:pt x="91" y="1951"/>
                </a:cubicBezTo>
                <a:cubicBezTo>
                  <a:pt x="106" y="1792"/>
                  <a:pt x="257" y="1587"/>
                  <a:pt x="272" y="1406"/>
                </a:cubicBezTo>
                <a:cubicBezTo>
                  <a:pt x="287" y="1225"/>
                  <a:pt x="174" y="1028"/>
                  <a:pt x="181" y="862"/>
                </a:cubicBezTo>
                <a:cubicBezTo>
                  <a:pt x="188" y="696"/>
                  <a:pt x="309" y="553"/>
                  <a:pt x="317" y="409"/>
                </a:cubicBezTo>
                <a:cubicBezTo>
                  <a:pt x="325" y="265"/>
                  <a:pt x="242" y="68"/>
                  <a:pt x="227" y="0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9"/>
          <p:cNvSpPr/>
          <p:nvPr/>
        </p:nvSpPr>
        <p:spPr>
          <a:xfrm rot="21020400">
            <a:off x="3406680" y="2844720"/>
            <a:ext cx="944640" cy="3591000"/>
          </a:xfrm>
          <a:custGeom>
            <a:avLst/>
            <a:gdLst/>
            <a:ahLst/>
            <a:rect l="l" t="t" r="r" b="b"/>
            <a:pathLst>
              <a:path w="325" h="2631">
                <a:moveTo>
                  <a:pt x="0" y="2631"/>
                </a:moveTo>
                <a:cubicBezTo>
                  <a:pt x="83" y="2551"/>
                  <a:pt x="166" y="2472"/>
                  <a:pt x="181" y="2359"/>
                </a:cubicBezTo>
                <a:cubicBezTo>
                  <a:pt x="196" y="2246"/>
                  <a:pt x="76" y="2110"/>
                  <a:pt x="91" y="1951"/>
                </a:cubicBezTo>
                <a:cubicBezTo>
                  <a:pt x="106" y="1792"/>
                  <a:pt x="257" y="1587"/>
                  <a:pt x="272" y="1406"/>
                </a:cubicBezTo>
                <a:cubicBezTo>
                  <a:pt x="287" y="1225"/>
                  <a:pt x="174" y="1028"/>
                  <a:pt x="181" y="862"/>
                </a:cubicBezTo>
                <a:cubicBezTo>
                  <a:pt x="188" y="696"/>
                  <a:pt x="309" y="553"/>
                  <a:pt x="317" y="409"/>
                </a:cubicBezTo>
                <a:cubicBezTo>
                  <a:pt x="325" y="265"/>
                  <a:pt x="242" y="68"/>
                  <a:pt x="227" y="0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0"/>
          <p:cNvSpPr/>
          <p:nvPr/>
        </p:nvSpPr>
        <p:spPr>
          <a:xfrm flipV="1">
            <a:off x="4799160" y="5932080"/>
            <a:ext cx="915840" cy="10476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1"/>
          <p:cNvSpPr/>
          <p:nvPr/>
        </p:nvSpPr>
        <p:spPr>
          <a:xfrm flipV="1">
            <a:off x="4815000" y="5703480"/>
            <a:ext cx="853920" cy="11916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2"/>
          <p:cNvSpPr/>
          <p:nvPr/>
        </p:nvSpPr>
        <p:spPr>
          <a:xfrm>
            <a:off x="4827600" y="6004080"/>
            <a:ext cx="0" cy="28728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3"/>
          <p:cNvSpPr/>
          <p:nvPr/>
        </p:nvSpPr>
        <p:spPr>
          <a:xfrm>
            <a:off x="1946160" y="2227320"/>
            <a:ext cx="2551320" cy="403200"/>
          </a:xfrm>
          <a:custGeom>
            <a:avLst/>
            <a:gdLst>
              <a:gd name="textAreaLeft" fmla="*/ 373320 w 2551320"/>
              <a:gd name="textAreaRight" fmla="*/ 2178000 w 2551320"/>
              <a:gd name="textAreaTop" fmla="*/ 59040 h 403200"/>
              <a:gd name="textAreaBottom" fmla="*/ 3441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575" y="10800"/>
                </a:moveTo>
                <a:cubicBezTo>
                  <a:pt x="9575" y="11477"/>
                  <a:pt x="10123" y="12025"/>
                  <a:pt x="10800" y="12025"/>
                </a:cubicBezTo>
                <a:cubicBezTo>
                  <a:pt x="11477" y="12025"/>
                  <a:pt x="12025" y="11477"/>
                  <a:pt x="12025" y="10800"/>
                </a:cubicBezTo>
                <a:cubicBezTo>
                  <a:pt x="12025" y="10123"/>
                  <a:pt x="11477" y="9575"/>
                  <a:pt x="10800" y="9575"/>
                </a:cubicBezTo>
                <a:cubicBezTo>
                  <a:pt x="10123" y="9575"/>
                  <a:pt x="9575" y="10123"/>
                  <a:pt x="9575" y="108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24"/>
          <p:cNvSpPr/>
          <p:nvPr/>
        </p:nvSpPr>
        <p:spPr>
          <a:xfrm>
            <a:off x="1968480" y="1179360"/>
            <a:ext cx="2511360" cy="1233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5"/>
          <p:cNvSpPr/>
          <p:nvPr/>
        </p:nvSpPr>
        <p:spPr>
          <a:xfrm>
            <a:off x="3227400" y="892080"/>
            <a:ext cx="0" cy="136692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6"/>
          <p:cNvSpPr/>
          <p:nvPr/>
        </p:nvSpPr>
        <p:spPr>
          <a:xfrm rot="15619200">
            <a:off x="3736080" y="2049840"/>
            <a:ext cx="322200" cy="126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11" y="3090"/>
                  <a:pt x="17222" y="5080"/>
                  <a:pt x="17222" y="10800"/>
                </a:cubicBezTo>
                <a:cubicBezTo>
                  <a:pt x="17222" y="16520"/>
                  <a:pt x="19411" y="185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7"/>
          <p:cNvSpPr/>
          <p:nvPr/>
        </p:nvSpPr>
        <p:spPr>
          <a:xfrm rot="16758000">
            <a:off x="2406600" y="2015640"/>
            <a:ext cx="323640" cy="132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11" y="3090"/>
                  <a:pt x="17222" y="5080"/>
                  <a:pt x="17222" y="10800"/>
                </a:cubicBezTo>
                <a:cubicBezTo>
                  <a:pt x="17222" y="16520"/>
                  <a:pt x="19411" y="185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28"/>
          <p:cNvSpPr/>
          <p:nvPr/>
        </p:nvSpPr>
        <p:spPr>
          <a:xfrm>
            <a:off x="3049560" y="3411360"/>
            <a:ext cx="108000" cy="1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29"/>
          <p:cNvGrpSpPr/>
          <p:nvPr/>
        </p:nvGrpSpPr>
        <p:grpSpPr>
          <a:xfrm>
            <a:off x="2944800" y="658800"/>
            <a:ext cx="574560" cy="246240"/>
            <a:chOff x="2944800" y="658800"/>
            <a:chExt cx="574560" cy="246240"/>
          </a:xfrm>
        </p:grpSpPr>
        <p:sp>
          <p:nvSpPr>
            <p:cNvPr id="651" name="Oval 30"/>
            <p:cNvSpPr/>
            <p:nvPr/>
          </p:nvSpPr>
          <p:spPr>
            <a:xfrm>
              <a:off x="3122280" y="677880"/>
              <a:ext cx="216000" cy="21600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1"/>
            <p:cNvSpPr/>
            <p:nvPr/>
          </p:nvSpPr>
          <p:spPr>
            <a:xfrm>
              <a:off x="2944800" y="65880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66ffff"/>
                  </a:solidFill>
                  <a:latin typeface="Tahoma"/>
                </a:rPr>
                <a:t>P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Freeform 32"/>
          <p:cNvSpPr/>
          <p:nvPr/>
        </p:nvSpPr>
        <p:spPr>
          <a:xfrm rot="416400">
            <a:off x="3160440" y="584280"/>
            <a:ext cx="441360" cy="7128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3168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rc 33"/>
          <p:cNvSpPr/>
          <p:nvPr/>
        </p:nvSpPr>
        <p:spPr>
          <a:xfrm>
            <a:off x="1581120" y="5016600"/>
            <a:ext cx="3168720" cy="450720"/>
          </a:xfrm>
          <a:custGeom>
            <a:avLst/>
            <a:gdLst/>
            <a:ahLst/>
            <a:rect l="l" t="t" r="r" b="b"/>
            <a:pathLst>
              <a:path fill="none" w="43200" h="33111">
                <a:moveTo>
                  <a:pt x="40644" y="1318"/>
                </a:moveTo>
                <a:cubicBezTo>
                  <a:pt x="42322" y="4454"/>
                  <a:pt x="43200" y="7955"/>
                  <a:pt x="43200" y="11511"/>
                </a:cubicBezTo>
                <a:cubicBezTo>
                  <a:pt x="43200" y="23440"/>
                  <a:pt x="33529" y="33111"/>
                  <a:pt x="21600" y="33111"/>
                </a:cubicBezTo>
                <a:cubicBezTo>
                  <a:pt x="9670" y="33111"/>
                  <a:pt x="0" y="23440"/>
                  <a:pt x="0" y="11511"/>
                </a:cubicBezTo>
                <a:cubicBezTo>
                  <a:pt x="-1" y="7437"/>
                  <a:pt x="1151" y="3446"/>
                  <a:pt x="3322" y="-1"/>
                </a:cubicBezTo>
              </a:path>
              <a:path stroke="0" w="43200" h="33111">
                <a:moveTo>
                  <a:pt x="40644" y="1318"/>
                </a:moveTo>
                <a:cubicBezTo>
                  <a:pt x="42322" y="4454"/>
                  <a:pt x="43200" y="7955"/>
                  <a:pt x="43200" y="11511"/>
                </a:cubicBezTo>
                <a:cubicBezTo>
                  <a:pt x="43200" y="23440"/>
                  <a:pt x="33529" y="33111"/>
                  <a:pt x="21600" y="33111"/>
                </a:cubicBezTo>
                <a:cubicBezTo>
                  <a:pt x="9670" y="33111"/>
                  <a:pt x="0" y="23440"/>
                  <a:pt x="0" y="11511"/>
                </a:cubicBezTo>
                <a:cubicBezTo>
                  <a:pt x="-1" y="7437"/>
                  <a:pt x="1151" y="3446"/>
                  <a:pt x="3322" y="-1"/>
                </a:cubicBezTo>
                <a:lnTo>
                  <a:pt x="21600" y="11511"/>
                </a:lnTo>
                <a:lnTo>
                  <a:pt x="40644" y="1318"/>
                </a:lnTo>
                <a:close/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rc 34"/>
          <p:cNvSpPr/>
          <p:nvPr/>
        </p:nvSpPr>
        <p:spPr>
          <a:xfrm>
            <a:off x="1595520" y="4403880"/>
            <a:ext cx="3182760" cy="442800"/>
          </a:xfrm>
          <a:custGeom>
            <a:avLst/>
            <a:gdLst/>
            <a:ahLst/>
            <a:rect l="l" t="t" r="r" b="b"/>
            <a:pathLst>
              <a:path fill="none" w="43200" h="32518">
                <a:moveTo>
                  <a:pt x="40263" y="43"/>
                </a:moveTo>
                <a:cubicBezTo>
                  <a:pt x="42186" y="3345"/>
                  <a:pt x="43200" y="7097"/>
                  <a:pt x="43200" y="10918"/>
                </a:cubicBezTo>
                <a:cubicBezTo>
                  <a:pt x="43200" y="22847"/>
                  <a:pt x="33529" y="32518"/>
                  <a:pt x="21600" y="32518"/>
                </a:cubicBezTo>
                <a:cubicBezTo>
                  <a:pt x="9670" y="32518"/>
                  <a:pt x="0" y="22847"/>
                  <a:pt x="0" y="10918"/>
                </a:cubicBezTo>
                <a:cubicBezTo>
                  <a:pt x="-1" y="7080"/>
                  <a:pt x="1022" y="3311"/>
                  <a:pt x="2962" y="0"/>
                </a:cubicBezTo>
              </a:path>
              <a:path stroke="0" w="43200" h="32518">
                <a:moveTo>
                  <a:pt x="40263" y="43"/>
                </a:moveTo>
                <a:cubicBezTo>
                  <a:pt x="42186" y="3345"/>
                  <a:pt x="43200" y="7097"/>
                  <a:pt x="43200" y="10918"/>
                </a:cubicBezTo>
                <a:cubicBezTo>
                  <a:pt x="43200" y="22847"/>
                  <a:pt x="33529" y="32518"/>
                  <a:pt x="21600" y="32518"/>
                </a:cubicBezTo>
                <a:cubicBezTo>
                  <a:pt x="9670" y="32518"/>
                  <a:pt x="0" y="22847"/>
                  <a:pt x="0" y="10918"/>
                </a:cubicBezTo>
                <a:cubicBezTo>
                  <a:pt x="-1" y="7080"/>
                  <a:pt x="1022" y="3311"/>
                  <a:pt x="2962" y="0"/>
                </a:cubicBezTo>
                <a:lnTo>
                  <a:pt x="21600" y="10918"/>
                </a:lnTo>
                <a:lnTo>
                  <a:pt x="40263" y="43"/>
                </a:lnTo>
                <a:close/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rc 35"/>
          <p:cNvSpPr/>
          <p:nvPr/>
        </p:nvSpPr>
        <p:spPr>
          <a:xfrm>
            <a:off x="1592280" y="3776760"/>
            <a:ext cx="3176640" cy="444240"/>
          </a:xfrm>
          <a:custGeom>
            <a:avLst/>
            <a:gdLst/>
            <a:ahLst/>
            <a:rect l="l" t="t" r="r" b="b"/>
            <a:pathLst>
              <a:path fill="none" w="43200" h="32659">
                <a:moveTo>
                  <a:pt x="40181" y="45"/>
                </a:moveTo>
                <a:cubicBezTo>
                  <a:pt x="42157" y="3379"/>
                  <a:pt x="43200" y="7183"/>
                  <a:pt x="43200" y="11059"/>
                </a:cubicBezTo>
                <a:cubicBezTo>
                  <a:pt x="43200" y="22988"/>
                  <a:pt x="33529" y="32659"/>
                  <a:pt x="21600" y="32659"/>
                </a:cubicBezTo>
                <a:cubicBezTo>
                  <a:pt x="9670" y="32659"/>
                  <a:pt x="0" y="22988"/>
                  <a:pt x="0" y="11059"/>
                </a:cubicBezTo>
                <a:cubicBezTo>
                  <a:pt x="-1" y="7165"/>
                  <a:pt x="1052" y="3344"/>
                  <a:pt x="3045" y="-1"/>
                </a:cubicBezTo>
              </a:path>
              <a:path stroke="0" w="43200" h="32659">
                <a:moveTo>
                  <a:pt x="40181" y="45"/>
                </a:moveTo>
                <a:cubicBezTo>
                  <a:pt x="42157" y="3379"/>
                  <a:pt x="43200" y="7183"/>
                  <a:pt x="43200" y="11059"/>
                </a:cubicBezTo>
                <a:cubicBezTo>
                  <a:pt x="43200" y="22988"/>
                  <a:pt x="33529" y="32659"/>
                  <a:pt x="21600" y="32659"/>
                </a:cubicBezTo>
                <a:cubicBezTo>
                  <a:pt x="9670" y="32659"/>
                  <a:pt x="0" y="22988"/>
                  <a:pt x="0" y="11059"/>
                </a:cubicBezTo>
                <a:cubicBezTo>
                  <a:pt x="-1" y="7165"/>
                  <a:pt x="1052" y="3344"/>
                  <a:pt x="3045" y="-1"/>
                </a:cubicBezTo>
                <a:lnTo>
                  <a:pt x="21600" y="11059"/>
                </a:lnTo>
                <a:lnTo>
                  <a:pt x="40181" y="45"/>
                </a:lnTo>
                <a:close/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rc 36"/>
          <p:cNvSpPr/>
          <p:nvPr/>
        </p:nvSpPr>
        <p:spPr>
          <a:xfrm>
            <a:off x="1579680" y="3159000"/>
            <a:ext cx="3178080" cy="452520"/>
          </a:xfrm>
          <a:custGeom>
            <a:avLst/>
            <a:gdLst/>
            <a:ahLst/>
            <a:rect l="l" t="t" r="r" b="b"/>
            <a:pathLst>
              <a:path fill="none" w="43200" h="33255">
                <a:moveTo>
                  <a:pt x="40433" y="1079"/>
                </a:moveTo>
                <a:cubicBezTo>
                  <a:pt x="42247" y="4308"/>
                  <a:pt x="43200" y="7950"/>
                  <a:pt x="43200" y="11655"/>
                </a:cubicBezTo>
                <a:cubicBezTo>
                  <a:pt x="43200" y="23584"/>
                  <a:pt x="33529" y="33255"/>
                  <a:pt x="21600" y="33255"/>
                </a:cubicBezTo>
                <a:cubicBezTo>
                  <a:pt x="9670" y="33255"/>
                  <a:pt x="0" y="23584"/>
                  <a:pt x="0" y="11655"/>
                </a:cubicBezTo>
                <a:cubicBezTo>
                  <a:pt x="-1" y="7523"/>
                  <a:pt x="1184" y="3478"/>
                  <a:pt x="3414" y="0"/>
                </a:cubicBezTo>
              </a:path>
              <a:path stroke="0" w="43200" h="33255">
                <a:moveTo>
                  <a:pt x="40433" y="1079"/>
                </a:moveTo>
                <a:cubicBezTo>
                  <a:pt x="42247" y="4308"/>
                  <a:pt x="43200" y="7950"/>
                  <a:pt x="43200" y="11655"/>
                </a:cubicBezTo>
                <a:cubicBezTo>
                  <a:pt x="43200" y="23584"/>
                  <a:pt x="33529" y="33255"/>
                  <a:pt x="21600" y="33255"/>
                </a:cubicBezTo>
                <a:cubicBezTo>
                  <a:pt x="9670" y="33255"/>
                  <a:pt x="0" y="23584"/>
                  <a:pt x="0" y="11655"/>
                </a:cubicBezTo>
                <a:cubicBezTo>
                  <a:pt x="-1" y="7523"/>
                  <a:pt x="1184" y="3478"/>
                  <a:pt x="3414" y="0"/>
                </a:cubicBezTo>
                <a:lnTo>
                  <a:pt x="21600" y="11655"/>
                </a:lnTo>
                <a:lnTo>
                  <a:pt x="40433" y="1079"/>
                </a:lnTo>
                <a:close/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rc 37"/>
          <p:cNvSpPr/>
          <p:nvPr/>
        </p:nvSpPr>
        <p:spPr>
          <a:xfrm>
            <a:off x="1592280" y="2494080"/>
            <a:ext cx="3141720" cy="480960"/>
          </a:xfrm>
          <a:custGeom>
            <a:avLst/>
            <a:gdLst/>
            <a:ahLst/>
            <a:rect l="l" t="t" r="r" b="b"/>
            <a:pathLst>
              <a:path fill="none" w="43200" h="35377">
                <a:moveTo>
                  <a:pt x="39642" y="1900"/>
                </a:moveTo>
                <a:cubicBezTo>
                  <a:pt x="41963" y="5426"/>
                  <a:pt x="43200" y="9555"/>
                  <a:pt x="43200" y="13777"/>
                </a:cubicBezTo>
                <a:cubicBezTo>
                  <a:pt x="43200" y="25706"/>
                  <a:pt x="33529" y="35377"/>
                  <a:pt x="21600" y="35377"/>
                </a:cubicBezTo>
                <a:cubicBezTo>
                  <a:pt x="9670" y="35377"/>
                  <a:pt x="0" y="25706"/>
                  <a:pt x="0" y="13777"/>
                </a:cubicBezTo>
                <a:cubicBezTo>
                  <a:pt x="-1" y="8746"/>
                  <a:pt x="1755" y="3874"/>
                  <a:pt x="4964" y="0"/>
                </a:cubicBezTo>
              </a:path>
              <a:path stroke="0" w="43200" h="35377">
                <a:moveTo>
                  <a:pt x="39642" y="1900"/>
                </a:moveTo>
                <a:cubicBezTo>
                  <a:pt x="41963" y="5426"/>
                  <a:pt x="43200" y="9555"/>
                  <a:pt x="43200" y="13777"/>
                </a:cubicBezTo>
                <a:cubicBezTo>
                  <a:pt x="43200" y="25706"/>
                  <a:pt x="33529" y="35377"/>
                  <a:pt x="21600" y="35377"/>
                </a:cubicBezTo>
                <a:cubicBezTo>
                  <a:pt x="9670" y="35377"/>
                  <a:pt x="0" y="25706"/>
                  <a:pt x="0" y="13777"/>
                </a:cubicBezTo>
                <a:cubicBezTo>
                  <a:pt x="-1" y="8746"/>
                  <a:pt x="1755" y="3874"/>
                  <a:pt x="4964" y="0"/>
                </a:cubicBezTo>
                <a:lnTo>
                  <a:pt x="21600" y="13777"/>
                </a:lnTo>
                <a:lnTo>
                  <a:pt x="39642" y="1900"/>
                </a:lnTo>
                <a:close/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rc 38"/>
          <p:cNvSpPr/>
          <p:nvPr/>
        </p:nvSpPr>
        <p:spPr>
          <a:xfrm rot="21181800">
            <a:off x="1582200" y="5592600"/>
            <a:ext cx="3586320" cy="532080"/>
          </a:xfrm>
          <a:custGeom>
            <a:avLst/>
            <a:gdLst/>
            <a:ahLst/>
            <a:rect l="l" t="t" r="r" b="b"/>
            <a:pathLst>
              <a:path fill="none" w="27535" h="30749">
                <a:moveTo>
                  <a:pt x="27534" y="29917"/>
                </a:moveTo>
                <a:cubicBezTo>
                  <a:pt x="25604" y="30469"/>
                  <a:pt x="23607" y="30748"/>
                  <a:pt x="21600" y="30749"/>
                </a:cubicBezTo>
                <a:cubicBezTo>
                  <a:pt x="9670" y="30749"/>
                  <a:pt x="0" y="21078"/>
                  <a:pt x="0" y="9149"/>
                </a:cubicBezTo>
                <a:cubicBezTo>
                  <a:pt x="-1" y="5987"/>
                  <a:pt x="694" y="2864"/>
                  <a:pt x="2033" y="0"/>
                </a:cubicBezTo>
              </a:path>
              <a:path stroke="0" w="27535" h="30749">
                <a:moveTo>
                  <a:pt x="27534" y="29917"/>
                </a:moveTo>
                <a:cubicBezTo>
                  <a:pt x="25604" y="30469"/>
                  <a:pt x="23607" y="30748"/>
                  <a:pt x="21600" y="30749"/>
                </a:cubicBezTo>
                <a:cubicBezTo>
                  <a:pt x="9670" y="30749"/>
                  <a:pt x="0" y="21078"/>
                  <a:pt x="0" y="9149"/>
                </a:cubicBezTo>
                <a:cubicBezTo>
                  <a:pt x="-1" y="5987"/>
                  <a:pt x="694" y="2864"/>
                  <a:pt x="2033" y="0"/>
                </a:cubicBezTo>
                <a:lnTo>
                  <a:pt x="21600" y="9149"/>
                </a:lnTo>
                <a:lnTo>
                  <a:pt x="27534" y="29917"/>
                </a:lnTo>
                <a:close/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9"/>
          <p:cNvSpPr/>
          <p:nvPr/>
        </p:nvSpPr>
        <p:spPr>
          <a:xfrm flipH="1">
            <a:off x="5346360" y="5703840"/>
            <a:ext cx="934920" cy="16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rc 40"/>
          <p:cNvSpPr/>
          <p:nvPr/>
        </p:nvSpPr>
        <p:spPr>
          <a:xfrm>
            <a:off x="1604880" y="1928880"/>
            <a:ext cx="3122640" cy="546120"/>
          </a:xfrm>
          <a:custGeom>
            <a:avLst/>
            <a:gdLst/>
            <a:ahLst/>
            <a:rect l="l" t="t" r="r" b="b"/>
            <a:pathLst>
              <a:path fill="none" w="43200" h="40133">
                <a:moveTo>
                  <a:pt x="34550" y="1246"/>
                </a:moveTo>
                <a:cubicBezTo>
                  <a:pt x="39995" y="5324"/>
                  <a:pt x="43200" y="11730"/>
                  <a:pt x="43200" y="18533"/>
                </a:cubicBezTo>
                <a:cubicBezTo>
                  <a:pt x="43200" y="30462"/>
                  <a:pt x="33529" y="40133"/>
                  <a:pt x="21600" y="40133"/>
                </a:cubicBezTo>
                <a:cubicBezTo>
                  <a:pt x="9670" y="40133"/>
                  <a:pt x="0" y="30462"/>
                  <a:pt x="0" y="18533"/>
                </a:cubicBezTo>
                <a:cubicBezTo>
                  <a:pt x="-1" y="10938"/>
                  <a:pt x="3988" y="3901"/>
                  <a:pt x="10505" y="0"/>
                </a:cubicBezTo>
              </a:path>
              <a:path stroke="0" w="43200" h="40133">
                <a:moveTo>
                  <a:pt x="34550" y="1246"/>
                </a:moveTo>
                <a:cubicBezTo>
                  <a:pt x="39995" y="5324"/>
                  <a:pt x="43200" y="11730"/>
                  <a:pt x="43200" y="18533"/>
                </a:cubicBezTo>
                <a:cubicBezTo>
                  <a:pt x="43200" y="30462"/>
                  <a:pt x="33529" y="40133"/>
                  <a:pt x="21600" y="40133"/>
                </a:cubicBezTo>
                <a:cubicBezTo>
                  <a:pt x="9670" y="40133"/>
                  <a:pt x="0" y="30462"/>
                  <a:pt x="0" y="18533"/>
                </a:cubicBezTo>
                <a:cubicBezTo>
                  <a:pt x="-1" y="10938"/>
                  <a:pt x="3988" y="3901"/>
                  <a:pt x="10505" y="0"/>
                </a:cubicBezTo>
                <a:lnTo>
                  <a:pt x="21600" y="18533"/>
                </a:lnTo>
                <a:lnTo>
                  <a:pt x="34550" y="1246"/>
                </a:lnTo>
                <a:close/>
              </a:path>
            </a:pathLst>
          </a:custGeom>
          <a:noFill/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1"/>
          <p:cNvSpPr/>
          <p:nvPr/>
        </p:nvSpPr>
        <p:spPr>
          <a:xfrm>
            <a:off x="6362640" y="5572080"/>
            <a:ext cx="22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rgon de refrig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2"/>
          <p:cNvSpPr/>
          <p:nvPr/>
        </p:nvSpPr>
        <p:spPr>
          <a:xfrm>
            <a:off x="5138640" y="233208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Bobina de inducción de radiofrecu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3"/>
          <p:cNvSpPr/>
          <p:nvPr/>
        </p:nvSpPr>
        <p:spPr>
          <a:xfrm>
            <a:off x="3627360" y="61484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rgon para el 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44"/>
          <p:cNvGrpSpPr/>
          <p:nvPr/>
        </p:nvGrpSpPr>
        <p:grpSpPr>
          <a:xfrm>
            <a:off x="2902320" y="2828520"/>
            <a:ext cx="4684320" cy="3541320"/>
            <a:chOff x="2902320" y="2828520"/>
            <a:chExt cx="4684320" cy="3541320"/>
          </a:xfrm>
        </p:grpSpPr>
        <p:grpSp>
          <p:nvGrpSpPr>
            <p:cNvPr id="666" name="Group 45"/>
            <p:cNvGrpSpPr/>
            <p:nvPr/>
          </p:nvGrpSpPr>
          <p:grpSpPr>
            <a:xfrm>
              <a:off x="2902320" y="2828520"/>
              <a:ext cx="550800" cy="3541320"/>
              <a:chOff x="2902320" y="2828520"/>
              <a:chExt cx="550800" cy="3541320"/>
            </a:xfrm>
          </p:grpSpPr>
          <p:sp>
            <p:nvSpPr>
              <p:cNvPr id="667" name="Freeform 46"/>
              <p:cNvSpPr/>
              <p:nvPr/>
            </p:nvSpPr>
            <p:spPr>
              <a:xfrm rot="21451200">
                <a:off x="2978280" y="2835360"/>
                <a:ext cx="398520" cy="3527280"/>
              </a:xfrm>
              <a:custGeom>
                <a:avLst/>
                <a:gdLst/>
                <a:ahLst/>
                <a:rect l="l" t="t" r="r" b="b"/>
                <a:pathLst>
                  <a:path w="325" h="2631">
                    <a:moveTo>
                      <a:pt x="0" y="2631"/>
                    </a:moveTo>
                    <a:cubicBezTo>
                      <a:pt x="83" y="2551"/>
                      <a:pt x="166" y="2472"/>
                      <a:pt x="181" y="2359"/>
                    </a:cubicBezTo>
                    <a:cubicBezTo>
                      <a:pt x="196" y="2246"/>
                      <a:pt x="76" y="2110"/>
                      <a:pt x="91" y="1951"/>
                    </a:cubicBezTo>
                    <a:cubicBezTo>
                      <a:pt x="106" y="1792"/>
                      <a:pt x="257" y="1587"/>
                      <a:pt x="272" y="1406"/>
                    </a:cubicBezTo>
                    <a:cubicBezTo>
                      <a:pt x="287" y="1225"/>
                      <a:pt x="174" y="1028"/>
                      <a:pt x="181" y="862"/>
                    </a:cubicBezTo>
                    <a:cubicBezTo>
                      <a:pt x="188" y="696"/>
                      <a:pt x="309" y="553"/>
                      <a:pt x="317" y="409"/>
                    </a:cubicBezTo>
                    <a:cubicBezTo>
                      <a:pt x="325" y="265"/>
                      <a:pt x="242" y="68"/>
                      <a:pt x="227" y="0"/>
                    </a:cubicBezTo>
                  </a:path>
                </a:pathLst>
              </a:custGeom>
              <a:noFill/>
              <a:ln w="25560">
                <a:solidFill>
                  <a:srgbClr val="00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Oval 47"/>
              <p:cNvSpPr/>
              <p:nvPr/>
            </p:nvSpPr>
            <p:spPr>
              <a:xfrm>
                <a:off x="3265560" y="3916440"/>
                <a:ext cx="108000" cy="1080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48"/>
              <p:cNvSpPr/>
              <p:nvPr/>
            </p:nvSpPr>
            <p:spPr>
              <a:xfrm>
                <a:off x="3121200" y="5859720"/>
                <a:ext cx="107640" cy="107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49"/>
              <p:cNvSpPr/>
              <p:nvPr/>
            </p:nvSpPr>
            <p:spPr>
              <a:xfrm>
                <a:off x="3121200" y="4780080"/>
                <a:ext cx="107640" cy="1080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Text Box 50"/>
            <p:cNvSpPr/>
            <p:nvPr/>
          </p:nvSpPr>
          <p:spPr>
            <a:xfrm>
              <a:off x="4633920" y="3627360"/>
              <a:ext cx="29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Arial"/>
                </a:rPr>
                <a:t>Muestra nebulizada con Arg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1"/>
            <p:cNvSpPr/>
            <p:nvPr/>
          </p:nvSpPr>
          <p:spPr>
            <a:xfrm flipH="1">
              <a:off x="3265200" y="3772080"/>
              <a:ext cx="1368360" cy="936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 Box 52"/>
          <p:cNvSpPr/>
          <p:nvPr/>
        </p:nvSpPr>
        <p:spPr>
          <a:xfrm>
            <a:off x="1609560" y="1251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3"/>
          <p:cNvSpPr/>
          <p:nvPr/>
        </p:nvSpPr>
        <p:spPr>
          <a:xfrm>
            <a:off x="2968560" y="520560"/>
            <a:ext cx="539640" cy="5400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4"/>
          <p:cNvSpPr/>
          <p:nvPr/>
        </p:nvSpPr>
        <p:spPr>
          <a:xfrm>
            <a:off x="3112920" y="387360"/>
            <a:ext cx="23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55"/>
          <p:cNvGrpSpPr/>
          <p:nvPr/>
        </p:nvGrpSpPr>
        <p:grpSpPr>
          <a:xfrm>
            <a:off x="2949480" y="2116080"/>
            <a:ext cx="533520" cy="367200"/>
            <a:chOff x="2949480" y="2116080"/>
            <a:chExt cx="533520" cy="367200"/>
          </a:xfrm>
        </p:grpSpPr>
        <p:sp>
          <p:nvSpPr>
            <p:cNvPr id="677" name="Text Box 56"/>
            <p:cNvSpPr/>
            <p:nvPr/>
          </p:nvSpPr>
          <p:spPr>
            <a:xfrm>
              <a:off x="2949480" y="2176200"/>
              <a:ext cx="5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57"/>
            <p:cNvSpPr/>
            <p:nvPr/>
          </p:nvSpPr>
          <p:spPr>
            <a:xfrm>
              <a:off x="3176640" y="2116080"/>
              <a:ext cx="30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58"/>
          <p:cNvGrpSpPr/>
          <p:nvPr/>
        </p:nvGrpSpPr>
        <p:grpSpPr>
          <a:xfrm>
            <a:off x="3051000" y="2475000"/>
            <a:ext cx="376200" cy="298440"/>
            <a:chOff x="3051000" y="2475000"/>
            <a:chExt cx="376200" cy="298440"/>
          </a:xfrm>
        </p:grpSpPr>
        <p:sp>
          <p:nvSpPr>
            <p:cNvPr id="680" name="Text Box 59"/>
            <p:cNvSpPr/>
            <p:nvPr/>
          </p:nvSpPr>
          <p:spPr>
            <a:xfrm>
              <a:off x="3051000" y="249696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Tahoma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60"/>
            <p:cNvSpPr/>
            <p:nvPr/>
          </p:nvSpPr>
          <p:spPr>
            <a:xfrm>
              <a:off x="3138480" y="247500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Line 61"/>
          <p:cNvSpPr/>
          <p:nvPr/>
        </p:nvSpPr>
        <p:spPr>
          <a:xfrm flipH="1" flipV="1">
            <a:off x="2401920" y="6219720"/>
            <a:ext cx="1225440" cy="144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2"/>
          <p:cNvGrpSpPr/>
          <p:nvPr/>
        </p:nvGrpSpPr>
        <p:grpSpPr>
          <a:xfrm>
            <a:off x="8747280" y="333000"/>
            <a:ext cx="396720" cy="1324440"/>
            <a:chOff x="8747280" y="333000"/>
            <a:chExt cx="396720" cy="1324440"/>
          </a:xfrm>
        </p:grpSpPr>
        <p:sp>
          <p:nvSpPr>
            <p:cNvPr id="684" name="Rectangle 63"/>
            <p:cNvSpPr/>
            <p:nvPr/>
          </p:nvSpPr>
          <p:spPr>
            <a:xfrm>
              <a:off x="8747280" y="433440"/>
              <a:ext cx="396720" cy="1224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64"/>
            <p:cNvSpPr/>
            <p:nvPr/>
          </p:nvSpPr>
          <p:spPr>
            <a:xfrm rot="16200000">
              <a:off x="8289360" y="827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ET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AutoShape 65"/>
          <p:cNvSpPr/>
          <p:nvPr/>
        </p:nvSpPr>
        <p:spPr>
          <a:xfrm>
            <a:off x="1106640" y="692280"/>
            <a:ext cx="71280" cy="1800000"/>
          </a:xfrm>
          <a:custGeom>
            <a:avLst/>
            <a:gdLst>
              <a:gd name="textAreaLeft" fmla="*/ 45720 w 71280"/>
              <a:gd name="textAreaRight" fmla="*/ 71640 w 71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66"/>
          <p:cNvSpPr/>
          <p:nvPr/>
        </p:nvSpPr>
        <p:spPr>
          <a:xfrm>
            <a:off x="155520" y="14130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2 – 3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67"/>
          <p:cNvSpPr/>
          <p:nvPr/>
        </p:nvSpPr>
        <p:spPr>
          <a:xfrm rot="16200000">
            <a:off x="3021840" y="4869720"/>
            <a:ext cx="287280" cy="3311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86040 h 3311280"/>
              <a:gd name="textAreaBottom" fmla="*/ 322524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68"/>
          <p:cNvSpPr/>
          <p:nvPr/>
        </p:nvSpPr>
        <p:spPr>
          <a:xfrm>
            <a:off x="2944800" y="66420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69"/>
          <p:cNvSpPr/>
          <p:nvPr/>
        </p:nvSpPr>
        <p:spPr>
          <a:xfrm>
            <a:off x="7118280" y="0"/>
            <a:ext cx="2025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69 C -0.07813 0.00069 -0.13889 -0.01042 -0.13889 -0.02454 C -0.13889 -0.03866 -0.07813 -0.05024 -0.00399 -0.05024 C 0.06996 -0.05024 0.12986 -0.03866 0.12986 -0.02454 C 0.12986 -0.01042 0.06996 0.00069 -0.00399 0.00069 Z">
                                      <p:cBhvr>
                                        <p:cTn id="606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0254 C 0.06753 0.00254 0.12361 0.0118 0.12361 0.02361 C 0.12361 0.03518 0.06753 0.04467 -0.00139 0.04467 C -0.07031 0.04467 -0.12639 0.03518 -0.12639 0.02361 C -0.12639 0.0118 -0.07031 0.00254 -0.00139 0.00254 Z">
                                      <p:cBhvr>
                                        <p:cTn id="608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111E-006 C 0.00434 -0.00185 0.00729 -0.00532 0.00972 -0.01018 L 0.01319 -0.01944 C 0.01371 -0.0213 0.01406 -0.02315 0.01458 -0.025 C 0.01476 -0.02593 0.01528 -0.02778 0.01528 -0.02778 C 0.01389 -0.04699 0.00625 -0.06366 0.00278 -0.08241 C 0.00347 -0.09421 0.00503 -0.10278 0.01389 -0.10741 C 0.02101 -0.11134 0.01528 -0.10671 0.02222 -0.11296 C 0.02344 -0.11412 0.02639 -0.11481 0.02639 -0.11481 C 0.0283 -0.12454 0.0276 -0.12917 0.02083 -0.13518 C 0.01719 -0.14236 0.00642 -0.14606 0.00139 -0.15278 C 0.00017 -0.15764 -0.00208 -0.16319 -0.00417 -0.16759 C -0.00469 -0.1706 -0.00504 -0.17384 -0.00556 -0.17685 C -0.00625 -0.18194 -0.00451 -0.1831 -0.00347 -0.18704 C -2.77777999999843E-007 -0.19954 0.00503 -0.20833 0.01528 -0.21111 C 0.01788 -0.21296 0.02101 -0.21389 0.02361 -0.21574 C 0.025 -0.2169 0.02778 -0.21944 0.02778 -0.21944 C 0.02847 -0.22083 0.02986 -0.22315 0.02986 -0.225 C 0.02986 -0.22801 0.02812 -0.24028 0.025 -0.24167 C 0.01927 -0.24421 0.01424 -0.24861 0.00833 -0.25 C 0.00486 -0.25093 0.00243 -0.25185 -0.0007 -0.2537 C -0.00139 -0.25417 -0.00261 -0.2537 -0.00278 -0.25463 C -0.00347 -0.25926 -0.00278 -0.26389 -0.00278 -0.26852 E">
                                      <p:cBhvr>
                                        <p:cTn id="618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43 0.00162 -0.00278 0.00486 -0.00486 0.00695 C -0.00538 0.00857 -0.00573 0.01019 -0.00677 0.01111 C -0.00729 0.01436 -0.00972 0.01783 -0.01094 0.02061 C -0.01111 0.02223 -0.01198 0.02338 -0.0125 0.025 C -0.01302 0.02871 -0.01285 0.02709 -0.0125 0.03449 C -0.0125 0.03542 -0.01163 0.03681 -0.01163 0.03681 E">
                                      <p:cBhvr>
                                        <p:cTn id="635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00162 L 0.5941 0.00116 E">
                                      <p:cBhvr>
                                        <p:cTn id="644" dur="5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4"/>
          <p:cNvSpPr/>
          <p:nvPr/>
        </p:nvSpPr>
        <p:spPr>
          <a:xfrm>
            <a:off x="1116000" y="1052640"/>
            <a:ext cx="4032360" cy="3528720"/>
          </a:xfrm>
          <a:prstGeom prst="rect">
            <a:avLst/>
          </a:prstGeom>
          <a:solidFill>
            <a:srgbClr val="3333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"/>
          <p:cNvSpPr/>
          <p:nvPr/>
        </p:nvSpPr>
        <p:spPr>
          <a:xfrm flipV="1">
            <a:off x="1117440" y="26845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6"/>
          <p:cNvSpPr/>
          <p:nvPr/>
        </p:nvSpPr>
        <p:spPr>
          <a:xfrm rot="16200000">
            <a:off x="1133280" y="2905920"/>
            <a:ext cx="252360" cy="1447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4427640" y="4797360"/>
            <a:ext cx="23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TUBOS FOTOMULTIPL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1258920" y="19890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d de Dif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9"/>
          <p:cNvSpPr/>
          <p:nvPr/>
        </p:nvSpPr>
        <p:spPr>
          <a:xfrm flipV="1">
            <a:off x="5148360" y="424980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0"/>
          <p:cNvSpPr/>
          <p:nvPr/>
        </p:nvSpPr>
        <p:spPr>
          <a:xfrm>
            <a:off x="1014480" y="2781360"/>
            <a:ext cx="8935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1"/>
          <p:cNvSpPr/>
          <p:nvPr/>
        </p:nvSpPr>
        <p:spPr>
          <a:xfrm>
            <a:off x="150840" y="2792520"/>
            <a:ext cx="93492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2"/>
          <p:cNvSpPr/>
          <p:nvPr/>
        </p:nvSpPr>
        <p:spPr>
          <a:xfrm rot="5400000">
            <a:off x="1133280" y="2545920"/>
            <a:ext cx="252360" cy="1447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3"/>
          <p:cNvGrpSpPr/>
          <p:nvPr/>
        </p:nvGrpSpPr>
        <p:grpSpPr>
          <a:xfrm>
            <a:off x="5003640" y="4024440"/>
            <a:ext cx="149400" cy="543960"/>
            <a:chOff x="5003640" y="4024440"/>
            <a:chExt cx="149400" cy="543960"/>
          </a:xfrm>
        </p:grpSpPr>
        <p:sp>
          <p:nvSpPr>
            <p:cNvPr id="701" name="AutoShape 14"/>
            <p:cNvSpPr/>
            <p:nvPr/>
          </p:nvSpPr>
          <p:spPr>
            <a:xfrm rot="16200000">
              <a:off x="4949640" y="4369680"/>
              <a:ext cx="252360" cy="144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15"/>
            <p:cNvSpPr/>
            <p:nvPr/>
          </p:nvSpPr>
          <p:spPr>
            <a:xfrm rot="5400000">
              <a:off x="4954320" y="4078080"/>
              <a:ext cx="252360" cy="144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Line 16"/>
          <p:cNvSpPr/>
          <p:nvPr/>
        </p:nvSpPr>
        <p:spPr>
          <a:xfrm>
            <a:off x="1968120" y="2800080"/>
            <a:ext cx="3337920" cy="160848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7"/>
          <p:cNvSpPr/>
          <p:nvPr/>
        </p:nvSpPr>
        <p:spPr>
          <a:xfrm>
            <a:off x="3203640" y="260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POLICROM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8"/>
          <p:cNvSpPr/>
          <p:nvPr/>
        </p:nvSpPr>
        <p:spPr>
          <a:xfrm>
            <a:off x="324000" y="306864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ndija de en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9"/>
          <p:cNvSpPr/>
          <p:nvPr/>
        </p:nvSpPr>
        <p:spPr>
          <a:xfrm>
            <a:off x="3132000" y="1197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ndijas de sa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20"/>
          <p:cNvGrpSpPr/>
          <p:nvPr/>
        </p:nvGrpSpPr>
        <p:grpSpPr>
          <a:xfrm>
            <a:off x="5003640" y="3193920"/>
            <a:ext cx="149400" cy="543960"/>
            <a:chOff x="5003640" y="3193920"/>
            <a:chExt cx="149400" cy="543960"/>
          </a:xfrm>
        </p:grpSpPr>
        <p:sp>
          <p:nvSpPr>
            <p:cNvPr id="708" name="AutoShape 21"/>
            <p:cNvSpPr/>
            <p:nvPr/>
          </p:nvSpPr>
          <p:spPr>
            <a:xfrm rot="16200000">
              <a:off x="4949640" y="3539160"/>
              <a:ext cx="252360" cy="144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22"/>
            <p:cNvSpPr/>
            <p:nvPr/>
          </p:nvSpPr>
          <p:spPr>
            <a:xfrm rot="5400000">
              <a:off x="4954320" y="3247560"/>
              <a:ext cx="252360" cy="144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23"/>
          <p:cNvGrpSpPr/>
          <p:nvPr/>
        </p:nvGrpSpPr>
        <p:grpSpPr>
          <a:xfrm>
            <a:off x="4994280" y="2482920"/>
            <a:ext cx="149400" cy="543960"/>
            <a:chOff x="4994280" y="2482920"/>
            <a:chExt cx="149400" cy="543960"/>
          </a:xfrm>
        </p:grpSpPr>
        <p:sp>
          <p:nvSpPr>
            <p:cNvPr id="711" name="AutoShape 24"/>
            <p:cNvSpPr/>
            <p:nvPr/>
          </p:nvSpPr>
          <p:spPr>
            <a:xfrm rot="16200000">
              <a:off x="4940280" y="2828160"/>
              <a:ext cx="252360" cy="144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25"/>
            <p:cNvSpPr/>
            <p:nvPr/>
          </p:nvSpPr>
          <p:spPr>
            <a:xfrm rot="5400000">
              <a:off x="4944960" y="2536560"/>
              <a:ext cx="252360" cy="144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26"/>
          <p:cNvGrpSpPr/>
          <p:nvPr/>
        </p:nvGrpSpPr>
        <p:grpSpPr>
          <a:xfrm>
            <a:off x="4991040" y="1854360"/>
            <a:ext cx="149400" cy="543960"/>
            <a:chOff x="4991040" y="1854360"/>
            <a:chExt cx="149400" cy="543960"/>
          </a:xfrm>
        </p:grpSpPr>
        <p:sp>
          <p:nvSpPr>
            <p:cNvPr id="714" name="AutoShape 27"/>
            <p:cNvSpPr/>
            <p:nvPr/>
          </p:nvSpPr>
          <p:spPr>
            <a:xfrm rot="16200000">
              <a:off x="4937040" y="2199600"/>
              <a:ext cx="252360" cy="144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28"/>
            <p:cNvSpPr/>
            <p:nvPr/>
          </p:nvSpPr>
          <p:spPr>
            <a:xfrm rot="5400000">
              <a:off x="4941720" y="1908000"/>
              <a:ext cx="252360" cy="144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29"/>
          <p:cNvGrpSpPr/>
          <p:nvPr/>
        </p:nvGrpSpPr>
        <p:grpSpPr>
          <a:xfrm>
            <a:off x="4994280" y="1158840"/>
            <a:ext cx="149400" cy="543960"/>
            <a:chOff x="4994280" y="1158840"/>
            <a:chExt cx="149400" cy="543960"/>
          </a:xfrm>
        </p:grpSpPr>
        <p:sp>
          <p:nvSpPr>
            <p:cNvPr id="717" name="AutoShape 30"/>
            <p:cNvSpPr/>
            <p:nvPr/>
          </p:nvSpPr>
          <p:spPr>
            <a:xfrm rot="16200000">
              <a:off x="4940280" y="1504080"/>
              <a:ext cx="252360" cy="144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31"/>
            <p:cNvSpPr/>
            <p:nvPr/>
          </p:nvSpPr>
          <p:spPr>
            <a:xfrm rot="5400000">
              <a:off x="4944960" y="1212480"/>
              <a:ext cx="252360" cy="144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Line 32"/>
          <p:cNvSpPr/>
          <p:nvPr/>
        </p:nvSpPr>
        <p:spPr>
          <a:xfrm flipV="1">
            <a:off x="5148360" y="341460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33"/>
          <p:cNvSpPr/>
          <p:nvPr/>
        </p:nvSpPr>
        <p:spPr>
          <a:xfrm flipV="1">
            <a:off x="5148360" y="270828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34"/>
          <p:cNvSpPr/>
          <p:nvPr/>
        </p:nvSpPr>
        <p:spPr>
          <a:xfrm>
            <a:off x="1901880" y="2800800"/>
            <a:ext cx="3536640" cy="7419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35"/>
          <p:cNvSpPr/>
          <p:nvPr/>
        </p:nvSpPr>
        <p:spPr>
          <a:xfrm flipV="1">
            <a:off x="1978200" y="2752560"/>
            <a:ext cx="3600360" cy="446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6"/>
          <p:cNvSpPr/>
          <p:nvPr/>
        </p:nvSpPr>
        <p:spPr>
          <a:xfrm flipV="1">
            <a:off x="5148360" y="206064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7"/>
          <p:cNvSpPr/>
          <p:nvPr/>
        </p:nvSpPr>
        <p:spPr>
          <a:xfrm flipV="1">
            <a:off x="1983240" y="2065320"/>
            <a:ext cx="3404160" cy="70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38"/>
          <p:cNvSpPr/>
          <p:nvPr/>
        </p:nvSpPr>
        <p:spPr>
          <a:xfrm flipV="1">
            <a:off x="5148360" y="134136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39"/>
          <p:cNvSpPr/>
          <p:nvPr/>
        </p:nvSpPr>
        <p:spPr>
          <a:xfrm flipV="1">
            <a:off x="1916640" y="1311480"/>
            <a:ext cx="3431160" cy="14893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40"/>
          <p:cNvSpPr/>
          <p:nvPr/>
        </p:nvSpPr>
        <p:spPr>
          <a:xfrm>
            <a:off x="5508720" y="1268280"/>
            <a:ext cx="3240000" cy="1656000"/>
          </a:xfrm>
          <a:custGeom>
            <a:avLst/>
            <a:gdLst/>
            <a:ahLst/>
            <a:rect l="l" t="t" r="r" b="b"/>
            <a:pathLst>
              <a:path w="2041" h="1043">
                <a:moveTo>
                  <a:pt x="0" y="0"/>
                </a:moveTo>
                <a:lnTo>
                  <a:pt x="1542" y="0"/>
                </a:lnTo>
                <a:lnTo>
                  <a:pt x="1542" y="1043"/>
                </a:lnTo>
                <a:lnTo>
                  <a:pt x="2041" y="1043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41"/>
          <p:cNvSpPr/>
          <p:nvPr/>
        </p:nvSpPr>
        <p:spPr>
          <a:xfrm>
            <a:off x="5580000" y="2060640"/>
            <a:ext cx="237672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2"/>
          <p:cNvSpPr/>
          <p:nvPr/>
        </p:nvSpPr>
        <p:spPr>
          <a:xfrm>
            <a:off x="5724360" y="2781360"/>
            <a:ext cx="223236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43"/>
          <p:cNvSpPr/>
          <p:nvPr/>
        </p:nvSpPr>
        <p:spPr>
          <a:xfrm>
            <a:off x="5435640" y="2852640"/>
            <a:ext cx="2521080" cy="1584360"/>
          </a:xfrm>
          <a:custGeom>
            <a:avLst/>
            <a:gdLst/>
            <a:ahLst/>
            <a:rect l="l" t="t" r="r" b="b"/>
            <a:pathLst>
              <a:path w="1588" h="998">
                <a:moveTo>
                  <a:pt x="0" y="998"/>
                </a:moveTo>
                <a:lnTo>
                  <a:pt x="1588" y="998"/>
                </a:lnTo>
                <a:lnTo>
                  <a:pt x="1588" y="0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4"/>
          <p:cNvSpPr/>
          <p:nvPr/>
        </p:nvSpPr>
        <p:spPr>
          <a:xfrm rot="12102000">
            <a:off x="5364000" y="423972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45"/>
          <p:cNvSpPr/>
          <p:nvPr/>
        </p:nvSpPr>
        <p:spPr>
          <a:xfrm>
            <a:off x="5580000" y="3573360"/>
            <a:ext cx="2376720" cy="1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46"/>
          <p:cNvSpPr/>
          <p:nvPr/>
        </p:nvSpPr>
        <p:spPr>
          <a:xfrm rot="9729600">
            <a:off x="5363640" y="1051920"/>
            <a:ext cx="2160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7"/>
          <p:cNvSpPr/>
          <p:nvPr/>
        </p:nvSpPr>
        <p:spPr>
          <a:xfrm rot="10368600">
            <a:off x="5435640" y="184464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48"/>
          <p:cNvSpPr/>
          <p:nvPr/>
        </p:nvSpPr>
        <p:spPr>
          <a:xfrm rot="10800000">
            <a:off x="5651280" y="2533320"/>
            <a:ext cx="21564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49"/>
          <p:cNvSpPr/>
          <p:nvPr/>
        </p:nvSpPr>
        <p:spPr>
          <a:xfrm rot="11721600">
            <a:off x="5502240" y="3369600"/>
            <a:ext cx="2160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50"/>
          <p:cNvSpPr/>
          <p:nvPr/>
        </p:nvSpPr>
        <p:spPr>
          <a:xfrm>
            <a:off x="7164360" y="0"/>
            <a:ext cx="2025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1"/>
          <p:cNvSpPr/>
          <p:nvPr/>
        </p:nvSpPr>
        <p:spPr>
          <a:xfrm rot="16200000">
            <a:off x="1609560" y="2663280"/>
            <a:ext cx="647640" cy="23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2"/>
          <p:cNvSpPr/>
          <p:nvPr/>
        </p:nvSpPr>
        <p:spPr>
          <a:xfrm>
            <a:off x="7118280" y="0"/>
            <a:ext cx="2025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5"/>
          <p:cNvGrpSpPr/>
          <p:nvPr/>
        </p:nvGrpSpPr>
        <p:grpSpPr>
          <a:xfrm>
            <a:off x="419040" y="882720"/>
            <a:ext cx="8610480" cy="2461320"/>
            <a:chOff x="419040" y="882720"/>
            <a:chExt cx="8610480" cy="2461320"/>
          </a:xfrm>
        </p:grpSpPr>
        <p:grpSp>
          <p:nvGrpSpPr>
            <p:cNvPr id="741" name="Group 6"/>
            <p:cNvGrpSpPr/>
            <p:nvPr/>
          </p:nvGrpSpPr>
          <p:grpSpPr>
            <a:xfrm>
              <a:off x="419040" y="882720"/>
              <a:ext cx="7679520" cy="2461320"/>
              <a:chOff x="419040" y="882720"/>
              <a:chExt cx="7679520" cy="2461320"/>
            </a:xfrm>
          </p:grpSpPr>
          <p:sp>
            <p:nvSpPr>
              <p:cNvPr id="742" name="Text Box 7"/>
              <p:cNvSpPr/>
              <p:nvPr/>
            </p:nvSpPr>
            <p:spPr>
              <a:xfrm>
                <a:off x="3396960" y="920520"/>
                <a:ext cx="60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</a:t>
                </a:r>
                <a:r>
                  <a:rPr b="1" lang="es-ES_tradnl" sz="10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8"/>
              <p:cNvSpPr/>
              <p:nvPr/>
            </p:nvSpPr>
            <p:spPr>
              <a:xfrm>
                <a:off x="4019400" y="907920"/>
                <a:ext cx="60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</a:t>
                </a:r>
                <a:r>
                  <a:rPr b="1" lang="es-ES_tradnl" sz="1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9"/>
              <p:cNvSpPr/>
              <p:nvPr/>
            </p:nvSpPr>
            <p:spPr>
              <a:xfrm>
                <a:off x="2964960" y="89496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ff"/>
                    </a:solidFill>
                    <a:latin typeface="Symbol"/>
                    <a:ea typeface="Symbol"/>
                  </a:rPr>
                  <a:t></a:t>
                </a:r>
                <a:r>
                  <a:rPr b="1" lang="es-ES_tradnl" sz="1000" spc="-1" strike="noStrike">
                    <a:solidFill>
                      <a:srgbClr val="ff99ff"/>
                    </a:solidFill>
                    <a:latin typeface="Symbol"/>
                    <a:ea typeface="Symbol"/>
                  </a:rPr>
                  <a:t>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10"/>
              <p:cNvSpPr/>
              <p:nvPr/>
            </p:nvSpPr>
            <p:spPr>
              <a:xfrm>
                <a:off x="1758600" y="882720"/>
                <a:ext cx="60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ff33"/>
                    </a:solidFill>
                    <a:latin typeface="Symbol"/>
                    <a:ea typeface="Symbol"/>
                  </a:rPr>
                  <a:t></a:t>
                </a:r>
                <a:r>
                  <a:rPr b="1" lang="es-ES_tradnl" sz="1000" spc="-1" strike="noStrike">
                    <a:solidFill>
                      <a:srgbClr val="99ff33"/>
                    </a:solidFill>
                    <a:latin typeface="Symbol"/>
                    <a:ea typeface="Symbol"/>
                  </a:rPr>
                  <a:t>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11"/>
              <p:cNvSpPr/>
              <p:nvPr/>
            </p:nvSpPr>
            <p:spPr>
              <a:xfrm>
                <a:off x="419040" y="942840"/>
                <a:ext cx="1752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ff33"/>
                    </a:solidFill>
                    <a:latin typeface="Arial"/>
                  </a:rPr>
                  <a:t>LUZ INCID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7" name="Group 12"/>
              <p:cNvGrpSpPr/>
              <p:nvPr/>
            </p:nvGrpSpPr>
            <p:grpSpPr>
              <a:xfrm>
                <a:off x="1577520" y="1231560"/>
                <a:ext cx="6521040" cy="2112480"/>
                <a:chOff x="1577520" y="1231560"/>
                <a:chExt cx="6521040" cy="2112480"/>
              </a:xfrm>
            </p:grpSpPr>
            <p:sp>
              <p:nvSpPr>
                <p:cNvPr id="748" name="Line 13"/>
                <p:cNvSpPr/>
                <p:nvPr/>
              </p:nvSpPr>
              <p:spPr>
                <a:xfrm>
                  <a:off x="2028240" y="1231560"/>
                  <a:ext cx="271080" cy="3999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  <a:tailEnd len="med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4"/>
                <p:cNvSpPr/>
                <p:nvPr/>
              </p:nvSpPr>
              <p:spPr>
                <a:xfrm>
                  <a:off x="2266200" y="1580760"/>
                  <a:ext cx="517320" cy="76176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5"/>
                <p:cNvSpPr/>
                <p:nvPr/>
              </p:nvSpPr>
              <p:spPr>
                <a:xfrm flipV="1">
                  <a:off x="2826000" y="1710000"/>
                  <a:ext cx="884880" cy="681120"/>
                </a:xfrm>
                <a:prstGeom prst="line">
                  <a:avLst/>
                </a:prstGeom>
                <a:ln w="25560">
                  <a:solidFill>
                    <a:srgbClr val="ffff00"/>
                  </a:solidFill>
                  <a:miter/>
                  <a:tailEnd len="med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6"/>
                <p:cNvSpPr/>
                <p:nvPr/>
              </p:nvSpPr>
              <p:spPr>
                <a:xfrm flipV="1">
                  <a:off x="2810520" y="1839240"/>
                  <a:ext cx="393480" cy="536040"/>
                </a:xfrm>
                <a:prstGeom prst="line">
                  <a:avLst/>
                </a:prstGeom>
                <a:ln w="25560">
                  <a:solidFill>
                    <a:srgbClr val="ff9900"/>
                  </a:solidFill>
                  <a:miter/>
                  <a:tailEnd len="med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7"/>
                <p:cNvSpPr/>
                <p:nvPr/>
              </p:nvSpPr>
              <p:spPr>
                <a:xfrm flipV="1">
                  <a:off x="2795760" y="1590480"/>
                  <a:ext cx="280080" cy="76608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  <a:tailEnd len="med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8"/>
                <p:cNvSpPr/>
                <p:nvPr/>
              </p:nvSpPr>
              <p:spPr>
                <a:xfrm flipV="1">
                  <a:off x="3695040" y="1498680"/>
                  <a:ext cx="3096720" cy="77436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3688560" y="2502000"/>
                  <a:ext cx="3101760" cy="80208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Oval 20"/>
                <p:cNvSpPr/>
                <p:nvPr/>
              </p:nvSpPr>
              <p:spPr>
                <a:xfrm>
                  <a:off x="3590280" y="2275920"/>
                  <a:ext cx="228240" cy="228600"/>
                </a:xfrm>
                <a:prstGeom prst="ellipse">
                  <a:avLst/>
                </a:prstGeom>
                <a:noFill/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6" name="Group 21"/>
                <p:cNvGrpSpPr/>
                <p:nvPr/>
              </p:nvGrpSpPr>
              <p:grpSpPr>
                <a:xfrm>
                  <a:off x="6103800" y="1455120"/>
                  <a:ext cx="1994760" cy="1888920"/>
                  <a:chOff x="6103800" y="1455120"/>
                  <a:chExt cx="1994760" cy="1888920"/>
                </a:xfrm>
              </p:grpSpPr>
              <p:sp>
                <p:nvSpPr>
                  <p:cNvPr id="757" name="Oval 22"/>
                  <p:cNvSpPr/>
                  <p:nvPr/>
                </p:nvSpPr>
                <p:spPr>
                  <a:xfrm>
                    <a:off x="6113880" y="1455120"/>
                    <a:ext cx="1981440" cy="18889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Line 23"/>
                  <p:cNvSpPr/>
                  <p:nvPr/>
                </p:nvSpPr>
                <p:spPr>
                  <a:xfrm>
                    <a:off x="6304680" y="2966400"/>
                    <a:ext cx="1600200" cy="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Line 24"/>
                  <p:cNvSpPr/>
                  <p:nvPr/>
                </p:nvSpPr>
                <p:spPr>
                  <a:xfrm>
                    <a:off x="6304680" y="1837440"/>
                    <a:ext cx="1600200" cy="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25"/>
                  <p:cNvSpPr/>
                  <p:nvPr/>
                </p:nvSpPr>
                <p:spPr>
                  <a:xfrm>
                    <a:off x="7577640" y="1851840"/>
                    <a:ext cx="381240" cy="7632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26"/>
                  <p:cNvSpPr/>
                  <p:nvPr/>
                </p:nvSpPr>
                <p:spPr>
                  <a:xfrm>
                    <a:off x="7238160" y="1839240"/>
                    <a:ext cx="761760" cy="15228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Line 27"/>
                  <p:cNvSpPr/>
                  <p:nvPr/>
                </p:nvSpPr>
                <p:spPr>
                  <a:xfrm>
                    <a:off x="7018560" y="1850400"/>
                    <a:ext cx="997560" cy="19332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Line 28"/>
                  <p:cNvSpPr/>
                  <p:nvPr/>
                </p:nvSpPr>
                <p:spPr>
                  <a:xfrm>
                    <a:off x="6726600" y="1836000"/>
                    <a:ext cx="1311480" cy="27000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Line 29"/>
                  <p:cNvSpPr/>
                  <p:nvPr/>
                </p:nvSpPr>
                <p:spPr>
                  <a:xfrm>
                    <a:off x="6473160" y="1843560"/>
                    <a:ext cx="1596600" cy="32436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Line 30"/>
                  <p:cNvSpPr/>
                  <p:nvPr/>
                </p:nvSpPr>
                <p:spPr>
                  <a:xfrm>
                    <a:off x="6282360" y="1866600"/>
                    <a:ext cx="1803240" cy="35784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Line 31"/>
                  <p:cNvSpPr/>
                  <p:nvPr/>
                </p:nvSpPr>
                <p:spPr>
                  <a:xfrm>
                    <a:off x="6254280" y="1920960"/>
                    <a:ext cx="1833840" cy="35712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Line 32"/>
                  <p:cNvSpPr/>
                  <p:nvPr/>
                </p:nvSpPr>
                <p:spPr>
                  <a:xfrm>
                    <a:off x="6219360" y="1970280"/>
                    <a:ext cx="1875240" cy="36288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Line 33"/>
                  <p:cNvSpPr/>
                  <p:nvPr/>
                </p:nvSpPr>
                <p:spPr>
                  <a:xfrm>
                    <a:off x="6206760" y="2026080"/>
                    <a:ext cx="1875240" cy="36288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Line 34"/>
                  <p:cNvSpPr/>
                  <p:nvPr/>
                </p:nvSpPr>
                <p:spPr>
                  <a:xfrm>
                    <a:off x="6136200" y="2139120"/>
                    <a:ext cx="1962360" cy="36540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Line 35"/>
                  <p:cNvSpPr/>
                  <p:nvPr/>
                </p:nvSpPr>
                <p:spPr>
                  <a:xfrm>
                    <a:off x="6120360" y="2194560"/>
                    <a:ext cx="1962360" cy="36540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Line 36"/>
                  <p:cNvSpPr/>
                  <p:nvPr/>
                </p:nvSpPr>
                <p:spPr>
                  <a:xfrm>
                    <a:off x="6110640" y="2248560"/>
                    <a:ext cx="1962360" cy="36540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2" name="Group 37"/>
                  <p:cNvGrpSpPr/>
                  <p:nvPr/>
                </p:nvGrpSpPr>
                <p:grpSpPr>
                  <a:xfrm>
                    <a:off x="6111360" y="2419200"/>
                    <a:ext cx="1887840" cy="552960"/>
                    <a:chOff x="6111360" y="2419200"/>
                    <a:chExt cx="1887840" cy="552960"/>
                  </a:xfrm>
                </p:grpSpPr>
                <p:sp>
                  <p:nvSpPr>
                    <p:cNvPr id="773" name="Line 38"/>
                    <p:cNvSpPr/>
                    <p:nvPr/>
                  </p:nvSpPr>
                  <p:spPr>
                    <a:xfrm flipH="1" flipV="1">
                      <a:off x="6247080" y="2880000"/>
                      <a:ext cx="381240" cy="76320"/>
                    </a:xfrm>
                    <a:prstGeom prst="line">
                      <a:avLst/>
                    </a:prstGeom>
                    <a:ln w="1260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39"/>
                    <p:cNvSpPr/>
                    <p:nvPr/>
                  </p:nvSpPr>
                  <p:spPr>
                    <a:xfrm flipH="1" flipV="1">
                      <a:off x="6206040" y="2816640"/>
                      <a:ext cx="761760" cy="152280"/>
                    </a:xfrm>
                    <a:prstGeom prst="line">
                      <a:avLst/>
                    </a:prstGeom>
                    <a:ln w="1260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Line 40"/>
                    <p:cNvSpPr/>
                    <p:nvPr/>
                  </p:nvSpPr>
                  <p:spPr>
                    <a:xfrm flipH="1" flipV="1">
                      <a:off x="6189840" y="2764440"/>
                      <a:ext cx="997560" cy="193320"/>
                    </a:xfrm>
                    <a:prstGeom prst="line">
                      <a:avLst/>
                    </a:prstGeom>
                    <a:ln w="1260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41"/>
                    <p:cNvSpPr/>
                    <p:nvPr/>
                  </p:nvSpPr>
                  <p:spPr>
                    <a:xfrm flipH="1" flipV="1">
                      <a:off x="6167880" y="2702160"/>
                      <a:ext cx="1311480" cy="270000"/>
                    </a:xfrm>
                    <a:prstGeom prst="line">
                      <a:avLst/>
                    </a:prstGeom>
                    <a:ln w="1260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42"/>
                    <p:cNvSpPr/>
                    <p:nvPr/>
                  </p:nvSpPr>
                  <p:spPr>
                    <a:xfrm flipH="1" flipV="1">
                      <a:off x="6136200" y="2640240"/>
                      <a:ext cx="1596600" cy="324360"/>
                    </a:xfrm>
                    <a:prstGeom prst="line">
                      <a:avLst/>
                    </a:prstGeom>
                    <a:ln w="1260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43"/>
                    <p:cNvSpPr/>
                    <p:nvPr/>
                  </p:nvSpPr>
                  <p:spPr>
                    <a:xfrm flipH="1" flipV="1">
                      <a:off x="6120360" y="2583720"/>
                      <a:ext cx="1803240" cy="357840"/>
                    </a:xfrm>
                    <a:prstGeom prst="line">
                      <a:avLst/>
                    </a:prstGeom>
                    <a:ln w="1260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44"/>
                    <p:cNvSpPr/>
                    <p:nvPr/>
                  </p:nvSpPr>
                  <p:spPr>
                    <a:xfrm flipH="1" flipV="1">
                      <a:off x="6117840" y="2530080"/>
                      <a:ext cx="1833840" cy="357120"/>
                    </a:xfrm>
                    <a:prstGeom prst="line">
                      <a:avLst/>
                    </a:prstGeom>
                    <a:ln w="1260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45"/>
                    <p:cNvSpPr/>
                    <p:nvPr/>
                  </p:nvSpPr>
                  <p:spPr>
                    <a:xfrm flipH="1" flipV="1">
                      <a:off x="6111360" y="2475000"/>
                      <a:ext cx="1875240" cy="362880"/>
                    </a:xfrm>
                    <a:prstGeom prst="line">
                      <a:avLst/>
                    </a:prstGeom>
                    <a:ln w="1260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46"/>
                    <p:cNvSpPr/>
                    <p:nvPr/>
                  </p:nvSpPr>
                  <p:spPr>
                    <a:xfrm flipH="1" flipV="1">
                      <a:off x="6123960" y="2419200"/>
                      <a:ext cx="1875240" cy="362880"/>
                    </a:xfrm>
                    <a:prstGeom prst="line">
                      <a:avLst/>
                    </a:prstGeom>
                    <a:ln w="1260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2" name="Line 47"/>
                  <p:cNvSpPr/>
                  <p:nvPr/>
                </p:nvSpPr>
                <p:spPr>
                  <a:xfrm>
                    <a:off x="6104520" y="2305800"/>
                    <a:ext cx="1962360" cy="36540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Line 48"/>
                  <p:cNvSpPr/>
                  <p:nvPr/>
                </p:nvSpPr>
                <p:spPr>
                  <a:xfrm>
                    <a:off x="6160680" y="2084760"/>
                    <a:ext cx="1935360" cy="36288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Line 49"/>
                  <p:cNvSpPr/>
                  <p:nvPr/>
                </p:nvSpPr>
                <p:spPr>
                  <a:xfrm>
                    <a:off x="6103800" y="2365920"/>
                    <a:ext cx="1935000" cy="36252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5" name="Line 50"/>
                <p:cNvSpPr/>
                <p:nvPr/>
              </p:nvSpPr>
              <p:spPr>
                <a:xfrm flipV="1">
                  <a:off x="3048840" y="1243800"/>
                  <a:ext cx="148320" cy="41832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51"/>
                <p:cNvSpPr/>
                <p:nvPr/>
              </p:nvSpPr>
              <p:spPr>
                <a:xfrm flipV="1">
                  <a:off x="3193200" y="1282680"/>
                  <a:ext cx="406440" cy="573480"/>
                </a:xfrm>
                <a:prstGeom prst="line">
                  <a:avLst/>
                </a:prstGeom>
                <a:ln w="255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Rectangle 52"/>
                <p:cNvSpPr/>
                <p:nvPr/>
              </p:nvSpPr>
              <p:spPr>
                <a:xfrm>
                  <a:off x="1578960" y="2163240"/>
                  <a:ext cx="2590200" cy="182520"/>
                </a:xfrm>
                <a:prstGeom prst="rect">
                  <a:avLst/>
                </a:prstGeom>
                <a:noFill/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Rectangle 53"/>
                <p:cNvSpPr/>
                <p:nvPr/>
              </p:nvSpPr>
              <p:spPr>
                <a:xfrm>
                  <a:off x="1577520" y="2344320"/>
                  <a:ext cx="2590560" cy="9216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Rectangle 54"/>
                <p:cNvSpPr/>
                <p:nvPr/>
              </p:nvSpPr>
              <p:spPr>
                <a:xfrm>
                  <a:off x="1578960" y="2437920"/>
                  <a:ext cx="2590200" cy="182520"/>
                </a:xfrm>
                <a:prstGeom prst="rect">
                  <a:avLst/>
                </a:prstGeom>
                <a:noFill/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Line 55"/>
                <p:cNvSpPr/>
                <p:nvPr/>
              </p:nvSpPr>
              <p:spPr>
                <a:xfrm flipV="1">
                  <a:off x="3664800" y="1293840"/>
                  <a:ext cx="536400" cy="452880"/>
                </a:xfrm>
                <a:prstGeom prst="line">
                  <a:avLst/>
                </a:prstGeom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 Box 56"/>
            <p:cNvSpPr/>
            <p:nvPr/>
          </p:nvSpPr>
          <p:spPr>
            <a:xfrm>
              <a:off x="7505640" y="9716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Arial"/>
                </a:rPr>
                <a:t>REFLEX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57"/>
          <p:cNvGrpSpPr/>
          <p:nvPr/>
        </p:nvGrpSpPr>
        <p:grpSpPr>
          <a:xfrm>
            <a:off x="423720" y="3936960"/>
            <a:ext cx="8453160" cy="2843640"/>
            <a:chOff x="423720" y="3936960"/>
            <a:chExt cx="8453160" cy="2843640"/>
          </a:xfrm>
        </p:grpSpPr>
        <p:grpSp>
          <p:nvGrpSpPr>
            <p:cNvPr id="793" name="Group 58"/>
            <p:cNvGrpSpPr/>
            <p:nvPr/>
          </p:nvGrpSpPr>
          <p:grpSpPr>
            <a:xfrm>
              <a:off x="423720" y="3936960"/>
              <a:ext cx="7615080" cy="2843640"/>
              <a:chOff x="423720" y="3936960"/>
              <a:chExt cx="7615080" cy="2843640"/>
            </a:xfrm>
          </p:grpSpPr>
          <p:sp>
            <p:nvSpPr>
              <p:cNvPr id="794" name="Line 59"/>
              <p:cNvSpPr/>
              <p:nvPr/>
            </p:nvSpPr>
            <p:spPr>
              <a:xfrm flipV="1">
                <a:off x="3638160" y="4458960"/>
                <a:ext cx="3097440" cy="773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60"/>
              <p:cNvSpPr/>
              <p:nvPr/>
            </p:nvSpPr>
            <p:spPr>
              <a:xfrm>
                <a:off x="3631680" y="5461200"/>
                <a:ext cx="3102480" cy="80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Oval 61"/>
              <p:cNvSpPr/>
              <p:nvPr/>
            </p:nvSpPr>
            <p:spPr>
              <a:xfrm>
                <a:off x="3533760" y="523548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Oval 62"/>
              <p:cNvSpPr/>
              <p:nvPr/>
            </p:nvSpPr>
            <p:spPr>
              <a:xfrm>
                <a:off x="6057720" y="4414680"/>
                <a:ext cx="1981080" cy="1889280"/>
              </a:xfrm>
              <a:prstGeom prst="ellipse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63"/>
              <p:cNvSpPr/>
              <p:nvPr/>
            </p:nvSpPr>
            <p:spPr>
              <a:xfrm>
                <a:off x="6248160" y="5922720"/>
                <a:ext cx="1600200" cy="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64"/>
              <p:cNvSpPr/>
              <p:nvPr/>
            </p:nvSpPr>
            <p:spPr>
              <a:xfrm>
                <a:off x="6248160" y="4797360"/>
                <a:ext cx="1600200" cy="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65"/>
              <p:cNvSpPr/>
              <p:nvPr/>
            </p:nvSpPr>
            <p:spPr>
              <a:xfrm flipH="1">
                <a:off x="6176880" y="4803480"/>
                <a:ext cx="304560" cy="990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66"/>
              <p:cNvSpPr/>
              <p:nvPr/>
            </p:nvSpPr>
            <p:spPr>
              <a:xfrm flipH="1">
                <a:off x="7619400" y="4927320"/>
                <a:ext cx="304920" cy="9907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67"/>
              <p:cNvSpPr/>
              <p:nvPr/>
            </p:nvSpPr>
            <p:spPr>
              <a:xfrm flipH="1">
                <a:off x="6371640" y="4783680"/>
                <a:ext cx="356400" cy="1150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68"/>
              <p:cNvSpPr/>
              <p:nvPr/>
            </p:nvSpPr>
            <p:spPr>
              <a:xfrm flipH="1">
                <a:off x="6616080" y="4780800"/>
                <a:ext cx="356400" cy="1150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69"/>
              <p:cNvSpPr/>
              <p:nvPr/>
            </p:nvSpPr>
            <p:spPr>
              <a:xfrm flipH="1">
                <a:off x="6856920" y="4780800"/>
                <a:ext cx="356760" cy="1150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70"/>
              <p:cNvSpPr/>
              <p:nvPr/>
            </p:nvSpPr>
            <p:spPr>
              <a:xfrm flipH="1">
                <a:off x="7101360" y="4780800"/>
                <a:ext cx="356760" cy="1150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71"/>
              <p:cNvSpPr/>
              <p:nvPr/>
            </p:nvSpPr>
            <p:spPr>
              <a:xfrm flipH="1">
                <a:off x="7355880" y="4780800"/>
                <a:ext cx="356400" cy="1150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72"/>
              <p:cNvSpPr/>
              <p:nvPr/>
            </p:nvSpPr>
            <p:spPr>
              <a:xfrm flipH="1">
                <a:off x="1891800" y="5323320"/>
                <a:ext cx="884880" cy="68148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73"/>
              <p:cNvSpPr/>
              <p:nvPr/>
            </p:nvSpPr>
            <p:spPr>
              <a:xfrm flipH="1">
                <a:off x="2415600" y="5354640"/>
                <a:ext cx="393480" cy="536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74"/>
              <p:cNvSpPr/>
              <p:nvPr/>
            </p:nvSpPr>
            <p:spPr>
              <a:xfrm flipH="1">
                <a:off x="2431800" y="6115320"/>
                <a:ext cx="149040" cy="41868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75"/>
              <p:cNvSpPr/>
              <p:nvPr/>
            </p:nvSpPr>
            <p:spPr>
              <a:xfrm flipH="1">
                <a:off x="2566080" y="5388120"/>
                <a:ext cx="280440" cy="76644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76"/>
              <p:cNvSpPr/>
              <p:nvPr/>
            </p:nvSpPr>
            <p:spPr>
              <a:xfrm flipH="1">
                <a:off x="1896480" y="5843880"/>
                <a:ext cx="558000" cy="678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Rectangle 77"/>
              <p:cNvSpPr/>
              <p:nvPr/>
            </p:nvSpPr>
            <p:spPr>
              <a:xfrm rot="10800000">
                <a:off x="1482120" y="5395320"/>
                <a:ext cx="2590920" cy="18252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78"/>
              <p:cNvSpPr/>
              <p:nvPr/>
            </p:nvSpPr>
            <p:spPr>
              <a:xfrm rot="10800000">
                <a:off x="1484280" y="5306760"/>
                <a:ext cx="2590560" cy="9216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79"/>
              <p:cNvSpPr/>
              <p:nvPr/>
            </p:nvSpPr>
            <p:spPr>
              <a:xfrm rot="10800000">
                <a:off x="1482120" y="5121000"/>
                <a:ext cx="2590920" cy="18288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80"/>
              <p:cNvSpPr/>
              <p:nvPr/>
            </p:nvSpPr>
            <p:spPr>
              <a:xfrm flipH="1">
                <a:off x="1283760" y="5995440"/>
                <a:ext cx="623880" cy="50256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81"/>
              <p:cNvSpPr/>
              <p:nvPr/>
            </p:nvSpPr>
            <p:spPr>
              <a:xfrm>
                <a:off x="2019240" y="4295520"/>
                <a:ext cx="303120" cy="41436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82"/>
              <p:cNvSpPr/>
              <p:nvPr/>
            </p:nvSpPr>
            <p:spPr>
              <a:xfrm>
                <a:off x="2238120" y="4600440"/>
                <a:ext cx="549360" cy="70020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Text Box 83"/>
              <p:cNvSpPr/>
              <p:nvPr/>
            </p:nvSpPr>
            <p:spPr>
              <a:xfrm>
                <a:off x="1766880" y="393696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ff33"/>
                    </a:solidFill>
                    <a:latin typeface="Symbol"/>
                    <a:ea typeface="Symbol"/>
                  </a:rPr>
                  <a:t></a:t>
                </a:r>
                <a:r>
                  <a:rPr b="1" lang="es-ES_tradnl" sz="1000" spc="-1" strike="noStrike">
                    <a:solidFill>
                      <a:srgbClr val="99ff33"/>
                    </a:solidFill>
                    <a:latin typeface="Symbol"/>
                    <a:ea typeface="Symbol"/>
                  </a:rPr>
                  <a:t>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Text Box 84"/>
              <p:cNvSpPr/>
              <p:nvPr/>
            </p:nvSpPr>
            <p:spPr>
              <a:xfrm>
                <a:off x="423720" y="3985920"/>
                <a:ext cx="1752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ff33"/>
                    </a:solidFill>
                    <a:latin typeface="Arial"/>
                  </a:rPr>
                  <a:t>LUZ INCID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Text Box 85"/>
              <p:cNvSpPr/>
              <p:nvPr/>
            </p:nvSpPr>
            <p:spPr>
              <a:xfrm>
                <a:off x="961920" y="63529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</a:t>
                </a:r>
                <a:r>
                  <a:rPr b="1" lang="es-ES_tradnl" sz="1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Text Box 86"/>
              <p:cNvSpPr/>
              <p:nvPr/>
            </p:nvSpPr>
            <p:spPr>
              <a:xfrm>
                <a:off x="1581120" y="636264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</a:t>
                </a:r>
                <a:r>
                  <a:rPr b="1" lang="es-ES_tradnl" sz="1000" spc="-1" strike="noStrike">
                    <a:solidFill>
                      <a:srgbClr val="ff9900"/>
                    </a:solidFill>
                    <a:latin typeface="Symbol"/>
                    <a:ea typeface="Symbol"/>
                  </a:rPr>
                  <a:t>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87"/>
              <p:cNvSpPr/>
              <p:nvPr/>
            </p:nvSpPr>
            <p:spPr>
              <a:xfrm>
                <a:off x="2095200" y="63817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ff"/>
                    </a:solidFill>
                    <a:latin typeface="Symbol"/>
                    <a:ea typeface="Symbol"/>
                  </a:rPr>
                  <a:t></a:t>
                </a:r>
                <a:r>
                  <a:rPr b="1" lang="es-ES_tradnl" sz="1000" spc="-1" strike="noStrike">
                    <a:solidFill>
                      <a:srgbClr val="ff99ff"/>
                    </a:solidFill>
                    <a:latin typeface="Symbol"/>
                    <a:ea typeface="Symbol"/>
                  </a:rPr>
                  <a:t>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Text Box 88"/>
            <p:cNvSpPr/>
            <p:nvPr/>
          </p:nvSpPr>
          <p:spPr>
            <a:xfrm>
              <a:off x="7353000" y="400068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Arial"/>
                </a:rPr>
                <a:t>TRANS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 Box 89"/>
          <p:cNvSpPr/>
          <p:nvPr/>
        </p:nvSpPr>
        <p:spPr>
          <a:xfrm>
            <a:off x="4643280" y="3860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GELA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90"/>
          <p:cNvSpPr/>
          <p:nvPr/>
        </p:nvSpPr>
        <p:spPr>
          <a:xfrm flipH="1" flipV="1">
            <a:off x="4067280" y="2420640"/>
            <a:ext cx="792000" cy="143964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91"/>
          <p:cNvSpPr/>
          <p:nvPr/>
        </p:nvSpPr>
        <p:spPr>
          <a:xfrm flipH="1">
            <a:off x="3924000" y="4149720"/>
            <a:ext cx="934920" cy="12240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92"/>
          <p:cNvSpPr/>
          <p:nvPr/>
        </p:nvSpPr>
        <p:spPr>
          <a:xfrm>
            <a:off x="7118280" y="0"/>
            <a:ext cx="2025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3"/>
          <p:cNvSpPr/>
          <p:nvPr/>
        </p:nvSpPr>
        <p:spPr>
          <a:xfrm>
            <a:off x="2738520" y="874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REDES HOLOGRA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69"/>
          <p:cNvSpPr/>
          <p:nvPr/>
        </p:nvSpPr>
        <p:spPr>
          <a:xfrm>
            <a:off x="3954600" y="3963960"/>
            <a:ext cx="0" cy="287280"/>
          </a:xfrm>
          <a:prstGeom prst="line">
            <a:avLst/>
          </a:prstGeom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0"/>
          <p:cNvSpPr/>
          <p:nvPr/>
        </p:nvSpPr>
        <p:spPr>
          <a:xfrm>
            <a:off x="7308720" y="5081760"/>
            <a:ext cx="10083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1"/>
          <p:cNvSpPr/>
          <p:nvPr/>
        </p:nvSpPr>
        <p:spPr>
          <a:xfrm>
            <a:off x="7308720" y="4437000"/>
            <a:ext cx="10083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2"/>
          <p:cNvSpPr/>
          <p:nvPr/>
        </p:nvSpPr>
        <p:spPr>
          <a:xfrm>
            <a:off x="7308720" y="4762440"/>
            <a:ext cx="10083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3"/>
          <p:cNvSpPr/>
          <p:nvPr/>
        </p:nvSpPr>
        <p:spPr>
          <a:xfrm rot="16200000">
            <a:off x="5760360" y="3653640"/>
            <a:ext cx="1008000" cy="2232000"/>
          </a:xfrm>
          <a:prstGeom prst="can">
            <a:avLst>
              <a:gd name="adj" fmla="val 781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4"/>
          <p:cNvSpPr/>
          <p:nvPr/>
        </p:nvSpPr>
        <p:spPr>
          <a:xfrm>
            <a:off x="6291360" y="4259160"/>
            <a:ext cx="287280" cy="287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5"/>
          <p:cNvSpPr/>
          <p:nvPr/>
        </p:nvSpPr>
        <p:spPr>
          <a:xfrm>
            <a:off x="2827440" y="3327480"/>
            <a:ext cx="2736720" cy="70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76"/>
          <p:cNvSpPr/>
          <p:nvPr/>
        </p:nvSpPr>
        <p:spPr>
          <a:xfrm>
            <a:off x="2771640" y="3681360"/>
            <a:ext cx="3672000" cy="827280"/>
          </a:xfrm>
          <a:custGeom>
            <a:avLst/>
            <a:gdLst/>
            <a:ahLst/>
            <a:rect l="l" t="t" r="r" b="b"/>
            <a:pathLst>
              <a:path w="2313" h="454">
                <a:moveTo>
                  <a:pt x="0" y="0"/>
                </a:moveTo>
                <a:lnTo>
                  <a:pt x="2313" y="0"/>
                </a:lnTo>
                <a:lnTo>
                  <a:pt x="2313" y="454"/>
                </a:lnTo>
              </a:path>
            </a:pathLst>
          </a:custGeom>
          <a:noFill/>
          <a:ln w="12600">
            <a:solidFill>
              <a:srgbClr val="00ff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77"/>
          <p:cNvSpPr/>
          <p:nvPr/>
        </p:nvSpPr>
        <p:spPr>
          <a:xfrm>
            <a:off x="841320" y="2371680"/>
            <a:ext cx="1941480" cy="1297080"/>
          </a:xfrm>
          <a:custGeom>
            <a:avLst/>
            <a:gdLst/>
            <a:ahLst/>
            <a:rect l="l" t="t" r="r" b="b"/>
            <a:pathLst>
              <a:path w="1159" h="669">
                <a:moveTo>
                  <a:pt x="503" y="26"/>
                </a:moveTo>
                <a:cubicBezTo>
                  <a:pt x="502" y="53"/>
                  <a:pt x="502" y="65"/>
                  <a:pt x="482" y="81"/>
                </a:cubicBezTo>
                <a:cubicBezTo>
                  <a:pt x="471" y="99"/>
                  <a:pt x="464" y="101"/>
                  <a:pt x="443" y="104"/>
                </a:cubicBezTo>
                <a:cubicBezTo>
                  <a:pt x="436" y="105"/>
                  <a:pt x="422" y="108"/>
                  <a:pt x="422" y="108"/>
                </a:cubicBezTo>
                <a:cubicBezTo>
                  <a:pt x="415" y="111"/>
                  <a:pt x="408" y="113"/>
                  <a:pt x="400" y="114"/>
                </a:cubicBezTo>
                <a:cubicBezTo>
                  <a:pt x="380" y="124"/>
                  <a:pt x="366" y="143"/>
                  <a:pt x="343" y="147"/>
                </a:cubicBezTo>
                <a:cubicBezTo>
                  <a:pt x="336" y="151"/>
                  <a:pt x="327" y="154"/>
                  <a:pt x="320" y="158"/>
                </a:cubicBezTo>
                <a:cubicBezTo>
                  <a:pt x="303" y="169"/>
                  <a:pt x="287" y="191"/>
                  <a:pt x="266" y="195"/>
                </a:cubicBezTo>
                <a:cubicBezTo>
                  <a:pt x="255" y="204"/>
                  <a:pt x="235" y="216"/>
                  <a:pt x="221" y="219"/>
                </a:cubicBezTo>
                <a:cubicBezTo>
                  <a:pt x="213" y="225"/>
                  <a:pt x="207" y="228"/>
                  <a:pt x="203" y="237"/>
                </a:cubicBezTo>
                <a:cubicBezTo>
                  <a:pt x="198" y="263"/>
                  <a:pt x="166" y="298"/>
                  <a:pt x="140" y="303"/>
                </a:cubicBezTo>
                <a:cubicBezTo>
                  <a:pt x="134" y="308"/>
                  <a:pt x="124" y="319"/>
                  <a:pt x="116" y="321"/>
                </a:cubicBezTo>
                <a:cubicBezTo>
                  <a:pt x="111" y="327"/>
                  <a:pt x="105" y="330"/>
                  <a:pt x="100" y="335"/>
                </a:cubicBezTo>
                <a:cubicBezTo>
                  <a:pt x="90" y="345"/>
                  <a:pt x="83" y="362"/>
                  <a:pt x="77" y="375"/>
                </a:cubicBezTo>
                <a:cubicBezTo>
                  <a:pt x="75" y="384"/>
                  <a:pt x="69" y="396"/>
                  <a:pt x="65" y="405"/>
                </a:cubicBezTo>
                <a:cubicBezTo>
                  <a:pt x="63" y="419"/>
                  <a:pt x="55" y="423"/>
                  <a:pt x="46" y="432"/>
                </a:cubicBezTo>
                <a:cubicBezTo>
                  <a:pt x="42" y="442"/>
                  <a:pt x="33" y="450"/>
                  <a:pt x="28" y="459"/>
                </a:cubicBezTo>
                <a:cubicBezTo>
                  <a:pt x="24" y="466"/>
                  <a:pt x="22" y="474"/>
                  <a:pt x="17" y="480"/>
                </a:cubicBezTo>
                <a:cubicBezTo>
                  <a:pt x="16" y="488"/>
                  <a:pt x="12" y="493"/>
                  <a:pt x="8" y="501"/>
                </a:cubicBezTo>
                <a:cubicBezTo>
                  <a:pt x="0" y="540"/>
                  <a:pt x="36" y="522"/>
                  <a:pt x="70" y="521"/>
                </a:cubicBezTo>
                <a:cubicBezTo>
                  <a:pt x="80" y="518"/>
                  <a:pt x="90" y="517"/>
                  <a:pt x="100" y="516"/>
                </a:cubicBezTo>
                <a:cubicBezTo>
                  <a:pt x="159" y="517"/>
                  <a:pt x="218" y="517"/>
                  <a:pt x="277" y="518"/>
                </a:cubicBezTo>
                <a:cubicBezTo>
                  <a:pt x="311" y="519"/>
                  <a:pt x="345" y="520"/>
                  <a:pt x="379" y="521"/>
                </a:cubicBezTo>
                <a:cubicBezTo>
                  <a:pt x="390" y="521"/>
                  <a:pt x="413" y="522"/>
                  <a:pt x="413" y="522"/>
                </a:cubicBezTo>
                <a:cubicBezTo>
                  <a:pt x="499" y="522"/>
                  <a:pt x="580" y="520"/>
                  <a:pt x="665" y="518"/>
                </a:cubicBezTo>
                <a:cubicBezTo>
                  <a:pt x="696" y="513"/>
                  <a:pt x="661" y="518"/>
                  <a:pt x="725" y="515"/>
                </a:cubicBezTo>
                <a:cubicBezTo>
                  <a:pt x="737" y="514"/>
                  <a:pt x="760" y="512"/>
                  <a:pt x="760" y="512"/>
                </a:cubicBezTo>
                <a:cubicBezTo>
                  <a:pt x="770" y="507"/>
                  <a:pt x="785" y="507"/>
                  <a:pt x="796" y="506"/>
                </a:cubicBezTo>
                <a:cubicBezTo>
                  <a:pt x="809" y="502"/>
                  <a:pt x="820" y="494"/>
                  <a:pt x="833" y="491"/>
                </a:cubicBezTo>
                <a:cubicBezTo>
                  <a:pt x="839" y="490"/>
                  <a:pt x="850" y="488"/>
                  <a:pt x="850" y="488"/>
                </a:cubicBezTo>
                <a:cubicBezTo>
                  <a:pt x="860" y="483"/>
                  <a:pt x="870" y="480"/>
                  <a:pt x="881" y="479"/>
                </a:cubicBezTo>
                <a:cubicBezTo>
                  <a:pt x="888" y="476"/>
                  <a:pt x="895" y="473"/>
                  <a:pt x="902" y="470"/>
                </a:cubicBezTo>
                <a:cubicBezTo>
                  <a:pt x="912" y="457"/>
                  <a:pt x="907" y="461"/>
                  <a:pt x="916" y="456"/>
                </a:cubicBezTo>
                <a:cubicBezTo>
                  <a:pt x="949" y="495"/>
                  <a:pt x="953" y="547"/>
                  <a:pt x="980" y="588"/>
                </a:cubicBezTo>
                <a:cubicBezTo>
                  <a:pt x="990" y="603"/>
                  <a:pt x="1000" y="614"/>
                  <a:pt x="1018" y="621"/>
                </a:cubicBezTo>
                <a:cubicBezTo>
                  <a:pt x="1024" y="623"/>
                  <a:pt x="1037" y="629"/>
                  <a:pt x="1037" y="629"/>
                </a:cubicBezTo>
                <a:cubicBezTo>
                  <a:pt x="1050" y="644"/>
                  <a:pt x="1065" y="655"/>
                  <a:pt x="1084" y="660"/>
                </a:cubicBezTo>
                <a:cubicBezTo>
                  <a:pt x="1100" y="669"/>
                  <a:pt x="1106" y="665"/>
                  <a:pt x="1126" y="663"/>
                </a:cubicBezTo>
                <a:cubicBezTo>
                  <a:pt x="1136" y="659"/>
                  <a:pt x="1143" y="654"/>
                  <a:pt x="1153" y="648"/>
                </a:cubicBezTo>
                <a:cubicBezTo>
                  <a:pt x="1158" y="642"/>
                  <a:pt x="1154" y="637"/>
                  <a:pt x="1153" y="630"/>
                </a:cubicBezTo>
                <a:cubicBezTo>
                  <a:pt x="1153" y="611"/>
                  <a:pt x="1159" y="560"/>
                  <a:pt x="1151" y="540"/>
                </a:cubicBezTo>
                <a:cubicBezTo>
                  <a:pt x="1149" y="530"/>
                  <a:pt x="1144" y="518"/>
                  <a:pt x="1136" y="512"/>
                </a:cubicBezTo>
                <a:cubicBezTo>
                  <a:pt x="1135" y="505"/>
                  <a:pt x="1130" y="499"/>
                  <a:pt x="1127" y="492"/>
                </a:cubicBezTo>
                <a:cubicBezTo>
                  <a:pt x="1125" y="480"/>
                  <a:pt x="1117" y="470"/>
                  <a:pt x="1111" y="459"/>
                </a:cubicBezTo>
                <a:cubicBezTo>
                  <a:pt x="1106" y="449"/>
                  <a:pt x="1104" y="437"/>
                  <a:pt x="1097" y="428"/>
                </a:cubicBezTo>
                <a:cubicBezTo>
                  <a:pt x="1096" y="423"/>
                  <a:pt x="1091" y="413"/>
                  <a:pt x="1091" y="413"/>
                </a:cubicBezTo>
                <a:cubicBezTo>
                  <a:pt x="1089" y="401"/>
                  <a:pt x="1093" y="415"/>
                  <a:pt x="1085" y="404"/>
                </a:cubicBezTo>
                <a:cubicBezTo>
                  <a:pt x="1078" y="394"/>
                  <a:pt x="1078" y="383"/>
                  <a:pt x="1067" y="374"/>
                </a:cubicBezTo>
                <a:cubicBezTo>
                  <a:pt x="1061" y="363"/>
                  <a:pt x="1026" y="342"/>
                  <a:pt x="1013" y="332"/>
                </a:cubicBezTo>
                <a:cubicBezTo>
                  <a:pt x="1005" y="325"/>
                  <a:pt x="999" y="317"/>
                  <a:pt x="991" y="309"/>
                </a:cubicBezTo>
                <a:cubicBezTo>
                  <a:pt x="981" y="299"/>
                  <a:pt x="967" y="294"/>
                  <a:pt x="956" y="284"/>
                </a:cubicBezTo>
                <a:cubicBezTo>
                  <a:pt x="939" y="268"/>
                  <a:pt x="926" y="256"/>
                  <a:pt x="905" y="246"/>
                </a:cubicBezTo>
                <a:cubicBezTo>
                  <a:pt x="890" y="238"/>
                  <a:pt x="877" y="227"/>
                  <a:pt x="860" y="224"/>
                </a:cubicBezTo>
                <a:cubicBezTo>
                  <a:pt x="848" y="218"/>
                  <a:pt x="837" y="211"/>
                  <a:pt x="824" y="209"/>
                </a:cubicBezTo>
                <a:cubicBezTo>
                  <a:pt x="809" y="201"/>
                  <a:pt x="776" y="178"/>
                  <a:pt x="764" y="176"/>
                </a:cubicBezTo>
                <a:cubicBezTo>
                  <a:pt x="750" y="165"/>
                  <a:pt x="727" y="161"/>
                  <a:pt x="709" y="158"/>
                </a:cubicBezTo>
                <a:cubicBezTo>
                  <a:pt x="699" y="152"/>
                  <a:pt x="685" y="142"/>
                  <a:pt x="674" y="140"/>
                </a:cubicBezTo>
                <a:cubicBezTo>
                  <a:pt x="660" y="130"/>
                  <a:pt x="644" y="122"/>
                  <a:pt x="629" y="114"/>
                </a:cubicBezTo>
                <a:cubicBezTo>
                  <a:pt x="618" y="108"/>
                  <a:pt x="610" y="98"/>
                  <a:pt x="599" y="92"/>
                </a:cubicBezTo>
                <a:cubicBezTo>
                  <a:pt x="592" y="81"/>
                  <a:pt x="588" y="68"/>
                  <a:pt x="581" y="57"/>
                </a:cubicBezTo>
                <a:cubicBezTo>
                  <a:pt x="579" y="44"/>
                  <a:pt x="568" y="30"/>
                  <a:pt x="563" y="17"/>
                </a:cubicBezTo>
                <a:cubicBezTo>
                  <a:pt x="562" y="9"/>
                  <a:pt x="560" y="6"/>
                  <a:pt x="554" y="0"/>
                </a:cubicBezTo>
                <a:cubicBezTo>
                  <a:pt x="546" y="2"/>
                  <a:pt x="538" y="5"/>
                  <a:pt x="530" y="6"/>
                </a:cubicBezTo>
                <a:cubicBezTo>
                  <a:pt x="517" y="11"/>
                  <a:pt x="512" y="17"/>
                  <a:pt x="503" y="26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8"/>
          <p:cNvSpPr/>
          <p:nvPr/>
        </p:nvSpPr>
        <p:spPr>
          <a:xfrm>
            <a:off x="687708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3564000" y="33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NEBUL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0"/>
          <p:cNvSpPr/>
          <p:nvPr/>
        </p:nvSpPr>
        <p:spPr>
          <a:xfrm>
            <a:off x="2987640" y="2852640"/>
            <a:ext cx="23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bulizador de Babing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81"/>
          <p:cNvSpPr/>
          <p:nvPr/>
        </p:nvSpPr>
        <p:spPr>
          <a:xfrm>
            <a:off x="163440" y="1709640"/>
            <a:ext cx="1584360" cy="647640"/>
          </a:xfrm>
          <a:custGeom>
            <a:avLst/>
            <a:gdLst/>
            <a:ahLst/>
            <a:rect l="l" t="t" r="r" b="b"/>
            <a:pathLst>
              <a:path w="2857" h="408">
                <a:moveTo>
                  <a:pt x="0" y="0"/>
                </a:moveTo>
                <a:lnTo>
                  <a:pt x="2812" y="0"/>
                </a:lnTo>
                <a:lnTo>
                  <a:pt x="2857" y="408"/>
                </a:lnTo>
              </a:path>
            </a:pathLst>
          </a:custGeom>
          <a:noFill/>
          <a:ln w="266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2"/>
          <p:cNvSpPr/>
          <p:nvPr/>
        </p:nvSpPr>
        <p:spPr>
          <a:xfrm>
            <a:off x="603360" y="2708280"/>
            <a:ext cx="2158920" cy="21589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3"/>
          <p:cNvSpPr/>
          <p:nvPr/>
        </p:nvSpPr>
        <p:spPr>
          <a:xfrm>
            <a:off x="1062000" y="4437000"/>
            <a:ext cx="125892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4"/>
          <p:cNvSpPr/>
          <p:nvPr/>
        </p:nvSpPr>
        <p:spPr>
          <a:xfrm>
            <a:off x="2766960" y="36496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5"/>
          <p:cNvSpPr/>
          <p:nvPr/>
        </p:nvSpPr>
        <p:spPr>
          <a:xfrm>
            <a:off x="2900520" y="3544920"/>
            <a:ext cx="71280" cy="730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6"/>
          <p:cNvSpPr/>
          <p:nvPr/>
        </p:nvSpPr>
        <p:spPr>
          <a:xfrm>
            <a:off x="3049560" y="3747960"/>
            <a:ext cx="71640" cy="730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7"/>
          <p:cNvSpPr/>
          <p:nvPr/>
        </p:nvSpPr>
        <p:spPr>
          <a:xfrm>
            <a:off x="3122640" y="3460680"/>
            <a:ext cx="54000" cy="54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88"/>
          <p:cNvSpPr/>
          <p:nvPr/>
        </p:nvSpPr>
        <p:spPr>
          <a:xfrm>
            <a:off x="3267000" y="3747960"/>
            <a:ext cx="54000" cy="54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9"/>
          <p:cNvSpPr/>
          <p:nvPr/>
        </p:nvSpPr>
        <p:spPr>
          <a:xfrm>
            <a:off x="3267000" y="3389400"/>
            <a:ext cx="54000" cy="54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0"/>
          <p:cNvSpPr/>
          <p:nvPr/>
        </p:nvSpPr>
        <p:spPr>
          <a:xfrm>
            <a:off x="2978280" y="3676680"/>
            <a:ext cx="54000" cy="54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1"/>
          <p:cNvSpPr/>
          <p:nvPr/>
        </p:nvSpPr>
        <p:spPr>
          <a:xfrm>
            <a:off x="3267000" y="3532320"/>
            <a:ext cx="36720" cy="363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2"/>
          <p:cNvSpPr/>
          <p:nvPr/>
        </p:nvSpPr>
        <p:spPr>
          <a:xfrm>
            <a:off x="3409920" y="3389400"/>
            <a:ext cx="36720" cy="363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3"/>
          <p:cNvSpPr/>
          <p:nvPr/>
        </p:nvSpPr>
        <p:spPr>
          <a:xfrm>
            <a:off x="3483000" y="3676680"/>
            <a:ext cx="36360" cy="363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4"/>
          <p:cNvSpPr/>
          <p:nvPr/>
        </p:nvSpPr>
        <p:spPr>
          <a:xfrm>
            <a:off x="3483000" y="3389400"/>
            <a:ext cx="36360" cy="363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5"/>
          <p:cNvSpPr/>
          <p:nvPr/>
        </p:nvSpPr>
        <p:spPr>
          <a:xfrm>
            <a:off x="3625920" y="3532320"/>
            <a:ext cx="36360" cy="363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6"/>
          <p:cNvSpPr/>
          <p:nvPr/>
        </p:nvSpPr>
        <p:spPr>
          <a:xfrm>
            <a:off x="3409920" y="3532320"/>
            <a:ext cx="36720" cy="363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97"/>
          <p:cNvSpPr/>
          <p:nvPr/>
        </p:nvSpPr>
        <p:spPr>
          <a:xfrm>
            <a:off x="3338640" y="3676680"/>
            <a:ext cx="36360" cy="363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8"/>
          <p:cNvSpPr/>
          <p:nvPr/>
        </p:nvSpPr>
        <p:spPr>
          <a:xfrm>
            <a:off x="3301920" y="3816360"/>
            <a:ext cx="71640" cy="730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9"/>
          <p:cNvSpPr/>
          <p:nvPr/>
        </p:nvSpPr>
        <p:spPr>
          <a:xfrm>
            <a:off x="3110040" y="3621240"/>
            <a:ext cx="54000" cy="54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0"/>
          <p:cNvSpPr/>
          <p:nvPr/>
        </p:nvSpPr>
        <p:spPr>
          <a:xfrm>
            <a:off x="3267000" y="3605040"/>
            <a:ext cx="54000" cy="54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1"/>
          <p:cNvSpPr/>
          <p:nvPr/>
        </p:nvSpPr>
        <p:spPr>
          <a:xfrm>
            <a:off x="3193920" y="3676680"/>
            <a:ext cx="54000" cy="54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2"/>
          <p:cNvSpPr/>
          <p:nvPr/>
        </p:nvSpPr>
        <p:spPr>
          <a:xfrm>
            <a:off x="3409920" y="3605040"/>
            <a:ext cx="54000" cy="54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3"/>
          <p:cNvSpPr/>
          <p:nvPr/>
        </p:nvSpPr>
        <p:spPr>
          <a:xfrm>
            <a:off x="3483000" y="3460680"/>
            <a:ext cx="54000" cy="54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4"/>
          <p:cNvSpPr/>
          <p:nvPr/>
        </p:nvSpPr>
        <p:spPr>
          <a:xfrm>
            <a:off x="3554280" y="3605040"/>
            <a:ext cx="36720" cy="3672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5"/>
          <p:cNvSpPr/>
          <p:nvPr/>
        </p:nvSpPr>
        <p:spPr>
          <a:xfrm>
            <a:off x="3625920" y="3389400"/>
            <a:ext cx="36360" cy="363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6"/>
          <p:cNvSpPr/>
          <p:nvPr/>
        </p:nvSpPr>
        <p:spPr>
          <a:xfrm>
            <a:off x="3699000" y="3460680"/>
            <a:ext cx="36360" cy="3672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7"/>
          <p:cNvSpPr/>
          <p:nvPr/>
        </p:nvSpPr>
        <p:spPr>
          <a:xfrm>
            <a:off x="3625920" y="3676680"/>
            <a:ext cx="36360" cy="363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8"/>
          <p:cNvSpPr/>
          <p:nvPr/>
        </p:nvSpPr>
        <p:spPr>
          <a:xfrm>
            <a:off x="3844800" y="34052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9"/>
          <p:cNvSpPr/>
          <p:nvPr/>
        </p:nvSpPr>
        <p:spPr>
          <a:xfrm>
            <a:off x="3986280" y="3767040"/>
            <a:ext cx="81000" cy="25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10"/>
          <p:cNvSpPr/>
          <p:nvPr/>
        </p:nvSpPr>
        <p:spPr>
          <a:xfrm>
            <a:off x="3924360" y="3500280"/>
            <a:ext cx="3636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1"/>
          <p:cNvSpPr/>
          <p:nvPr/>
        </p:nvSpPr>
        <p:spPr>
          <a:xfrm>
            <a:off x="3995640" y="3429000"/>
            <a:ext cx="36720" cy="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12"/>
          <p:cNvSpPr/>
          <p:nvPr/>
        </p:nvSpPr>
        <p:spPr>
          <a:xfrm>
            <a:off x="4067280" y="3573360"/>
            <a:ext cx="3636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3"/>
          <p:cNvSpPr/>
          <p:nvPr/>
        </p:nvSpPr>
        <p:spPr>
          <a:xfrm>
            <a:off x="3941640" y="3673440"/>
            <a:ext cx="3672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4"/>
          <p:cNvSpPr/>
          <p:nvPr/>
        </p:nvSpPr>
        <p:spPr>
          <a:xfrm>
            <a:off x="3924360" y="3573360"/>
            <a:ext cx="3636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5"/>
          <p:cNvSpPr/>
          <p:nvPr/>
        </p:nvSpPr>
        <p:spPr>
          <a:xfrm>
            <a:off x="4067280" y="3500280"/>
            <a:ext cx="3636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16"/>
          <p:cNvSpPr/>
          <p:nvPr/>
        </p:nvSpPr>
        <p:spPr>
          <a:xfrm>
            <a:off x="4083120" y="3673440"/>
            <a:ext cx="36360" cy="3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7"/>
          <p:cNvSpPr/>
          <p:nvPr/>
        </p:nvSpPr>
        <p:spPr>
          <a:xfrm flipV="1">
            <a:off x="1258920" y="5661000"/>
            <a:ext cx="0" cy="7207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8"/>
          <p:cNvSpPr/>
          <p:nvPr/>
        </p:nvSpPr>
        <p:spPr>
          <a:xfrm flipV="1">
            <a:off x="1692360" y="5661000"/>
            <a:ext cx="0" cy="7207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9"/>
          <p:cNvSpPr/>
          <p:nvPr/>
        </p:nvSpPr>
        <p:spPr>
          <a:xfrm flipV="1">
            <a:off x="2124000" y="5661000"/>
            <a:ext cx="0" cy="7207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0"/>
          <p:cNvSpPr/>
          <p:nvPr/>
        </p:nvSpPr>
        <p:spPr>
          <a:xfrm>
            <a:off x="900000" y="638172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00"/>
                </a:solidFill>
                <a:latin typeface="Arial"/>
              </a:rPr>
              <a:t>Flujo de Ar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1"/>
          <p:cNvSpPr/>
          <p:nvPr/>
        </p:nvSpPr>
        <p:spPr>
          <a:xfrm flipV="1">
            <a:off x="2765520" y="3370320"/>
            <a:ext cx="293760" cy="287280"/>
          </a:xfrm>
          <a:prstGeom prst="line">
            <a:avLst/>
          </a:prstGeom>
          <a:ln w="12600">
            <a:solidFill>
              <a:srgbClr val="00ff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2"/>
          <p:cNvSpPr/>
          <p:nvPr/>
        </p:nvSpPr>
        <p:spPr>
          <a:xfrm>
            <a:off x="2765520" y="3710160"/>
            <a:ext cx="582480" cy="295200"/>
          </a:xfrm>
          <a:prstGeom prst="line">
            <a:avLst/>
          </a:prstGeom>
          <a:ln w="12600">
            <a:solidFill>
              <a:srgbClr val="00ff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3"/>
          <p:cNvSpPr/>
          <p:nvPr/>
        </p:nvSpPr>
        <p:spPr>
          <a:xfrm flipH="1">
            <a:off x="4356000" y="4437000"/>
            <a:ext cx="93672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4"/>
          <p:cNvSpPr/>
          <p:nvPr/>
        </p:nvSpPr>
        <p:spPr>
          <a:xfrm flipH="1">
            <a:off x="4335480" y="4775040"/>
            <a:ext cx="93672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5"/>
          <p:cNvSpPr/>
          <p:nvPr/>
        </p:nvSpPr>
        <p:spPr>
          <a:xfrm flipH="1">
            <a:off x="4356000" y="5084640"/>
            <a:ext cx="93672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6"/>
          <p:cNvSpPr/>
          <p:nvPr/>
        </p:nvSpPr>
        <p:spPr>
          <a:xfrm>
            <a:off x="8317080" y="458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00"/>
                </a:solidFill>
                <a:latin typeface="Arial"/>
              </a:rPr>
              <a:t>Ar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7"/>
          <p:cNvSpPr/>
          <p:nvPr/>
        </p:nvSpPr>
        <p:spPr>
          <a:xfrm>
            <a:off x="3564000" y="4653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00"/>
                </a:solidFill>
                <a:latin typeface="Arial"/>
              </a:rPr>
              <a:t>Ar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8"/>
          <p:cNvSpPr/>
          <p:nvPr/>
        </p:nvSpPr>
        <p:spPr>
          <a:xfrm>
            <a:off x="1979640" y="2276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ffff"/>
                </a:solidFill>
                <a:latin typeface="Arial"/>
              </a:rPr>
              <a:t>Muest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9"/>
          <p:cNvSpPr/>
          <p:nvPr/>
        </p:nvSpPr>
        <p:spPr>
          <a:xfrm>
            <a:off x="2633760" y="417348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Orif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0"/>
          <p:cNvSpPr/>
          <p:nvPr/>
        </p:nvSpPr>
        <p:spPr>
          <a:xfrm flipH="1" flipV="1">
            <a:off x="2771640" y="3745080"/>
            <a:ext cx="144720" cy="504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31"/>
          <p:cNvSpPr/>
          <p:nvPr/>
        </p:nvSpPr>
        <p:spPr>
          <a:xfrm>
            <a:off x="5570640" y="3676680"/>
            <a:ext cx="863640" cy="615960"/>
          </a:xfrm>
          <a:custGeom>
            <a:avLst/>
            <a:gdLst/>
            <a:ahLst/>
            <a:rect l="l" t="t" r="r" b="b"/>
            <a:pathLst>
              <a:path w="2857" h="408">
                <a:moveTo>
                  <a:pt x="0" y="0"/>
                </a:moveTo>
                <a:lnTo>
                  <a:pt x="2812" y="0"/>
                </a:lnTo>
                <a:lnTo>
                  <a:pt x="2857" y="408"/>
                </a:lnTo>
              </a:path>
            </a:pathLst>
          </a:custGeom>
          <a:noFill/>
          <a:ln w="190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2"/>
          <p:cNvSpPr/>
          <p:nvPr/>
        </p:nvSpPr>
        <p:spPr>
          <a:xfrm>
            <a:off x="3902040" y="39672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Dren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3"/>
          <p:cNvSpPr/>
          <p:nvPr/>
        </p:nvSpPr>
        <p:spPr>
          <a:xfrm>
            <a:off x="5580000" y="54450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tomiz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93 C 0.00156 -0.00139 0.00399 -0.00185 0.00642 -0.00232 C 0.00989 -0.00324 0.01684 -0.00509 0.01684 -0.00509 C 0.03784 -0.00232 0.04652 -0.00185 0.07309 -0.00093 C 0.07448 0.00046 0.07621 0.00139 0.07725 0.00324 C 0.0783 0.00532 0.07795 0.00856 0.07934 0.01018 C 0.09305 0.02662 0.14913 0.01991 0.15017 0.01991 C 0.16493 0.02477 0.17222 0.02569 0.18871 0.02685 C 0.21805 0.03796 0.22864 0.03565 0.26788 0.03657 C 0.28177 0.04028 0.29427 0.04375 0.3085 0.04491 C 0.31302 0.04699 0.31753 0.04699 0.32205 0.04907 C 0.32743 0.05972 0.3243 0.07199 0.32725 0.0838 C 0.32691 0.10093 0.32916 0.14977 0.32309 0.17407 C 0.31823 0.19352 0.30868 0.21111 0.30017 0.22824 C 0.28906 0.25046 0.30625 0.21805 0.29705 0.23935 C 0.29566 0.24259 0.2934 0.24468 0.29184 0.24768 C 0.29062 0.25393 0.29027 0.25671 0.28559 0.2588 C 0.28316 0.26343 0.28437 0.2618 0.28246 0.26435 E">
                                      <p:cBhvr>
                                        <p:cTn id="6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3.7037E-007 C 0.01355 -0.00162 0.02587 -0.00903 0.03959 -0.01041 C 0.04584 -0.00764 0.0507 -0.00393 0.0573 -0.00278 C 0.06251 -0.00347 0.06598 -0.00578 0.07084 -0.00694 C 0.07414 -0.00949 0.07483 -0.00995 0.07865 -0.00903 C 0.08264 -0.00602 0.08664 -0.00393 0.09063 -0.00139 C 0.09376 0.0007 0.09514 0.0044 0.09844 0.00625 C 0.10139 0.00787 0.10782 0.00903 0.10782 0.00903 C 0.13039 0.00764 0.15244 0.00741 0.17501 0.00834 C 0.19011 0.01505 0.20678 0.01412 0.2224 0.01459 C 0.25313 0.01922 0.28577 0.01644 0.31719 0.01806 C 0.32067 0.01968 0.32414 0.02107 0.32761 0.02222 C 0.33195 0.0257 0.33629 0.0294 0.33907 0.03542 C 0.34098 0.03959 0.34185 0.04398 0.34376 0.04792 C 0.34567 0.05695 0.34862 0.06574 0.35001 0.075 C 0.34966 0.08681 0.34827 0.10371 0.34949 0.11597 C 0.34983 0.11968 0.35087 0.12338 0.35157 0.12709 C 0.35174 0.12801 0.35209 0.12986 0.35209 0.12986 C 0.35087 0.15394 0.35313 0.14283 0.34792 0.15834 C 0.34619 0.16366 0.34271 0.17431 0.34271 0.17431 C 0.34167 0.18241 0.33959 0.18935 0.33594 0.19584 C 0.33178 0.2125 0.32813 0.22778 0.32813 0.24584 E">
                                      <p:cBhvr>
                                        <p:cTn id="8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23 C 0.00382 -0.00185 0.00677 -0.0044 0.01007 -0.00533 C 0.01841 -0.00996 0.02657 -0.01991 0.03559 -0.02199 C 0.03993 -0.02408 0.04914 -0.02547 0.04914 -0.02547 C 0.05191 -0.02523 0.05469 -0.02547 0.05747 -0.02477 C 0.0599 -0.02408 0.06164 -0.0206 0.06372 -0.01922 C 0.06875 -0.01621 0.07327 -0.01528 0.07882 -0.01435 C 0.10087 -0.01551 0.12292 -0.0176 0.14497 -0.01852 C 0.14914 -0.01945 0.15313 -0.02014 0.15747 -0.01922 C 0.16702 -0.00972 0.17587 -0.00579 0.18768 -0.00463 C 0.21858 -0.00533 0.24914 -0.0044 0.27987 -0.00255 C 0.28681 -0.00162 0.29341 0.00092 0.30018 0.00231 C 0.31233 0.01041 0.32639 -0.00047 0.33768 0.01065 C 0.33802 0.01597 0.33889 0.01898 0.33976 0.02384 C 0.33924 0.05717 0.33646 0.09143 0.34601 0.12315 C 0.34775 0.13634 0.35157 0.14884 0.35382 0.16203 C 0.35469 0.17523 0.35434 0.18958 0.35695 0.20231 C 0.35799 0.20787 0.36025 0.21296 0.36164 0.21828 C 0.36233 0.22083 0.36424 0.22523 0.36424 0.22523 E">
                                      <p:cBhvr>
                                        <p:cTn id="10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C 0.00747 -0.00162 0.01493 -0.00116 0.0224 -0.00278 C 0.03785 -0.00185 0.02917 -0.00301 0.03802 0.00278 C 0.03993 0.00394 0.04184 0.00533 0.04375 0.00625 C 0.04479 0.00672 0.04688 0.00764 0.04688 0.00764 C 0.04809 0.00903 0.04913 0.01088 0.05052 0.01181 C 0.05156 0.0125 0.05365 0.0132 0.05365 0.0132 E">
                                      <p:cBhvr>
                                        <p:cTn id="12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3.7037E-007 C 0.00624 0.00209 0.00798 0.00301 0.01562 0.00347 C 0.01718 0.00648 0.01666 0.00926 0.01926 0.01042 C 0.02239 0.01459 0.02412 0.01806 0.02864 0.01945 C 0.03281 0.02315 0.03506 0.02662 0.03853 0.03125 E">
                                      <p:cBhvr>
                                        <p:cTn id="14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C 0.01232 0.00046 0.02031 0.00069 0.03125 0.00208 C 0.03403 0.0037 0.03698 0.00394 0.03958 0.00556 C 0.04462 0.00903 0.04896 0.01389 0.05364 0.01806 C 0.05607 0.02014 0.05955 0.01921 0.0625 0.01944 C 0.06423 0.02106 0.06406 0.01991 0.06406 0.02153 E">
                                      <p:cBhvr>
                                        <p:cTn id="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0533 C 0.00678 0.00301 0.00261 0.0044 0.00816 0.00255 C 0.01598 0.00394 0.01459 0.00394 0.02587 0.00325 C 0.03473 0.00209 0.04306 -0.00046 0.05191 -0.00162 C 0.05556 -0.00277 0.05712 -0.00393 0.06129 -0.00439 C 0.06684 -0.00601 0.07188 -0.00879 0.07744 -0.00995 C 0.08525 -0.01412 0.10244 -0.01064 0.10244 -0.01041 C 0.10643 -0.00925 0.10921 -0.00601 0.11233 -0.003 C 0.11771 0.00186 0.12466 0.00741 0.13056 0.01088 C 0.13959 0.01621 0.14983 0.02038 0.15921 0.02408 C 0.16424 0.02616 0.16858 0.03056 0.17379 0.03241 C 0.18178 0.03959 0.19063 0.04538 0.19983 0.04908 C 0.20244 0.05024 0.20487 0.05186 0.20764 0.05255 C 0.20938 0.05301 0.21285 0.05394 0.21285 0.05417 C 0.22344 0.05348 0.23125 0.05325 0.24098 0.05186 C 0.24671 0.04723 0.25313 0.04329 0.25973 0.04144 C 0.27171 0.03172 0.28559 0.02917 0.29931 0.02755 C 0.30504 0.02686 0.3165 0.02616 0.3165 0.02639 C 0.34028 0.02686 0.33559 0.02593 0.35035 0.03241 C 0.35157 0.03403 0.35296 0.03866 0.35296 0.03889 C 0.3533 0.05371 0.35313 0.06644 0.3566 0.08033 C 0.35712 0.11829 0.35157 0.17292 0.35869 0.20602 C 0.36025 0.22292 0.35973 0.23334 0.35973 0.25394 E">
                                      <p:cBhvr>
                                        <p:cTn id="18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4 0.00023 C -0.00625 -0.00255 0.00347 -0.00926 0.00608 -0.01158 C 0.01459 -0.01135 0.02309 -0.01135 0.0316 -0.01088 C 0.03559 -0.01065 0.04358 -0.00949 0.04358 -0.00926 C 0.04966 -0.00741 0.06233 -0.00602 0.06233 -0.00579 C 0.0658 -0.00625 0.06927 -0.00625 0.07275 -0.00672 C 0.07726 -0.00741 0.08108 -0.01389 0.08577 -0.01505 C 0.10174 -0.01389 0.11424 -0.00695 0.13056 -0.00602 C 0.14792 -0.00209 0.16563 -0.0051 0.18316 -0.00255 C 0.19775 -0.00347 0.21233 -0.00463 0.22691 -0.00533 C 0.23993 -0.01019 0.26111 -0.00695 0.27222 -0.00672 C 0.27847 -0.0051 0.26997 -0.00718 0.28108 -0.00533 C 0.28282 -0.0051 0.28629 -0.00324 0.28629 -0.00301 C 0.28872 -0.00093 0.2908 -0.0007 0.29358 0.00092 C 0.29809 0.00347 0.30191 0.00717 0.3066 0.00926 C 0.30729 0.01088 0.31042 0.01805 0.31077 0.01967 C 0.31163 0.02477 0.31216 0.03032 0.31389 0.03495 C 0.31511 0.04213 0.31597 0.05023 0.31754 0.05717 C 0.31823 0.06041 0.32014 0.0669 0.32014 0.06713 C 0.32066 0.09282 0.31493 0.12639 0.32327 0.14884 C 0.32431 0.15602 0.32813 0.16227 0.33108 0.16828 C 0.33438 0.175 0.33716 0.18171 0.34045 0.18842 C 0.34271 0.19282 0.34427 0.19861 0.34775 0.20162 C 0.34966 0.20555 0.35313 0.2081 0.35504 0.21203 C 0.35625 0.21458 0.35764 0.21759 0.3592 0.21967 E">
                                      <p:cBhvr>
                                        <p:cTn id="20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59259E-006 C 0.00417 -0.00185 0.0033 -0.00209 0.00938 -0.00278 C 0.01511 -0.00486 0.01945 -0.00695 0.02553 -0.00764 C 0.04584 -0.00718 0.06493 -0.00695 0.0849 -0.00417 C 0.08855 -0.00139 0.08803 -0.00139 0.09167 2.59259E-006 C 0.09306 0.00046 0.09584 0.00139 0.09584 0.00139 C 0.0974 0.00278 0.09844 0.00347 0.10053 0.00347 E">
                                      <p:cBhvr>
                                        <p:cTn id="22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0185 C 0.00434 -0.00533 0.00885 -0.00834 0.01337 -0.01019 C 0.02031 -0.01297 0.01337 -0.01019 0.01857 -0.01297 C 0.01962 -0.01343 0.0217 -0.01435 0.0217 -0.01412 C 0.03958 -0.0132 0.05677 -0.01135 0.07482 -0.01088 C 0.0934 -0.00903 0.0651 -0.01181 0.10451 -0.00949 C 0.1092 -0.00926 0.11857 -0.0081 0.11857 -0.00787 C 0.16944 -0.00903 0.22031 -0.00672 0.27118 -0.00602 C 0.28281 -0.00556 0.29045 -0.00579 0.30034 0.00092 C 0.3026 0.00995 0.30364 0.01898 0.30555 0.02801 C 0.30659 0.03333 0.30868 0.03796 0.30972 0.04328 C 0.30937 0.07083 0.30833 0.09838 0.3092 0.12592 C 0.30937 0.13264 0.31198 0.13865 0.31389 0.14467 C 0.32482 0.17963 0.34271 0.1993 0.36545 0.21967 C 0.3658 0.22037 0.36649 0.22176 0.36649 0.22199 E">
                                      <p:cBhvr>
                                        <p:cTn id="24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116 C 0.00712 -0.00532 0.01788 -0.00394 0.02639 -0.00463 C 0.03594 -0.00718 0.04583 -0.00648 0.05555 -0.00741 C 0.06319 -0.00718 0.07118 -0.0088 0.07847 -0.00602 C 0.08698 -0.00301 0.09548 0.00231 0.10399 0.00509 C 0.13594 0.03333 0.16163 0.03148 0.20087 0.03218 C 0.21909 0.03241 0.23732 0.03264 0.25555 0.03287 C 0.2592 0.0338 0.26232 0.03518 0.26597 0.03565 C 0.27465 0.03843 0.28264 0.04213 0.29149 0.04398 C 0.29444 0.04606 0.29757 0.0463 0.30034 0.04884 C 0.30885 0.06597 0.30555 0.08866 0.30191 0.10856 C 0.30139 0.1162 0.30034 0.12315 0.29826 0.13009 C 0.29618 0.14653 0.28871 0.16273 0.28159 0.17593 C 0.27795 0.18264 0.27517 0.19097 0.27118 0.19745 C 0.26284 0.21088 0.25278 0.22199 0.24357 0.23426 C 0.23854 0.24097 0.2335 0.25046 0.22743 0.25579 C 0.22534 0.25764 0.22291 0.25972 0.22118 0.26204 E">
                                      <p:cBhvr>
                                        <p:cTn id="26" dur="5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C 0.01163 -0.00555 0.02222 -0.01088 0.03438 -0.0118 C 0.05018 -0.01088 0.05625 -0.01111 0.06875 -0.00694 C 0.07188 -0.0037 0.07535 -0.00092 0.07813 0.00278 C 0.07882 0.00741 0.07899 0.01204 0.08021 0.01667 C 0.0809 0.01922 0.09045 0.02153 0.09219 0.02153 E">
                                      <p:cBhvr>
                                        <p:cTn id="2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5.92593E-006 C 0.00642 -0.00348 0.00156 -0.00117 0.01458 -0.00279 C 0.01649 -0.00302 0.0184 -0.00325 0.02031 -0.00348 C 0.02205 -0.00371 0.02552 -0.00417 0.02552 -0.00417 C 0.03819 -0.00302 0.04965 0.0037 0.06198 0.00694 C 0.06909 0.0111 0.07673 0.01133 0.08437 0.0118 C 0.08923 0.01296 0.08594 0.0118 0.0901 0.01388 C 0.09114 0.01434 0.09323 0.01527 0.09323 0.01527 C 0.09844 0.02059 0.10121 0.02731 0.10573 0.03333 E">
                                      <p:cBhvr>
                                        <p:cTn id="30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48148E-006 C 0.02205 0.00186 -0.01076 -0.00092 0.02032 0.00139 C 0.0257 0.00186 0.03646 0.00278 0.03646 0.00278 C 0.04462 0.00463 0.05243 0.00834 0.06042 0.00973 C 0.06389 0.00926 0.06702 0.00811 0.07032 0.00903 C 0.07188 0.0095 0.075 0.01042 0.075 0.01042 E">
                                      <p:cBhvr>
                                        <p:cTn id="32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46 C 0.02292 -0.00556 0.04983 -0.00023 0.07379 0.00092 C 0.08125 0.00416 0.08959 0.00532 0.09723 0.00856 C 0.11441 0.01574 0.13108 0.02407 0.14879 0.0287 C 0.15521 0.0331 0.16302 0.03287 0.17014 0.03426 C 0.17483 0.03634 0.18039 0.03541 0.18525 0.03634 C 0.19601 0.03819 0.20591 0.04259 0.2165 0.04398 C 0.23021 0.04375 0.2408 0.04421 0.25348 0.0419 C 0.27396 0.04213 0.29514 0.03611 0.31493 0.04329 C 0.32379 0.04653 0.32761 0.05023 0.33733 0.05162 C 0.34063 0.06504 0.34566 0.07778 0.34723 0.0919 C 0.34584 0.10648 0.34236 0.11481 0.33837 0.12801 C 0.33802 0.13055 0.33768 0.13472 0.33681 0.13704 C 0.33473 0.14236 0.33091 0.14491 0.32743 0.14815 C 0.32153 0.15347 0.31493 0.15926 0.30816 0.16273 C 0.30625 0.16528 0.30382 0.16643 0.30191 0.16898 C 0.29618 0.17616 0.29167 0.1831 0.2842 0.18704 C 0.27726 0.18541 0.27084 0.18241 0.26389 0.18079 C 0.26164 0.18102 0.25938 0.18079 0.25712 0.18148 C 0.25452 0.18217 0.25191 0.18379 0.24931 0.18495 C 0.24879 0.18518 0.24775 0.18565 0.24775 0.18588 C 0.24028 0.1956 0.23889 0.21041 0.23316 0.22176 C 0.23125 0.22569 0.22795 0.22616 0.22535 0.2294 C 0.22414 0.23102 0.2217 0.23426 0.2217 0.23449 C 0.22066 0.23842 0.21841 0.2419 0.21598 0.24467 C 0.21511 0.24583 0.21285 0.24745 0.21285 0.24768 C 0.21094 0.25139 0.21233 0.24884 0.20816 0.2544 C 0.20556 0.25787 0.20504 0.26273 0.20348 0.2669 E">
                                      <p:cBhvr>
                                        <p:cTn id="34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259E-006 C 0.00209 -0.00208 0.0033 -0.00324 0.00573 -0.00416 C 0.00955 -0.0081 0.01407 -0.00764 0.01875 -0.00833 C 0.02657 -0.0081 0.03455 -0.00625 0.04219 -0.00625 E">
                                      <p:cBhvr>
                                        <p:cTn id="36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46 C 0.00747 0.00092 0.00851 0.00069 0.01372 0.00254 C 0.01528 0.00555 0.01684 0.00763 0.01945 0.00879 C 0.02483 0.0074 0.02466 0.00972 0.02466 0.00671 E">
                                      <p:cBhvr>
                                        <p:cTn id="38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C 0.01493 0.00023 0.02934 0.00232 0.04427 0.00301 C 0.04931 0.00394 0.04688 0.00347 0.05139 0.0044 C 0.0533 0.00556 0.05521 0.00602 0.05712 0.00648 C 0.05886 0.00764 0.06077 0.00741 0.06285 0.00764 C 0.06389 0.00833 0.06476 0.00833 0.06563 0.00926 C 0.06632 0.01065 0.0658 0.01019 0.06667 0.01065 E">
                                      <p:cBhvr>
                                        <p:cTn id="4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2.59259E-006 C 0.00416 -0.00116 0.0085 -0.00139 0.01284 -0.00162 C 0.02343 -0.00093 0.03211 -0.00046 0.04201 0.00417 C 0.05121 0.00833 0.06006 0.01435 0.06927 0.01805 C 0.071 0.01875 0.07256 0.02037 0.0743 0.02083 L 0.08055 0.0243 L 0.08159 0.025 E">
                                      <p:cBhvr>
                                        <p:cTn id="42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2.59259E-006 C 0.00347 -0.00208 0.00677 -0.00324 0.00955 -0.00393 C 0.01284 -0.00717 0.02205 -0.01412 0.02587 -0.01504 C 0.03142 -0.02037 0.03975 -0.02014 0.04618 -0.0206 C 0.05034 -0.02037 0.05451 -0.0206 0.05868 -0.02014 C 0.06701 -0.01921 0.07969 -0.00625 0.08698 -0.00069 C 0.09097 0.00232 0.09566 0.00347 0.1 0.00556 C 0.10989 0.01042 0.12031 0.01574 0.13073 0.01783 C 0.14184 0.0176 0.15278 0.0176 0.16371 0.01597 C 0.17517 0.01667 0.18524 0.01991 0.1967 0.0206 C 0.22291 0.01898 0.2408 0.01783 0.27118 0.01713 C 0.27864 0.01736 0.28663 0.01644 0.29409 0.01875 C 0.29653 0.02084 0.29913 0.02246 0.30156 0.02431 C 0.30295 0.02778 0.3033 0.03172 0.30503 0.03496 C 0.30625 0.05209 0.30555 0.06181 0.30538 0.08334 C 0.30521 0.09607 0.30607 0.11621 0.29826 0.12662 C 0.29635 0.13542 0.29028 0.1382 0.28541 0.14329 C 0.28194 0.14699 0.27812 0.15162 0.27378 0.15324 C 0.25312 0.15278 0.23264 0.15324 0.21198 0.15486 C 0.20868 0.15672 0.20451 0.1581 0.20087 0.1588 C 0.19739 0.16019 0.19896 0.15972 0.19618 0.16042 C 0.1934 0.16297 0.18819 0.16551 0.18489 0.16783 C 0.18316 0.1706 0.18159 0.17222 0.18003 0.17547 C 0.17864 0.17824 0.17812 0.18079 0.17656 0.18334 C 0.17517 0.18912 0.17344 0.19514 0.17118 0.20047 C 0.17014 0.20718 0.16232 0.22408 0.15781 0.22709 C 0.15434 0.23241 0.15139 0.23542 0.14583 0.23658 C 0.14375 0.23843 0.14149 0.23866 0.13906 0.23935 C 0.13802 0.24028 0.13732 0.24213 0.13628 0.24213 E">
                                      <p:cBhvr>
                                        <p:cTn id="44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0023 C 0.0033 -0.00023 0.00712 -0.00116 0.0125 -0.00209 C 0.01997 -0.0051 0.02691 -0.00926 0.03455 -0.01158 C 0.04427 -0.01459 0.05504 -0.01435 0.06493 -0.01482 C 0.08334 -0.0169 0.10191 -0.01528 0.12049 -0.01435 C 0.13681 -0.01158 0.14809 -0.01181 0.16667 -0.01158 C 0.17327 -0.01065 0.17969 -0.01042 0.18629 -0.00996 C 0.20729 -0.00741 0.22847 -0.00764 0.24966 -0.00718 C 0.26233 -0.0051 0.27483 -0.00672 0.2875 -0.00371 C 0.29479 -0.00023 0.30278 0.00162 0.31007 0.00463 C 0.31129 0.00578 0.3125 0.0074 0.31372 0.00856 C 0.31632 0.01666 0.32431 0.02245 0.32795 0.02963 C 0.32847 0.0324 0.3283 0.03449 0.32709 0.0368 C 0.32657 0.04051 0.32448 0.04722 0.32327 0.05069 C 0.3224 0.05301 0.32084 0.05787 0.32084 0.0581 C 0.32032 0.06412 0.31858 0.07083 0.31667 0.07685 C 0.31597 0.08194 0.31302 0.08865 0.31077 0.09282 C 0.30955 0.10139 0.30209 0.11065 0.29792 0.1162 C 0.29584 0.11875 0.2941 0.12199 0.29202 0.12453 C 0.28681 0.13078 0.27778 0.13657 0.2717 0.1412 C 0.26806 0.14375 0.26528 0.14722 0.26163 0.14953 C 0.25816 0.15416 0.25365 0.15578 0.25 0.16018 C 0.24722 0.16342 0.2441 0.16643 0.2408 0.16852 C 0.23941 0.17083 0.23768 0.17222 0.23629 0.17453 C 0.23299 0.17963 0.23056 0.18472 0.22674 0.18912 C 0.22587 0.19352 0.22344 0.19629 0.22205 0.20023 C 0.21979 0.20671 0.21788 0.21227 0.21493 0.21782 C 0.21459 0.21967 0.21389 0.22083 0.21337 0.22245 E">
                                      <p:cBhvr>
                                        <p:cTn id="46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C 0.01563 -0.0081 0.04254 -0.00417 0.05538 -0.0044 C 0.07257 -0.0037 0.08733 -0.00324 0.10365 -0.00162 C 0.10938 0.00023 0.11511 0.00231 0.12083 0.00324 C 0.1283 0.00579 0.13507 0.01181 0.14254 0.01435 C 0.14514 0.0162 0.14809 0.01667 0.15087 0.01782 C 0.15833 0.02106 0.16493 0.02407 0.17292 0.025 C 0.18108 0.02755 0.18247 0.02639 0.19531 0.02662 C 0.21094 0.02847 0.22604 0.03056 0.24167 0.03102 C 0.24827 0.03148 0.25504 0.03218 0.26163 0.03264 C 0.26788 0.03472 0.27483 0.03426 0.28125 0.03542 C 0.28854 0.03866 0.29792 0.03171 0.3033 0.04005 C 0.30452 0.0456 0.30643 0.04907 0.31077 0.05046 C 0.31511 0.05463 0.31337 0.05787 0.31458 0.06435 C 0.31511 0.0669 0.31667 0.07153 0.31667 0.07153 C 0.3184 0.0831 0.31684 0.09491 0.31788 0.10671 C 0.31754 0.11157 0.31736 0.1162 0.31702 0.12106 C 0.31684 0.12361 0.31528 0.12593 0.31458 0.12824 C 0.31163 0.1375 0.30799 0.14653 0.30504 0.15602 C 0.30313 0.1625 0.30208 0.17153 0.29913 0.17708 C 0.29879 0.1794 0.29844 0.18079 0.2974 0.18264 C 0.29688 0.18565 0.29618 0.1875 0.29497 0.19005 C 0.29462 0.19213 0.29375 0.19352 0.29323 0.1956 C 0.29254 0.20162 0.28958 0.20787 0.28698 0.21273 C 0.28611 0.21435 0.28559 0.21597 0.2849 0.21782 C 0.28472 0.21829 0.2842 0.21944 0.2842 0.21944 E">
                                      <p:cBhvr>
                                        <p:cTn id="48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46 C 0.00364 -0.00254 0.00642 -0.00509 0.00972 -0.00694 C 0.01458 -0.00972 0.00729 -0.00671 0.01232 -0.00879 C 0.01319 -0.00903 0.01475 -0.00972 0.01475 -0.00972 C 0.02187 -0.01643 0.03854 -0.01435 0.04635 -0.01481 C 0.05416 -0.01435 0.06232 -0.01666 0.06979 -0.01319 C 0.07795 -0.00949 0.0842 -0.00625 0.0927 -0.00486 C 0.11632 -0.00092 0.14027 -0.00069 0.16389 0.00232 C 0.17066 0.00648 0.1783 0.00972 0.18559 0.01135 C 0.19618 0.01736 0.2092 0.0176 0.22066 0.01852 C 0.24097 0.0257 0.28871 0.01968 0.29062 0.01968 C 0.29948 0.01875 0.30833 0.01852 0.31718 0.02014 C 0.31892 0.0213 0.32187 0.02408 0.32187 0.02408 C 0.32291 0.02616 0.32326 0.02778 0.32395 0.0301 C 0.32361 0.06574 0.32777 0.09746 0.31267 0.12639 C 0.31198 0.1301 0.3059 0.13935 0.30347 0.14121 C 0.30139 0.14514 0.29409 0.14977 0.29062 0.15139 C 0.27986 0.16135 0.25017 0.15834 0.24149 0.15857 C 0.23941 0.15949 0.23732 0.15996 0.23524 0.16065 C 0.2342 0.16135 0.23229 0.1625 0.23229 0.1625 E">
                                      <p:cBhvr>
                                        <p:cTn id="50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-0.0044 C 0.00296 -0.00509 0.00521 -0.00579 0.00869 -0.00718 C 0.02553 -0.02292 0.06702 -0.01435 0.07622 -0.01435 C 0.08143 -0.01551 0.08646 -0.01574 0.09167 -0.0162 C 0.10799 -0.01574 0.12414 -0.01481 0.14046 -0.01389 C 0.15539 -0.01157 0.18542 -0.01157 0.18542 -0.01134 C 0.19115 -0.01088 0.19671 -0.0088 0.20244 -0.00787 C 0.22223 0.00162 0.24601 -0.00162 0.26632 -0.00116 C 0.28351 -0.00046 0.28021 -0.00116 0.29046 -7.40741E-007 C 0.29393 0.00046 0.30087 0.00162 0.30087 0.00185 C 0.30487 0.00347 0.30851 0.00556 0.31216 0.0088 C 0.31303 0.01088 0.31355 0.0132 0.31459 0.01505 C 0.31702 0.03773 0.31129 0.06343 0.31632 0.08565 C 0.31702 0.09954 0.31598 0.11458 0.31997 0.12778 C 0.32622 0.14815 0.34185 0.16157 0.35747 0.16713 C 0.36303 0.16921 0.36928 0.16829 0.37501 0.16829 E">
                                      <p:cBhvr>
                                        <p:cTn id="52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4"/>
          <p:cNvSpPr/>
          <p:nvPr/>
        </p:nvSpPr>
        <p:spPr>
          <a:xfrm>
            <a:off x="1116000" y="1628640"/>
            <a:ext cx="3527280" cy="2376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5"/>
          <p:cNvSpPr/>
          <p:nvPr/>
        </p:nvSpPr>
        <p:spPr>
          <a:xfrm flipV="1">
            <a:off x="1117440" y="26845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rot="16200000">
            <a:off x="1133280" y="2905920"/>
            <a:ext cx="252360" cy="1447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6372360" y="76500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DETECTOR CCD O 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258920" y="191628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des  de Dif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9"/>
          <p:cNvSpPr/>
          <p:nvPr/>
        </p:nvSpPr>
        <p:spPr>
          <a:xfrm>
            <a:off x="717480" y="2793960"/>
            <a:ext cx="89388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0"/>
          <p:cNvSpPr/>
          <p:nvPr/>
        </p:nvSpPr>
        <p:spPr>
          <a:xfrm>
            <a:off x="150840" y="2792520"/>
            <a:ext cx="93492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rot="5400000">
            <a:off x="1133280" y="2545920"/>
            <a:ext cx="252360" cy="1447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2"/>
          <p:cNvSpPr/>
          <p:nvPr/>
        </p:nvSpPr>
        <p:spPr>
          <a:xfrm>
            <a:off x="438120" y="88920"/>
            <a:ext cx="63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SELECTOR CON SISTEMAS DE ELEMENTOS EN 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3"/>
          <p:cNvSpPr/>
          <p:nvPr/>
        </p:nvSpPr>
        <p:spPr>
          <a:xfrm>
            <a:off x="324000" y="342900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ndija de en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7380360" y="3357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5"/>
          <p:cNvSpPr/>
          <p:nvPr/>
        </p:nvSpPr>
        <p:spPr>
          <a:xfrm>
            <a:off x="7164360" y="0"/>
            <a:ext cx="2025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16"/>
          <p:cNvSpPr/>
          <p:nvPr/>
        </p:nvSpPr>
        <p:spPr>
          <a:xfrm rot="5400000">
            <a:off x="6055200" y="1521720"/>
            <a:ext cx="215640" cy="144360"/>
          </a:xfrm>
          <a:prstGeom prst="parallelogram">
            <a:avLst>
              <a:gd name="adj" fmla="val 4892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6091200" y="14860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6235560" y="170172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 rot="5400000">
            <a:off x="6270840" y="173736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0"/>
          <p:cNvSpPr/>
          <p:nvPr/>
        </p:nvSpPr>
        <p:spPr>
          <a:xfrm>
            <a:off x="6307200" y="17017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1"/>
          <p:cNvSpPr/>
          <p:nvPr/>
        </p:nvSpPr>
        <p:spPr>
          <a:xfrm>
            <a:off x="6451560" y="19177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22"/>
          <p:cNvSpPr/>
          <p:nvPr/>
        </p:nvSpPr>
        <p:spPr>
          <a:xfrm rot="5400000">
            <a:off x="6486840" y="195336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3"/>
          <p:cNvSpPr/>
          <p:nvPr/>
        </p:nvSpPr>
        <p:spPr>
          <a:xfrm>
            <a:off x="6523200" y="19177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24"/>
          <p:cNvSpPr/>
          <p:nvPr/>
        </p:nvSpPr>
        <p:spPr>
          <a:xfrm>
            <a:off x="6667560" y="21337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25"/>
          <p:cNvGrpSpPr/>
          <p:nvPr/>
        </p:nvGrpSpPr>
        <p:grpSpPr>
          <a:xfrm>
            <a:off x="6738480" y="2133720"/>
            <a:ext cx="289440" cy="215640"/>
            <a:chOff x="6738480" y="2133720"/>
            <a:chExt cx="289440" cy="215640"/>
          </a:xfrm>
        </p:grpSpPr>
        <p:sp>
          <p:nvSpPr>
            <p:cNvPr id="851" name="AutoShape 26"/>
            <p:cNvSpPr/>
            <p:nvPr/>
          </p:nvSpPr>
          <p:spPr>
            <a:xfrm rot="5400000">
              <a:off x="6702840" y="2169360"/>
              <a:ext cx="215640" cy="144360"/>
            </a:xfrm>
            <a:prstGeom prst="parallelogram">
              <a:avLst>
                <a:gd name="adj" fmla="val 48928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27"/>
            <p:cNvSpPr/>
            <p:nvPr/>
          </p:nvSpPr>
          <p:spPr>
            <a:xfrm>
              <a:off x="6738840" y="213372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28"/>
            <p:cNvSpPr/>
            <p:nvPr/>
          </p:nvSpPr>
          <p:spPr>
            <a:xfrm>
              <a:off x="6883200" y="234936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29"/>
          <p:cNvGrpSpPr/>
          <p:nvPr/>
        </p:nvGrpSpPr>
        <p:grpSpPr>
          <a:xfrm>
            <a:off x="6954480" y="2349360"/>
            <a:ext cx="289440" cy="216000"/>
            <a:chOff x="6954480" y="2349360"/>
            <a:chExt cx="289440" cy="216000"/>
          </a:xfrm>
        </p:grpSpPr>
        <p:sp>
          <p:nvSpPr>
            <p:cNvPr id="855" name="AutoShape 30"/>
            <p:cNvSpPr/>
            <p:nvPr/>
          </p:nvSpPr>
          <p:spPr>
            <a:xfrm rot="5400000">
              <a:off x="6918480" y="2385000"/>
              <a:ext cx="216000" cy="144360"/>
            </a:xfrm>
            <a:prstGeom prst="parallelogram">
              <a:avLst>
                <a:gd name="adj" fmla="val 49009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31"/>
            <p:cNvSpPr/>
            <p:nvPr/>
          </p:nvSpPr>
          <p:spPr>
            <a:xfrm>
              <a:off x="6954840" y="234936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32"/>
            <p:cNvSpPr/>
            <p:nvPr/>
          </p:nvSpPr>
          <p:spPr>
            <a:xfrm>
              <a:off x="7099200" y="256536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33"/>
          <p:cNvGrpSpPr/>
          <p:nvPr/>
        </p:nvGrpSpPr>
        <p:grpSpPr>
          <a:xfrm>
            <a:off x="7170840" y="2565360"/>
            <a:ext cx="288360" cy="216000"/>
            <a:chOff x="7170840" y="2565360"/>
            <a:chExt cx="288360" cy="216000"/>
          </a:xfrm>
        </p:grpSpPr>
        <p:sp>
          <p:nvSpPr>
            <p:cNvPr id="859" name="AutoShape 34"/>
            <p:cNvSpPr/>
            <p:nvPr/>
          </p:nvSpPr>
          <p:spPr>
            <a:xfrm rot="5400000">
              <a:off x="7134840" y="2601360"/>
              <a:ext cx="216000" cy="144000"/>
            </a:xfrm>
            <a:prstGeom prst="parallelogram">
              <a:avLst>
                <a:gd name="adj" fmla="val 49132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35"/>
            <p:cNvSpPr/>
            <p:nvPr/>
          </p:nvSpPr>
          <p:spPr>
            <a:xfrm>
              <a:off x="7170840" y="2565360"/>
              <a:ext cx="14400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36"/>
            <p:cNvSpPr/>
            <p:nvPr/>
          </p:nvSpPr>
          <p:spPr>
            <a:xfrm>
              <a:off x="7314840" y="278136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AutoShape 37"/>
          <p:cNvSpPr/>
          <p:nvPr/>
        </p:nvSpPr>
        <p:spPr>
          <a:xfrm rot="5400000">
            <a:off x="6041160" y="1824480"/>
            <a:ext cx="215640" cy="144720"/>
          </a:xfrm>
          <a:prstGeom prst="parallelogram">
            <a:avLst>
              <a:gd name="adj" fmla="val 48806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38"/>
          <p:cNvSpPr/>
          <p:nvPr/>
        </p:nvSpPr>
        <p:spPr>
          <a:xfrm>
            <a:off x="6076800" y="178920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39"/>
          <p:cNvSpPr/>
          <p:nvPr/>
        </p:nvSpPr>
        <p:spPr>
          <a:xfrm>
            <a:off x="6221520" y="20048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40"/>
          <p:cNvSpPr/>
          <p:nvPr/>
        </p:nvSpPr>
        <p:spPr>
          <a:xfrm rot="5400000">
            <a:off x="6256440" y="204048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41"/>
          <p:cNvSpPr/>
          <p:nvPr/>
        </p:nvSpPr>
        <p:spPr>
          <a:xfrm>
            <a:off x="6292800" y="20048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2"/>
          <p:cNvSpPr/>
          <p:nvPr/>
        </p:nvSpPr>
        <p:spPr>
          <a:xfrm>
            <a:off x="6437160" y="222084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43"/>
          <p:cNvSpPr/>
          <p:nvPr/>
        </p:nvSpPr>
        <p:spPr>
          <a:xfrm rot="5400000">
            <a:off x="6688440" y="247248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44"/>
          <p:cNvSpPr/>
          <p:nvPr/>
        </p:nvSpPr>
        <p:spPr>
          <a:xfrm>
            <a:off x="6724800" y="24368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45"/>
          <p:cNvSpPr/>
          <p:nvPr/>
        </p:nvSpPr>
        <p:spPr>
          <a:xfrm>
            <a:off x="6869160" y="26528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Group 46"/>
          <p:cNvGrpSpPr/>
          <p:nvPr/>
        </p:nvGrpSpPr>
        <p:grpSpPr>
          <a:xfrm>
            <a:off x="6940080" y="2652840"/>
            <a:ext cx="289440" cy="215640"/>
            <a:chOff x="6940080" y="2652840"/>
            <a:chExt cx="289440" cy="215640"/>
          </a:xfrm>
        </p:grpSpPr>
        <p:sp>
          <p:nvSpPr>
            <p:cNvPr id="872" name="AutoShape 47"/>
            <p:cNvSpPr/>
            <p:nvPr/>
          </p:nvSpPr>
          <p:spPr>
            <a:xfrm rot="5400000">
              <a:off x="6904440" y="2688480"/>
              <a:ext cx="215640" cy="144360"/>
            </a:xfrm>
            <a:prstGeom prst="parallelogram">
              <a:avLst>
                <a:gd name="adj" fmla="val 48928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48"/>
            <p:cNvSpPr/>
            <p:nvPr/>
          </p:nvSpPr>
          <p:spPr>
            <a:xfrm>
              <a:off x="6940440" y="265284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49"/>
            <p:cNvSpPr/>
            <p:nvPr/>
          </p:nvSpPr>
          <p:spPr>
            <a:xfrm>
              <a:off x="7084800" y="286848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Group 50"/>
          <p:cNvGrpSpPr/>
          <p:nvPr/>
        </p:nvGrpSpPr>
        <p:grpSpPr>
          <a:xfrm>
            <a:off x="7156080" y="2868480"/>
            <a:ext cx="289440" cy="216000"/>
            <a:chOff x="7156080" y="2868480"/>
            <a:chExt cx="289440" cy="216000"/>
          </a:xfrm>
        </p:grpSpPr>
        <p:sp>
          <p:nvSpPr>
            <p:cNvPr id="876" name="AutoShape 51"/>
            <p:cNvSpPr/>
            <p:nvPr/>
          </p:nvSpPr>
          <p:spPr>
            <a:xfrm rot="5400000">
              <a:off x="7120080" y="2904120"/>
              <a:ext cx="216000" cy="144360"/>
            </a:xfrm>
            <a:prstGeom prst="parallelogram">
              <a:avLst>
                <a:gd name="adj" fmla="val 49009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52"/>
            <p:cNvSpPr/>
            <p:nvPr/>
          </p:nvSpPr>
          <p:spPr>
            <a:xfrm>
              <a:off x="7156440" y="286848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53"/>
            <p:cNvSpPr/>
            <p:nvPr/>
          </p:nvSpPr>
          <p:spPr>
            <a:xfrm>
              <a:off x="7300800" y="308448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AutoShape 54"/>
          <p:cNvSpPr/>
          <p:nvPr/>
        </p:nvSpPr>
        <p:spPr>
          <a:xfrm rot="5400000">
            <a:off x="6045480" y="212004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55"/>
          <p:cNvSpPr/>
          <p:nvPr/>
        </p:nvSpPr>
        <p:spPr>
          <a:xfrm>
            <a:off x="6081840" y="20844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56"/>
          <p:cNvSpPr/>
          <p:nvPr/>
        </p:nvSpPr>
        <p:spPr>
          <a:xfrm>
            <a:off x="6226200" y="23004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57"/>
          <p:cNvSpPr/>
          <p:nvPr/>
        </p:nvSpPr>
        <p:spPr>
          <a:xfrm>
            <a:off x="6297480" y="230040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58"/>
          <p:cNvSpPr/>
          <p:nvPr/>
        </p:nvSpPr>
        <p:spPr>
          <a:xfrm>
            <a:off x="6442200" y="25160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59"/>
          <p:cNvSpPr/>
          <p:nvPr/>
        </p:nvSpPr>
        <p:spPr>
          <a:xfrm>
            <a:off x="6513480" y="25160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60"/>
          <p:cNvSpPr/>
          <p:nvPr/>
        </p:nvSpPr>
        <p:spPr>
          <a:xfrm>
            <a:off x="6657840" y="273204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61"/>
          <p:cNvSpPr/>
          <p:nvPr/>
        </p:nvSpPr>
        <p:spPr>
          <a:xfrm>
            <a:off x="6729480" y="27320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62"/>
          <p:cNvSpPr/>
          <p:nvPr/>
        </p:nvSpPr>
        <p:spPr>
          <a:xfrm>
            <a:off x="6873840" y="29480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63"/>
          <p:cNvGrpSpPr/>
          <p:nvPr/>
        </p:nvGrpSpPr>
        <p:grpSpPr>
          <a:xfrm>
            <a:off x="6945480" y="2948040"/>
            <a:ext cx="288360" cy="216000"/>
            <a:chOff x="6945480" y="2948040"/>
            <a:chExt cx="288360" cy="216000"/>
          </a:xfrm>
        </p:grpSpPr>
        <p:sp>
          <p:nvSpPr>
            <p:cNvPr id="889" name="AutoShape 64"/>
            <p:cNvSpPr/>
            <p:nvPr/>
          </p:nvSpPr>
          <p:spPr>
            <a:xfrm rot="5400000">
              <a:off x="6909480" y="2984040"/>
              <a:ext cx="216000" cy="144000"/>
            </a:xfrm>
            <a:prstGeom prst="parallelogram">
              <a:avLst>
                <a:gd name="adj" fmla="val 49132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65"/>
            <p:cNvSpPr/>
            <p:nvPr/>
          </p:nvSpPr>
          <p:spPr>
            <a:xfrm>
              <a:off x="6945480" y="2948040"/>
              <a:ext cx="14400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66"/>
            <p:cNvSpPr/>
            <p:nvPr/>
          </p:nvSpPr>
          <p:spPr>
            <a:xfrm>
              <a:off x="7089480" y="316404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AutoShape 67"/>
          <p:cNvSpPr/>
          <p:nvPr/>
        </p:nvSpPr>
        <p:spPr>
          <a:xfrm rot="5400000">
            <a:off x="7125480" y="3199320"/>
            <a:ext cx="215640" cy="144720"/>
          </a:xfrm>
          <a:prstGeom prst="parallelogram">
            <a:avLst>
              <a:gd name="adj" fmla="val 48806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68"/>
          <p:cNvSpPr/>
          <p:nvPr/>
        </p:nvSpPr>
        <p:spPr>
          <a:xfrm>
            <a:off x="7161120" y="316404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69"/>
          <p:cNvSpPr/>
          <p:nvPr/>
        </p:nvSpPr>
        <p:spPr>
          <a:xfrm>
            <a:off x="7305840" y="33796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70"/>
          <p:cNvGrpSpPr/>
          <p:nvPr/>
        </p:nvGrpSpPr>
        <p:grpSpPr>
          <a:xfrm>
            <a:off x="6071760" y="2355840"/>
            <a:ext cx="289440" cy="216000"/>
            <a:chOff x="6071760" y="2355840"/>
            <a:chExt cx="289440" cy="216000"/>
          </a:xfrm>
        </p:grpSpPr>
        <p:sp>
          <p:nvSpPr>
            <p:cNvPr id="896" name="AutoShape 71"/>
            <p:cNvSpPr/>
            <p:nvPr/>
          </p:nvSpPr>
          <p:spPr>
            <a:xfrm rot="5400000">
              <a:off x="6035760" y="2391480"/>
              <a:ext cx="216000" cy="144360"/>
            </a:xfrm>
            <a:prstGeom prst="parallelogram">
              <a:avLst>
                <a:gd name="adj" fmla="val 49009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72"/>
            <p:cNvSpPr/>
            <p:nvPr/>
          </p:nvSpPr>
          <p:spPr>
            <a:xfrm>
              <a:off x="6072120" y="235584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73"/>
            <p:cNvSpPr/>
            <p:nvPr/>
          </p:nvSpPr>
          <p:spPr>
            <a:xfrm>
              <a:off x="6216480" y="257184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74"/>
          <p:cNvSpPr/>
          <p:nvPr/>
        </p:nvSpPr>
        <p:spPr>
          <a:xfrm>
            <a:off x="6288120" y="25718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75"/>
          <p:cNvSpPr/>
          <p:nvPr/>
        </p:nvSpPr>
        <p:spPr>
          <a:xfrm>
            <a:off x="6432480" y="27874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76"/>
          <p:cNvSpPr/>
          <p:nvPr/>
        </p:nvSpPr>
        <p:spPr>
          <a:xfrm>
            <a:off x="6504120" y="27874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77"/>
          <p:cNvSpPr/>
          <p:nvPr/>
        </p:nvSpPr>
        <p:spPr>
          <a:xfrm>
            <a:off x="6648480" y="30034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78"/>
          <p:cNvSpPr/>
          <p:nvPr/>
        </p:nvSpPr>
        <p:spPr>
          <a:xfrm>
            <a:off x="6719760" y="300348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79"/>
          <p:cNvSpPr/>
          <p:nvPr/>
        </p:nvSpPr>
        <p:spPr>
          <a:xfrm>
            <a:off x="6864480" y="32194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80"/>
          <p:cNvSpPr/>
          <p:nvPr/>
        </p:nvSpPr>
        <p:spPr>
          <a:xfrm rot="5400000">
            <a:off x="6899400" y="325512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81"/>
          <p:cNvSpPr/>
          <p:nvPr/>
        </p:nvSpPr>
        <p:spPr>
          <a:xfrm>
            <a:off x="6935760" y="32194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82"/>
          <p:cNvSpPr/>
          <p:nvPr/>
        </p:nvSpPr>
        <p:spPr>
          <a:xfrm>
            <a:off x="7080120" y="343548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83"/>
          <p:cNvSpPr/>
          <p:nvPr/>
        </p:nvSpPr>
        <p:spPr>
          <a:xfrm rot="5400000">
            <a:off x="7115760" y="3471120"/>
            <a:ext cx="215640" cy="144360"/>
          </a:xfrm>
          <a:prstGeom prst="parallelogram">
            <a:avLst>
              <a:gd name="adj" fmla="val 4892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84"/>
          <p:cNvSpPr/>
          <p:nvPr/>
        </p:nvSpPr>
        <p:spPr>
          <a:xfrm>
            <a:off x="7151760" y="34354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85"/>
          <p:cNvSpPr/>
          <p:nvPr/>
        </p:nvSpPr>
        <p:spPr>
          <a:xfrm>
            <a:off x="7296120" y="36511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86"/>
          <p:cNvGrpSpPr/>
          <p:nvPr/>
        </p:nvGrpSpPr>
        <p:grpSpPr>
          <a:xfrm>
            <a:off x="6070680" y="2646360"/>
            <a:ext cx="288360" cy="216000"/>
            <a:chOff x="6070680" y="2646360"/>
            <a:chExt cx="288360" cy="216000"/>
          </a:xfrm>
        </p:grpSpPr>
        <p:sp>
          <p:nvSpPr>
            <p:cNvPr id="912" name="AutoShape 87"/>
            <p:cNvSpPr/>
            <p:nvPr/>
          </p:nvSpPr>
          <p:spPr>
            <a:xfrm rot="5400000">
              <a:off x="6034680" y="2682360"/>
              <a:ext cx="216000" cy="144000"/>
            </a:xfrm>
            <a:prstGeom prst="parallelogram">
              <a:avLst>
                <a:gd name="adj" fmla="val 49132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88"/>
            <p:cNvSpPr/>
            <p:nvPr/>
          </p:nvSpPr>
          <p:spPr>
            <a:xfrm>
              <a:off x="6070680" y="2646360"/>
              <a:ext cx="14400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89"/>
            <p:cNvSpPr/>
            <p:nvPr/>
          </p:nvSpPr>
          <p:spPr>
            <a:xfrm>
              <a:off x="6214680" y="286236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AutoShape 90"/>
          <p:cNvSpPr/>
          <p:nvPr/>
        </p:nvSpPr>
        <p:spPr>
          <a:xfrm rot="5400000">
            <a:off x="6250680" y="2898000"/>
            <a:ext cx="215640" cy="144360"/>
          </a:xfrm>
          <a:prstGeom prst="parallelogram">
            <a:avLst>
              <a:gd name="adj" fmla="val 4892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91"/>
          <p:cNvSpPr/>
          <p:nvPr/>
        </p:nvSpPr>
        <p:spPr>
          <a:xfrm>
            <a:off x="6286680" y="28623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92"/>
          <p:cNvSpPr/>
          <p:nvPr/>
        </p:nvSpPr>
        <p:spPr>
          <a:xfrm>
            <a:off x="6431040" y="30780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93"/>
          <p:cNvSpPr/>
          <p:nvPr/>
        </p:nvSpPr>
        <p:spPr>
          <a:xfrm rot="5400000">
            <a:off x="6472440" y="225648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94"/>
          <p:cNvSpPr/>
          <p:nvPr/>
        </p:nvSpPr>
        <p:spPr>
          <a:xfrm>
            <a:off x="6508800" y="22208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95"/>
          <p:cNvSpPr/>
          <p:nvPr/>
        </p:nvSpPr>
        <p:spPr>
          <a:xfrm>
            <a:off x="6653160" y="24368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96"/>
          <p:cNvSpPr/>
          <p:nvPr/>
        </p:nvSpPr>
        <p:spPr>
          <a:xfrm rot="5400000">
            <a:off x="6261840" y="2335680"/>
            <a:ext cx="215640" cy="144720"/>
          </a:xfrm>
          <a:prstGeom prst="parallelogram">
            <a:avLst>
              <a:gd name="adj" fmla="val 48806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97"/>
          <p:cNvSpPr/>
          <p:nvPr/>
        </p:nvSpPr>
        <p:spPr>
          <a:xfrm rot="5400000">
            <a:off x="6477120" y="255168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98"/>
          <p:cNvSpPr/>
          <p:nvPr/>
        </p:nvSpPr>
        <p:spPr>
          <a:xfrm rot="5400000">
            <a:off x="6693120" y="276768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99"/>
          <p:cNvSpPr/>
          <p:nvPr/>
        </p:nvSpPr>
        <p:spPr>
          <a:xfrm rot="5400000">
            <a:off x="6252120" y="2607480"/>
            <a:ext cx="215640" cy="144360"/>
          </a:xfrm>
          <a:prstGeom prst="parallelogram">
            <a:avLst>
              <a:gd name="adj" fmla="val 4892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100"/>
          <p:cNvSpPr/>
          <p:nvPr/>
        </p:nvSpPr>
        <p:spPr>
          <a:xfrm rot="5400000">
            <a:off x="6467760" y="282312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101"/>
          <p:cNvSpPr/>
          <p:nvPr/>
        </p:nvSpPr>
        <p:spPr>
          <a:xfrm rot="5400000">
            <a:off x="6684120" y="303912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102"/>
          <p:cNvSpPr/>
          <p:nvPr/>
        </p:nvSpPr>
        <p:spPr>
          <a:xfrm rot="5400000">
            <a:off x="6466680" y="311364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03"/>
          <p:cNvSpPr/>
          <p:nvPr/>
        </p:nvSpPr>
        <p:spPr>
          <a:xfrm>
            <a:off x="6502320" y="307800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04"/>
          <p:cNvSpPr/>
          <p:nvPr/>
        </p:nvSpPr>
        <p:spPr>
          <a:xfrm>
            <a:off x="6647040" y="32940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105"/>
          <p:cNvSpPr/>
          <p:nvPr/>
        </p:nvSpPr>
        <p:spPr>
          <a:xfrm rot="5400000">
            <a:off x="6681960" y="332964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06"/>
          <p:cNvSpPr/>
          <p:nvPr/>
        </p:nvSpPr>
        <p:spPr>
          <a:xfrm>
            <a:off x="6718320" y="32940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07"/>
          <p:cNvSpPr/>
          <p:nvPr/>
        </p:nvSpPr>
        <p:spPr>
          <a:xfrm>
            <a:off x="6862680" y="351000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108"/>
          <p:cNvSpPr/>
          <p:nvPr/>
        </p:nvSpPr>
        <p:spPr>
          <a:xfrm rot="5400000">
            <a:off x="6897960" y="354564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09"/>
          <p:cNvSpPr/>
          <p:nvPr/>
        </p:nvSpPr>
        <p:spPr>
          <a:xfrm>
            <a:off x="6934320" y="35100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10"/>
          <p:cNvSpPr/>
          <p:nvPr/>
        </p:nvSpPr>
        <p:spPr>
          <a:xfrm>
            <a:off x="7078680" y="37260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111"/>
          <p:cNvSpPr/>
          <p:nvPr/>
        </p:nvSpPr>
        <p:spPr>
          <a:xfrm rot="5400000">
            <a:off x="7114320" y="3761280"/>
            <a:ext cx="215640" cy="144720"/>
          </a:xfrm>
          <a:prstGeom prst="parallelogram">
            <a:avLst>
              <a:gd name="adj" fmla="val 48806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12"/>
          <p:cNvSpPr/>
          <p:nvPr/>
        </p:nvSpPr>
        <p:spPr>
          <a:xfrm>
            <a:off x="7149960" y="372600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13"/>
          <p:cNvSpPr/>
          <p:nvPr/>
        </p:nvSpPr>
        <p:spPr>
          <a:xfrm>
            <a:off x="7294680" y="39416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14"/>
          <p:cNvGrpSpPr/>
          <p:nvPr/>
        </p:nvGrpSpPr>
        <p:grpSpPr>
          <a:xfrm>
            <a:off x="6055920" y="2916360"/>
            <a:ext cx="289440" cy="215640"/>
            <a:chOff x="6055920" y="2916360"/>
            <a:chExt cx="289440" cy="215640"/>
          </a:xfrm>
        </p:grpSpPr>
        <p:sp>
          <p:nvSpPr>
            <p:cNvPr id="940" name="AutoShape 115"/>
            <p:cNvSpPr/>
            <p:nvPr/>
          </p:nvSpPr>
          <p:spPr>
            <a:xfrm rot="5400000">
              <a:off x="6020280" y="2952000"/>
              <a:ext cx="215640" cy="144360"/>
            </a:xfrm>
            <a:prstGeom prst="parallelogram">
              <a:avLst>
                <a:gd name="adj" fmla="val 48928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116"/>
            <p:cNvSpPr/>
            <p:nvPr/>
          </p:nvSpPr>
          <p:spPr>
            <a:xfrm>
              <a:off x="6056280" y="291636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117"/>
            <p:cNvSpPr/>
            <p:nvPr/>
          </p:nvSpPr>
          <p:spPr>
            <a:xfrm>
              <a:off x="6200640" y="313200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Group 118"/>
          <p:cNvGrpSpPr/>
          <p:nvPr/>
        </p:nvGrpSpPr>
        <p:grpSpPr>
          <a:xfrm>
            <a:off x="6272280" y="3132000"/>
            <a:ext cx="288360" cy="216000"/>
            <a:chOff x="6272280" y="3132000"/>
            <a:chExt cx="288360" cy="216000"/>
          </a:xfrm>
        </p:grpSpPr>
        <p:sp>
          <p:nvSpPr>
            <p:cNvPr id="944" name="AutoShape 119"/>
            <p:cNvSpPr/>
            <p:nvPr/>
          </p:nvSpPr>
          <p:spPr>
            <a:xfrm rot="5400000">
              <a:off x="6236280" y="3168000"/>
              <a:ext cx="216000" cy="144000"/>
            </a:xfrm>
            <a:prstGeom prst="parallelogram">
              <a:avLst>
                <a:gd name="adj" fmla="val 49132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120"/>
            <p:cNvSpPr/>
            <p:nvPr/>
          </p:nvSpPr>
          <p:spPr>
            <a:xfrm>
              <a:off x="6272280" y="3132000"/>
              <a:ext cx="14400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121"/>
            <p:cNvSpPr/>
            <p:nvPr/>
          </p:nvSpPr>
          <p:spPr>
            <a:xfrm>
              <a:off x="6416280" y="334800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AutoShape 122"/>
          <p:cNvSpPr/>
          <p:nvPr/>
        </p:nvSpPr>
        <p:spPr>
          <a:xfrm rot="5400000">
            <a:off x="6451920" y="338364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23"/>
          <p:cNvSpPr/>
          <p:nvPr/>
        </p:nvSpPr>
        <p:spPr>
          <a:xfrm>
            <a:off x="6488280" y="33480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24"/>
          <p:cNvSpPr/>
          <p:nvPr/>
        </p:nvSpPr>
        <p:spPr>
          <a:xfrm>
            <a:off x="6632640" y="35640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125"/>
          <p:cNvSpPr/>
          <p:nvPr/>
        </p:nvSpPr>
        <p:spPr>
          <a:xfrm rot="5400000">
            <a:off x="6668280" y="359964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6"/>
          <p:cNvSpPr/>
          <p:nvPr/>
        </p:nvSpPr>
        <p:spPr>
          <a:xfrm>
            <a:off x="6703920" y="356400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27"/>
          <p:cNvSpPr/>
          <p:nvPr/>
        </p:nvSpPr>
        <p:spPr>
          <a:xfrm>
            <a:off x="6848640" y="37800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128"/>
          <p:cNvSpPr/>
          <p:nvPr/>
        </p:nvSpPr>
        <p:spPr>
          <a:xfrm rot="5400000">
            <a:off x="6883920" y="3815640"/>
            <a:ext cx="215640" cy="144360"/>
          </a:xfrm>
          <a:prstGeom prst="parallelogram">
            <a:avLst>
              <a:gd name="adj" fmla="val 4892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29"/>
          <p:cNvSpPr/>
          <p:nvPr/>
        </p:nvSpPr>
        <p:spPr>
          <a:xfrm>
            <a:off x="6919920" y="37800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30"/>
          <p:cNvSpPr/>
          <p:nvPr/>
        </p:nvSpPr>
        <p:spPr>
          <a:xfrm>
            <a:off x="7064280" y="399564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131"/>
          <p:cNvSpPr/>
          <p:nvPr/>
        </p:nvSpPr>
        <p:spPr>
          <a:xfrm rot="5400000">
            <a:off x="7099560" y="403128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32"/>
          <p:cNvSpPr/>
          <p:nvPr/>
        </p:nvSpPr>
        <p:spPr>
          <a:xfrm>
            <a:off x="7135920" y="39956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33"/>
          <p:cNvSpPr/>
          <p:nvPr/>
        </p:nvSpPr>
        <p:spPr>
          <a:xfrm>
            <a:off x="7280280" y="42116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34"/>
          <p:cNvSpPr/>
          <p:nvPr/>
        </p:nvSpPr>
        <p:spPr>
          <a:xfrm>
            <a:off x="6235560" y="155592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35"/>
          <p:cNvSpPr/>
          <p:nvPr/>
        </p:nvSpPr>
        <p:spPr>
          <a:xfrm>
            <a:off x="6453360" y="17748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36"/>
          <p:cNvSpPr/>
          <p:nvPr/>
        </p:nvSpPr>
        <p:spPr>
          <a:xfrm>
            <a:off x="6665760" y="199080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37"/>
          <p:cNvSpPr/>
          <p:nvPr/>
        </p:nvSpPr>
        <p:spPr>
          <a:xfrm>
            <a:off x="6885000" y="22068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138"/>
          <p:cNvSpPr/>
          <p:nvPr/>
        </p:nvSpPr>
        <p:spPr>
          <a:xfrm>
            <a:off x="7101000" y="24224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139"/>
          <p:cNvSpPr/>
          <p:nvPr/>
        </p:nvSpPr>
        <p:spPr>
          <a:xfrm>
            <a:off x="7316640" y="263844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140"/>
          <p:cNvSpPr/>
          <p:nvPr/>
        </p:nvSpPr>
        <p:spPr>
          <a:xfrm rot="5400000">
            <a:off x="5801040" y="191052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41"/>
          <p:cNvSpPr/>
          <p:nvPr/>
        </p:nvSpPr>
        <p:spPr>
          <a:xfrm>
            <a:off x="5837400" y="18748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142"/>
          <p:cNvSpPr/>
          <p:nvPr/>
        </p:nvSpPr>
        <p:spPr>
          <a:xfrm>
            <a:off x="5981760" y="20908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143"/>
          <p:cNvSpPr/>
          <p:nvPr/>
        </p:nvSpPr>
        <p:spPr>
          <a:xfrm rot="5400000">
            <a:off x="5810400" y="161208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144"/>
          <p:cNvSpPr/>
          <p:nvPr/>
        </p:nvSpPr>
        <p:spPr>
          <a:xfrm>
            <a:off x="5846760" y="15764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45"/>
          <p:cNvSpPr/>
          <p:nvPr/>
        </p:nvSpPr>
        <p:spPr>
          <a:xfrm>
            <a:off x="5991120" y="179244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46"/>
          <p:cNvSpPr/>
          <p:nvPr/>
        </p:nvSpPr>
        <p:spPr>
          <a:xfrm rot="5400000">
            <a:off x="5815800" y="130392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147"/>
          <p:cNvSpPr/>
          <p:nvPr/>
        </p:nvSpPr>
        <p:spPr>
          <a:xfrm>
            <a:off x="5991120" y="148428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48"/>
          <p:cNvSpPr/>
          <p:nvPr/>
        </p:nvSpPr>
        <p:spPr>
          <a:xfrm rot="5400000">
            <a:off x="5801040" y="217872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149"/>
          <p:cNvSpPr/>
          <p:nvPr/>
        </p:nvSpPr>
        <p:spPr>
          <a:xfrm>
            <a:off x="5837400" y="21430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150"/>
          <p:cNvSpPr/>
          <p:nvPr/>
        </p:nvSpPr>
        <p:spPr>
          <a:xfrm>
            <a:off x="5981760" y="23590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151"/>
          <p:cNvSpPr/>
          <p:nvPr/>
        </p:nvSpPr>
        <p:spPr>
          <a:xfrm rot="5400000">
            <a:off x="5802480" y="239292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52"/>
          <p:cNvSpPr/>
          <p:nvPr/>
        </p:nvSpPr>
        <p:spPr>
          <a:xfrm>
            <a:off x="5838840" y="23572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153"/>
          <p:cNvSpPr/>
          <p:nvPr/>
        </p:nvSpPr>
        <p:spPr>
          <a:xfrm>
            <a:off x="5983200" y="257328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154"/>
          <p:cNvSpPr/>
          <p:nvPr/>
        </p:nvSpPr>
        <p:spPr>
          <a:xfrm rot="5400000">
            <a:off x="5797800" y="260568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55"/>
          <p:cNvSpPr/>
          <p:nvPr/>
        </p:nvSpPr>
        <p:spPr>
          <a:xfrm>
            <a:off x="5834160" y="25700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56"/>
          <p:cNvSpPr/>
          <p:nvPr/>
        </p:nvSpPr>
        <p:spPr>
          <a:xfrm>
            <a:off x="5978520" y="27860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157"/>
          <p:cNvSpPr/>
          <p:nvPr/>
        </p:nvSpPr>
        <p:spPr>
          <a:xfrm rot="5400000">
            <a:off x="5807160" y="282168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58"/>
          <p:cNvSpPr/>
          <p:nvPr/>
        </p:nvSpPr>
        <p:spPr>
          <a:xfrm>
            <a:off x="5843520" y="27860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59"/>
          <p:cNvSpPr/>
          <p:nvPr/>
        </p:nvSpPr>
        <p:spPr>
          <a:xfrm>
            <a:off x="5987880" y="300204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60"/>
          <p:cNvSpPr/>
          <p:nvPr/>
        </p:nvSpPr>
        <p:spPr>
          <a:xfrm flipV="1">
            <a:off x="1914480" y="2035800"/>
            <a:ext cx="3949920" cy="763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1"/>
          <p:cNvSpPr/>
          <p:nvPr/>
        </p:nvSpPr>
        <p:spPr>
          <a:xfrm flipV="1">
            <a:off x="1981800" y="2441880"/>
            <a:ext cx="4180680" cy="3276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62"/>
          <p:cNvSpPr/>
          <p:nvPr/>
        </p:nvSpPr>
        <p:spPr>
          <a:xfrm flipV="1">
            <a:off x="1978200" y="2750760"/>
            <a:ext cx="4178160" cy="45360"/>
          </a:xfrm>
          <a:prstGeom prst="line">
            <a:avLst/>
          </a:prstGeom>
          <a:ln w="25560">
            <a:solidFill>
              <a:srgbClr val="ff9933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163"/>
          <p:cNvSpPr/>
          <p:nvPr/>
        </p:nvSpPr>
        <p:spPr>
          <a:xfrm rot="5400000">
            <a:off x="6106320" y="331380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64"/>
          <p:cNvSpPr/>
          <p:nvPr/>
        </p:nvSpPr>
        <p:spPr>
          <a:xfrm>
            <a:off x="6141960" y="327816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65"/>
          <p:cNvSpPr/>
          <p:nvPr/>
        </p:nvSpPr>
        <p:spPr>
          <a:xfrm>
            <a:off x="6286680" y="34941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AutoShape 166"/>
          <p:cNvSpPr/>
          <p:nvPr/>
        </p:nvSpPr>
        <p:spPr>
          <a:xfrm rot="5400000">
            <a:off x="6321600" y="352980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67"/>
          <p:cNvSpPr/>
          <p:nvPr/>
        </p:nvSpPr>
        <p:spPr>
          <a:xfrm>
            <a:off x="6357960" y="34941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68"/>
          <p:cNvSpPr/>
          <p:nvPr/>
        </p:nvSpPr>
        <p:spPr>
          <a:xfrm>
            <a:off x="6502320" y="371016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169"/>
          <p:cNvSpPr/>
          <p:nvPr/>
        </p:nvSpPr>
        <p:spPr>
          <a:xfrm rot="5400000">
            <a:off x="6537960" y="3745800"/>
            <a:ext cx="215640" cy="144360"/>
          </a:xfrm>
          <a:prstGeom prst="parallelogram">
            <a:avLst>
              <a:gd name="adj" fmla="val 4892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70"/>
          <p:cNvSpPr/>
          <p:nvPr/>
        </p:nvSpPr>
        <p:spPr>
          <a:xfrm>
            <a:off x="6573960" y="37101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71"/>
          <p:cNvSpPr/>
          <p:nvPr/>
        </p:nvSpPr>
        <p:spPr>
          <a:xfrm>
            <a:off x="6718320" y="39258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Group 172"/>
          <p:cNvGrpSpPr/>
          <p:nvPr/>
        </p:nvGrpSpPr>
        <p:grpSpPr>
          <a:xfrm>
            <a:off x="6789240" y="3925800"/>
            <a:ext cx="289440" cy="216000"/>
            <a:chOff x="6789240" y="3925800"/>
            <a:chExt cx="289440" cy="216000"/>
          </a:xfrm>
        </p:grpSpPr>
        <p:sp>
          <p:nvSpPr>
            <p:cNvPr id="998" name="AutoShape 173"/>
            <p:cNvSpPr/>
            <p:nvPr/>
          </p:nvSpPr>
          <p:spPr>
            <a:xfrm rot="5400000">
              <a:off x="6753240" y="3961440"/>
              <a:ext cx="216000" cy="144360"/>
            </a:xfrm>
            <a:prstGeom prst="parallelogram">
              <a:avLst>
                <a:gd name="adj" fmla="val 49009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74"/>
            <p:cNvSpPr/>
            <p:nvPr/>
          </p:nvSpPr>
          <p:spPr>
            <a:xfrm>
              <a:off x="6789600" y="392580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75"/>
            <p:cNvSpPr/>
            <p:nvPr/>
          </p:nvSpPr>
          <p:spPr>
            <a:xfrm>
              <a:off x="6933960" y="414180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Group 176"/>
          <p:cNvGrpSpPr/>
          <p:nvPr/>
        </p:nvGrpSpPr>
        <p:grpSpPr>
          <a:xfrm>
            <a:off x="7005240" y="4141800"/>
            <a:ext cx="289440" cy="216000"/>
            <a:chOff x="7005240" y="4141800"/>
            <a:chExt cx="289440" cy="216000"/>
          </a:xfrm>
        </p:grpSpPr>
        <p:sp>
          <p:nvSpPr>
            <p:cNvPr id="1002" name="AutoShape 177"/>
            <p:cNvSpPr/>
            <p:nvPr/>
          </p:nvSpPr>
          <p:spPr>
            <a:xfrm rot="5400000">
              <a:off x="6969240" y="4177440"/>
              <a:ext cx="216000" cy="144360"/>
            </a:xfrm>
            <a:prstGeom prst="parallelogram">
              <a:avLst>
                <a:gd name="adj" fmla="val 49009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178"/>
            <p:cNvSpPr/>
            <p:nvPr/>
          </p:nvSpPr>
          <p:spPr>
            <a:xfrm>
              <a:off x="7005600" y="414180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179"/>
            <p:cNvSpPr/>
            <p:nvPr/>
          </p:nvSpPr>
          <p:spPr>
            <a:xfrm>
              <a:off x="7149960" y="435780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180"/>
          <p:cNvGrpSpPr/>
          <p:nvPr/>
        </p:nvGrpSpPr>
        <p:grpSpPr>
          <a:xfrm>
            <a:off x="7221600" y="4357800"/>
            <a:ext cx="288360" cy="215640"/>
            <a:chOff x="7221600" y="4357800"/>
            <a:chExt cx="288360" cy="215640"/>
          </a:xfrm>
        </p:grpSpPr>
        <p:sp>
          <p:nvSpPr>
            <p:cNvPr id="1006" name="AutoShape 181"/>
            <p:cNvSpPr/>
            <p:nvPr/>
          </p:nvSpPr>
          <p:spPr>
            <a:xfrm rot="5400000">
              <a:off x="7185600" y="4393440"/>
              <a:ext cx="215640" cy="144000"/>
            </a:xfrm>
            <a:prstGeom prst="parallelogram">
              <a:avLst>
                <a:gd name="adj" fmla="val 4905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182"/>
            <p:cNvSpPr/>
            <p:nvPr/>
          </p:nvSpPr>
          <p:spPr>
            <a:xfrm>
              <a:off x="7221600" y="4357800"/>
              <a:ext cx="14400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183"/>
            <p:cNvSpPr/>
            <p:nvPr/>
          </p:nvSpPr>
          <p:spPr>
            <a:xfrm>
              <a:off x="7365600" y="457344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AutoShape 184"/>
          <p:cNvSpPr/>
          <p:nvPr/>
        </p:nvSpPr>
        <p:spPr>
          <a:xfrm rot="5400000">
            <a:off x="6091560" y="361692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5"/>
          <p:cNvSpPr/>
          <p:nvPr/>
        </p:nvSpPr>
        <p:spPr>
          <a:xfrm>
            <a:off x="6127920" y="35812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86"/>
          <p:cNvSpPr/>
          <p:nvPr/>
        </p:nvSpPr>
        <p:spPr>
          <a:xfrm>
            <a:off x="6272280" y="37972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187"/>
          <p:cNvSpPr/>
          <p:nvPr/>
        </p:nvSpPr>
        <p:spPr>
          <a:xfrm rot="5400000">
            <a:off x="6307920" y="383292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88"/>
          <p:cNvSpPr/>
          <p:nvPr/>
        </p:nvSpPr>
        <p:spPr>
          <a:xfrm>
            <a:off x="6343560" y="379728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189"/>
          <p:cNvSpPr/>
          <p:nvPr/>
        </p:nvSpPr>
        <p:spPr>
          <a:xfrm rot="5400000">
            <a:off x="6523200" y="404892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190"/>
          <p:cNvSpPr/>
          <p:nvPr/>
        </p:nvSpPr>
        <p:spPr>
          <a:xfrm>
            <a:off x="6559560" y="40132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91"/>
          <p:cNvSpPr/>
          <p:nvPr/>
        </p:nvSpPr>
        <p:spPr>
          <a:xfrm>
            <a:off x="6286680" y="33480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92"/>
          <p:cNvSpPr/>
          <p:nvPr/>
        </p:nvSpPr>
        <p:spPr>
          <a:xfrm>
            <a:off x="6504120" y="35672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93"/>
          <p:cNvSpPr/>
          <p:nvPr/>
        </p:nvSpPr>
        <p:spPr>
          <a:xfrm>
            <a:off x="6716880" y="37828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94"/>
          <p:cNvSpPr/>
          <p:nvPr/>
        </p:nvSpPr>
        <p:spPr>
          <a:xfrm>
            <a:off x="6935760" y="39988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95"/>
          <p:cNvSpPr/>
          <p:nvPr/>
        </p:nvSpPr>
        <p:spPr>
          <a:xfrm>
            <a:off x="7151760" y="42148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196"/>
          <p:cNvSpPr/>
          <p:nvPr/>
        </p:nvSpPr>
        <p:spPr>
          <a:xfrm rot="5400000">
            <a:off x="5851800" y="370260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97"/>
          <p:cNvSpPr/>
          <p:nvPr/>
        </p:nvSpPr>
        <p:spPr>
          <a:xfrm>
            <a:off x="5888160" y="36669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198"/>
          <p:cNvSpPr/>
          <p:nvPr/>
        </p:nvSpPr>
        <p:spPr>
          <a:xfrm rot="5400000">
            <a:off x="5861160" y="340416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99"/>
          <p:cNvSpPr/>
          <p:nvPr/>
        </p:nvSpPr>
        <p:spPr>
          <a:xfrm>
            <a:off x="5897520" y="33685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00"/>
          <p:cNvSpPr/>
          <p:nvPr/>
        </p:nvSpPr>
        <p:spPr>
          <a:xfrm>
            <a:off x="6041880" y="358452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201"/>
          <p:cNvSpPr/>
          <p:nvPr/>
        </p:nvSpPr>
        <p:spPr>
          <a:xfrm rot="5400000">
            <a:off x="5866560" y="309636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2"/>
          <p:cNvSpPr/>
          <p:nvPr/>
        </p:nvSpPr>
        <p:spPr>
          <a:xfrm>
            <a:off x="6041880" y="327672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03"/>
          <p:cNvSpPr/>
          <p:nvPr/>
        </p:nvSpPr>
        <p:spPr>
          <a:xfrm>
            <a:off x="1899360" y="2799360"/>
            <a:ext cx="4689720" cy="3765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04"/>
          <p:cNvSpPr/>
          <p:nvPr/>
        </p:nvSpPr>
        <p:spPr>
          <a:xfrm>
            <a:off x="1965960" y="2799000"/>
            <a:ext cx="4623120" cy="602640"/>
          </a:xfrm>
          <a:prstGeom prst="line">
            <a:avLst/>
          </a:prstGeom>
          <a:ln w="25560">
            <a:solidFill>
              <a:srgbClr val="ff505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205"/>
          <p:cNvSpPr/>
          <p:nvPr/>
        </p:nvSpPr>
        <p:spPr>
          <a:xfrm rot="16200000">
            <a:off x="1497600" y="2678400"/>
            <a:ext cx="468360" cy="21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206"/>
          <p:cNvSpPr/>
          <p:nvPr/>
        </p:nvSpPr>
        <p:spPr>
          <a:xfrm rot="16200000">
            <a:off x="1877040" y="2724480"/>
            <a:ext cx="898560" cy="163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207"/>
          <p:cNvSpPr/>
          <p:nvPr/>
        </p:nvSpPr>
        <p:spPr>
          <a:xfrm>
            <a:off x="7118280" y="0"/>
            <a:ext cx="2025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Line 4"/>
          <p:cNvSpPr/>
          <p:nvPr/>
        </p:nvSpPr>
        <p:spPr>
          <a:xfrm>
            <a:off x="7095960" y="124128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5"/>
          <p:cNvSpPr/>
          <p:nvPr/>
        </p:nvSpPr>
        <p:spPr>
          <a:xfrm flipH="1" flipV="1">
            <a:off x="5324040" y="1231920"/>
            <a:ext cx="2210040" cy="1905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6"/>
          <p:cNvSpPr/>
          <p:nvPr/>
        </p:nvSpPr>
        <p:spPr>
          <a:xfrm>
            <a:off x="7527960" y="3106800"/>
            <a:ext cx="0" cy="304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"/>
          <p:cNvSpPr/>
          <p:nvPr/>
        </p:nvSpPr>
        <p:spPr>
          <a:xfrm>
            <a:off x="5324400" y="1244520"/>
            <a:ext cx="99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8"/>
          <p:cNvSpPr/>
          <p:nvPr/>
        </p:nvSpPr>
        <p:spPr>
          <a:xfrm flipH="1" flipV="1">
            <a:off x="5557320" y="1222200"/>
            <a:ext cx="2210040" cy="1905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9"/>
          <p:cNvSpPr/>
          <p:nvPr/>
        </p:nvSpPr>
        <p:spPr>
          <a:xfrm>
            <a:off x="6515280" y="123192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10"/>
          <p:cNvSpPr/>
          <p:nvPr/>
        </p:nvSpPr>
        <p:spPr>
          <a:xfrm>
            <a:off x="7534440" y="3122640"/>
            <a:ext cx="237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11"/>
          <p:cNvSpPr/>
          <p:nvPr/>
        </p:nvSpPr>
        <p:spPr>
          <a:xfrm rot="5388000">
            <a:off x="6819840" y="10411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12"/>
          <p:cNvSpPr/>
          <p:nvPr/>
        </p:nvSpPr>
        <p:spPr>
          <a:xfrm>
            <a:off x="6148440" y="1003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3"/>
          <p:cNvSpPr/>
          <p:nvPr/>
        </p:nvSpPr>
        <p:spPr>
          <a:xfrm>
            <a:off x="6181560" y="6746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mplifica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14"/>
          <p:cNvSpPr/>
          <p:nvPr/>
        </p:nvSpPr>
        <p:spPr>
          <a:xfrm>
            <a:off x="7520040" y="6141960"/>
            <a:ext cx="237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15"/>
          <p:cNvGrpSpPr/>
          <p:nvPr/>
        </p:nvGrpSpPr>
        <p:grpSpPr>
          <a:xfrm>
            <a:off x="-36360" y="2332080"/>
            <a:ext cx="4176720" cy="3257640"/>
            <a:chOff x="-36360" y="2332080"/>
            <a:chExt cx="4176720" cy="3257640"/>
          </a:xfrm>
        </p:grpSpPr>
        <p:sp>
          <p:nvSpPr>
            <p:cNvPr id="1045" name="Rectangle 16"/>
            <p:cNvSpPr/>
            <p:nvPr/>
          </p:nvSpPr>
          <p:spPr>
            <a:xfrm>
              <a:off x="162000" y="3797280"/>
              <a:ext cx="3598920" cy="360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98280" y="4165560"/>
              <a:ext cx="3578400" cy="1041480"/>
            </a:xfrm>
            <a:custGeom>
              <a:avLst/>
              <a:gdLst/>
              <a:ahLst/>
              <a:rect l="l" t="t" r="r" b="b"/>
              <a:pathLst>
                <a:path w="2254" h="685">
                  <a:moveTo>
                    <a:pt x="2254" y="0"/>
                  </a:moveTo>
                  <a:lnTo>
                    <a:pt x="32" y="0"/>
                  </a:lnTo>
                  <a:cubicBezTo>
                    <a:pt x="22" y="223"/>
                    <a:pt x="10" y="447"/>
                    <a:pt x="1" y="670"/>
                  </a:cubicBezTo>
                  <a:cubicBezTo>
                    <a:pt x="0" y="685"/>
                    <a:pt x="21" y="630"/>
                    <a:pt x="21" y="630"/>
                  </a:cubicBezTo>
                  <a:cubicBezTo>
                    <a:pt x="31" y="568"/>
                    <a:pt x="67" y="503"/>
                    <a:pt x="129" y="482"/>
                  </a:cubicBezTo>
                  <a:cubicBezTo>
                    <a:pt x="156" y="455"/>
                    <a:pt x="142" y="462"/>
                    <a:pt x="165" y="454"/>
                  </a:cubicBezTo>
                  <a:cubicBezTo>
                    <a:pt x="193" y="426"/>
                    <a:pt x="227" y="415"/>
                    <a:pt x="265" y="406"/>
                  </a:cubicBezTo>
                  <a:cubicBezTo>
                    <a:pt x="313" y="374"/>
                    <a:pt x="308" y="386"/>
                    <a:pt x="389" y="382"/>
                  </a:cubicBezTo>
                  <a:cubicBezTo>
                    <a:pt x="451" y="368"/>
                    <a:pt x="505" y="351"/>
                    <a:pt x="569" y="346"/>
                  </a:cubicBezTo>
                  <a:cubicBezTo>
                    <a:pt x="584" y="341"/>
                    <a:pt x="594" y="334"/>
                    <a:pt x="609" y="330"/>
                  </a:cubicBezTo>
                  <a:cubicBezTo>
                    <a:pt x="697" y="271"/>
                    <a:pt x="623" y="314"/>
                    <a:pt x="865" y="310"/>
                  </a:cubicBezTo>
                  <a:cubicBezTo>
                    <a:pt x="906" y="304"/>
                    <a:pt x="938" y="287"/>
                    <a:pt x="977" y="274"/>
                  </a:cubicBezTo>
                  <a:cubicBezTo>
                    <a:pt x="1010" y="263"/>
                    <a:pt x="1046" y="268"/>
                    <a:pt x="1081" y="266"/>
                  </a:cubicBezTo>
                  <a:cubicBezTo>
                    <a:pt x="1102" y="259"/>
                    <a:pt x="1123" y="239"/>
                    <a:pt x="1145" y="238"/>
                  </a:cubicBezTo>
                  <a:cubicBezTo>
                    <a:pt x="1194" y="236"/>
                    <a:pt x="1244" y="235"/>
                    <a:pt x="1293" y="234"/>
                  </a:cubicBezTo>
                  <a:cubicBezTo>
                    <a:pt x="1373" y="214"/>
                    <a:pt x="1351" y="214"/>
                    <a:pt x="1457" y="210"/>
                  </a:cubicBezTo>
                  <a:cubicBezTo>
                    <a:pt x="1475" y="204"/>
                    <a:pt x="1489" y="192"/>
                    <a:pt x="1509" y="190"/>
                  </a:cubicBezTo>
                  <a:cubicBezTo>
                    <a:pt x="1537" y="187"/>
                    <a:pt x="1593" y="182"/>
                    <a:pt x="1593" y="182"/>
                  </a:cubicBezTo>
                  <a:cubicBezTo>
                    <a:pt x="1629" y="175"/>
                    <a:pt x="1620" y="170"/>
                    <a:pt x="1665" y="174"/>
                  </a:cubicBezTo>
                  <a:cubicBezTo>
                    <a:pt x="1758" y="168"/>
                    <a:pt x="1848" y="146"/>
                    <a:pt x="1941" y="138"/>
                  </a:cubicBezTo>
                  <a:cubicBezTo>
                    <a:pt x="1987" y="125"/>
                    <a:pt x="2025" y="107"/>
                    <a:pt x="2073" y="102"/>
                  </a:cubicBezTo>
                  <a:cubicBezTo>
                    <a:pt x="2100" y="95"/>
                    <a:pt x="2123" y="87"/>
                    <a:pt x="2149" y="78"/>
                  </a:cubicBezTo>
                  <a:cubicBezTo>
                    <a:pt x="2153" y="74"/>
                    <a:pt x="2156" y="69"/>
                    <a:pt x="2161" y="66"/>
                  </a:cubicBezTo>
                  <a:cubicBezTo>
                    <a:pt x="2168" y="62"/>
                    <a:pt x="2185" y="58"/>
                    <a:pt x="2185" y="58"/>
                  </a:cubicBezTo>
                  <a:cubicBezTo>
                    <a:pt x="2215" y="28"/>
                    <a:pt x="2175" y="63"/>
                    <a:pt x="2249" y="42"/>
                  </a:cubicBezTo>
                  <a:cubicBezTo>
                    <a:pt x="2254" y="40"/>
                    <a:pt x="2254" y="14"/>
                    <a:pt x="2254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162000" y="2332080"/>
              <a:ext cx="3527280" cy="1463760"/>
            </a:xfrm>
            <a:custGeom>
              <a:avLst/>
              <a:gdLst/>
              <a:ahLst/>
              <a:rect l="l" t="t" r="r" b="b"/>
              <a:pathLst>
                <a:path w="2222" h="922">
                  <a:moveTo>
                    <a:pt x="2222" y="914"/>
                  </a:moveTo>
                  <a:lnTo>
                    <a:pt x="0" y="914"/>
                  </a:lnTo>
                  <a:cubicBezTo>
                    <a:pt x="12" y="685"/>
                    <a:pt x="17" y="0"/>
                    <a:pt x="49" y="227"/>
                  </a:cubicBezTo>
                  <a:cubicBezTo>
                    <a:pt x="50" y="231"/>
                    <a:pt x="36" y="251"/>
                    <a:pt x="33" y="255"/>
                  </a:cubicBezTo>
                  <a:cubicBezTo>
                    <a:pt x="34" y="278"/>
                    <a:pt x="32" y="301"/>
                    <a:pt x="37" y="323"/>
                  </a:cubicBezTo>
                  <a:cubicBezTo>
                    <a:pt x="39" y="332"/>
                    <a:pt x="48" y="339"/>
                    <a:pt x="53" y="347"/>
                  </a:cubicBezTo>
                  <a:cubicBezTo>
                    <a:pt x="60" y="357"/>
                    <a:pt x="64" y="375"/>
                    <a:pt x="73" y="383"/>
                  </a:cubicBezTo>
                  <a:cubicBezTo>
                    <a:pt x="80" y="389"/>
                    <a:pt x="90" y="392"/>
                    <a:pt x="97" y="399"/>
                  </a:cubicBezTo>
                  <a:cubicBezTo>
                    <a:pt x="106" y="408"/>
                    <a:pt x="116" y="418"/>
                    <a:pt x="125" y="427"/>
                  </a:cubicBezTo>
                  <a:cubicBezTo>
                    <a:pt x="137" y="439"/>
                    <a:pt x="154" y="450"/>
                    <a:pt x="165" y="463"/>
                  </a:cubicBezTo>
                  <a:cubicBezTo>
                    <a:pt x="180" y="481"/>
                    <a:pt x="168" y="480"/>
                    <a:pt x="197" y="499"/>
                  </a:cubicBezTo>
                  <a:cubicBezTo>
                    <a:pt x="212" y="509"/>
                    <a:pt x="228" y="513"/>
                    <a:pt x="245" y="519"/>
                  </a:cubicBezTo>
                  <a:cubicBezTo>
                    <a:pt x="268" y="527"/>
                    <a:pt x="296" y="548"/>
                    <a:pt x="317" y="559"/>
                  </a:cubicBezTo>
                  <a:cubicBezTo>
                    <a:pt x="349" y="575"/>
                    <a:pt x="387" y="582"/>
                    <a:pt x="421" y="591"/>
                  </a:cubicBezTo>
                  <a:cubicBezTo>
                    <a:pt x="441" y="604"/>
                    <a:pt x="463" y="608"/>
                    <a:pt x="485" y="615"/>
                  </a:cubicBezTo>
                  <a:cubicBezTo>
                    <a:pt x="544" y="633"/>
                    <a:pt x="604" y="648"/>
                    <a:pt x="665" y="655"/>
                  </a:cubicBezTo>
                  <a:cubicBezTo>
                    <a:pt x="710" y="670"/>
                    <a:pt x="708" y="667"/>
                    <a:pt x="769" y="671"/>
                  </a:cubicBezTo>
                  <a:cubicBezTo>
                    <a:pt x="862" y="694"/>
                    <a:pt x="949" y="711"/>
                    <a:pt x="1045" y="715"/>
                  </a:cubicBezTo>
                  <a:cubicBezTo>
                    <a:pt x="1066" y="720"/>
                    <a:pt x="1084" y="727"/>
                    <a:pt x="1105" y="731"/>
                  </a:cubicBezTo>
                  <a:cubicBezTo>
                    <a:pt x="1146" y="759"/>
                    <a:pt x="1213" y="753"/>
                    <a:pt x="1257" y="755"/>
                  </a:cubicBezTo>
                  <a:cubicBezTo>
                    <a:pt x="1330" y="765"/>
                    <a:pt x="1367" y="770"/>
                    <a:pt x="1457" y="775"/>
                  </a:cubicBezTo>
                  <a:cubicBezTo>
                    <a:pt x="1507" y="783"/>
                    <a:pt x="1555" y="795"/>
                    <a:pt x="1605" y="803"/>
                  </a:cubicBezTo>
                  <a:cubicBezTo>
                    <a:pt x="1675" y="831"/>
                    <a:pt x="1736" y="817"/>
                    <a:pt x="1821" y="819"/>
                  </a:cubicBezTo>
                  <a:cubicBezTo>
                    <a:pt x="1858" y="831"/>
                    <a:pt x="1837" y="826"/>
                    <a:pt x="1885" y="831"/>
                  </a:cubicBezTo>
                  <a:cubicBezTo>
                    <a:pt x="1918" y="839"/>
                    <a:pt x="1950" y="860"/>
                    <a:pt x="1985" y="863"/>
                  </a:cubicBezTo>
                  <a:cubicBezTo>
                    <a:pt x="2014" y="865"/>
                    <a:pt x="2044" y="866"/>
                    <a:pt x="2073" y="867"/>
                  </a:cubicBezTo>
                  <a:cubicBezTo>
                    <a:pt x="2110" y="879"/>
                    <a:pt x="2147" y="888"/>
                    <a:pt x="2185" y="899"/>
                  </a:cubicBezTo>
                  <a:cubicBezTo>
                    <a:pt x="2192" y="904"/>
                    <a:pt x="2214" y="922"/>
                    <a:pt x="2222" y="914"/>
                  </a:cubicBez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-36360" y="2492280"/>
              <a:ext cx="4176720" cy="3097440"/>
            </a:xfrm>
            <a:custGeom>
              <a:avLst/>
              <a:gdLst/>
              <a:ahLst/>
              <a:rect l="l" t="t" r="r" b="b"/>
              <a:pathLst>
                <a:path w="650" h="544">
                  <a:moveTo>
                    <a:pt x="38" y="0"/>
                  </a:moveTo>
                  <a:cubicBezTo>
                    <a:pt x="38" y="49"/>
                    <a:pt x="38" y="98"/>
                    <a:pt x="129" y="136"/>
                  </a:cubicBezTo>
                  <a:cubicBezTo>
                    <a:pt x="220" y="174"/>
                    <a:pt x="514" y="196"/>
                    <a:pt x="582" y="226"/>
                  </a:cubicBezTo>
                  <a:cubicBezTo>
                    <a:pt x="650" y="256"/>
                    <a:pt x="620" y="287"/>
                    <a:pt x="537" y="317"/>
                  </a:cubicBezTo>
                  <a:cubicBezTo>
                    <a:pt x="454" y="347"/>
                    <a:pt x="166" y="370"/>
                    <a:pt x="83" y="408"/>
                  </a:cubicBezTo>
                  <a:cubicBezTo>
                    <a:pt x="0" y="446"/>
                    <a:pt x="19" y="495"/>
                    <a:pt x="38" y="5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AutoShape 20"/>
          <p:cNvSpPr/>
          <p:nvPr/>
        </p:nvSpPr>
        <p:spPr>
          <a:xfrm rot="5400000">
            <a:off x="5510520" y="272628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21"/>
          <p:cNvSpPr/>
          <p:nvPr/>
        </p:nvSpPr>
        <p:spPr>
          <a:xfrm>
            <a:off x="5546880" y="26906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22"/>
          <p:cNvSpPr/>
          <p:nvPr/>
        </p:nvSpPr>
        <p:spPr>
          <a:xfrm>
            <a:off x="5691240" y="29066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AutoShape 23"/>
          <p:cNvSpPr/>
          <p:nvPr/>
        </p:nvSpPr>
        <p:spPr>
          <a:xfrm rot="5400000">
            <a:off x="5726880" y="294228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24"/>
          <p:cNvSpPr/>
          <p:nvPr/>
        </p:nvSpPr>
        <p:spPr>
          <a:xfrm>
            <a:off x="5762520" y="290664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25"/>
          <p:cNvSpPr/>
          <p:nvPr/>
        </p:nvSpPr>
        <p:spPr>
          <a:xfrm>
            <a:off x="5907240" y="31226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AutoShape 26"/>
          <p:cNvSpPr/>
          <p:nvPr/>
        </p:nvSpPr>
        <p:spPr>
          <a:xfrm rot="5400000">
            <a:off x="5942160" y="315828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27"/>
          <p:cNvSpPr/>
          <p:nvPr/>
        </p:nvSpPr>
        <p:spPr>
          <a:xfrm>
            <a:off x="5978520" y="31226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28"/>
          <p:cNvSpPr/>
          <p:nvPr/>
        </p:nvSpPr>
        <p:spPr>
          <a:xfrm>
            <a:off x="6122880" y="333864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Group 29"/>
          <p:cNvGrpSpPr/>
          <p:nvPr/>
        </p:nvGrpSpPr>
        <p:grpSpPr>
          <a:xfrm>
            <a:off x="6194520" y="3338640"/>
            <a:ext cx="288360" cy="215640"/>
            <a:chOff x="6194520" y="3338640"/>
            <a:chExt cx="288360" cy="215640"/>
          </a:xfrm>
        </p:grpSpPr>
        <p:sp>
          <p:nvSpPr>
            <p:cNvPr id="1059" name="AutoShape 30"/>
            <p:cNvSpPr/>
            <p:nvPr/>
          </p:nvSpPr>
          <p:spPr>
            <a:xfrm rot="5400000">
              <a:off x="6158520" y="3374280"/>
              <a:ext cx="215640" cy="144000"/>
            </a:xfrm>
            <a:prstGeom prst="parallelogram">
              <a:avLst>
                <a:gd name="adj" fmla="val 4905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31"/>
            <p:cNvSpPr/>
            <p:nvPr/>
          </p:nvSpPr>
          <p:spPr>
            <a:xfrm>
              <a:off x="6194520" y="3338640"/>
              <a:ext cx="14400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32"/>
            <p:cNvSpPr/>
            <p:nvPr/>
          </p:nvSpPr>
          <p:spPr>
            <a:xfrm>
              <a:off x="6338520" y="355428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33"/>
          <p:cNvGrpSpPr/>
          <p:nvPr/>
        </p:nvGrpSpPr>
        <p:grpSpPr>
          <a:xfrm>
            <a:off x="6409800" y="3554280"/>
            <a:ext cx="289440" cy="216000"/>
            <a:chOff x="6409800" y="3554280"/>
            <a:chExt cx="289440" cy="216000"/>
          </a:xfrm>
        </p:grpSpPr>
        <p:sp>
          <p:nvSpPr>
            <p:cNvPr id="1063" name="AutoShape 34"/>
            <p:cNvSpPr/>
            <p:nvPr/>
          </p:nvSpPr>
          <p:spPr>
            <a:xfrm rot="5400000">
              <a:off x="6373800" y="3589920"/>
              <a:ext cx="216000" cy="144360"/>
            </a:xfrm>
            <a:prstGeom prst="parallelogram">
              <a:avLst>
                <a:gd name="adj" fmla="val 49009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35"/>
            <p:cNvSpPr/>
            <p:nvPr/>
          </p:nvSpPr>
          <p:spPr>
            <a:xfrm>
              <a:off x="6410160" y="355428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36"/>
            <p:cNvSpPr/>
            <p:nvPr/>
          </p:nvSpPr>
          <p:spPr>
            <a:xfrm>
              <a:off x="6554520" y="377028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37"/>
          <p:cNvGrpSpPr/>
          <p:nvPr/>
        </p:nvGrpSpPr>
        <p:grpSpPr>
          <a:xfrm>
            <a:off x="6625800" y="3770280"/>
            <a:ext cx="289440" cy="216000"/>
            <a:chOff x="6625800" y="3770280"/>
            <a:chExt cx="289440" cy="216000"/>
          </a:xfrm>
        </p:grpSpPr>
        <p:sp>
          <p:nvSpPr>
            <p:cNvPr id="1067" name="AutoShape 38"/>
            <p:cNvSpPr/>
            <p:nvPr/>
          </p:nvSpPr>
          <p:spPr>
            <a:xfrm rot="5400000">
              <a:off x="6589800" y="3805920"/>
              <a:ext cx="216000" cy="144360"/>
            </a:xfrm>
            <a:prstGeom prst="parallelogram">
              <a:avLst>
                <a:gd name="adj" fmla="val 49009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39"/>
            <p:cNvSpPr/>
            <p:nvPr/>
          </p:nvSpPr>
          <p:spPr>
            <a:xfrm>
              <a:off x="6626160" y="377028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Line 40"/>
            <p:cNvSpPr/>
            <p:nvPr/>
          </p:nvSpPr>
          <p:spPr>
            <a:xfrm>
              <a:off x="6770520" y="398628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AutoShape 41"/>
          <p:cNvSpPr/>
          <p:nvPr/>
        </p:nvSpPr>
        <p:spPr>
          <a:xfrm rot="5400000">
            <a:off x="5496480" y="3029760"/>
            <a:ext cx="215640" cy="144360"/>
          </a:xfrm>
          <a:prstGeom prst="parallelogram">
            <a:avLst>
              <a:gd name="adj" fmla="val 4892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42"/>
          <p:cNvSpPr/>
          <p:nvPr/>
        </p:nvSpPr>
        <p:spPr>
          <a:xfrm>
            <a:off x="5532480" y="29941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43"/>
          <p:cNvSpPr/>
          <p:nvPr/>
        </p:nvSpPr>
        <p:spPr>
          <a:xfrm>
            <a:off x="5676840" y="32097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44"/>
          <p:cNvSpPr/>
          <p:nvPr/>
        </p:nvSpPr>
        <p:spPr>
          <a:xfrm rot="5400000">
            <a:off x="5712120" y="324540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45"/>
          <p:cNvSpPr/>
          <p:nvPr/>
        </p:nvSpPr>
        <p:spPr>
          <a:xfrm>
            <a:off x="5748480" y="32097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46"/>
          <p:cNvSpPr/>
          <p:nvPr/>
        </p:nvSpPr>
        <p:spPr>
          <a:xfrm>
            <a:off x="5892840" y="34257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47"/>
          <p:cNvSpPr/>
          <p:nvPr/>
        </p:nvSpPr>
        <p:spPr>
          <a:xfrm rot="5400000">
            <a:off x="6143760" y="367740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48"/>
          <p:cNvSpPr/>
          <p:nvPr/>
        </p:nvSpPr>
        <p:spPr>
          <a:xfrm>
            <a:off x="6180120" y="36417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49"/>
          <p:cNvSpPr/>
          <p:nvPr/>
        </p:nvSpPr>
        <p:spPr>
          <a:xfrm>
            <a:off x="6324480" y="385776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50"/>
          <p:cNvGrpSpPr/>
          <p:nvPr/>
        </p:nvGrpSpPr>
        <p:grpSpPr>
          <a:xfrm>
            <a:off x="6396120" y="3857760"/>
            <a:ext cx="288360" cy="215640"/>
            <a:chOff x="6396120" y="3857760"/>
            <a:chExt cx="288360" cy="215640"/>
          </a:xfrm>
        </p:grpSpPr>
        <p:sp>
          <p:nvSpPr>
            <p:cNvPr id="1080" name="AutoShape 51"/>
            <p:cNvSpPr/>
            <p:nvPr/>
          </p:nvSpPr>
          <p:spPr>
            <a:xfrm rot="5400000">
              <a:off x="6360120" y="3893400"/>
              <a:ext cx="215640" cy="144000"/>
            </a:xfrm>
            <a:prstGeom prst="parallelogram">
              <a:avLst>
                <a:gd name="adj" fmla="val 4905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52"/>
            <p:cNvSpPr/>
            <p:nvPr/>
          </p:nvSpPr>
          <p:spPr>
            <a:xfrm>
              <a:off x="6396120" y="3857760"/>
              <a:ext cx="14400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53"/>
            <p:cNvSpPr/>
            <p:nvPr/>
          </p:nvSpPr>
          <p:spPr>
            <a:xfrm>
              <a:off x="6540120" y="407340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54"/>
          <p:cNvGrpSpPr/>
          <p:nvPr/>
        </p:nvGrpSpPr>
        <p:grpSpPr>
          <a:xfrm>
            <a:off x="6611400" y="4073400"/>
            <a:ext cx="289440" cy="216000"/>
            <a:chOff x="6611400" y="4073400"/>
            <a:chExt cx="289440" cy="216000"/>
          </a:xfrm>
        </p:grpSpPr>
        <p:sp>
          <p:nvSpPr>
            <p:cNvPr id="1084" name="AutoShape 55"/>
            <p:cNvSpPr/>
            <p:nvPr/>
          </p:nvSpPr>
          <p:spPr>
            <a:xfrm rot="5400000">
              <a:off x="6575400" y="4109040"/>
              <a:ext cx="216000" cy="144360"/>
            </a:xfrm>
            <a:prstGeom prst="parallelogram">
              <a:avLst>
                <a:gd name="adj" fmla="val 49009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56"/>
            <p:cNvSpPr/>
            <p:nvPr/>
          </p:nvSpPr>
          <p:spPr>
            <a:xfrm>
              <a:off x="6611760" y="407340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57"/>
            <p:cNvSpPr/>
            <p:nvPr/>
          </p:nvSpPr>
          <p:spPr>
            <a:xfrm>
              <a:off x="6756120" y="428940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AutoShape 58"/>
          <p:cNvSpPr/>
          <p:nvPr/>
        </p:nvSpPr>
        <p:spPr>
          <a:xfrm rot="5400000">
            <a:off x="5500800" y="332496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59"/>
          <p:cNvSpPr/>
          <p:nvPr/>
        </p:nvSpPr>
        <p:spPr>
          <a:xfrm>
            <a:off x="5537160" y="32893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60"/>
          <p:cNvSpPr/>
          <p:nvPr/>
        </p:nvSpPr>
        <p:spPr>
          <a:xfrm>
            <a:off x="5681520" y="350532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61"/>
          <p:cNvSpPr/>
          <p:nvPr/>
        </p:nvSpPr>
        <p:spPr>
          <a:xfrm>
            <a:off x="5753160" y="35053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62"/>
          <p:cNvSpPr/>
          <p:nvPr/>
        </p:nvSpPr>
        <p:spPr>
          <a:xfrm>
            <a:off x="5897520" y="37209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63"/>
          <p:cNvSpPr/>
          <p:nvPr/>
        </p:nvSpPr>
        <p:spPr>
          <a:xfrm>
            <a:off x="5969160" y="37209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64"/>
          <p:cNvSpPr/>
          <p:nvPr/>
        </p:nvSpPr>
        <p:spPr>
          <a:xfrm>
            <a:off x="6113520" y="39369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65"/>
          <p:cNvSpPr/>
          <p:nvPr/>
        </p:nvSpPr>
        <p:spPr>
          <a:xfrm>
            <a:off x="6184800" y="393696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66"/>
          <p:cNvSpPr/>
          <p:nvPr/>
        </p:nvSpPr>
        <p:spPr>
          <a:xfrm>
            <a:off x="6329520" y="41529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Group 67"/>
          <p:cNvGrpSpPr/>
          <p:nvPr/>
        </p:nvGrpSpPr>
        <p:grpSpPr>
          <a:xfrm>
            <a:off x="6400440" y="4152960"/>
            <a:ext cx="289440" cy="216000"/>
            <a:chOff x="6400440" y="4152960"/>
            <a:chExt cx="289440" cy="216000"/>
          </a:xfrm>
        </p:grpSpPr>
        <p:sp>
          <p:nvSpPr>
            <p:cNvPr id="1097" name="AutoShape 68"/>
            <p:cNvSpPr/>
            <p:nvPr/>
          </p:nvSpPr>
          <p:spPr>
            <a:xfrm rot="5400000">
              <a:off x="6364440" y="4188600"/>
              <a:ext cx="216000" cy="144360"/>
            </a:xfrm>
            <a:prstGeom prst="parallelogram">
              <a:avLst>
                <a:gd name="adj" fmla="val 49009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69"/>
            <p:cNvSpPr/>
            <p:nvPr/>
          </p:nvSpPr>
          <p:spPr>
            <a:xfrm>
              <a:off x="6400800" y="415296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70"/>
            <p:cNvSpPr/>
            <p:nvPr/>
          </p:nvSpPr>
          <p:spPr>
            <a:xfrm>
              <a:off x="6545160" y="436896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AutoShape 71"/>
          <p:cNvSpPr/>
          <p:nvPr/>
        </p:nvSpPr>
        <p:spPr>
          <a:xfrm rot="5400000">
            <a:off x="6580800" y="4404600"/>
            <a:ext cx="215640" cy="144360"/>
          </a:xfrm>
          <a:prstGeom prst="parallelogram">
            <a:avLst>
              <a:gd name="adj" fmla="val 4892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72"/>
          <p:cNvSpPr/>
          <p:nvPr/>
        </p:nvSpPr>
        <p:spPr>
          <a:xfrm>
            <a:off x="6616800" y="43689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73"/>
          <p:cNvSpPr/>
          <p:nvPr/>
        </p:nvSpPr>
        <p:spPr>
          <a:xfrm>
            <a:off x="6761160" y="45846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Group 74"/>
          <p:cNvGrpSpPr/>
          <p:nvPr/>
        </p:nvGrpSpPr>
        <p:grpSpPr>
          <a:xfrm>
            <a:off x="5527800" y="3560760"/>
            <a:ext cx="288360" cy="216000"/>
            <a:chOff x="5527800" y="3560760"/>
            <a:chExt cx="288360" cy="216000"/>
          </a:xfrm>
        </p:grpSpPr>
        <p:sp>
          <p:nvSpPr>
            <p:cNvPr id="1104" name="AutoShape 75"/>
            <p:cNvSpPr/>
            <p:nvPr/>
          </p:nvSpPr>
          <p:spPr>
            <a:xfrm rot="5400000">
              <a:off x="5491800" y="3596760"/>
              <a:ext cx="216000" cy="144000"/>
            </a:xfrm>
            <a:prstGeom prst="parallelogram">
              <a:avLst>
                <a:gd name="adj" fmla="val 49132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76"/>
            <p:cNvSpPr/>
            <p:nvPr/>
          </p:nvSpPr>
          <p:spPr>
            <a:xfrm>
              <a:off x="5527800" y="3560760"/>
              <a:ext cx="14400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77"/>
            <p:cNvSpPr/>
            <p:nvPr/>
          </p:nvSpPr>
          <p:spPr>
            <a:xfrm>
              <a:off x="5671800" y="377676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Line 78"/>
          <p:cNvSpPr/>
          <p:nvPr/>
        </p:nvSpPr>
        <p:spPr>
          <a:xfrm>
            <a:off x="5743440" y="377676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79"/>
          <p:cNvSpPr/>
          <p:nvPr/>
        </p:nvSpPr>
        <p:spPr>
          <a:xfrm>
            <a:off x="5888160" y="39924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80"/>
          <p:cNvSpPr/>
          <p:nvPr/>
        </p:nvSpPr>
        <p:spPr>
          <a:xfrm>
            <a:off x="5959440" y="39924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81"/>
          <p:cNvSpPr/>
          <p:nvPr/>
        </p:nvSpPr>
        <p:spPr>
          <a:xfrm>
            <a:off x="6103800" y="420840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82"/>
          <p:cNvSpPr/>
          <p:nvPr/>
        </p:nvSpPr>
        <p:spPr>
          <a:xfrm>
            <a:off x="6175440" y="42084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83"/>
          <p:cNvSpPr/>
          <p:nvPr/>
        </p:nvSpPr>
        <p:spPr>
          <a:xfrm>
            <a:off x="6319800" y="44244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84"/>
          <p:cNvSpPr/>
          <p:nvPr/>
        </p:nvSpPr>
        <p:spPr>
          <a:xfrm rot="5400000">
            <a:off x="6355080" y="446004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85"/>
          <p:cNvSpPr/>
          <p:nvPr/>
        </p:nvSpPr>
        <p:spPr>
          <a:xfrm>
            <a:off x="6391440" y="44244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86"/>
          <p:cNvSpPr/>
          <p:nvPr/>
        </p:nvSpPr>
        <p:spPr>
          <a:xfrm>
            <a:off x="6535800" y="46404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87"/>
          <p:cNvSpPr/>
          <p:nvPr/>
        </p:nvSpPr>
        <p:spPr>
          <a:xfrm rot="5400000">
            <a:off x="6571440" y="4675680"/>
            <a:ext cx="215640" cy="144720"/>
          </a:xfrm>
          <a:prstGeom prst="parallelogram">
            <a:avLst>
              <a:gd name="adj" fmla="val 48806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88"/>
          <p:cNvSpPr/>
          <p:nvPr/>
        </p:nvSpPr>
        <p:spPr>
          <a:xfrm>
            <a:off x="6607080" y="464040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89"/>
          <p:cNvSpPr/>
          <p:nvPr/>
        </p:nvSpPr>
        <p:spPr>
          <a:xfrm>
            <a:off x="6751800" y="48560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Group 90"/>
          <p:cNvGrpSpPr/>
          <p:nvPr/>
        </p:nvGrpSpPr>
        <p:grpSpPr>
          <a:xfrm>
            <a:off x="5525640" y="3851280"/>
            <a:ext cx="289440" cy="216000"/>
            <a:chOff x="5525640" y="3851280"/>
            <a:chExt cx="289440" cy="216000"/>
          </a:xfrm>
        </p:grpSpPr>
        <p:sp>
          <p:nvSpPr>
            <p:cNvPr id="1120" name="AutoShape 91"/>
            <p:cNvSpPr/>
            <p:nvPr/>
          </p:nvSpPr>
          <p:spPr>
            <a:xfrm rot="5400000">
              <a:off x="5489640" y="3886920"/>
              <a:ext cx="216000" cy="144360"/>
            </a:xfrm>
            <a:prstGeom prst="parallelogram">
              <a:avLst>
                <a:gd name="adj" fmla="val 49009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92"/>
            <p:cNvSpPr/>
            <p:nvPr/>
          </p:nvSpPr>
          <p:spPr>
            <a:xfrm>
              <a:off x="5526000" y="385128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93"/>
            <p:cNvSpPr/>
            <p:nvPr/>
          </p:nvSpPr>
          <p:spPr>
            <a:xfrm>
              <a:off x="5670360" y="406728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AutoShape 94"/>
          <p:cNvSpPr/>
          <p:nvPr/>
        </p:nvSpPr>
        <p:spPr>
          <a:xfrm rot="5400000">
            <a:off x="5706000" y="4102920"/>
            <a:ext cx="215640" cy="144360"/>
          </a:xfrm>
          <a:prstGeom prst="parallelogram">
            <a:avLst>
              <a:gd name="adj" fmla="val 4892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95"/>
          <p:cNvSpPr/>
          <p:nvPr/>
        </p:nvSpPr>
        <p:spPr>
          <a:xfrm>
            <a:off x="5742000" y="406728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96"/>
          <p:cNvSpPr/>
          <p:nvPr/>
        </p:nvSpPr>
        <p:spPr>
          <a:xfrm>
            <a:off x="5886360" y="428292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97"/>
          <p:cNvSpPr/>
          <p:nvPr/>
        </p:nvSpPr>
        <p:spPr>
          <a:xfrm rot="5400000">
            <a:off x="5928480" y="346140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98"/>
          <p:cNvSpPr/>
          <p:nvPr/>
        </p:nvSpPr>
        <p:spPr>
          <a:xfrm>
            <a:off x="5964120" y="342576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99"/>
          <p:cNvSpPr/>
          <p:nvPr/>
        </p:nvSpPr>
        <p:spPr>
          <a:xfrm>
            <a:off x="6108840" y="36417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100"/>
          <p:cNvSpPr/>
          <p:nvPr/>
        </p:nvSpPr>
        <p:spPr>
          <a:xfrm rot="5400000">
            <a:off x="5717160" y="3540960"/>
            <a:ext cx="215640" cy="144360"/>
          </a:xfrm>
          <a:prstGeom prst="parallelogram">
            <a:avLst>
              <a:gd name="adj" fmla="val 4892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AutoShape 101"/>
          <p:cNvSpPr/>
          <p:nvPr/>
        </p:nvSpPr>
        <p:spPr>
          <a:xfrm rot="5400000">
            <a:off x="5932800" y="375660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102"/>
          <p:cNvSpPr/>
          <p:nvPr/>
        </p:nvSpPr>
        <p:spPr>
          <a:xfrm rot="5400000">
            <a:off x="6149160" y="397260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103"/>
          <p:cNvSpPr/>
          <p:nvPr/>
        </p:nvSpPr>
        <p:spPr>
          <a:xfrm rot="5400000">
            <a:off x="5707800" y="3812040"/>
            <a:ext cx="215640" cy="144720"/>
          </a:xfrm>
          <a:prstGeom prst="parallelogram">
            <a:avLst>
              <a:gd name="adj" fmla="val 48806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104"/>
          <p:cNvSpPr/>
          <p:nvPr/>
        </p:nvSpPr>
        <p:spPr>
          <a:xfrm rot="5400000">
            <a:off x="5923080" y="402804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105"/>
          <p:cNvSpPr/>
          <p:nvPr/>
        </p:nvSpPr>
        <p:spPr>
          <a:xfrm rot="5400000">
            <a:off x="6139080" y="424404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106"/>
          <p:cNvSpPr/>
          <p:nvPr/>
        </p:nvSpPr>
        <p:spPr>
          <a:xfrm rot="5400000">
            <a:off x="5921640" y="431856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107"/>
          <p:cNvSpPr/>
          <p:nvPr/>
        </p:nvSpPr>
        <p:spPr>
          <a:xfrm>
            <a:off x="5958000" y="42829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108"/>
          <p:cNvSpPr/>
          <p:nvPr/>
        </p:nvSpPr>
        <p:spPr>
          <a:xfrm>
            <a:off x="6102360" y="44989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109"/>
          <p:cNvSpPr/>
          <p:nvPr/>
        </p:nvSpPr>
        <p:spPr>
          <a:xfrm rot="5400000">
            <a:off x="6138000" y="453456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10"/>
          <p:cNvSpPr/>
          <p:nvPr/>
        </p:nvSpPr>
        <p:spPr>
          <a:xfrm>
            <a:off x="6173640" y="449892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11"/>
          <p:cNvSpPr/>
          <p:nvPr/>
        </p:nvSpPr>
        <p:spPr>
          <a:xfrm>
            <a:off x="6318360" y="47149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112"/>
          <p:cNvSpPr/>
          <p:nvPr/>
        </p:nvSpPr>
        <p:spPr>
          <a:xfrm rot="5400000">
            <a:off x="6353280" y="475056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13"/>
          <p:cNvSpPr/>
          <p:nvPr/>
        </p:nvSpPr>
        <p:spPr>
          <a:xfrm>
            <a:off x="6389640" y="47149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14"/>
          <p:cNvSpPr/>
          <p:nvPr/>
        </p:nvSpPr>
        <p:spPr>
          <a:xfrm>
            <a:off x="6534000" y="493092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15"/>
          <p:cNvSpPr/>
          <p:nvPr/>
        </p:nvSpPr>
        <p:spPr>
          <a:xfrm rot="5400000">
            <a:off x="6569640" y="4966560"/>
            <a:ext cx="215640" cy="144360"/>
          </a:xfrm>
          <a:prstGeom prst="parallelogram">
            <a:avLst>
              <a:gd name="adj" fmla="val 48928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16"/>
          <p:cNvSpPr/>
          <p:nvPr/>
        </p:nvSpPr>
        <p:spPr>
          <a:xfrm>
            <a:off x="6605640" y="49309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17"/>
          <p:cNvSpPr/>
          <p:nvPr/>
        </p:nvSpPr>
        <p:spPr>
          <a:xfrm>
            <a:off x="6750000" y="51465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18"/>
          <p:cNvGrpSpPr/>
          <p:nvPr/>
        </p:nvGrpSpPr>
        <p:grpSpPr>
          <a:xfrm>
            <a:off x="5511960" y="4121280"/>
            <a:ext cx="288360" cy="215640"/>
            <a:chOff x="5511960" y="4121280"/>
            <a:chExt cx="288360" cy="215640"/>
          </a:xfrm>
        </p:grpSpPr>
        <p:sp>
          <p:nvSpPr>
            <p:cNvPr id="1148" name="AutoShape 119"/>
            <p:cNvSpPr/>
            <p:nvPr/>
          </p:nvSpPr>
          <p:spPr>
            <a:xfrm rot="5400000">
              <a:off x="5475960" y="4156920"/>
              <a:ext cx="215640" cy="144000"/>
            </a:xfrm>
            <a:prstGeom prst="parallelogram">
              <a:avLst>
                <a:gd name="adj" fmla="val 4905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120"/>
            <p:cNvSpPr/>
            <p:nvPr/>
          </p:nvSpPr>
          <p:spPr>
            <a:xfrm>
              <a:off x="5511960" y="4121280"/>
              <a:ext cx="14400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121"/>
            <p:cNvSpPr/>
            <p:nvPr/>
          </p:nvSpPr>
          <p:spPr>
            <a:xfrm>
              <a:off x="5655960" y="433692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Group 122"/>
          <p:cNvGrpSpPr/>
          <p:nvPr/>
        </p:nvGrpSpPr>
        <p:grpSpPr>
          <a:xfrm>
            <a:off x="5727240" y="4336920"/>
            <a:ext cx="289440" cy="216000"/>
            <a:chOff x="5727240" y="4336920"/>
            <a:chExt cx="289440" cy="216000"/>
          </a:xfrm>
        </p:grpSpPr>
        <p:sp>
          <p:nvSpPr>
            <p:cNvPr id="1152" name="AutoShape 123"/>
            <p:cNvSpPr/>
            <p:nvPr/>
          </p:nvSpPr>
          <p:spPr>
            <a:xfrm rot="5400000">
              <a:off x="5691240" y="4372560"/>
              <a:ext cx="216000" cy="144360"/>
            </a:xfrm>
            <a:prstGeom prst="parallelogram">
              <a:avLst>
                <a:gd name="adj" fmla="val 49009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124"/>
            <p:cNvSpPr/>
            <p:nvPr/>
          </p:nvSpPr>
          <p:spPr>
            <a:xfrm>
              <a:off x="5727600" y="4336920"/>
              <a:ext cx="1443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125"/>
            <p:cNvSpPr/>
            <p:nvPr/>
          </p:nvSpPr>
          <p:spPr>
            <a:xfrm>
              <a:off x="5871960" y="4552920"/>
              <a:ext cx="144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AutoShape 126"/>
          <p:cNvSpPr/>
          <p:nvPr/>
        </p:nvSpPr>
        <p:spPr>
          <a:xfrm rot="5400000">
            <a:off x="5907240" y="458856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27"/>
          <p:cNvSpPr/>
          <p:nvPr/>
        </p:nvSpPr>
        <p:spPr>
          <a:xfrm>
            <a:off x="5943600" y="45529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128"/>
          <p:cNvSpPr/>
          <p:nvPr/>
        </p:nvSpPr>
        <p:spPr>
          <a:xfrm>
            <a:off x="6087960" y="476892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9"/>
          <p:cNvSpPr/>
          <p:nvPr/>
        </p:nvSpPr>
        <p:spPr>
          <a:xfrm rot="5400000">
            <a:off x="6123240" y="480456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30"/>
          <p:cNvSpPr/>
          <p:nvPr/>
        </p:nvSpPr>
        <p:spPr>
          <a:xfrm>
            <a:off x="6159600" y="47689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131"/>
          <p:cNvSpPr/>
          <p:nvPr/>
        </p:nvSpPr>
        <p:spPr>
          <a:xfrm>
            <a:off x="6303960" y="49849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32"/>
          <p:cNvSpPr/>
          <p:nvPr/>
        </p:nvSpPr>
        <p:spPr>
          <a:xfrm rot="5400000">
            <a:off x="6339600" y="5020200"/>
            <a:ext cx="215640" cy="144720"/>
          </a:xfrm>
          <a:prstGeom prst="parallelogram">
            <a:avLst>
              <a:gd name="adj" fmla="val 48806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33"/>
          <p:cNvSpPr/>
          <p:nvPr/>
        </p:nvSpPr>
        <p:spPr>
          <a:xfrm>
            <a:off x="6375240" y="498492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34"/>
          <p:cNvSpPr/>
          <p:nvPr/>
        </p:nvSpPr>
        <p:spPr>
          <a:xfrm>
            <a:off x="6519960" y="52005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AutoShape 135"/>
          <p:cNvSpPr/>
          <p:nvPr/>
        </p:nvSpPr>
        <p:spPr>
          <a:xfrm rot="5400000">
            <a:off x="6554880" y="523620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36"/>
          <p:cNvSpPr/>
          <p:nvPr/>
        </p:nvSpPr>
        <p:spPr>
          <a:xfrm>
            <a:off x="6591240" y="52005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37"/>
          <p:cNvSpPr/>
          <p:nvPr/>
        </p:nvSpPr>
        <p:spPr>
          <a:xfrm>
            <a:off x="6735600" y="541656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138"/>
          <p:cNvSpPr/>
          <p:nvPr/>
        </p:nvSpPr>
        <p:spPr>
          <a:xfrm>
            <a:off x="5691240" y="276084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139"/>
          <p:cNvSpPr/>
          <p:nvPr/>
        </p:nvSpPr>
        <p:spPr>
          <a:xfrm>
            <a:off x="5908680" y="29797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140"/>
          <p:cNvSpPr/>
          <p:nvPr/>
        </p:nvSpPr>
        <p:spPr>
          <a:xfrm>
            <a:off x="6121440" y="319572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41"/>
          <p:cNvSpPr/>
          <p:nvPr/>
        </p:nvSpPr>
        <p:spPr>
          <a:xfrm>
            <a:off x="6340320" y="341136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142"/>
          <p:cNvSpPr/>
          <p:nvPr/>
        </p:nvSpPr>
        <p:spPr>
          <a:xfrm>
            <a:off x="6556320" y="36273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43"/>
          <p:cNvSpPr/>
          <p:nvPr/>
        </p:nvSpPr>
        <p:spPr>
          <a:xfrm>
            <a:off x="6772320" y="38433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144"/>
          <p:cNvSpPr/>
          <p:nvPr/>
        </p:nvSpPr>
        <p:spPr>
          <a:xfrm rot="5400000">
            <a:off x="5256360" y="311544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145"/>
          <p:cNvSpPr/>
          <p:nvPr/>
        </p:nvSpPr>
        <p:spPr>
          <a:xfrm>
            <a:off x="5292720" y="30798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146"/>
          <p:cNvSpPr/>
          <p:nvPr/>
        </p:nvSpPr>
        <p:spPr>
          <a:xfrm>
            <a:off x="5437080" y="329580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147"/>
          <p:cNvSpPr/>
          <p:nvPr/>
        </p:nvSpPr>
        <p:spPr>
          <a:xfrm rot="5400000">
            <a:off x="5266440" y="2817000"/>
            <a:ext cx="216000" cy="144720"/>
          </a:xfrm>
          <a:prstGeom prst="parallelogram">
            <a:avLst>
              <a:gd name="adj" fmla="val 4888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48"/>
          <p:cNvSpPr/>
          <p:nvPr/>
        </p:nvSpPr>
        <p:spPr>
          <a:xfrm>
            <a:off x="5302080" y="278136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49"/>
          <p:cNvSpPr/>
          <p:nvPr/>
        </p:nvSpPr>
        <p:spPr>
          <a:xfrm>
            <a:off x="5446800" y="299736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150"/>
          <p:cNvSpPr/>
          <p:nvPr/>
        </p:nvSpPr>
        <p:spPr>
          <a:xfrm rot="5400000">
            <a:off x="5270760" y="250884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51"/>
          <p:cNvSpPr/>
          <p:nvPr/>
        </p:nvSpPr>
        <p:spPr>
          <a:xfrm>
            <a:off x="5446800" y="26892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utoShape 152"/>
          <p:cNvSpPr/>
          <p:nvPr/>
        </p:nvSpPr>
        <p:spPr>
          <a:xfrm rot="5400000">
            <a:off x="5256360" y="3383640"/>
            <a:ext cx="216000" cy="144360"/>
          </a:xfrm>
          <a:prstGeom prst="parallelogram">
            <a:avLst>
              <a:gd name="adj" fmla="val 49009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53"/>
          <p:cNvSpPr/>
          <p:nvPr/>
        </p:nvSpPr>
        <p:spPr>
          <a:xfrm>
            <a:off x="5292720" y="3348000"/>
            <a:ext cx="14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54"/>
          <p:cNvSpPr/>
          <p:nvPr/>
        </p:nvSpPr>
        <p:spPr>
          <a:xfrm>
            <a:off x="5437080" y="3564000"/>
            <a:ext cx="1447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56"/>
          <p:cNvSpPr/>
          <p:nvPr/>
        </p:nvSpPr>
        <p:spPr>
          <a:xfrm>
            <a:off x="611280" y="19890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99ff"/>
                </a:solidFill>
                <a:latin typeface="Arial"/>
              </a:rPr>
              <a:t>Zona de la banda que emite el anal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57"/>
          <p:cNvSpPr/>
          <p:nvPr/>
        </p:nvSpPr>
        <p:spPr>
          <a:xfrm>
            <a:off x="1908000" y="5703840"/>
            <a:ext cx="55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Zonas de la banda que pueden emitir el analito y el fo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58"/>
          <p:cNvSpPr/>
          <p:nvPr/>
        </p:nvSpPr>
        <p:spPr>
          <a:xfrm flipH="1" flipV="1">
            <a:off x="1476000" y="4508640"/>
            <a:ext cx="1871640" cy="1225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59"/>
          <p:cNvSpPr/>
          <p:nvPr/>
        </p:nvSpPr>
        <p:spPr>
          <a:xfrm flipH="1" flipV="1">
            <a:off x="1402920" y="3500280"/>
            <a:ext cx="2089080" cy="208944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60"/>
          <p:cNvSpPr/>
          <p:nvPr/>
        </p:nvSpPr>
        <p:spPr>
          <a:xfrm flipH="1">
            <a:off x="3779640" y="2276640"/>
            <a:ext cx="144360" cy="1657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161"/>
          <p:cNvSpPr/>
          <p:nvPr/>
        </p:nvSpPr>
        <p:spPr>
          <a:xfrm>
            <a:off x="7118280" y="0"/>
            <a:ext cx="2025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EMISION AT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62"/>
          <p:cNvSpPr/>
          <p:nvPr/>
        </p:nvSpPr>
        <p:spPr>
          <a:xfrm>
            <a:off x="6516720" y="3141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166"/>
          <p:cNvSpPr/>
          <p:nvPr/>
        </p:nvSpPr>
        <p:spPr>
          <a:xfrm>
            <a:off x="3390840" y="87480"/>
            <a:ext cx="19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DETECTOR 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0.63003 -0.00394 E">
                                      <p:cBhvr>
                                        <p:cTn id="650" dur="2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5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8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1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2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7" dur="2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0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2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3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2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2" dur="2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87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9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0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3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2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6" dur="2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2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2" dur="2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2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5" dur="2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8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0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11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14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19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2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22" dur="2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4" dur="2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25" dur="2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2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28" dur="2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0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31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34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37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40" dur="2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43" dur="2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46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Picture 2" descr=""/>
          <p:cNvPicPr/>
          <p:nvPr/>
        </p:nvPicPr>
        <p:blipFill>
          <a:blip r:embed="rId1"/>
          <a:stretch/>
        </p:blipFill>
        <p:spPr>
          <a:xfrm>
            <a:off x="3429000" y="1214280"/>
            <a:ext cx="2471760" cy="1143000"/>
          </a:xfrm>
          <a:prstGeom prst="rect">
            <a:avLst/>
          </a:prstGeom>
          <a:ln w="0">
            <a:noFill/>
          </a:ln>
        </p:spPr>
      </p:pic>
      <p:sp>
        <p:nvSpPr>
          <p:cNvPr id="1193" name="6 CuadroTexto"/>
          <p:cNvSpPr/>
          <p:nvPr/>
        </p:nvSpPr>
        <p:spPr>
          <a:xfrm>
            <a:off x="2071800" y="4786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n de la 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/>
          <p:cNvSpPr/>
          <p:nvPr/>
        </p:nvSpPr>
        <p:spPr>
          <a:xfrm rot="16200000">
            <a:off x="3239280" y="945360"/>
            <a:ext cx="3240000" cy="6912000"/>
          </a:xfrm>
          <a:prstGeom prst="can">
            <a:avLst>
              <a:gd name="adj" fmla="val 606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4703760" y="2878200"/>
            <a:ext cx="36036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349200" y="2327400"/>
            <a:ext cx="4535640" cy="647640"/>
          </a:xfrm>
          <a:custGeom>
            <a:avLst/>
            <a:gdLst/>
            <a:ahLst/>
            <a:rect l="l" t="t" r="r" b="b"/>
            <a:pathLst>
              <a:path w="2857" h="408">
                <a:moveTo>
                  <a:pt x="0" y="0"/>
                </a:moveTo>
                <a:lnTo>
                  <a:pt x="2812" y="0"/>
                </a:lnTo>
                <a:lnTo>
                  <a:pt x="2857" y="408"/>
                </a:lnTo>
              </a:path>
            </a:pathLst>
          </a:custGeom>
          <a:noFill/>
          <a:ln w="127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41128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CAMARA DE GRAF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9"/>
          <p:cNvSpPr/>
          <p:nvPr/>
        </p:nvSpPr>
        <p:spPr>
          <a:xfrm rot="416400">
            <a:off x="323640" y="3710160"/>
            <a:ext cx="441000" cy="7128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3168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4824360" y="5761080"/>
            <a:ext cx="574560" cy="246240"/>
            <a:chOff x="4824360" y="5761080"/>
            <a:chExt cx="574560" cy="246240"/>
          </a:xfrm>
        </p:grpSpPr>
        <p:sp>
          <p:nvSpPr>
            <p:cNvPr id="163" name="Oval 11"/>
            <p:cNvSpPr/>
            <p:nvPr/>
          </p:nvSpPr>
          <p:spPr>
            <a:xfrm>
              <a:off x="5001840" y="5780160"/>
              <a:ext cx="216000" cy="21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2"/>
            <p:cNvSpPr/>
            <p:nvPr/>
          </p:nvSpPr>
          <p:spPr>
            <a:xfrm>
              <a:off x="4824360" y="576108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ahoma"/>
                </a:rPr>
                <a:t>P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3"/>
          <p:cNvSpPr/>
          <p:nvPr/>
        </p:nvSpPr>
        <p:spPr>
          <a:xfrm>
            <a:off x="4989600" y="5654520"/>
            <a:ext cx="23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4"/>
          <p:cNvSpPr/>
          <p:nvPr/>
        </p:nvSpPr>
        <p:spPr>
          <a:xfrm rot="416400">
            <a:off x="140760" y="4309920"/>
            <a:ext cx="441360" cy="7164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3168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5"/>
          <p:cNvSpPr/>
          <p:nvPr/>
        </p:nvSpPr>
        <p:spPr>
          <a:xfrm rot="416400">
            <a:off x="178920" y="4869000"/>
            <a:ext cx="441360" cy="7128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3168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4830840" y="3551400"/>
            <a:ext cx="539640" cy="5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4140360" y="5661000"/>
            <a:ext cx="291960" cy="3002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5940360" y="5661000"/>
            <a:ext cx="292320" cy="3002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1692360" y="2276640"/>
            <a:ext cx="108000" cy="10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1476360" y="2276640"/>
            <a:ext cx="108000" cy="10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1"/>
          <p:cNvSpPr/>
          <p:nvPr/>
        </p:nvSpPr>
        <p:spPr>
          <a:xfrm>
            <a:off x="1492200" y="2276640"/>
            <a:ext cx="108000" cy="10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2"/>
          <p:cNvSpPr/>
          <p:nvPr/>
        </p:nvSpPr>
        <p:spPr>
          <a:xfrm>
            <a:off x="1258920" y="2276640"/>
            <a:ext cx="108000" cy="10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6443640" y="573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tom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5292720" y="328464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Absorción de rad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683100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92 L 0.37934 -0.00092 L 0.48038 0.52963 E">
                                      <p:cBhvr>
                                        <p:cTn id="58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47 L 0.35452 -0.00092 L 0.41077 0.52963 E">
                                      <p:cBhvr>
                                        <p:cTn id="6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2 L 0.36007 -0.00092 L 0.34341 0.5213 E">
                                      <p:cBhvr>
                                        <p:cTn id="6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2 L 0.34028 -0.00092 L 0.3507 0.52686 E">
                                      <p:cBhvr>
                                        <p:cTn id="6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-0.00278 0.00417 -0.00417 0.00625 -0.00694 C 0.0066 -0.0088 0.00695 -0.01065 0.0073 -0.0125 C 0.00747 -0.01342 0.00782 -0.01528 0.00782 -0.01528 C 0.00695 -0.03148 0.0007 -0.04282 -0.00781 -0.05417 C -0.0092 -0.06134 -0.00677 -0.05116 -0.01198 -0.0618 C -0.01666 -0.07176 -0.01423 -0.06713 -0.01927 -0.07569 C -0.02482 -0.08518 -0.02812 -0.09676 -0.03281 -0.10694 C -0.03402 -0.11319 -0.03559 -0.11944 -0.03698 -0.12569 C -0.03767 -0.14467 -0.03767 -0.16319 -0.03177 -0.18055 C -0.02569 -0.19861 -0.01493 -0.2125 -0.00833 -0.22986 C -0.00468 -0.23958 -0.00295 -0.24768 -0.00104 -0.25833 C -0.00156 -0.29722 -0.00156 -0.28333 -0.00156 -0.3 E">
                                      <p:cBhvr>
                                        <p:cTn id="9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-0.00278 0.00417 -0.00417 0.00625 -0.00694 C 0.0066 -0.0088 0.00695 -0.01065 0.0073 -0.0125 C 0.00747 -0.01342 0.00782 -0.01528 0.00782 -0.01528 C 0.00695 -0.03148 0.0007 -0.04282 -0.00781 -0.05417 C -0.0092 -0.06134 -0.00677 -0.05116 -0.01198 -0.0618 C -0.01666 -0.07176 -0.01423 -0.06713 -0.01927 -0.07569 C -0.02482 -0.08518 -0.02812 -0.09676 -0.03281 -0.10694 C -0.03402 -0.11319 -0.03559 -0.11944 -0.03698 -0.12569 C -0.03767 -0.14467 -0.03767 -0.16319 -0.03177 -0.18055 C -0.02569 -0.19861 -0.01493 -0.2125 -0.00833 -0.22986 C -0.00468 -0.23958 -0.00295 -0.24768 -0.00104 -0.25833 C -0.00156 -0.29722 -0.00156 -0.28333 -0.00156 -0.3 E">
                                      <p:cBhvr>
                                        <p:cTn id="9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4.07407E-006 C 0.00886 -0.00463 0.01095 -0.00278 0.01668 -0.01296 C 0.02206 -0.03472 0.01025 -0.06412 -0.00138 -0.07963 C -0.00329 -0.08727 -0.00641 -0.09514 -0.00971 -0.10185 C -0.00919 -0.10625 -0.01006 -0.11111 -0.00833 -0.11482 C -0.0019 -0.12824 0.02727 -0.13033 0.03612 -0.13148 C 0.04029 -0.13195 0.04445 -0.13264 0.04862 -0.13334 C 0.06199 -0.13935 0.0731 -0.14884 0.08473 -0.15926 C 0.08525 -0.16042 0.0915 -0.16991 0.09168 -0.17037 C 0.09532 -0.17755 0.10001 -0.19074 0.10279 -0.19815 C 0.1047 -0.20301 0.10279 -0.20926 0.10279 -0.21482 E">
                                      <p:cBhvr>
                                        <p:cTn id="9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22222E-006 C 0.00555 -0.00486 0.00677 -0.0081 0.00833 -0.01667 C 0.00677 -0.02292 0.00503 -0.03032 0.00139 -0.03519 C -0.00313 -0.0412 -0.00851 -0.04213 -0.01389 -0.0463 C -0.03733 -0.06412 -0.06858 -0.0625 -0.09445 -0.06481 C -0.10295 -0.06713 -0.10972 -0.07315 -0.11806 -0.07593 C -0.12344 -0.08125 -0.12795 -0.08727 -0.13334 -0.09259 C -0.13768 -0.11019 -0.13334 -0.11644 -0.13334 -0.13519 E">
                                      <p:cBhvr>
                                        <p:cTn id="10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92 L 0.93299 0.00301 E">
                                      <p:cBhvr>
                                        <p:cTn id="105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93 L 0.92083 0.00555 E">
                                      <p:cBhvr>
                                        <p:cTn id="107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92 L 0.50347 -0.00092 E">
                                      <p:cBhvr>
                                        <p:cTn id="109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-0.30046 C -0.00191 -0.30278 -0.00261 -0.3044 -0.00191 -0.30671 C -0.00139 -0.31065 0.00173 -0.31597 0.00451 -0.31667 C 0.00503 -0.31759 0.00555 -0.31783 0.00625 -0.31829 C 0.00694 -0.31898 0.00764 -0.31898 0.00833 -0.31945 C 0.00868 -0.31968 0.0092 -0.31968 0.0092 -0.31945 E">
                                      <p:cBhvr>
                                        <p:cTn id="11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347840" y="3849840"/>
            <a:ext cx="431640" cy="630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47680" y="6283440"/>
            <a:ext cx="2519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0800000">
            <a:off x="696960" y="4338720"/>
            <a:ext cx="1728720" cy="1931760"/>
          </a:xfrm>
          <a:custGeom>
            <a:avLst/>
            <a:gdLst>
              <a:gd name="textAreaLeft" fmla="*/ 456840 w 1728720"/>
              <a:gd name="textAreaRight" fmla="*/ 1271880 w 1728720"/>
              <a:gd name="textAreaTop" fmla="*/ 510480 h 1931760"/>
              <a:gd name="textAreaBottom" fmla="*/ 1421280 h 19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818" y="21600"/>
                </a:lnTo>
                <a:lnTo>
                  <a:pt x="1378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330200" y="6176880"/>
            <a:ext cx="43200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 rot="16200000">
            <a:off x="4649760" y="-464760"/>
            <a:ext cx="2147760" cy="5904000"/>
          </a:xfrm>
          <a:prstGeom prst="can">
            <a:avLst>
              <a:gd name="adj" fmla="val 781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5651640" y="1557360"/>
            <a:ext cx="287280" cy="287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0"/>
          <p:cNvSpPr/>
          <p:nvPr/>
        </p:nvSpPr>
        <p:spPr>
          <a:xfrm>
            <a:off x="1768320" y="1773360"/>
            <a:ext cx="4027680" cy="2651040"/>
          </a:xfrm>
          <a:custGeom>
            <a:avLst/>
            <a:gdLst/>
            <a:ahLst/>
            <a:rect l="l" t="t" r="r" b="b"/>
            <a:pathLst>
              <a:path w="2812" h="854">
                <a:moveTo>
                  <a:pt x="0" y="771"/>
                </a:moveTo>
                <a:cubicBezTo>
                  <a:pt x="899" y="812"/>
                  <a:pt x="1799" y="854"/>
                  <a:pt x="2268" y="726"/>
                </a:cubicBezTo>
                <a:cubicBezTo>
                  <a:pt x="2737" y="598"/>
                  <a:pt x="2774" y="299"/>
                  <a:pt x="2812" y="0"/>
                </a:cubicBezTo>
              </a:path>
            </a:pathLst>
          </a:cu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1258920" y="5445000"/>
            <a:ext cx="14436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1692360" y="479736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538280" y="3203640"/>
            <a:ext cx="0" cy="25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 rot="10800000">
            <a:off x="1390680" y="2924280"/>
            <a:ext cx="288720" cy="28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390680" y="2133720"/>
            <a:ext cx="287280" cy="7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1393920" y="2492280"/>
            <a:ext cx="27612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7"/>
          <p:cNvGrpSpPr/>
          <p:nvPr/>
        </p:nvGrpSpPr>
        <p:grpSpPr>
          <a:xfrm>
            <a:off x="1368360" y="1622520"/>
            <a:ext cx="360360" cy="864720"/>
            <a:chOff x="1368360" y="1622520"/>
            <a:chExt cx="360360" cy="864720"/>
          </a:xfrm>
        </p:grpSpPr>
        <p:sp>
          <p:nvSpPr>
            <p:cNvPr id="192" name="Line 18"/>
            <p:cNvSpPr/>
            <p:nvPr/>
          </p:nvSpPr>
          <p:spPr>
            <a:xfrm>
              <a:off x="1368360" y="1622520"/>
              <a:ext cx="360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9"/>
            <p:cNvSpPr/>
            <p:nvPr/>
          </p:nvSpPr>
          <p:spPr>
            <a:xfrm>
              <a:off x="1547640" y="1622520"/>
              <a:ext cx="0" cy="718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0"/>
            <p:cNvSpPr/>
            <p:nvPr/>
          </p:nvSpPr>
          <p:spPr>
            <a:xfrm>
              <a:off x="1393920" y="2343240"/>
              <a:ext cx="288720" cy="14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Freeform 21"/>
          <p:cNvSpPr/>
          <p:nvPr/>
        </p:nvSpPr>
        <p:spPr>
          <a:xfrm>
            <a:off x="990720" y="5715000"/>
            <a:ext cx="1047600" cy="487440"/>
          </a:xfrm>
          <a:custGeom>
            <a:avLst/>
            <a:gdLst/>
            <a:ahLst/>
            <a:rect l="l" t="t" r="r" b="b"/>
            <a:pathLst>
              <a:path w="660" h="307">
                <a:moveTo>
                  <a:pt x="342" y="0"/>
                </a:moveTo>
                <a:cubicBezTo>
                  <a:pt x="340" y="6"/>
                  <a:pt x="330" y="46"/>
                  <a:pt x="318" y="54"/>
                </a:cubicBezTo>
                <a:cubicBezTo>
                  <a:pt x="292" y="70"/>
                  <a:pt x="253" y="67"/>
                  <a:pt x="228" y="84"/>
                </a:cubicBezTo>
                <a:cubicBezTo>
                  <a:pt x="216" y="92"/>
                  <a:pt x="204" y="100"/>
                  <a:pt x="192" y="108"/>
                </a:cubicBezTo>
                <a:cubicBezTo>
                  <a:pt x="186" y="112"/>
                  <a:pt x="174" y="120"/>
                  <a:pt x="174" y="120"/>
                </a:cubicBezTo>
                <a:cubicBezTo>
                  <a:pt x="155" y="149"/>
                  <a:pt x="164" y="131"/>
                  <a:pt x="150" y="174"/>
                </a:cubicBezTo>
                <a:cubicBezTo>
                  <a:pt x="148" y="181"/>
                  <a:pt x="138" y="181"/>
                  <a:pt x="132" y="186"/>
                </a:cubicBezTo>
                <a:cubicBezTo>
                  <a:pt x="114" y="201"/>
                  <a:pt x="112" y="211"/>
                  <a:pt x="90" y="222"/>
                </a:cubicBezTo>
                <a:cubicBezTo>
                  <a:pt x="69" y="233"/>
                  <a:pt x="51" y="232"/>
                  <a:pt x="30" y="246"/>
                </a:cubicBezTo>
                <a:cubicBezTo>
                  <a:pt x="15" y="276"/>
                  <a:pt x="0" y="280"/>
                  <a:pt x="30" y="300"/>
                </a:cubicBezTo>
                <a:cubicBezTo>
                  <a:pt x="55" y="283"/>
                  <a:pt x="83" y="275"/>
                  <a:pt x="108" y="258"/>
                </a:cubicBezTo>
                <a:cubicBezTo>
                  <a:pt x="180" y="263"/>
                  <a:pt x="245" y="271"/>
                  <a:pt x="318" y="258"/>
                </a:cubicBezTo>
                <a:cubicBezTo>
                  <a:pt x="334" y="255"/>
                  <a:pt x="344" y="238"/>
                  <a:pt x="360" y="234"/>
                </a:cubicBezTo>
                <a:cubicBezTo>
                  <a:pt x="418" y="246"/>
                  <a:pt x="363" y="230"/>
                  <a:pt x="420" y="264"/>
                </a:cubicBezTo>
                <a:cubicBezTo>
                  <a:pt x="455" y="285"/>
                  <a:pt x="495" y="284"/>
                  <a:pt x="534" y="288"/>
                </a:cubicBezTo>
                <a:cubicBezTo>
                  <a:pt x="568" y="305"/>
                  <a:pt x="572" y="307"/>
                  <a:pt x="612" y="300"/>
                </a:cubicBezTo>
                <a:cubicBezTo>
                  <a:pt x="660" y="252"/>
                  <a:pt x="628" y="237"/>
                  <a:pt x="576" y="222"/>
                </a:cubicBezTo>
                <a:cubicBezTo>
                  <a:pt x="545" y="213"/>
                  <a:pt x="511" y="202"/>
                  <a:pt x="480" y="192"/>
                </a:cubicBezTo>
                <a:cubicBezTo>
                  <a:pt x="452" y="164"/>
                  <a:pt x="423" y="140"/>
                  <a:pt x="390" y="120"/>
                </a:cubicBezTo>
                <a:cubicBezTo>
                  <a:pt x="388" y="102"/>
                  <a:pt x="390" y="83"/>
                  <a:pt x="384" y="66"/>
                </a:cubicBezTo>
                <a:cubicBezTo>
                  <a:pt x="382" y="59"/>
                  <a:pt x="371" y="59"/>
                  <a:pt x="366" y="54"/>
                </a:cubicBezTo>
                <a:cubicBezTo>
                  <a:pt x="352" y="40"/>
                  <a:pt x="348" y="18"/>
                  <a:pt x="342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3990960" y="244476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3"/>
          <p:cNvSpPr/>
          <p:nvPr/>
        </p:nvSpPr>
        <p:spPr>
          <a:xfrm>
            <a:off x="7655040" y="237960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2411280" y="33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GENERACION DE HIDR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300720" y="9810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Tubo de graf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500720" y="227664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ociación de los hidruros y atom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611280" y="2565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NaBH</a:t>
            </a: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9"/>
          <p:cNvSpPr/>
          <p:nvPr/>
        </p:nvSpPr>
        <p:spPr>
          <a:xfrm rot="375600">
            <a:off x="1949040" y="2408400"/>
            <a:ext cx="941400" cy="28728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683100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-8.33333E-007 0.02083 E">
                                      <p:cBhvr>
                                        <p:cTn id="12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48148E-006 C 0.0014 -0.00555 0.00226 -0.01088 0.00313 -0.01666 C 0.00278 -0.02222 0.00296 -0.02778 0.00209 -0.03333 C 0.00157 -0.03703 -0.0019 -0.04236 -0.00312 -0.04583 C -0.00572 -0.05254 -0.00833 -0.06018 -0.01145 -0.06666 C -0.0118 -0.06898 -0.01215 -0.07129 -0.01249 -0.07361 C -0.01319 -0.07731 -0.01458 -0.08472 -0.01458 -0.08472 C -0.01353 -0.09514 -0.01284 -0.0993 -0.0052 -0.10278 C 0.01841 -0.10162 0.04046 -0.09815 0.06355 -0.09583 C 0.07032 -0.09282 0.07744 -0.09352 0.08438 -0.09166 C 0.11164 -0.08449 0.14983 -0.08565 0.17709 -0.08472 C 0.22362 -0.06921 0.25383 -0.08495 0.29376 -0.09166 C 0.30001 -0.09722 0.30296 -0.09629 0.31147 -0.09722 C 0.32518 -0.10324 0.33785 -0.11528 0.35209 -0.11805 C 0.35435 -0.12014 0.35591 -0.12315 0.35834 -0.125 C 0.36025 -0.12639 0.36459 -0.12778 0.36459 -0.12778 C 0.37049 -0.13981 0.36268 -0.12569 0.3698 -0.13333 C 0.37084 -0.13449 0.37101 -0.13611 0.37188 -0.1375 C 0.37275 -0.13912 0.37379 -0.14051 0.37501 -0.14166 C 0.37692 -0.14328 0.37935 -0.14421 0.38126 -0.14583 C 0.38386 -0.15625 0.38004 -0.14375 0.38542 -0.15278 C 0.39115 -0.16227 0.38056 -0.15185 0.38959 -0.15972 C 0.39324 -0.16713 0.39584 -0.17523 0.40001 -0.18194 C 0.40261 -0.18634 0.40834 -0.19444 0.40834 -0.19444 C 0.41008 -0.20602 0.4106 -0.21782 0.41563 -0.22778 C 0.41685 -0.23449 0.41928 -0.23935 0.42084 -0.24583 C 0.42188 -0.25717 0.42535 -0.26805 0.42813 -0.27916 C 0.42848 -0.2912 0.42622 -0.31713 0.43647 -0.32639 C 0.43247 -0.34213 0.43525 -0.36597 0.44063 -0.38055 C 0.44098 -0.39768 0.44115 -0.41481 0.44167 -0.43194 C 0.44202 -0.44514 0.43976 -0.46296 0.45105 -0.46805 C 0.46337 -0.46389 0.46667 -0.43449 0.47501 -0.42222 C 0.47692 -0.41921 0.47865 -0.41574 0.48126 -0.41389 C 0.48403 -0.41203 0.48733 -0.41134 0.48959 -0.40833 C 0.50087 -0.39328 0.51442 -0.38241 0.52917 -0.375 C 0.53629 -0.37153 0.54254 -0.36643 0.55001 -0.36389 C 0.554 -0.35856 0.56025 -0.35509 0.56563 -0.35278 C 0.58039 -0.35555 0.5948 -0.34907 0.60938 -0.34722 C 0.61962 -0.34259 0.62952 -0.34166 0.64063 -0.34166 E">
                                      <p:cBhvr>
                                        <p:cTn id="14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0023 C 0.00347 -0.0044 0.00607 -0.00533 0.00972 -0.00857 C 0.01198 -0.01296 0.01371 -0.01736 0.01493 -0.02246 C 0.01423 -0.03634 0.01527 -0.0463 0.00972 -0.05741 C 0.00607 -0.07639 0.00711 -0.07176 0.00868 -0.1044 C 0.00902 -0.11181 0.00972 -0.1081 0.0118 -0.11412 C 0.01267 -0.1169 0.01389 -0.12246 0.01389 -0.12246 C 0.01632 -0.14884 0.01389 -0.11759 0.01389 -0.1669 C 0.01389 -0.17477 0.01232 -0.18426 0.01597 -0.19051 C 0.01927 -0.19607 0.02708 -0.19607 0.03159 -0.20023 C 0.03993 -0.19977 0.04826 -0.19977 0.05659 -0.19884 C 0.0618 -0.19838 0.06649 -0.19213 0.07222 -0.1919 C 0.08819 -0.19097 0.10416 -0.19097 0.12014 -0.19051 C 0.13177 -0.18009 0.14218 -0.18565 0.15868 -0.18496 C 0.17274 -0.1838 0.17066 -0.18449 0.18055 -0.18218 C 0.18437 -0.18125 0.19201 -0.17801 0.19201 -0.17801 C 0.21007 -0.17917 0.23055 -0.18241 0.24826 -0.17662 C 0.26423 -0.17755 0.27048 -0.17778 0.28368 -0.18079 C 0.28819 -0.18009 0.29427 -0.18125 0.29826 -0.1794 C 0.30798 -0.17986 0.3177 -0.17986 0.32743 -0.18079 C 0.32968 -0.18102 0.33281 -0.18403 0.33472 -0.18496 C 0.34323 -0.18866 0.35191 -0.19051 0.36076 -0.1919 C 0.36458 -0.19398 0.36961 -0.19491 0.37326 -0.19746 C 0.3776 -0.2007 0.38125 -0.2044 0.38576 -0.20718 C 0.39149 -0.21065 0.39861 -0.21435 0.40451 -0.2169 C 0.40902 -0.21898 0.4125 -0.22593 0.41701 -0.22801 C 0.42118 -0.22986 0.42326 -0.23218 0.42639 -0.23634 C 0.42864 -0.24514 0.43628 -0.25093 0.44097 -0.25718 C 0.44461 -0.26204 0.44184 -0.26019 0.44409 -0.26551 C 0.45017 -0.27986 0.44878 -0.27732 0.45451 -0.28496 C 0.45607 -0.3088 0.46354 -0.32246 0.47326 -0.3419 C 0.47031 -0.35347 0.4684 -0.3544 0.47222 -0.36968 C 0.47257 -0.37523 0.47257 -0.38079 0.47326 -0.38634 C 0.47361 -0.38912 0.47534 -0.39468 0.47534 -0.39468 C 0.47604 -0.41296 0.47639 -0.43935 0.48472 -0.45579 C 0.4842 -0.46134 0.48264 -0.4669 0.48264 -0.47246 C 0.48264 -0.47917 0.48454 -0.48542 0.48576 -0.4919 C 0.48611 -0.50394 0.48628 -0.51597 0.4868 -0.52801 C 0.48715 -0.53681 0.49062 -0.53773 0.4868 -0.54884 C 0.48628 -0.5507 0.48402 -0.54977 0.48264 -0.55023 C 0.48055 -0.54977 0.47829 -0.55023 0.47639 -0.54884 C 0.471 -0.54491 0.46961 -0.53218 0.46701 -0.52523 C 0.46666 -0.52292 0.46666 -0.5206 0.46597 -0.51829 C 0.46545 -0.51667 0.46423 -0.51574 0.46389 -0.51412 C 0.46284 -0.50972 0.46319 -0.50463 0.4618 -0.50023 C 0.45468 -0.47639 0.44739 -0.45324 0.43368 -0.43496 C 0.42621 -0.425 0.42014 -0.41366 0.40972 -0.40857 C 0.40607 -0.40671 0.39305 -0.40602 0.39201 -0.40579 C 0.37066 -0.40671 0.35607 -0.40695 0.3368 -0.41273 C 0.33142 -0.41435 0.32413 -0.41574 0.32014 -0.42107 E">
                                      <p:cBhvr>
                                        <p:cTn id="144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5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5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03704E-006 C 0.00243 -0.00973 -0.00069 -0.022 0.00694 -0.02778 C 0.00868 -0.02894 0.01076 -0.02871 0.0125 -0.02964 C 0.01441 -0.03056 0.01632 -0.03195 0.01806 -0.03334 C 0.02569 -0.03936 0.02795 -0.04329 0.03333 -0.05186 C 0.03663 -0.05695 0.04028 -0.0595 0.04028 -0.06667 E">
                                      <p:cBhvr>
                                        <p:cTn id="167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C 0.00573 -0.0037 0.00903 -0.00486 0.01111 -0.01296 C 0.01059 -0.01736 0.01163 -0.02245 0.00972 -0.02593 C -0.00052 -0.04421 -0.03368 -0.04282 -0.04583 -0.04444 C -0.04948 -0.05162 -0.05139 -0.05995 -0.05139 -0.06852 E">
                                      <p:cBhvr>
                                        <p:cTn id="169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7 L 0.69358 0.0007 E">
                                      <p:cBhvr>
                                        <p:cTn id="177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5"/>
          <p:cNvSpPr/>
          <p:nvPr/>
        </p:nvSpPr>
        <p:spPr>
          <a:xfrm>
            <a:off x="3492360" y="4762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VAPOR F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347840" y="3849840"/>
            <a:ext cx="431640" cy="630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47680" y="6283440"/>
            <a:ext cx="2519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 rot="10800000">
            <a:off x="696960" y="4338720"/>
            <a:ext cx="1728720" cy="1931760"/>
          </a:xfrm>
          <a:custGeom>
            <a:avLst/>
            <a:gdLst>
              <a:gd name="textAreaLeft" fmla="*/ 456840 w 1728720"/>
              <a:gd name="textAreaRight" fmla="*/ 1271880 w 1728720"/>
              <a:gd name="textAreaTop" fmla="*/ 510480 h 1931760"/>
              <a:gd name="textAreaBottom" fmla="*/ 1421280 h 193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818" y="21600"/>
                </a:lnTo>
                <a:lnTo>
                  <a:pt x="1378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1330200" y="6176880"/>
            <a:ext cx="43200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 rot="16200000">
            <a:off x="4649760" y="-393480"/>
            <a:ext cx="2147760" cy="5904000"/>
          </a:xfrm>
          <a:prstGeom prst="can">
            <a:avLst>
              <a:gd name="adj" fmla="val 781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1"/>
          <p:cNvSpPr/>
          <p:nvPr/>
        </p:nvSpPr>
        <p:spPr>
          <a:xfrm>
            <a:off x="5651640" y="1557360"/>
            <a:ext cx="287280" cy="287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2"/>
          <p:cNvSpPr/>
          <p:nvPr/>
        </p:nvSpPr>
        <p:spPr>
          <a:xfrm>
            <a:off x="1768320" y="1773360"/>
            <a:ext cx="4027680" cy="2651040"/>
          </a:xfrm>
          <a:custGeom>
            <a:avLst/>
            <a:gdLst/>
            <a:ahLst/>
            <a:rect l="l" t="t" r="r" b="b"/>
            <a:pathLst>
              <a:path w="2812" h="854">
                <a:moveTo>
                  <a:pt x="0" y="771"/>
                </a:moveTo>
                <a:cubicBezTo>
                  <a:pt x="899" y="812"/>
                  <a:pt x="1799" y="854"/>
                  <a:pt x="2268" y="726"/>
                </a:cubicBezTo>
                <a:cubicBezTo>
                  <a:pt x="2737" y="598"/>
                  <a:pt x="2774" y="299"/>
                  <a:pt x="2812" y="0"/>
                </a:cubicBezTo>
              </a:path>
            </a:pathLst>
          </a:cu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"/>
          <p:cNvSpPr/>
          <p:nvPr/>
        </p:nvSpPr>
        <p:spPr>
          <a:xfrm>
            <a:off x="1258920" y="5445000"/>
            <a:ext cx="144360" cy="14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4"/>
          <p:cNvSpPr/>
          <p:nvPr/>
        </p:nvSpPr>
        <p:spPr>
          <a:xfrm>
            <a:off x="1692360" y="4797360"/>
            <a:ext cx="14436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538280" y="3203640"/>
            <a:ext cx="0" cy="25207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6"/>
          <p:cNvSpPr/>
          <p:nvPr/>
        </p:nvSpPr>
        <p:spPr>
          <a:xfrm rot="10800000">
            <a:off x="1390680" y="2924280"/>
            <a:ext cx="288720" cy="28872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1390680" y="2133720"/>
            <a:ext cx="287280" cy="7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1393920" y="2492280"/>
            <a:ext cx="276120" cy="43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9"/>
          <p:cNvGrpSpPr/>
          <p:nvPr/>
        </p:nvGrpSpPr>
        <p:grpSpPr>
          <a:xfrm>
            <a:off x="1368360" y="1622520"/>
            <a:ext cx="360360" cy="864720"/>
            <a:chOff x="1368360" y="1622520"/>
            <a:chExt cx="360360" cy="864720"/>
          </a:xfrm>
        </p:grpSpPr>
        <p:sp>
          <p:nvSpPr>
            <p:cNvPr id="219" name="Line 20"/>
            <p:cNvSpPr/>
            <p:nvPr/>
          </p:nvSpPr>
          <p:spPr>
            <a:xfrm>
              <a:off x="1368360" y="1622520"/>
              <a:ext cx="360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>
              <a:off x="1547640" y="1622520"/>
              <a:ext cx="0" cy="718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2"/>
            <p:cNvSpPr/>
            <p:nvPr/>
          </p:nvSpPr>
          <p:spPr>
            <a:xfrm>
              <a:off x="1393920" y="2343240"/>
              <a:ext cx="288720" cy="14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23"/>
          <p:cNvSpPr/>
          <p:nvPr/>
        </p:nvSpPr>
        <p:spPr>
          <a:xfrm>
            <a:off x="990720" y="5715000"/>
            <a:ext cx="1047600" cy="487440"/>
          </a:xfrm>
          <a:custGeom>
            <a:avLst/>
            <a:gdLst/>
            <a:ahLst/>
            <a:rect l="l" t="t" r="r" b="b"/>
            <a:pathLst>
              <a:path w="660" h="307">
                <a:moveTo>
                  <a:pt x="342" y="0"/>
                </a:moveTo>
                <a:cubicBezTo>
                  <a:pt x="340" y="6"/>
                  <a:pt x="330" y="46"/>
                  <a:pt x="318" y="54"/>
                </a:cubicBezTo>
                <a:cubicBezTo>
                  <a:pt x="292" y="70"/>
                  <a:pt x="253" y="67"/>
                  <a:pt x="228" y="84"/>
                </a:cubicBezTo>
                <a:cubicBezTo>
                  <a:pt x="216" y="92"/>
                  <a:pt x="204" y="100"/>
                  <a:pt x="192" y="108"/>
                </a:cubicBezTo>
                <a:cubicBezTo>
                  <a:pt x="186" y="112"/>
                  <a:pt x="174" y="120"/>
                  <a:pt x="174" y="120"/>
                </a:cubicBezTo>
                <a:cubicBezTo>
                  <a:pt x="155" y="149"/>
                  <a:pt x="164" y="131"/>
                  <a:pt x="150" y="174"/>
                </a:cubicBezTo>
                <a:cubicBezTo>
                  <a:pt x="148" y="181"/>
                  <a:pt x="138" y="181"/>
                  <a:pt x="132" y="186"/>
                </a:cubicBezTo>
                <a:cubicBezTo>
                  <a:pt x="114" y="201"/>
                  <a:pt x="112" y="211"/>
                  <a:pt x="90" y="222"/>
                </a:cubicBezTo>
                <a:cubicBezTo>
                  <a:pt x="69" y="233"/>
                  <a:pt x="51" y="232"/>
                  <a:pt x="30" y="246"/>
                </a:cubicBezTo>
                <a:cubicBezTo>
                  <a:pt x="15" y="276"/>
                  <a:pt x="0" y="280"/>
                  <a:pt x="30" y="300"/>
                </a:cubicBezTo>
                <a:cubicBezTo>
                  <a:pt x="55" y="283"/>
                  <a:pt x="83" y="275"/>
                  <a:pt x="108" y="258"/>
                </a:cubicBezTo>
                <a:cubicBezTo>
                  <a:pt x="180" y="263"/>
                  <a:pt x="245" y="271"/>
                  <a:pt x="318" y="258"/>
                </a:cubicBezTo>
                <a:cubicBezTo>
                  <a:pt x="334" y="255"/>
                  <a:pt x="344" y="238"/>
                  <a:pt x="360" y="234"/>
                </a:cubicBezTo>
                <a:cubicBezTo>
                  <a:pt x="418" y="246"/>
                  <a:pt x="363" y="230"/>
                  <a:pt x="420" y="264"/>
                </a:cubicBezTo>
                <a:cubicBezTo>
                  <a:pt x="455" y="285"/>
                  <a:pt x="495" y="284"/>
                  <a:pt x="534" y="288"/>
                </a:cubicBezTo>
                <a:cubicBezTo>
                  <a:pt x="568" y="305"/>
                  <a:pt x="572" y="307"/>
                  <a:pt x="612" y="300"/>
                </a:cubicBezTo>
                <a:cubicBezTo>
                  <a:pt x="660" y="252"/>
                  <a:pt x="628" y="237"/>
                  <a:pt x="576" y="222"/>
                </a:cubicBezTo>
                <a:cubicBezTo>
                  <a:pt x="545" y="213"/>
                  <a:pt x="511" y="202"/>
                  <a:pt x="480" y="192"/>
                </a:cubicBezTo>
                <a:cubicBezTo>
                  <a:pt x="452" y="164"/>
                  <a:pt x="423" y="140"/>
                  <a:pt x="390" y="120"/>
                </a:cubicBezTo>
                <a:cubicBezTo>
                  <a:pt x="388" y="102"/>
                  <a:pt x="390" y="83"/>
                  <a:pt x="384" y="66"/>
                </a:cubicBezTo>
                <a:cubicBezTo>
                  <a:pt x="382" y="59"/>
                  <a:pt x="371" y="59"/>
                  <a:pt x="366" y="54"/>
                </a:cubicBezTo>
                <a:cubicBezTo>
                  <a:pt x="352" y="40"/>
                  <a:pt x="348" y="18"/>
                  <a:pt x="342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6300720" y="9810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Tubo de cuar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5796000" y="2421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tomos de 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611280" y="2565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nCl</a:t>
            </a: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27"/>
          <p:cNvSpPr/>
          <p:nvPr/>
        </p:nvSpPr>
        <p:spPr>
          <a:xfrm rot="375600">
            <a:off x="1949040" y="2408400"/>
            <a:ext cx="941400" cy="28728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8"/>
          <p:cNvSpPr/>
          <p:nvPr/>
        </p:nvSpPr>
        <p:spPr>
          <a:xfrm>
            <a:off x="683100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-8.33333E-007 0.02083 E">
                                      <p:cBhvr>
                                        <p:cTn id="183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48148E-006 C 0.0014 -0.00555 0.00226 -0.01088 0.00313 -0.01666 C 0.00278 -0.02222 0.00296 -0.02778 0.00209 -0.03333 C 0.00157 -0.03703 -0.0019 -0.04236 -0.00312 -0.04583 C -0.00572 -0.05254 -0.00833 -0.06018 -0.01145 -0.06666 C -0.0118 -0.06898 -0.01215 -0.07129 -0.01249 -0.07361 C -0.01319 -0.07731 -0.01458 -0.08472 -0.01458 -0.08472 C -0.01353 -0.09514 -0.01284 -0.0993 -0.0052 -0.10278 C 0.01841 -0.10162 0.04046 -0.09815 0.06355 -0.09583 C 0.07032 -0.09282 0.07744 -0.09352 0.08438 -0.09166 C 0.11164 -0.08449 0.14983 -0.08565 0.17709 -0.08472 C 0.22362 -0.06921 0.25383 -0.08495 0.29376 -0.09166 C 0.30001 -0.09722 0.30296 -0.09629 0.31147 -0.09722 C 0.32518 -0.10324 0.33785 -0.11528 0.35209 -0.11805 C 0.35435 -0.12014 0.35591 -0.12315 0.35834 -0.125 C 0.36025 -0.12639 0.36459 -0.12778 0.36459 -0.12778 C 0.37049 -0.13981 0.36268 -0.12569 0.3698 -0.13333 C 0.37084 -0.13449 0.37101 -0.13611 0.37188 -0.1375 C 0.37275 -0.13912 0.37379 -0.14051 0.37501 -0.14166 C 0.37692 -0.14328 0.37935 -0.14421 0.38126 -0.14583 C 0.38386 -0.15625 0.38004 -0.14375 0.38542 -0.15278 C 0.39115 -0.16227 0.38056 -0.15185 0.38959 -0.15972 C 0.39324 -0.16713 0.39584 -0.17523 0.40001 -0.18194 C 0.40261 -0.18634 0.40834 -0.19444 0.40834 -0.19444 C 0.41008 -0.20602 0.4106 -0.21782 0.41563 -0.22778 C 0.41685 -0.23449 0.41928 -0.23935 0.42084 -0.24583 C 0.42188 -0.25717 0.42535 -0.26805 0.42813 -0.27916 C 0.42848 -0.2912 0.42622 -0.31713 0.43647 -0.32639 C 0.43247 -0.34213 0.43525 -0.36597 0.44063 -0.38055 C 0.44098 -0.39768 0.44115 -0.41481 0.44167 -0.43194 C 0.44202 -0.44514 0.43976 -0.46296 0.45105 -0.46805 C 0.46337 -0.46389 0.46667 -0.43449 0.47501 -0.42222 C 0.47692 -0.41921 0.47865 -0.41574 0.48126 -0.41389 C 0.48403 -0.41203 0.48733 -0.41134 0.48959 -0.40833 C 0.50087 -0.39328 0.51442 -0.38241 0.52917 -0.375 C 0.53629 -0.37153 0.54254 -0.36643 0.55001 -0.36389 C 0.554 -0.35856 0.56025 -0.35509 0.56563 -0.35278 C 0.58039 -0.35555 0.5948 -0.34907 0.60938 -0.34722 C 0.61962 -0.34259 0.62952 -0.34166 0.64063 -0.34166 E">
                                      <p:cBhvr>
                                        <p:cTn id="197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0023 C 0.00347 -0.0044 0.00607 -0.00533 0.00972 -0.00857 C 0.01198 -0.01296 0.01371 -0.01736 0.01493 -0.02246 C 0.01423 -0.03634 0.01527 -0.0463 0.00972 -0.05741 C 0.00607 -0.07639 0.00711 -0.07176 0.00868 -0.1044 C 0.00902 -0.11181 0.00972 -0.1081 0.0118 -0.11412 C 0.01267 -0.1169 0.01389 -0.12246 0.01389 -0.12246 C 0.01632 -0.14884 0.01389 -0.11759 0.01389 -0.1669 C 0.01389 -0.17477 0.01232 -0.18426 0.01597 -0.19051 C 0.01927 -0.19607 0.02708 -0.19607 0.03159 -0.20023 C 0.03993 -0.19977 0.04826 -0.19977 0.05659 -0.19884 C 0.0618 -0.19838 0.06649 -0.19213 0.07222 -0.1919 C 0.08819 -0.19097 0.10416 -0.19097 0.12014 -0.19051 C 0.13177 -0.18009 0.14218 -0.18565 0.15868 -0.18496 C 0.17274 -0.1838 0.17066 -0.18449 0.18055 -0.18218 C 0.18437 -0.18125 0.19201 -0.17801 0.19201 -0.17801 C 0.21007 -0.17917 0.23055 -0.18241 0.24826 -0.17662 C 0.26423 -0.17755 0.27048 -0.17778 0.28368 -0.18079 C 0.28819 -0.18009 0.29427 -0.18125 0.29826 -0.1794 C 0.30798 -0.17986 0.3177 -0.17986 0.32743 -0.18079 C 0.32968 -0.18102 0.33281 -0.18403 0.33472 -0.18496 C 0.34323 -0.18866 0.35191 -0.19051 0.36076 -0.1919 C 0.36458 -0.19398 0.36961 -0.19491 0.37326 -0.19746 C 0.3776 -0.2007 0.38125 -0.2044 0.38576 -0.20718 C 0.39149 -0.21065 0.39861 -0.21435 0.40451 -0.2169 C 0.40902 -0.21898 0.4125 -0.22593 0.41701 -0.22801 C 0.42118 -0.22986 0.42326 -0.23218 0.42639 -0.23634 C 0.42864 -0.24514 0.43628 -0.25093 0.44097 -0.25718 C 0.44461 -0.26204 0.44184 -0.26019 0.44409 -0.26551 C 0.45017 -0.27986 0.44878 -0.27732 0.45451 -0.28496 C 0.45607 -0.3088 0.46354 -0.32246 0.47326 -0.3419 C 0.47031 -0.35347 0.4684 -0.3544 0.47222 -0.36968 C 0.47257 -0.37523 0.47257 -0.38079 0.47326 -0.38634 C 0.47361 -0.38912 0.47534 -0.39468 0.47534 -0.39468 C 0.47604 -0.41296 0.47639 -0.43935 0.48472 -0.45579 C 0.4842 -0.46134 0.48264 -0.4669 0.48264 -0.47246 C 0.48264 -0.47917 0.48454 -0.48542 0.48576 -0.4919 C 0.48611 -0.50394 0.48628 -0.51597 0.4868 -0.52801 C 0.48715 -0.53681 0.49062 -0.53773 0.4868 -0.54884 C 0.48628 -0.5507 0.48402 -0.54977 0.48264 -0.55023 C 0.48055 -0.54977 0.47829 -0.55023 0.47639 -0.54884 C 0.471 -0.54491 0.46961 -0.53218 0.46701 -0.52523 C 0.46666 -0.52292 0.46666 -0.5206 0.46597 -0.51829 C 0.46545 -0.51667 0.46423 -0.51574 0.46389 -0.51412 C 0.46284 -0.50972 0.46319 -0.50463 0.4618 -0.50023 C 0.45468 -0.47639 0.44739 -0.45324 0.43368 -0.43496 C 0.42621 -0.425 0.42014 -0.41366 0.40972 -0.40857 C 0.40607 -0.40671 0.39305 -0.40602 0.39201 -0.40579 C 0.37066 -0.40671 0.35607 -0.40695 0.3368 -0.41273 C 0.33142 -0.41435 0.32413 -0.41574 0.32014 -0.42107 E">
                                      <p:cBhvr>
                                        <p:cTn id="199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7 L 0.69358 0.0007 E">
                                      <p:cBhvr>
                                        <p:cTn id="21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4"/>
          <p:cNvSpPr/>
          <p:nvPr/>
        </p:nvSpPr>
        <p:spPr>
          <a:xfrm>
            <a:off x="3708360" y="3668760"/>
            <a:ext cx="1800360" cy="0"/>
          </a:xfrm>
          <a:prstGeom prst="line">
            <a:avLst/>
          </a:prstGeom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468360" y="2997360"/>
            <a:ext cx="630360" cy="287280"/>
            <a:chOff x="468360" y="2997360"/>
            <a:chExt cx="630360" cy="287280"/>
          </a:xfrm>
        </p:grpSpPr>
        <p:sp>
          <p:nvSpPr>
            <p:cNvPr id="230" name="Oval 6"/>
            <p:cNvSpPr/>
            <p:nvPr/>
          </p:nvSpPr>
          <p:spPr>
            <a:xfrm>
              <a:off x="809640" y="2997360"/>
              <a:ext cx="289080" cy="2872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766800" y="3078360"/>
              <a:ext cx="214560" cy="129960"/>
            </a:xfrm>
            <a:custGeom>
              <a:avLst/>
              <a:gdLst/>
              <a:ahLst/>
              <a:rect l="l" t="t" r="r" b="b"/>
              <a:pathLst>
                <a:path w="143" h="119">
                  <a:moveTo>
                    <a:pt x="3" y="44"/>
                  </a:moveTo>
                  <a:cubicBezTo>
                    <a:pt x="22" y="13"/>
                    <a:pt x="77" y="62"/>
                    <a:pt x="95" y="27"/>
                  </a:cubicBezTo>
                  <a:cubicBezTo>
                    <a:pt x="96" y="9"/>
                    <a:pt x="96" y="9"/>
                    <a:pt x="108" y="0"/>
                  </a:cubicBezTo>
                  <a:cubicBezTo>
                    <a:pt x="114" y="1"/>
                    <a:pt x="120" y="0"/>
                    <a:pt x="126" y="2"/>
                  </a:cubicBezTo>
                  <a:cubicBezTo>
                    <a:pt x="134" y="5"/>
                    <a:pt x="110" y="9"/>
                    <a:pt x="128" y="5"/>
                  </a:cubicBezTo>
                  <a:cubicBezTo>
                    <a:pt x="139" y="10"/>
                    <a:pt x="132" y="16"/>
                    <a:pt x="123" y="18"/>
                  </a:cubicBezTo>
                  <a:cubicBezTo>
                    <a:pt x="127" y="10"/>
                    <a:pt x="128" y="18"/>
                    <a:pt x="131" y="23"/>
                  </a:cubicBezTo>
                  <a:cubicBezTo>
                    <a:pt x="127" y="28"/>
                    <a:pt x="127" y="32"/>
                    <a:pt x="120" y="33"/>
                  </a:cubicBezTo>
                  <a:cubicBezTo>
                    <a:pt x="125" y="26"/>
                    <a:pt x="131" y="29"/>
                    <a:pt x="137" y="33"/>
                  </a:cubicBezTo>
                  <a:cubicBezTo>
                    <a:pt x="138" y="40"/>
                    <a:pt x="140" y="43"/>
                    <a:pt x="132" y="45"/>
                  </a:cubicBezTo>
                  <a:cubicBezTo>
                    <a:pt x="135" y="36"/>
                    <a:pt x="138" y="39"/>
                    <a:pt x="143" y="45"/>
                  </a:cubicBezTo>
                  <a:cubicBezTo>
                    <a:pt x="141" y="52"/>
                    <a:pt x="140" y="55"/>
                    <a:pt x="132" y="57"/>
                  </a:cubicBezTo>
                  <a:cubicBezTo>
                    <a:pt x="120" y="55"/>
                    <a:pt x="130" y="54"/>
                    <a:pt x="135" y="51"/>
                  </a:cubicBezTo>
                  <a:cubicBezTo>
                    <a:pt x="139" y="58"/>
                    <a:pt x="141" y="65"/>
                    <a:pt x="132" y="68"/>
                  </a:cubicBezTo>
                  <a:cubicBezTo>
                    <a:pt x="130" y="57"/>
                    <a:pt x="137" y="65"/>
                    <a:pt x="140" y="69"/>
                  </a:cubicBezTo>
                  <a:cubicBezTo>
                    <a:pt x="141" y="77"/>
                    <a:pt x="142" y="79"/>
                    <a:pt x="135" y="83"/>
                  </a:cubicBezTo>
                  <a:cubicBezTo>
                    <a:pt x="122" y="79"/>
                    <a:pt x="130" y="84"/>
                    <a:pt x="134" y="90"/>
                  </a:cubicBezTo>
                  <a:cubicBezTo>
                    <a:pt x="134" y="91"/>
                    <a:pt x="130" y="109"/>
                    <a:pt x="125" y="98"/>
                  </a:cubicBezTo>
                  <a:cubicBezTo>
                    <a:pt x="124" y="96"/>
                    <a:pt x="127" y="94"/>
                    <a:pt x="128" y="92"/>
                  </a:cubicBezTo>
                  <a:cubicBezTo>
                    <a:pt x="129" y="91"/>
                    <a:pt x="131" y="91"/>
                    <a:pt x="132" y="90"/>
                  </a:cubicBezTo>
                  <a:cubicBezTo>
                    <a:pt x="142" y="96"/>
                    <a:pt x="139" y="106"/>
                    <a:pt x="129" y="110"/>
                  </a:cubicBezTo>
                  <a:cubicBezTo>
                    <a:pt x="120" y="108"/>
                    <a:pt x="115" y="108"/>
                    <a:pt x="119" y="99"/>
                  </a:cubicBezTo>
                  <a:cubicBezTo>
                    <a:pt x="128" y="104"/>
                    <a:pt x="125" y="111"/>
                    <a:pt x="120" y="119"/>
                  </a:cubicBezTo>
                  <a:cubicBezTo>
                    <a:pt x="112" y="117"/>
                    <a:pt x="110" y="109"/>
                    <a:pt x="119" y="113"/>
                  </a:cubicBezTo>
                  <a:cubicBezTo>
                    <a:pt x="112" y="117"/>
                    <a:pt x="110" y="116"/>
                    <a:pt x="105" y="110"/>
                  </a:cubicBezTo>
                  <a:cubicBezTo>
                    <a:pt x="100" y="87"/>
                    <a:pt x="101" y="81"/>
                    <a:pt x="77" y="77"/>
                  </a:cubicBezTo>
                  <a:cubicBezTo>
                    <a:pt x="53" y="67"/>
                    <a:pt x="26" y="71"/>
                    <a:pt x="0" y="71"/>
                  </a:cubicBez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468360" y="3068640"/>
              <a:ext cx="360360" cy="144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Line 9"/>
          <p:cNvSpPr/>
          <p:nvPr/>
        </p:nvSpPr>
        <p:spPr>
          <a:xfrm>
            <a:off x="1332000" y="3668760"/>
            <a:ext cx="23032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250920" y="2492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Lámpara de 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7236000" y="30924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979640" y="3235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es-ES" sz="1200" spc="-1" strike="noStrike">
                <a:solidFill>
                  <a:srgbClr val="ffff00"/>
                </a:solidFill>
                <a:latin typeface="Tahoma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5580000" y="3308400"/>
            <a:ext cx="1079640" cy="7189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5580000" y="35956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6659640" y="35956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5092560" y="289260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Monocrom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/>
          <p:cNvSpPr/>
          <p:nvPr/>
        </p:nvSpPr>
        <p:spPr>
          <a:xfrm rot="10800000">
            <a:off x="8316720" y="3019320"/>
            <a:ext cx="50292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2556000" y="40273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tomiz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9"/>
          <p:cNvSpPr/>
          <p:nvPr/>
        </p:nvSpPr>
        <p:spPr>
          <a:xfrm rot="16200000">
            <a:off x="2952720" y="3119040"/>
            <a:ext cx="576360" cy="1081080"/>
          </a:xfrm>
          <a:prstGeom prst="can">
            <a:avLst>
              <a:gd name="adj" fmla="val 781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0"/>
          <p:cNvSpPr/>
          <p:nvPr/>
        </p:nvSpPr>
        <p:spPr>
          <a:xfrm>
            <a:off x="3230640" y="3379680"/>
            <a:ext cx="10800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1"/>
          <p:cNvGrpSpPr/>
          <p:nvPr/>
        </p:nvGrpSpPr>
        <p:grpSpPr>
          <a:xfrm>
            <a:off x="407880" y="3549600"/>
            <a:ext cx="900360" cy="618840"/>
            <a:chOff x="407880" y="3549600"/>
            <a:chExt cx="900360" cy="618840"/>
          </a:xfrm>
        </p:grpSpPr>
        <p:sp>
          <p:nvSpPr>
            <p:cNvPr id="246" name="Rectangle 22"/>
            <p:cNvSpPr/>
            <p:nvPr/>
          </p:nvSpPr>
          <p:spPr>
            <a:xfrm>
              <a:off x="408600" y="3756960"/>
              <a:ext cx="83520" cy="12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3"/>
            <p:cNvSpPr/>
            <p:nvPr/>
          </p:nvSpPr>
          <p:spPr>
            <a:xfrm>
              <a:off x="408600" y="3676680"/>
              <a:ext cx="83520" cy="12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4"/>
            <p:cNvSpPr/>
            <p:nvPr/>
          </p:nvSpPr>
          <p:spPr>
            <a:xfrm>
              <a:off x="407880" y="3597480"/>
              <a:ext cx="83520" cy="12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5"/>
            <p:cNvSpPr/>
            <p:nvPr/>
          </p:nvSpPr>
          <p:spPr>
            <a:xfrm>
              <a:off x="532800" y="3557880"/>
              <a:ext cx="53172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6"/>
            <p:cNvSpPr/>
            <p:nvPr/>
          </p:nvSpPr>
          <p:spPr>
            <a:xfrm>
              <a:off x="1045440" y="3614760"/>
              <a:ext cx="262800" cy="10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532800" y="3624480"/>
              <a:ext cx="43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28"/>
            <p:cNvGrpSpPr/>
            <p:nvPr/>
          </p:nvGrpSpPr>
          <p:grpSpPr>
            <a:xfrm>
              <a:off x="945000" y="3621240"/>
              <a:ext cx="38880" cy="85320"/>
              <a:chOff x="945000" y="3621240"/>
              <a:chExt cx="38880" cy="85320"/>
            </a:xfrm>
          </p:grpSpPr>
          <p:sp>
            <p:nvSpPr>
              <p:cNvPr id="253" name="AutoShape 29"/>
              <p:cNvSpPr/>
              <p:nvPr/>
            </p:nvSpPr>
            <p:spPr>
              <a:xfrm>
                <a:off x="945360" y="3622320"/>
                <a:ext cx="38520" cy="842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84240"/>
                  <a:gd name="textAreaBottom" fmla="*/ 29880 h 8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30"/>
              <p:cNvSpPr/>
              <p:nvPr/>
            </p:nvSpPr>
            <p:spPr>
              <a:xfrm rot="10800000">
                <a:off x="945000" y="3621240"/>
                <a:ext cx="38520" cy="842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84240"/>
                  <a:gd name="textAreaBottom" fmla="*/ 29880 h 8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31"/>
            <p:cNvGrpSpPr/>
            <p:nvPr/>
          </p:nvGrpSpPr>
          <p:grpSpPr>
            <a:xfrm>
              <a:off x="772560" y="3630960"/>
              <a:ext cx="189720" cy="281160"/>
              <a:chOff x="772560" y="3630960"/>
              <a:chExt cx="189720" cy="281160"/>
            </a:xfrm>
          </p:grpSpPr>
          <p:sp>
            <p:nvSpPr>
              <p:cNvPr id="256" name="Text Box 32"/>
              <p:cNvSpPr/>
              <p:nvPr/>
            </p:nvSpPr>
            <p:spPr>
              <a:xfrm>
                <a:off x="772560" y="3635640"/>
                <a:ext cx="18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3"/>
              <p:cNvSpPr/>
              <p:nvPr/>
            </p:nvSpPr>
            <p:spPr>
              <a:xfrm>
                <a:off x="778680" y="3630960"/>
                <a:ext cx="18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34"/>
            <p:cNvGrpSpPr/>
            <p:nvPr/>
          </p:nvGrpSpPr>
          <p:grpSpPr>
            <a:xfrm>
              <a:off x="775080" y="3646800"/>
              <a:ext cx="182520" cy="521640"/>
              <a:chOff x="775080" y="3646800"/>
              <a:chExt cx="182520" cy="521640"/>
            </a:xfrm>
          </p:grpSpPr>
          <p:sp>
            <p:nvSpPr>
              <p:cNvPr id="259" name="Oval 35"/>
              <p:cNvSpPr/>
              <p:nvPr/>
            </p:nvSpPr>
            <p:spPr>
              <a:xfrm>
                <a:off x="851760" y="3646800"/>
                <a:ext cx="30960" cy="273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36"/>
              <p:cNvSpPr/>
              <p:nvPr/>
            </p:nvSpPr>
            <p:spPr>
              <a:xfrm>
                <a:off x="775080" y="3648240"/>
                <a:ext cx="182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37"/>
            <p:cNvSpPr/>
            <p:nvPr/>
          </p:nvSpPr>
          <p:spPr>
            <a:xfrm>
              <a:off x="790920" y="3636360"/>
              <a:ext cx="18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38"/>
            <p:cNvSpPr/>
            <p:nvPr/>
          </p:nvSpPr>
          <p:spPr>
            <a:xfrm>
              <a:off x="707400" y="3643200"/>
              <a:ext cx="56880" cy="49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9"/>
            <p:cNvSpPr/>
            <p:nvPr/>
          </p:nvSpPr>
          <p:spPr>
            <a:xfrm>
              <a:off x="641160" y="3654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Tahoma"/>
                </a:rPr>
                <a:t>P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40"/>
            <p:cNvSpPr/>
            <p:nvPr/>
          </p:nvSpPr>
          <p:spPr>
            <a:xfrm>
              <a:off x="846000" y="3656520"/>
              <a:ext cx="21960" cy="19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41"/>
            <p:cNvSpPr/>
            <p:nvPr/>
          </p:nvSpPr>
          <p:spPr>
            <a:xfrm>
              <a:off x="777960" y="3619080"/>
              <a:ext cx="18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00" spc="-1" strike="noStrike">
                  <a:solidFill>
                    <a:srgbClr val="ff0000"/>
                  </a:solidFill>
                  <a:latin typeface="Tahoma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42"/>
            <p:cNvSpPr/>
            <p:nvPr/>
          </p:nvSpPr>
          <p:spPr>
            <a:xfrm rot="416400">
              <a:off x="865800" y="3647160"/>
              <a:ext cx="46800" cy="6120"/>
            </a:xfrm>
            <a:custGeom>
              <a:avLst/>
              <a:gdLst/>
              <a:ahLst/>
              <a:rect l="l" t="t" r="r" b="b"/>
              <a:pathLst>
                <a:path w="817" h="136">
                  <a:moveTo>
                    <a:pt x="0" y="136"/>
                  </a:moveTo>
                  <a:cubicBezTo>
                    <a:pt x="64" y="91"/>
                    <a:pt x="129" y="46"/>
                    <a:pt x="182" y="46"/>
                  </a:cubicBezTo>
                  <a:cubicBezTo>
                    <a:pt x="235" y="46"/>
                    <a:pt x="273" y="136"/>
                    <a:pt x="318" y="136"/>
                  </a:cubicBezTo>
                  <a:cubicBezTo>
                    <a:pt x="363" y="136"/>
                    <a:pt x="409" y="46"/>
                    <a:pt x="454" y="46"/>
                  </a:cubicBezTo>
                  <a:cubicBezTo>
                    <a:pt x="499" y="46"/>
                    <a:pt x="552" y="136"/>
                    <a:pt x="590" y="136"/>
                  </a:cubicBezTo>
                  <a:cubicBezTo>
                    <a:pt x="628" y="136"/>
                    <a:pt x="642" y="69"/>
                    <a:pt x="680" y="46"/>
                  </a:cubicBezTo>
                  <a:cubicBezTo>
                    <a:pt x="718" y="23"/>
                    <a:pt x="767" y="11"/>
                    <a:pt x="817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3"/>
            <p:cNvSpPr/>
            <p:nvPr/>
          </p:nvSpPr>
          <p:spPr>
            <a:xfrm>
              <a:off x="531720" y="3634200"/>
              <a:ext cx="235080" cy="65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4"/>
            <p:cNvSpPr/>
            <p:nvPr/>
          </p:nvSpPr>
          <p:spPr>
            <a:xfrm>
              <a:off x="471960" y="3549600"/>
              <a:ext cx="60480" cy="276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Line 45"/>
          <p:cNvSpPr/>
          <p:nvPr/>
        </p:nvSpPr>
        <p:spPr>
          <a:xfrm>
            <a:off x="5724360" y="3668760"/>
            <a:ext cx="2808360" cy="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6"/>
          <p:cNvSpPr/>
          <p:nvPr/>
        </p:nvSpPr>
        <p:spPr>
          <a:xfrm>
            <a:off x="7956720" y="410040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Det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7"/>
          <p:cNvSpPr/>
          <p:nvPr/>
        </p:nvSpPr>
        <p:spPr>
          <a:xfrm>
            <a:off x="250920" y="393372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Lámpara de cátodo hu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8"/>
          <p:cNvSpPr/>
          <p:nvPr/>
        </p:nvSpPr>
        <p:spPr>
          <a:xfrm>
            <a:off x="2712960" y="3154320"/>
            <a:ext cx="574920" cy="289080"/>
          </a:xfrm>
          <a:custGeom>
            <a:avLst/>
            <a:gdLst/>
            <a:ahLst/>
            <a:rect l="l" t="t" r="r" b="b"/>
            <a:pathLst>
              <a:path w="2857" h="408">
                <a:moveTo>
                  <a:pt x="0" y="0"/>
                </a:moveTo>
                <a:lnTo>
                  <a:pt x="2812" y="0"/>
                </a:lnTo>
                <a:lnTo>
                  <a:pt x="2857" y="408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9"/>
          <p:cNvSpPr/>
          <p:nvPr/>
        </p:nvSpPr>
        <p:spPr>
          <a:xfrm>
            <a:off x="2484360" y="270828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Entrada de mue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1"/>
          <p:cNvSpPr/>
          <p:nvPr/>
        </p:nvSpPr>
        <p:spPr>
          <a:xfrm>
            <a:off x="2050920" y="47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COMPONENTES BASICOS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2"/>
          <p:cNvSpPr/>
          <p:nvPr/>
        </p:nvSpPr>
        <p:spPr>
          <a:xfrm>
            <a:off x="683100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76320" y="4957920"/>
            <a:ext cx="792000" cy="14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76320" y="4081320"/>
            <a:ext cx="792000" cy="14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3360" y="3213000"/>
            <a:ext cx="792360" cy="14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2411280" y="33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LAMPARA DE CATODO HU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1246320" y="2781360"/>
            <a:ext cx="5040360" cy="2879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6100920" y="3408480"/>
            <a:ext cx="2490480" cy="1150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1246320" y="3516480"/>
            <a:ext cx="4105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2"/>
          <p:cNvGrpSpPr/>
          <p:nvPr/>
        </p:nvGrpSpPr>
        <p:grpSpPr>
          <a:xfrm>
            <a:off x="5155920" y="3474720"/>
            <a:ext cx="360720" cy="936360"/>
            <a:chOff x="5155920" y="3474720"/>
            <a:chExt cx="360720" cy="936360"/>
          </a:xfrm>
        </p:grpSpPr>
        <p:sp>
          <p:nvSpPr>
            <p:cNvPr id="284" name="AutoShape 13"/>
            <p:cNvSpPr/>
            <p:nvPr/>
          </p:nvSpPr>
          <p:spPr>
            <a:xfrm>
              <a:off x="5156280" y="3486960"/>
              <a:ext cx="360360" cy="9241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924120"/>
                <a:gd name="textAreaBottom" fmla="*/ 32976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4"/>
            <p:cNvSpPr/>
            <p:nvPr/>
          </p:nvSpPr>
          <p:spPr>
            <a:xfrm rot="10800000">
              <a:off x="5155920" y="3474720"/>
              <a:ext cx="360360" cy="9241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924120"/>
                <a:gd name="textAreaBottom" fmla="*/ 32976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5"/>
          <p:cNvGrpSpPr/>
          <p:nvPr/>
        </p:nvGrpSpPr>
        <p:grpSpPr>
          <a:xfrm>
            <a:off x="4267080" y="3683160"/>
            <a:ext cx="304560" cy="312840"/>
            <a:chOff x="4267080" y="3683160"/>
            <a:chExt cx="304560" cy="312840"/>
          </a:xfrm>
        </p:grpSpPr>
        <p:sp>
          <p:nvSpPr>
            <p:cNvPr id="287" name="Text Box 16"/>
            <p:cNvSpPr/>
            <p:nvPr/>
          </p:nvSpPr>
          <p:spPr>
            <a:xfrm>
              <a:off x="4267080" y="37195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4335120" y="3683160"/>
              <a:ext cx="23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8"/>
          <p:cNvGrpSpPr/>
          <p:nvPr/>
        </p:nvGrpSpPr>
        <p:grpSpPr>
          <a:xfrm>
            <a:off x="4199040" y="3759120"/>
            <a:ext cx="431640" cy="322920"/>
            <a:chOff x="4199040" y="3759120"/>
            <a:chExt cx="431640" cy="322920"/>
          </a:xfrm>
        </p:grpSpPr>
        <p:sp>
          <p:nvSpPr>
            <p:cNvPr id="290" name="Oval 19"/>
            <p:cNvSpPr/>
            <p:nvPr/>
          </p:nvSpPr>
          <p:spPr>
            <a:xfrm>
              <a:off x="4270320" y="3759120"/>
              <a:ext cx="291600" cy="3002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>
              <a:off x="4199040" y="377496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4389480" y="3716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2"/>
          <p:cNvSpPr/>
          <p:nvPr/>
        </p:nvSpPr>
        <p:spPr>
          <a:xfrm>
            <a:off x="2903400" y="3716280"/>
            <a:ext cx="540000" cy="5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2944800" y="38624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4"/>
          <p:cNvSpPr/>
          <p:nvPr/>
        </p:nvSpPr>
        <p:spPr>
          <a:xfrm>
            <a:off x="4211640" y="3860640"/>
            <a:ext cx="2160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4330800" y="3586320"/>
            <a:ext cx="23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6"/>
          <p:cNvSpPr/>
          <p:nvPr/>
        </p:nvSpPr>
        <p:spPr>
          <a:xfrm rot="416400">
            <a:off x="4404960" y="3760920"/>
            <a:ext cx="441360" cy="7128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1236600" y="3616200"/>
            <a:ext cx="2232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671400" y="2692440"/>
            <a:ext cx="574920" cy="30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9"/>
          <p:cNvSpPr/>
          <p:nvPr/>
        </p:nvSpPr>
        <p:spPr>
          <a:xfrm>
            <a:off x="1332000" y="3789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átodo de Pl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0"/>
          <p:cNvSpPr/>
          <p:nvPr/>
        </p:nvSpPr>
        <p:spPr>
          <a:xfrm>
            <a:off x="4859280" y="3141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n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1"/>
          <p:cNvSpPr/>
          <p:nvPr/>
        </p:nvSpPr>
        <p:spPr>
          <a:xfrm>
            <a:off x="683100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0.08663 -7.40741E-007 E">
                                      <p:cBhvr>
                                        <p:cTn id="228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07 0.00417 -0.01771 0.0051 -0.02864 0.00556 C -0.03524 0.00695 -0.04184 0.00834 -0.04844 0.01042 C -0.05451 0.01575 -0.06684 0.01436 -0.07239 0.01459 C -0.0783 0.01667 -0.08403 0.01922 -0.0901 0.02014 C -0.09271 0.02246 -0.09601 0.02477 -0.09896 0.0257 C -0.09705 0.03079 -0.09028 0.03936 -0.08646 0.04237 C -0.08455 0.04607 -0.08177 0.04815 -0.07917 0.0507 C -0.07326 0.05602 -0.06597 0.06274 -0.06146 0.07014 C -0.05278 0.0845 -0.04826 0.10139 -0.04062 0.11667 C -0.03976 0.12084 -0.03819 0.12477 -0.03646 0.12848 C -0.03576 0.12987 -0.03437 0.13264 -0.03437 0.13264 C -0.03333 0.13797 -0.03073 0.1426 -0.02917 0.14792 C -0.02674 0.15672 -0.02587 0.16852 -0.02187 0.17639 C -0.02083 0.18172 -0.02014 0.18681 -0.01823 0.19167 C -0.01684 0.20649 -0.01771 0.19537 -0.01771 0.225 E">
                                      <p:cBhvr>
                                        <p:cTn id="230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07 0.00417 -0.01771 0.0051 -0.02864 0.00556 C -0.03524 0.00695 -0.04184 0.00834 -0.04844 0.01042 C -0.05451 0.01575 -0.06684 0.01436 -0.07239 0.01459 C -0.0783 0.01667 -0.08403 0.01922 -0.0901 0.02014 C -0.09271 0.02246 -0.09601 0.02477 -0.09896 0.0257 C -0.09705 0.03079 -0.09028 0.03936 -0.08646 0.04237 C -0.08455 0.04607 -0.08177 0.04815 -0.07917 0.0507 C -0.07326 0.05602 -0.06597 0.06274 -0.06146 0.07014 C -0.05278 0.0845 -0.04826 0.10139 -0.04062 0.11667 C -0.03976 0.12084 -0.03819 0.12477 -0.03646 0.12848 C -0.03576 0.12987 -0.03437 0.13264 -0.03437 0.13264 C -0.03333 0.13797 -0.03073 0.1426 -0.02917 0.14792 C -0.02674 0.15672 -0.02587 0.16852 -0.02187 0.17639 C -0.02083 0.18172 -0.02014 0.18681 -0.01823 0.19167 C -0.01684 0.20649 -0.01771 0.19537 -0.01771 0.225 E">
                                      <p:cBhvr>
                                        <p:cTn id="232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0.00139 0.00469 0.00324 0.00729 0.00417 C 0.00937 0.00648 0.01285 0.00718 0.01545 0.00764 C 0.02344 0.01111 0.03212 0.01412 0.04045 0.01458 C 0.0467 0.01597 0.05312 0.01528 0.05937 0.01574 C 0.06823 0.01551 0.07708 0.01667 0.08576 0.01505 C 0.09496 0.01319 0.10399 0.00741 0.11302 0.00532 C 0.1158 0.00324 0.1191 0.00231 0.12222 0.00116 C 0.12396 -0.00023 0.12621 -0.00139 0.12812 -0.00231 E">
                                      <p:cBhvr>
                                        <p:cTn id="234" dur="5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0.00139 0.00469 0.00324 0.00729 0.00417 C 0.00937 0.00648 0.01285 0.00718 0.01545 0.00764 C 0.02344 0.01111 0.03212 0.01412 0.04045 0.01458 C 0.0467 0.01597 0.05312 0.01528 0.05937 0.01574 C 0.06823 0.01551 0.07708 0.01667 0.08576 0.01505 C 0.09496 0.01319 0.10399 0.00741 0.11302 0.00532 C 0.1158 0.00324 0.1191 0.00231 0.12222 0.00116 C 0.12396 -0.00023 0.12621 -0.00139 0.12812 -0.00231 E">
                                      <p:cBhvr>
                                        <p:cTn id="236" dur="5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209 C -0.00312 0.00255 -0.00451 0.00463 -0.00642 0.00509 C -0.00833 0.00741 -0.01094 0.00857 -0.01302 0.01088 C -0.01354 0.01273 -0.01302 0.01088 -0.01406 0.0125 C -0.01493 0.01389 -0.0151 0.01621 -0.0158 0.01783 C -0.0158 0.01852 -0.01597 0.01898 -0.01615 0.01968 C -0.01615 0.02014 -0.01667 0.02153 -0.01667 0.02176 C -0.01684 0.02361 -0.01701 0.02431 -0.01701 0.02685 E">
                                      <p:cBhvr>
                                        <p:cTn id="247" dur="3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L 0.46476 0.00533 E">
                                      <p:cBhvr>
                                        <p:cTn id="253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812 -0.00231 C 0.125 0.00047 0.12222 0.00324 0.11875 0.00533 C 0.11475 0.00764 0.11024 0.00834 0.10625 0.01019 C 0.08645 0.00972 0.06753 0.00787 0.04791 0.00602 C 0.03593 0.00371 0.02395 0.00209 0.01197 -0.00023 C 0.00781 -2.59258999999999E-006 -0.00053 0.00047 -0.00053 0.0007 E">
                                      <p:cBhvr>
                                        <p:cTn id="257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0.00277 -0.00591 0.00555 -0.00938 0.00764 C -0.01337 0.00995 -0.01789 0.01064 -0.02188 0.0125 C -0.04167 0.01203 -0.06059 0.01018 -0.08021 0.00833 C -0.09219 0.00602 -0.10417 0.00439 -0.11615 0.00208 C -0.12032 0.00231 -0.12865 0.00277 -0.12865 0.00277 E">
                                      <p:cBhvr>
                                        <p:cTn id="259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4"/>
          <p:cNvSpPr/>
          <p:nvPr/>
        </p:nvSpPr>
        <p:spPr>
          <a:xfrm rot="416400">
            <a:off x="5223960" y="5003640"/>
            <a:ext cx="863640" cy="28764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 rot="416400">
            <a:off x="1436760" y="1144440"/>
            <a:ext cx="941400" cy="28764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611280" y="333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ENSANCHAMIENTO DE BANDA POR EFECTO DOPP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306360" y="1082520"/>
            <a:ext cx="1440000" cy="1439640"/>
            <a:chOff x="306360" y="1082520"/>
            <a:chExt cx="1440000" cy="1439640"/>
          </a:xfrm>
        </p:grpSpPr>
        <p:sp>
          <p:nvSpPr>
            <p:cNvPr id="307" name="Oval 9"/>
            <p:cNvSpPr/>
            <p:nvPr/>
          </p:nvSpPr>
          <p:spPr>
            <a:xfrm>
              <a:off x="766800" y="1533240"/>
              <a:ext cx="539640" cy="5396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0"/>
            <p:cNvSpPr/>
            <p:nvPr/>
          </p:nvSpPr>
          <p:spPr>
            <a:xfrm>
              <a:off x="693720" y="160488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1"/>
            <p:cNvSpPr/>
            <p:nvPr/>
          </p:nvSpPr>
          <p:spPr>
            <a:xfrm>
              <a:off x="306360" y="108252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2"/>
          <p:cNvGrpSpPr/>
          <p:nvPr/>
        </p:nvGrpSpPr>
        <p:grpSpPr>
          <a:xfrm>
            <a:off x="4335480" y="4937040"/>
            <a:ext cx="1440000" cy="1439640"/>
            <a:chOff x="4335480" y="4937040"/>
            <a:chExt cx="1440000" cy="1439640"/>
          </a:xfrm>
        </p:grpSpPr>
        <p:sp>
          <p:nvSpPr>
            <p:cNvPr id="311" name="Oval 13"/>
            <p:cNvSpPr/>
            <p:nvPr/>
          </p:nvSpPr>
          <p:spPr>
            <a:xfrm>
              <a:off x="4795920" y="5387760"/>
              <a:ext cx="539640" cy="5396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4"/>
            <p:cNvSpPr/>
            <p:nvPr/>
          </p:nvSpPr>
          <p:spPr>
            <a:xfrm>
              <a:off x="4722840" y="545940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5"/>
            <p:cNvSpPr/>
            <p:nvPr/>
          </p:nvSpPr>
          <p:spPr>
            <a:xfrm>
              <a:off x="4335480" y="493704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16"/>
          <p:cNvSpPr/>
          <p:nvPr/>
        </p:nvSpPr>
        <p:spPr>
          <a:xfrm>
            <a:off x="8172360" y="1052640"/>
            <a:ext cx="971640" cy="453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16200000">
            <a:off x="7167240" y="34970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8"/>
          <p:cNvSpPr/>
          <p:nvPr/>
        </p:nvSpPr>
        <p:spPr>
          <a:xfrm rot="416400">
            <a:off x="8104320" y="1112760"/>
            <a:ext cx="434880" cy="28728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"/>
          <p:cNvSpPr/>
          <p:nvPr/>
        </p:nvSpPr>
        <p:spPr>
          <a:xfrm rot="416400">
            <a:off x="7332840" y="5003640"/>
            <a:ext cx="1620720" cy="28764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20"/>
          <p:cNvGrpSpPr/>
          <p:nvPr/>
        </p:nvGrpSpPr>
        <p:grpSpPr>
          <a:xfrm>
            <a:off x="755640" y="2781360"/>
            <a:ext cx="1440000" cy="1439640"/>
            <a:chOff x="755640" y="2781360"/>
            <a:chExt cx="1440000" cy="1439640"/>
          </a:xfrm>
        </p:grpSpPr>
        <p:sp>
          <p:nvSpPr>
            <p:cNvPr id="319" name="Oval 21"/>
            <p:cNvSpPr/>
            <p:nvPr/>
          </p:nvSpPr>
          <p:spPr>
            <a:xfrm>
              <a:off x="1216080" y="3232080"/>
              <a:ext cx="539640" cy="5396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1143000" y="330372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3"/>
            <p:cNvSpPr/>
            <p:nvPr/>
          </p:nvSpPr>
          <p:spPr>
            <a:xfrm>
              <a:off x="755640" y="278136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Freeform 24"/>
          <p:cNvSpPr/>
          <p:nvPr/>
        </p:nvSpPr>
        <p:spPr>
          <a:xfrm rot="416400">
            <a:off x="1614600" y="2852640"/>
            <a:ext cx="941400" cy="28728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5"/>
          <p:cNvSpPr/>
          <p:nvPr/>
        </p:nvSpPr>
        <p:spPr>
          <a:xfrm rot="60000">
            <a:off x="6953040" y="2660760"/>
            <a:ext cx="71280" cy="1488960"/>
          </a:xfrm>
          <a:custGeom>
            <a:avLst/>
            <a:gdLst/>
            <a:ahLst/>
            <a:rect l="l" t="t" r="r" b="b"/>
            <a:pathLst>
              <a:path w="91" h="756">
                <a:moveTo>
                  <a:pt x="91" y="0"/>
                </a:moveTo>
                <a:cubicBezTo>
                  <a:pt x="76" y="257"/>
                  <a:pt x="61" y="514"/>
                  <a:pt x="46" y="635"/>
                </a:cubicBezTo>
                <a:cubicBezTo>
                  <a:pt x="31" y="756"/>
                  <a:pt x="15" y="740"/>
                  <a:pt x="0" y="72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6"/>
          <p:cNvSpPr/>
          <p:nvPr/>
        </p:nvSpPr>
        <p:spPr>
          <a:xfrm rot="21540000">
            <a:off x="7027920" y="2660400"/>
            <a:ext cx="73080" cy="1488960"/>
          </a:xfrm>
          <a:custGeom>
            <a:avLst/>
            <a:gdLst/>
            <a:ahLst/>
            <a:rect l="l" t="t" r="r" b="b"/>
            <a:pathLst>
              <a:path w="227" h="756">
                <a:moveTo>
                  <a:pt x="0" y="0"/>
                </a:moveTo>
                <a:cubicBezTo>
                  <a:pt x="4" y="257"/>
                  <a:pt x="8" y="514"/>
                  <a:pt x="46" y="635"/>
                </a:cubicBezTo>
                <a:cubicBezTo>
                  <a:pt x="84" y="756"/>
                  <a:pt x="155" y="740"/>
                  <a:pt x="227" y="72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27"/>
          <p:cNvGrpSpPr/>
          <p:nvPr/>
        </p:nvGrpSpPr>
        <p:grpSpPr>
          <a:xfrm>
            <a:off x="6445080" y="2312640"/>
            <a:ext cx="1079280" cy="1800360"/>
            <a:chOff x="6445080" y="2312640"/>
            <a:chExt cx="1079280" cy="1800360"/>
          </a:xfrm>
        </p:grpSpPr>
        <p:sp>
          <p:nvSpPr>
            <p:cNvPr id="326" name="Line 28"/>
            <p:cNvSpPr/>
            <p:nvPr/>
          </p:nvSpPr>
          <p:spPr>
            <a:xfrm>
              <a:off x="6445080" y="4100760"/>
              <a:ext cx="10792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9"/>
            <p:cNvSpPr/>
            <p:nvPr/>
          </p:nvSpPr>
          <p:spPr>
            <a:xfrm flipV="1">
              <a:off x="6470280" y="2312640"/>
              <a:ext cx="0" cy="18003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Freeform 30"/>
          <p:cNvSpPr/>
          <p:nvPr/>
        </p:nvSpPr>
        <p:spPr>
          <a:xfrm>
            <a:off x="6964200" y="1917720"/>
            <a:ext cx="115920" cy="777960"/>
          </a:xfrm>
          <a:custGeom>
            <a:avLst/>
            <a:gdLst/>
            <a:ahLst/>
            <a:rect l="l" t="t" r="r" b="b"/>
            <a:pathLst>
              <a:path w="91" h="90">
                <a:moveTo>
                  <a:pt x="0" y="90"/>
                </a:moveTo>
                <a:cubicBezTo>
                  <a:pt x="15" y="45"/>
                  <a:pt x="31" y="0"/>
                  <a:pt x="46" y="0"/>
                </a:cubicBezTo>
                <a:cubicBezTo>
                  <a:pt x="61" y="0"/>
                  <a:pt x="76" y="45"/>
                  <a:pt x="91" y="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83100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L 0.70105 1.85185E-006 E">
                                      <p:cBhvr>
                                        <p:cTn id="26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7 L 0.69358 0.0007 E">
                                      <p:cBhvr>
                                        <p:cTn id="270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-0.71666 3.33333E-006 E">
                                      <p:cBhvr>
                                        <p:cTn id="278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7 L 0.30659 0.00162 E">
                                      <p:cBhvr>
                                        <p:cTn id="280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L 4.72222E-006 -0.38334 L -0.00417 0.42963 L 4.72222E-006 -7.40741E-007 Z">
                                      <p:cBhvr>
                                        <p:cTn id="288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7 L 0.69358 0.0007 E">
                                      <p:cBhvr>
                                        <p:cTn id="290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0781 2.22222E-006 E">
                                      <p:cBhvr>
                                        <p:cTn id="302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0.00781 2.22222E-006 E">
                                      <p:cBhvr>
                                        <p:cTn id="304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5"/>
          <p:cNvSpPr/>
          <p:nvPr/>
        </p:nvSpPr>
        <p:spPr>
          <a:xfrm>
            <a:off x="1187280" y="26028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ENSANCHAMIENTO DE BANDA POR COL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"/>
          <p:cNvSpPr/>
          <p:nvPr/>
        </p:nvSpPr>
        <p:spPr>
          <a:xfrm>
            <a:off x="1042920" y="1413000"/>
            <a:ext cx="539640" cy="539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979560" y="148428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8"/>
          <p:cNvSpPr/>
          <p:nvPr/>
        </p:nvSpPr>
        <p:spPr>
          <a:xfrm>
            <a:off x="590400" y="938160"/>
            <a:ext cx="1440000" cy="14400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9"/>
          <p:cNvSpPr/>
          <p:nvPr/>
        </p:nvSpPr>
        <p:spPr>
          <a:xfrm rot="416400">
            <a:off x="1436760" y="1144440"/>
            <a:ext cx="941400" cy="28764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0"/>
          <p:cNvGrpSpPr/>
          <p:nvPr/>
        </p:nvGrpSpPr>
        <p:grpSpPr>
          <a:xfrm>
            <a:off x="6962760" y="5477040"/>
            <a:ext cx="690480" cy="539640"/>
            <a:chOff x="6962760" y="5477040"/>
            <a:chExt cx="690480" cy="539640"/>
          </a:xfrm>
        </p:grpSpPr>
        <p:sp>
          <p:nvSpPr>
            <p:cNvPr id="336" name="Oval 11"/>
            <p:cNvSpPr/>
            <p:nvPr/>
          </p:nvSpPr>
          <p:spPr>
            <a:xfrm>
              <a:off x="7035840" y="5477040"/>
              <a:ext cx="539640" cy="53964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2"/>
            <p:cNvSpPr/>
            <p:nvPr/>
          </p:nvSpPr>
          <p:spPr>
            <a:xfrm>
              <a:off x="6962760" y="5548320"/>
              <a:ext cx="6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Oval 13"/>
          <p:cNvSpPr/>
          <p:nvPr/>
        </p:nvSpPr>
        <p:spPr>
          <a:xfrm>
            <a:off x="6575400" y="5025960"/>
            <a:ext cx="1440000" cy="14400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4"/>
          <p:cNvSpPr/>
          <p:nvPr/>
        </p:nvSpPr>
        <p:spPr>
          <a:xfrm>
            <a:off x="501480" y="849240"/>
            <a:ext cx="1619280" cy="1619280"/>
          </a:xfrm>
          <a:prstGeom prst="ellipse">
            <a:avLst/>
          </a:prstGeom>
          <a:noFill/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5"/>
          <p:cNvSpPr/>
          <p:nvPr/>
        </p:nvSpPr>
        <p:spPr>
          <a:xfrm rot="416400">
            <a:off x="1258920" y="4653000"/>
            <a:ext cx="1800360" cy="28728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6"/>
          <p:cNvSpPr/>
          <p:nvPr/>
        </p:nvSpPr>
        <p:spPr>
          <a:xfrm>
            <a:off x="628560" y="4759200"/>
            <a:ext cx="1258920" cy="1258920"/>
          </a:xfrm>
          <a:prstGeom prst="ellipse">
            <a:avLst/>
          </a:prstGeom>
          <a:noFill/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7"/>
          <p:cNvSpPr/>
          <p:nvPr/>
        </p:nvSpPr>
        <p:spPr>
          <a:xfrm rot="416400">
            <a:off x="1692000" y="836280"/>
            <a:ext cx="503280" cy="287280"/>
          </a:xfrm>
          <a:custGeom>
            <a:avLst/>
            <a:gdLst/>
            <a:ahLst/>
            <a:rect l="l" t="t" r="r" b="b"/>
            <a:pathLst>
              <a:path w="817" h="136">
                <a:moveTo>
                  <a:pt x="0" y="136"/>
                </a:moveTo>
                <a:cubicBezTo>
                  <a:pt x="64" y="91"/>
                  <a:pt x="129" y="46"/>
                  <a:pt x="182" y="46"/>
                </a:cubicBezTo>
                <a:cubicBezTo>
                  <a:pt x="235" y="46"/>
                  <a:pt x="273" y="136"/>
                  <a:pt x="318" y="136"/>
                </a:cubicBezTo>
                <a:cubicBezTo>
                  <a:pt x="363" y="136"/>
                  <a:pt x="409" y="46"/>
                  <a:pt x="454" y="46"/>
                </a:cubicBezTo>
                <a:cubicBezTo>
                  <a:pt x="499" y="46"/>
                  <a:pt x="552" y="136"/>
                  <a:pt x="590" y="136"/>
                </a:cubicBezTo>
                <a:cubicBezTo>
                  <a:pt x="628" y="136"/>
                  <a:pt x="642" y="69"/>
                  <a:pt x="680" y="46"/>
                </a:cubicBezTo>
                <a:cubicBezTo>
                  <a:pt x="718" y="23"/>
                  <a:pt x="767" y="11"/>
                  <a:pt x="817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8"/>
          <p:cNvSpPr/>
          <p:nvPr/>
        </p:nvSpPr>
        <p:spPr>
          <a:xfrm>
            <a:off x="8101080" y="765000"/>
            <a:ext cx="1042920" cy="453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 rot="16200000">
            <a:off x="7578360" y="3124080"/>
            <a:ext cx="22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179280" y="335772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Efecto de las colisiones bien por aumento de la tª o de la 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1"/>
          <p:cNvSpPr/>
          <p:nvPr/>
        </p:nvSpPr>
        <p:spPr>
          <a:xfrm rot="60000">
            <a:off x="6592680" y="2371680"/>
            <a:ext cx="71280" cy="1488960"/>
          </a:xfrm>
          <a:custGeom>
            <a:avLst/>
            <a:gdLst/>
            <a:ahLst/>
            <a:rect l="l" t="t" r="r" b="b"/>
            <a:pathLst>
              <a:path w="91" h="756">
                <a:moveTo>
                  <a:pt x="91" y="0"/>
                </a:moveTo>
                <a:cubicBezTo>
                  <a:pt x="76" y="257"/>
                  <a:pt x="61" y="514"/>
                  <a:pt x="46" y="635"/>
                </a:cubicBezTo>
                <a:cubicBezTo>
                  <a:pt x="31" y="756"/>
                  <a:pt x="15" y="740"/>
                  <a:pt x="0" y="72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2"/>
          <p:cNvSpPr/>
          <p:nvPr/>
        </p:nvSpPr>
        <p:spPr>
          <a:xfrm rot="21540000">
            <a:off x="6667560" y="2371320"/>
            <a:ext cx="73080" cy="1488960"/>
          </a:xfrm>
          <a:custGeom>
            <a:avLst/>
            <a:gdLst/>
            <a:ahLst/>
            <a:rect l="l" t="t" r="r" b="b"/>
            <a:pathLst>
              <a:path w="227" h="756">
                <a:moveTo>
                  <a:pt x="0" y="0"/>
                </a:moveTo>
                <a:cubicBezTo>
                  <a:pt x="4" y="257"/>
                  <a:pt x="8" y="514"/>
                  <a:pt x="46" y="635"/>
                </a:cubicBezTo>
                <a:cubicBezTo>
                  <a:pt x="84" y="756"/>
                  <a:pt x="155" y="740"/>
                  <a:pt x="227" y="72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6084720" y="2023560"/>
            <a:ext cx="1079280" cy="1800360"/>
            <a:chOff x="6084720" y="2023560"/>
            <a:chExt cx="1079280" cy="1800360"/>
          </a:xfrm>
        </p:grpSpPr>
        <p:sp>
          <p:nvSpPr>
            <p:cNvPr id="349" name="Line 24"/>
            <p:cNvSpPr/>
            <p:nvPr/>
          </p:nvSpPr>
          <p:spPr>
            <a:xfrm>
              <a:off x="6084720" y="3811680"/>
              <a:ext cx="10792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 flipV="1">
              <a:off x="6109920" y="2023560"/>
              <a:ext cx="0" cy="18003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Freeform 26"/>
          <p:cNvSpPr/>
          <p:nvPr/>
        </p:nvSpPr>
        <p:spPr>
          <a:xfrm>
            <a:off x="6603840" y="1628640"/>
            <a:ext cx="115920" cy="777960"/>
          </a:xfrm>
          <a:custGeom>
            <a:avLst/>
            <a:gdLst/>
            <a:ahLst/>
            <a:rect l="l" t="t" r="r" b="b"/>
            <a:pathLst>
              <a:path w="91" h="90">
                <a:moveTo>
                  <a:pt x="0" y="90"/>
                </a:moveTo>
                <a:cubicBezTo>
                  <a:pt x="15" y="45"/>
                  <a:pt x="31" y="0"/>
                  <a:pt x="46" y="0"/>
                </a:cubicBezTo>
                <a:cubicBezTo>
                  <a:pt x="61" y="0"/>
                  <a:pt x="76" y="45"/>
                  <a:pt x="91" y="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7"/>
          <p:cNvSpPr/>
          <p:nvPr/>
        </p:nvSpPr>
        <p:spPr>
          <a:xfrm>
            <a:off x="6831000" y="0"/>
            <a:ext cx="231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Bookman Old Style"/>
              </a:rPr>
              <a:t>ABSORCION ATÓMICA</a:t>
            </a:r>
            <a:r>
              <a:rPr b="1" lang="es-ES" sz="1400" spc="-1" strike="noStrike">
                <a:solidFill>
                  <a:srgbClr val="80808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7 L 0.69358 0.0007 E">
                                      <p:cBhvr>
                                        <p:cTn id="314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198 -0.48287 L -0.66146 -0.05254 E">
                                      <p:cBhvr>
                                        <p:cTn id="318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198 -0.48287 L -0.66146 -0.05254 E">
                                      <p:cBhvr>
                                        <p:cTn id="32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7 L 0.69358 0.0007 E">
                                      <p:cBhvr>
                                        <p:cTn id="337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7 L 0.69358 0.0007 E">
                                      <p:cBhvr>
                                        <p:cTn id="35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0781 2.22222E-006 E">
                                      <p:cBhvr>
                                        <p:cTn id="37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0.00781 2.22222E-006 E">
                                      <p:cBhvr>
                                        <p:cTn id="372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7:42:13Z</dcterms:created>
  <dc:creator>..</dc:creator>
  <dc:description/>
  <dc:language>en-US</dc:language>
  <cp:lastModifiedBy>Fernanda P</cp:lastModifiedBy>
  <dcterms:modified xsi:type="dcterms:W3CDTF">2011-04-06T15:05:09Z</dcterms:modified>
  <cp:revision>12</cp:revision>
  <dc:subject/>
  <dc:title>Diapositiva 1</dc:title>
</cp:coreProperties>
</file>