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himes.wav" ContentType="audio/x-wav"/>
  <Override PartName="/ppt/media/camera.wav" ContentType="audio/x-wav"/>
  <Override PartName="/ppt/media/image7.jpeg" ContentType="image/jpeg"/>
  <Override PartName="/ppt/media/image6.gif" ContentType="image/gif"/>
  <Override PartName="/ppt/media/image9.png" ContentType="image/png"/>
  <Override PartName="/ppt/media/type.wav" ContentType="audio/x-wav"/>
  <Override PartName="/ppt/media/image11.png" ContentType="image/png"/>
  <Override PartName="/ppt/media/explode.wav" ContentType="audio/x-wav"/>
  <Override PartName="/ppt/media/applause.wav" ContentType="audio/x-wav"/>
  <Override PartName="/ppt/media/cashreg.wav" ContentType="audio/x-wav"/>
  <Override PartName="/ppt/media/image1.jpeg" ContentType="image/jpeg"/>
  <Override PartName="/ppt/media/image2.png" ContentType="image/png"/>
  <Override PartName="/ppt/media/image3.png" ContentType="image/png"/>
  <Override PartName="/ppt/media/image10.jpeg" ContentType="image/jpeg"/>
  <Override PartName="/ppt/media/image8.jpeg" ContentType="image/jpeg"/>
  <Override PartName="/ppt/media/laser.wav" ContentType="audio/x-wav"/>
  <Override PartName="/ppt/media/image4.png" ContentType="image/png"/>
  <Override PartName="/ppt/media/carbrake.wav" ContentType="audio/x-wav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2476-C674-4A79-BC72-D07E64D77A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D6BC-DDBA-4F81-972B-EAC00CFA9BF3}" type="slidenum"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FBA1-E3C5-4F9F-8224-0671D46525F9}" type="slidenum"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8A6-0E0B-4D74-80DE-D36DC564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A9A-281F-4232-8D68-B2A2DA07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D78-F199-4F3E-9830-F27D06DB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022-665A-4C0B-9581-F37B765F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4E75-20EF-4058-9DE4-862322EF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21F7-1AD1-4249-BC85-9A1F2EA4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4A91-6E3A-411A-A8EC-1B291F6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AB66-9FDB-4225-A183-2D454ACC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CDFF-9E49-44C6-99C8-C1D6B9E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10E8-9B42-4CDE-B0CA-F437582E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9ED4-28C0-4AD4-9FCA-67FCE4E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E35-AA05-42B3-81AC-63A78446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81D1-0708-4D2B-98FB-CF36D75A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1ECB-7D24-4990-8D63-3DC8D062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05F5-0F74-43FD-8E6C-CC774CA9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433C-B2B4-4E95-95C4-7D9DCF38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FAA3-B0EF-425D-B462-C91556DB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CC4-6BAF-4540-B9DE-FA96B008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5BD-A147-4A6D-91A7-DF26468E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41B-478B-417B-BB01-BFCF11A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0FE-5AB9-4BD7-8398-597A79B9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7FA-5BCD-4B27-A37F-8F26CA85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91D-E555-4989-B324-089F902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82A-2E3B-4CC2-9DCB-381377D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C28E-916E-4AA5-99D6-67CDCB0C01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738-891C-4701-B311-B47CC9A19A9B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ndragaraguso@hotmail.co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rbrak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71717"/>
                </a:solidFill>
                <a:latin typeface="Arial"/>
                <a:ea typeface="Arial"/>
              </a:rPr>
              <a:t>¿Cómo hacer una webquest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1717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71717"/>
                </a:solidFill>
                <a:latin typeface="Arial"/>
                <a:ea typeface="Arial"/>
              </a:rPr>
              <a:t>Sandra Garagu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sandragaraguso@hotmail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¿CÓMO HACER UNA WEBQUES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Las webquest están compuestas de 6 part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Picture 5" descr="C:\Archivos de programa\Microsoft Office\Clipart\Pub60Cor\AG00011_.GIF"/>
          <p:cNvPicPr/>
          <p:nvPr/>
        </p:nvPicPr>
        <p:blipFill>
          <a:blip r:embed="rId1"/>
          <a:stretch/>
        </p:blipFill>
        <p:spPr>
          <a:xfrm>
            <a:off x="4572000" y="44956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8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3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1. INTRODUC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La introducción es la </a:t>
            </a:r>
            <a:r>
              <a:rPr b="1" lang="es-ES_tradnl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sección inicial</a:t>
            </a:r>
            <a:r>
              <a:rPr b="0" lang="es-ES_tradnl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de una webquest. 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Podemos relacionar esta parte de la webquest con la </a:t>
            </a:r>
            <a:r>
              <a:rPr b="1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motivación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que debemos realizar para presentar los temas a nuestros alumn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En este paso –que consiste en un </a:t>
            </a:r>
            <a:r>
              <a:rPr b="1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texto corto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– la presentación de la información debe ser clara, atractiva para preparar, </a:t>
            </a:r>
            <a:r>
              <a:rPr b="1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aptar al alumno y fomentar su curiosida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En el caso de establecer </a:t>
            </a:r>
            <a:r>
              <a:rPr b="1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roles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en la tarea se deben construir detalles de los mism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En este paso los alumnos deben comprender claramente cuál es la idea central del tema, los objetivos y la actividad 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–en general–</a:t>
            </a:r>
            <a:r>
              <a:rPr b="1" lang="es-E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que se va a desarrolla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4" descr="C:\Archivos de programa\Microsoft Office\Clipart\Pub60Cor\AG00004_.GIF"/>
          <p:cNvPicPr/>
          <p:nvPr/>
        </p:nvPicPr>
        <p:blipFill>
          <a:blip r:embed="rId1"/>
          <a:stretch/>
        </p:blipFill>
        <p:spPr>
          <a:xfrm>
            <a:off x="5715000" y="5334120"/>
            <a:ext cx="1219320" cy="1176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9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2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8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79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42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2. TAR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En esta parte se realiza una 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descripción no muy extensa y en líneas generales del producto final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–que se espera– elaboren los alumno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No se deben detallar los pasos que van a seguir, sino un detalle general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Es importante que en la tarea se encuentre una descripción clara del resultado final y si se usa informática 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especificar la herramienta a utilizar</a:t>
            </a:r>
            <a:r>
              <a:rPr b="0" lang="es-ES" sz="32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4" descr="tarea"/>
          <p:cNvPicPr/>
          <p:nvPr/>
        </p:nvPicPr>
        <p:blipFill>
          <a:blip r:embed="rId1"/>
          <a:stretch/>
        </p:blipFill>
        <p:spPr>
          <a:xfrm>
            <a:off x="162000" y="3886200"/>
            <a:ext cx="884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7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1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3. PROCES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En esta parte se </a:t>
            </a:r>
            <a:r>
              <a:rPr b="1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describen paso a pas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 –detalladamente– los procesos que deben realizar los alumnos para concluir con el trabaj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Conviene utilizar la segunda persona para describir los procedimient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Esta etapa hay que </a:t>
            </a:r>
            <a:r>
              <a:rPr b="1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desarrollarla muy cuidadosamente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, describiendo muy bien los procesos. Una manera útil para que los alumnos puedan seguirlos es </a:t>
            </a:r>
            <a:r>
              <a:rPr b="1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enumerarl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1028" descr="proceso"/>
          <p:cNvPicPr/>
          <p:nvPr/>
        </p:nvPicPr>
        <p:blipFill>
          <a:blip r:embed="rId1"/>
          <a:stretch/>
        </p:blipFill>
        <p:spPr>
          <a:xfrm>
            <a:off x="7086600" y="457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7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27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4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4. RECURS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En esta etapa de la webquest es donde se 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enumeran los recursos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que el alumno debe utilizar para desarrollar la actividad. Los 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sitios web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 –como se expresó anteriormente– ya están 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revisados y analizados por el docente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 de manera tal que el alumno no pierde tiempo en buscar información sino que la utiliza y la analiz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www 1"/>
          <p:cNvPicPr/>
          <p:nvPr/>
        </p:nvPicPr>
        <p:blipFill>
          <a:blip r:embed="rId1"/>
          <a:stretch/>
        </p:blipFill>
        <p:spPr>
          <a:xfrm>
            <a:off x="6172200" y="5562720"/>
            <a:ext cx="1219320" cy="107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5. EVALU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Si los alumnos tienen una guía sobre qué será lo que se les evaluará, seguramente tendrán en cuenta puntos que no creerían necesarios ser evalu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Mediante la evaluación se anticipan los criterios los cuales serán evaluados en la tare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Deben ser consignas claras y comprensibles para ell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Es aconsejable utilizar </a:t>
            </a:r>
            <a:r>
              <a:rPr b="1" lang="es-ES" sz="2400" spc="-1" strike="noStrike">
                <a:solidFill>
                  <a:srgbClr val="eaeaea"/>
                </a:solidFill>
                <a:latin typeface="Verdana"/>
                <a:ea typeface="Arial Unicode MS"/>
              </a:rPr>
              <a:t>rúbricas para la evaluac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evalaución"/>
          <p:cNvPicPr/>
          <p:nvPr/>
        </p:nvPicPr>
        <p:blipFill>
          <a:blip r:embed="rId1"/>
          <a:stretch/>
        </p:blipFill>
        <p:spPr>
          <a:xfrm>
            <a:off x="1981080" y="457200"/>
            <a:ext cx="66384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9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2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46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6. CONCLUS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Arial Unicode MS"/>
              </a:rPr>
              <a:t>¿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Resumen de lo aprendid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Se resume la experiencia y 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estimula la reflexión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Arial Unicode MS"/>
              </a:rPr>
              <a:t>. Una conclusión puede invitar a enlaces sobre temas parecidos para ampliar los conocimientos para aquellos alumnos qu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deseen seguir conociendo sobre el tema. También puede concluir con una pregunta que lleve a la reflexión sobre lo estudiado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4" descr="GRUPO CHICOS"/>
          <p:cNvPicPr/>
          <p:nvPr/>
        </p:nvPicPr>
        <p:blipFill>
          <a:blip r:embed="rId1"/>
          <a:srcRect l="0" t="0" r="19051" b="0"/>
          <a:stretch/>
        </p:blipFill>
        <p:spPr>
          <a:xfrm>
            <a:off x="4952880" y="5410080"/>
            <a:ext cx="870120" cy="912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3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41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64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1717"/>
                </a:solidFill>
                <a:latin typeface="Arial"/>
                <a:ea typeface="Arial"/>
              </a:rPr>
              <a:t>Fin de la presentació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3:54:24Z</dcterms:created>
  <dc:creator>Sandra Garaguso</dc:creator>
  <dc:description/>
  <dc:language>en-US</dc:language>
  <cp:lastModifiedBy>Viviana Schafer</cp:lastModifiedBy>
  <dcterms:modified xsi:type="dcterms:W3CDTF">2008-09-09T17:11:26Z</dcterms:modified>
  <cp:revision>8</cp:revision>
  <dc:subject/>
  <dc:title>¿CÓMO HACER UNA WEBQUEST?</dc:title>
</cp:coreProperties>
</file>