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4EB-ADD5-4E7A-946C-54217B07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7CA-2A4B-4918-A93D-1F27B1D7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48A-79E9-4030-8402-36EA474B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9CA-BB36-4DE8-B3B1-B7974853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CA1E-118E-4B94-8D10-600214D9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7C18-8921-4E5E-97C9-1D0E967F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31BF-4E37-483B-8C8D-C54E95EF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1404-B176-4A25-A3F8-1BABE811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F9AC-DC85-408A-92F7-22A64764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62BF-72C6-4DF7-BA69-62844BAD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FDD5-C2FA-434E-996C-4F144AEB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3BD-1D7E-4D29-92C6-804B280F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AC6E-3334-4EEA-A318-B74E4DA2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CE09-96A4-4872-A8CE-4B47AF68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FB94-08AB-43B8-BF33-EBB67C05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EC7F-D04F-4262-9F6F-37428703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D994-C2C8-4455-82AD-75EB9ECE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05CCE-1053-448D-A2AC-0F8532EB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30710-B155-4B6A-B13E-874C7A47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6BD76-C7FD-4170-B743-D1605055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45225-E22A-4C99-BE86-1A82DFCD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544E8-DF71-42F3-A2AE-EA9DC43B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FCB-6B37-4215-95B9-290DBC43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0573-37BF-498E-9FFF-78259244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B90A-2B2D-4C36-A22F-7E2403B8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F0791-5F72-4D8A-A4DE-008648FC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8694C-3367-49D4-8073-085AB9BA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E2AC-A758-41C8-A98D-CEE8E4DA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4B6B0-A036-42DB-ADF9-4889BC27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E157D-D2FB-430F-A51A-9943AB1F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65A4B-CCF2-403E-B48C-293386A0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9F3C0-DC04-425A-9048-AFA7C6D8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EF3AA-B36D-4601-8A9A-7F6A5646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9F9-10EB-4DAD-8CD0-4677A1E1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6C5D4-B22F-44FC-BE53-B05804F2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07A3F-743E-4D8A-8A9D-938C377D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51772-2545-459F-82EF-DD9D34A7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ABD50-F89F-4AF1-A57C-264BD898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3DDAC-ADC7-4592-BF44-9102747A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6E68E-B6A8-4B9B-B3AD-958BB51D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2DB58-434C-4635-B100-67FBB824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5B50-2508-4A33-AA4D-F8CC26E1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F82A2-25DE-443C-A4E7-8C382001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22B23-B663-48A7-9809-4BAE6F70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324-7133-4E33-AB10-2B6D8254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9B130-467F-4B2C-BE71-168E1DFB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1E44C-96AA-4CB6-9BE1-06A6EDB6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7C301-721F-4473-AEDA-FC576827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CB974-6DF9-407D-8FE6-619B7F03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4611A-7A0D-4C5C-B222-DEC39EC3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39061-108F-468D-8A4E-ED0348C5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4795D-BBD0-435E-8D68-2E9053BA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161A7-B9EF-4871-A415-F43F7DF8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4C8B7-9B5D-436C-A1E7-1DCB62B0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88C00-4A0C-4730-B8FB-D741092E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663-E2AC-4DF5-A272-C269E73A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32CF0-8994-409B-9CA2-861F7C5A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676-7D6D-4C6C-97C1-B9BA3912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003-E58B-4368-94CB-D526F698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284-5549-436C-9CFB-E381FBF1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29BE-490E-48FE-B10F-F0509778CEED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28FD-0979-4248-9105-86D3A9E1E9E8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3033-BD7E-4D0A-955A-0E21EFAA3BC2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BD63-9277-4901-BF57-8FFA0D794143}" type="slidenum">
              <a:rPr b="0" lang="en-US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079D-76F3-4F59-BE76-4F8B894811BF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20.png"/><Relationship Id="rId25" Type="http://schemas.openxmlformats.org/officeDocument/2006/relationships/image" Target="../media/image21.png"/><Relationship Id="rId26" Type="http://schemas.openxmlformats.org/officeDocument/2006/relationships/image" Target="../media/image19.png"/><Relationship Id="rId27" Type="http://schemas.openxmlformats.org/officeDocument/2006/relationships/image" Target="../media/image20.png"/><Relationship Id="rId28" Type="http://schemas.openxmlformats.org/officeDocument/2006/relationships/image" Target="../media/image22.png"/><Relationship Id="rId29" Type="http://schemas.openxmlformats.org/officeDocument/2006/relationships/image" Target="../media/image23.png"/><Relationship Id="rId30" Type="http://schemas.openxmlformats.org/officeDocument/2006/relationships/image" Target="../media/image24.png"/><Relationship Id="rId31" Type="http://schemas.openxmlformats.org/officeDocument/2006/relationships/image" Target="../media/image24.png"/><Relationship Id="rId32" Type="http://schemas.openxmlformats.org/officeDocument/2006/relationships/image" Target="../media/image25.png"/><Relationship Id="rId33" Type="http://schemas.openxmlformats.org/officeDocument/2006/relationships/image" Target="../media/image24.png"/><Relationship Id="rId34" Type="http://schemas.openxmlformats.org/officeDocument/2006/relationships/image" Target="../media/image24.png"/><Relationship Id="rId35" Type="http://schemas.openxmlformats.org/officeDocument/2006/relationships/image" Target="../media/image26.png"/><Relationship Id="rId36" Type="http://schemas.openxmlformats.org/officeDocument/2006/relationships/image" Target="../media/image1.png"/><Relationship Id="rId3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7372440" cy="1440000"/>
          </a:xfrm>
          <a:prstGeom prst="rect">
            <a:avLst/>
          </a:prstGeom>
          <a:solidFill>
            <a:srgbClr val="c8effd"/>
          </a:solidFill>
          <a:ln w="9360">
            <a:solidFill>
              <a:srgbClr val="00b0f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VINCULACIÓN DE  LA  REHABILITACIÓN  LOGOPÉDICA Y LA  TERAPIA FÍSICA EN UN PACIENTE LARINGECTOMIZADO.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10920" y="2204640"/>
            <a:ext cx="482436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utores: Lic. Nilda Ramírez Villavicencio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ic. Yarelis Cruz Peña.  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sC. Enrique Hernández Fernández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8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280" y="364680"/>
            <a:ext cx="758844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RINGECTOMIZADO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VALORACIÓN PREOPERATORIA . VENTAJA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8" name="4 Marcador de pie de página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2362320" y="2416320"/>
            <a:ext cx="4800600" cy="0"/>
          </a:xfrm>
          <a:prstGeom prst="line">
            <a:avLst/>
          </a:prstGeom>
          <a:ln w="25560">
            <a:solidFill>
              <a:srgbClr val="cdd7d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916360" y="192708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r las capacidades locutorias del pac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5"/>
          <p:cNvGrpSpPr/>
          <p:nvPr/>
        </p:nvGrpSpPr>
        <p:grpSpPr>
          <a:xfrm>
            <a:off x="1981080" y="1752480"/>
            <a:ext cx="685800" cy="679320"/>
            <a:chOff x="1981080" y="1752480"/>
            <a:chExt cx="685800" cy="679320"/>
          </a:xfrm>
        </p:grpSpPr>
        <p:grpSp>
          <p:nvGrpSpPr>
            <p:cNvPr id="312" name="Group 6"/>
            <p:cNvGrpSpPr/>
            <p:nvPr/>
          </p:nvGrpSpPr>
          <p:grpSpPr>
            <a:xfrm>
              <a:off x="1981080" y="1752480"/>
              <a:ext cx="685800" cy="679320"/>
              <a:chOff x="1981080" y="1752480"/>
              <a:chExt cx="685800" cy="679320"/>
            </a:xfrm>
          </p:grpSpPr>
          <p:grpSp>
            <p:nvGrpSpPr>
              <p:cNvPr id="313" name="Group 7"/>
              <p:cNvGrpSpPr/>
              <p:nvPr/>
            </p:nvGrpSpPr>
            <p:grpSpPr>
              <a:xfrm>
                <a:off x="1981080" y="1752480"/>
                <a:ext cx="685800" cy="679320"/>
                <a:chOff x="1981080" y="1752480"/>
                <a:chExt cx="685800" cy="679320"/>
              </a:xfrm>
            </p:grpSpPr>
            <p:sp>
              <p:nvSpPr>
                <p:cNvPr id="314" name="Oval 8"/>
                <p:cNvSpPr/>
                <p:nvPr/>
              </p:nvSpPr>
              <p:spPr>
                <a:xfrm>
                  <a:off x="1981080" y="17524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97b7e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9"/>
                <p:cNvSpPr/>
                <p:nvPr/>
              </p:nvSpPr>
              <p:spPr>
                <a:xfrm>
                  <a:off x="1981080" y="17524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97b7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10"/>
                <p:cNvSpPr/>
                <p:nvPr/>
              </p:nvSpPr>
              <p:spPr>
                <a:xfrm>
                  <a:off x="2026440" y="17967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14344"/>
                    </a:gs>
                    <a:gs pos="50000">
                      <a:srgbClr val="797b7e"/>
                    </a:gs>
                    <a:gs pos="100000">
                      <a:srgbClr val="414344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1"/>
                <p:cNvSpPr/>
                <p:nvPr/>
              </p:nvSpPr>
              <p:spPr>
                <a:xfrm>
                  <a:off x="2026440" y="17978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e50"/>
                    </a:gs>
                    <a:gs pos="100000">
                      <a:srgbClr val="797b7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12"/>
              <p:cNvGrpSpPr/>
              <p:nvPr/>
            </p:nvGrpSpPr>
            <p:grpSpPr>
              <a:xfrm>
                <a:off x="2063880" y="1825200"/>
                <a:ext cx="537120" cy="540360"/>
                <a:chOff x="2063880" y="1825200"/>
                <a:chExt cx="537120" cy="540360"/>
              </a:xfrm>
            </p:grpSpPr>
            <p:sp>
              <p:nvSpPr>
                <p:cNvPr id="319" name="Oval 13"/>
                <p:cNvSpPr/>
                <p:nvPr/>
              </p:nvSpPr>
              <p:spPr>
                <a:xfrm>
                  <a:off x="2063880" y="18349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0" name="Group 14"/>
                <p:cNvGrpSpPr/>
                <p:nvPr/>
              </p:nvGrpSpPr>
              <p:grpSpPr>
                <a:xfrm>
                  <a:off x="2063880" y="1825200"/>
                  <a:ext cx="519840" cy="515160"/>
                  <a:chOff x="2063880" y="1825200"/>
                  <a:chExt cx="519840" cy="515160"/>
                </a:xfrm>
              </p:grpSpPr>
              <p:sp>
                <p:nvSpPr>
                  <p:cNvPr id="321" name="Oval 15"/>
                  <p:cNvSpPr/>
                  <p:nvPr/>
                </p:nvSpPr>
                <p:spPr>
                  <a:xfrm>
                    <a:off x="2063880" y="18252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Oval 16"/>
                  <p:cNvSpPr/>
                  <p:nvPr/>
                </p:nvSpPr>
                <p:spPr>
                  <a:xfrm>
                    <a:off x="2070360" y="1828080"/>
                    <a:ext cx="5076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Oval 17"/>
                  <p:cNvSpPr/>
                  <p:nvPr/>
                </p:nvSpPr>
                <p:spPr>
                  <a:xfrm>
                    <a:off x="2075760" y="18327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Oval 18"/>
                  <p:cNvSpPr/>
                  <p:nvPr/>
                </p:nvSpPr>
                <p:spPr>
                  <a:xfrm>
                    <a:off x="2103840" y="18460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5" name="Text Box 19"/>
            <p:cNvSpPr/>
            <p:nvPr/>
          </p:nvSpPr>
          <p:spPr>
            <a:xfrm>
              <a:off x="2135520" y="186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Line 20"/>
          <p:cNvSpPr/>
          <p:nvPr/>
        </p:nvSpPr>
        <p:spPr>
          <a:xfrm>
            <a:off x="2362320" y="3298680"/>
            <a:ext cx="4800600" cy="0"/>
          </a:xfrm>
          <a:prstGeom prst="line">
            <a:avLst/>
          </a:prstGeom>
          <a:ln w="25560">
            <a:solidFill>
              <a:srgbClr val="cdd7d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2987640" y="28321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yuda emo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2"/>
          <p:cNvSpPr/>
          <p:nvPr/>
        </p:nvSpPr>
        <p:spPr>
          <a:xfrm>
            <a:off x="2362320" y="4267080"/>
            <a:ext cx="4800600" cy="0"/>
          </a:xfrm>
          <a:prstGeom prst="line">
            <a:avLst/>
          </a:prstGeom>
          <a:ln w="25560">
            <a:solidFill>
              <a:srgbClr val="cdd7d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2843280" y="3603600"/>
            <a:ext cx="49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cionarlo con laringectomizados rehabilitados con éx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4"/>
          <p:cNvSpPr/>
          <p:nvPr/>
        </p:nvSpPr>
        <p:spPr>
          <a:xfrm>
            <a:off x="2362320" y="5203800"/>
            <a:ext cx="4800600" cy="0"/>
          </a:xfrm>
          <a:prstGeom prst="line">
            <a:avLst/>
          </a:prstGeom>
          <a:ln w="25560">
            <a:solidFill>
              <a:srgbClr val="cdd7d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6"/>
          <p:cNvGrpSpPr/>
          <p:nvPr/>
        </p:nvGrpSpPr>
        <p:grpSpPr>
          <a:xfrm>
            <a:off x="1992240" y="2666880"/>
            <a:ext cx="685800" cy="685800"/>
            <a:chOff x="1992240" y="2666880"/>
            <a:chExt cx="685800" cy="685800"/>
          </a:xfrm>
        </p:grpSpPr>
        <p:grpSp>
          <p:nvGrpSpPr>
            <p:cNvPr id="332" name="Group 27"/>
            <p:cNvGrpSpPr/>
            <p:nvPr/>
          </p:nvGrpSpPr>
          <p:grpSpPr>
            <a:xfrm>
              <a:off x="1992240" y="2666880"/>
              <a:ext cx="685800" cy="685800"/>
              <a:chOff x="1992240" y="2666880"/>
              <a:chExt cx="685800" cy="685800"/>
            </a:xfrm>
          </p:grpSpPr>
          <p:grpSp>
            <p:nvGrpSpPr>
              <p:cNvPr id="333" name="Group 28"/>
              <p:cNvGrpSpPr/>
              <p:nvPr/>
            </p:nvGrpSpPr>
            <p:grpSpPr>
              <a:xfrm>
                <a:off x="1992240" y="2666880"/>
                <a:ext cx="685800" cy="685800"/>
                <a:chOff x="1992240" y="2666880"/>
                <a:chExt cx="685800" cy="685800"/>
              </a:xfrm>
            </p:grpSpPr>
            <p:sp>
              <p:nvSpPr>
                <p:cNvPr id="334" name="Oval 29"/>
                <p:cNvSpPr/>
                <p:nvPr/>
              </p:nvSpPr>
              <p:spPr>
                <a:xfrm>
                  <a:off x="1992240" y="26668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5f5f5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30"/>
                <p:cNvSpPr/>
                <p:nvPr/>
              </p:nvSpPr>
              <p:spPr>
                <a:xfrm>
                  <a:off x="1992240" y="26668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Oval 31"/>
                <p:cNvSpPr/>
                <p:nvPr/>
              </p:nvSpPr>
              <p:spPr>
                <a:xfrm>
                  <a:off x="2037600" y="27115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5f5f5f"/>
                    </a:gs>
                    <a:gs pos="100000">
                      <a:srgbClr val="3333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Oval 32"/>
                <p:cNvSpPr/>
                <p:nvPr/>
              </p:nvSpPr>
              <p:spPr>
                <a:xfrm>
                  <a:off x="2037600" y="27126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3c3c"/>
                    </a:gs>
                    <a:gs pos="100000">
                      <a:srgbClr val="5f5f5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33"/>
              <p:cNvGrpSpPr/>
              <p:nvPr/>
            </p:nvGrpSpPr>
            <p:grpSpPr>
              <a:xfrm>
                <a:off x="2070720" y="2746080"/>
                <a:ext cx="537120" cy="545400"/>
                <a:chOff x="2070720" y="2746080"/>
                <a:chExt cx="537120" cy="545400"/>
              </a:xfrm>
            </p:grpSpPr>
            <p:sp>
              <p:nvSpPr>
                <p:cNvPr id="339" name="Oval 34"/>
                <p:cNvSpPr/>
                <p:nvPr/>
              </p:nvSpPr>
              <p:spPr>
                <a:xfrm>
                  <a:off x="2070720" y="27561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0" name="Group 35"/>
                <p:cNvGrpSpPr/>
                <p:nvPr/>
              </p:nvGrpSpPr>
              <p:grpSpPr>
                <a:xfrm>
                  <a:off x="2070720" y="2746080"/>
                  <a:ext cx="519840" cy="519840"/>
                  <a:chOff x="2070720" y="2746080"/>
                  <a:chExt cx="519840" cy="519840"/>
                </a:xfrm>
              </p:grpSpPr>
              <p:sp>
                <p:nvSpPr>
                  <p:cNvPr id="341" name="Oval 36"/>
                  <p:cNvSpPr/>
                  <p:nvPr/>
                </p:nvSpPr>
                <p:spPr>
                  <a:xfrm>
                    <a:off x="2070720" y="27460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Oval 37"/>
                  <p:cNvSpPr/>
                  <p:nvPr/>
                </p:nvSpPr>
                <p:spPr>
                  <a:xfrm>
                    <a:off x="2077200" y="2748960"/>
                    <a:ext cx="50760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Oval 38"/>
                  <p:cNvSpPr/>
                  <p:nvPr/>
                </p:nvSpPr>
                <p:spPr>
                  <a:xfrm>
                    <a:off x="2082600" y="27536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Oval 39"/>
                  <p:cNvSpPr/>
                  <p:nvPr/>
                </p:nvSpPr>
                <p:spPr>
                  <a:xfrm>
                    <a:off x="2110680" y="27669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45" name="Text Box 40"/>
            <p:cNvSpPr/>
            <p:nvPr/>
          </p:nvSpPr>
          <p:spPr>
            <a:xfrm>
              <a:off x="2157480" y="278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41"/>
          <p:cNvGrpSpPr/>
          <p:nvPr/>
        </p:nvGrpSpPr>
        <p:grpSpPr>
          <a:xfrm>
            <a:off x="1981080" y="3603600"/>
            <a:ext cx="685800" cy="679320"/>
            <a:chOff x="1981080" y="3603600"/>
            <a:chExt cx="685800" cy="679320"/>
          </a:xfrm>
        </p:grpSpPr>
        <p:grpSp>
          <p:nvGrpSpPr>
            <p:cNvPr id="347" name="Group 42"/>
            <p:cNvGrpSpPr/>
            <p:nvPr/>
          </p:nvGrpSpPr>
          <p:grpSpPr>
            <a:xfrm>
              <a:off x="1981080" y="3603600"/>
              <a:ext cx="685800" cy="679320"/>
              <a:chOff x="1981080" y="3603600"/>
              <a:chExt cx="685800" cy="679320"/>
            </a:xfrm>
          </p:grpSpPr>
          <p:grpSp>
            <p:nvGrpSpPr>
              <p:cNvPr id="348" name="Group 43"/>
              <p:cNvGrpSpPr/>
              <p:nvPr/>
            </p:nvGrpSpPr>
            <p:grpSpPr>
              <a:xfrm>
                <a:off x="1981080" y="3603600"/>
                <a:ext cx="685800" cy="679320"/>
                <a:chOff x="1981080" y="3603600"/>
                <a:chExt cx="685800" cy="679320"/>
              </a:xfrm>
            </p:grpSpPr>
            <p:sp>
              <p:nvSpPr>
                <p:cNvPr id="349" name="Oval 44"/>
                <p:cNvSpPr/>
                <p:nvPr/>
              </p:nvSpPr>
              <p:spPr>
                <a:xfrm>
                  <a:off x="1981080" y="36036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97b7e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45"/>
                <p:cNvSpPr/>
                <p:nvPr/>
              </p:nvSpPr>
              <p:spPr>
                <a:xfrm>
                  <a:off x="1981080" y="36036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97b7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46"/>
                <p:cNvSpPr/>
                <p:nvPr/>
              </p:nvSpPr>
              <p:spPr>
                <a:xfrm>
                  <a:off x="2026440" y="36478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14344"/>
                    </a:gs>
                    <a:gs pos="50000">
                      <a:srgbClr val="797b7e"/>
                    </a:gs>
                    <a:gs pos="100000">
                      <a:srgbClr val="414344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47"/>
                <p:cNvSpPr/>
                <p:nvPr/>
              </p:nvSpPr>
              <p:spPr>
                <a:xfrm>
                  <a:off x="2026440" y="36489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e50"/>
                    </a:gs>
                    <a:gs pos="100000">
                      <a:srgbClr val="797b7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Group 48"/>
              <p:cNvGrpSpPr/>
              <p:nvPr/>
            </p:nvGrpSpPr>
            <p:grpSpPr>
              <a:xfrm>
                <a:off x="2063880" y="3676320"/>
                <a:ext cx="537120" cy="540360"/>
                <a:chOff x="2063880" y="3676320"/>
                <a:chExt cx="537120" cy="540360"/>
              </a:xfrm>
            </p:grpSpPr>
            <p:sp>
              <p:nvSpPr>
                <p:cNvPr id="354" name="Oval 49"/>
                <p:cNvSpPr/>
                <p:nvPr/>
              </p:nvSpPr>
              <p:spPr>
                <a:xfrm>
                  <a:off x="2063880" y="36860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Group 50"/>
                <p:cNvGrpSpPr/>
                <p:nvPr/>
              </p:nvGrpSpPr>
              <p:grpSpPr>
                <a:xfrm>
                  <a:off x="2063880" y="3676320"/>
                  <a:ext cx="519840" cy="515160"/>
                  <a:chOff x="2063880" y="3676320"/>
                  <a:chExt cx="519840" cy="515160"/>
                </a:xfrm>
              </p:grpSpPr>
              <p:sp>
                <p:nvSpPr>
                  <p:cNvPr id="356" name="Oval 51"/>
                  <p:cNvSpPr/>
                  <p:nvPr/>
                </p:nvSpPr>
                <p:spPr>
                  <a:xfrm>
                    <a:off x="2063880" y="36763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Oval 52"/>
                  <p:cNvSpPr/>
                  <p:nvPr/>
                </p:nvSpPr>
                <p:spPr>
                  <a:xfrm>
                    <a:off x="2070360" y="3679200"/>
                    <a:ext cx="5076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Oval 53"/>
                  <p:cNvSpPr/>
                  <p:nvPr/>
                </p:nvSpPr>
                <p:spPr>
                  <a:xfrm>
                    <a:off x="2075760" y="36838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Oval 54"/>
                  <p:cNvSpPr/>
                  <p:nvPr/>
                </p:nvSpPr>
                <p:spPr>
                  <a:xfrm>
                    <a:off x="2103840" y="36972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60" name="Text Box 55"/>
            <p:cNvSpPr/>
            <p:nvPr/>
          </p:nvSpPr>
          <p:spPr>
            <a:xfrm>
              <a:off x="2135520" y="371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ENTACIÓN DE CASO 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55280" y="981000"/>
            <a:ext cx="767412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aciente H.L masculino de 52 años de edad, nacionalidad venezolano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PP: Accidente de tránsito en mayo del 2011. Operado de rodilla izquierda, lesión de menisco.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Factor de riesgo: Consumo de tabaco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iagnostico Carcinoma de Laringe. Recibe tratamiento de radioterapia y quimioterapia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íntomas primarios: carraspeo, sensación de cuerpo extraño, disfonía permanente, progresiva. Se diagnostica una  Hiperplasia Epitelial  Generalizada, edema e inflamación crónica de la submucosa de las cuerdas vocales.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s intervenido quirúrgicamente por Carcinoma Epidermoide de Laringe se realiza Laringectomía total, con disección selectiva cervical a nivel  I, III, IV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ecuelas : Pérdida vocal  por extirpación de laringe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éficit  de todas las funciones laríngeas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presión psíquica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sde el punto de vista motor: Limitación  de los movimientos de  hombros. 70º de Abd y 130  de flexión. Contractura de trapecio derecho. Hipersensibilidad en hemicuerpo  izquierdo,  molestias a nivel de clavícula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iagnóstico Actual:  Laringectomizado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ronóstico: En dependencia de  diferentes factores como:  condiciones anatómicas, comienzo de la terapia vocal, estado psíquico y de salud,  otros.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3" name="4 Marcador de pie de página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0 Imagen" descr=""/>
          <p:cNvPicPr/>
          <p:nvPr/>
        </p:nvPicPr>
        <p:blipFill>
          <a:blip r:embed="rId1"/>
          <a:stretch/>
        </p:blipFill>
        <p:spPr>
          <a:xfrm>
            <a:off x="0" y="189000"/>
            <a:ext cx="1708200" cy="5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53920" y="364680"/>
            <a:ext cx="74901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    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ENCIÓN DEL  EQUIPO MULTIDISCIPLINARIO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6" name="4 Marcador de pie de página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2514600" y="1828800"/>
            <a:ext cx="4986360" cy="916920"/>
            <a:chOff x="2514600" y="1828800"/>
            <a:chExt cx="4986360" cy="916920"/>
          </a:xfrm>
        </p:grpSpPr>
        <p:grpSp>
          <p:nvGrpSpPr>
            <p:cNvPr id="368" name="Group 4"/>
            <p:cNvGrpSpPr/>
            <p:nvPr/>
          </p:nvGrpSpPr>
          <p:grpSpPr>
            <a:xfrm>
              <a:off x="2514600" y="1828800"/>
              <a:ext cx="533160" cy="502920"/>
              <a:chOff x="2514600" y="1828800"/>
              <a:chExt cx="533160" cy="502920"/>
            </a:xfrm>
          </p:grpSpPr>
          <p:sp>
            <p:nvSpPr>
              <p:cNvPr id="369" name="Freeform 5"/>
              <p:cNvSpPr/>
              <p:nvPr/>
            </p:nvSpPr>
            <p:spPr>
              <a:xfrm>
                <a:off x="2678400" y="1828800"/>
                <a:ext cx="209520" cy="25092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6"/>
              <p:cNvSpPr/>
              <p:nvPr/>
            </p:nvSpPr>
            <p:spPr>
              <a:xfrm>
                <a:off x="2514600" y="1934640"/>
                <a:ext cx="276120" cy="15696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7"/>
              <p:cNvSpPr/>
              <p:nvPr/>
            </p:nvSpPr>
            <p:spPr>
              <a:xfrm>
                <a:off x="2514600" y="2065320"/>
                <a:ext cx="276120" cy="16020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8"/>
              <p:cNvSpPr/>
              <p:nvPr/>
            </p:nvSpPr>
            <p:spPr>
              <a:xfrm>
                <a:off x="2674800" y="2079720"/>
                <a:ext cx="209520" cy="252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9"/>
              <p:cNvSpPr/>
              <p:nvPr/>
            </p:nvSpPr>
            <p:spPr>
              <a:xfrm>
                <a:off x="2771640" y="2065320"/>
                <a:ext cx="276120" cy="15660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0"/>
              <p:cNvSpPr/>
              <p:nvPr/>
            </p:nvSpPr>
            <p:spPr>
              <a:xfrm>
                <a:off x="2771640" y="1931760"/>
                <a:ext cx="276120" cy="16020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"/>
              <p:cNvSpPr/>
              <p:nvPr/>
            </p:nvSpPr>
            <p:spPr>
              <a:xfrm>
                <a:off x="2691000" y="2014560"/>
                <a:ext cx="184320" cy="13140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Rectangle 12"/>
            <p:cNvSpPr/>
            <p:nvPr/>
          </p:nvSpPr>
          <p:spPr>
            <a:xfrm>
              <a:off x="2786040" y="1828800"/>
              <a:ext cx="471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cología (radioterapia,quimioterapi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gope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>
              <a:off x="3048120" y="2206080"/>
              <a:ext cx="327636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4"/>
          <p:cNvGrpSpPr/>
          <p:nvPr/>
        </p:nvGrpSpPr>
        <p:grpSpPr>
          <a:xfrm>
            <a:off x="2500200" y="2514600"/>
            <a:ext cx="4143240" cy="627840"/>
            <a:chOff x="2500200" y="2514600"/>
            <a:chExt cx="4143240" cy="627840"/>
          </a:xfrm>
        </p:grpSpPr>
        <p:grpSp>
          <p:nvGrpSpPr>
            <p:cNvPr id="379" name="Group 15"/>
            <p:cNvGrpSpPr/>
            <p:nvPr/>
          </p:nvGrpSpPr>
          <p:grpSpPr>
            <a:xfrm>
              <a:off x="2500200" y="2514600"/>
              <a:ext cx="579960" cy="627840"/>
              <a:chOff x="2500200" y="2514600"/>
              <a:chExt cx="579960" cy="627840"/>
            </a:xfrm>
          </p:grpSpPr>
          <p:sp>
            <p:nvSpPr>
              <p:cNvPr id="380" name="Freeform 16"/>
              <p:cNvSpPr/>
              <p:nvPr/>
            </p:nvSpPr>
            <p:spPr>
              <a:xfrm>
                <a:off x="2678040" y="2514600"/>
                <a:ext cx="226800" cy="312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"/>
              <p:cNvSpPr/>
              <p:nvPr/>
            </p:nvSpPr>
            <p:spPr>
              <a:xfrm>
                <a:off x="2500200" y="2647440"/>
                <a:ext cx="300240" cy="19512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8"/>
              <p:cNvSpPr/>
              <p:nvPr/>
            </p:nvSpPr>
            <p:spPr>
              <a:xfrm>
                <a:off x="2500200" y="2811240"/>
                <a:ext cx="300240" cy="19800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9"/>
              <p:cNvSpPr/>
              <p:nvPr/>
            </p:nvSpPr>
            <p:spPr>
              <a:xfrm>
                <a:off x="2674440" y="2827080"/>
                <a:ext cx="225360" cy="31536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20"/>
              <p:cNvSpPr/>
              <p:nvPr/>
            </p:nvSpPr>
            <p:spPr>
              <a:xfrm>
                <a:off x="2779920" y="2811240"/>
                <a:ext cx="300240" cy="19512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1"/>
              <p:cNvSpPr/>
              <p:nvPr/>
            </p:nvSpPr>
            <p:spPr>
              <a:xfrm>
                <a:off x="2779920" y="2642760"/>
                <a:ext cx="300240" cy="19944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2"/>
              <p:cNvSpPr/>
              <p:nvPr/>
            </p:nvSpPr>
            <p:spPr>
              <a:xfrm>
                <a:off x="2692080" y="2745720"/>
                <a:ext cx="200160" cy="16344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Rectangle 23"/>
            <p:cNvSpPr/>
            <p:nvPr/>
          </p:nvSpPr>
          <p:spPr>
            <a:xfrm>
              <a:off x="4729680" y="2514600"/>
              <a:ext cx="26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4"/>
            <p:cNvSpPr/>
            <p:nvPr/>
          </p:nvSpPr>
          <p:spPr>
            <a:xfrm>
              <a:off x="3080160" y="2985840"/>
              <a:ext cx="3563280" cy="0"/>
            </a:xfrm>
            <a:prstGeom prst="line">
              <a:avLst/>
            </a:prstGeom>
            <a:ln w="9360">
              <a:solidFill>
                <a:srgbClr val="7ba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25"/>
          <p:cNvGrpSpPr/>
          <p:nvPr/>
        </p:nvGrpSpPr>
        <p:grpSpPr>
          <a:xfrm>
            <a:off x="2514600" y="3276720"/>
            <a:ext cx="3809880" cy="609480"/>
            <a:chOff x="2514600" y="3276720"/>
            <a:chExt cx="3809880" cy="609480"/>
          </a:xfrm>
        </p:grpSpPr>
        <p:grpSp>
          <p:nvGrpSpPr>
            <p:cNvPr id="390" name="Group 26"/>
            <p:cNvGrpSpPr/>
            <p:nvPr/>
          </p:nvGrpSpPr>
          <p:grpSpPr>
            <a:xfrm>
              <a:off x="2514600" y="3276720"/>
              <a:ext cx="533160" cy="609480"/>
              <a:chOff x="2514600" y="3276720"/>
              <a:chExt cx="533160" cy="609480"/>
            </a:xfrm>
          </p:grpSpPr>
          <p:sp>
            <p:nvSpPr>
              <p:cNvPr id="391" name="Freeform 27"/>
              <p:cNvSpPr/>
              <p:nvPr/>
            </p:nvSpPr>
            <p:spPr>
              <a:xfrm>
                <a:off x="2678400" y="3276720"/>
                <a:ext cx="20952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28"/>
              <p:cNvSpPr/>
              <p:nvPr/>
            </p:nvSpPr>
            <p:spPr>
              <a:xfrm>
                <a:off x="2514600" y="340524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29"/>
              <p:cNvSpPr/>
              <p:nvPr/>
            </p:nvSpPr>
            <p:spPr>
              <a:xfrm>
                <a:off x="2514600" y="356400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30"/>
              <p:cNvSpPr/>
              <p:nvPr/>
            </p:nvSpPr>
            <p:spPr>
              <a:xfrm>
                <a:off x="2674800" y="3580200"/>
                <a:ext cx="20952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31"/>
              <p:cNvSpPr/>
              <p:nvPr/>
            </p:nvSpPr>
            <p:spPr>
              <a:xfrm>
                <a:off x="2771640" y="35640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32"/>
              <p:cNvSpPr/>
              <p:nvPr/>
            </p:nvSpPr>
            <p:spPr>
              <a:xfrm>
                <a:off x="2771640" y="340164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33"/>
              <p:cNvSpPr/>
              <p:nvPr/>
            </p:nvSpPr>
            <p:spPr>
              <a:xfrm>
                <a:off x="2691000" y="3501720"/>
                <a:ext cx="184320" cy="15840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Rectangle 34"/>
            <p:cNvSpPr/>
            <p:nvPr/>
          </p:nvSpPr>
          <p:spPr>
            <a:xfrm>
              <a:off x="3048120" y="327672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apia Fís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35"/>
            <p:cNvSpPr/>
            <p:nvPr/>
          </p:nvSpPr>
          <p:spPr>
            <a:xfrm>
              <a:off x="3048120" y="3733920"/>
              <a:ext cx="32763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36"/>
          <p:cNvGrpSpPr/>
          <p:nvPr/>
        </p:nvGrpSpPr>
        <p:grpSpPr>
          <a:xfrm>
            <a:off x="2514600" y="4038480"/>
            <a:ext cx="4024440" cy="825480"/>
            <a:chOff x="2514600" y="4038480"/>
            <a:chExt cx="4024440" cy="825480"/>
          </a:xfrm>
        </p:grpSpPr>
        <p:grpSp>
          <p:nvGrpSpPr>
            <p:cNvPr id="401" name="Group 37"/>
            <p:cNvGrpSpPr/>
            <p:nvPr/>
          </p:nvGrpSpPr>
          <p:grpSpPr>
            <a:xfrm>
              <a:off x="2514600" y="4038480"/>
              <a:ext cx="533160" cy="609480"/>
              <a:chOff x="2514600" y="4038480"/>
              <a:chExt cx="533160" cy="609480"/>
            </a:xfrm>
          </p:grpSpPr>
          <p:sp>
            <p:nvSpPr>
              <p:cNvPr id="402" name="Freeform 38"/>
              <p:cNvSpPr/>
              <p:nvPr/>
            </p:nvSpPr>
            <p:spPr>
              <a:xfrm>
                <a:off x="2678400" y="4038480"/>
                <a:ext cx="20952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9"/>
              <p:cNvSpPr/>
              <p:nvPr/>
            </p:nvSpPr>
            <p:spPr>
              <a:xfrm>
                <a:off x="2514600" y="41670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40"/>
              <p:cNvSpPr/>
              <p:nvPr/>
            </p:nvSpPr>
            <p:spPr>
              <a:xfrm>
                <a:off x="2514600" y="432576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41"/>
              <p:cNvSpPr/>
              <p:nvPr/>
            </p:nvSpPr>
            <p:spPr>
              <a:xfrm>
                <a:off x="2674800" y="4341960"/>
                <a:ext cx="20952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42"/>
              <p:cNvSpPr/>
              <p:nvPr/>
            </p:nvSpPr>
            <p:spPr>
              <a:xfrm>
                <a:off x="2771640" y="432576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43"/>
              <p:cNvSpPr/>
              <p:nvPr/>
            </p:nvSpPr>
            <p:spPr>
              <a:xfrm>
                <a:off x="2771640" y="416340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44"/>
              <p:cNvSpPr/>
              <p:nvPr/>
            </p:nvSpPr>
            <p:spPr>
              <a:xfrm>
                <a:off x="2691000" y="4263480"/>
                <a:ext cx="184320" cy="15840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Rectangle 45"/>
            <p:cNvSpPr/>
            <p:nvPr/>
          </p:nvSpPr>
          <p:spPr>
            <a:xfrm>
              <a:off x="4598280" y="4038480"/>
              <a:ext cx="26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6"/>
            <p:cNvSpPr/>
            <p:nvPr/>
          </p:nvSpPr>
          <p:spPr>
            <a:xfrm flipV="1">
              <a:off x="3048120" y="4433760"/>
              <a:ext cx="3490920" cy="6192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7"/>
          <p:cNvGrpSpPr/>
          <p:nvPr/>
        </p:nvGrpSpPr>
        <p:grpSpPr>
          <a:xfrm>
            <a:off x="2514600" y="3886200"/>
            <a:ext cx="4771800" cy="1951560"/>
            <a:chOff x="2514600" y="3886200"/>
            <a:chExt cx="4771800" cy="1951560"/>
          </a:xfrm>
        </p:grpSpPr>
        <p:grpSp>
          <p:nvGrpSpPr>
            <p:cNvPr id="412" name="Group 48"/>
            <p:cNvGrpSpPr/>
            <p:nvPr/>
          </p:nvGrpSpPr>
          <p:grpSpPr>
            <a:xfrm>
              <a:off x="2514600" y="4572720"/>
              <a:ext cx="668160" cy="761400"/>
              <a:chOff x="2514600" y="4572720"/>
              <a:chExt cx="668160" cy="761400"/>
            </a:xfrm>
          </p:grpSpPr>
          <p:sp>
            <p:nvSpPr>
              <p:cNvPr id="413" name="Freeform 49"/>
              <p:cNvSpPr/>
              <p:nvPr/>
            </p:nvSpPr>
            <p:spPr>
              <a:xfrm>
                <a:off x="2719800" y="4572720"/>
                <a:ext cx="263160" cy="37800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50"/>
              <p:cNvSpPr/>
              <p:nvPr/>
            </p:nvSpPr>
            <p:spPr>
              <a:xfrm>
                <a:off x="2514600" y="4728240"/>
                <a:ext cx="345960" cy="23976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51"/>
              <p:cNvSpPr/>
              <p:nvPr/>
            </p:nvSpPr>
            <p:spPr>
              <a:xfrm>
                <a:off x="2514600" y="4927320"/>
                <a:ext cx="345960" cy="24336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52"/>
              <p:cNvSpPr/>
              <p:nvPr/>
            </p:nvSpPr>
            <p:spPr>
              <a:xfrm>
                <a:off x="2714400" y="4948200"/>
                <a:ext cx="263160" cy="38592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53"/>
              <p:cNvSpPr/>
              <p:nvPr/>
            </p:nvSpPr>
            <p:spPr>
              <a:xfrm>
                <a:off x="2836800" y="4927320"/>
                <a:ext cx="345960" cy="23976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54"/>
              <p:cNvSpPr/>
              <p:nvPr/>
            </p:nvSpPr>
            <p:spPr>
              <a:xfrm>
                <a:off x="2836800" y="4728240"/>
                <a:ext cx="345960" cy="24156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55"/>
              <p:cNvSpPr/>
              <p:nvPr/>
            </p:nvSpPr>
            <p:spPr>
              <a:xfrm>
                <a:off x="2735640" y="4849200"/>
                <a:ext cx="231480" cy="1987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Rectangle 56"/>
            <p:cNvSpPr/>
            <p:nvPr/>
          </p:nvSpPr>
          <p:spPr>
            <a:xfrm>
              <a:off x="3182760" y="3886200"/>
              <a:ext cx="3260880" cy="19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sicolog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apia Ocup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57"/>
            <p:cNvSpPr/>
            <p:nvPr/>
          </p:nvSpPr>
          <p:spPr>
            <a:xfrm>
              <a:off x="3182760" y="5144040"/>
              <a:ext cx="4103640" cy="0"/>
            </a:xfrm>
            <a:prstGeom prst="line">
              <a:avLst/>
            </a:prstGeom>
            <a:ln w="9360">
              <a:solidFill>
                <a:srgbClr val="7ba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0 Imagen" descr=""/>
          <p:cNvPicPr/>
          <p:nvPr/>
        </p:nvPicPr>
        <p:blipFill>
          <a:blip r:embed="rId36"/>
          <a:stretch/>
        </p:blipFill>
        <p:spPr>
          <a:xfrm>
            <a:off x="0" y="0"/>
            <a:ext cx="1353960" cy="549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55280" y="365040"/>
            <a:ext cx="75884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ranklin Gothic Medium"/>
              </a:rPr>
              <a:t> 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LTERNATIVAS DE REHABILITACIÓN  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4 Marcador de pie de página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LOGOPE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3"/>
          <p:cNvGrpSpPr/>
          <p:nvPr/>
        </p:nvGrpSpPr>
        <p:grpSpPr>
          <a:xfrm>
            <a:off x="1961280" y="1675800"/>
            <a:ext cx="4744080" cy="923400"/>
            <a:chOff x="1961280" y="1675800"/>
            <a:chExt cx="4744080" cy="923400"/>
          </a:xfrm>
        </p:grpSpPr>
        <p:sp>
          <p:nvSpPr>
            <p:cNvPr id="426" name="AutoShape 4"/>
            <p:cNvSpPr/>
            <p:nvPr/>
          </p:nvSpPr>
          <p:spPr>
            <a:xfrm>
              <a:off x="2375280" y="1874880"/>
              <a:ext cx="4330080" cy="5554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5"/>
            <p:cNvGrpSpPr/>
            <p:nvPr/>
          </p:nvGrpSpPr>
          <p:grpSpPr>
            <a:xfrm>
              <a:off x="1961280" y="1675800"/>
              <a:ext cx="995400" cy="923400"/>
              <a:chOff x="1961280" y="1675800"/>
              <a:chExt cx="995400" cy="923400"/>
            </a:xfrm>
          </p:grpSpPr>
          <p:sp>
            <p:nvSpPr>
              <p:cNvPr id="428" name="Oval 6"/>
              <p:cNvSpPr/>
              <p:nvPr/>
            </p:nvSpPr>
            <p:spPr>
              <a:xfrm rot="1758000">
                <a:off x="2079000" y="1849680"/>
                <a:ext cx="781560" cy="596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7"/>
              <p:cNvSpPr/>
              <p:nvPr/>
            </p:nvSpPr>
            <p:spPr>
              <a:xfrm rot="1758000">
                <a:off x="2057040" y="1828440"/>
                <a:ext cx="780840" cy="596520"/>
              </a:xfrm>
              <a:prstGeom prst="ellipse">
                <a:avLst/>
              </a:prstGeom>
              <a:gradFill rotWithShape="0">
                <a:gsLst>
                  <a:gs pos="0">
                    <a:srgbClr val="434342"/>
                  </a:gs>
                  <a:gs pos="100000">
                    <a:srgbClr val="1f1f1f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8"/>
              <p:cNvSpPr/>
              <p:nvPr/>
            </p:nvSpPr>
            <p:spPr>
              <a:xfrm>
                <a:off x="2135160" y="1865880"/>
                <a:ext cx="351720" cy="335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9"/>
            <p:cNvSpPr/>
            <p:nvPr/>
          </p:nvSpPr>
          <p:spPr>
            <a:xfrm>
              <a:off x="2844360" y="1972440"/>
              <a:ext cx="18540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0"/>
            <p:cNvSpPr/>
            <p:nvPr/>
          </p:nvSpPr>
          <p:spPr>
            <a:xfrm>
              <a:off x="2229840" y="18748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11"/>
          <p:cNvGrpSpPr/>
          <p:nvPr/>
        </p:nvGrpSpPr>
        <p:grpSpPr>
          <a:xfrm>
            <a:off x="1961280" y="2579400"/>
            <a:ext cx="4744080" cy="923400"/>
            <a:chOff x="1961280" y="2579400"/>
            <a:chExt cx="4744080" cy="923400"/>
          </a:xfrm>
        </p:grpSpPr>
        <p:sp>
          <p:nvSpPr>
            <p:cNvPr id="434" name="AutoShape 12"/>
            <p:cNvSpPr/>
            <p:nvPr/>
          </p:nvSpPr>
          <p:spPr>
            <a:xfrm>
              <a:off x="2375280" y="2778120"/>
              <a:ext cx="4330080" cy="55584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13"/>
            <p:cNvGrpSpPr/>
            <p:nvPr/>
          </p:nvGrpSpPr>
          <p:grpSpPr>
            <a:xfrm>
              <a:off x="1961280" y="2579400"/>
              <a:ext cx="995760" cy="923400"/>
              <a:chOff x="1961280" y="2579400"/>
              <a:chExt cx="995760" cy="923400"/>
            </a:xfrm>
          </p:grpSpPr>
          <p:sp>
            <p:nvSpPr>
              <p:cNvPr id="436" name="Oval 14"/>
              <p:cNvSpPr/>
              <p:nvPr/>
            </p:nvSpPr>
            <p:spPr>
              <a:xfrm rot="1758000">
                <a:off x="2079360" y="2752920"/>
                <a:ext cx="781560" cy="596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15"/>
              <p:cNvSpPr/>
              <p:nvPr/>
            </p:nvSpPr>
            <p:spPr>
              <a:xfrm rot="1758000">
                <a:off x="2057040" y="2732040"/>
                <a:ext cx="780840" cy="59688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2c2c2c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16"/>
              <p:cNvSpPr/>
              <p:nvPr/>
            </p:nvSpPr>
            <p:spPr>
              <a:xfrm>
                <a:off x="2135160" y="2769120"/>
                <a:ext cx="351720" cy="335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Text Box 17"/>
            <p:cNvSpPr/>
            <p:nvPr/>
          </p:nvSpPr>
          <p:spPr>
            <a:xfrm>
              <a:off x="2844360" y="2876040"/>
              <a:ext cx="1854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2229840" y="277812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9"/>
          <p:cNvGrpSpPr/>
          <p:nvPr/>
        </p:nvGrpSpPr>
        <p:grpSpPr>
          <a:xfrm>
            <a:off x="1963800" y="3481920"/>
            <a:ext cx="4984200" cy="943560"/>
            <a:chOff x="1963800" y="3481920"/>
            <a:chExt cx="4984200" cy="943560"/>
          </a:xfrm>
        </p:grpSpPr>
        <p:sp>
          <p:nvSpPr>
            <p:cNvPr id="442" name="AutoShape 20"/>
            <p:cNvSpPr/>
            <p:nvPr/>
          </p:nvSpPr>
          <p:spPr>
            <a:xfrm>
              <a:off x="2391840" y="3691080"/>
              <a:ext cx="4556160" cy="5554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96a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Group 21"/>
            <p:cNvGrpSpPr/>
            <p:nvPr/>
          </p:nvGrpSpPr>
          <p:grpSpPr>
            <a:xfrm>
              <a:off x="1963800" y="3481920"/>
              <a:ext cx="1032480" cy="943560"/>
              <a:chOff x="1963800" y="3481920"/>
              <a:chExt cx="1032480" cy="943560"/>
            </a:xfrm>
          </p:grpSpPr>
          <p:sp>
            <p:nvSpPr>
              <p:cNvPr id="444" name="Oval 22"/>
              <p:cNvSpPr/>
              <p:nvPr/>
            </p:nvSpPr>
            <p:spPr>
              <a:xfrm rot="1758000">
                <a:off x="2080080" y="3665880"/>
                <a:ext cx="822600" cy="596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23"/>
              <p:cNvSpPr/>
              <p:nvPr/>
            </p:nvSpPr>
            <p:spPr>
              <a:xfrm rot="1758000">
                <a:off x="2057040" y="3645000"/>
                <a:ext cx="822600" cy="596520"/>
              </a:xfrm>
              <a:prstGeom prst="ellipse">
                <a:avLst/>
              </a:prstGeom>
              <a:gradFill rotWithShape="0">
                <a:gsLst>
                  <a:gs pos="0">
                    <a:srgbClr val="f96a1b"/>
                  </a:gs>
                  <a:gs pos="100000">
                    <a:srgbClr val="73310d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24"/>
              <p:cNvSpPr/>
              <p:nvPr/>
            </p:nvSpPr>
            <p:spPr>
              <a:xfrm>
                <a:off x="2139480" y="3682080"/>
                <a:ext cx="370080" cy="335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Text Box 25"/>
            <p:cNvSpPr/>
            <p:nvPr/>
          </p:nvSpPr>
          <p:spPr>
            <a:xfrm>
              <a:off x="2844720" y="3788640"/>
              <a:ext cx="4032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Fístulas tarqueoesofágicas y prótesis de voz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26"/>
            <p:cNvSpPr/>
            <p:nvPr/>
          </p:nvSpPr>
          <p:spPr>
            <a:xfrm>
              <a:off x="2252160" y="3691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1 Rectángulo"/>
          <p:cNvSpPr/>
          <p:nvPr/>
        </p:nvSpPr>
        <p:spPr>
          <a:xfrm>
            <a:off x="2933640" y="2021040"/>
            <a:ext cx="502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oz  Esofágica  o  Erigmofón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2 Rectángulo"/>
          <p:cNvSpPr/>
          <p:nvPr/>
        </p:nvSpPr>
        <p:spPr>
          <a:xfrm>
            <a:off x="2844720" y="2924280"/>
            <a:ext cx="43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ringes electrónicas y mecán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55280" y="364680"/>
            <a:ext cx="75884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Franklin Gothic Medium"/>
              </a:rPr>
              <a:t>               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Franklin Gothic Medium"/>
              </a:rPr>
              <a:t>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VOZ    ESOFÁGICA   O  ERIGMOFÓNICA 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actores favorecedores del  esófago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4342"/>
                </a:solidFill>
                <a:latin typeface="Arial"/>
                <a:ea typeface="Arial"/>
              </a:rPr>
              <a:t>Condiciones anatóm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En la porción superior del esófago  hay musculatura estriada circular e inervada por el  X Par 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4342"/>
                </a:solidFill>
                <a:latin typeface="Arial"/>
                <a:ea typeface="Arial"/>
              </a:rPr>
              <a:t>Condiciones fisiológicas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 Sincronización con la respiración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 Presencia de contracción durante la fonación. 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4360" y="5569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ranklin Gothic Medium"/>
              </a:rPr>
              <a:t>           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Franklin Gothic Medium"/>
              </a:rPr>
              <a:t>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SEUDOVOZ  ESOFÁGICA  (CARACTERÍSTICAS).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77336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servorio aéreo: Tercio superior del esófago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étodos de toma de aire: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Aspirativo (de elección)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Deglutorio (se utiliza al inicio)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65972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Franklin Gothic Medium"/>
              </a:rPr>
              <a:t>               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Franklin Gothic Medium"/>
              </a:rPr>
              <a:t>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ÉCNICA  FUNCIONAL   INICIAL 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988640"/>
            <a:ext cx="8229600" cy="44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spiración aérea bucal rápida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tención aérea instantánea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ción epigástrica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pulsión aérea bucal eructada. Articulando una sílaba “P”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7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449360" cy="40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TAMIENTO  DEL   LARINGECTOMIZADO  TOTAL. 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3512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écnica inicial del laringectomizado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xtensión de la técnica con  P, T, K 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Bisílabos sin sentido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isílabos sin sentido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sticación sonora ampliada con  P, T, K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inquinesia físico vocal (SFV)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onteo numérico con apoyo abdominal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écnica espiratoria del laringectomizado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cuencia funcional con  PTK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Fonemas sonoros y vocale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Frases cortas y oracione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onversacione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itmo y entonación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anciones, poemas y lectura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jercicios respiratorio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0" name="0 Imagen" descr=""/>
          <p:cNvPicPr/>
          <p:nvPr/>
        </p:nvPicPr>
        <p:blipFill>
          <a:blip r:embed="rId1"/>
          <a:stretch/>
        </p:blipFill>
        <p:spPr>
          <a:xfrm>
            <a:off x="0" y="44280"/>
            <a:ext cx="12891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11280" y="364680"/>
            <a:ext cx="77328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ERAPIA  FÍSICA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77336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jercicios :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listenia,  estiramiento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spiratorios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lajación, Taichí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endulares de codman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tiramiento de hombros (autoasistidos)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minatas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egún la tolerancia, a las 2 semanas incorporar bicicleta terapéutica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ecano- Poleas, escalera digital de frente y de lado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3 Marcador de pie de página"/>
          <p:cNvSpPr/>
          <p:nvPr/>
        </p:nvSpPr>
        <p:spPr>
          <a:xfrm>
            <a:off x="6012000" y="19080"/>
            <a:ext cx="3132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REHABILITA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44936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LABORATORIO  DE EVALUACIÓN MOTORA.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RESULTADO DE LAS PRUEBAS APLICADAS.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457200" y="1600200"/>
          <a:ext cx="8115480" cy="2955960"/>
        </p:xfrm>
        <a:graphic>
          <a:graphicData uri="http://schemas.openxmlformats.org/drawingml/2006/table">
            <a:tbl>
              <a:tblPr/>
              <a:tblGrid>
                <a:gridCol w="1352520"/>
                <a:gridCol w="1352520"/>
                <a:gridCol w="1424160"/>
                <a:gridCol w="1419120"/>
                <a:gridCol w="1214280"/>
                <a:gridCol w="1352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sca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uro Q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Yesav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Numé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isn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val. Fun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</a:tr>
              <a:tr h="1158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 (Nivel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de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n proble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 (Norm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n Respues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prim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mbr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r. Nivel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zq. Nivel 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beza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ivel  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ivel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uy b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ive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n proble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(Norm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spuestas deprim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mbr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r. Nive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zq. Nive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beza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ivel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ivel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uy b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uy b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</a:tbl>
          </a:graphicData>
        </a:graphic>
      </p:graphicFrame>
      <p:sp>
        <p:nvSpPr>
          <p:cNvPr id="467" name="3 Marcador de pie de página"/>
          <p:cNvSpPr/>
          <p:nvPr/>
        </p:nvSpPr>
        <p:spPr>
          <a:xfrm>
            <a:off x="6156360" y="19080"/>
            <a:ext cx="29876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REHABILITACIÓN FÍS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116000" cy="291960"/>
          </a:xfrm>
          <a:prstGeom prst="rect">
            <a:avLst/>
          </a:prstGeom>
          <a:ln w="0">
            <a:noFill/>
          </a:ln>
        </p:spPr>
      </p:pic>
      <p:sp>
        <p:nvSpPr>
          <p:cNvPr id="469" name="5 CuadroTexto"/>
          <p:cNvSpPr/>
          <p:nvPr/>
        </p:nvSpPr>
        <p:spPr>
          <a:xfrm>
            <a:off x="571680" y="4857840"/>
            <a:ext cx="821520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URO QOL 5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CALA DE DEPRESIÓN GERIÁTRICA DE YESAV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CALAS MULTIDIMENSIONALES (NUMÉRIC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CALA ORDINAL DISN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CALA GEDIATRICA DE EVALUACION FUNCION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1125000"/>
            <a:ext cx="7543800" cy="46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Franklin Gothic Book"/>
              </a:rPr>
              <a:t>       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Qué  es  la 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Laringe?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  <a:ea typeface="Arial"/>
              </a:rPr>
              <a:t>Es un órgano móvil, productor del sonido, está constituido por  cartílagos unidos entre sí, por articulaciones, ligamentos que son accionados por músculos.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Se encuentra en la parte anterior del cuello y  se extiende desde la tercera vértebra cervical hasta la sexta vértebra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  <a:ea typeface="Arial"/>
              </a:rPr>
              <a:t>Es el órgano esencial de la fonación y al mismo tiempo es parte del conducto aéreo.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4 Marcador de pie de página"/>
          <p:cNvSpPr/>
          <p:nvPr/>
        </p:nvSpPr>
        <p:spPr>
          <a:xfrm>
            <a:off x="3429000" y="19080"/>
            <a:ext cx="5246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STEMA TONAL: FUNCIÓN FONATO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familia\Mis documentos\fig07.JPG"/>
          <p:cNvPicPr/>
          <p:nvPr/>
        </p:nvPicPr>
        <p:blipFill>
          <a:blip r:embed="rId1"/>
          <a:stretch/>
        </p:blipFill>
        <p:spPr>
          <a:xfrm>
            <a:off x="7020000" y="44280"/>
            <a:ext cx="2124000" cy="1729080"/>
          </a:xfrm>
          <a:prstGeom prst="rect">
            <a:avLst/>
          </a:prstGeom>
          <a:ln w="0">
            <a:noFill/>
          </a:ln>
        </p:spPr>
      </p:pic>
      <p:sp>
        <p:nvSpPr>
          <p:cNvPr id="223" name="5 Flecha abajo"/>
          <p:cNvSpPr/>
          <p:nvPr/>
        </p:nvSpPr>
        <p:spPr>
          <a:xfrm>
            <a:off x="4211640" y="2708280"/>
            <a:ext cx="252360" cy="50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6 Flecha abajo"/>
          <p:cNvSpPr/>
          <p:nvPr/>
        </p:nvSpPr>
        <p:spPr>
          <a:xfrm>
            <a:off x="4211640" y="4076640"/>
            <a:ext cx="252360" cy="6476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0b0f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0 Imagen" descr=""/>
          <p:cNvPicPr/>
          <p:nvPr/>
        </p:nvPicPr>
        <p:blipFill>
          <a:blip r:embed="rId2"/>
          <a:stretch/>
        </p:blipFill>
        <p:spPr>
          <a:xfrm>
            <a:off x="0" y="0"/>
            <a:ext cx="11224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560" y="364680"/>
            <a:ext cx="751716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ULTADOS: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1" name="4 Marcador de pie de página"/>
          <p:cNvSpPr/>
          <p:nvPr/>
        </p:nvSpPr>
        <p:spPr>
          <a:xfrm>
            <a:off x="3429000" y="19080"/>
            <a:ext cx="5715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La  voz  es el vehículo afectivo- emocional de la comunicación ver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solidFill>
            <a:srgbClr val="08a1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310d"/>
              </a:gs>
              <a:gs pos="50000">
                <a:srgbClr val="f96a1b"/>
              </a:gs>
              <a:gs pos="100000">
                <a:srgbClr val="7331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solidFill>
            <a:srgbClr val="08a1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3"/>
          <p:cNvSpPr/>
          <p:nvPr/>
        </p:nvSpPr>
        <p:spPr>
          <a:xfrm>
            <a:off x="390852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rapia Fí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4"/>
          <p:cNvSpPr/>
          <p:nvPr/>
        </p:nvSpPr>
        <p:spPr>
          <a:xfrm>
            <a:off x="6432120" y="199080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sic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485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solidFill>
              <a:srgbClr val="067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20"/>
            <p:cNvSpPr/>
            <p:nvPr/>
          </p:nvSpPr>
          <p:spPr>
            <a:xfrm>
              <a:off x="1403280" y="2914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ogoped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21"/>
            <p:cNvSpPr/>
            <p:nvPr/>
          </p:nvSpPr>
          <p:spPr>
            <a:xfrm>
              <a:off x="990720" y="3343320"/>
              <a:ext cx="213336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nóstico favorabl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Obtiene la voz erigmofónic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Es capaz  de  expresarse  con  palabras y fras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Domina la técnica de pseudovoz esofágica con las consonant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, T, K     B, D, 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Mejora la capacidad respiratori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22"/>
          <p:cNvSpPr/>
          <p:nvPr/>
        </p:nvSpPr>
        <p:spPr>
          <a:xfrm>
            <a:off x="3505320" y="2886120"/>
            <a:ext cx="2133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Amplío arcos articulares  de homb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Elimina el dolor de miembros superi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Mejora su capacidad fís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Recupera y aumenta fuerza  respirato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3"/>
          <p:cNvSpPr/>
          <p:nvPr/>
        </p:nvSpPr>
        <p:spPr>
          <a:xfrm>
            <a:off x="6000840" y="2286000"/>
            <a:ext cx="22287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Mejora su estado anímico, interactua con las personas que le rodean, se siente útil, con deseos de integrarse a la vida labo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tilizando la  respiración adecuada emplea la voz  para expresar sus sentimi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13976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53920" y="365040"/>
            <a:ext cx="749016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LUSIONES 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5" name="4 Marcador de pie de página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VINCULACIÓN DE ESPECIALIDADES EN LA REHABILITACIÓN INTEGRAL DE LOS PAC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3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497" name="AutoShape 4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5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Freeform 6"/>
            <p:cNvGrpSpPr/>
            <p:nvPr/>
          </p:nvGrpSpPr>
          <p:grpSpPr>
            <a:xfrm>
              <a:off x="1938240" y="1712520"/>
              <a:ext cx="530280" cy="530280"/>
              <a:chOff x="1938240" y="1712520"/>
              <a:chExt cx="530280" cy="530280"/>
            </a:xfrm>
          </p:grpSpPr>
          <p:pic>
            <p:nvPicPr>
              <p:cNvPr id="500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1712520"/>
                <a:ext cx="523080" cy="52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"/>
              <p:cNvSpPr/>
              <p:nvPr/>
            </p:nvSpPr>
            <p:spPr>
              <a:xfrm>
                <a:off x="1941120" y="1712520"/>
                <a:ext cx="52740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Text Box 7"/>
            <p:cNvSpPr/>
            <p:nvPr/>
          </p:nvSpPr>
          <p:spPr>
            <a:xfrm>
              <a:off x="1969920" y="19364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8"/>
            <p:cNvSpPr/>
            <p:nvPr/>
          </p:nvSpPr>
          <p:spPr>
            <a:xfrm>
              <a:off x="3092400" y="1725480"/>
              <a:ext cx="408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  de vital importancia la interacción de especialidades en el tratamiento y recuperación de un paciente laringectomiz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9"/>
          <p:cNvGrpSpPr/>
          <p:nvPr/>
        </p:nvGrpSpPr>
        <p:grpSpPr>
          <a:xfrm>
            <a:off x="1752480" y="2967120"/>
            <a:ext cx="5605560" cy="1337400"/>
            <a:chOff x="1752480" y="2967120"/>
            <a:chExt cx="5605560" cy="1337400"/>
          </a:xfrm>
        </p:grpSpPr>
        <p:sp>
          <p:nvSpPr>
            <p:cNvPr id="505" name="AutoShape 10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11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2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3"/>
            <p:cNvSpPr/>
            <p:nvPr/>
          </p:nvSpPr>
          <p:spPr>
            <a:xfrm>
              <a:off x="1969920" y="338148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4"/>
            <p:cNvSpPr/>
            <p:nvPr/>
          </p:nvSpPr>
          <p:spPr>
            <a:xfrm>
              <a:off x="3092400" y="3144960"/>
              <a:ext cx="42656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iste una vinculación  estrecha  entre las especialidades de Logopedia y terapia Física  en cuanto a la terapia respiratoria:  encaminada al aumento y coordinación de la capacidad respiratoria del paciente oncológic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5"/>
          <p:cNvGrpSpPr/>
          <p:nvPr/>
        </p:nvGrpSpPr>
        <p:grpSpPr>
          <a:xfrm>
            <a:off x="1857240" y="4427640"/>
            <a:ext cx="5457960" cy="1306440"/>
            <a:chOff x="1857240" y="4427640"/>
            <a:chExt cx="5457960" cy="1306440"/>
          </a:xfrm>
        </p:grpSpPr>
        <p:sp>
          <p:nvSpPr>
            <p:cNvPr id="511" name="AutoShape 16"/>
            <p:cNvSpPr/>
            <p:nvPr/>
          </p:nvSpPr>
          <p:spPr>
            <a:xfrm>
              <a:off x="1857240" y="4427640"/>
              <a:ext cx="54579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7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8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9"/>
            <p:cNvSpPr/>
            <p:nvPr/>
          </p:nvSpPr>
          <p:spPr>
            <a:xfrm>
              <a:off x="1972080" y="484056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0"/>
            <p:cNvSpPr/>
            <p:nvPr/>
          </p:nvSpPr>
          <p:spPr>
            <a:xfrm>
              <a:off x="3092400" y="4605480"/>
              <a:ext cx="408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 la evaluación del Laboratorio  Motor los resultados finales son  satisfactorio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0 Imagen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FERENCIAS BIBLIOGRÁFICAS.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95280" y="765000"/>
            <a:ext cx="81201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merican Cancer Society: Cancer Facts and Figures 2007. Atlanta, Ga: American Cancer Society, 2007. 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adia X, Roset M, Monserrat S, Herdman M, Segura A: The Spanish version of EURO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OL: A  description condits (Barcelona) 1999, 112.suppl 1:79-85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Barbón JL, barbón C, Mondino ME, Cáncer de Laringe Separata 2007 Vol.15 Nº 7; 3-41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Bonet M.: Laringectomía y Foniatría. Anales ORL Iber-Amer 1985; 12(5): 408-416.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Granger C V. Atención de la salud. Evaluación funcional del paciente crónico. En: Krusen (ed).Medicina Física y Rehabilitación. cuarta edición. Editorial médica panamericana.1993, Tomo 1. pp. 281-294.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lley, S.B., Cummings, S.R. 1988, Designing clinical research. An epidemiological approach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Williams &amp; Wilkins. Baltimore.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Kurt F.; Hoffman, Henry T.; Wang, Dong Hong; Haugen, Thomas H.; Turek, Lubomir P.Human Papillomavirus in Oral Exfoliated Cells and Risk of Head and Neck Cancer. Journal of the National Cancer Institute. 96(6):449-455, March 17, 2004.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Martínez de la Iglesia, J., et al. 2005, Abreviar lo breve. Aproximación a versiones ultracortas del cuestionario de Yesavage para el cribado de la depresión, Aten Primaria; 35 14-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21.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Nazar Miranda Gonzalo y Cabezas Labrín, Luis. Departamento de Otorrinolaringología. Cáncer de laringe. Volumen 14 N2 abril 2003, Clínica Las Condes. 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olinelli GC, González HP, Domiz  MA, Donoso DT, Salmas RV: Instrumento de evaluación funcional de la discapacidad en rehabilitación. Estudio de confiabilidad y experiencia clínica con el uso de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Independe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asur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v Med Chile 2001; 129:23-31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rater. R. J.: Manual de terapéutica de la voz, Ed Salvat. Barcelona, 1983(283-319)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Raymond A, M.  Trastornos de la motilidad. En principio de Neurología.1996; Tomo2. pp. 544-616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Serrano-Atero, M.S., Caballero, J. y Cañas, A. 2002, «Valoración del dolor (II)», Rev Soc Esp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    Dolor, 9: 109-121.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sld.cu/galerias/pdf/sitios/rehabilitacion/escala_geriatrica.pdf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3 Marcador de pie de página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ATOS DE AUTOR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ic. Nilda Ramírez Villavicenci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* 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Lic. Yarelis Cruz Peña **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sC.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Enrique Hernández Fernández***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icenciada en Defectología. Especialización en Logopedia. Profesora  Asistente. Especialista en Neurorehabilitación. Departamento de Logopedia. Centro Internacional de Salud La Pradera.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**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icenciada en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Tecnología de la Salud.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specialista en Neurorehabilitación. Centro Internacional de Salud La Pradera.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***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áster en Ciencias. Licenciado en Cultura Física. Especialista en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eurorehabilitación. Centro Internacional de Salud La Pradera.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entro Internacional de Salud La Pradera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alle 230 e/ 15A y 17. Rpto. Siboney. Playa. La Habana. Cuba.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elf: + 53 (7) 273 7467-80 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2" name="3 Marcador de pie de página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9334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IONES DE LA LARINGE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4 Marcador de pie de página"/>
          <p:cNvSpPr/>
          <p:nvPr/>
        </p:nvSpPr>
        <p:spPr>
          <a:xfrm>
            <a:off x="4427640" y="19080"/>
            <a:ext cx="1800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LARINGECTOMIZAD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2476440" y="4902120"/>
            <a:ext cx="44197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679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eglutoria, Circul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2514600" y="4140360"/>
            <a:ext cx="44197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679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Fijadora o de esfuerzo, Especto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2482920" y="3378240"/>
            <a:ext cx="441936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679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Protectora o def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7"/>
          <p:cNvSpPr/>
          <p:nvPr/>
        </p:nvSpPr>
        <p:spPr>
          <a:xfrm>
            <a:off x="2482920" y="2616120"/>
            <a:ext cx="441936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679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Fonatoria, Emo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"/>
          <p:cNvSpPr/>
          <p:nvPr/>
        </p:nvSpPr>
        <p:spPr>
          <a:xfrm>
            <a:off x="2495520" y="1846440"/>
            <a:ext cx="44197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679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Respiratoria, Tusígena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178000" y="1935000"/>
            <a:ext cx="380880" cy="381240"/>
            <a:chOff x="2178000" y="1935000"/>
            <a:chExt cx="380880" cy="381240"/>
          </a:xfrm>
        </p:grpSpPr>
        <p:sp>
          <p:nvSpPr>
            <p:cNvPr id="235" name="Oval 10"/>
            <p:cNvSpPr/>
            <p:nvPr/>
          </p:nvSpPr>
          <p:spPr>
            <a:xfrm>
              <a:off x="2178000" y="19350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1"/>
            <p:cNvSpPr/>
            <p:nvPr/>
          </p:nvSpPr>
          <p:spPr>
            <a:xfrm>
              <a:off x="2199600" y="19562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2"/>
            <p:cNvSpPr/>
            <p:nvPr/>
          </p:nvSpPr>
          <p:spPr>
            <a:xfrm>
              <a:off x="2219040" y="19760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f5f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3"/>
            <p:cNvSpPr/>
            <p:nvPr/>
          </p:nvSpPr>
          <p:spPr>
            <a:xfrm>
              <a:off x="2219400" y="19764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4"/>
            <p:cNvSpPr/>
            <p:nvPr/>
          </p:nvSpPr>
          <p:spPr>
            <a:xfrm>
              <a:off x="2238120" y="19954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5f5f5f"/>
                </a:gs>
                <a:gs pos="100000">
                  <a:srgbClr val="3333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5"/>
            <p:cNvSpPr/>
            <p:nvPr/>
          </p:nvSpPr>
          <p:spPr>
            <a:xfrm>
              <a:off x="2238840" y="19958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6"/>
          <p:cNvGrpSpPr/>
          <p:nvPr/>
        </p:nvGrpSpPr>
        <p:grpSpPr>
          <a:xfrm>
            <a:off x="2178000" y="2722680"/>
            <a:ext cx="380880" cy="380880"/>
            <a:chOff x="2178000" y="2722680"/>
            <a:chExt cx="380880" cy="380880"/>
          </a:xfrm>
        </p:grpSpPr>
        <p:sp>
          <p:nvSpPr>
            <p:cNvPr id="242" name="Oval 17"/>
            <p:cNvSpPr/>
            <p:nvPr/>
          </p:nvSpPr>
          <p:spPr>
            <a:xfrm>
              <a:off x="2178000" y="27226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8"/>
            <p:cNvSpPr/>
            <p:nvPr/>
          </p:nvSpPr>
          <p:spPr>
            <a:xfrm>
              <a:off x="2199600" y="27439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>
              <a:off x="2219040" y="27637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f5f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"/>
            <p:cNvSpPr/>
            <p:nvPr/>
          </p:nvSpPr>
          <p:spPr>
            <a:xfrm>
              <a:off x="2219400" y="27640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1"/>
            <p:cNvSpPr/>
            <p:nvPr/>
          </p:nvSpPr>
          <p:spPr>
            <a:xfrm>
              <a:off x="2238120" y="2782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5f5f5f"/>
                </a:gs>
                <a:gs pos="100000">
                  <a:srgbClr val="3333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2"/>
            <p:cNvSpPr/>
            <p:nvPr/>
          </p:nvSpPr>
          <p:spPr>
            <a:xfrm>
              <a:off x="2238840" y="27835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3"/>
          <p:cNvGrpSpPr/>
          <p:nvPr/>
        </p:nvGrpSpPr>
        <p:grpSpPr>
          <a:xfrm>
            <a:off x="2178000" y="3454560"/>
            <a:ext cx="380880" cy="380880"/>
            <a:chOff x="2178000" y="3454560"/>
            <a:chExt cx="380880" cy="380880"/>
          </a:xfrm>
        </p:grpSpPr>
        <p:sp>
          <p:nvSpPr>
            <p:cNvPr id="249" name="Oval 24"/>
            <p:cNvSpPr/>
            <p:nvPr/>
          </p:nvSpPr>
          <p:spPr>
            <a:xfrm>
              <a:off x="2178000" y="34545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5"/>
            <p:cNvSpPr/>
            <p:nvPr/>
          </p:nvSpPr>
          <p:spPr>
            <a:xfrm>
              <a:off x="2199600" y="347580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6"/>
            <p:cNvSpPr/>
            <p:nvPr/>
          </p:nvSpPr>
          <p:spPr>
            <a:xfrm>
              <a:off x="2219040" y="349560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f5f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7"/>
            <p:cNvSpPr/>
            <p:nvPr/>
          </p:nvSpPr>
          <p:spPr>
            <a:xfrm>
              <a:off x="2219400" y="349596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2238120" y="351468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5f5f5f"/>
                </a:gs>
                <a:gs pos="100000">
                  <a:srgbClr val="3333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9"/>
            <p:cNvSpPr/>
            <p:nvPr/>
          </p:nvSpPr>
          <p:spPr>
            <a:xfrm>
              <a:off x="2238840" y="351540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0"/>
          <p:cNvGrpSpPr/>
          <p:nvPr/>
        </p:nvGrpSpPr>
        <p:grpSpPr>
          <a:xfrm>
            <a:off x="2178000" y="4241880"/>
            <a:ext cx="380880" cy="380880"/>
            <a:chOff x="2178000" y="4241880"/>
            <a:chExt cx="380880" cy="380880"/>
          </a:xfrm>
        </p:grpSpPr>
        <p:sp>
          <p:nvSpPr>
            <p:cNvPr id="256" name="Oval 31"/>
            <p:cNvSpPr/>
            <p:nvPr/>
          </p:nvSpPr>
          <p:spPr>
            <a:xfrm>
              <a:off x="2178000" y="4241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2"/>
            <p:cNvSpPr/>
            <p:nvPr/>
          </p:nvSpPr>
          <p:spPr>
            <a:xfrm>
              <a:off x="2199600" y="4263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33"/>
            <p:cNvSpPr/>
            <p:nvPr/>
          </p:nvSpPr>
          <p:spPr>
            <a:xfrm>
              <a:off x="2219040" y="4282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f5f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4"/>
            <p:cNvSpPr/>
            <p:nvPr/>
          </p:nvSpPr>
          <p:spPr>
            <a:xfrm>
              <a:off x="2219400" y="4283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35"/>
            <p:cNvSpPr/>
            <p:nvPr/>
          </p:nvSpPr>
          <p:spPr>
            <a:xfrm>
              <a:off x="2238120" y="4302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5f5f5f"/>
                </a:gs>
                <a:gs pos="100000">
                  <a:srgbClr val="3333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36"/>
            <p:cNvSpPr/>
            <p:nvPr/>
          </p:nvSpPr>
          <p:spPr>
            <a:xfrm>
              <a:off x="2238840" y="4302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37"/>
          <p:cNvGrpSpPr/>
          <p:nvPr/>
        </p:nvGrpSpPr>
        <p:grpSpPr>
          <a:xfrm>
            <a:off x="2178000" y="4951440"/>
            <a:ext cx="355680" cy="380880"/>
            <a:chOff x="2178000" y="4951440"/>
            <a:chExt cx="355680" cy="380880"/>
          </a:xfrm>
        </p:grpSpPr>
        <p:sp>
          <p:nvSpPr>
            <p:cNvPr id="263" name="Oval 38"/>
            <p:cNvSpPr/>
            <p:nvPr/>
          </p:nvSpPr>
          <p:spPr>
            <a:xfrm>
              <a:off x="2178000" y="49514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39"/>
            <p:cNvSpPr/>
            <p:nvPr/>
          </p:nvSpPr>
          <p:spPr>
            <a:xfrm>
              <a:off x="2198160" y="49726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40"/>
            <p:cNvSpPr/>
            <p:nvPr/>
          </p:nvSpPr>
          <p:spPr>
            <a:xfrm>
              <a:off x="2215800" y="49924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f5f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41"/>
            <p:cNvSpPr/>
            <p:nvPr/>
          </p:nvSpPr>
          <p:spPr>
            <a:xfrm>
              <a:off x="2216520" y="49928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42"/>
            <p:cNvSpPr/>
            <p:nvPr/>
          </p:nvSpPr>
          <p:spPr>
            <a:xfrm>
              <a:off x="2235240" y="501156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5f5f5f"/>
                </a:gs>
                <a:gs pos="100000">
                  <a:srgbClr val="3333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43"/>
            <p:cNvSpPr/>
            <p:nvPr/>
          </p:nvSpPr>
          <p:spPr>
            <a:xfrm>
              <a:off x="2234880" y="50122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7020000" y="0"/>
            <a:ext cx="2114640" cy="1593720"/>
          </a:xfrm>
          <a:prstGeom prst="rect">
            <a:avLst/>
          </a:prstGeom>
          <a:ln w="0">
            <a:noFill/>
          </a:ln>
        </p:spPr>
      </p:pic>
      <p:pic>
        <p:nvPicPr>
          <p:cNvPr id="270" name="0 Imagen" descr=""/>
          <p:cNvPicPr/>
          <p:nvPr/>
        </p:nvPicPr>
        <p:blipFill>
          <a:blip r:embed="rId2"/>
          <a:stretch/>
        </p:blipFill>
        <p:spPr>
          <a:xfrm>
            <a:off x="0" y="9360"/>
            <a:ext cx="1258920" cy="466920"/>
          </a:xfrm>
          <a:prstGeom prst="rect">
            <a:avLst/>
          </a:prstGeom>
          <a:ln w="0">
            <a:noFill/>
          </a:ln>
        </p:spPr>
      </p:pic>
      <p:sp>
        <p:nvSpPr>
          <p:cNvPr id="271" name="1 Rectángulo"/>
          <p:cNvSpPr/>
          <p:nvPr/>
        </p:nvSpPr>
        <p:spPr>
          <a:xfrm>
            <a:off x="1187280" y="6165720"/>
            <a:ext cx="6553440" cy="503280"/>
          </a:xfrm>
          <a:prstGeom prst="rect">
            <a:avLst/>
          </a:prstGeom>
          <a:solidFill>
            <a:srgbClr val="0679a3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Se afectan todas las funciones mencionadas anteriormente, agregamos la inhabilitación  ocupacional o profesional del paciente y la adaptación social (depresión psíquic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2 Flecha abajo"/>
          <p:cNvSpPr/>
          <p:nvPr/>
        </p:nvSpPr>
        <p:spPr>
          <a:xfrm>
            <a:off x="4211640" y="5589720"/>
            <a:ext cx="252360" cy="43164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34342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ÁNCER    DE    LARING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4 Marcador de pie de página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5486400" y="2867040"/>
            <a:ext cx="2209680" cy="26193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2619360"/>
              <a:gd name="textAreaBottom" fmla="*/ 2511720 h 2619360"/>
            </a:gdLst>
            <a:ahLst/>
            <a:rect l="textAreaLeft" t="textAreaTop" r="textAreaRight" b="textAreaBottom"/>
            <a:pathLst>
              <a:path w="21600" h="25604">
                <a:moveTo>
                  <a:pt x="3600" y="0"/>
                </a:moveTo>
                <a:arcTo wR="3600" hR="3600" stAng="16200000" swAng="-5400000"/>
                <a:lnTo>
                  <a:pt x="0" y="22004"/>
                </a:lnTo>
                <a:arcTo wR="3600" hR="3600" stAng="10800000" swAng="-5400000"/>
                <a:lnTo>
                  <a:pt x="18000" y="25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434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1066680" y="2867040"/>
            <a:ext cx="2210040" cy="261936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2619360"/>
              <a:gd name="textAreaBottom" fmla="*/ 2511720 h 2619360"/>
            </a:gdLst>
            <a:ahLst/>
            <a:rect l="textAreaLeft" t="textAreaTop" r="textAreaRight" b="textAreaBottom"/>
            <a:pathLst>
              <a:path w="21600" h="25600">
                <a:moveTo>
                  <a:pt x="3600" y="0"/>
                </a:moveTo>
                <a:arcTo wR="3600" hR="3600" stAng="16200000" swAng="-5400000"/>
                <a:lnTo>
                  <a:pt x="0" y="22000"/>
                </a:lnTo>
                <a:arcTo wR="3600" hR="3600" stAng="10800000" swAng="-5400000"/>
                <a:lnTo>
                  <a:pt x="18000" y="25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434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162080" y="3067200"/>
            <a:ext cx="1969920" cy="27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b0f0"/>
                </a:solidFill>
                <a:latin typeface="Arial"/>
              </a:rPr>
              <a:t>Factores exógenos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lvo de industrias metalúrgicas, tabaco y alcoho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b0f0"/>
                </a:solidFill>
                <a:latin typeface="Arial"/>
              </a:rPr>
              <a:t>Factores endógenos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erencia, constitución de la persona, estado inmunitario y características  horm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3146400" y="2766960"/>
            <a:ext cx="89388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8"/>
          <p:cNvSpPr/>
          <p:nvPr/>
        </p:nvSpPr>
        <p:spPr>
          <a:xfrm>
            <a:off x="3146400" y="2770200"/>
            <a:ext cx="873000" cy="121932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 flipH="1">
            <a:off x="4791960" y="2766960"/>
            <a:ext cx="89388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0"/>
          <p:cNvSpPr/>
          <p:nvPr/>
        </p:nvSpPr>
        <p:spPr>
          <a:xfrm flipH="1">
            <a:off x="4798440" y="2770200"/>
            <a:ext cx="873000" cy="121932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Group 11" descr=""/>
          <p:cNvPicPr/>
          <p:nvPr/>
        </p:nvPicPr>
        <p:blipFill>
          <a:blip r:embed="rId1"/>
          <a:stretch/>
        </p:blipFill>
        <p:spPr>
          <a:xfrm>
            <a:off x="2968560" y="1139760"/>
            <a:ext cx="2908440" cy="15843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9"/>
          <p:cNvSpPr/>
          <p:nvPr/>
        </p:nvSpPr>
        <p:spPr>
          <a:xfrm>
            <a:off x="3218040" y="1343160"/>
            <a:ext cx="235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actores Predispone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5726160" y="3048120"/>
            <a:ext cx="1969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b0f0"/>
                </a:solidFill>
                <a:latin typeface="Arial"/>
              </a:rPr>
              <a:t>Estados Precancerosos </a:t>
            </a:r>
            <a:r>
              <a:rPr b="0" lang="es-ES" sz="12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rmas hiperqueratósicas  de la laringitis crón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leucoplasia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papilomas córneos y otro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0 Imagen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16002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LARINGECTOMÍA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irpación total o parcial  del órgano laríngeo por presencia de cáncer (constituye una oportunidad de vida)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4 Marcador de pie de página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¿QUÉ ES  LA LARINGECTOMÍA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STEMA  RESPIRATORIO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727200" y="1557360"/>
            <a:ext cx="3124080" cy="38480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3735720" y="1793880"/>
            <a:ext cx="394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34342"/>
                </a:solidFill>
                <a:latin typeface="Arial"/>
                <a:ea typeface="Arial"/>
              </a:rPr>
              <a:t>VÍAS AÉREAS SUPERI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B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a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aringe na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34342"/>
                </a:solidFill>
                <a:latin typeface="Arial"/>
                <a:ea typeface="Arial"/>
              </a:rPr>
              <a:t>VÍAS AÉREAS INFERIOR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a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La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Tráqu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ulm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693160" y="551664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unción: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4284720" y="290052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spi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st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g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son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o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689120" y="2046240"/>
            <a:ext cx="57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Vía  Respiratoria 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457200" y="4838760"/>
            <a:ext cx="815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757520" y="1049400"/>
            <a:ext cx="54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4342"/>
                </a:solidFill>
                <a:latin typeface="Arial"/>
                <a:ea typeface="Arial"/>
              </a:rPr>
              <a:t>                  </a:t>
            </a:r>
            <a:r>
              <a:rPr b="0" lang="es-ES" sz="2000" spc="-1" strike="noStrike">
                <a:solidFill>
                  <a:srgbClr val="434342"/>
                </a:solidFill>
                <a:latin typeface="Arial"/>
                <a:ea typeface="Arial"/>
              </a:rPr>
              <a:t>Sistema  Respir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239840" y="3284640"/>
            <a:ext cx="22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4342"/>
                </a:solidFill>
                <a:latin typeface="Arial"/>
                <a:ea typeface="Arial"/>
              </a:rPr>
              <a:t>        </a:t>
            </a:r>
            <a:r>
              <a:rPr b="0" lang="es-ES" sz="1800" spc="-1" strike="noStrike">
                <a:solidFill>
                  <a:srgbClr val="434342"/>
                </a:solidFill>
                <a:latin typeface="Arial"/>
                <a:ea typeface="Arial"/>
              </a:rPr>
              <a:t>FU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1403280" y="5372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1547640" y="1120680"/>
            <a:ext cx="50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ía Respiratoria 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1692360" y="25002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4342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434342"/>
                </a:solidFill>
                <a:latin typeface="Arial"/>
              </a:rPr>
              <a:t>FUNCIONES</a:t>
            </a:r>
            <a:r>
              <a:rPr b="0" lang="es-ES" sz="2000" spc="-1" strike="noStrike">
                <a:solidFill>
                  <a:srgbClr val="434342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4321080" y="2286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pi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1 Rectángulo"/>
          <p:cNvSpPr/>
          <p:nvPr/>
        </p:nvSpPr>
        <p:spPr>
          <a:xfrm>
            <a:off x="2733840" y="5153040"/>
            <a:ext cx="615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ringectomizado: Disminución de la capacidad vital respirator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OBJETIVO: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822240" y="1412640"/>
            <a:ext cx="752184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Valorar la vinculación que existe entre la rehabilitación del lenguaje y la  terapia física, en el  tratamiento  de un paciente   laringectomizado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3 Marcador de pie de página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0 Imagen" descr=""/>
          <p:cNvPicPr/>
          <p:nvPr/>
        </p:nvPicPr>
        <p:blipFill>
          <a:blip r:embed="rId1"/>
          <a:stretch/>
        </p:blipFill>
        <p:spPr>
          <a:xfrm>
            <a:off x="0" y="0"/>
            <a:ext cx="1484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17:08:14Z</dcterms:created>
  <dc:creator>rainer</dc:creator>
  <dc:description/>
  <dc:language>en-US</dc:language>
  <cp:lastModifiedBy>Monografias.com</cp:lastModifiedBy>
  <dcterms:modified xsi:type="dcterms:W3CDTF">2016-12-23T13:38:13Z</dcterms:modified>
  <cp:revision>282</cp:revision>
  <dc:subject/>
  <dc:title>PowerPoint Template</dc:title>
</cp:coreProperties>
</file>